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  <p:sldId id="262" r:id="rId47"/>
    <p:sldId id="263" r:id="rId48"/>
    <p:sldId id="264" r:id="rId49"/>
    <p:sldId id="265" r:id="rId50"/>
    <p:sldId id="266" r:id="rId51"/>
    <p:sldId id="267" r:id="rId52"/>
    <p:sldId id="268" r:id="rId53"/>
    <p:sldId id="269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slide" Target="slides/slide7.xml"/><Relationship Id="rId48" Type="http://schemas.openxmlformats.org/officeDocument/2006/relationships/slide" Target="slides/slide8.xml"/><Relationship Id="rId49" Type="http://schemas.openxmlformats.org/officeDocument/2006/relationships/slide" Target="slides/slide9.xml"/><Relationship Id="rId50" Type="http://schemas.openxmlformats.org/officeDocument/2006/relationships/slide" Target="slides/slide10.xml"/><Relationship Id="rId51" Type="http://schemas.openxmlformats.org/officeDocument/2006/relationships/slide" Target="slides/slide11.xml"/><Relationship Id="rId52" Type="http://schemas.openxmlformats.org/officeDocument/2006/relationships/slide" Target="slides/slide12.xml"/><Relationship Id="rId53" Type="http://schemas.openxmlformats.org/officeDocument/2006/relationships/slide" Target="slides/slide13.xml"/><Relationship Id="rId54" Type="http://schemas.openxmlformats.org/officeDocument/2006/relationships/slide" Target="slides/slide14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dt" idx="1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ftr" idx="1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6"/>
          <p:cNvSpPr>
            <a:spLocks noGrp="1"/>
          </p:cNvSpPr>
          <p:nvPr>
            <p:ph type="sldNum" idx="1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1FB4-5CEB-4DCF-A876-E11B246F825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 Math"/>
              </a:rPr>
              <a:t>Кафедра «Теория и история государства и права»</a:t>
            </a:r>
            <a:br>
              <a:rPr sz="1200"/>
            </a:br>
            <a:br>
              <a:rPr sz="1200"/>
            </a:br>
            <a:r>
              <a:rPr b="1" lang="ru-RU" sz="1400" spc="-1" strike="noStrike">
                <a:solidFill>
                  <a:srgbClr val="984807"/>
                </a:solidFill>
                <a:latin typeface="Cambria Math"/>
              </a:rPr>
              <a:t>Дисциплина по выбору: </a:t>
            </a:r>
            <a:br>
              <a:rPr sz="1400"/>
            </a:br>
            <a:r>
              <a:rPr b="1" lang="ru-RU" sz="1200" spc="-1" strike="noStrike">
                <a:solidFill>
                  <a:srgbClr val="ff0000"/>
                </a:solidFill>
                <a:latin typeface="Cambria Math"/>
              </a:rPr>
              <a:t>ОСНОВЫ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дготовил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.и.н., доцент Терениченко А.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4ABB-B961-47B8-8D24-12D310CAD21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министративное правонаруше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административная ответственнос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министративное правонарушение: понятие и признаки. Основания административной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рядок наложения административных взыск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ы, уполномоченные рассматривать дела об административных правонаруш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82FF-8B0D-4FA5-8A97-BF0193B2A3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ступления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уголовная ответственнос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ое право: задачи, система и принци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ый закон. Понятие, признаки и виды преступ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бенности уголовной ответственности. Состав преступления: понятие. зна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азание и его цели. Система и виды наказаний. Назначение на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FD0D-3DD3-4B9B-A2FF-9E8414B27AC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ые основы государственного 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муниципального управл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ство Российской Федерации о регулировании государственного и муниципального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сударственная служба Российской Федерации: система, основные принципы функционирования. Государственная гражданская и правоохранительная служ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ые основы деятельности муниципалитетов и их место в системе органов власти. Виды и структура органов местного само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ды контроля за деятельностью местных органов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D603-A028-4B4D-B52C-6BF4F5C8A1D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Теория и история государства и пра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: 4 Вешняковский проезд, д. 4, каб. 410, 412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фон: 8(495)371-64-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 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igp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@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a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FBAC-E9B1-4E90-B1B0-50C184000F8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циплина «ОСНОВЫ ПРАВ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 у студентов теоретические знания об основных категориях государства и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ует представления об основных отраслях права, об основах правового регулирования в сфере государственного и муниципального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яет профессиональный и общекультурный кругозор, способствует серьёзному самостоятельному мыш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99FC-29FE-4316-970B-8BFCBA08D09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 дисциплины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Основы пра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понятия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правовые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ы конституционного строя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е регулирование гражданских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е регулирование семей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е регулирование трудов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министративное правонарушение и 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ступления и уголо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ые основы государственного и муниципаль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33BD-575C-4EC2-B6F2-2917D1FF024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понятия государст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государства. Признак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государства в жизни общества. Функции государства (внешние и внутренние), их соотнош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и происхождения государ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государства. Политический режим и его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855A-CE71-439D-AAFA-FB6FF9CFF08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правовые категор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нятие права. Теория происхождения права. Взаимосвязь права и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 в системе социальных норм. Понятие и виды социальных норм, регулирующих поведение людей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ые отношения: понятие, признаки, структура и состав. Классификация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87DE-CF94-4D05-8A6D-0471703E095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ы конституционного строя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и система принципов конституционного строя. Суверенитет Российской Федерации, и его гарантии. Россия в содружестве Независим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я: понятие, сущность, функции. Развитие конституционного законодательства в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родовластие и формы его осущест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итическая система общества: понятие и структура. Место и роль государства в политической системе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1925-B886-4A29-9B88-1BE246B8E95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ажданских правоотно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жданские правоотношения и основания их возникнов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еские и юридические лица как субъекты гражданских правоотношений; публично-правовые образования как субъекты гражданского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екты гражданских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обственности и иные вещные права и их защи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и виды сделок. Гражданско-правовой догов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95D9-840A-49C7-BD63-75D1B297A7F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мейных правоотно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ые институты семейного права. Брак: понятие, условия и порядок заклю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ичные неимущественные и имущественные права супругов. Брачный догов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иментные обязательства родителей 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20B1-28B2-42EE-9D1C-FF834958F2F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удовых отно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удовые отношения и их стороны. Основания возникновения трудовых отношений. Рабочее время и время отды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удовой договор: понятие ,признаки, стороны, порядок заключения. Изменение и прекращение трудового договора. Ответственность стор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циплина труда и ответственность за её 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и коллективные трудовые сп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8268-7880-4025-969D-256139E5F3D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C7DD-0424-469B-B5DB-8085E94F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02F-3071-4143-A908-C760F57B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40D32-CDF1-4167-96AF-96ACAA10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98233-D98B-45B5-9FF3-9AFF9A0C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3D494-D90D-4440-8202-E94D66AD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1AD2D-DADF-44E9-BD90-0C8A4CD8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FE702-649D-475F-872A-E4F12651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134DF-4238-4201-B4A2-EDA04460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C69D8-E99F-4A1D-AB6E-F8280A0A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9842F-53FB-4C75-B832-CF7F13A4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AABE9-7B78-4615-8B29-6E211CD1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ACE2F-25E0-4717-B975-69188CCC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F999-79F0-45EA-8B64-4DCF50D6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B65B5-9D12-46FE-A233-DE649C23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EAD45-DC31-4B3A-B231-49608417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A6BA3-0A43-4A28-B32F-9967B093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D56D4-E7CD-4CB8-95C7-0A3076D0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A62A0-DCB2-4FC9-B287-6A2FA8B4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915C6-0832-4B7F-977F-62DBACE2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F4357-CDA2-485C-B593-7B301CA7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FB68D-179B-4320-A06D-FB302815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96EB3-6BD8-436C-BC22-35E0D2A9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AAD2B-16DF-4C00-9349-747154EE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7581-D048-4F6A-97EF-8145DDBF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AAF5A-E425-4D2E-BA0B-44BAD879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D660A-A60C-48AB-8C5A-D8A64701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324D1-F82A-4C39-993F-943D6F1D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C6A43-A0B1-488F-A807-AA4879A7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68040-829D-4514-A8D0-54AD5E57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09E91-12C2-42A7-9EA2-5E7A3766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D269E-08EC-41C3-B7D2-6A87FFF7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D45ED-914D-49ED-987E-689019E8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0D5C1-1E2C-4AAE-8E0F-DD33EBA9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6E05E-33AF-4391-9B98-FB5A9778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46EE-EC06-4DA3-AF6D-960E80DD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4A8A6-0204-4FC3-ACC7-D12480F3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57E8C-037C-46EF-B9DE-C01E747A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831AF-553C-4722-8C48-A72F5100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E7EE5-5AF0-46FB-8061-8D031E50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29C59-10FE-491E-A328-734914A4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AC1DB-81D6-4E08-A525-B32C3FF0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B32D7-78B8-412E-B210-7748F881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50B5E-0CE2-40C7-840B-CB4BF49E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0AB8C-35D1-4846-98C8-93602139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DB29A-18C6-49BF-A305-6E5CDBE1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701F-FFCB-4171-9376-9709A5D1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55558-1DCE-4312-8665-447CA3B9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CB3EC-F523-465C-9130-F09F0CB1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3B927-39E4-4917-93EB-CFCB35F1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AAF44-8D83-4B8F-9669-D174478D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ABC79-67E7-46CB-9774-707A2954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61E3A-28AF-496A-A894-DAF72FA5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D180A-9AFE-4577-80D2-683C5AC2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53EA5-F4E0-4181-90D8-4E91448D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14B11A-7A69-4904-A6F4-1CC55E03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DC5C0A-002D-4463-AC3E-7ACDB719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7976-0CF4-4B73-B953-822051FA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AD175F-F8EF-4A08-BDC9-BC3B8BC2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091D99-780D-44F1-B6A2-B2B0977B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EA426A-884D-4692-B151-1D4CE0FA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921A3-64FF-492E-B9F7-C2872EDA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912E7-1FA6-4019-87A4-4AFB8A4D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C5961-CE53-4784-8225-4E647DDD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7696B-E9FD-43E5-9648-F10AA665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52FEB-EE47-42FF-8DB0-EE901146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5659F8-A639-4C8E-9B57-CD27968F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E4722A-B628-420C-8BB6-1AA4478F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4D93-A4B8-40CE-8EE7-0AA9C39B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586D52-2E9F-40BF-8593-FBD4B3D5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4778F7-5149-4E27-9C09-161BFBD3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88DD7-A47D-49BA-9604-01ADD937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611F59-FB58-4FD6-8280-8A136F3E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6657AC-4C1C-4C76-8547-6D279719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37C617-CFB1-4241-815A-709CBF82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839344-D043-4D87-B064-FA8D4624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9630DE-0954-4C14-A031-1076F982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3BDC1C-2D3C-49F6-B9A2-8116D2FF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14A493-8879-4B5E-BABC-E6D90434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4261-EAF9-46BD-B3D8-144C4039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E5A4A8-7807-4D32-AEEE-41404BB3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D3E9CC-9956-4A5B-9C1C-79630F20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D4AEC5-DC92-4217-A65E-A56F2D1A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6D3E45-5EC8-40F2-A87D-A4314707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8082A5-595F-4F8E-9B1E-04B77D13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09193C-D9BD-4DF6-8506-D9CBB7A3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067F7D-989E-4AC5-B651-FB092BAD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D342B8-C29D-4683-B106-46416893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5884AC-5C14-444D-A4BB-694014DE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56F128-6BB2-46A4-BFC3-8F3320E5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3D87-E350-499D-B52B-58E74868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23927D-40CC-4258-8519-8213A59F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897398-03BA-43AC-81A9-36E4B79A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2B6D8F-768B-4D06-82C8-C361C1C4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F0ABCB-9141-4847-B0DB-D236859B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626AD8-94F3-4826-8820-D395CC35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65D494-7956-4709-BCD6-C1D810D9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38A484-788D-4BBF-A1A6-D12DCC38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B2C1FD-125D-4F8B-94D2-7FDBF77D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7DE0F1-DCEE-424E-910A-BEC15A3B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6A4B79-FCEE-4287-BA6E-D9B9C636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FA51-5B73-47CF-BEC3-174EA91D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946BCC-E967-4D04-AF6D-913876A5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F013C5-AE0C-4FF8-B706-6793B9DE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7E1BC2-2438-463C-9A80-6E19FE78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89773C-4F4C-4F2B-959A-37C041B9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4DF660-3F2E-4AAD-A606-F752F510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6A6FE3-BD86-40D5-B28B-A990807B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4CC7D4-1CBA-4875-BA95-B613D125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874675-0E4D-4CBD-B67A-9128F231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17804D-6388-4060-8632-2B8DC0E5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1ACD51-5E7A-402E-AA02-F277FFCE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83E-23A5-424D-BF7D-543EEB16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27D8-1998-4EB2-8ED4-20EA4A43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54EB33-1936-4A94-8A2B-6EBC4189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E78CFC-44F1-4A1E-81E9-7773777D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4FCE70-5E32-48E2-A9DB-F5EAE239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CE6F96-A18B-4BC3-8C13-D0FE9263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4DD8AD-2FBE-4055-8A22-388CA4E7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2B85E6-61DB-418E-9BF3-6C65F95C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3A03EA-2F40-45C8-908D-5AF442DF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1E26A8-4130-4F61-ADE0-F226ADEE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1D6BDA-9617-4946-B7F9-0ECAEB82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0FEC2A-C58C-4EA2-942D-5DEA4CD1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9566-B049-4ED7-AB23-9C6536DD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AC06A0-7554-4FE9-BA95-F8BA20B0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01539E-E655-4CC5-A1BE-6B2E4D06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0BD504-BC62-4C2A-968C-5401E2D0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08AA03-B3AF-48E8-A76A-F6406A8E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99CA7A-2E5C-4F06-B6AC-55F08C4A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3C655F-CFAB-4C02-A30F-66806374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CFBDB4-9810-463D-B6EE-FE7C1E23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8C6DBA-9009-40FC-8FA8-1EF296A0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672A2E-D1CA-4A1D-89FC-CAD45FBE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0C3998-CA7E-40A1-A311-D0E2B5AF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0258-8765-4A12-85A3-F1CF4EBD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4071E2-D063-4849-A6CC-D0B3CA8A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5FB48F-E21D-487D-A9DF-73D703D2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0F59B2-959D-49C2-BDD0-64C89E30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F6D8C7-B345-44A9-8DF1-2DAAAB1C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7320FA-3119-4729-A466-8B29AF08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E32D60-CA99-4834-97FC-57C4C99E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7F4743-99F5-4853-BE93-85260610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3C28F4-488B-49ED-B632-A3D3FCCA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692071-BAAF-4317-858A-3AB502B4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E65E36-34BB-4B11-B7EF-6D8A9A7D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CAEE-098E-403A-8359-56FC8949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70DEB3-2732-4A2C-A35B-1275F1C8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D978C2-CC7E-46AC-A128-6958E7F3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09DBA9-E950-4685-BDA4-4C42DBDF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9149D4-8AD2-47C4-8FD1-0DAA02F0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D13928-5CDE-4F3E-9208-A5F7EB8F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2A960A-2CEE-4E24-BB1D-52695403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BE25BB-73D3-41C4-90C8-0EB3E34D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719B56-032C-4E1B-BE80-37F4D4C0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A37EDD-078D-4B74-A777-666DB00B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A2F173-E5F3-4B1B-8157-FE05C34D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8BB9-095B-422F-A02A-22572FC7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5F952B-A006-4666-96F2-E9CC8B8C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807A42-A572-4FDF-AB8A-162D214E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9110E5-0A82-4793-825C-5447FA52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92BF3D-CB70-4CAA-9F07-465F6A8B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5F78BB-C9EE-47F5-B1A2-16C14030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2DD738-2243-49D2-95B8-7B7A3A16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6659C1-43CC-492B-B6C8-EC8EFE36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69C8F3-21E3-4302-962E-9B92DBCB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79038E-09AD-46AB-8EB0-779BC728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29357E-66B7-4530-A155-7BA364D6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361FE-026C-43C9-BB27-08F176A6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56F35E-D638-4D0D-9ABD-2DE41B54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132743-2BBF-4EA0-B6E1-BF7F2CCB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6461DD-9C1B-456E-83E1-59BBA6A5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418AC3-9988-419D-BA4A-8CF56BB7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FE3FBF-625B-4F2B-BA94-C3065303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532018-1715-4AD6-8702-E4E86DFF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4A9009-5C6C-42EC-836A-6919BC11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BAB12A-54E4-47CC-8EFB-8E5A4747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27CA7B-DD40-4609-A43F-8A2674F8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138AA7-E2FD-4B3A-AE8B-8E29A71A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6862A-9A09-4E05-AF1E-3AC0F137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F64A49-BA88-4FC0-B1EA-E8F58A15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35DE23-0037-4259-8524-77D7387E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A3ECC8-9E04-40E1-8699-329B5A93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F19AA9-87B4-444A-9935-67232B98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E4AACD-13DD-40B7-A512-9C66D048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3085B2-C52A-4C83-872B-F6A9A144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1A421C-4726-4DBD-BD67-11373993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F7FFFF-5BD2-4FC5-945E-91B89940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F5B3E1-6102-4E9F-ACE8-E56D02F7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BDD183-208A-4221-AAE1-427B6124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E7564-50AE-4374-BB05-F08429D7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0AE807-00B4-4AE2-ADEF-6931CA08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A5593E-EE24-44E5-BAF9-7E654174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CD6F9F-BCCE-46CD-96CA-F02ABA6B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82AA6C-2D9A-4295-B57E-9A8010EB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E32C81-1F25-43A5-AA48-8AE35130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B26BB8-20DE-4BCA-A939-615BFA5D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9BDDDB-5901-4AD9-86F7-E3ED7B27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4EE9F9-A4E8-43E4-8B0E-67418FBC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F02964-B38E-4D80-946F-3D9D1FCA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6D5159-BEE7-4D65-AA7D-DCEC8C81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E5575-506D-442A-8FD7-7C35D99F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81BDC7-84CE-4F3E-8D97-AFC58FB6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EAA545-C0AD-46AD-B123-57CEE009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61645C-E406-41A7-B2A9-A7D945C6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9BD0C6-01B1-4039-B32D-5064696C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DFE708-5448-4E1A-A67F-CC5EEA06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F984A6-F07B-4DD1-AF75-238D0719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69A2C9-8DA4-4707-A4D2-1BF136E7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D58827-5061-4447-BB9F-F839F16E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F8B8C6-C4FE-4769-B56F-3FEE95DB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E5CDF3-40E2-4DD0-8BFA-BCED246C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09FC2-4B13-4F1A-AE41-61695841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74AEAB-6C5E-4B67-9CF5-7E90FE0C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E7F711-B739-4F0B-8DD7-5EC0CE1E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5451F1-7AC9-4EA0-A9F7-8E6D6861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4856E7-EBFA-4092-99F2-9BC07FD2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E7D837-1E52-4F70-A448-147F6B4E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690F77-1B7E-4B0D-AABC-1D341781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F46E64-B203-4FA0-84BA-15863940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A9192A-55D0-45BC-B996-34428EAC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462072-5C8F-4B16-A237-7F0EF2F3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A9BF62-2ED5-4927-AEA9-6F1E3685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F8E4-3A46-4BEC-BAEA-C484FF6C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FC3E7-FC3C-41C1-B918-C22B6AB9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2AAB45-BAD6-42E9-BB7F-421FE9AB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0095B3-C9CC-4A58-9F31-13B3EDAC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EE43E4-FBAD-4CF7-9EAE-FF24925D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1349B2-B4B0-44AA-94C9-07C38EFB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021240-882C-41A2-853B-99F553D9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865F1E-8C3E-457A-B7AD-CD735134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6F0FBF-9780-45E1-A8FE-FC849A37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FF89E1-6B2A-40CF-A984-02DD4B3A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B84F95-85B3-4491-8C93-2F4FFA1A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1DD45A-D955-4899-AADE-FC556B4B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3032B-DA50-405E-A48D-D892AFFC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F7BC82-9B13-4258-9394-DB9BBE49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5A6E5F-9C24-4631-B9D0-4872D6E7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A4E1B5-64C2-453A-A677-AA721A2B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756992-E99A-4270-B94F-E76436FE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8335FF-86BB-44F2-AD65-9006BA72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C170B8-5351-44F3-917E-EA6FD6C3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7569DC-992E-4486-AC52-84EF25C3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618C54-86BD-4167-AF06-DE2ABE8D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261DA6-6D67-400E-ADC9-F9A5A6AB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DD06BD-D49F-4211-82CC-9157B8F9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220F-7833-4A13-923F-C947001D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6EAAD9-4D71-4E09-8E9A-88F65D67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398921-4222-400A-B71E-E5433C2B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45C20B-CEE8-43A2-B2B9-020209E9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DD07F2-D2BD-4B7A-84FC-1F2897EA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173959-F8E6-4A79-9C8B-7C203859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218C41-7995-4298-8FF5-C3278542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BCBC6B-A9F6-45AB-89B0-BFFE140F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76F653-B7B1-4D95-AAF5-2F8A42EE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194B32-B947-44FB-84FB-292043A1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5DA307-712F-40C8-B7A7-69C35130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23462-24BA-402D-914B-788C65F4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1C8936-8034-4638-B9E8-F87EE372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E8FC5A-1506-4AB7-9F89-60B9CB6D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FC0343-0A14-4F06-A927-503CF05E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FA61E8-B5D3-402B-A47F-AE5B222D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ABFB69-0308-4D71-B48A-23ED8CC3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F157EB-E651-4321-ABBD-0FD93232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2B2B18-0353-4570-A65A-23CB348D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CCF55B-3171-4015-85C5-26707E54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C3000B-45BF-4BC4-8381-4ED2D6BC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232D07-CB98-4BE2-8E62-97A2C3AD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8C857-23AF-4482-A05B-6563D3C4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FFB7FE-7DEB-45C5-B85F-350C45A4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43CE0C-A22D-4E17-8316-4369F6CB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3E8F30-0D19-460F-AD32-33970267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AC5D97-BED1-4CB8-95A5-A84AA172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5FFDA2-217E-4BB1-98D2-CCA74150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0F0371-8151-4232-B2E0-B2039068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94C67E-8FCA-428A-A976-4511BC25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0D0146-B543-4D06-A325-9E8939B4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947018-A8BD-410F-A9D5-3E46EA14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589FF6-D9A7-40D2-A29C-906312F2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B541E-3E22-4A8F-BCE9-C4CCC9E9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30A6D3-5D88-4B2D-8DDB-2A44373A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4E2B36-4FCF-4123-80C6-B539ECBA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3D53C3-0D44-45CE-9A0E-6E1E04A2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F48485-6910-40D7-BE31-D539EB71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03FCC9-FF9E-4940-9F9E-D8076795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99A8DE-4C65-4CC6-BBFF-43883CA7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F51BE6-16F6-497C-A21B-58847318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261EDF-6973-427C-B361-753236AE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AF75BA-ED27-4E76-84E3-0FFA7D2B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8A9278-0472-4F4D-A6B4-876D8DC0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5AE65-D14A-4A52-86A9-E05A1E1F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66800B-E835-4560-A6E4-CB2BA008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68A048-CB01-4435-84AA-53737C63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141E7A-A02A-412E-845E-6BD0C061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1F2C7F-4183-4580-9F40-ACE2A01D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03C7FD-45E1-4DE7-86D7-4CBC96B1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91EF4C-0FE4-4B9F-B378-ADDA9F96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072D23-1D76-4DD7-B23C-A4010EB9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94B7B3-B5E3-4A77-8011-3D431177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AA6998-8338-4F1A-9089-556C95E7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742ADA-DA4B-4E8E-B0B3-E7D91A05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933F5-14F8-48D6-8A2C-58191553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0A211E-66E7-49BC-BFB4-2932EE62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448B46-35BE-4BE5-9608-16E8E7A0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760C98-4AAC-451A-8794-0BD77EB9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F8FECBF-8B82-4C1A-9F02-4EFB6CE5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E366F2-4D13-4C75-8231-AE906831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8CA28C-0AB7-41DB-979E-3D5FB81D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6F643B-FD2C-4AB3-9D04-043801DC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100BD4-B3C4-419E-8415-9803C54F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DE5EC1-F80E-4A1E-B373-2D5DD041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9B2589-3621-4776-B7E3-5B89C125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D42B6-14D3-419B-851E-39902B84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51D27B-8BC1-44D8-AB9D-508185CE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69A56D-6AD7-4D79-8AD0-174D1A6A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3B7F1F-B703-478A-A3A2-C59CD668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E32180-AC13-48C2-A3DD-156882FA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CE4FC67-237E-4C64-BFE8-B33366B4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85B40B-181C-4C08-96E1-074B1E5F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2BCC6A-2EB9-4D10-B0A5-79DB1E51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E1753F-6BAC-490C-8B5F-EABAF942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BD6575-AEED-4944-B948-0C884CFF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5BA88B7-C60D-41D8-93F7-56599249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EE4D3-43C2-483B-9B96-4F5F3177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05F6FC-0295-4FEC-B626-16EB7DED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CE09C7-0A2B-4F8E-89E8-09405B8C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1F4FE3-870A-4ACA-BC66-ED0D1B13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9515BEA-9AED-4DCE-AD14-DE795390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10C609-5740-44FB-AA58-FC5FF3D3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94041E1-C70A-438D-8198-CC5653EF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5736F7-6F9A-48CF-9C03-23A48397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29058EA-97A8-4274-A9C3-3A1D31DF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B932969-18F5-4AED-8F66-AFAFBA6F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7D234E9-D19D-462B-A4E4-06F25CFD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FFE-53FA-4EE1-A99D-0FB7AB1D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2E53B-7048-46DA-86AC-2A3130B5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0FD3516-FC00-4C87-95BD-923E2D56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E919B3-C67A-4B8B-9C16-6185F300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130658C-5954-4CC4-8AD0-DD05AD9E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A6A72FF-B000-41C4-8A61-D77B1274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5F47B7-BED3-4781-AAE5-2F4AA830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92D6697-BDF4-4363-BFB8-7A10F316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FFF117D-B876-410C-8BC5-42A9A05C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DA81C5D-2FD9-417F-AC40-864FE8AF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3214BBA-1EF3-4EEF-B2FD-77070BBE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EA5F45D-C9C4-4547-B62E-E83E4B3A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5FCCC-1B61-4E11-81CF-54AF7B0B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7B43CE-C558-4D08-843C-2FFA0FF9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61A396F-B3D3-41D5-80AB-B9D975D7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6EE97F-8A7C-420D-8910-98D139F4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65E37C6-6BF9-4479-A504-8CC886EC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9762A57-201C-494F-8EFF-07BD7417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9D0700D-4BB5-4ED6-BBD2-35CAB0E5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E168A05-70CD-4B9C-ABCC-A0F9DC43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26FDE4C-B1A6-47B2-A821-B74A08DA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2F9EDDE-EF1F-4CE9-B55A-9143E7B9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EB9585-9325-4163-B2A3-326D6DB0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B5102-4254-4D34-9889-CEAF8683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3FA9A5-F53C-462D-80EA-4A5E2AF4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233552-F377-4566-AE50-7F804EF2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0DF18D-7A04-40BB-A709-B15AC26D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1A04EB3-6A7C-49F6-BDEF-F3DE773C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CB8F67F-4749-48D7-84CA-E29D2F0D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35A6300-FAAF-4197-9E20-DE5BECF9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4C1158-0124-407E-8415-3EA03B43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AC3FD3-3996-4370-A340-820AC166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BD732A-E9F1-4750-8C7C-DEDE01B9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D0640EC-8C5B-409B-AAE3-8B7F02DB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41DA4-4773-4697-9390-4ECE74DD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82CEC9-AB8D-4966-8EF7-D714E96A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26917B1-4406-4C33-9419-858D9078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AF303BD-81CF-42D5-97FA-D2AD4CD0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F088A09-35BD-4E1C-9415-6A4A746A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98DA872-39D5-4F2C-B1A9-8779677B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B21016F-E4C2-43D2-AEE6-04535FC7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F056B29-E89D-427F-99F2-C1F9E93A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87057E3-0914-40E5-984C-A710F18D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AFFE469-6217-480F-B56C-DD3EEA81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D82B66B-5806-427D-98D9-803D32A1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5E65A-39FE-4853-A5A6-2A4BD78A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170FBA2-A7F1-4537-A348-3D31C91E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7CBE41-F58C-48E2-8A63-2E80D319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D13CCEE-CAAC-4FF7-B396-955549BE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63E241A-8FF3-4E13-875C-B38DDD5A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38071AE-DF7F-45AD-AD74-C9AB869F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4D3493E-F8F0-4F8A-B2D9-A6A56261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421D175-BFF7-46C4-80E2-839C0094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E3F216F-760A-4376-8D0C-BE47C078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4B747DE-AE6C-46A8-A1D9-6F34F9F0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5BEA8B6-D83A-4F58-98BC-FF7ADD80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31C5C-ABD6-40CC-92C9-3C77D4BE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63866C9-5BFB-44E8-935C-2E2163B1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B35DA8E-85D4-48B8-9FE0-E4188C67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CF7997F-B212-4623-91F8-B7C8CD16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EF1EBFB-DDDB-42C5-A05B-52A2D57F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69C1DA0-A188-44B3-9B23-ED7D8180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17284B7-6DD4-491E-BD0B-C89C04E3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055701D-0DE4-457F-9260-762D96CD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4CE6F-0A7C-4C68-9F15-B6A65144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2927F-4448-4161-8CA1-7C5DAE00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E4068-4031-4C31-BE0E-9F008642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6E1B3-5F01-4CE7-BC4C-D4CE3C74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06B-4098-42D6-8569-04390942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AD2B7-0D60-453C-96E9-D263DA62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F8E4A-3938-4FC7-84BC-829F1979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4C8E6-FDF9-4B5B-83CA-A0A7259E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89018-C5CE-4DEA-8A71-5E724F3C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C8AB9-893C-47BA-8353-E1D73B8F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53992-6D01-4948-85CC-D6C3EC76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7C841-4134-44E2-8C8E-65808147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C43C2-FC50-4715-A7BE-545665C7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AF1CD-2355-4388-BDD1-676B6F60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62D6D-4426-46CB-9029-0F147B6A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DBCD-A78F-44CF-B311-252FED26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3B2BD-2DA7-41AB-9FEB-3825CD5F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112A6-9F5B-4B25-866B-93DB9FFD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2C592-5D7E-46D0-B619-491D3EEE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DB633-E272-430D-AC03-CF9F5D79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F7DD8-B6DA-4154-91BB-A55939EA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70CB8-37AE-4457-84C5-0ECC0C7F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6EB2A-284D-44DA-9F15-45FB5FB7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4DB2A-7555-4364-91EF-26468799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9C227-234C-46FB-AE8D-E6782608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E75C6-B677-4C60-B211-240F3EFB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DDC-ED9F-4B60-A3F5-E8D7FCEB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05420-90E9-4919-82C7-3A3BD25B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4E946-834D-4EAF-93F6-24E5293A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CFFFC-9316-42A1-9C4A-77DD339F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D9B76-32A3-4FBC-803A-CF1CB2EF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2A911-8813-4EF7-A020-23E5D564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E470B-DA06-48EF-8895-42DC9AD0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066D8-69B5-43A3-89F9-5705E3CC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23168-27F9-422B-AF78-C94AEA6D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10BB5-781C-4C63-8FC0-CBFF8141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1E1CE-6F0A-4C44-B169-0E2C8F59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ABE-757D-4555-AFA3-ED0CA602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A538C-E695-4F9D-9F8A-C1139DF6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79FBE-8DEA-4D01-A88B-1E5FA361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6925F-ADFD-40C1-91D9-29EB09D7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EC0DC-7826-40B1-BBEA-5338BE20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7CFF2-0EDC-4893-A8DA-02289935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6CE46-34D0-4EED-824D-7B5FFBDC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F7295-61F4-4192-A229-E116A515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80B20-14F9-434B-BDEC-1843F33C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78354-BF6C-4D82-8D37-7434EAC0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638DE-B1CA-4F90-B965-A2EF851C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747-0A86-4074-A556-35817D3A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F90D1-A4C6-40BA-AF65-66DC005F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8FCBA-BEC5-443F-8206-2F648A0C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1A0E7-9DA0-46EA-968C-F2169E51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7AA64-FCD4-4A08-ABAF-AC7BAEE5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D755E-EC2C-4618-BD40-DFA6AC2C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D3841-C1F0-47E8-870A-23042BEC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83A5E-0760-4FE7-AB7C-BECB893D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8045A-A737-47ED-AEF2-31FEDAA7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C4FD5-3C39-4BF4-B831-67F56076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35BBE-B41F-4609-87D2-D8E5C0BD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6931-42DF-4576-85C2-B95FBA6CAEE0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3F98-69E2-42DD-B3B6-4438C60073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10E5-EAF1-463D-81DE-40FD3CD6CE7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D28E-1AA8-4EB6-8C9D-D31CD555A4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57D4-4DE7-4CC6-A6CE-F1F5E4E3999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8AA4-B374-41C4-A812-1B4F45FC6B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F602-7A57-4F51-8483-2F5F9B57F6A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3F17-F2B1-4CC8-BFB1-8C9C64D1DD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7652-8606-41A1-8864-B3574914EC6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347D-D213-4465-AF11-4EF2E68BA0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7BDD-EF5A-482A-9991-3417FAF2B5A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9F8D-40CD-4B10-8C28-82DC93462E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0ADC-A459-4204-B260-6A4BA8B2224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C1BB-1FCC-4001-A0DF-5862B0DF5D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FE7B-C087-41F0-8317-DC9660B3653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71D5-93EA-44A0-AA38-CF8B314A2A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145A-D07C-41BA-BC5E-C1D7B2D6B0E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BFA5-51BE-4591-842D-59832FDFDB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76FE-C958-4965-A708-1BB39073A0E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1FA1-0AC9-4429-BB61-1EF48AAA76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CB1B-F5C2-47A2-8E78-4CE74E3FBE9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BAC3-649D-44D4-AE1A-25C99607D3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C0AE-AA3B-4C15-B2DC-449D5802441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0C8F-500F-4125-8669-7F5F107080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A98E-F338-40E2-B50C-23DB2B1C532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B236-06A3-4415-B002-4F3C28D5AA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545A-6898-410E-9DDE-E0CB819423D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4E2A-1E9A-4FC7-9FAA-96E6FA20A9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20F2-9E9A-4091-BC3B-02C169AA011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4761-1CA6-4FE2-BC63-B77126CA9D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4560-BE01-4AAB-B20B-CAFB22BBDFA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C15D-A628-4399-B909-C4766FB267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4B0E-1F54-4B77-B5FE-DAE8D0B4C66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CAF0-6A2A-4594-84C0-5B1BCC1317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3DBF-7C6A-4F6C-8507-FE85F2DD827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31D2-7426-46DB-91B8-B5E6C72616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7028-A363-44D3-A9FC-409343DCA69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1B46-627E-4090-BE6F-90C3E33B8B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62D6-3396-41B8-B6BC-A631D679567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BB28-E007-4F84-B1E0-E0293D3455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EE94-5CF6-4684-B10E-EABBD71072EB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F24F-EAC0-4EAD-B29B-0F87A3731D3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dt" idx="8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886F-9599-4147-8D65-CA5FBF27347F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BD9F-9649-4F52-A571-5EF6DDD9C37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2D5F-165A-434D-A462-98B9C8D7FA6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EC59-6E2B-4303-BC0D-D37190CB65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 type="dt" idx="8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755A-5B02-4A76-B644-2E2E70C5E5D9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616C-BF17-4F3C-AA20-4FEB04BA6DF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 type="dt" idx="9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5A36-9114-4013-99E1-30F2AD874B63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F195-1553-426B-8743-1A63C354143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3F27-0C55-4774-A25A-09023BD74AFA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31B5-D966-4D47-89F3-EC7283AC58B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dt" idx="9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A571-698F-4E56-AB13-4DC5D2352929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11AB-1E09-42E6-AB93-EC374C78C4F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 type="dt" idx="10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066D-F9E2-438F-B2FD-ADD7EAEA53F6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EA2B-B121-446D-99E5-A2493CF0401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 type="dt" idx="10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D052-95F2-4886-9A43-8ED3BD16F7A3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8926-907E-4308-8F5D-AD5B7546957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 type="dt" idx="10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147A-A047-4184-947C-82B584CF1951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3373-AFA5-45B1-979D-D2624889EA8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 type="dt" idx="10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0E2A-4D97-4BF0-B07D-B0BBD3B9DE82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8F32-78D2-4817-88D4-B6FF7A274E2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 type="dt" idx="11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E8C3-DE0C-4BD0-BED5-42454637E0FD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290E-0728-4B0E-A679-45590F08205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A555-40D3-4DC2-B47E-FDE3BA39E73D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662B-9832-4C84-9A66-1827E57F1C0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0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E2C3-A4B5-44BE-9653-C51AF9331A30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F294-D1D0-4099-8B60-1413D732CB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21FC-A201-4C56-8CCE-11DD21EA7F4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9FC5-175C-4DE3-A5F8-C9240B67CA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D980-E8A4-40DD-A654-75E372A6C1E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594F-27EE-463E-BC36-1B8FC36BF4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57DB-C3C1-4DE6-81EC-B2951579305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64CA-DCDA-402C-9F38-DF14FDF984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C08B-4B81-44E2-9A95-B6D49537A58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B4A5-5316-4018-B07F-301EDE7974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2340000" y="115920"/>
            <a:ext cx="5616720" cy="41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 Math"/>
              </a:rPr>
              <a:t>Кафедра «Теория и история государства и права»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984807"/>
                </a:solidFill>
                <a:latin typeface="Cambria Math"/>
              </a:rPr>
              <a:t>Дисциплина по выбору: </a:t>
            </a:r>
            <a:br>
              <a:rPr sz="3200"/>
            </a:br>
            <a:r>
              <a:rPr b="1" lang="ru-RU" sz="4400" spc="-1" strike="noStrike">
                <a:solidFill>
                  <a:srgbClr val="ff0000"/>
                </a:solidFill>
                <a:latin typeface="Cambria Math"/>
              </a:rPr>
              <a:t>ОСНОВЫ ПРА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2195280" y="4508280"/>
            <a:ext cx="586404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дготови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.и.н., доцент Терениченко А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0" name="Рисунок 6" descr="finans_akademy.gif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956720" y="115920"/>
            <a:ext cx="1000080" cy="1133280"/>
          </a:xfrm>
          <a:prstGeom prst="rect">
            <a:avLst/>
          </a:prstGeom>
          <a:ln w="0">
            <a:noFill/>
          </a:ln>
        </p:spPr>
      </p:pic>
      <p:pic>
        <p:nvPicPr>
          <p:cNvPr id="1661" name="Рисунок 9" descr="femida.JPG"/>
          <p:cNvPicPr/>
          <p:nvPr/>
        </p:nvPicPr>
        <p:blipFill>
          <a:blip r:embed="rId3"/>
          <a:stretch/>
        </p:blipFill>
        <p:spPr>
          <a:xfrm>
            <a:off x="249120" y="0"/>
            <a:ext cx="2017800" cy="4297320"/>
          </a:xfrm>
          <a:prstGeom prst="rect">
            <a:avLst/>
          </a:prstGeom>
          <a:ln w="0">
            <a:noFill/>
          </a:ln>
        </p:spPr>
      </p:pic>
      <p:sp>
        <p:nvSpPr>
          <p:cNvPr id="16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Административное правонаруше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 административная ответственность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дминистративное правонарушение: понятие и признаки. Основания административной ответствен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рядок наложения административных взыска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рганы, уполномоченные рассматривать дела об административных правонарушен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еступления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 уголовная ответственность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овное право: задачи, система и принцип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овный закон. Понятие, признаки и виды преступл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обенности уголовной ответственности. Состав преступления: понятие. знач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казание и его цели. Система и виды наказаний. Назначение наказ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ые основы государственного </a:t>
            </a:r>
            <a:br>
              <a:rPr sz="3200"/>
            </a:br>
            <a:r>
              <a:rPr b="1" lang="ru-RU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 муниципального управления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одательство Российской Федерации о регулировании государственного и муниципального управ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осударственная служба Российской Федерации: система, основные принципы функционирования. Государственная гражданская и правоохранительная служб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ые основы деятельности муниципалитетов и их место в системе органов власти. Виды и структура органов местного самоуправ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иды контроля за деятельностью местных органов вла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НТАК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 «Теория и история государства и права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: 4 Вешняковский проезд, д. 4, каб. 410, 412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фон: 8(495)371-64-0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gp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@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9" name="Рисунок 6" descr="finans_akademy.gif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956720" y="115920"/>
            <a:ext cx="1000080" cy="1133280"/>
          </a:xfrm>
          <a:prstGeom prst="rect">
            <a:avLst/>
          </a:prstGeom>
          <a:ln w="0">
            <a:noFill/>
          </a:ln>
        </p:spPr>
      </p:pic>
      <p:pic>
        <p:nvPicPr>
          <p:cNvPr id="1700" name="Рисунок 9" descr="femida.JPG"/>
          <p:cNvPicPr/>
          <p:nvPr/>
        </p:nvPicPr>
        <p:blipFill>
          <a:blip r:embed="rId3"/>
          <a:stretch/>
        </p:blipFill>
        <p:spPr>
          <a:xfrm>
            <a:off x="249120" y="0"/>
            <a:ext cx="2017800" cy="4297320"/>
          </a:xfrm>
          <a:prstGeom prst="rect">
            <a:avLst/>
          </a:prstGeom>
          <a:ln w="0">
            <a:noFill/>
          </a:ln>
        </p:spPr>
      </p:pic>
      <p:sp>
        <p:nvSpPr>
          <p:cNvPr id="1701" name="Text Box 2"/>
          <p:cNvSpPr/>
          <p:nvPr/>
        </p:nvSpPr>
        <p:spPr>
          <a:xfrm>
            <a:off x="900000" y="1844640"/>
            <a:ext cx="73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Verdana"/>
              </a:rPr>
              <a:t>СПАСИБ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Verdana"/>
              </a:rPr>
              <a:t>ЗА ВНИМАНИЕ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Дисциплина «ОСНОВЫ ПРАВА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ует у студентов теоретические знания об основных категориях государства и пра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ормирует представления об основных отраслях права, об основах правового регулирования в сфере государственного и муниципального управ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сширяет профессиональный и общекультурный кругозор, способствует серьёзному самостоятельному мышле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Содержание дисциплины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«Основы права»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7" name="Содержимое 5"/>
          <p:cNvSpPr/>
          <p:nvPr/>
        </p:nvSpPr>
        <p:spPr>
          <a:xfrm>
            <a:off x="457200" y="928800"/>
            <a:ext cx="8229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новные понятия государ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новные правовые катего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новы конституционного строя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ое регулирование гражданских право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ое регулирование семейны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ое регулирование трудовы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дминистративное правонарушение и административная ответ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еступления и уголовная ответ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ые основы государственного и муниципального упра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Основные понятия государства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государства. Признаки государ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ль государства в жизни общества. Функции государства (внешние и внутренние), их соотнош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ории происхождения государ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государства. Политический режим и его ви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Основные правовые категории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и его роль в жизни об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нятие права. Теория происхождения права. Взаимосвязь права и государ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 в системе социальных норм. Понятие и виды социальных норм, регулирующих поведение людей в обще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ые отношения: понятие, признаки, структура и состав. Классификация право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Основы конституционного строя Российской Федерации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и система принципов конституционного строя. Суверенитет Российской Федерации, и его гарантии. Россия в содружестве Независимых Государ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нституция: понятие, сущность, функции. Развитие конституционного законодательства в Росс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родовластие и формы его осуществ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литическая система общества: понятие и структура. Место и роль государства в политической системе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гражданских правоотношени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9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ражданские правоотношения и основания их возникнов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Физические и юридические лица как субъекты гражданских правоотношений; публично-правовые образования как субъекты гражданского пра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ъекты гражданских право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 и иные вещные права и их защи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и виды сделок. Гражданско-правовой догов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семейных правоотношени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новные институты семейного права. Брак: понятие, условия и порядок заключ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Личные неимущественные и имущественные права супругов. Брачный догово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лиментные обязательства родителей и 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трудовых отношени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рудовые отношения и их стороны. Основания возникновения трудовых отношений. Рабочее время и время отдых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рудовой договор: понятие ,признаки, стороны, порядок заключения. Изменение и прекращение трудового договора. Ответственность сторо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исциплина труда и ответственность за её наруш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ивидуальные и коллективные трудовые спо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0:32:54Z</dcterms:created>
  <dc:creator>ТЗ</dc:creator>
  <dc:description/>
  <dc:language>en-US</dc:language>
  <cp:lastModifiedBy>LEGION</cp:lastModifiedBy>
  <dcterms:modified xsi:type="dcterms:W3CDTF">2015-01-28T08:27:46Z</dcterms:modified>
  <cp:revision>317</cp:revision>
  <dc:subject/>
  <dc:title>Кафедра «Теория и история государства и права» Дисциплина по выбору: ОСНОВЫ ПРА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