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6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18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13.xml" ContentType="application/vnd.openxmlformats-officedocument.theme+xml"/>
  <Override PartName="/ppt/theme/theme37.xml" ContentType="application/vnd.openxmlformats-officedocument.theme+xml"/>
  <Override PartName="/ppt/theme/theme38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9.xml" ContentType="application/vnd.openxmlformats-officedocument.theme+xml"/>
  <Override PartName="/ppt/theme/theme26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4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</p:sldMasterIdLst>
  <p:notesMasterIdLst>
    <p:notesMasterId r:id="rId40"/>
  </p:notesMasterIdLst>
  <p:sldIdLst>
    <p:sldId id="256" r:id="rId41"/>
    <p:sldId id="257" r:id="rId42"/>
    <p:sldId id="258" r:id="rId43"/>
    <p:sldId id="259" r:id="rId44"/>
    <p:sldId id="260" r:id="rId45"/>
    <p:sldId id="261" r:id="rId46"/>
    <p:sldId id="262" r:id="rId47"/>
    <p:sldId id="263" r:id="rId48"/>
    <p:sldId id="264" r:id="rId49"/>
    <p:sldId id="265" r:id="rId50"/>
    <p:sldId id="266" r:id="rId51"/>
    <p:sldId id="267" r:id="rId52"/>
    <p:sldId id="268" r:id="rId53"/>
    <p:sldId id="269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notesMaster" Target="notesMasters/notesMaster1.xml"/><Relationship Id="rId41" Type="http://schemas.openxmlformats.org/officeDocument/2006/relationships/slide" Target="slides/slide1.xml"/><Relationship Id="rId42" Type="http://schemas.openxmlformats.org/officeDocument/2006/relationships/slide" Target="slides/slide2.xml"/><Relationship Id="rId43" Type="http://schemas.openxmlformats.org/officeDocument/2006/relationships/slide" Target="slides/slide3.xml"/><Relationship Id="rId44" Type="http://schemas.openxmlformats.org/officeDocument/2006/relationships/slide" Target="slides/slide4.xml"/><Relationship Id="rId45" Type="http://schemas.openxmlformats.org/officeDocument/2006/relationships/slide" Target="slides/slide5.xml"/><Relationship Id="rId46" Type="http://schemas.openxmlformats.org/officeDocument/2006/relationships/slide" Target="slides/slide6.xml"/><Relationship Id="rId47" Type="http://schemas.openxmlformats.org/officeDocument/2006/relationships/slide" Target="slides/slide7.xml"/><Relationship Id="rId48" Type="http://schemas.openxmlformats.org/officeDocument/2006/relationships/slide" Target="slides/slide8.xml"/><Relationship Id="rId49" Type="http://schemas.openxmlformats.org/officeDocument/2006/relationships/slide" Target="slides/slide9.xml"/><Relationship Id="rId50" Type="http://schemas.openxmlformats.org/officeDocument/2006/relationships/slide" Target="slides/slide10.xml"/><Relationship Id="rId51" Type="http://schemas.openxmlformats.org/officeDocument/2006/relationships/slide" Target="slides/slide11.xml"/><Relationship Id="rId52" Type="http://schemas.openxmlformats.org/officeDocument/2006/relationships/slide" Target="slides/slide12.xml"/><Relationship Id="rId53" Type="http://schemas.openxmlformats.org/officeDocument/2006/relationships/slide" Target="slides/slide13.xml"/><Relationship Id="rId54" Type="http://schemas.openxmlformats.org/officeDocument/2006/relationships/slide" Target="slides/slide14.xml"/><Relationship Id="rId5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PlaceHolder 2"/>
          <p:cNvSpPr>
            <a:spLocks noGrp="1"/>
          </p:cNvSpPr>
          <p:nvPr>
            <p:ph type="dt" idx="11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6" name="PlaceHolder 5"/>
          <p:cNvSpPr>
            <a:spLocks noGrp="1"/>
          </p:cNvSpPr>
          <p:nvPr>
            <p:ph type="ftr" idx="11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PlaceHolder 6"/>
          <p:cNvSpPr>
            <a:spLocks noGrp="1"/>
          </p:cNvSpPr>
          <p:nvPr>
            <p:ph type="sldNum" idx="11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0485F-7A65-4D87-9085-63B78FF69270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mbria Math"/>
              </a:rPr>
              <a:t>Кафедра «Теория и история государства и права»</a:t>
            </a:r>
            <a:br>
              <a:rPr sz="1200"/>
            </a:br>
            <a:br>
              <a:rPr sz="1200"/>
            </a:br>
            <a:r>
              <a:rPr b="1" lang="ru-RU" sz="1400" spc="-1" strike="noStrike">
                <a:solidFill>
                  <a:srgbClr val="984807"/>
                </a:solidFill>
                <a:latin typeface="Cambria Math"/>
              </a:rPr>
              <a:t>Дисциплина по выбору: </a:t>
            </a:r>
            <a:br>
              <a:rPr sz="1400"/>
            </a:br>
            <a:r>
              <a:rPr b="1" lang="ru-RU" sz="1200" spc="-1" strike="noStrike">
                <a:solidFill>
                  <a:srgbClr val="ff0000"/>
                </a:solidFill>
                <a:latin typeface="Cambria Math"/>
              </a:rPr>
              <a:t>ОСНОВЫ ПРА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Подготовил: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к.и.н., доцент Терениченко А.А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99555-0BED-48B8-ADC8-2D59E2CC3B70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Административное правонарушение </a:t>
            </a:r>
            <a:br>
              <a:rPr sz="1100"/>
            </a:br>
            <a:r>
              <a:rPr b="1" lang="ru-RU" sz="11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и административная ответственность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Административное правонарушение: понятие и признаки. Основания административной ответственн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орядок наложения административных взыскан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рганы, уполномоченные рассматривать дела об административных правонарушения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2AD64-74A4-4C46-ABB9-657A028A5473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еступления</a:t>
            </a:r>
            <a:br>
              <a:rPr sz="1100"/>
            </a:br>
            <a:r>
              <a:rPr b="1" lang="ru-RU" sz="11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и уголовная ответственность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головное право: задачи, система и принцип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головный закон. Понятие, признаки и виды преступл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собенности уголовной ответственности. Состав преступления: понятие. значени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аказание и его цели. Система и виды наказаний. Назначение наказ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06C31-00B2-4D37-A147-ADAF6206D71A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авовые основы государственного </a:t>
            </a:r>
            <a:br>
              <a:rPr sz="1400"/>
            </a:b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и муниципального управления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онодательство Российской Федерации о регулировании государственного и муниципального управл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Государственная служба Российской Федерации: система, основные принципы функционирования. Государственная гражданская и правоохранительная служб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авовые основы деятельности муниципалитетов и их место в системе органов власти. Виды и структура органов местного самоуправ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иды контроля за деятельностью местных органов вла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8A7D7-C41D-4156-A354-C30CBB818831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ТАК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федра «Теория и история государства и прав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дрес: 4 Вешняковский проезд, д. 4, каб. 410, 412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лефон: 8(495)371-64-0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l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: 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igp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@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fa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EBA0F-B090-46B4-BA96-05FA7A50D72C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Дисциплина «ОСНОВЫ ПРАВА»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-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ует у студентов теоретические знания об основных категориях государства и прав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формирует представления об основных отраслях права, об основах правового регулирования в сфере государственного и муниципального управл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асширяет профессиональный и общекультурный кругозор, способствует серьёзному самостоятельному мышлени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749D6-F556-4A47-9301-EC70C62A4390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одержание дисциплины </a:t>
            </a:r>
            <a:br>
              <a:rPr sz="1200"/>
            </a:br>
            <a:r>
              <a:rPr b="1" lang="ru-RU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«Основы прав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сновные понятия государ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сновные правовые категор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сновы конституционного строя Российской Федер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авовое регулирование гражданских правоотнош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авовое регулирование семейных отнош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авовое регулирование трудовых отнош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Административное правонарушение и административная ответствен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еступления и уголовная ответствен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авовые основы государственного и муниципального управ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81DE3-020B-4CE8-A2A7-81BC5CEF1051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сновные понятия государства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нятие государства. Признаки государ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ль государства в жизни общества. Функции государства (внешние и внутренние), их соотношени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ории происхождения государств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ы государства. Политический режим и его вид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E5C73-53F0-4989-873B-D29DEE9EEF6C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сновные правовые категории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о и его роль в жизни общ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онятие права. Теория происхождения права. Взаимосвязь права и государ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аво в системе социальных норм. Понятие и виды социальных норм, регулирующих поведение людей в обществ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авовые отношения: понятие, признаки, структура и состав. Классификация правоотнош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43DA5-3FA9-4B54-9A94-6AB05C0734ED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сновы конституционного строя Российской Федераци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нятие и система принципов конституционного строя. Суверенитет Российской Федерации, и его гарантии. Россия в содружестве Независимых Государст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Конституция: понятие, сущность, функции. Развитие конституционного законодательства в Росс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Народовластие и формы его осуществл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олитическая система общества: понятие и структура. Место и роль государства в политической системе Росс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7213B-7432-4454-9517-3D9D44A13C9D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авовое регулирование </a:t>
            </a:r>
            <a:br>
              <a:rPr sz="1100"/>
            </a:br>
            <a:r>
              <a:rPr b="1" lang="ru-RU" sz="11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гражданских правоотношений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ражданские правоотношения и основания их возникнов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Физические и юридические лица как субъекты гражданских правоотношений; публично-правовые образования как субъекты гражданского прав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бъекты гражданских правоотнош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о собственности и иные вещные права и их защит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нятие и виды сделок. Гражданско-правовой догово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BDB97-0796-42CC-9AF7-39106A7B4731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авовое регулирование </a:t>
            </a:r>
            <a:br>
              <a:rPr sz="1100"/>
            </a:br>
            <a:r>
              <a:rPr b="1" lang="ru-RU" sz="11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емейных правоотношений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сновные институты семейного права. Брак: понятие, условия и порядок заключ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Личные неимущественные и имущественные права супругов. Брачный договор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Алиментные обязательства родителей и дет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4E971-230D-4A9D-8FC3-39B8C824EA8E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авовое регулирование </a:t>
            </a:r>
            <a:br>
              <a:rPr sz="1100"/>
            </a:br>
            <a:r>
              <a:rPr b="1" lang="ru-RU" sz="11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трудовых отношений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рудовые отношения и их стороны. Основания возникновения трудовых отношений. Рабочее время и время отдых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Трудовой договор: понятие ,признаки, стороны, порядок заключения. Изменение и прекращение трудового договора. Ответственность сторон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Дисциплина труда и ответственность за её наруш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дивидуальные и коллективные трудовые спор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6DEC2-A660-40E9-A17C-FD025CC64FA7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9A1C5-AE73-4DEB-BE6E-BC260EF64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9D72E-DCF9-4293-9A13-495E906A1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7B7CAB-404F-41CE-BB34-F3A1453A0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E2C742-E09C-471E-A5F3-81378923C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49BDF8-53E6-41D8-A8F6-A87881535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EAD35E-4202-4347-9CBC-99D53B94D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FDAC6C-0DC2-45B6-8786-9C0B8F08C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F0587A-6391-439F-8707-84719D533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18BBAA-5AD4-4E6D-A2C0-ABDB507A7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946E8F-8595-4BAD-A7D3-0A9AD27CD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4A2C7A-458D-4B02-9D6A-417013BFC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6CBDB1-FB78-423C-80F6-BBE82EA6F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C24E6-6BF0-4913-8688-6E253F914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298E9C-0890-4ECB-8DE4-6358927FE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DC9E97-2AD6-4112-A79E-C836DF99F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9CE209-0689-44D8-A626-4A0AD4334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0F4FD9-B342-4910-972C-57B5FA43F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877EDD-E0AB-4604-9B9F-2F056681D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862B5B-5409-445C-AF79-814628667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B452E4-5474-4B55-8A7F-890EDA7B4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8A4A9E-9682-4C87-B1E5-00509C272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D8E958-FA04-490D-9ECE-E6BFA8120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CB8BBF-BA89-40DA-B71B-18B8AA246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49DA4-EB35-4DE3-946B-2E94AE87B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AAC32E-25DC-4804-B553-DBAEF6A61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258856-106E-46FF-981E-82F69D902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30769C-FA75-435F-AC85-FDE349B15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262FA3-0D33-481C-A672-3413B79B5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859EC1-A062-4B84-84EF-775593244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69D959-CD0E-485A-AAEA-4D0157EAC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71F908-A999-4C1F-80DC-69C4F94ED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741324-8A1E-47D6-BF2E-938977368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EC68A4-E69D-4A55-BB78-02BE56F73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C4A8B1-251B-451B-8FE7-1ED0E07CB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CE040-7BF2-4ED1-A406-DF812E275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A4BF33-01E8-4A0E-8BA7-4057EF448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AFFC19-8EB7-45AA-9B73-913A2EEF4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5DA53A-3718-414F-B5D5-8B77A67B2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E994F8-08A8-45E6-9DC7-6A0701784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402F5B-4171-4145-9266-A64AE4E29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041D91-88D4-43DB-91A5-53E9B90AD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CED74C-C726-46AA-B086-374D8A8BD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DDEB62-B753-4C86-8A7D-BCBAAE028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788845-3CC0-4132-98EC-0887AF4FA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A802B1-840F-44DD-960B-1B7AEC66C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2C033-111A-47F8-8368-571F442C5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AC2DF5-9E88-4ADE-A769-7989C2048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EC138B-102F-4F0A-BD23-3BA022CB5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9E47B8-7682-418F-A025-7C5087866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4E8A24-E5AA-46C9-B8B6-E907354E4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EF7E44-5BCA-4834-9298-BF5859722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9D66A5C-143F-49EB-9774-629583CD3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C24FCCA-C657-4034-9C70-8135575AA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81B21B9-7047-4B63-9796-0265B2629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BFB567D-9A3B-476D-A725-7884487F2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D5BAB5B-D81C-48CB-86C4-B55DA6104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B64D6-E4C1-4F77-80AF-AB78611F5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DD0E25C-C7D4-42B2-9C2A-39192A54F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7A9FB1F-B0E0-40BD-8DAA-82A8727E6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093EAC4-28C2-4D1C-814A-574E76F71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ABB7530-7270-4ED6-B5BE-1C8CE8101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D683EA4-AC81-4043-9CC3-AF73CDED6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CBB5B30-2221-4DE2-9DDF-5E02A445E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FBD2C43-3F28-43D7-9149-455F11091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958AE81-4BB1-4C57-B661-8777AE2F8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9035EBC-C16E-44F0-8887-C68C3520B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9C3BAAE-ECAE-40D7-8A47-ED2689B5A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C9D26-E4C4-4A5D-859A-B0F5B4DF6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14E8F31-069E-44B8-9925-409666BBB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3A38D9D-E68D-4E53-9861-BC3CF863E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6C02CF2-FAB4-4533-89D2-C8D7561AB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7603CCD-E276-4F3B-8345-ADA43218F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B667A79-941E-4ADB-A51C-E3A2226AE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377E5EF-3E62-4076-A565-D83AE0506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F1EB80F-85C1-454B-A57C-382D2FAB2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9B7AA63-98AE-4CE4-83FF-7CC4A310F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A396BCB-DF30-469C-B569-1A39CEC1B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B3048A9-EE40-4856-A335-598547D01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9D095-AE6D-459C-8D2A-C8E90D3CD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2B7AE02-4D4E-494D-B2FA-DF7B18C08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AC729A6-493E-4B4A-99B1-94CD4D9B0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7044060-DC5A-4296-96E4-F34DA7B77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6F61C35-1F27-42F9-8907-575B3B897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BF46961-055F-4689-83FB-99305CC44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E45F710-ED76-41A9-894F-A3130A42D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8F14E2B-BAEB-4C3B-88BE-5DB981E5A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D2B9FE0-D213-4C33-B86F-C5279F9C1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2963FBA-CBAA-456C-A104-16117203D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D942607-3E03-4E0C-8587-D0954D554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2737E-BB6F-4048-B361-B463CD6A4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3E9CCF4-B734-4D0C-9FF9-F61308893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A5CD4FF-253D-443B-9B33-9C6DE981A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5659C54-8270-4F77-8103-FA86EAB42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18AC8C0-AC47-44DB-8744-22741EA52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66C8030-55AA-4BD1-A777-1B911E16F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6FDF4D0-E64A-4B80-AFE5-50503F3DD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9E5FF63-5B17-4092-9C35-D69A35376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4B9E339-9F7F-4607-8AD5-A8A065E12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503D961-2341-4B95-9135-8EC7C4B9C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513ADA1-94D5-46BB-AC0E-2FE90A5AE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DC560-2C7F-4C43-BE9C-4777BD87B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D316ED8-54F8-47A5-A757-0118994CB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9FF86DD-4E34-4E50-8972-F504A84FA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07D6198-05BF-4628-9038-EC11F755B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82A9A6E-6A85-4B24-A05B-49981FBB3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175582A-51EE-417D-9A2B-BB97A1157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EA4DE60-B4F1-4C39-AA72-599759063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5A96B08-AA68-4B7E-A7AD-E89E9221B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F1C139C-71EA-4989-A308-ADB73B486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5A9195B-BE9F-4928-A50E-F2807BBD3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27FC729-0DA0-4C98-BE64-50BDFFB81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22A8D-73E9-42CA-9C37-52FA3411B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82F09-F3A8-40CD-951F-7D7B41DF0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8AD17D4-5977-4AC0-9E26-13D296750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23D26B2-38B1-4D93-AA92-9AA1CD52D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AAD656E-D27E-4BFB-8D54-2073BE736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4023D08-D770-4FA4-8E70-5F3798C51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BF2C99C-F61C-4B58-B81F-60B5FEE62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8688B8E-2192-4BCC-B32D-3D06583F2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E9B4343-EAEB-4054-AC82-6B651E97F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A7D9FA7-9A94-4741-ACD9-C31A11807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6B3760D-D8B0-4ED7-8DAF-E5C8E946E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28AB6ED-A4C7-4A0A-8517-1860F17E3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5A223-0B23-44BA-86F0-2092B6FF9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4DEE02C-03EF-4880-ADFA-8C7691D5F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50C8C41-8BA3-4EDA-BEBE-F33874352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04A624E-AF61-47BB-81A6-C2338A641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A498ED9-C2E0-4A6D-A9F8-03F09125F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312A882-79F2-4C36-B45F-A6152B9B5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CD02573-95D0-493F-9EF2-6457E0462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9A0AC7B-3222-4BD0-B79A-5BF90A2F5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C3CB785-B038-4F64-8FF9-4027BB451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AF3B6C1-16F8-4D9B-9E17-4AEEAAEB5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BCF3CE6-7929-48ED-A961-C07120BA8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6BECB-DB43-4C95-AD48-3F1A47FAF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A004693-3BD6-4DB3-B79A-5BB9EAD7B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3CAFB93-7522-4FC7-A40D-E6D311128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7196C05-3C52-4B73-B28A-6E2E30C52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5A06ED2-BB05-45DE-A592-0B00189FE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3F926D7-F0E0-459F-927D-1B33095F5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D5FA4F6-14C5-4BFC-ADE7-59944A2ED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E0BB06B-D7A6-491D-BF79-AFC4146B4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51AC7C0-FB90-47F3-BBE4-B1EFE0CA7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68CA645-3038-49A1-A04C-378DADB1D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A2F818A-D296-4BDA-ABE3-79A15501D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A5BA2-D776-4018-9A08-5DECEC961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111CECA-458F-4D60-B1C2-AF70B9672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8AC2081-82F3-42CC-B2A3-E4F62F2F7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EF7561A-1EAB-4953-81A4-0C9022F59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41EBB5B-DCD9-49A7-80AE-72685CC50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32B8A78-E04C-45E8-A0F9-4D41D60F1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185648C-E85E-4273-8F2C-1557E8C3C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C889EBE-C1E2-4188-ABE9-0661D08B0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3235CFE-54BB-4140-A222-365177956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C8463E9-30D7-45FB-8998-7E59224C3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D466FF4-FB3C-4A24-B8E1-5F6BD2D6B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0606C-F0E8-475E-8602-16346C7F5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D04C9E2-5094-411F-8881-87343D526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5DFC80D-3927-47B1-AFF8-E087EF662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9FACA39-30C1-4E3C-AD57-742FED745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4BFF032-3AFA-47AA-AD40-1BBBE647A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B857E3B-BF91-4553-9436-D2BC93CE9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D30B510-B510-4522-BC1B-BEA7DC7B2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EBC42ED-7B9D-41FE-94F5-78B7D03E5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D7841B9-07FD-4CF0-8D4F-DFC43D9A0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027C6D0-881E-41D9-9113-9A8C1B1A5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E28E6B1-1591-4749-9503-BD3E06B02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EED35B-4BE9-4B43-8FC5-8D307325B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A96DB0E-642C-4E60-8305-15520A677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E84AF8D-F16F-4B76-B044-AFDFA099F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29F41D1-E998-4E36-A275-A972D6215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320CFE6-DD07-4DC8-97D0-31D3AE7F7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F34B993-8CAA-40F6-95E3-AAF93EA48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4A870CA-F0FC-4528-B9DE-6DF7B0B21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43656CF-B4B9-4101-8106-9A7AF6BF8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99D5390-BCA1-4594-BD89-5C03AB725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4B88665-1A9E-459C-9A08-6846711F0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8A62192-609F-4825-BE54-9E61996CB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3282B3-75E7-49C7-A127-2FA1587C2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3CA27E1-56DA-4F84-88EF-4F7A826E5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C83792B-FDE7-4D43-83A1-A998DB7A9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CA0B0B8-C3CC-45AD-9765-199C188B2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4A9512E-23B8-4593-8D69-18C871A3A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D16DF0D-869B-43F8-B95A-13E87D5DA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44A3915-410D-4587-90F7-EABACF262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31969AD-A7B0-4404-9418-885FB626D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44104FF-AB6B-4146-BCC1-A5BDD3389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0D3CD74-3D11-4F5E-BD60-07EE56C90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EB64E0D-2EC6-4FD6-AFA7-FE4C5DC36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6BCA53-7323-43D8-A677-1A831AA7E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38291AB-CCF3-4CD1-B9A5-37BDA67A5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0E31BD0-BE26-4AA4-B7A7-5E48D4CAF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FA0A284-69F3-40CA-9C96-D09C8AACC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DA94C6C-DB11-4AC1-BB08-2A1B4EF38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4DCC425-D401-49E9-8581-0D0FBD946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C62E599-19CC-4F11-899B-679445D79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59174E3-AAA1-400A-8BED-B4C6B2B7E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CBBD847-B2B8-433A-91A7-BFC4898D3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D0FCCF6-CA87-406A-A3F8-523FCFE4C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681D23A-096D-40FB-A648-11B1522F4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121E0D-E835-461B-880F-AB4B84AB0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180FA09-2DCF-485C-B085-38C18F9B1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C0135F0-F0F1-4032-8687-4D3DD4ED7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5E63DE3-61B5-46FB-9069-5C9D2E70C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38FB4BC-4B08-4FF3-A583-51E30D14F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D43B0F9-20E4-4C85-81AB-27862B9C3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C6622B3-623F-47C1-B611-B0FD0B118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95FA221-D1C0-45C2-8E6B-8CCB9ABE6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D0F86C5-F802-4A48-8C03-EA63EB8C4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7D437B9-5E2B-4A44-89C6-003AF9EEB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401A163-6FCF-4668-B74C-B537B0F7C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6F94B4-883D-40AB-BD84-F110A6CBB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3056D49-29C2-43AD-9315-E85B62D01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72F59E3-9C2A-4EB2-99EB-07521AEA4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979B8C4-3823-4DD1-8CB4-1700737A3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8D76375-11D3-4B49-8642-8CC58E727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41A741F-2AA4-4CCC-87E3-F8E2F54E6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7D64247-1924-4F35-BD21-ECC60C942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AEAC612-A76C-454B-A991-7AE2663FC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FBEBBDD-0AF2-4DC6-81AD-C30907C34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FBD9E1F-579D-48AB-AED3-CD45CCD1A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C595BFD-AC58-4938-945F-C4B490D4E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5BC92-5F13-4A27-8028-79BF1ABC6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4EA35A-A8FD-48AE-B0EF-A83EC2AB6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A67DE6A-1144-4346-ABF2-A75A4CCAB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31F2EC9-5644-4253-BC3A-61B359F74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39F44CE-AFC4-4993-B03B-1CD4E6A3B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A00DDD6-8854-4D68-A937-FD4D49CDC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6A1FC8E-376C-4B58-AC29-F4884E109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EB9721E-41A0-432B-8249-FEC5BE407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F564D65-04DD-4CE5-B48C-160B43937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AFCB400-DE9C-4535-A246-6D0B1B5F4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6FBFCDD-3CFF-453B-A583-DFD01CDA9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BC85BEB-259B-4D85-BEA8-0EA3DDB3D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6BCAB9-1605-47CD-8415-641BB2DD1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097F317-9864-4F8C-AF1D-47C0B1646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C8746B8-EA43-431E-BD5D-BE0273397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8F90B58-94A4-4B74-8968-7AC8617CA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E1A578A-EB4A-4B5B-A756-8D661FB93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DC8C813-8D68-48B5-9839-4C99CA339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0DE66DB-8F54-4E91-AA79-1E843A55A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8CF7423-F363-44E6-9C26-763E13D17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D4A329E-6D71-462B-B113-DE30F0229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0DA2EC8-F3F0-47E6-81BC-5B4A56DB6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057B638-397E-40E8-A442-19420084D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23F8B0-7DED-4D4C-8E41-42C62F52D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015EAB2-7437-4140-B14C-10C433996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08254CB-17D6-4F76-8B01-5936816A2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3846443-93ED-4650-88B4-33947652A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CA0F3D5-32C3-4433-978A-04F415B11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2A36A40-D264-45AD-B610-5A1E17002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AE60F27-FE60-46CC-AF85-2B88E9E0F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F10503D-BC88-4A94-AE20-B91DFB410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9240381-4CE2-4980-AC83-30CB80F91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8747C3A-15CD-4C30-A43B-46A370A29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0C6B1B4-4D1C-4792-A93E-8595E6201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F19785-784D-4650-8104-BDDF4A03E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CDB00F8-C172-4F06-9F7F-7C7BB1A02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0075E08-6E6C-4FBD-BD8F-E106047D1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F27296D-77C2-46E8-BA04-C7232F581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FFAA803-2DAA-402E-B449-AF7D91F09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A95D982-C9A5-4F4D-8C94-AAA165F43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43ACB51-F156-4F4C-B0C9-4FB83CD85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656A9EA-ACE4-4216-BFCC-1B7B31205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6D76DBD-2355-4B57-A826-0B0849FA6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AF5E676-8164-4AA9-8A8D-316E9A3A4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A4169E5-2B01-4477-8745-291276890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87EB89-779B-4A23-B28E-29E0FFF50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643C7B6-D733-436F-AE4B-05BD5CAAC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417828E-CE7A-4220-BA82-EEAEC97A5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5F7D5F6-0D68-43D3-8BCB-D974F10D1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77B61FF-AB99-4FD6-9C6F-380C96545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CE92D49-5753-4F12-9F33-E25DE4370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A8F5784-3EDB-4356-8759-B1A893842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823BECA-8F8B-4C43-9576-3DB584188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167D991-0F5E-443F-8A25-851E074BA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2E207DB-9019-4158-A5D9-EB2DE0366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9DD3C2C-86F9-4F4F-A169-66DB3D30D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6BD63B-0C80-49BF-A2C5-6439C43FE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BDE1D13-9848-44D7-A063-1C9BCC898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4CACB45-28B4-43E0-A92F-694372A9D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D46BC2A-C6F1-4E22-A5FC-0BA94A2DA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B888E90-8F4C-4997-923E-A2309AD3B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A78FA70-B4E0-46C7-A7B2-A280E34E8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76E5DE3-660B-45F8-8031-5D70B44EE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166F28C-7F96-4C18-88D1-6302F27C2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E27E569-2CC9-466A-A2D0-D792A830C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37B673F-A3EB-4DA5-847A-4359C07FC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1B9DD86-B989-4692-8B4F-6D4815991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74D08C-0711-4816-BD64-50A9DCC3D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D676AB7-F957-42B6-BC25-D471EE032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CF2DB57-ECE9-47A5-9DC9-C5F252522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0926D76-927F-4668-9905-A09013B46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FBE5773-75E1-40CD-8522-1DFC628B9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344C291-0A38-4DF5-9682-39043201F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78EDA74-0417-4923-81B2-96C35348E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5128791-63E1-4ED3-90C6-009FABD8C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1BB3E22-735C-4177-B7B8-499EAA1B5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582F129-B7A7-4B10-909A-9DC568846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557B57E-EFDB-4B08-BFBC-F3A703157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03967B-A079-44EF-8AAE-1B36CC492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E853AC5-C107-4356-8346-2990C79CA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7356639-4471-4253-BBC1-B77CF0EC7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85331E5-3EA4-4F0C-9755-06B8A8599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D31AFF81-2A00-485D-B48C-58C9D316E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91C15EC9-3511-4EA6-A7E6-0FA5F190F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F5E08437-8F9D-493A-8B5F-DE02562FF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A7A90233-2F99-4A92-B1DB-CD6F0F0E7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F7B8C6C1-6D98-4B9A-862C-CA64998ED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EE16F8EE-A975-482D-8A47-5DB487FB7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C63C96D7-656C-45CA-BC96-4C8AB3CB9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CC4E1D-90FE-405A-84D5-5ACA1263D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0D1D9F41-A700-4769-8E3B-04A92D1F5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E0F755E0-77E7-4D16-A453-876ECC506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E21D5351-E052-4CD7-9790-9D5B991FB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96BDFB0C-51DF-40F8-AE54-3C1236D0B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C3EF9EBB-8E93-4822-9570-030330F22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83D85046-CAB0-4094-995B-0D5AB29ED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837B1403-F6E6-46B8-A22F-01E1433CF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1B65CF51-C944-4EF8-A9B2-2C337A2C8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1F082E3B-13D3-41B5-A180-21350032A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CE1D2F3D-9680-4301-92C1-063665219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0F0E7A-7213-4F17-AA8C-19A0000C7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24064C49-82C3-4372-81DB-305DD5FA4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A2C9C726-0E1C-4CAF-92F1-599527ABF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7EDC83B3-89A2-43F1-A707-77FB7BCEE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1BE44DCC-94A9-49E5-92C1-F74256301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B79F6144-9B65-4026-9D9F-ECF7C7D26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A89DFD36-3635-43EA-9E33-013F8D551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9933A338-E8D7-4DAE-83E5-11E6AF979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24DD5C36-C6BD-4C4F-8D2C-2D0B94748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2B916873-2FBF-43EC-85AE-AF26A8AF0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66EEF4EE-2DF9-4408-88C7-2D31C9109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4AC2F-D5E7-46EF-A39D-909B35043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C51154-655E-4505-BF2D-83F0A1976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0684AE93-4774-4E6D-83A8-C89EC11C4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EFE323DC-A50B-406D-89BE-C31E2AC26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1D21A26E-FB15-4DC8-9B91-5E6A623FB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DA8C3FB1-7B90-4C1D-B46E-8B42E6478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232DEDB9-A06A-4B82-9865-9D03499F1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7D3FADEC-9F75-4425-B4DA-82CF535D3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D7517D01-37D3-4CF3-B3CD-B2283C5C7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B4AAEE6C-8C1D-449E-8485-02957E0BE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D2228719-7AEE-49B5-985C-7EAAD7F13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239D54F5-8F5D-4A96-8D09-FB9CCC5DB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178893-5572-425E-9F91-2BB6FA8B1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FE9EB0BB-4373-4799-8DDC-BA3A2A58F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2A4A4D2C-C39B-4733-BB7F-498DCCB7E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1F3696B4-429E-4318-A4AB-C597DE0C1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3EA3F55D-7176-42A4-9003-0850F5022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8B2ACD3B-BD08-45B6-915A-7359A3F57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348F9B9F-A9E2-4A66-9DF7-5F136AD7D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0003E33B-5043-4F5F-ACA1-7483907EA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1BA002E1-2E9E-4C16-A244-C7AA484B7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C3E4DDA1-2F08-4902-9A6D-989113B92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0CC6F2DD-86AC-4AD7-9CD6-B860CBE25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4DF8CA-B911-4FB7-823E-F0DE9A23A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54BDBDA2-B1E3-4E8B-8782-0751C1832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E49877E7-28B6-47EE-91C0-3D46FC83E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033C885E-B6D2-43F6-829E-1D1D72130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51515887-0186-4C33-A03A-23C5A8ADA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E9C459E6-2713-4DE4-A159-24051A648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7D914A67-9647-44F7-B72F-9B3F3A799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A09EDABA-0077-4DE3-BBE2-CAC224B36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FD6B0F83-F5BF-4CAA-B7E9-62755984A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B0408B7A-7233-4A7B-AC2B-A99D6F1A7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2213534E-5F27-4AC3-B09F-156FF3489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48C1B5-E506-475E-83CD-46BF5766C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241B16FD-9AC0-465E-9ED7-4EAF5E66D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079CC86C-A750-434F-8565-A88FF79BC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865532EB-3CA0-40B2-8DD9-596072F0C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CA68B06D-3E93-4686-AED8-B6989D372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70982FB8-EB3B-42DE-A2CC-A20B5001E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2DEA223D-766E-4099-A65A-15B0F1660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25F22CED-DB7D-4F9D-8E7C-975642C74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C0344055-376E-495F-BABD-C66CF735D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A52D7F61-234E-494F-9FAD-42E015CDF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FA808482-C7BD-43C1-8EC5-5C266877B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8D48F8-957A-4C79-9754-3F4C0AFF8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768BF7DD-BBCB-44B7-9374-E5D2FEC17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5BBF8579-C7C6-45FB-B430-E7FFCAD5C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22B99B45-5D8C-4FD3-848E-EF0B1CD19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C77087E8-CEC8-4D35-B982-28E0570B2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E0C0FF88-2691-4162-9928-EBF8070A3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439B0DEA-7B35-48B9-A85E-CBAC5AA9B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D112C9FD-750F-4089-95E6-C99C75C3B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ECFCDEC5-4052-4CF3-BCCB-960B3A84C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1B6FEE7F-D8BB-47A9-9A60-DB47A1678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8B145E3F-7A1E-4549-BA57-373702477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8281C2-A76F-4BE7-A898-DAAA43D25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4668994C-1142-4702-8585-700312111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C687F809-4F82-404F-8114-CDC70277D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C137EEAB-B44C-411F-88F0-31E8ECEB1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8FD6516F-E3AF-4DE9-ABA5-BC827CF1F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187E9CC0-C8F0-432C-9192-30D55C3F3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18F3BDD8-451D-4BB9-BF22-0FCD55BC1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A41F5BBE-FE67-4C5F-BD72-4C6D831DA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0636CA-0237-444D-A087-3200F9A24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9332F0-0FE3-4110-88AB-59C010897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77B235-CECE-4E3C-9B3B-AA22780E3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2F8974-57B5-4239-99E3-15743817D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62940-230D-4FF3-9FE9-63AB1AC7D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E83B30-45D9-46A5-BCAB-69232CEED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9251AE-0684-46A8-A34C-A724D8D0B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B5F3A0-68C2-4159-836C-70A34D219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A7D9E1-2890-4584-BD59-6A1B34C0D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DA4EED-0344-4D2B-A60C-3E0B424A1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E2C0C5-41DE-461E-A37E-D9993A1D6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282BCF-952A-402F-89CC-A5A0C7B26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0BDD05-69C7-4F5B-993C-2E1FA3BD4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05724F-ACF7-40DA-AF2B-5B75464F3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92048A-E681-40BB-8317-D17640CC1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E0970-B66B-4936-ABAF-0B64AC251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FD6F5A-BC55-4226-88FB-C1275540D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7650FF-F8B0-4802-BE31-08514B665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9893BE-4977-40D6-8999-E1F671C3D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109DB4-0CB4-4A5F-812E-D6E0A4850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434287-ABBC-4F45-AE11-10F487404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2EC00B-1CE6-4607-A4FA-4E68936D9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24415B-07A4-48C6-BC19-058B2F3DA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F04A34-D936-4906-8271-F365BFF2B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DEB71A-7B5B-43A2-B1AB-E302A0A83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1BAB0D-A32E-4CA8-9B16-2481E09C7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6B2DD-A647-41A5-9228-E2B6F82E9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E5CA73-DA65-4C51-A3EA-A75B93656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7F99EF-F0D1-4C14-B3FA-FDCB7CF27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ED9F06-DA51-493E-AA91-4BE99E55E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80A271-F3AC-414A-BA4B-AF295D8FD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A1938D-3AF0-42E0-8458-6F169FF8B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1C0017-5A23-469F-BD12-A8457AF81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CDE1C2-15DB-41EC-B5C1-423D6BE96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0A4300-A476-4B8A-8191-061031451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0D89C6-DE22-4CDB-A442-388DFCCBB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B92FE3-04C7-4EDC-8465-161C24E0E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A9D04-5C97-4734-BF64-E70570478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B13E97-117D-48FC-9FFF-19CA962F8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59EF0F-0E23-430B-AF5A-EACA9ADB1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6F71DD-AAA9-41E5-A232-0D8A311BE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3E99A5-9140-48E0-ACD6-35B586F52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7702AE-C57E-4805-9D98-38C223FF6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984834-D86B-4BE4-9D4C-69F3E3AEA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B1EA70-29B2-49C6-8BC1-AB91E538D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64B8CC-DF1E-4CF7-9A14-6FDE9F206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C091F1-4942-41BB-B4BF-05846723C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2E1487-130E-4EB5-8DD7-6A58A96CF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54944-8E01-46BA-A5E1-EB2CAB537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E3BF75-0775-422E-AB8A-08E564967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03D1C2-881F-4F5B-9CA9-0FFB7FBE6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324BD6-EA93-427D-92E8-AAAD7151F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B96B99-955F-430F-A1EE-2BA141185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818B5A-01A4-4C0C-A43E-62763F3E4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8D9033-A54F-43F9-AA13-3541BB631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F7F8BD-AFB4-49FC-8C88-96D2F0FBE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B5D3C8-2BEF-4640-9D1B-9BF170A1E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E4EAE8-50C5-44EB-B5A9-A78A05BAE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6E2FD7-5A15-41E0-855B-9931DECB6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37.xml"/><Relationship Id="rId4" Type="http://schemas.openxmlformats.org/officeDocument/2006/relationships/slideLayout" Target="../slideLayouts/slideLayout338.xml"/><Relationship Id="rId5" Type="http://schemas.openxmlformats.org/officeDocument/2006/relationships/slideLayout" Target="../slideLayouts/slideLayout339.xml"/><Relationship Id="rId6" Type="http://schemas.openxmlformats.org/officeDocument/2006/relationships/slideLayout" Target="../slideLayouts/slideLayout340.xml"/><Relationship Id="rId7" Type="http://schemas.openxmlformats.org/officeDocument/2006/relationships/slideLayout" Target="../slideLayouts/slideLayout341.xml"/><Relationship Id="rId8" Type="http://schemas.openxmlformats.org/officeDocument/2006/relationships/slideLayout" Target="../slideLayouts/slideLayout342.xml"/><Relationship Id="rId9" Type="http://schemas.openxmlformats.org/officeDocument/2006/relationships/slideLayout" Target="../slideLayouts/slideLayout343.xml"/><Relationship Id="rId10" Type="http://schemas.openxmlformats.org/officeDocument/2006/relationships/slideLayout" Target="../slideLayouts/slideLayout344.xml"/><Relationship Id="rId11" Type="http://schemas.openxmlformats.org/officeDocument/2006/relationships/slideLayout" Target="../slideLayouts/slideLayout345.xml"/><Relationship Id="rId12" Type="http://schemas.openxmlformats.org/officeDocument/2006/relationships/slideLayout" Target="../slideLayouts/slideLayout346.xml"/><Relationship Id="rId13" Type="http://schemas.openxmlformats.org/officeDocument/2006/relationships/slideLayout" Target="../slideLayouts/slideLayout347.xml"/><Relationship Id="rId14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49.xml"/><Relationship Id="rId4" Type="http://schemas.openxmlformats.org/officeDocument/2006/relationships/slideLayout" Target="../slideLayouts/slideLayout350.xml"/><Relationship Id="rId5" Type="http://schemas.openxmlformats.org/officeDocument/2006/relationships/slideLayout" Target="../slideLayouts/slideLayout351.xml"/><Relationship Id="rId6" Type="http://schemas.openxmlformats.org/officeDocument/2006/relationships/slideLayout" Target="../slideLayouts/slideLayout352.xml"/><Relationship Id="rId7" Type="http://schemas.openxmlformats.org/officeDocument/2006/relationships/slideLayout" Target="../slideLayouts/slideLayout353.xml"/><Relationship Id="rId8" Type="http://schemas.openxmlformats.org/officeDocument/2006/relationships/slideLayout" Target="../slideLayouts/slideLayout354.xml"/><Relationship Id="rId9" Type="http://schemas.openxmlformats.org/officeDocument/2006/relationships/slideLayout" Target="../slideLayouts/slideLayout355.xml"/><Relationship Id="rId10" Type="http://schemas.openxmlformats.org/officeDocument/2006/relationships/slideLayout" Target="../slideLayouts/slideLayout356.xml"/><Relationship Id="rId11" Type="http://schemas.openxmlformats.org/officeDocument/2006/relationships/slideLayout" Target="../slideLayouts/slideLayout357.xml"/><Relationship Id="rId12" Type="http://schemas.openxmlformats.org/officeDocument/2006/relationships/slideLayout" Target="../slideLayouts/slideLayout358.xml"/><Relationship Id="rId13" Type="http://schemas.openxmlformats.org/officeDocument/2006/relationships/slideLayout" Target="../slideLayouts/slideLayout359.xml"/><Relationship Id="rId14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61.xml"/><Relationship Id="rId4" Type="http://schemas.openxmlformats.org/officeDocument/2006/relationships/slideLayout" Target="../slideLayouts/slideLayout362.xml"/><Relationship Id="rId5" Type="http://schemas.openxmlformats.org/officeDocument/2006/relationships/slideLayout" Target="../slideLayouts/slideLayout363.xml"/><Relationship Id="rId6" Type="http://schemas.openxmlformats.org/officeDocument/2006/relationships/slideLayout" Target="../slideLayouts/slideLayout364.xml"/><Relationship Id="rId7" Type="http://schemas.openxmlformats.org/officeDocument/2006/relationships/slideLayout" Target="../slideLayouts/slideLayout365.xml"/><Relationship Id="rId8" Type="http://schemas.openxmlformats.org/officeDocument/2006/relationships/slideLayout" Target="../slideLayouts/slideLayout366.xml"/><Relationship Id="rId9" Type="http://schemas.openxmlformats.org/officeDocument/2006/relationships/slideLayout" Target="../slideLayouts/slideLayout367.xml"/><Relationship Id="rId10" Type="http://schemas.openxmlformats.org/officeDocument/2006/relationships/slideLayout" Target="../slideLayouts/slideLayout368.xml"/><Relationship Id="rId11" Type="http://schemas.openxmlformats.org/officeDocument/2006/relationships/slideLayout" Target="../slideLayouts/slideLayout369.xml"/><Relationship Id="rId12" Type="http://schemas.openxmlformats.org/officeDocument/2006/relationships/slideLayout" Target="../slideLayouts/slideLayout370.xml"/><Relationship Id="rId13" Type="http://schemas.openxmlformats.org/officeDocument/2006/relationships/slideLayout" Target="../slideLayouts/slideLayout371.xml"/><Relationship Id="rId14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3.xml"/><Relationship Id="rId4" Type="http://schemas.openxmlformats.org/officeDocument/2006/relationships/slideLayout" Target="../slideLayouts/slideLayout374.xml"/><Relationship Id="rId5" Type="http://schemas.openxmlformats.org/officeDocument/2006/relationships/slideLayout" Target="../slideLayouts/slideLayout375.xml"/><Relationship Id="rId6" Type="http://schemas.openxmlformats.org/officeDocument/2006/relationships/slideLayout" Target="../slideLayouts/slideLayout376.xml"/><Relationship Id="rId7" Type="http://schemas.openxmlformats.org/officeDocument/2006/relationships/slideLayout" Target="../slideLayouts/slideLayout377.xml"/><Relationship Id="rId8" Type="http://schemas.openxmlformats.org/officeDocument/2006/relationships/slideLayout" Target="../slideLayouts/slideLayout378.xml"/><Relationship Id="rId9" Type="http://schemas.openxmlformats.org/officeDocument/2006/relationships/slideLayout" Target="../slideLayouts/slideLayout379.xml"/><Relationship Id="rId10" Type="http://schemas.openxmlformats.org/officeDocument/2006/relationships/slideLayout" Target="../slideLayouts/slideLayout380.xml"/><Relationship Id="rId11" Type="http://schemas.openxmlformats.org/officeDocument/2006/relationships/slideLayout" Target="../slideLayouts/slideLayout381.xml"/><Relationship Id="rId12" Type="http://schemas.openxmlformats.org/officeDocument/2006/relationships/slideLayout" Target="../slideLayouts/slideLayout382.xml"/><Relationship Id="rId13" Type="http://schemas.openxmlformats.org/officeDocument/2006/relationships/slideLayout" Target="../slideLayouts/slideLayout383.xml"/><Relationship Id="rId14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85.xml"/><Relationship Id="rId4" Type="http://schemas.openxmlformats.org/officeDocument/2006/relationships/slideLayout" Target="../slideLayouts/slideLayout386.xml"/><Relationship Id="rId5" Type="http://schemas.openxmlformats.org/officeDocument/2006/relationships/slideLayout" Target="../slideLayouts/slideLayout387.xml"/><Relationship Id="rId6" Type="http://schemas.openxmlformats.org/officeDocument/2006/relationships/slideLayout" Target="../slideLayouts/slideLayout388.xml"/><Relationship Id="rId7" Type="http://schemas.openxmlformats.org/officeDocument/2006/relationships/slideLayout" Target="../slideLayouts/slideLayout389.xml"/><Relationship Id="rId8" Type="http://schemas.openxmlformats.org/officeDocument/2006/relationships/slideLayout" Target="../slideLayouts/slideLayout390.xml"/><Relationship Id="rId9" Type="http://schemas.openxmlformats.org/officeDocument/2006/relationships/slideLayout" Target="../slideLayouts/slideLayout391.xml"/><Relationship Id="rId10" Type="http://schemas.openxmlformats.org/officeDocument/2006/relationships/slideLayout" Target="../slideLayouts/slideLayout392.xml"/><Relationship Id="rId11" Type="http://schemas.openxmlformats.org/officeDocument/2006/relationships/slideLayout" Target="../slideLayouts/slideLayout393.xml"/><Relationship Id="rId12" Type="http://schemas.openxmlformats.org/officeDocument/2006/relationships/slideLayout" Target="../slideLayouts/slideLayout394.xml"/><Relationship Id="rId13" Type="http://schemas.openxmlformats.org/officeDocument/2006/relationships/slideLayout" Target="../slideLayouts/slideLayout395.xml"/><Relationship Id="rId14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97.xml"/><Relationship Id="rId4" Type="http://schemas.openxmlformats.org/officeDocument/2006/relationships/slideLayout" Target="../slideLayouts/slideLayout398.xml"/><Relationship Id="rId5" Type="http://schemas.openxmlformats.org/officeDocument/2006/relationships/slideLayout" Target="../slideLayouts/slideLayout399.xml"/><Relationship Id="rId6" Type="http://schemas.openxmlformats.org/officeDocument/2006/relationships/slideLayout" Target="../slideLayouts/slideLayout400.xml"/><Relationship Id="rId7" Type="http://schemas.openxmlformats.org/officeDocument/2006/relationships/slideLayout" Target="../slideLayouts/slideLayout401.xml"/><Relationship Id="rId8" Type="http://schemas.openxmlformats.org/officeDocument/2006/relationships/slideLayout" Target="../slideLayouts/slideLayout402.xml"/><Relationship Id="rId9" Type="http://schemas.openxmlformats.org/officeDocument/2006/relationships/slideLayout" Target="../slideLayouts/slideLayout403.xml"/><Relationship Id="rId10" Type="http://schemas.openxmlformats.org/officeDocument/2006/relationships/slideLayout" Target="../slideLayouts/slideLayout404.xml"/><Relationship Id="rId11" Type="http://schemas.openxmlformats.org/officeDocument/2006/relationships/slideLayout" Target="../slideLayouts/slideLayout405.xml"/><Relationship Id="rId12" Type="http://schemas.openxmlformats.org/officeDocument/2006/relationships/slideLayout" Target="../slideLayouts/slideLayout406.xml"/><Relationship Id="rId13" Type="http://schemas.openxmlformats.org/officeDocument/2006/relationships/slideLayout" Target="../slideLayouts/slideLayout407.xml"/><Relationship Id="rId14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09.xml"/><Relationship Id="rId4" Type="http://schemas.openxmlformats.org/officeDocument/2006/relationships/slideLayout" Target="../slideLayouts/slideLayout410.xml"/><Relationship Id="rId5" Type="http://schemas.openxmlformats.org/officeDocument/2006/relationships/slideLayout" Target="../slideLayouts/slideLayout411.xml"/><Relationship Id="rId6" Type="http://schemas.openxmlformats.org/officeDocument/2006/relationships/slideLayout" Target="../slideLayouts/slideLayout412.xml"/><Relationship Id="rId7" Type="http://schemas.openxmlformats.org/officeDocument/2006/relationships/slideLayout" Target="../slideLayouts/slideLayout413.xml"/><Relationship Id="rId8" Type="http://schemas.openxmlformats.org/officeDocument/2006/relationships/slideLayout" Target="../slideLayouts/slideLayout414.xml"/><Relationship Id="rId9" Type="http://schemas.openxmlformats.org/officeDocument/2006/relationships/slideLayout" Target="../slideLayouts/slideLayout415.xml"/><Relationship Id="rId10" Type="http://schemas.openxmlformats.org/officeDocument/2006/relationships/slideLayout" Target="../slideLayouts/slideLayout416.xml"/><Relationship Id="rId11" Type="http://schemas.openxmlformats.org/officeDocument/2006/relationships/slideLayout" Target="../slideLayouts/slideLayout417.xml"/><Relationship Id="rId12" Type="http://schemas.openxmlformats.org/officeDocument/2006/relationships/slideLayout" Target="../slideLayouts/slideLayout418.xml"/><Relationship Id="rId13" Type="http://schemas.openxmlformats.org/officeDocument/2006/relationships/slideLayout" Target="../slideLayouts/slideLayout419.xml"/><Relationship Id="rId14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21.xml"/><Relationship Id="rId4" Type="http://schemas.openxmlformats.org/officeDocument/2006/relationships/slideLayout" Target="../slideLayouts/slideLayout422.xml"/><Relationship Id="rId5" Type="http://schemas.openxmlformats.org/officeDocument/2006/relationships/slideLayout" Target="../slideLayouts/slideLayout423.xml"/><Relationship Id="rId6" Type="http://schemas.openxmlformats.org/officeDocument/2006/relationships/slideLayout" Target="../slideLayouts/slideLayout424.xml"/><Relationship Id="rId7" Type="http://schemas.openxmlformats.org/officeDocument/2006/relationships/slideLayout" Target="../slideLayouts/slideLayout425.xml"/><Relationship Id="rId8" Type="http://schemas.openxmlformats.org/officeDocument/2006/relationships/slideLayout" Target="../slideLayouts/slideLayout426.xml"/><Relationship Id="rId9" Type="http://schemas.openxmlformats.org/officeDocument/2006/relationships/slideLayout" Target="../slideLayouts/slideLayout427.xml"/><Relationship Id="rId10" Type="http://schemas.openxmlformats.org/officeDocument/2006/relationships/slideLayout" Target="../slideLayouts/slideLayout428.xml"/><Relationship Id="rId11" Type="http://schemas.openxmlformats.org/officeDocument/2006/relationships/slideLayout" Target="../slideLayouts/slideLayout429.xml"/><Relationship Id="rId12" Type="http://schemas.openxmlformats.org/officeDocument/2006/relationships/slideLayout" Target="../slideLayouts/slideLayout430.xml"/><Relationship Id="rId13" Type="http://schemas.openxmlformats.org/officeDocument/2006/relationships/slideLayout" Target="../slideLayouts/slideLayout431.xml"/><Relationship Id="rId14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33.xml"/><Relationship Id="rId4" Type="http://schemas.openxmlformats.org/officeDocument/2006/relationships/slideLayout" Target="../slideLayouts/slideLayout434.xml"/><Relationship Id="rId5" Type="http://schemas.openxmlformats.org/officeDocument/2006/relationships/slideLayout" Target="../slideLayouts/slideLayout435.xml"/><Relationship Id="rId6" Type="http://schemas.openxmlformats.org/officeDocument/2006/relationships/slideLayout" Target="../slideLayouts/slideLayout436.xml"/><Relationship Id="rId7" Type="http://schemas.openxmlformats.org/officeDocument/2006/relationships/slideLayout" Target="../slideLayouts/slideLayout437.xml"/><Relationship Id="rId8" Type="http://schemas.openxmlformats.org/officeDocument/2006/relationships/slideLayout" Target="../slideLayouts/slideLayout438.xml"/><Relationship Id="rId9" Type="http://schemas.openxmlformats.org/officeDocument/2006/relationships/slideLayout" Target="../slideLayouts/slideLayout439.xml"/><Relationship Id="rId10" Type="http://schemas.openxmlformats.org/officeDocument/2006/relationships/slideLayout" Target="../slideLayouts/slideLayout440.xml"/><Relationship Id="rId11" Type="http://schemas.openxmlformats.org/officeDocument/2006/relationships/slideLayout" Target="../slideLayouts/slideLayout441.xml"/><Relationship Id="rId12" Type="http://schemas.openxmlformats.org/officeDocument/2006/relationships/slideLayout" Target="../slideLayouts/slideLayout442.xml"/><Relationship Id="rId13" Type="http://schemas.openxmlformats.org/officeDocument/2006/relationships/slideLayout" Target="../slideLayouts/slideLayout443.xml"/><Relationship Id="rId14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45.xml"/><Relationship Id="rId4" Type="http://schemas.openxmlformats.org/officeDocument/2006/relationships/slideLayout" Target="../slideLayouts/slideLayout446.xml"/><Relationship Id="rId5" Type="http://schemas.openxmlformats.org/officeDocument/2006/relationships/slideLayout" Target="../slideLayouts/slideLayout447.xml"/><Relationship Id="rId6" Type="http://schemas.openxmlformats.org/officeDocument/2006/relationships/slideLayout" Target="../slideLayouts/slideLayout448.xml"/><Relationship Id="rId7" Type="http://schemas.openxmlformats.org/officeDocument/2006/relationships/slideLayout" Target="../slideLayouts/slideLayout449.xml"/><Relationship Id="rId8" Type="http://schemas.openxmlformats.org/officeDocument/2006/relationships/slideLayout" Target="../slideLayouts/slideLayout450.xml"/><Relationship Id="rId9" Type="http://schemas.openxmlformats.org/officeDocument/2006/relationships/slideLayout" Target="../slideLayouts/slideLayout451.xml"/><Relationship Id="rId10" Type="http://schemas.openxmlformats.org/officeDocument/2006/relationships/slideLayout" Target="../slideLayouts/slideLayout452.xml"/><Relationship Id="rId11" Type="http://schemas.openxmlformats.org/officeDocument/2006/relationships/slideLayout" Target="../slideLayouts/slideLayout453.xml"/><Relationship Id="rId12" Type="http://schemas.openxmlformats.org/officeDocument/2006/relationships/slideLayout" Target="../slideLayouts/slideLayout454.xml"/><Relationship Id="rId13" Type="http://schemas.openxmlformats.org/officeDocument/2006/relationships/slideLayout" Target="../slideLayouts/slideLayout455.xml"/><Relationship Id="rId14" Type="http://schemas.openxmlformats.org/officeDocument/2006/relationships/slideLayout" Target="../slideLayouts/slideLayout45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29991-CD24-44C4-8FCC-593FE1B2F77F}" type="datetime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8C8D9-9DCF-4C39-A1F9-049A0C69AEE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4E550-5FA7-43C2-B886-BBAA6D238714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DA4DE-805E-418A-848C-D18D287F1B7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61D87-B060-490B-BE51-A208B4DDB96E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B8F0F-D677-48DF-B2AF-78412F026FD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AE9DF-B885-4129-BC5F-DA8F21FCC9DB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8688D-A618-48C9-B8B1-57CA8E7079B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AA267-0028-4ABC-876F-F395FE67F662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E71B4-7F23-40EB-8F58-C65DDB0A06B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E38A7-E2A6-4E05-97B3-17A4C4B88D5F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43468-852B-469E-A408-F35F87CE3EB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 type="dt" idx="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8E79F-E537-44EF-81C9-5225C5C3CFDA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 type="ftr" idx="4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 type="sldNum" idx="4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6229F-B466-4AB6-A021-AE48CEEB8D5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 type="dt" idx="4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AE772-4645-4EB5-A44C-43F79EC8A03D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 type="ftr" idx="4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PlaceHolder 5"/>
          <p:cNvSpPr>
            <a:spLocks noGrp="1"/>
          </p:cNvSpPr>
          <p:nvPr>
            <p:ph type="sldNum" idx="4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9C2FF-7B4A-4B17-8CD0-1264A62410D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 type="dt" idx="4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EA8B2-3688-4DEF-8FBD-CBCC4E6569BE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 type="ftr" idx="5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PlaceHolder 5"/>
          <p:cNvSpPr>
            <a:spLocks noGrp="1"/>
          </p:cNvSpPr>
          <p:nvPr>
            <p:ph type="sldNum" idx="5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C12DD-8C4C-41B8-9861-57AF42AFC02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 type="dt" idx="5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03BD2-C9C1-49A1-A171-F50B2F5449C5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 type="ftr" idx="5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 type="sldNum" idx="5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FD1BD-BD70-40C8-BB33-C6766CF80F1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 type="dt" idx="5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E51C5-0A44-47A0-9C02-BBA30FFC62B3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 type="ftr" idx="5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PlaceHolder 5"/>
          <p:cNvSpPr>
            <a:spLocks noGrp="1"/>
          </p:cNvSpPr>
          <p:nvPr>
            <p:ph type="sldNum" idx="5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528AF-4695-4ACF-A600-A9A681FC9D9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E4973-E2BF-4716-B90E-4950E468E6D1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92361-8187-4DAC-A745-362ADEF1BEE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 type="dt" idx="5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A456F-DB96-4F30-AD20-BE86FEECEF3A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 type="ftr" idx="5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 type="sldNum" idx="6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45D7B-0243-4371-8CF8-A75E081294B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 type="dt" idx="6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CDD82-3F3B-40F8-A2A3-2C1501AB7D2C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 type="ftr" idx="6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PlaceHolder 5"/>
          <p:cNvSpPr>
            <a:spLocks noGrp="1"/>
          </p:cNvSpPr>
          <p:nvPr>
            <p:ph type="sldNum" idx="6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8B1FC-AE3B-4791-9D92-A6BA12832E0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 type="dt" idx="6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9A870-76DE-42C3-BFB4-0EAC9ADD64B1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 type="ftr" idx="6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5"/>
          <p:cNvSpPr>
            <a:spLocks noGrp="1"/>
          </p:cNvSpPr>
          <p:nvPr>
            <p:ph type="sldNum" idx="6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28DE4-BED1-4C92-B6ED-1A63BCA837F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 type="dt" idx="6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DFF63-5F3C-4D59-BD80-3870AD8FDCE2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 type="ftr" idx="6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 type="sldNum" idx="6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2B3C4-EABA-4AF2-8E34-036C68C1453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 type="dt" idx="7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AF8C0-BA8C-43F1-882D-EE97BD98F83C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 type="ftr" idx="7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 type="sldNum" idx="7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64B1C-FBE5-4FF4-8FA5-5364AC83B85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8" name="PlaceHolder 3"/>
          <p:cNvSpPr>
            <a:spLocks noGrp="1"/>
          </p:cNvSpPr>
          <p:nvPr>
            <p:ph type="dt" idx="7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11BF1-A5A6-4C0B-9F99-8B4F7F059ED5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PlaceHolder 4"/>
          <p:cNvSpPr>
            <a:spLocks noGrp="1"/>
          </p:cNvSpPr>
          <p:nvPr>
            <p:ph type="ftr" idx="7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PlaceHolder 5"/>
          <p:cNvSpPr>
            <a:spLocks noGrp="1"/>
          </p:cNvSpPr>
          <p:nvPr>
            <p:ph type="sldNum" idx="7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0F701-D83A-4FA2-8AE4-86EBCE1AB4B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9" name="PlaceHolder 3"/>
          <p:cNvSpPr>
            <a:spLocks noGrp="1"/>
          </p:cNvSpPr>
          <p:nvPr>
            <p:ph type="dt" idx="7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86D68-A5A1-45DD-ADF6-91000A4D3850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PlaceHolder 4"/>
          <p:cNvSpPr>
            <a:spLocks noGrp="1"/>
          </p:cNvSpPr>
          <p:nvPr>
            <p:ph type="ftr" idx="7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PlaceHolder 5"/>
          <p:cNvSpPr>
            <a:spLocks noGrp="1"/>
          </p:cNvSpPr>
          <p:nvPr>
            <p:ph type="sldNum" idx="7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CEDE6-3622-4DCC-9674-8ECCB010D42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0" name="PlaceHolder 3"/>
          <p:cNvSpPr>
            <a:spLocks noGrp="1"/>
          </p:cNvSpPr>
          <p:nvPr>
            <p:ph type="dt" idx="7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B0278-F907-4D20-BFE2-B94B710056B5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PlaceHolder 4"/>
          <p:cNvSpPr>
            <a:spLocks noGrp="1"/>
          </p:cNvSpPr>
          <p:nvPr>
            <p:ph type="ftr" idx="8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PlaceHolder 5"/>
          <p:cNvSpPr>
            <a:spLocks noGrp="1"/>
          </p:cNvSpPr>
          <p:nvPr>
            <p:ph type="sldNum" idx="8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03776-7465-433B-8570-5A9D6A30014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2" name="PlaceHolder 3"/>
          <p:cNvSpPr>
            <a:spLocks noGrp="1"/>
          </p:cNvSpPr>
          <p:nvPr>
            <p:ph type="dt" idx="8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9CB0E-30D5-418B-86D1-0202D750CD53}" type="datetime">
              <a:rPr b="0" lang="ru-RU" sz="1200" spc="-1" strike="noStrike">
                <a:solidFill>
                  <a:srgbClr val="000000"/>
                </a:solidFill>
                <a:latin typeface="Verdana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PlaceHolder 4"/>
          <p:cNvSpPr>
            <a:spLocks noGrp="1"/>
          </p:cNvSpPr>
          <p:nvPr>
            <p:ph type="ftr" idx="8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PlaceHolder 5"/>
          <p:cNvSpPr>
            <a:spLocks noGrp="1"/>
          </p:cNvSpPr>
          <p:nvPr>
            <p:ph type="sldNum" idx="8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60A33-84C3-48BA-B2B5-7BB83A2AF4A0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2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5" name="PlaceHolder 3"/>
          <p:cNvSpPr>
            <a:spLocks noGrp="1"/>
          </p:cNvSpPr>
          <p:nvPr>
            <p:ph type="dt" idx="85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42D96-1480-440E-9DF5-F60B99423FDD}" type="datetime">
              <a:rPr b="0" lang="ru-RU" sz="1200" spc="-1" strike="noStrike">
                <a:solidFill>
                  <a:srgbClr val="000000"/>
                </a:solidFill>
                <a:latin typeface="Verdana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PlaceHolder 4"/>
          <p:cNvSpPr>
            <a:spLocks noGrp="1"/>
          </p:cNvSpPr>
          <p:nvPr>
            <p:ph type="ftr" idx="8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PlaceHolder 5"/>
          <p:cNvSpPr>
            <a:spLocks noGrp="1"/>
          </p:cNvSpPr>
          <p:nvPr>
            <p:ph type="sldNum" idx="87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9270C-B14A-4738-B308-0D8D455803F8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3"/>
    <p:sldLayoutId id="2147484014" r:id="rId4"/>
    <p:sldLayoutId id="2147484015" r:id="rId5"/>
    <p:sldLayoutId id="2147484016" r:id="rId6"/>
    <p:sldLayoutId id="2147484017" r:id="rId7"/>
    <p:sldLayoutId id="2147484018" r:id="rId8"/>
    <p:sldLayoutId id="2147484019" r:id="rId9"/>
    <p:sldLayoutId id="2147484020" r:id="rId10"/>
    <p:sldLayoutId id="2147484021" r:id="rId11"/>
    <p:sldLayoutId id="2147484022" r:id="rId12"/>
    <p:sldLayoutId id="2147484023" r:id="rId13"/>
    <p:sldLayoutId id="2147484024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F51EE-B957-4389-A034-596F7FF218BA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C849F-F1E6-4D25-A9CF-B5FA0A3CE0E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5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7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8" name="PlaceHolder 3"/>
          <p:cNvSpPr>
            <a:spLocks noGrp="1"/>
          </p:cNvSpPr>
          <p:nvPr>
            <p:ph type="dt" idx="88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F6706-F864-4A4B-B271-AD4D84A0E3C2}" type="datetime">
              <a:rPr b="0" lang="ru-RU" sz="1200" spc="-1" strike="noStrike">
                <a:solidFill>
                  <a:srgbClr val="000000"/>
                </a:solidFill>
                <a:latin typeface="Verdana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PlaceHolder 4"/>
          <p:cNvSpPr>
            <a:spLocks noGrp="1"/>
          </p:cNvSpPr>
          <p:nvPr>
            <p:ph type="ftr" idx="8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PlaceHolder 5"/>
          <p:cNvSpPr>
            <a:spLocks noGrp="1"/>
          </p:cNvSpPr>
          <p:nvPr>
            <p:ph type="sldNum" idx="90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A377C-E807-4061-8D79-2C2BB9C77EEC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3"/>
    <p:sldLayoutId id="2147484027" r:id="rId4"/>
    <p:sldLayoutId id="2147484028" r:id="rId5"/>
    <p:sldLayoutId id="2147484029" r:id="rId6"/>
    <p:sldLayoutId id="2147484030" r:id="rId7"/>
    <p:sldLayoutId id="2147484031" r:id="rId8"/>
    <p:sldLayoutId id="2147484032" r:id="rId9"/>
    <p:sldLayoutId id="2147484033" r:id="rId10"/>
    <p:sldLayoutId id="2147484034" r:id="rId11"/>
    <p:sldLayoutId id="2147484035" r:id="rId12"/>
    <p:sldLayoutId id="2147484036" r:id="rId13"/>
    <p:sldLayoutId id="2147484037" r:id="rId14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8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0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1" name="PlaceHolder 3"/>
          <p:cNvSpPr>
            <a:spLocks noGrp="1"/>
          </p:cNvSpPr>
          <p:nvPr>
            <p:ph type="dt" idx="9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AC784-9BBE-4CE6-830D-D1926BD6034C}" type="datetime">
              <a:rPr b="0" lang="ru-RU" sz="1200" spc="-1" strike="noStrike">
                <a:solidFill>
                  <a:srgbClr val="000000"/>
                </a:solidFill>
                <a:latin typeface="Verdana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PlaceHolder 4"/>
          <p:cNvSpPr>
            <a:spLocks noGrp="1"/>
          </p:cNvSpPr>
          <p:nvPr>
            <p:ph type="ftr" idx="9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PlaceHolder 5"/>
          <p:cNvSpPr>
            <a:spLocks noGrp="1"/>
          </p:cNvSpPr>
          <p:nvPr>
            <p:ph type="sldNum" idx="9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73194-F048-4F2F-91C1-878F0F030027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3"/>
    <p:sldLayoutId id="2147484040" r:id="rId4"/>
    <p:sldLayoutId id="2147484041" r:id="rId5"/>
    <p:sldLayoutId id="2147484042" r:id="rId6"/>
    <p:sldLayoutId id="2147484043" r:id="rId7"/>
    <p:sldLayoutId id="2147484044" r:id="rId8"/>
    <p:sldLayoutId id="2147484045" r:id="rId9"/>
    <p:sldLayoutId id="2147484046" r:id="rId10"/>
    <p:sldLayoutId id="2147484047" r:id="rId11"/>
    <p:sldLayoutId id="2147484048" r:id="rId12"/>
    <p:sldLayoutId id="2147484049" r:id="rId13"/>
    <p:sldLayoutId id="2147484050" r:id="rId14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1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3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4" name="PlaceHolder 3"/>
          <p:cNvSpPr>
            <a:spLocks noGrp="1"/>
          </p:cNvSpPr>
          <p:nvPr>
            <p:ph type="dt" idx="94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E538F-29B4-4A7C-AD16-37EDA53DCB78}" type="datetime">
              <a:rPr b="0" lang="ru-RU" sz="1200" spc="-1" strike="noStrike">
                <a:solidFill>
                  <a:srgbClr val="000000"/>
                </a:solidFill>
                <a:latin typeface="Verdana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PlaceHolder 4"/>
          <p:cNvSpPr>
            <a:spLocks noGrp="1"/>
          </p:cNvSpPr>
          <p:nvPr>
            <p:ph type="ftr" idx="9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PlaceHolder 5"/>
          <p:cNvSpPr>
            <a:spLocks noGrp="1"/>
          </p:cNvSpPr>
          <p:nvPr>
            <p:ph type="sldNum" idx="96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C4BC4-8034-49D9-B596-2ADE8E2AC5A6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3"/>
    <p:sldLayoutId id="2147484053" r:id="rId4"/>
    <p:sldLayoutId id="2147484054" r:id="rId5"/>
    <p:sldLayoutId id="2147484055" r:id="rId6"/>
    <p:sldLayoutId id="2147484056" r:id="rId7"/>
    <p:sldLayoutId id="2147484057" r:id="rId8"/>
    <p:sldLayoutId id="2147484058" r:id="rId9"/>
    <p:sldLayoutId id="2147484059" r:id="rId10"/>
    <p:sldLayoutId id="2147484060" r:id="rId11"/>
    <p:sldLayoutId id="2147484061" r:id="rId12"/>
    <p:sldLayoutId id="2147484062" r:id="rId13"/>
    <p:sldLayoutId id="2147484063" r:id="rId14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3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4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6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7" name="PlaceHolder 3"/>
          <p:cNvSpPr>
            <a:spLocks noGrp="1"/>
          </p:cNvSpPr>
          <p:nvPr>
            <p:ph type="dt" idx="97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FF6A0-158F-4DD5-B4DE-5865AA5B8763}" type="datetime">
              <a:rPr b="0" lang="ru-RU" sz="1200" spc="-1" strike="noStrike">
                <a:solidFill>
                  <a:srgbClr val="000000"/>
                </a:solidFill>
                <a:latin typeface="Verdana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PlaceHolder 4"/>
          <p:cNvSpPr>
            <a:spLocks noGrp="1"/>
          </p:cNvSpPr>
          <p:nvPr>
            <p:ph type="ftr" idx="9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PlaceHolder 5"/>
          <p:cNvSpPr>
            <a:spLocks noGrp="1"/>
          </p:cNvSpPr>
          <p:nvPr>
            <p:ph type="sldNum" idx="99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273A0-7683-4B8E-A8E2-9E6FA11F060F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3"/>
    <p:sldLayoutId id="2147484066" r:id="rId4"/>
    <p:sldLayoutId id="2147484067" r:id="rId5"/>
    <p:sldLayoutId id="2147484068" r:id="rId6"/>
    <p:sldLayoutId id="2147484069" r:id="rId7"/>
    <p:sldLayoutId id="2147484070" r:id="rId8"/>
    <p:sldLayoutId id="2147484071" r:id="rId9"/>
    <p:sldLayoutId id="2147484072" r:id="rId10"/>
    <p:sldLayoutId id="2147484073" r:id="rId11"/>
    <p:sldLayoutId id="2147484074" r:id="rId12"/>
    <p:sldLayoutId id="2147484075" r:id="rId13"/>
    <p:sldLayoutId id="2147484076" r:id="rId14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7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9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0" name="PlaceHolder 3"/>
          <p:cNvSpPr>
            <a:spLocks noGrp="1"/>
          </p:cNvSpPr>
          <p:nvPr>
            <p:ph type="dt" idx="100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F7D87-D19E-43E9-AEDD-2E30988EBD6F}" type="datetime">
              <a:rPr b="0" lang="ru-RU" sz="1200" spc="-1" strike="noStrike">
                <a:solidFill>
                  <a:srgbClr val="000000"/>
                </a:solidFill>
                <a:latin typeface="Verdana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PlaceHolder 4"/>
          <p:cNvSpPr>
            <a:spLocks noGrp="1"/>
          </p:cNvSpPr>
          <p:nvPr>
            <p:ph type="ftr" idx="10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PlaceHolder 5"/>
          <p:cNvSpPr>
            <a:spLocks noGrp="1"/>
          </p:cNvSpPr>
          <p:nvPr>
            <p:ph type="sldNum" idx="102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C86E3-B934-46E8-AE63-6EFD6156E722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3"/>
    <p:sldLayoutId id="2147484079" r:id="rId4"/>
    <p:sldLayoutId id="2147484080" r:id="rId5"/>
    <p:sldLayoutId id="2147484081" r:id="rId6"/>
    <p:sldLayoutId id="2147484082" r:id="rId7"/>
    <p:sldLayoutId id="2147484083" r:id="rId8"/>
    <p:sldLayoutId id="2147484084" r:id="rId9"/>
    <p:sldLayoutId id="2147484085" r:id="rId10"/>
    <p:sldLayoutId id="2147484086" r:id="rId11"/>
    <p:sldLayoutId id="2147484087" r:id="rId12"/>
    <p:sldLayoutId id="2147484088" r:id="rId13"/>
    <p:sldLayoutId id="2147484089" r:id="rId14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9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0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2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3" name="PlaceHolder 3"/>
          <p:cNvSpPr>
            <a:spLocks noGrp="1"/>
          </p:cNvSpPr>
          <p:nvPr>
            <p:ph type="dt" idx="103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419AE-7E47-4ED0-8AAD-565DDB5C1079}" type="datetime">
              <a:rPr b="0" lang="ru-RU" sz="1200" spc="-1" strike="noStrike">
                <a:solidFill>
                  <a:srgbClr val="000000"/>
                </a:solidFill>
                <a:latin typeface="Verdana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PlaceHolder 4"/>
          <p:cNvSpPr>
            <a:spLocks noGrp="1"/>
          </p:cNvSpPr>
          <p:nvPr>
            <p:ph type="ftr" idx="10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PlaceHolder 5"/>
          <p:cNvSpPr>
            <a:spLocks noGrp="1"/>
          </p:cNvSpPr>
          <p:nvPr>
            <p:ph type="sldNum" idx="105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313D2-70AB-400A-A35A-E8E12DB2CC85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3"/>
    <p:sldLayoutId id="2147484092" r:id="rId4"/>
    <p:sldLayoutId id="2147484093" r:id="rId5"/>
    <p:sldLayoutId id="2147484094" r:id="rId6"/>
    <p:sldLayoutId id="2147484095" r:id="rId7"/>
    <p:sldLayoutId id="2147484096" r:id="rId8"/>
    <p:sldLayoutId id="2147484097" r:id="rId9"/>
    <p:sldLayoutId id="2147484098" r:id="rId10"/>
    <p:sldLayoutId id="2147484099" r:id="rId11"/>
    <p:sldLayoutId id="2147484100" r:id="rId12"/>
    <p:sldLayoutId id="2147484101" r:id="rId13"/>
    <p:sldLayoutId id="2147484102" r:id="rId14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6" name="PlaceHolder 3"/>
          <p:cNvSpPr>
            <a:spLocks noGrp="1"/>
          </p:cNvSpPr>
          <p:nvPr>
            <p:ph type="dt" idx="106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EF0EF-85B2-473A-8E43-2FDC6AF79305}" type="datetime">
              <a:rPr b="0" lang="ru-RU" sz="1200" spc="-1" strike="noStrike">
                <a:solidFill>
                  <a:srgbClr val="000000"/>
                </a:solidFill>
                <a:latin typeface="Verdana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PlaceHolder 4"/>
          <p:cNvSpPr>
            <a:spLocks noGrp="1"/>
          </p:cNvSpPr>
          <p:nvPr>
            <p:ph type="ftr" idx="10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PlaceHolder 5"/>
          <p:cNvSpPr>
            <a:spLocks noGrp="1"/>
          </p:cNvSpPr>
          <p:nvPr>
            <p:ph type="sldNum" idx="108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67804-B628-4B8F-B735-6C2E4EBA5B02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3"/>
    <p:sldLayoutId id="2147484105" r:id="rId4"/>
    <p:sldLayoutId id="2147484106" r:id="rId5"/>
    <p:sldLayoutId id="2147484107" r:id="rId6"/>
    <p:sldLayoutId id="2147484108" r:id="rId7"/>
    <p:sldLayoutId id="2147484109" r:id="rId8"/>
    <p:sldLayoutId id="2147484110" r:id="rId9"/>
    <p:sldLayoutId id="2147484111" r:id="rId10"/>
    <p:sldLayoutId id="2147484112" r:id="rId11"/>
    <p:sldLayoutId id="2147484113" r:id="rId12"/>
    <p:sldLayoutId id="2147484114" r:id="rId13"/>
    <p:sldLayoutId id="2147484115" r:id="rId14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5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6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8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9" name="PlaceHolder 3"/>
          <p:cNvSpPr>
            <a:spLocks noGrp="1"/>
          </p:cNvSpPr>
          <p:nvPr>
            <p:ph type="dt" idx="109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E3D34-A773-4B57-8E03-6AC0C2CD6740}" type="datetime">
              <a:rPr b="0" lang="ru-RU" sz="1200" spc="-1" strike="noStrike">
                <a:solidFill>
                  <a:srgbClr val="000000"/>
                </a:solidFill>
                <a:latin typeface="Verdana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4"/>
          <p:cNvSpPr>
            <a:spLocks noGrp="1"/>
          </p:cNvSpPr>
          <p:nvPr>
            <p:ph type="ftr" idx="11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PlaceHolder 5"/>
          <p:cNvSpPr>
            <a:spLocks noGrp="1"/>
          </p:cNvSpPr>
          <p:nvPr>
            <p:ph type="sldNum" idx="111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E1D8C-33E3-40C9-8E32-0A76842647E8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3"/>
    <p:sldLayoutId id="2147484118" r:id="rId4"/>
    <p:sldLayoutId id="2147484119" r:id="rId5"/>
    <p:sldLayoutId id="2147484120" r:id="rId6"/>
    <p:sldLayoutId id="2147484121" r:id="rId7"/>
    <p:sldLayoutId id="2147484122" r:id="rId8"/>
    <p:sldLayoutId id="2147484123" r:id="rId9"/>
    <p:sldLayoutId id="2147484124" r:id="rId10"/>
    <p:sldLayoutId id="2147484125" r:id="rId11"/>
    <p:sldLayoutId id="2147484126" r:id="rId12"/>
    <p:sldLayoutId id="2147484127" r:id="rId13"/>
    <p:sldLayoutId id="2147484128" r:id="rId14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8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9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2" name="PlaceHolder 3"/>
          <p:cNvSpPr>
            <a:spLocks noGrp="1"/>
          </p:cNvSpPr>
          <p:nvPr>
            <p:ph type="dt" idx="112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42477-0F58-41C8-BC2F-22D385B83962}" type="datetime">
              <a:rPr b="0" lang="ru-RU" sz="1200" spc="-1" strike="noStrike">
                <a:solidFill>
                  <a:srgbClr val="000000"/>
                </a:solidFill>
                <a:latin typeface="Verdana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PlaceHolder 4"/>
          <p:cNvSpPr>
            <a:spLocks noGrp="1"/>
          </p:cNvSpPr>
          <p:nvPr>
            <p:ph type="ftr" idx="11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PlaceHolder 5"/>
          <p:cNvSpPr>
            <a:spLocks noGrp="1"/>
          </p:cNvSpPr>
          <p:nvPr>
            <p:ph type="sldNum" idx="114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1D831-15B4-44BE-909B-5E3228A50643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3"/>
    <p:sldLayoutId id="2147484131" r:id="rId4"/>
    <p:sldLayoutId id="2147484132" r:id="rId5"/>
    <p:sldLayoutId id="2147484133" r:id="rId6"/>
    <p:sldLayoutId id="2147484134" r:id="rId7"/>
    <p:sldLayoutId id="2147484135" r:id="rId8"/>
    <p:sldLayoutId id="2147484136" r:id="rId9"/>
    <p:sldLayoutId id="2147484137" r:id="rId10"/>
    <p:sldLayoutId id="2147484138" r:id="rId11"/>
    <p:sldLayoutId id="2147484139" r:id="rId12"/>
    <p:sldLayoutId id="2147484140" r:id="rId13"/>
    <p:sldLayoutId id="2147484141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dt" idx="10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90220-84B8-4A0F-B625-B635AE3F5131}" type="datetime">
              <a:rPr b="0" lang="ru-RU" sz="1200" spc="-1" strike="noStrike">
                <a:solidFill>
                  <a:srgbClr val="000000"/>
                </a:solidFill>
                <a:latin typeface="Verdana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CDF1C-7E73-45E5-BA76-A4F86EAEFA5C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202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3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4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5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6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7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8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9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0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1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2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3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4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5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6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7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8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9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0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1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2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3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4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5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6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7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8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9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0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1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2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3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4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5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 type="dt" idx="13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91455-3F70-445D-A02C-7E2076B931D9}" type="datetime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 type="ftr" idx="14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 type="sldNum" idx="15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4304A-D845-4825-8E82-444EA64F4A8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8A7A6-54FB-4B3A-B0B9-664336774725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8173A-7747-4BE1-9FD1-EEDDED3BCC1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160BB-F151-4C3B-817E-3503480909CD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40827-B3CD-488C-9BD0-F55B0B5FFA8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3BCC8-66A6-47C3-B890-946E67ADC420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D933A-6173-4707-8C8A-2128AF7349B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4430F-5C17-4DAC-85C7-3426C700E1F7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8B833-ABDA-4155-B1D1-66E75E548E0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37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9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8" name="PlaceHolder 1"/>
          <p:cNvSpPr>
            <a:spLocks noGrp="1"/>
          </p:cNvSpPr>
          <p:nvPr>
            <p:ph type="title"/>
          </p:nvPr>
        </p:nvSpPr>
        <p:spPr>
          <a:xfrm>
            <a:off x="2340000" y="115920"/>
            <a:ext cx="5616720" cy="418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mbria Math"/>
              </a:rPr>
              <a:t>Кафедра «Теория и история государства и права»</a:t>
            </a:r>
            <a:br>
              <a:rPr sz="2800"/>
            </a:br>
            <a:br>
              <a:rPr sz="2800"/>
            </a:br>
            <a:r>
              <a:rPr b="1" lang="ru-RU" sz="3200" spc="-1" strike="noStrike">
                <a:solidFill>
                  <a:srgbClr val="984807"/>
                </a:solidFill>
                <a:latin typeface="Cambria Math"/>
              </a:rPr>
              <a:t>Дисциплина по выбору: </a:t>
            </a:r>
            <a:br>
              <a:rPr sz="3200"/>
            </a:br>
            <a:r>
              <a:rPr b="1" lang="ru-RU" sz="4400" spc="-1" strike="noStrike">
                <a:solidFill>
                  <a:srgbClr val="ff0000"/>
                </a:solidFill>
                <a:latin typeface="Cambria Math"/>
              </a:rPr>
              <a:t>ОСНОВЫ ПРАВ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9" name="PlaceHolder 2"/>
          <p:cNvSpPr>
            <a:spLocks noGrp="1"/>
          </p:cNvSpPr>
          <p:nvPr>
            <p:ph type="subTitle"/>
          </p:nvPr>
        </p:nvSpPr>
        <p:spPr>
          <a:xfrm>
            <a:off x="2195280" y="4508280"/>
            <a:ext cx="5864040" cy="177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Подготовил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к.и.н., доцент Терениченко А.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60" name="Рисунок 6" descr="finans_akademy.gif"/>
          <p:cNvPicPr/>
          <p:nvPr/>
        </p:nvPicPr>
        <p:blipFill>
          <a:blip r:embed="rId2">
            <a:lum bright="-10000"/>
          </a:blip>
          <a:stretch/>
        </p:blipFill>
        <p:spPr>
          <a:xfrm>
            <a:off x="7956720" y="115920"/>
            <a:ext cx="1000080" cy="1133280"/>
          </a:xfrm>
          <a:prstGeom prst="rect">
            <a:avLst/>
          </a:prstGeom>
          <a:ln w="0">
            <a:noFill/>
          </a:ln>
        </p:spPr>
      </p:pic>
      <p:pic>
        <p:nvPicPr>
          <p:cNvPr id="1661" name="Рисунок 9" descr="femida.JPG"/>
          <p:cNvPicPr/>
          <p:nvPr/>
        </p:nvPicPr>
        <p:blipFill>
          <a:blip r:embed="rId3"/>
          <a:stretch/>
        </p:blipFill>
        <p:spPr>
          <a:xfrm>
            <a:off x="249120" y="0"/>
            <a:ext cx="2017800" cy="4297320"/>
          </a:xfrm>
          <a:prstGeom prst="rect">
            <a:avLst/>
          </a:prstGeom>
          <a:ln w="0">
            <a:noFill/>
          </a:ln>
        </p:spPr>
      </p:pic>
      <p:sp>
        <p:nvSpPr>
          <p:cNvPr id="1662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7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dbbd71"/>
                </a:solidFill>
                <a:uFillTx/>
                <a:latin typeface="Times New Roman"/>
                <a:ea typeface="Times New Roman"/>
              </a:rPr>
              <a:t>Административное правонарушение </a:t>
            </a:r>
            <a:br>
              <a:rPr sz="2800"/>
            </a:br>
            <a:r>
              <a:rPr b="1" lang="ru-RU" sz="2800" spc="-1" strike="noStrike" u="sng">
                <a:solidFill>
                  <a:srgbClr val="dbbd71"/>
                </a:solidFill>
                <a:uFillTx/>
                <a:latin typeface="Times New Roman"/>
                <a:ea typeface="Times New Roman"/>
              </a:rPr>
              <a:t>и административная ответственность</a:t>
            </a:r>
            <a:endParaRPr b="0" lang="en-US" sz="2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88" name=""/>
          <p:cNvSpPr txBox="1"/>
          <p:nvPr/>
        </p:nvSpPr>
        <p:spPr>
          <a:xfrm>
            <a:off x="457200" y="928440"/>
            <a:ext cx="822960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Административное правонарушение: понятие и признаки. Основания административной ответственности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Порядок наложения административных взысканий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Органы, уполномоченные рассматривать дела об административных правонарушениях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9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0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dbbd71"/>
                </a:solidFill>
                <a:uFillTx/>
                <a:latin typeface="Times New Roman"/>
                <a:ea typeface="Times New Roman"/>
              </a:rPr>
              <a:t>Преступления</a:t>
            </a:r>
            <a:br>
              <a:rPr sz="2800"/>
            </a:br>
            <a:r>
              <a:rPr b="1" lang="ru-RU" sz="2800" spc="-1" strike="noStrike" u="sng">
                <a:solidFill>
                  <a:srgbClr val="dbbd71"/>
                </a:solidFill>
                <a:uFillTx/>
                <a:latin typeface="Times New Roman"/>
                <a:ea typeface="Times New Roman"/>
              </a:rPr>
              <a:t>и уголовная ответственность</a:t>
            </a:r>
            <a:endParaRPr b="0" lang="en-US" sz="2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91" name=""/>
          <p:cNvSpPr txBox="1"/>
          <p:nvPr/>
        </p:nvSpPr>
        <p:spPr>
          <a:xfrm>
            <a:off x="457200" y="928440"/>
            <a:ext cx="822960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головное право: задачи, система и принципы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головный закон. Понятие, признаки и виды преступлени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Особенности уголовной ответственности. Состав преступления: понятие. значение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Наказание и его цели. Система и виды наказаний. Назначение наказани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2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3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6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dbbd71"/>
                </a:solidFill>
                <a:uFillTx/>
                <a:latin typeface="Times New Roman"/>
                <a:ea typeface="Times New Roman"/>
              </a:rPr>
              <a:t>Правовые основы государственного </a:t>
            </a:r>
            <a:br>
              <a:rPr sz="3200"/>
            </a:br>
            <a:r>
              <a:rPr b="1" lang="ru-RU" sz="3200" spc="-1" strike="noStrike" u="sng">
                <a:solidFill>
                  <a:srgbClr val="dbbd71"/>
                </a:solidFill>
                <a:uFillTx/>
                <a:latin typeface="Times New Roman"/>
                <a:ea typeface="Times New Roman"/>
              </a:rPr>
              <a:t>и муниципального управления:</a:t>
            </a: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94" name=""/>
          <p:cNvSpPr txBox="1"/>
          <p:nvPr/>
        </p:nvSpPr>
        <p:spPr>
          <a:xfrm>
            <a:off x="457200" y="928440"/>
            <a:ext cx="822960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конодательство Российской Федерации о регулировании государственного и муниципального управления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Государственная служба Российской Федерации: система, основные принципы функционирования. Государственная гражданская и правоохранительная служба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Правовые основы деятельности муниципалитетов и их место в системе органов власти. Виды и структура органов местного самоуправлени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Виды контроля за деятельностью местных органов власт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5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КОНТАКТЫ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федра «Теория и история государства и права»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дрес: 4 Вешняковский проезд, д. 4, каб. 410, 412 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лефон: 8(495)371-64-0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 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igp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@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fa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ru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9" name="Рисунок 6" descr="finans_akademy.gif"/>
          <p:cNvPicPr/>
          <p:nvPr/>
        </p:nvPicPr>
        <p:blipFill>
          <a:blip r:embed="rId2">
            <a:lum bright="-10000"/>
          </a:blip>
          <a:stretch/>
        </p:blipFill>
        <p:spPr>
          <a:xfrm>
            <a:off x="7956720" y="115920"/>
            <a:ext cx="1000080" cy="1133280"/>
          </a:xfrm>
          <a:prstGeom prst="rect">
            <a:avLst/>
          </a:prstGeom>
          <a:ln w="0">
            <a:noFill/>
          </a:ln>
        </p:spPr>
      </p:pic>
      <p:pic>
        <p:nvPicPr>
          <p:cNvPr id="1700" name="Рисунок 9" descr="femida.JPG"/>
          <p:cNvPicPr/>
          <p:nvPr/>
        </p:nvPicPr>
        <p:blipFill>
          <a:blip r:embed="rId3"/>
          <a:stretch/>
        </p:blipFill>
        <p:spPr>
          <a:xfrm>
            <a:off x="249120" y="0"/>
            <a:ext cx="2017800" cy="4297320"/>
          </a:xfrm>
          <a:prstGeom prst="rect">
            <a:avLst/>
          </a:prstGeom>
          <a:ln w="0">
            <a:noFill/>
          </a:ln>
        </p:spPr>
      </p:pic>
      <p:sp>
        <p:nvSpPr>
          <p:cNvPr id="1701" name="Text Box 2"/>
          <p:cNvSpPr/>
          <p:nvPr/>
        </p:nvSpPr>
        <p:spPr>
          <a:xfrm>
            <a:off x="900000" y="1844640"/>
            <a:ext cx="734400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504d"/>
                </a:solidFill>
                <a:latin typeface="Verdana"/>
              </a:rPr>
              <a:t>СПАСИБО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504d"/>
                </a:solidFill>
                <a:latin typeface="Verdana"/>
              </a:rPr>
              <a:t>ЗА ВНИМАНИЕ!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2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dbbd71"/>
                </a:solidFill>
                <a:uFillTx/>
                <a:latin typeface="Times New Roman"/>
                <a:ea typeface="Times New Roman"/>
              </a:rPr>
              <a:t>Дисциплина «ОСНОВЫ ПРАВА»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64" name="PlaceHolder 2"/>
          <p:cNvSpPr>
            <a:spLocks noGrp="1"/>
          </p:cNvSpPr>
          <p:nvPr>
            <p:ph/>
          </p:nvPr>
        </p:nvSpPr>
        <p:spPr>
          <a:xfrm>
            <a:off x="457200" y="1071360"/>
            <a:ext cx="8229600" cy="55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-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ормирует у студентов теоретические знания об основных категориях государства и права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формирует представления об основных отраслях права, об основах правового регулирования в сфере государственного и муниципального управления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расширяет профессиональный и общекультурный кругозор, способствует серьёзному самостоятельному мышлению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5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2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dbbd71"/>
                </a:solidFill>
                <a:uFillTx/>
                <a:latin typeface="Times New Roman"/>
                <a:ea typeface="Times New Roman"/>
              </a:rPr>
              <a:t>Содержание дисциплины </a:t>
            </a:r>
            <a:br>
              <a:rPr sz="2800"/>
            </a:br>
            <a:r>
              <a:rPr b="1" lang="ru-RU" sz="2800" spc="-1" strike="noStrike" u="sng">
                <a:solidFill>
                  <a:srgbClr val="dbbd71"/>
                </a:solidFill>
                <a:uFillTx/>
                <a:latin typeface="Times New Roman"/>
                <a:ea typeface="Times New Roman"/>
              </a:rPr>
              <a:t>«Основы права»</a:t>
            </a:r>
            <a:endParaRPr b="0" lang="en-US" sz="2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67" name="Содержимое 5"/>
          <p:cNvSpPr/>
          <p:nvPr/>
        </p:nvSpPr>
        <p:spPr>
          <a:xfrm>
            <a:off x="457200" y="928800"/>
            <a:ext cx="8229600" cy="57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Основные понятия государств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Основные правовые категори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Основы конституционного строя Российской Федераци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Правовое регулирование гражданских правоотношени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Правовое регулирование семейных отношени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Правовое регулирование трудовых отношени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Административное правонарушение и административная ответственность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Преступления и уголовная ответственность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Правовые основы государственного и муниципального управлен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8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9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dbbd71"/>
                </a:solidFill>
                <a:uFillTx/>
                <a:latin typeface="Times New Roman"/>
                <a:ea typeface="Times New Roman"/>
              </a:rPr>
              <a:t>Основные понятия государства</a:t>
            </a:r>
            <a:endParaRPr b="0" lang="en-US" sz="2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70" name=""/>
          <p:cNvSpPr txBox="1"/>
          <p:nvPr/>
        </p:nvSpPr>
        <p:spPr>
          <a:xfrm>
            <a:off x="457200" y="1214280"/>
            <a:ext cx="8229600" cy="542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нятие государства. Признаки государств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оль государства в жизни общества. Функции государства (внешние и внутренние), их соотношение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еории происхождения государства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ормы государства. Политический режим и его вид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1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2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79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dbbd71"/>
                </a:solidFill>
                <a:uFillTx/>
                <a:latin typeface="Times New Roman"/>
                <a:ea typeface="Times New Roman"/>
              </a:rPr>
              <a:t>Основные правовые категории</a:t>
            </a:r>
            <a:endParaRPr b="0" lang="en-US" sz="2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73" name=""/>
          <p:cNvSpPr txBox="1"/>
          <p:nvPr/>
        </p:nvSpPr>
        <p:spPr>
          <a:xfrm>
            <a:off x="457200" y="1285920"/>
            <a:ext cx="822960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аво и его роль в жизни обществ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Понятие права. Теория происхождения права. Взаимосвязь права и государств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Право в системе социальных норм. Понятие и виды социальных норм, регулирующих поведение людей в обществ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Правовые отношения: понятие, признаки, структура и состав. Классификация правоотношени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4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5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6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dbbd71"/>
                </a:solidFill>
                <a:uFillTx/>
                <a:latin typeface="Times New Roman"/>
                <a:ea typeface="Times New Roman"/>
              </a:rPr>
              <a:t>Основы конституционного строя Российской Федерации</a:t>
            </a: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76" name=""/>
          <p:cNvSpPr txBox="1"/>
          <p:nvPr/>
        </p:nvSpPr>
        <p:spPr>
          <a:xfrm>
            <a:off x="457200" y="928440"/>
            <a:ext cx="822960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нятие и система принципов конституционного строя. Суверенитет Российской Федерации, и его гарантии. Россия в содружестве Независимых Государст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Конституция: понятие, сущность, функции. Развитие конституционного законодательства в России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Народовластие и формы его осуществления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Политическая система общества: понятие и структура. Место и роль государства в политической системе Росси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7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8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dbbd71"/>
                </a:solidFill>
                <a:uFillTx/>
                <a:latin typeface="Times New Roman"/>
                <a:ea typeface="Times New Roman"/>
              </a:rPr>
              <a:t>Правовое регулирование </a:t>
            </a:r>
            <a:br>
              <a:rPr sz="2800"/>
            </a:br>
            <a:r>
              <a:rPr b="1" lang="ru-RU" sz="2800" spc="-1" strike="noStrike" u="sng">
                <a:solidFill>
                  <a:srgbClr val="dbbd71"/>
                </a:solidFill>
                <a:uFillTx/>
                <a:latin typeface="Times New Roman"/>
                <a:ea typeface="Times New Roman"/>
              </a:rPr>
              <a:t>гражданских правоотношений</a:t>
            </a:r>
            <a:endParaRPr b="0" lang="en-US" sz="2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79" name=""/>
          <p:cNvSpPr txBox="1"/>
          <p:nvPr/>
        </p:nvSpPr>
        <p:spPr>
          <a:xfrm>
            <a:off x="457200" y="928440"/>
            <a:ext cx="822960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Гражданские правоотношения и основания их возникновения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Физические и юридические лица как субъекты гражданских правоотношений; публично-правовые образования как субъекты гражданского права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Объекты гражданских правоотношени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аво собственности и иные вещные права и их защита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нятие и виды сделок. Гражданско-правовой договор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0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1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dbbd71"/>
                </a:solidFill>
                <a:uFillTx/>
                <a:latin typeface="Times New Roman"/>
                <a:ea typeface="Times New Roman"/>
              </a:rPr>
              <a:t>Правовое регулирование </a:t>
            </a:r>
            <a:br>
              <a:rPr sz="2800"/>
            </a:br>
            <a:r>
              <a:rPr b="1" lang="ru-RU" sz="2800" spc="-1" strike="noStrike" u="sng">
                <a:solidFill>
                  <a:srgbClr val="dbbd71"/>
                </a:solidFill>
                <a:uFillTx/>
                <a:latin typeface="Times New Roman"/>
                <a:ea typeface="Times New Roman"/>
              </a:rPr>
              <a:t>семейных правоотношений</a:t>
            </a:r>
            <a:endParaRPr b="0" lang="en-US" sz="2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82" name=""/>
          <p:cNvSpPr txBox="1"/>
          <p:nvPr/>
        </p:nvSpPr>
        <p:spPr>
          <a:xfrm>
            <a:off x="457200" y="928440"/>
            <a:ext cx="822960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Основные институты семейного права. Брак: понятие, условия и порядок заключения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Личные неимущественные и имущественные права супругов. Брачный договор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Алиментные обязательства родителей и дете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3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dbbd71"/>
                </a:solidFill>
                <a:uFillTx/>
                <a:latin typeface="Times New Roman"/>
                <a:ea typeface="Times New Roman"/>
              </a:rPr>
              <a:t>Правовое регулирование </a:t>
            </a:r>
            <a:br>
              <a:rPr sz="2800"/>
            </a:br>
            <a:r>
              <a:rPr b="1" lang="ru-RU" sz="2800" spc="-1" strike="noStrike" u="sng">
                <a:solidFill>
                  <a:srgbClr val="dbbd71"/>
                </a:solidFill>
                <a:uFillTx/>
                <a:latin typeface="Times New Roman"/>
                <a:ea typeface="Times New Roman"/>
              </a:rPr>
              <a:t>трудовых отношений</a:t>
            </a:r>
            <a:endParaRPr b="0" lang="en-US" sz="2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457200" y="928440"/>
            <a:ext cx="822960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Трудовые отношения и их стороны. Основания возникновения трудовых отношений. Рабочее время и время отдыха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Трудовой договор: понятие ,признаки, стороны, порядок заключения. Изменение и прекращение трудового договора. Ответственность сторон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Дисциплина труда и ответственность за её нарушени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дивидуальные и коллективные трудовые спор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6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20:32:54Z</dcterms:created>
  <dc:creator>ТЗ</dc:creator>
  <dc:description/>
  <dc:language>en-US</dc:language>
  <cp:lastModifiedBy>LEGION</cp:lastModifiedBy>
  <dcterms:modified xsi:type="dcterms:W3CDTF">2015-01-28T08:27:46Z</dcterms:modified>
  <cp:revision>317</cp:revision>
  <dc:subject/>
  <dc:title>Кафедра «Теория и история государства и права» Дисциплина по выбору: ОСНОВЫ ПРАВ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ublishingExpirationDate">
    <vt:lpwstr/>
  </property>
  <property fmtid="{D5CDD505-2E9C-101B-9397-08002B2CF9AE}" pid="3" name="PublishingStartDate">
    <vt:lpwstr/>
  </property>
</Properties>
</file>