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notesMasterIdLst>
    <p:notesMasterId r:id="rId40"/>
  </p:notesMasterIdLst>
  <p:sldIdLst>
    <p:sldId id="256" r:id="rId41"/>
    <p:sldId id="257" r:id="rId42"/>
    <p:sldId id="258" r:id="rId43"/>
    <p:sldId id="259" r:id="rId44"/>
    <p:sldId id="260" r:id="rId45"/>
    <p:sldId id="261" r:id="rId46"/>
    <p:sldId id="262" r:id="rId47"/>
    <p:sldId id="263" r:id="rId48"/>
    <p:sldId id="264" r:id="rId49"/>
    <p:sldId id="265" r:id="rId50"/>
    <p:sldId id="266" r:id="rId51"/>
    <p:sldId id="267" r:id="rId52"/>
    <p:sldId id="268" r:id="rId53"/>
    <p:sldId id="269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notesMaster" Target="notesMasters/notesMaster1.xml"/><Relationship Id="rId41" Type="http://schemas.openxmlformats.org/officeDocument/2006/relationships/slide" Target="slides/slide1.xml"/><Relationship Id="rId42" Type="http://schemas.openxmlformats.org/officeDocument/2006/relationships/slide" Target="slides/slide2.xml"/><Relationship Id="rId43" Type="http://schemas.openxmlformats.org/officeDocument/2006/relationships/slide" Target="slides/slide3.xml"/><Relationship Id="rId44" Type="http://schemas.openxmlformats.org/officeDocument/2006/relationships/slide" Target="slides/slide4.xml"/><Relationship Id="rId45" Type="http://schemas.openxmlformats.org/officeDocument/2006/relationships/slide" Target="slides/slide5.xml"/><Relationship Id="rId46" Type="http://schemas.openxmlformats.org/officeDocument/2006/relationships/slide" Target="slides/slide6.xml"/><Relationship Id="rId47" Type="http://schemas.openxmlformats.org/officeDocument/2006/relationships/slide" Target="slides/slide7.xml"/><Relationship Id="rId48" Type="http://schemas.openxmlformats.org/officeDocument/2006/relationships/slide" Target="slides/slide8.xml"/><Relationship Id="rId49" Type="http://schemas.openxmlformats.org/officeDocument/2006/relationships/slide" Target="slides/slide9.xml"/><Relationship Id="rId50" Type="http://schemas.openxmlformats.org/officeDocument/2006/relationships/slide" Target="slides/slide10.xml"/><Relationship Id="rId51" Type="http://schemas.openxmlformats.org/officeDocument/2006/relationships/slide" Target="slides/slide11.xml"/><Relationship Id="rId52" Type="http://schemas.openxmlformats.org/officeDocument/2006/relationships/slide" Target="slides/slide12.xml"/><Relationship Id="rId53" Type="http://schemas.openxmlformats.org/officeDocument/2006/relationships/slide" Target="slides/slide13.xml"/><Relationship Id="rId54" Type="http://schemas.openxmlformats.org/officeDocument/2006/relationships/slide" Target="slides/slide14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dt" idx="1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 type="ftr" idx="1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PlaceHolder 6"/>
          <p:cNvSpPr>
            <a:spLocks noGrp="1"/>
          </p:cNvSpPr>
          <p:nvPr>
            <p:ph type="sldNum" idx="1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D0B7-4543-40C2-9826-D31A2EEA5F5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 Math"/>
              </a:rPr>
              <a:t>Кафедра «Теория и история государства и права»</a:t>
            </a:r>
            <a:br>
              <a:rPr sz="1200"/>
            </a:br>
            <a:br>
              <a:rPr sz="1200"/>
            </a:br>
            <a:r>
              <a:rPr b="1" lang="ru-RU" sz="1400" spc="-1" strike="noStrike">
                <a:solidFill>
                  <a:srgbClr val="984807"/>
                </a:solidFill>
                <a:latin typeface="Cambria Math"/>
              </a:rPr>
              <a:t>Дисциплина по выбору: </a:t>
            </a:r>
            <a:br>
              <a:rPr sz="1400"/>
            </a:br>
            <a:r>
              <a:rPr b="1" lang="ru-RU" sz="1200" spc="-1" strike="noStrike">
                <a:solidFill>
                  <a:srgbClr val="ff0000"/>
                </a:solidFill>
                <a:latin typeface="Cambria Math"/>
              </a:rPr>
              <a:t>ОСНОВЫ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одготовил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к.и.н., доцент Терениченко А.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B474-D069-4BDA-BE18-43CCDC810AF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дминистративное правонарушение </a:t>
            </a:r>
            <a:br>
              <a:rPr sz="1100"/>
            </a:b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административная ответственност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дминистративное правонарушение: понятие и признаки. Основания административной ответ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рядок наложения административных взыск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ы, уполномоченные рассматривать дела об административных правонаруш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1B3F-EBB0-49CD-A29F-D8806DD460D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ступления</a:t>
            </a:r>
            <a:br>
              <a:rPr sz="1100"/>
            </a:b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уголовная ответственност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овное право: задачи, система и принцип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овный закон. Понятие, признаки и виды преступ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обенности уголовной ответственности. Состав преступления: понятие. знач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казание и его цели. Система и виды наказаний. Назначение на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9C33-B82B-4C1B-9818-08D681FA2F4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овые основы государственного </a:t>
            </a:r>
            <a:br>
              <a:rPr sz="1400"/>
            </a:b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муниципального управле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дательство Российской Федерации о регулировании государственного и муниципального 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осударственная служба Российской Федерации: система, основные принципы функционирования. Государственная гражданская и правоохранительная служб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ые основы деятельности муниципалитетов и их место в системе органов власти. Виды и структура органов местного само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ды контроля за деятельностью местных органов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7890-DAC5-41B8-8296-F365EC5D18B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«Теория и история государства и пра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рес: 4 Вешняковский проезд, д. 4, каб. 410, 412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ефон: 8(495)371-64-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 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igp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@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a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8B61-0E9F-4C22-9865-245DA2D9638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сциплина «ОСНОВЫ ПРАВА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ет у студентов теоретические знания об основных категориях государства и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ует представления об основных отраслях права, об основах правового регулирования в сфере государственного и муниципального 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ширяет профессиональный и общекультурный кругозор, способствует серьёзному самостоятельному мыш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04D8-2598-4CCC-BA37-207273B0F8F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держание дисциплины </a:t>
            </a:r>
            <a:br>
              <a:rPr sz="1200"/>
            </a:b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Основы пра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ые понятия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ые правовые 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ы конституционного строя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ое регулирование гражданских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ое регулирование семей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ое регулирование трудов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дминистративное правонарушение и администра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ступления и уголо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ые основы государственного и муниципальн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7EAB-D193-4EAB-A6B2-8355CD72E4E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понятия государств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государства. Признаки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 государства в жизни общества. Функции государства (внешние и внутренние), их соотнош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и происхождения государ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государства. Политический режим и его ви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869B-F75E-4C1C-A686-82089948469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правовые категори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и его роль в жизн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нятие права. Теория происхождения права. Взаимосвязь права и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 в системе социальных норм. Понятие и виды социальных норм, регулирующих поведение людей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ые отношения: понятие, признаки, структура и состав. Классификация право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44C0-3B41-4883-8E7D-99673ADDA11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ы конституционного строя Российской Федер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и система принципов конституционного строя. Суверенитет Российской Федерации, и его гарантии. Россия в содружестве Независимых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титуция: понятие, сущность, функции. Развитие конституционного законодательства в Ро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родовластие и формы его осущест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литическая система общества: понятие и структура. Место и роль государства в политической системе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59B4-AEF4-4159-AFC9-2701BF6A6BF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овое регулирование </a:t>
            </a:r>
            <a:br>
              <a:rPr sz="1100"/>
            </a:b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ажданских правоотношен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жданские правоотношения и основания их возникнов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изические и юридические лица как субъекты гражданских правоотношений; публично-правовые образования как субъекты гражданского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екты гражданских право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собственности и иные вещные права и их защи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и виды сделок. Гражданско-правовой догов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6A29-62DE-4A5A-894F-5928AA3BB3C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овое регулирование </a:t>
            </a:r>
            <a:br>
              <a:rPr sz="1100"/>
            </a:b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мейных правоотношен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ые институты семейного права. Брак: понятие, условия и порядок заклю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Личные неимущественные и имущественные права супругов. Брачный догово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лиментные обязательства родителей 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B446-3F2D-47DD-A344-F16B6076D04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овое регулирование </a:t>
            </a:r>
            <a:br>
              <a:rPr sz="1100"/>
            </a:b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удовых отношен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удовые отношения и их стороны. Основания возникновения трудовых отношений. Рабочее время и время отдых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рудовой договор: понятие ,признаки, стороны, порядок заключения. Изменение и прекращение трудового договора. Ответственность сторо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циплина труда и ответственность за её 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и коллективные трудовые сп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C134-CAE8-45F8-9E5D-F6D930138AA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ADBF-DF27-41C8-9789-7BDAF019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F392-9886-48AC-B085-7110D753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26C58-A1D1-47CB-A791-524FF18C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EA5D4-2D90-42AD-B90B-D2FB694B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574EE-721B-43F0-A045-0AB341CB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BF8E3-0163-49DB-AE5E-037A02B8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B0340-93EF-4846-9EB8-5D179867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40232-B49E-403A-8AF2-5E4E4BAC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1B45B-DBD6-4413-9763-A18B38CB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185CD-8276-42C2-B050-27EE137C1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5CCC7-557E-443F-979F-33149EEE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DA15F-0977-4495-8DCD-A2917D61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A4AA-9045-439C-BD26-261D46A8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7CB7C-7D88-4219-9D26-35F468FD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79D64-9654-4D95-822D-17F36009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E4423-35D2-4A7E-9929-4E406FCE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09A36D-F57D-49F3-9E6B-15EB32C2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1D2BA-0C8B-480C-A3E9-2F2291F9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14510-C427-4928-A394-8147F4AB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822CB9-6EA1-40D5-8D0A-5CF32E7C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374B8-26EC-48E5-9355-29CF4AEB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9CCCD-E6AB-44C8-9078-DB2CCA9D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10838-C98B-4C52-B92B-16108B53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B90F-5EE7-4BF1-9AB9-5FFD7808C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4FA85-F824-4159-B529-D4BD869D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C4E86-09E7-44A0-A431-C7EE07AB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15FD9-4BAA-40F1-B712-56CA6A24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79899-EA91-4E3C-9518-9AA19CAD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5643D-7DD8-4548-80DF-661FE6C1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29D93-0E19-4922-B0BA-9CCE4222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936A8-D7A9-436F-B5E9-D299C0A9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F66A2-738D-43F6-A105-F2D73C9B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1E2A4-A2BA-410D-9CC6-1270C8D9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EE8E7-9051-47DC-977B-0745F398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512F-AE26-469F-B0E3-17E316F34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4179D-8EF7-43B5-8999-49A1BDA9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C9FC5-E1E2-4D1C-BA02-5A6714AD1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88807-86F9-4D54-8F2B-5BE7002F2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EB71D9-B6BA-4E3F-ADA0-01F5C80D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54BD38-1FF5-4021-B0E9-29FB1A80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FF966-4768-4736-BEEA-CBCA00E6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29B5AC-BFAC-4C98-BC8A-82D433B1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08CDA2-0285-4CA5-9451-C761EA54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3300F6-E5A8-45FD-8BCF-080E1689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050F7-C70A-459F-92BE-A6AB1C2C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EB9F-E38B-4CDF-A60D-BE35B7F2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E7F58-FB17-4FB8-A63D-8045648A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D205C-BCA0-4468-8ADA-147125E6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B7685-FB8B-4D1B-A658-76773A22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BAE11-2BB3-453D-A3AD-FFDEC612E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478048-808A-4047-883F-564BD052A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400D32-5A48-46EF-8B01-1752DF3A4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E8797B-8760-46C0-B59D-19C06C6B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DF10AA-FF07-43D2-93F0-90A8D1FC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8FD9AE-DB00-4FD1-8EDC-22D50EFC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E5C39D-A8F8-40AB-8AB3-E0546EE2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4548-2CB3-4031-9056-1C8A2528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D072CA-57D1-4843-9756-66591391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6C5B0F-3A8E-47DF-9A48-3F317A56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BEB7EC-1B9D-446F-91F0-E6092BF2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C0D6B9-C073-4B92-A7D3-E53DD487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7FFA0B-01CD-4B58-A7A1-C7D4F4B3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CF0340-8AD9-478E-9168-738802719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332E00-33D0-42E5-94C6-82FB9318C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1904CC-A0B2-4232-9DD3-0F7C5B51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91CA09-BD52-4C19-A924-C5846A08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1A693B-F010-44DA-8E86-B9305BD0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EF88-D6D0-4F40-9374-4F159F15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03347E-CF6F-4783-AA5E-37647CD9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00D0E7-D710-4F75-9A5B-6E6AE349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5D3144-7161-4306-A290-F6C59660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C68981-D338-45BD-B945-AEF2E5E0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419220-CF8F-49C1-B03C-DFF61702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F6E620-829E-4896-B4BB-B598077C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6FAA50-695F-42B3-B011-1F940457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7B7745-F9FC-4C83-8942-C3D75429D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F024B5-6830-416E-86CC-777C57DB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24F925-6BF6-447A-887C-32B0A329C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5080-DE38-4EE1-B57C-0E5ECB36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D0C9B4-EAD4-479D-B32E-BA83F9D0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AD3993-E126-4CD4-AA1F-67E35D99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3BCE62-0A26-49B8-8F28-94330F56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880E8C-4150-41FE-B601-A8D752FB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8D0855-3B42-4891-A340-3AD5627E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C55401-6E81-4846-A167-CD521B33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88B0B6-1D12-4CA2-BF8D-C316CF84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CAC62D-6D22-4CE0-A194-282D98AD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079D8A-EEE9-4A87-BB5F-C4FC26D3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F96E1B-37BA-4E2F-A0B7-5B6A665B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DCFA-842C-4E71-89E2-0FD83F18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2FDFA5-9617-4B86-BB26-8ABEA126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A9A743-B8B1-4B5F-9FAA-4ADCB15C1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81280B-C30D-4D71-9959-91ACEC79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58605D-F99C-4BF5-ABCF-8D2ADE1C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92184B-151A-43A4-898C-6C11A45C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F56460-E7B3-491B-AADC-57A5E622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E8B166-542B-4231-A032-2622340C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2B43EA-DC56-45B5-8DCA-B0FD9074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AF04E1-7BD7-487E-875B-070CB575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ABDEF0-D79A-48D5-9F4F-AB995D9C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8E42-F697-4ECD-BFC6-3171F20A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07500A-28BB-426C-B2C4-19980554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505BC8-D7D1-417B-9076-88CB86DE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485BB5-8D6B-4CAD-A274-0FA99858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A8DCA8-029C-4B23-ABA7-2094260E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67B720-A2B8-411B-8074-C9343D01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7C2CD4-C853-47ED-A728-C6D3DC3B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B14B96-CA96-450E-AD21-F0727718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F3F453-2D85-4E08-AAAC-87773FB3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782071-03FC-405E-A75A-3B3BC047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30B28C-AF8E-4F00-8105-8558FF22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3C2F-63FC-43DD-839F-DA5D3C4F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5C4E-E4C8-45F1-8D33-F7C08750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FA02EB-C34B-47DE-98EE-191D72A9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54906B-65C6-4E4D-BF3C-9809F688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CDB6E9-A8FB-45B5-8756-D5B5BA29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BE8AC3-2CFF-43B1-ADC3-82B2738C8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D4F5A1-922C-414B-9170-F3539F14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6C2EA5-DCE8-458A-AB89-3A61D2205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F2D342-7E02-4623-8DEE-66711CDE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72EEC6-5F52-413D-A473-47BDECE0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944C76-4433-4234-8CDC-3B257211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856E60-EC08-45BE-9BE9-526DF8B5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6095-D191-48DA-8EBF-A9197710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B2F5DD-E4B6-4A92-B9E4-40A008D7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D5951F-4B18-4306-B24E-E0931CEF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5050B4-64B0-4F37-9C6E-6EFFE984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B68F44-86DA-4D04-A30B-1B2392BB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43CD2F-640F-48A3-8E2C-A0FFFA06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D0CF3B-C4F3-49A8-A7EE-9A1B5335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F0571B-2A6B-4987-AC16-CB59B553B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13B954-D9C4-42DC-AB08-7B4F704A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E93B00-0198-4A9A-854D-4EB053DF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B9AB41-9774-4066-B49A-23066F6A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F98C-5CE4-4AF7-95EF-7AFE8710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E1224D-15DF-4369-93DC-9A822E4B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E8BF08-3EEE-41BA-B30F-9966E7E4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ED9CD2-32F2-4135-836C-07955767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AE2B56-3456-4F56-BD3A-9DB615D5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8B6B87-6E19-4565-A608-E27D00A1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CC1CA4-C1F6-496B-BEBB-EEEDC11B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0845D0-C38B-4401-B18B-438822B4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1F2316-BEB6-4148-ABA1-66C088F52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BDAEB4-0699-4949-BEB9-CA2DF6B4B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CBAB1D-1EFE-4132-B1B2-E629821E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BF36-6A9E-4B8D-90FE-579949C00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37E16A-705B-4DA0-A01F-303E4EDC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E4E281-CF24-411E-820A-E061CCD9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A580EE-3C84-4A24-9FB0-64D56C7D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CF9B8A-53B7-49A8-BE65-A29D5768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E96630-334A-46FA-90A3-F2A94C7A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70F28B-A1DD-4F72-8187-A34B2A46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9EB15A-ECD1-446E-AFA2-47B07516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D8CCA8-8BF8-4CB6-933C-9A38972F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435DCA-448C-44F8-8C55-D3D0FE78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98CCA4-2365-4ECE-98BE-D6A74709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ADC3-64DC-4291-A720-6CBB2598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9744CC-EC68-4342-BE8B-B5F3B27A8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CEF1CA-6C7D-46CD-93A8-A98E131F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6542C9-573B-41C3-AC62-9A54461E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0387E0-9C4E-44A0-B9A8-3524F3E6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8308EC-B13A-48C1-9BD5-1EB1523C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5B392C-CAAC-4CE3-B799-FFE4E706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27BF2D-0BB0-4E1C-9ADC-10766859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B9BCED-B60E-4CF5-90A4-C478841F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8CD3DB-C7E2-4480-B390-3571C247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95DAF8-DA84-4654-A776-0044B316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E48A7-7BC9-4DB5-82C8-C10D0BAD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8CC513-C56B-4A32-83EC-A9794D8C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25AB68-CBF5-46F8-9E3F-D12800866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85CCB2-F4C2-4196-AD67-E8F2003D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032A21-BB20-4EFB-AC30-CF36B81AA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0F00D0-8512-4F9D-9F34-0A4CC9BD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F8258B-5C69-49F1-8FE5-7B3FDF18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53DF41-B6C1-4F47-A60B-1A04256B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7A3A7B-2875-46C3-ACD6-BA1C8655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8DAA65-680C-4304-ABCA-D7BA49FA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4F913F-F738-4AEA-974D-4EF51DEC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3E905-AF7C-4F2B-9189-73E7877C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7EA18E-36E5-48BF-A114-EC2BDBB2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87064E-91E3-4925-94B3-8DA1AE72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7077BE-C3BD-4CD1-96FF-69B8DD0F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068F86-56FC-459C-B6C2-05255936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247676-5FE2-4D4C-8A4E-D3E55FDCB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F166B2-A02D-42EB-990F-3B3F2517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D2C2E9-DFC5-4596-BAC2-B64C449B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931CEE-D8A4-4E5B-9B27-D62B7C0F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F492B8-9B2D-480E-90C7-47BB7859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5F9192-BE1C-4669-B6BA-5EA9D5C1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8D488-DA57-46AF-B4BD-2DB17F3E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98D307-2CEA-496E-A308-624242B3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4EB446-FBDB-4250-831C-C7EC56D1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588796-D04C-4C02-B3DB-312912C7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71A49F-09EA-4EA0-8CD6-33B54F89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10E50C-38A2-4167-AC01-F7976071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534730-3FF0-4056-9434-59997F7EC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5A12E3-50AC-4564-A449-7200A7706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B08CDB-E6FF-46A7-8BF8-564E20422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CC89D4-CF42-4760-9083-54E4E6B2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B0D603-FD61-40F7-9583-9AAAC6A7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481A0-1829-4FAB-B768-B404AC5E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6929D6-C286-432B-AD64-7A016C35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124AE7-A730-42BC-AFEF-97AA4F5A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CB2357-335D-4709-B43B-F706ADC3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B64BF6-B506-4EB0-AC52-AD5E4AFC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6B563E-E90B-415D-BC70-0013D140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D2E782-2BEB-487A-968F-4A1836C9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6D4C2C-F7E8-47A9-AF58-BF6900B6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974E59-E44B-498C-B9A2-2B04B7FEA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407A94-22AB-4569-87BB-8D09E9B69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77DE4D-E1D8-4705-8651-7CCC42EEA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DAC3C-5014-4607-BBB6-45415B7D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444EE3-0872-4BED-9683-3792DC79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83C712-EB2D-48C2-A3E1-FFC9E7A9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AB7C16-C7CA-438F-9329-A291D72E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FEE91F-FABF-4EE7-B292-8EB06810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8DF269-23A7-43D9-BAE5-69ACAFD8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F2498C-0861-4529-A8AA-E464658E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515A07-E200-4000-822F-059552F6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F1B5BC-103E-4C66-962E-C12DB09D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260C97-CB8C-49DC-8595-1C46A8B3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BD5188-AC5B-49B0-8CE2-0EEC6C4A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FC5F-033B-4C66-83F7-B02FA5B7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68E86-7996-4E71-A657-5E14028D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E76467-C96A-4AF3-8432-D4680C30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41B8EE-817D-4A4C-ABC3-BAC506DC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CC4271-E04C-4552-A50B-37D3D63E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C564CE-F0ED-4D81-8FA8-52A02049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5D14A25-74D6-4A30-9FF8-7DDBAB1D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29DD38-2C43-4D91-9C68-1D087CAF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A4C2F6-6293-40A6-9FE7-026D7D20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1E97C1-B9CA-417E-9BFE-B216E12F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D78CD3-E154-4DD6-AD36-65B8AA97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61A3AC-16CA-461F-8687-DCAEA185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55F2F-36D4-499F-B8CF-534127D8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47FEA0-CB29-4044-B346-2E0C849A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C60F7D-C991-41FD-A767-022C24AA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45D7716-7BF0-447D-95CC-28F5945A9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99F32A3-99C6-4C5A-AE6B-1D6DB4F29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E9480C2-87EB-4A27-AFBE-A944C2D0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F22D3C-8B3A-4C4C-AD6F-09BAA73C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999EE5-7278-4E72-B5E2-DB3FD227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6E1375-1604-427D-933F-A1CE8DB6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C147D7-354A-48BB-83FE-D584A7DA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A5FE9D7-4530-49C8-B17A-DF563314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20E1E-FABA-4B69-B036-1313CA82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5288FE9-9C56-4234-8968-7CC74B81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89248B-A77C-45E4-A312-E6E21726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0C1B60-500A-4B79-9D47-CB84C664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3666CB-3839-411C-9B43-C455E242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175CB8-3B71-4775-ABF4-B6173D4C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D83A44-8A35-4669-9E21-A47E8F71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9683E9-774F-410A-8FFF-B02EA867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9566CD3-DE53-4BA9-AFA6-488EDA7D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F335DD8-3F3F-4AD2-8578-05FF95F8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90C5A7-1733-471F-9DDE-95F8B3F2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31A42-CACD-43A4-AB6D-634654B3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CD6002E-574F-4A7A-93F3-621BC234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722C5B7-E1D4-4267-A1D5-9249F5B2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907630-B630-42DD-8863-7BE609D8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EB923E-74BB-41FC-822D-31134A03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8F75A6-8722-4AC3-92B0-07F8C5A1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6BD305-716B-43F3-963C-DF0098A8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ACEA9F-C437-4AEA-AAFB-86B1BF82B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ED1D847-7F2E-4AA0-91D5-10759E317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79E10CE-B8DB-4D08-93B0-E91412AD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533F737-C089-41B5-981B-10273D16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6B53E-B269-4F50-A1C3-F5FE13F4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1D1DE73-7A91-4294-B7C9-011857A6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0BC41F5-3E8C-4057-A64E-EE9D88A0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62EE248-5CD3-42FD-8611-AA4B4D76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F4343F6-E202-4F5C-A3AD-95879919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3F15BE2-8E14-4E4D-9CC4-D2DB2CEC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92D53A6-830D-4AAF-A56C-C442B3D6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29ECD36-7AD1-4011-9D51-19F0E05B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406A6E0-9CD0-432F-AA34-1984BEDF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59081AA-6B60-421D-89AB-216C3EA77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C61FCD1-7BCC-4C9F-BA9E-EC1099EC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887EF-7285-4193-98CA-0C5DC4EB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FA0F031-BC6D-4AA8-9C6B-CC4C41B7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A8E9D66-C471-4CBD-93E4-29C4C657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C6F98B5-1921-4352-A700-1BA59720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36A6217-0F8B-4460-8F6C-D18A1C79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0483BB6-96B0-4CE5-AB49-A026F1FF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274E7D-37A5-4F9A-9C7A-5CC7C41A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0E37631-D3F7-4B74-B3DC-5CFE3774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5730348-1BDC-4BF4-96D7-FB4E7D08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DF72D8-2ADF-4D80-BB78-5BD44578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D9FF739-4C03-4A62-AA9C-EC9EE349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65CAD-8714-46D1-B1F0-19B69DCD1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1436F3E-ED2A-47AA-8EC8-56A65E9F4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D874E93-9939-4527-8F1D-941B10E31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4726F38-FF5E-4DEE-B5F0-145FAC53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0E3040C-8E11-4BE4-A609-185C8B28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5342E7-C830-4E4B-A104-4F16B2D1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77DBA18-F42C-4A13-B1F8-3F15BA17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A941A0A-F3B7-4A50-8D98-327C1BB2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09FCFBD-9D64-41D3-93D8-783F60DC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949E435-379C-4025-8BD0-1D1C605B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5CAD87D-BB29-48BA-9FBE-78BF8C5C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497B2-858B-4106-830B-B65EFC628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CFEDFBA-5A9B-47D0-A7D3-5FDBD2F1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1ED3AEA-90D0-40A5-9C46-711EA88CC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81B880A-B24F-4EE8-AF7D-9E696E534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99AA0C5-D69F-4DE8-9522-AF0E2D100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62D9744-74D9-4CF2-99E3-4B01EC15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3618442-8DDE-4EF9-97D9-2B32D922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B92FA51-BEF8-4D84-A844-ABAB34BD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1DB7BB9-DA71-4A87-9EEF-0D183F5B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1E5AF2B-3A82-4858-8196-D1F24EDB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BDC8CE4-F365-411B-92C5-B15000D5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00E9B-27FA-4862-8D72-80E4924C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15B604D-64DE-40E6-B47A-C4AD5019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10837DD-FB7C-4C80-93DC-CF174367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5117C38-C2BD-4A46-9C14-091D9BCF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3C3817B-AD0F-4F7E-8348-FF731197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A3DE6EB-1AA9-4BF9-B033-4BEEC6FE0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93536C0-4F88-4F50-A368-26E748B10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963DF23-B168-43EF-9EF6-D05DAA86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A12F717-8BE9-4A8B-8C7C-CA6DBC45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632635F-DB54-4A4B-BE78-73C069EA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311265D-0630-4089-86E3-387FB325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BCEFF-7CAC-462F-AEC6-58C7353C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142A2CE-6AD9-4E7C-BEF4-2E462828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259B904-1BA4-4AF5-AED8-40C54637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F39BBFC-9013-46BE-A090-B0562FD0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C2890EC-E4D5-4CC8-BCA7-45E308B6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9A71F1E-0BCF-4267-B565-D16CFFB4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2D6BA59-CCEA-418E-85D7-69871D547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CB32471-75AB-4083-A07F-368F7EC02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4C0EE28-5273-4533-8F12-938393B9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54D1A95-08D8-48EC-B19F-FF687C18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8F1E238-23EF-4A3A-A861-9553BB3D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C856-BC77-490D-9E30-9B0EE82C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D3ECA-5FD5-45E3-86D3-7E9709C1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6CA055A-60EF-4545-897E-DEEC7723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CDFDAB8-478A-4A27-BEBC-474E512B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C53FC1A-031B-4541-B63B-C243DE6A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CDECAC7-0E5F-41A0-871C-CCD05C60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473E3C9-13C0-4646-A836-E81F2295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B36033E-D644-474C-84A8-B6766B59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4ED6C87-9E84-454F-9439-4C5399F8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3B9E6D9-FD5E-4F78-B56A-C2E421EF7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4B719D8-ADF2-490A-BFE3-008A43C9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773106E-E8C5-4017-81D8-7FBBB82C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D45D3-A96B-43F4-B020-3AE17859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2EAE9C4-14A2-48DB-9A2F-DBC98BF7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76B0559-505E-420A-B25C-801E4D8C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22223D8-951D-4BF9-92F7-1B07C9C7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FE086AA-7EDA-49F5-A429-B4D8224A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721C692-ABB0-41EE-BEA1-202F8283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91F66EC-BD77-4B4C-9DA1-39CA2C43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3035445-4391-452E-829F-623320D9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DE59A9D-8114-489A-B4F5-DE20706E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612839E-AE6A-4C9A-960D-8136BFFF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9843AB6-098B-42EF-800E-6E33ECFF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41E0C-B33F-498C-B954-08E9206F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96D3828-F19A-400B-8552-F69E958F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A3E7C95-57E3-4B56-AC8B-B5D0C202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51BBA37-31F1-4CCF-8E9B-B7F1A871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0457F6A-794E-4F8D-9B6F-1A962D73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D452559-318B-4561-A66C-9810A160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46B5C4E-D902-414B-9249-F38E34E0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0618817-D6C5-4C21-952C-BB09C651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8196571-4EDB-4866-BB61-662D1859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7296233-FAAA-4807-AD31-2FB621B4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2C781A3-E701-4344-995C-9702B3D9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1F462-A3C1-4284-BAC9-B58C745F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A5AA3E4-7612-4D27-986B-317C8039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EAB3589-11CD-47DA-911F-27A34C1A0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A66129E-4844-44D9-962C-F4B79B58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E611A2C-4117-4632-A080-D55050DF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C550FA1-735F-40EA-BE48-1BAE77EA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6518D12-76BC-4B81-AF8E-A9A71FF9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681F3A5-0736-4B60-8B8F-C49C6614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31DB2BC-ABA8-4606-BB40-A358B4B2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A0615CE-AC4F-4B0C-A937-1F8A383D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CB8CF03-DB45-4CCD-81F2-0DF47C15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BA87E-0745-40A5-B9A3-2A63DE08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72A4042-85B6-4BC9-BACE-4B79FABD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1BEB656-4508-402A-A5EE-89DFA434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6940F28-CA9D-48AD-BA4F-31B65197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9330302-D014-4415-A267-E285CE4B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078C840-5565-4A95-AAF6-BEEFE98CB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8DD60C4-2963-49B6-9E1D-033C232DD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565A31B-5A29-4C92-8C0B-B0225296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FC9A65E-A13C-4233-B6DC-56F9B511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DE589E3-AF67-4F2E-B250-406D0B15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CF252B9-F78F-4E5F-8853-21FB4F9B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FEF0E-4720-45DB-A7C8-72D46A2F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89B1A21-C1F9-4E2C-ADD3-DF747526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064700D-DFA3-48DE-A86D-1422C2B5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7B6D59E-1505-423E-A403-20DB42E9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CB5136C-1419-410D-8F8E-548965F6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3AD04ED-F047-4168-8FD9-5AEC9B79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AECA37D-1BF0-4748-8442-9AA153832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A6BA6E1-86AC-4BE4-BBC5-26857F96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38403-9C46-4DB5-80CF-876D9CDD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3383A-E637-44ED-91E5-5615C4BA1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46F1E-68BE-4A6B-AD27-E1FE6FB7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3F99B-34B7-4CFE-8C31-C9137727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300B-0B06-4DD3-B130-81AB0689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53971-255C-4AE5-85FA-52D6241C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AB8E0-F83D-4298-9EA7-DC425018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F4A13-21B0-4D76-A2B5-184900BE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5449C-3DE0-4C71-B0BB-A317942D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ABAD7-2B42-41B3-8BD7-F6BA0088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8D989-4F1B-493A-A88A-53E7C46D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0A354-1BF2-4A58-81D1-BC89E50C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E3B66-AF89-4115-AF7D-549A41BD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67029-D715-480C-BBB0-85499AEA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D36C6-DB5F-4DD9-9CDB-E038C71E6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30D3-BED1-4041-91C0-ACC9D61C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0B6E9-B874-4060-BA0D-3DF4ABB55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51178-1BA9-4F10-946E-FD30248B0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328EA-1C89-4E65-A5A0-DE2F1357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3F676-EFF8-4ADA-A850-CD81BEEB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EE6AB-E949-4427-A371-BB3E5EDD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E751C-DFBD-4651-9F03-EBEDABE9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3FDE3-EB87-48C8-90D1-3D5F78CC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A0C30-6E10-4687-9BE6-4345F09F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37BB7-F612-42FB-B8D0-DD612EF6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356A2-3624-4F59-9706-630448DB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D18D-8E31-482F-B0B4-B926925D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C1721-ED97-4AED-BF9E-D280E9ED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5F1AC-3719-4FAC-A954-F8436704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B14A0-A355-4DB7-9543-3E7741A5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7E6E4-7275-4A56-A8D4-4F29298F0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322DF-F0AF-427F-B691-7E680821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C0EB8-CECE-4101-83FD-4EB7A9CD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C5726-9222-4E13-ACB6-8F149570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573CE-8FA1-462E-B1AE-C743D2E0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6D159-4A4F-4F9C-AC13-D8C562F1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AB29A-D9E2-4517-B654-4F92D593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7929-DB56-4B9E-A723-AB4BD593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30D6F-F126-4662-A64D-DFDEBB5E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10114-67E6-4780-827B-70D37E99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AB887-7544-40E9-BFDB-71061613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81A68-B904-4CDD-8A66-7C05C6E88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7C64D-3DC6-42F6-974C-BA956E2E8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7FB31-3EBF-4D5E-8CC7-49434B6AE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4DD6F-D5AF-4695-B556-CEEDA7D2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AAA75-E1C2-4A88-B7B1-CA08DF84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9FAA5-0011-44A2-94AA-9E0B0E14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6EFDE-FDEB-43BC-928C-69E2C55A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7027-104C-4D85-8253-F11AF596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1909B-2237-4839-AB66-BDAFA0A5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1A341-7E8C-420E-B749-BB929C0A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BCC10-17E2-4918-B031-58C8CA5E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A85F7-5D76-49FA-AD60-ACB1D3A4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C2483-B404-4AF2-BA11-FF3AF33F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30BAB-523C-497C-942C-402A67E38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137C4-9F23-4F8F-8DE3-1AA93558C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2849E-022F-43A4-AB6C-C0782E32C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697E0-CF27-4D74-BCDC-F01F8773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57D54-2448-4321-A92F-D9CFD6D2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F5E7-C4C2-4C94-8F1A-33C152983CEA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D5AB-3C59-4D9E-9347-ACE3000C27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7559-F749-4291-8C47-569B8753AF3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9D1F-A13F-4E89-8962-1711289DDD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77D2-C143-46BD-ACA5-62454E356E2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888B-3085-4035-B9C6-5F38E1D3F2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492B-A574-445D-AFE2-C030A2839E1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EB8D-5339-492A-BBAA-9ED00FF271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0E4D-8A78-4CC0-9D5D-361AE023958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C3CF-425A-4D57-8531-5FBFAB5CF0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DF93-F2C3-41E7-A7E0-2F5D0437D61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E6AE-D1F5-4AAB-B191-58180E9254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875A-A936-42E9-AC99-195AEE24D21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8C87-DB53-4EE4-A090-1A9EFC434E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22C9-5479-4FD8-9C08-9767B558A7C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8FFE-6DE4-407F-BA98-FBC3A8A284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D3B0-9E34-4C00-8951-54E3E36E2E1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BEB8-C79A-41AA-BC44-01F315A0A1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B3F5-535C-4951-B45C-D9CC877C734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ED84-C549-468C-8524-7D64845E9A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579C-AF53-42B8-B7BD-9C4D423A839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BE61-5214-43BC-95F8-7F9A0B5418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B588-6432-4FCA-9CF3-2EB428F25E5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3A8C-895A-4313-A5A1-8C00ECA376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D5D5-57F5-49D5-8EE4-A9A681B4149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41E0-ABF6-4CE2-BE26-9061FA6592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140B-AE29-458D-81FA-43884DD7205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5D94-B925-46E5-A6C6-FA83414D8D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8ED7-FA87-4347-9A77-EB47699CD40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F817-9DC0-47F4-9FEB-F494948BAE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E13F-D95D-4D98-B263-22E5694A355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370D-12CC-4601-B6E1-184EDDB93D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6460-53AE-4293-B679-082340EE1C7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C8B8-6A57-4D83-B19F-9A5F60DC34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0675-E4F6-4E58-8DD6-634E07CABDC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B50B-E208-4E24-827A-1494AF8A2D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67CB-12D6-454E-8252-3DB7FBA6DAE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91BB-F3A1-467C-A134-ADB472DE07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A941-517B-4B0B-B3C2-0CA328CAFBC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550A-EF53-489C-BADF-12F346CAD8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08B8-4AA0-4D04-9513-1A2CD68DA2E0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F783-3406-48E6-BA4D-3D3B10E5494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 type="dt" idx="8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7193-6D42-4761-AE33-FCFF255264AC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6C24-ED22-4EEE-BDD1-8EB09823CB3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19A8-B027-4BA9-98D0-15339A0A5D3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F980-883F-4CFD-8B86-197A7648E7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 type="dt" idx="8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C83C-A5A2-4F35-AB54-6FB6B1FCBEE8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1B78-F8B0-4F4D-BAAE-0D2181949B2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 type="dt" idx="9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E9EE-1179-4FD2-A0A9-FEC70D9F0355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 type="sldNum" idx="9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8656-B8E3-47A0-9934-1FB5702BF5F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 type="dt" idx="9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9009-E165-4435-933C-2CF202E7C564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FAE8-0A6C-4B91-8E27-F50DCDA0C74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 type="dt" idx="9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CC22-31E1-4CCD-8566-0BFBFA787029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 type="sldNum" idx="9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7A10-E1C9-4874-874B-32266C10B20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7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 type="dt" idx="10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639C-11B8-4483-9C74-0BA27150786C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 type="sldNum" idx="10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98E2-CC65-439F-8B28-24C8A9DBCD6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 type="dt" idx="10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8A40-EEB8-4251-BAAC-770951CAF6D2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 type="sldNum" idx="10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4E83-CD59-4948-8344-BAAFCD886E3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 type="dt" idx="10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92DD-1B82-4332-B088-8CD6CFE09D5A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5"/>
          <p:cNvSpPr>
            <a:spLocks noGrp="1"/>
          </p:cNvSpPr>
          <p:nvPr>
            <p:ph type="sldNum" idx="10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51C2-ABC2-4944-A27A-9AA5A886F30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 type="dt" idx="10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EAC7-625C-49FD-B65E-619CE9C81C38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 type="sldNum" idx="11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F7D5-D060-499E-B1D4-5F18B6415F0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9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 type="dt" idx="11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AB05-81E8-432E-86CE-939F12239C25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 type="ftr" idx="1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5"/>
          <p:cNvSpPr>
            <a:spLocks noGrp="1"/>
          </p:cNvSpPr>
          <p:nvPr>
            <p:ph type="sldNum" idx="11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EC55-4A5B-4D4D-AC01-E0B585A1F8B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B6B5-2C6F-4E5D-A06C-DB8CA01220B5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212A-0E62-40FF-8324-AF3AAB83BB8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0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E0BE-1384-49D4-8FA7-5AD6E6769C52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83E2-AFCA-4922-86FE-A7839DD312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9C1A-09EA-4452-B2FB-FC37D37EDA6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F97E-0270-4D3E-ABAE-475EE28C4A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8B5A-9FB2-44DC-A9AA-B5E6954AA8D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5335-48A0-428B-A40C-2433E9DF78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6C3E-D915-48B2-B90F-6479A2382F7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4292-04DB-428F-94D4-DA4A90D385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15F2-9598-4514-A49C-294B8E2CBC4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F070-DD6E-4AE4-8B64-CAF6C54086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2340000" y="115920"/>
            <a:ext cx="5616720" cy="41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 Math"/>
              </a:rPr>
              <a:t>Кафедра «Теория и история государства и права»</a:t>
            </a: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984807"/>
                </a:solidFill>
                <a:latin typeface="Cambria Math"/>
              </a:rPr>
              <a:t>Дисциплина по выбору: </a:t>
            </a:r>
            <a:br>
              <a:rPr sz="3200"/>
            </a:br>
            <a:r>
              <a:rPr b="1" lang="ru-RU" sz="4400" spc="-1" strike="noStrike">
                <a:solidFill>
                  <a:srgbClr val="ff0000"/>
                </a:solidFill>
                <a:latin typeface="Cambria Math"/>
              </a:rPr>
              <a:t>ОСНОВЫ ПРА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subTitle"/>
          </p:nvPr>
        </p:nvSpPr>
        <p:spPr>
          <a:xfrm>
            <a:off x="2195280" y="4508280"/>
            <a:ext cx="586404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одготовил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к.и.н., доцент Терениченко А.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0" name="Рисунок 6" descr="finans_akademy.gif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7956720" y="115920"/>
            <a:ext cx="1000080" cy="1133280"/>
          </a:xfrm>
          <a:prstGeom prst="rect">
            <a:avLst/>
          </a:prstGeom>
          <a:ln w="0">
            <a:noFill/>
          </a:ln>
        </p:spPr>
      </p:pic>
      <p:pic>
        <p:nvPicPr>
          <p:cNvPr id="1661" name="Рисунок 9" descr="femida.JPG"/>
          <p:cNvPicPr/>
          <p:nvPr/>
        </p:nvPicPr>
        <p:blipFill>
          <a:blip r:embed="rId3"/>
          <a:stretch/>
        </p:blipFill>
        <p:spPr>
          <a:xfrm>
            <a:off x="249120" y="0"/>
            <a:ext cx="2017800" cy="4297320"/>
          </a:xfrm>
          <a:prstGeom prst="rect">
            <a:avLst/>
          </a:prstGeom>
          <a:ln w="0">
            <a:noFill/>
          </a:ln>
        </p:spPr>
      </p:pic>
      <p:sp>
        <p:nvSpPr>
          <p:cNvPr id="166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Административное правонарушение </a:t>
            </a:r>
            <a:br>
              <a:rPr sz="2800"/>
            </a:b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и административная ответственность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8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Административное правонарушение: понятие и признаки. Основания административной ответствен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рядок наложения административных взыска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рганы, уполномоченные рассматривать дела об административных правонарушен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еступления</a:t>
            </a:r>
            <a:br>
              <a:rPr sz="2800"/>
            </a:b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и уголовная ответственность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1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овное право: задачи, система и принцип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овный закон. Понятие, признаки и виды преступл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собенности уголовной ответственности. Состав преступления: понятие. знач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Наказание и его цели. Система и виды наказаний. Назначение наказ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авовые основы государственного </a:t>
            </a:r>
            <a:br>
              <a:rPr sz="3200"/>
            </a:br>
            <a:r>
              <a:rPr b="1" lang="ru-RU" sz="32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и муниципального управления: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4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онодательство Российской Федерации о регулировании государственного и муниципального управл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Государственная служба Российской Федерации: система, основные принципы функционирования. Государственная гражданская и правоохранительная служб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вые основы деятельности муниципалитетов и их место в системе органов власти. Виды и структура органов местного самоуправ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иды контроля за деятельностью местных органов вла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ОНТАКТ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 «Теория и история государства и права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рес: 4 Вешняковский проезд, д. 4, каб. 410, 412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ефон: 8(495)371-64-0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 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gp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@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a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9" name="Рисунок 6" descr="finans_akademy.gif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7956720" y="115920"/>
            <a:ext cx="1000080" cy="1133280"/>
          </a:xfrm>
          <a:prstGeom prst="rect">
            <a:avLst/>
          </a:prstGeom>
          <a:ln w="0">
            <a:noFill/>
          </a:ln>
        </p:spPr>
      </p:pic>
      <p:pic>
        <p:nvPicPr>
          <p:cNvPr id="1700" name="Рисунок 9" descr="femida.JPG"/>
          <p:cNvPicPr/>
          <p:nvPr/>
        </p:nvPicPr>
        <p:blipFill>
          <a:blip r:embed="rId3"/>
          <a:stretch/>
        </p:blipFill>
        <p:spPr>
          <a:xfrm>
            <a:off x="249120" y="0"/>
            <a:ext cx="2017800" cy="4297320"/>
          </a:xfrm>
          <a:prstGeom prst="rect">
            <a:avLst/>
          </a:prstGeom>
          <a:ln w="0">
            <a:noFill/>
          </a:ln>
        </p:spPr>
      </p:pic>
      <p:sp>
        <p:nvSpPr>
          <p:cNvPr id="1701" name="Text Box 2"/>
          <p:cNvSpPr/>
          <p:nvPr/>
        </p:nvSpPr>
        <p:spPr>
          <a:xfrm>
            <a:off x="900000" y="1844640"/>
            <a:ext cx="73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504d"/>
                </a:solidFill>
                <a:latin typeface="Verdana"/>
              </a:rPr>
              <a:t>СПАСИБО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504d"/>
                </a:solidFill>
                <a:latin typeface="Verdana"/>
              </a:rPr>
              <a:t>ЗА ВНИМАНИЕ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Дисциплина «ОСНОВЫ ПРАВА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ует у студентов теоретические знания об основных категориях государства и пра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формирует представления об основных отраслях права, об основах правового регулирования в сфере государственного и муниципального управл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сширяет профессиональный и общекультурный кругозор, способствует серьёзному самостоятельному мышлен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Содержание дисциплины </a:t>
            </a:r>
            <a:br>
              <a:rPr sz="2800"/>
            </a:b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«Основы права»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7" name="Содержимое 5"/>
          <p:cNvSpPr/>
          <p:nvPr/>
        </p:nvSpPr>
        <p:spPr>
          <a:xfrm>
            <a:off x="457200" y="928800"/>
            <a:ext cx="822960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сновные понятия государ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сновные правовые категор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сновы конституционного строя Российской Федер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вое регулирование гражданских правоотно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вое регулирование семейных отно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вое регулирование трудовых отно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Административное правонарушение и административная ответств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еступления и уголовная ответств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вые основы государственного и муниципального управ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Основные понятия государства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0" name=""/>
          <p:cNvSpPr txBox="1"/>
          <p:nvPr/>
        </p:nvSpPr>
        <p:spPr>
          <a:xfrm>
            <a:off x="457200" y="121428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ятие государства. Признаки государ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ль государства в жизни общества. Функции государства (внешние и внутренние), их соотнош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ории происхождения государ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ы государства. Политический режим и его ви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Основные правовые категории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и его роль в жизни обще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нятие права. Теория происхождения права. Взаимосвязь права и государ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 в системе социальных норм. Понятие и виды социальных норм, регулирующих поведение людей в общест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вые отношения: понятие, признаки, структура и состав. Классификация правоотнош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Основы конституционного строя Российской Федерации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6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ятие и система принципов конституционного строя. Суверенитет Российской Федерации, и его гарантии. Россия в содружестве Независимых Государст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онституция: понятие, сущность, функции. Развитие конституционного законодательства в Росс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Народовластие и формы его осуществл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литическая система общества: понятие и структура. Место и роль государства в политической системе Росс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авовое регулирование </a:t>
            </a:r>
            <a:br>
              <a:rPr sz="2800"/>
            </a:b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гражданских правоотношений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9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ражданские правоотношения и основания их возникнов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Физические и юридические лица как субъекты гражданских правоотношений; публично-правовые образования как субъекты гражданского пра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бъекты гражданских правоотнош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собственности и иные вещные права и их защит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ятие и виды сделок. Гражданско-правовой догово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авовое регулирование </a:t>
            </a:r>
            <a:br>
              <a:rPr sz="2800"/>
            </a:b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семейных правоотношений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2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сновные институты семейного права. Брак: понятие, условия и порядок заключ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Личные неимущественные и имущественные права супругов. Брачный догово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Алиментные обязательства родителей и де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авовое регулирование </a:t>
            </a:r>
            <a:br>
              <a:rPr sz="2800"/>
            </a:b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трудовых отношений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Трудовые отношения и их стороны. Основания возникновения трудовых отношений. Рабочее время и время отдых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Трудовой договор: понятие ,признаки, стороны, порядок заключения. Изменение и прекращение трудового договора. Ответственность сторон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исциплина труда и ответственность за её наруш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ивидуальные и коллективные трудовые спо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20:32:54Z</dcterms:created>
  <dc:creator>ТЗ</dc:creator>
  <dc:description/>
  <dc:language>en-US</dc:language>
  <cp:lastModifiedBy>LEGION</cp:lastModifiedBy>
  <dcterms:modified xsi:type="dcterms:W3CDTF">2015-01-28T08:27:46Z</dcterms:modified>
  <cp:revision>317</cp:revision>
  <dc:subject/>
  <dc:title>Кафедра «Теория и история государства и права» Дисциплина по выбору: ОСНОВЫ ПРА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