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19.png" ContentType="image/png"/>
  <Override PartName="/ppt/media/image20.wmf" ContentType="image/x-wmf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5ED6-58BE-4B8B-A53D-9C9DDD710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B25-28E8-4593-9D5D-610CF86277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5CC6-AD3C-45E3-9470-C55E96A6E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503E-BC58-42B0-8437-0280FDF19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E8A-BD5A-4DE2-91F8-1F324AA458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 соответствии с российским избирательным законодательством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граждане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достигшие 18 лет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меют право избир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F438-33B8-4FB8-A872-965A58A15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901C-ED89-4904-92AE-EFD69E4D5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ыделите структурные элементы норм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cc33"/>
                </a:solidFill>
                <a:latin typeface="Arial"/>
              </a:rPr>
              <a:t>Деяние признаётся совершённым невиновно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и по обстоятельствам дела не должно было или не могло их предвиде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237D-74E9-4E78-A024-05F8381D3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Определите вид правонаруше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роанализируйте наличие состава правонару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пределите форму в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7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846-6A48-4634-9990-F6EF5990B4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1.Однородность фактического содерж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ждый институт регулирует самостоятельную груп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ношений и поступков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2.Юридическое единство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рмы, входящие в конкретный институт образуют 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ый комплекс положений, принципов,понятий,право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жим рег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3.Нормативная обособ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собление норм образующих институт в главах, раз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ах и частях закона, или нормативно-правового а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4.Полнота регулируемы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нститут права включает набор норм, призванный обес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чить беспробельность регулируемых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6E57-471B-4B1C-A647-F9F4B2978A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147E-FF1C-4D6E-9442-27D7447BB6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0D7-9C32-42DE-B8C6-B9AA42459D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. 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. Отрасли права. Материальное и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.Публичное и частно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F7DE-809A-414C-B269-9D5720F824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Нор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399F3-7193-478C-B3DC-E9FD97B2D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Виды юридических нор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К РФ п.1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1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CCAC-582F-4E35-9465-F915F68F8E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5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К РФ п. 2 Ст. 2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К РФ п. 1 Ст. 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12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6F17-9E87-470B-B0DF-48FBB2BB5D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A94E-2BCA-41DB-95FE-2F5E686EA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истема норм п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12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E2B3-CD68-474E-B9CB-BEA9064B4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ъективно существующее, вну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нее строение права, его под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еление на отрасли, подотрас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ституты и 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Элемент системы права. Существу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е обособленно, а в зависимости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назначения объединяются в и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ституты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й элемент системы права,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едставленный совокупность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овых норм,регулирующих од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родную группу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D418-DAF8-4F49-8D6B-8593B34950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бъединение нескольких институ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дной и той же отрасли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Конституционное право (муниципа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е, избирательное, парламентско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Основное подразделение системы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права.Совокупность норм,распр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деленная по правовым института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регулирующих особую область о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Подотрасли права не являются обязательным компонентом отраслей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Arial"/>
              </a:rPr>
              <a:t>(Семейное, процессуальное право на подотрасли не делятс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C9C7-104E-48A9-BAC6-6BD9806EBF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Понятие системы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ение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общая</a:t>
            </a:r>
            <a:r>
              <a:rPr b="1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Impact"/>
              </a:rPr>
              <a:t>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все отношения, регулируемые дан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ю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00"/>
                </a:solidFill>
                <a:latin typeface="Impact"/>
              </a:rPr>
              <a:t>особенная ч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 права, которые распространя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онкретные отношения, регулируем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й отраслью пра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права характеризу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взаимозависимостью и связью правовых но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регулирует отношения всей совокупностью юр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дических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Arial"/>
              </a:rPr>
              <a:t>-целостностью и согласован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0FA6-9037-4D30-AA07-CF0EF1D1F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1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1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D38-9E4E-40C8-A059-AC4CEB9643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трасли пра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73FF-2826-43DE-BB94-D53D5CAC8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D54B-CEA7-4BA4-9884-691FC095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378F-67B5-4830-BF46-80189084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10D9-026E-4797-BB86-15064F24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713-AF29-47A7-9EC8-72E2D33A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BE3F-B4B2-44BB-AE1E-19DF306B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577A-B721-4412-BA10-825E2451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32DF-872F-484B-8909-F12EA000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3C4AA-4FB0-4F53-9D37-ED54EC5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80F9-65D4-440C-BD49-63E792DE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52AD-E09C-47F4-BA5A-E17BC8D3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ED6C-5295-46B0-B340-51EA82BE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2496-C93D-42DF-BA20-B2CE5042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38D1-0CAF-4D37-A725-DAD1B7A5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9604-1870-4FA2-9413-B5788E05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41ACE-E1E3-496C-B9B4-575F7B3D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9642-E753-47BD-B5FB-E43F0667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18F5-77F2-4FD6-A594-918F4266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3AF6F-2CF7-4C73-9BBE-E63743702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03E81-7EC7-4B92-AF60-BCB8A8A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4459-4862-4F68-8E63-7C4F5C68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D7FA6-1C0D-4D4B-832D-90D12B9A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24218-9FEC-4E1A-BA8C-E2E5FF53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936-59FC-484B-BF28-0B540FCB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D3576-D043-4401-AC2D-A38F30CF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2D12-1F9D-4D04-A2B1-C9B24708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A0BBD-FE3B-4511-8ECB-D5D9AE5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E0BB3-C148-4510-9E81-2050D54C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F6753-AF60-4875-BE1B-E7041E0A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CE2FE-496E-4099-97A5-DCC2F28D1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4001-B388-480B-9994-D962FB33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993CF-D32C-4732-B450-B14646E2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BB06D-80AF-4E44-97D5-CCCED0E2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98415-4751-4100-9574-39C51E3B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80E-AEAC-4775-99CC-AE9921E0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BC460-6FFF-4417-9F31-66EB3F59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E1ABD-414C-45E4-B766-71206376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FE012-BD93-460F-9138-3C938957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B51DA-5F06-45CB-BF27-A00F8078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19946-45D8-4258-90CA-BB007A6A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5305F-50FC-4BD3-987F-2F86D9BE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BF453-120B-468F-9EAF-0986F46F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5B9C3-B650-448F-AB8B-E5E030C6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D7E9-B09E-4DC8-841C-531A3308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11CE-9D63-49CE-98E5-654BDD797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FCA-213A-4D52-B229-3DA9C72A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E999E-F92A-43F9-B922-659602A9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9477B-73A0-4299-A055-78A1F1D7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09D4E-CA67-4A37-B141-ACE0446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773F-78ED-4293-99E3-93B68C7E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74974-37CE-4D7A-AC63-A0E44E7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9F9AC-AAA6-4950-A574-767F8CFB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4EC11-2D1E-4B60-9D7B-936B466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863DB-89ED-4F28-A03F-DFA9502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1F7B0-F12F-4818-AC92-5FF14FA8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53D8-7E6E-4960-AD2C-3FB7D5AA3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94D-CDE6-40B3-8868-C39C8204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D409-E99C-4166-B35A-5C459E0F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6F9C7-6D6A-4137-AA0E-D8FAB51F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F8A83-8255-4556-90C7-CDBC1AA8C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03DD7-E47A-403F-95AE-36EFF5B3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E791F-69CD-40E7-B9CF-039A2340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23F58-AF24-420B-BA5A-D7BDC23C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F2C0A-DB02-4E15-9A1F-1E1DE70B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F0EAD-09EE-477A-993B-D96DDCC4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EF79E-8D46-4BBB-BDD3-E61FF04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F21DB-133B-408A-A443-3439177E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F8A-D809-4EDF-AA30-6EE06D84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9404-C409-4EA1-AF7A-6F92397B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A2AF9-9E68-499F-8488-95C8C1C2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31998-58BC-41C9-A1A7-9B27C16E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C44-DB59-4E23-8653-043DF541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940-4952-45B6-80B9-2D11B70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83C7-313E-43A6-B80B-5900A8F926A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BA5C-A001-43BE-B243-253AC098F1A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CD82-09B2-4D70-B715-8A983B70FE9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23F1-5484-48CC-9DB5-B88223FD050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D5D4-B0BE-48A3-A816-B9414FC871D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9E29-2A24-4E61-9F97-BAF48662241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10.jpeg"/><Relationship Id="rId7" Type="http://schemas.openxmlformats.org/officeDocument/2006/relationships/slide" Target="slide5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jpeg"/><Relationship Id="rId3" Type="http://schemas.openxmlformats.org/officeDocument/2006/relationships/image" Target="../media/image1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WordArt 7"/>
          <p:cNvSpPr txBox="1"/>
          <p:nvPr/>
        </p:nvSpPr>
        <p:spPr>
          <a:xfrm>
            <a:off x="395280" y="2205000"/>
            <a:ext cx="5040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Систе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пра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3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AutoShape 4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179280" y="155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79280" y="20764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179280" y="25970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ор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179280" y="311616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илищ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WordArt 12"/>
          <p:cNvSpPr txBox="1"/>
          <p:nvPr/>
        </p:nvSpPr>
        <p:spPr>
          <a:xfrm rot="5400000">
            <a:off x="2446920" y="3346920"/>
            <a:ext cx="42498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Комплекс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8" name="Rectangle 22"/>
          <p:cNvSpPr/>
          <p:nvPr/>
        </p:nvSpPr>
        <p:spPr>
          <a:xfrm>
            <a:off x="179280" y="3637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уницип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Rectangle 23"/>
          <p:cNvSpPr/>
          <p:nvPr/>
        </p:nvSpPr>
        <p:spPr>
          <a:xfrm>
            <a:off x="179280" y="41562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курорского надзо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Rectangle 24"/>
          <p:cNvSpPr/>
          <p:nvPr/>
        </p:nvSpPr>
        <p:spPr>
          <a:xfrm>
            <a:off x="179280" y="465300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25"/>
          <p:cNvSpPr/>
          <p:nvPr/>
        </p:nvSpPr>
        <p:spPr>
          <a:xfrm>
            <a:off x="179280" y="57340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179280" y="46767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аможе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28"/>
          <p:cNvSpPr/>
          <p:nvPr/>
        </p:nvSpPr>
        <p:spPr>
          <a:xfrm>
            <a:off x="179280" y="5716440"/>
            <a:ext cx="3456000" cy="43200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родоохра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29"/>
          <p:cNvSpPr/>
          <p:nvPr/>
        </p:nvSpPr>
        <p:spPr>
          <a:xfrm>
            <a:off x="179280" y="519588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че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79280" y="6237360"/>
            <a:ext cx="3456000" cy="431640"/>
          </a:xfrm>
          <a:prstGeom prst="rect">
            <a:avLst/>
          </a:prstGeom>
          <a:solidFill>
            <a:srgbClr val="fce4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р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grpSp>
        <p:nvGrpSpPr>
          <p:cNvPr id="418" name="Group 18"/>
          <p:cNvGrpSpPr/>
          <p:nvPr/>
        </p:nvGrpSpPr>
        <p:grpSpPr>
          <a:xfrm>
            <a:off x="3510720" y="765000"/>
            <a:ext cx="1694160" cy="1246320"/>
            <a:chOff x="3510720" y="765000"/>
            <a:chExt cx="1694160" cy="1246320"/>
          </a:xfrm>
        </p:grpSpPr>
        <p:pic>
          <p:nvPicPr>
            <p:cNvPr id="419" name="Picture 16" descr="j0231057"/>
            <p:cNvPicPr/>
            <p:nvPr/>
          </p:nvPicPr>
          <p:blipFill>
            <a:blip r:embed="rId2"/>
            <a:stretch/>
          </p:blipFill>
          <p:spPr>
            <a:xfrm>
              <a:off x="3922560" y="765000"/>
              <a:ext cx="871560" cy="9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Text Box 17"/>
            <p:cNvSpPr/>
            <p:nvPr/>
          </p:nvSpPr>
          <p:spPr>
            <a:xfrm>
              <a:off x="3510720" y="1643040"/>
              <a:ext cx="16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ff"/>
                  </a:solidFill>
                  <a:latin typeface="Tahoma"/>
                </a:rPr>
                <a:t>Древний Ри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1" name="WordArt 19"/>
          <p:cNvSpPr txBox="1"/>
          <p:nvPr/>
        </p:nvSpPr>
        <p:spPr>
          <a:xfrm>
            <a:off x="3645000" y="2060640"/>
            <a:ext cx="13716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рав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grpSp>
        <p:nvGrpSpPr>
          <p:cNvPr id="422" name="Group 25"/>
          <p:cNvGrpSpPr/>
          <p:nvPr/>
        </p:nvGrpSpPr>
        <p:grpSpPr>
          <a:xfrm>
            <a:off x="5090400" y="1052640"/>
            <a:ext cx="3166200" cy="1346040"/>
            <a:chOff x="5090400" y="1052640"/>
            <a:chExt cx="3166200" cy="1346040"/>
          </a:xfrm>
        </p:grpSpPr>
        <p:sp>
          <p:nvSpPr>
            <p:cNvPr id="423" name="WordArt 21"/>
            <p:cNvSpPr txBox="1"/>
            <p:nvPr/>
          </p:nvSpPr>
          <p:spPr>
            <a:xfrm>
              <a:off x="5722920" y="1052640"/>
              <a:ext cx="25336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Публич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4" name="AutoShape 22"/>
            <p:cNvSpPr/>
            <p:nvPr/>
          </p:nvSpPr>
          <p:spPr>
            <a:xfrm rot="19959600">
              <a:off x="5087880" y="18460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5" name="Group 24"/>
          <p:cNvGrpSpPr/>
          <p:nvPr/>
        </p:nvGrpSpPr>
        <p:grpSpPr>
          <a:xfrm>
            <a:off x="971640" y="1052640"/>
            <a:ext cx="2601000" cy="1344240"/>
            <a:chOff x="971640" y="1052640"/>
            <a:chExt cx="2601000" cy="1344240"/>
          </a:xfrm>
        </p:grpSpPr>
        <p:sp>
          <p:nvSpPr>
            <p:cNvPr id="426" name="WordArt 20"/>
            <p:cNvSpPr txBox="1"/>
            <p:nvPr/>
          </p:nvSpPr>
          <p:spPr>
            <a:xfrm>
              <a:off x="971640" y="1052640"/>
              <a:ext cx="186696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</a:rPr>
                <a:t>Частное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427" name="AutoShape 23"/>
            <p:cNvSpPr/>
            <p:nvPr/>
          </p:nvSpPr>
          <p:spPr>
            <a:xfrm flipH="1" rot="1640400">
              <a:off x="2350440" y="1844280"/>
              <a:ext cx="1224000" cy="287280"/>
            </a:xfrm>
            <a:custGeom>
              <a:avLst/>
              <a:gdLst>
                <a:gd name="textAreaLeft" fmla="*/ 214200 w 1224000"/>
                <a:gd name="textAreaRight" fmla="*/ 887400 w 122400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8" name="Text Box 26"/>
          <p:cNvSpPr/>
          <p:nvPr/>
        </p:nvSpPr>
        <p:spPr>
          <a:xfrm>
            <a:off x="6364440" y="1557360"/>
            <a:ext cx="277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ожению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27"/>
          <p:cNvSpPr/>
          <p:nvPr/>
        </p:nvSpPr>
        <p:spPr>
          <a:xfrm>
            <a:off x="179280" y="16430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сится к польз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ных лиц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28"/>
          <p:cNvSpPr/>
          <p:nvPr/>
        </p:nvSpPr>
        <p:spPr>
          <a:xfrm>
            <a:off x="58680" y="2789280"/>
            <a:ext cx="4489200" cy="14655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это право, защищающее интерес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лица в его взаимоотношениях 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сударством, регулирует сфе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 которые вмешательство госу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арства ограничен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29"/>
          <p:cNvSpPr/>
          <p:nvPr/>
        </p:nvSpPr>
        <p:spPr>
          <a:xfrm>
            <a:off x="4525920" y="2781360"/>
            <a:ext cx="4618080" cy="1465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- это право, регулирующее отноше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ия между государством и гражда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нами. Стороны в этих отношения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выступают как неравноправ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WordArt 30"/>
          <p:cNvSpPr txBox="1"/>
          <p:nvPr/>
        </p:nvSpPr>
        <p:spPr>
          <a:xfrm>
            <a:off x="324000" y="4365720"/>
            <a:ext cx="3924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свободы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децентрализации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433" name="WordArt 31"/>
          <p:cNvSpPr txBox="1"/>
          <p:nvPr/>
        </p:nvSpPr>
        <p:spPr>
          <a:xfrm>
            <a:off x="4680000" y="4365720"/>
            <a:ext cx="4213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Область необходимости,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империтивных начал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34" name="Group 34"/>
          <p:cNvGrpSpPr/>
          <p:nvPr/>
        </p:nvGrpSpPr>
        <p:grpSpPr>
          <a:xfrm>
            <a:off x="898560" y="5516640"/>
            <a:ext cx="7561080" cy="1152360"/>
            <a:chOff x="898560" y="5516640"/>
            <a:chExt cx="7561080" cy="1152360"/>
          </a:xfrm>
        </p:grpSpPr>
        <p:sp>
          <p:nvSpPr>
            <p:cNvPr id="435" name="WordArt 32"/>
            <p:cNvSpPr txBox="1"/>
            <p:nvPr/>
          </p:nvSpPr>
          <p:spPr>
            <a:xfrm>
              <a:off x="954000" y="6097680"/>
              <a:ext cx="744876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660033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Impact"/>
                </a:rPr>
                <a:t>Взаимосвязаны, четкой границы нет</a:t>
              </a:r>
              <a:endParaRPr b="0" lang="en-US" sz="1800" spc="1" strike="noStrike">
                <a:ln w="9360">
                  <a:solidFill>
                    <a:srgbClr val="660033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  <a:ea typeface="Impact"/>
              </a:endParaRPr>
            </a:p>
          </p:txBody>
        </p:sp>
        <p:sp>
          <p:nvSpPr>
            <p:cNvPr id="436" name="AutoShape 33"/>
            <p:cNvSpPr/>
            <p:nvPr/>
          </p:nvSpPr>
          <p:spPr>
            <a:xfrm>
              <a:off x="898560" y="5516640"/>
              <a:ext cx="7561080" cy="504720"/>
            </a:xfrm>
            <a:prstGeom prst="downArrowCallout">
              <a:avLst>
                <a:gd name="adj1" fmla="val 67697"/>
                <a:gd name="adj2" fmla="val 77539"/>
                <a:gd name="adj3" fmla="val 26731"/>
                <a:gd name="adj4" fmla="val 49056"/>
              </a:avLst>
            </a:prstGeom>
            <a:solidFill>
              <a:srgbClr val="ff33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9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68360" y="1628640"/>
            <a:ext cx="7704000" cy="40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ahoma"/>
              </a:rPr>
              <a:t>Выделите структурные элементы норм пра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оответствии с российским избирательным законодательством граждане Российской Федерации, достигшие 18 лет, имеют право избирать; лица, препятствующие осуществлению этого права, привлекаются к административной или уголовной ответственности»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Rectangle 8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Text Box 10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250920" y="1557360"/>
            <a:ext cx="8064360" cy="374472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468360" y="1628640"/>
            <a:ext cx="7343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 соответствии с российским избирательным законодательством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граждане Российской Федераци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достигшие 18 лет,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56c7aa"/>
                </a:solidFill>
                <a:latin typeface="Tahoma"/>
              </a:rPr>
              <a:t>имеют право избирать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; </a:t>
            </a:r>
            <a:r>
              <a:rPr b="0" lang="ru-RU" sz="2800" spc="-1" strike="noStrike">
                <a:solidFill>
                  <a:srgbClr val="33cc33"/>
                </a:solidFill>
                <a:latin typeface="Tahoma"/>
              </a:rPr>
              <a:t>лица, препятствующие осуществлению этого права, привлекаются к административной или уголовной ответственности.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421164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2268360" y="5661000"/>
            <a:ext cx="172908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9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2" name="Rectangle 10" descr=""/>
          <p:cNvPicPr/>
          <p:nvPr/>
        </p:nvPicPr>
        <p:blipFill>
          <a:blip r:embed="rId1"/>
          <a:stretch/>
        </p:blipFill>
        <p:spPr>
          <a:xfrm>
            <a:off x="1779480" y="4127400"/>
            <a:ext cx="6907320" cy="1895400"/>
          </a:xfrm>
          <a:prstGeom prst="rect">
            <a:avLst/>
          </a:prstGeom>
          <a:ln w="0">
            <a:noFill/>
          </a:ln>
        </p:spPr>
      </p:pic>
      <p:sp>
        <p:nvSpPr>
          <p:cNvPr id="45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395280" y="170352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ние признаётся совершённым невиновно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 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6" name="Rectangle 13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4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Rectangle 15"/>
          <p:cNvSpPr/>
          <p:nvPr/>
        </p:nvSpPr>
        <p:spPr>
          <a:xfrm>
            <a:off x="428472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324000" y="1557360"/>
            <a:ext cx="8351640" cy="367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395280" y="623736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(гипотеза)..., то (диспозиция)..., иначе (санкция)...”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468360" y="170028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cc33"/>
                </a:solidFill>
                <a:latin typeface="Tahoma"/>
              </a:rPr>
              <a:t>Деяние признаётся совершённым невиновно</a:t>
            </a:r>
            <a:r>
              <a:rPr b="0" lang="ru-RU" sz="2400" spc="-1" strike="noStrike">
                <a:solidFill>
                  <a:srgbClr val="ff3300"/>
                </a:solidFill>
                <a:latin typeface="Tahoma"/>
              </a:rPr>
              <a:t>, если лицо, его совершившее, не осознавало и по обстоятельствам дела не могло осознавать общественной опасности своих действий (бездействия) либо не предвидело возможности наступления общественно опасных последствий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56c7aa"/>
                </a:solidFill>
                <a:latin typeface="Tahoma"/>
              </a:rPr>
              <a:t>и по обстоятельствам дела не должно было или не могло их предвиде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5"/>
          <p:cNvSpPr/>
          <p:nvPr/>
        </p:nvSpPr>
        <p:spPr>
          <a:xfrm>
            <a:off x="395280" y="5661000"/>
            <a:ext cx="1728720" cy="504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поте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Rectangle 6"/>
          <p:cNvSpPr/>
          <p:nvPr/>
        </p:nvSpPr>
        <p:spPr>
          <a:xfrm>
            <a:off x="2340000" y="5661000"/>
            <a:ext cx="1728720" cy="504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анк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4356000" y="5661000"/>
            <a:ext cx="1728720" cy="504720"/>
          </a:xfrm>
          <a:prstGeom prst="rect">
            <a:avLst/>
          </a:prstGeom>
          <a:solidFill>
            <a:srgbClr val="56c7a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испози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8" name="Rectangle 8" descr=""/>
          <p:cNvPicPr/>
          <p:nvPr/>
        </p:nvPicPr>
        <p:blipFill>
          <a:blip r:embed="rId1"/>
          <a:stretch/>
        </p:blipFill>
        <p:spPr>
          <a:xfrm>
            <a:off x="1792440" y="4187880"/>
            <a:ext cx="6771960" cy="15177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Распивая спиртные напитки в городском парке, группа лиц нарушала общественный порядок. Они приставали к прохожим, мусорили, нецензурно выражалис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1. Определите вид правонарушения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2. Проанализируйте наличие состава правонаруше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3. Определите форму вин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8748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1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WordArt 11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ccffcc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войства правового института</a:t>
            </a:r>
            <a:endParaRPr b="1" lang="en-US" sz="1800" spc="1" strike="noStrike">
              <a:ln w="28440">
                <a:solidFill>
                  <a:srgbClr val="ccffcc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473" name="Group 23"/>
          <p:cNvGrpSpPr/>
          <p:nvPr/>
        </p:nvGrpSpPr>
        <p:grpSpPr>
          <a:xfrm>
            <a:off x="598680" y="1268280"/>
            <a:ext cx="7848000" cy="1206720"/>
            <a:chOff x="598680" y="1268280"/>
            <a:chExt cx="7848000" cy="1206720"/>
          </a:xfrm>
        </p:grpSpPr>
        <p:sp>
          <p:nvSpPr>
            <p:cNvPr id="474" name="WordArt 12"/>
            <p:cNvSpPr txBox="1"/>
            <p:nvPr/>
          </p:nvSpPr>
          <p:spPr>
            <a:xfrm>
              <a:off x="625320" y="126828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1.Однородность фактического содержания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5" name="Text Box 16"/>
            <p:cNvSpPr/>
            <p:nvPr/>
          </p:nvSpPr>
          <p:spPr>
            <a:xfrm>
              <a:off x="598680" y="1649520"/>
              <a:ext cx="784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аждый институт регулирует самостоятельную групп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тношений и поступков людей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6" name="Group 18"/>
          <p:cNvGrpSpPr/>
          <p:nvPr/>
        </p:nvGrpSpPr>
        <p:grpSpPr>
          <a:xfrm>
            <a:off x="603360" y="2349360"/>
            <a:ext cx="8182440" cy="1672200"/>
            <a:chOff x="603360" y="2349360"/>
            <a:chExt cx="8182440" cy="1672200"/>
          </a:xfrm>
        </p:grpSpPr>
        <p:sp>
          <p:nvSpPr>
            <p:cNvPr id="477" name="WordArt 13"/>
            <p:cNvSpPr txBox="1"/>
            <p:nvPr/>
          </p:nvSpPr>
          <p:spPr>
            <a:xfrm>
              <a:off x="603360" y="234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2.Юридическое единство правовых норм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78" name="Text Box 17"/>
            <p:cNvSpPr/>
            <p:nvPr/>
          </p:nvSpPr>
          <p:spPr>
            <a:xfrm>
              <a:off x="687960" y="2830320"/>
              <a:ext cx="809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рмы, входящие в конкретный институт образуют еди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й комплекс положений, принципов,понятий,правовой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жим регулирования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Group 20"/>
          <p:cNvGrpSpPr/>
          <p:nvPr/>
        </p:nvGrpSpPr>
        <p:grpSpPr>
          <a:xfrm>
            <a:off x="568440" y="3975120"/>
            <a:ext cx="8105400" cy="1257480"/>
            <a:chOff x="568440" y="3975120"/>
            <a:chExt cx="8105400" cy="1257480"/>
          </a:xfrm>
        </p:grpSpPr>
        <p:sp>
          <p:nvSpPr>
            <p:cNvPr id="480" name="WordArt 14"/>
            <p:cNvSpPr txBox="1"/>
            <p:nvPr/>
          </p:nvSpPr>
          <p:spPr>
            <a:xfrm>
              <a:off x="587160" y="3975120"/>
              <a:ext cx="7793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3.Нормативная обособленность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1" name="Text Box 19"/>
            <p:cNvSpPr/>
            <p:nvPr/>
          </p:nvSpPr>
          <p:spPr>
            <a:xfrm>
              <a:off x="568440" y="4407120"/>
              <a:ext cx="810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особление норм образующих институт в главах, разде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лах и частях закона, или нормативно-правового акт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2" name="Group 22"/>
          <p:cNvGrpSpPr/>
          <p:nvPr/>
        </p:nvGrpSpPr>
        <p:grpSpPr>
          <a:xfrm>
            <a:off x="587520" y="5229360"/>
            <a:ext cx="8224920" cy="1257120"/>
            <a:chOff x="587520" y="5229360"/>
            <a:chExt cx="8224920" cy="1257120"/>
          </a:xfrm>
        </p:grpSpPr>
        <p:sp>
          <p:nvSpPr>
            <p:cNvPr id="483" name="WordArt 15"/>
            <p:cNvSpPr txBox="1"/>
            <p:nvPr/>
          </p:nvSpPr>
          <p:spPr>
            <a:xfrm>
              <a:off x="587520" y="5229360"/>
              <a:ext cx="779292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latin typeface="Impact"/>
                </a:rPr>
                <a:t>4.Полнота регулируемых отношений.</a:t>
              </a:r>
              <a:endPara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484" name="Text Box 21"/>
            <p:cNvSpPr/>
            <p:nvPr/>
          </p:nvSpPr>
          <p:spPr>
            <a:xfrm>
              <a:off x="700920" y="5661000"/>
              <a:ext cx="8111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нститут права включает набор норм, призванный обес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ечить беспробельность регулируемых отношений.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85" name="Rectangle 25" descr=""/>
          <p:cNvPicPr/>
          <p:nvPr/>
        </p:nvPicPr>
        <p:blipFill>
          <a:blip r:embed="rId3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5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488" name="WordArt 3"/>
          <p:cNvSpPr txBox="1"/>
          <p:nvPr/>
        </p:nvSpPr>
        <p:spPr>
          <a:xfrm>
            <a:off x="1047600" y="735120"/>
            <a:ext cx="7048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66"/>
                    </a:gs>
                    <a:gs pos="5000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atin typeface="Arial"/>
              </a:rPr>
              <a:t>Виды институтов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66"/>
                  </a:gs>
                  <a:gs pos="50000">
                    <a:srgbClr val="765e2f"/>
                  </a:gs>
                  <a:gs pos="100000">
                    <a:srgbClr val="ffcc66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89" name="Group 23"/>
          <p:cNvGrpSpPr/>
          <p:nvPr/>
        </p:nvGrpSpPr>
        <p:grpSpPr>
          <a:xfrm>
            <a:off x="257040" y="1197000"/>
            <a:ext cx="4243680" cy="1977840"/>
            <a:chOff x="257040" y="1197000"/>
            <a:chExt cx="4243680" cy="1977840"/>
          </a:xfrm>
        </p:grpSpPr>
        <p:grpSp>
          <p:nvGrpSpPr>
            <p:cNvPr id="490" name="Group 20"/>
            <p:cNvGrpSpPr/>
            <p:nvPr/>
          </p:nvGrpSpPr>
          <p:grpSpPr>
            <a:xfrm>
              <a:off x="900000" y="1197000"/>
              <a:ext cx="3600720" cy="1219320"/>
              <a:chOff x="900000" y="1197000"/>
              <a:chExt cx="3600720" cy="1219320"/>
            </a:xfrm>
          </p:grpSpPr>
          <p:sp>
            <p:nvSpPr>
              <p:cNvPr id="491" name="WordArt 16"/>
              <p:cNvSpPr txBox="1"/>
              <p:nvPr/>
            </p:nvSpPr>
            <p:spPr>
              <a:xfrm>
                <a:off x="900000" y="1844640"/>
                <a:ext cx="1819440" cy="57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800000"/>
                      </a:solidFill>
                      <a:miter/>
                    </a:ln>
                    <a:blipFill rotWithShape="0">
                      <a:blip r:embed="rId2"/>
                      <a:srcRect/>
                      <a:stretch/>
                    </a:blipFill>
                    <a:latin typeface="Impact"/>
                  </a:rPr>
                  <a:t>простые</a:t>
                </a:r>
                <a:endParaRPr b="1" lang="en-US" sz="1800" spc="1" strike="noStrike">
                  <a:ln w="9360">
                    <a:solidFill>
                      <a:srgbClr val="800000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latin typeface="Impact"/>
                  <a:ea typeface="Impact"/>
                </a:endParaRPr>
              </a:p>
            </p:txBody>
          </p:sp>
          <p:sp>
            <p:nvSpPr>
              <p:cNvPr id="492" name="Line 18"/>
              <p:cNvSpPr/>
              <p:nvPr/>
            </p:nvSpPr>
            <p:spPr>
              <a:xfrm flipH="1">
                <a:off x="284328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3" name="Text Box 22"/>
            <p:cNvSpPr/>
            <p:nvPr/>
          </p:nvSpPr>
          <p:spPr>
            <a:xfrm>
              <a:off x="257040" y="2349360"/>
              <a:ext cx="301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Юридические  норм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дной отрасли прав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4" name="Group 25"/>
          <p:cNvGrpSpPr/>
          <p:nvPr/>
        </p:nvGrpSpPr>
        <p:grpSpPr>
          <a:xfrm>
            <a:off x="4572000" y="1197000"/>
            <a:ext cx="4593960" cy="2362680"/>
            <a:chOff x="4572000" y="1197000"/>
            <a:chExt cx="4593960" cy="2362680"/>
          </a:xfrm>
        </p:grpSpPr>
        <p:grpSp>
          <p:nvGrpSpPr>
            <p:cNvPr id="495" name="Group 21"/>
            <p:cNvGrpSpPr/>
            <p:nvPr/>
          </p:nvGrpSpPr>
          <p:grpSpPr>
            <a:xfrm>
              <a:off x="4572000" y="1197000"/>
              <a:ext cx="3887640" cy="1174680"/>
              <a:chOff x="4572000" y="1197000"/>
              <a:chExt cx="3887640" cy="1174680"/>
            </a:xfrm>
          </p:grpSpPr>
          <p:sp>
            <p:nvSpPr>
              <p:cNvPr id="496" name="WordArt 17"/>
              <p:cNvSpPr txBox="1"/>
              <p:nvPr/>
            </p:nvSpPr>
            <p:spPr>
              <a:xfrm>
                <a:off x="6372360" y="1889280"/>
                <a:ext cx="2087280" cy="482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2844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  <a:latin typeface="Arial"/>
                  </a:rPr>
                  <a:t>сложные</a:t>
                </a:r>
                <a:endParaRPr b="1" lang="en-US" sz="1800" spc="1" strike="noStrike">
                  <a:ln w="2844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ff8200"/>
                      </a:gs>
                    </a:gsLst>
                    <a:lin ang="5400000"/>
                  </a:gradFill>
                  <a:latin typeface="Arial"/>
                  <a:ea typeface="Arial"/>
                </a:endParaRPr>
              </a:p>
            </p:txBody>
          </p:sp>
          <p:sp>
            <p:nvSpPr>
              <p:cNvPr id="497" name="Line 19"/>
              <p:cNvSpPr/>
              <p:nvPr/>
            </p:nvSpPr>
            <p:spPr>
              <a:xfrm>
                <a:off x="4572000" y="1197000"/>
                <a:ext cx="1657440" cy="8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8" name="Text Box 24"/>
            <p:cNvSpPr/>
            <p:nvPr/>
          </p:nvSpPr>
          <p:spPr>
            <a:xfrm>
              <a:off x="5367240" y="2368440"/>
              <a:ext cx="379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овокупность норм ,входя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щих в состав различных от-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раслей права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Text Box 26"/>
          <p:cNvSpPr/>
          <p:nvPr/>
        </p:nvSpPr>
        <p:spPr>
          <a:xfrm>
            <a:off x="30240" y="3357720"/>
            <a:ext cx="3531960" cy="119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прекращения бра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 право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залог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 прав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Text Box 27"/>
          <p:cNvSpPr/>
          <p:nvPr/>
        </p:nvSpPr>
        <p:spPr>
          <a:xfrm>
            <a:off x="5525640" y="3645000"/>
            <a:ext cx="3574800" cy="916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Институт собств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гражданское, семейно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конституционное право и др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1" name="Group 32"/>
          <p:cNvGrpSpPr/>
          <p:nvPr/>
        </p:nvGrpSpPr>
        <p:grpSpPr>
          <a:xfrm>
            <a:off x="2124000" y="3284640"/>
            <a:ext cx="5105520" cy="1942920"/>
            <a:chOff x="2124000" y="3284640"/>
            <a:chExt cx="5105520" cy="1942920"/>
          </a:xfrm>
        </p:grpSpPr>
        <p:sp>
          <p:nvSpPr>
            <p:cNvPr id="502" name="WordArt 28"/>
            <p:cNvSpPr txBox="1"/>
            <p:nvPr/>
          </p:nvSpPr>
          <p:spPr>
            <a:xfrm>
              <a:off x="2124000" y="4724280"/>
              <a:ext cx="51055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включает субинституты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503" name="AutoShape 31"/>
            <p:cNvSpPr/>
            <p:nvPr/>
          </p:nvSpPr>
          <p:spPr>
            <a:xfrm rot="10800000">
              <a:off x="4427280" y="3284640"/>
              <a:ext cx="1081080" cy="1224000"/>
            </a:xfrm>
            <a:custGeom>
              <a:avLst/>
              <a:gdLst>
                <a:gd name="textAreaLeft" fmla="*/ 0 w 1081080"/>
                <a:gd name="textAreaRight" fmla="*/ 927360 w 1081080"/>
                <a:gd name="textAreaTop" fmla="*/ 81612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cc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WordArt 33"/>
          <p:cNvSpPr txBox="1"/>
          <p:nvPr/>
        </p:nvSpPr>
        <p:spPr>
          <a:xfrm>
            <a:off x="2833560" y="5200560"/>
            <a:ext cx="3610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нститут ренты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grpSp>
        <p:nvGrpSpPr>
          <p:cNvPr id="505" name="Group 36"/>
          <p:cNvGrpSpPr/>
          <p:nvPr/>
        </p:nvGrpSpPr>
        <p:grpSpPr>
          <a:xfrm>
            <a:off x="288000" y="5749920"/>
            <a:ext cx="8531640" cy="916920"/>
            <a:chOff x="288000" y="5749920"/>
            <a:chExt cx="8531640" cy="916920"/>
          </a:xfrm>
        </p:grpSpPr>
        <p:sp>
          <p:nvSpPr>
            <p:cNvPr id="506" name="Text Box 34"/>
            <p:cNvSpPr/>
            <p:nvPr/>
          </p:nvSpPr>
          <p:spPr>
            <a:xfrm>
              <a:off x="288000" y="5749920"/>
              <a:ext cx="4940280" cy="916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стоя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ая рента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66"/>
                  </a:solidFill>
                  <a:latin typeface="Tahoma"/>
                </a:rPr>
                <a:t>-Пожизненное содержание с иждивением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WordArt 35"/>
            <p:cNvSpPr txBox="1"/>
            <p:nvPr/>
          </p:nvSpPr>
          <p:spPr>
            <a:xfrm>
              <a:off x="5533560" y="5965920"/>
              <a:ext cx="3286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cc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Субинституты</a:t>
              </a:r>
              <a:endParaRPr b="1" lang="en-US" sz="1800" spc="1" strike="noStrike">
                <a:ln w="28440">
                  <a:solidFill>
                    <a:srgbClr val="cc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8" name="AutoShape 38">
            <a:hlinkClick r:id="rId7" action="ppaction://hlinksldjump"/>
          </p:cNvPr>
          <p:cNvSpPr/>
          <p:nvPr/>
        </p:nvSpPr>
        <p:spPr>
          <a:xfrm>
            <a:off x="6877080" y="5300640"/>
            <a:ext cx="1079640" cy="504720"/>
          </a:xfrm>
          <a:custGeom>
            <a:avLst/>
            <a:gdLst>
              <a:gd name="textAreaLeft" fmla="*/ 32400 w 1079640"/>
              <a:gd name="textAreaRight" fmla="*/ 1047240 w 107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6187" h="21600">
                <a:moveTo>
                  <a:pt x="0" y="0"/>
                </a:moveTo>
                <a:lnTo>
                  <a:pt x="46187" y="0"/>
                </a:lnTo>
                <a:lnTo>
                  <a:pt x="46187" y="21600"/>
                </a:lnTo>
                <a:lnTo>
                  <a:pt x="0" y="21600"/>
                </a:lnTo>
                <a:close/>
              </a:path>
              <a:path fill="lightenLess" w="46187" h="21600">
                <a:moveTo>
                  <a:pt x="0" y="0"/>
                </a:moveTo>
                <a:lnTo>
                  <a:pt x="46187" y="0"/>
                </a:lnTo>
                <a:lnTo>
                  <a:pt x="44787" y="1400"/>
                </a:lnTo>
                <a:lnTo>
                  <a:pt x="1400" y="1400"/>
                </a:lnTo>
                <a:close/>
              </a:path>
              <a:path fill="darken" w="46187" h="21600">
                <a:moveTo>
                  <a:pt x="46187" y="0"/>
                </a:moveTo>
                <a:lnTo>
                  <a:pt x="46187" y="21600"/>
                </a:lnTo>
                <a:lnTo>
                  <a:pt x="44787" y="20200"/>
                </a:lnTo>
                <a:lnTo>
                  <a:pt x="44787" y="1400"/>
                </a:lnTo>
                <a:close/>
              </a:path>
              <a:path fill="darkenLess" w="46187" h="21600">
                <a:moveTo>
                  <a:pt x="46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87" y="20200"/>
                </a:lnTo>
                <a:close/>
              </a:path>
              <a:path fill="lighten" w="46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187" h="21600">
                <a:moveTo>
                  <a:pt x="16087" y="10800"/>
                </a:moveTo>
                <a:lnTo>
                  <a:pt x="30100" y="3794"/>
                </a:lnTo>
                <a:lnTo>
                  <a:pt x="30100" y="17806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j0178279"/>
          <p:cNvPicPr/>
          <p:nvPr/>
        </p:nvPicPr>
        <p:blipFill>
          <a:blip r:embed="rId1"/>
          <a:stretch/>
        </p:blipFill>
        <p:spPr>
          <a:xfrm>
            <a:off x="324000" y="2602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5"/>
          <p:cNvSpPr/>
          <p:nvPr/>
        </p:nvSpPr>
        <p:spPr>
          <a:xfrm rot="6459600">
            <a:off x="6298920" y="-2523960"/>
            <a:ext cx="45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826920" y="364500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Times New Roman"/>
              </a:rPr>
              <a:t>Норма права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b4dcfa"/>
              </a:gs>
              <a:gs pos="100000">
                <a:srgbClr val="eaeaea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Trebuchet MS"/>
              </a:rPr>
              <a:t>План урока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46040" y="2060280"/>
            <a:ext cx="8229600" cy="403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1. Понятие системы права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2. Отрасли права. Материальное и процессуальное право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rebuchet MS"/>
              </a:rPr>
              <a:t>3.Публичное и частное право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5"/>
          <p:cNvSpPr/>
          <p:nvPr/>
        </p:nvSpPr>
        <p:spPr>
          <a:xfrm>
            <a:off x="2392200" y="352440"/>
            <a:ext cx="563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6" name="Rectangle 6" descr=""/>
          <p:cNvPicPr/>
          <p:nvPr/>
        </p:nvPicPr>
        <p:blipFill>
          <a:blip r:embed="rId2"/>
          <a:stretch/>
        </p:blipFill>
        <p:spPr>
          <a:xfrm>
            <a:off x="1116000" y="-103320"/>
            <a:ext cx="7912080" cy="178596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 txBox="1"/>
          <p:nvPr/>
        </p:nvSpPr>
        <p:spPr>
          <a:xfrm>
            <a:off x="250920" y="1484280"/>
            <a:ext cx="84470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направлено на урегулирование общественных отноше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установленное и обеспечиваемое государством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щеобязательное правило поведения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формально определенное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buClr>
                <a:srgbClr val="ff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предоставительно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66"/>
                </a:solidFill>
                <a:latin typeface="Times New Roman"/>
              </a:rPr>
              <a:t>обязывающий характер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j0178279"/>
          <p:cNvPicPr/>
          <p:nvPr/>
        </p:nvPicPr>
        <p:blipFill>
          <a:blip r:embed="rId1"/>
          <a:stretch/>
        </p:blipFill>
        <p:spPr>
          <a:xfrm>
            <a:off x="0" y="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520" name="Rectangle 5" descr=""/>
          <p:cNvPicPr/>
          <p:nvPr/>
        </p:nvPicPr>
        <p:blipFill>
          <a:blip r:embed="rId2"/>
          <a:stretch/>
        </p:blipFill>
        <p:spPr>
          <a:xfrm>
            <a:off x="1189080" y="-438120"/>
            <a:ext cx="8478720" cy="141912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468360" y="980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1. Регулятивные и правоохранительные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4572000" y="1773360"/>
            <a:ext cx="457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- Правоохранительные нормы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т условия применения к субъекту мер государственно-принудительного воздействия, характер и содержание этих мер.</a:t>
            </a: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324000" y="1793880"/>
            <a:ext cx="41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Регулятивные  нор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пределяющие субъективные права и обязанности субъектов, условия их возникновения и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0" y="4508640"/>
            <a:ext cx="47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Собственнику принадлежат права владения, пользование и распоряжение своим имуществом.»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ГК РФ п.1 Ст. 209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4500720" y="450864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Кража, т.е. тайное хищение чужого имущества, - наказывается штрафом в размере от 200 до 700 МРОТ…» (УК РФ 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.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т. 5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 txBox="1"/>
          <p:nvPr/>
        </p:nvSpPr>
        <p:spPr>
          <a:xfrm>
            <a:off x="-324000" y="980640"/>
            <a:ext cx="4824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5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Управомочивающие нормы</a:t>
            </a:r>
            <a:r>
              <a:rPr b="0" i="1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предоставляют субъекту право с положительным содержанием, т.е. право на совершение им тех  или иных действий.</a:t>
            </a:r>
            <a:r>
              <a:rPr b="0" lang="ru-RU" sz="2300" spc="-1" strike="noStrike">
                <a:solidFill>
                  <a:srgbClr val="404040"/>
                </a:solidFill>
                <a:latin typeface="Times New Roman"/>
              </a:rPr>
              <a:t>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29" name="Text Box 12"/>
          <p:cNvSpPr/>
          <p:nvPr/>
        </p:nvSpPr>
        <p:spPr>
          <a:xfrm>
            <a:off x="0" y="7776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Управомочивающие, запрещающи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5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бязывающ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3"/>
          <p:cNvSpPr/>
          <p:nvPr/>
        </p:nvSpPr>
        <p:spPr>
          <a:xfrm>
            <a:off x="5148360" y="1052640"/>
            <a:ext cx="367164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</a:rPr>
              <a:t>Запрещающие нормы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66"/>
                </a:solidFill>
                <a:latin typeface="Times New Roman"/>
              </a:rPr>
              <a:t>устанавливает обязанность субъекта на воздержание от  совершения действий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4"/>
          <p:cNvSpPr/>
          <p:nvPr/>
        </p:nvSpPr>
        <p:spPr>
          <a:xfrm>
            <a:off x="-324000" y="4797360"/>
            <a:ext cx="94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язывающие нормы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 -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возлагает на субъекта обязанность совершать определенные действ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5"/>
          <p:cNvSpPr/>
          <p:nvPr/>
        </p:nvSpPr>
        <p:spPr>
          <a:xfrm>
            <a:off x="0" y="32130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бственник вправе по своему усмотрению совершать в отношении принадлежащего ему имущества любые действия, не противоречащие закону…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ГК РФ п. 2 Ст. 209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6"/>
          <p:cNvSpPr/>
          <p:nvPr/>
        </p:nvSpPr>
        <p:spPr>
          <a:xfrm>
            <a:off x="4716360" y="2852640"/>
            <a:ext cx="442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упруги по своему желанию выбирают при заключении брака фамилию…. Соединение фамилии не допускается, если добрачная фамилия хотя бы одного из супругов является двойной.»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К РФ п. 1 Ст. 3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7"/>
          <p:cNvSpPr/>
          <p:nvPr/>
        </p:nvSpPr>
        <p:spPr>
          <a:xfrm>
            <a:off x="0" y="5589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Трудоспособные совершеннолетние дети обязаны содержать своих нетрудоспособных нуждающихся в помощи родителей и заботиться о них.» (СК РФ п. 1 Ст. 8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j0178279"/>
          <p:cNvPicPr/>
          <p:nvPr/>
        </p:nvPicPr>
        <p:blipFill>
          <a:blip r:embed="rId1"/>
          <a:stretch/>
        </p:blipFill>
        <p:spPr>
          <a:xfrm>
            <a:off x="0" y="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2268360" y="47628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116000" y="0"/>
            <a:ext cx="7128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3. Императивные и диспозитивные нормы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5007240" y="3141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457200" y="765000"/>
          <a:ext cx="8218440" cy="5904000"/>
        </p:xfrm>
        <a:graphic>
          <a:graphicData uri="http://schemas.openxmlformats.org/drawingml/2006/table">
            <a:tbl>
              <a:tblPr/>
              <a:tblGrid>
                <a:gridCol w="4114800"/>
                <a:gridCol w="4103640"/>
              </a:tblGrid>
              <a:tr h="29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1" name="Text Box 26"/>
          <p:cNvSpPr/>
          <p:nvPr/>
        </p:nvSpPr>
        <p:spPr>
          <a:xfrm>
            <a:off x="468360" y="858960"/>
            <a:ext cx="388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мперативная нор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– это норма, выраженная  в категорических предписаниях и действует независимо от усмотрения субъек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27"/>
          <p:cNvSpPr/>
          <p:nvPr/>
        </p:nvSpPr>
        <p:spPr>
          <a:xfrm>
            <a:off x="539640" y="4149720"/>
            <a:ext cx="39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28"/>
          <p:cNvSpPr/>
          <p:nvPr/>
        </p:nvSpPr>
        <p:spPr>
          <a:xfrm>
            <a:off x="826920" y="4292640"/>
            <a:ext cx="367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Text Box 29"/>
          <p:cNvSpPr/>
          <p:nvPr/>
        </p:nvSpPr>
        <p:spPr>
          <a:xfrm>
            <a:off x="468360" y="4292640"/>
            <a:ext cx="395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30"/>
          <p:cNvSpPr/>
          <p:nvPr/>
        </p:nvSpPr>
        <p:spPr>
          <a:xfrm>
            <a:off x="539640" y="3429000"/>
            <a:ext cx="39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Сделки с землей и другим недвижимым имуществом подлежат государственной регистрации.» (ГК РФ п. 1 Ст.16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4643280" y="141300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4788000" y="1413000"/>
            <a:ext cx="33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716360" y="868320"/>
            <a:ext cx="37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Диспозитивная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  действует лишь постольку, поскольку субъекты не предусмотрели ин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Text Box 47"/>
          <p:cNvSpPr/>
          <p:nvPr/>
        </p:nvSpPr>
        <p:spPr>
          <a:xfrm>
            <a:off x="4643280" y="2421000"/>
            <a:ext cx="41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мена предмета залога допускается с согласия залогодержателя, если законом или договором не предусмотрено иное.» (ГК РФ п. 1 Ст. 34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48"/>
          <p:cNvSpPr/>
          <p:nvPr/>
        </p:nvSpPr>
        <p:spPr>
          <a:xfrm>
            <a:off x="4643280" y="5516640"/>
            <a:ext cx="38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49"/>
          <p:cNvSpPr/>
          <p:nvPr/>
        </p:nvSpPr>
        <p:spPr>
          <a:xfrm>
            <a:off x="4500720" y="4365720"/>
            <a:ext cx="43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Законным режимом имущества супругов является режим их совместной собственности. Законный режим имущества супругов действует, если брачным договором не установлено иное.» (СК РФ п. 1 Ст. 3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542880" y="-542880"/>
            <a:ext cx="8508960" cy="1549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0" y="1557000"/>
            <a:ext cx="458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ервичным элементом выступают </a:t>
            </a:r>
            <a:r>
              <a:rPr b="0" i="1" lang="ru-RU" sz="2800" spc="-1" strike="noStrike">
                <a:solidFill>
                  <a:srgbClr val="000066"/>
                </a:solidFill>
                <a:latin typeface="Times New Roman"/>
              </a:rPr>
              <a:t>нормы права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, которые объединяются в более крупные образования – институты, подотрасли, отрасл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284720" y="1557000"/>
            <a:ext cx="48592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меет объективный характер, т.к. зависит от объективно существующих общественных отношений, которые призвана регулиро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0" y="4220640"/>
            <a:ext cx="443376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лементы системы взаимосвязаны, согласованы, что обеспечивает целостность и единст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211280" y="4265280"/>
            <a:ext cx="493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обусловлена социально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экономическими, политическими, национальными, культурными и пр. фактора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33" name="Picture 4" descr="j017827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9"/>
          <p:cNvSpPr/>
          <p:nvPr/>
        </p:nvSpPr>
        <p:spPr>
          <a:xfrm>
            <a:off x="181620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0" y="765000"/>
            <a:ext cx="89647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- </a:t>
            </a:r>
            <a:r>
              <a:rPr b="1" i="1" lang="ru-RU" sz="2400" spc="-1" strike="noStrike">
                <a:solidFill>
                  <a:srgbClr val="000066"/>
                </a:solidFill>
                <a:latin typeface="Tahoma"/>
              </a:rPr>
              <a:t>внутренняя структура права, состоящая из взаимосогласованных норм, институтов и отраслей пра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хема 3" descr=""/>
          <p:cNvPicPr/>
          <p:nvPr/>
        </p:nvPicPr>
        <p:blipFill>
          <a:blip r:embed="rId1"/>
          <a:stretch/>
        </p:blipFill>
        <p:spPr>
          <a:xfrm>
            <a:off x="-182520" y="0"/>
            <a:ext cx="9387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40" name="WordArt 46"/>
          <p:cNvSpPr txBox="1"/>
          <p:nvPr/>
        </p:nvSpPr>
        <p:spPr>
          <a:xfrm>
            <a:off x="108000" y="1052640"/>
            <a:ext cx="252108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истем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41" name="Text Box 47"/>
          <p:cNvSpPr/>
          <p:nvPr/>
        </p:nvSpPr>
        <p:spPr>
          <a:xfrm>
            <a:off x="3101040" y="765000"/>
            <a:ext cx="5910840" cy="155700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бъективно существующее, вну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ннее строение права, его подраз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ление на отрасли, подотрасл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ституты и нор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48"/>
          <p:cNvSpPr/>
          <p:nvPr/>
        </p:nvSpPr>
        <p:spPr>
          <a:xfrm flipV="1">
            <a:off x="2340000" y="1483920"/>
            <a:ext cx="64764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WordArt 49"/>
          <p:cNvSpPr txBox="1"/>
          <p:nvPr/>
        </p:nvSpPr>
        <p:spPr>
          <a:xfrm>
            <a:off x="468360" y="3621240"/>
            <a:ext cx="1655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1.Норм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4" name="Text Box 50"/>
          <p:cNvSpPr/>
          <p:nvPr/>
        </p:nvSpPr>
        <p:spPr>
          <a:xfrm>
            <a:off x="2768400" y="3240000"/>
            <a:ext cx="617760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Элемент системы права. Существу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е обособленно, а в зависимости о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назначения объединяются в ин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итуты пра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WordArt 52"/>
          <p:cNvSpPr txBox="1"/>
          <p:nvPr/>
        </p:nvSpPr>
        <p:spPr>
          <a:xfrm>
            <a:off x="1187280" y="2492280"/>
            <a:ext cx="6975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Book Antiqua"/>
              </a:rPr>
              <a:t>Система права включает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Book Antiqua"/>
              <a:ea typeface="Book Antiqua"/>
            </a:endParaRPr>
          </a:p>
        </p:txBody>
      </p:sp>
      <p:sp>
        <p:nvSpPr>
          <p:cNvPr id="346" name="WordArt 54"/>
          <p:cNvSpPr txBox="1"/>
          <p:nvPr/>
        </p:nvSpPr>
        <p:spPr>
          <a:xfrm>
            <a:off x="324000" y="5421240"/>
            <a:ext cx="20872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2.Институт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47" name="Text Box 55"/>
          <p:cNvSpPr/>
          <p:nvPr/>
        </p:nvSpPr>
        <p:spPr>
          <a:xfrm>
            <a:off x="2777760" y="5040360"/>
            <a:ext cx="61837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й элемент системы права,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едставленный совокупность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овых норм,регулирующих од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родную группу отнош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AutoShape 57">
            <a:hlinkClick r:id="rId4" action="ppaction://hlinksldjump"/>
          </p:cNvPr>
          <p:cNvSpPr/>
          <p:nvPr/>
        </p:nvSpPr>
        <p:spPr>
          <a:xfrm>
            <a:off x="179280" y="5950080"/>
            <a:ext cx="505080" cy="647640"/>
          </a:xfrm>
          <a:custGeom>
            <a:avLst/>
            <a:gdLst>
              <a:gd name="textAreaLeft" fmla="*/ 32760 w 505080"/>
              <a:gd name="textAreaRight" fmla="*/ 472680 w 505080"/>
              <a:gd name="textAreaTop" fmla="*/ 32400 h 647640"/>
              <a:gd name="textAreaBottom" fmla="*/ 614880 h 647640"/>
            </a:gdLst>
            <a:ahLst/>
            <a:rect l="textAreaLeft" t="textAreaTop" r="textAreaRight" b="textAreaBottom"/>
            <a:pathLst>
              <a:path w="21600" h="27692">
                <a:moveTo>
                  <a:pt x="0" y="0"/>
                </a:moveTo>
                <a:lnTo>
                  <a:pt x="21600" y="0"/>
                </a:lnTo>
                <a:lnTo>
                  <a:pt x="21600" y="27692"/>
                </a:lnTo>
                <a:lnTo>
                  <a:pt x="0" y="27692"/>
                </a:lnTo>
                <a:close/>
              </a:path>
              <a:path fill="lightenLess" w="21600" h="27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692">
                <a:moveTo>
                  <a:pt x="21600" y="0"/>
                </a:moveTo>
                <a:lnTo>
                  <a:pt x="21600" y="27692"/>
                </a:lnTo>
                <a:lnTo>
                  <a:pt x="20200" y="26292"/>
                </a:lnTo>
                <a:lnTo>
                  <a:pt x="20200" y="1400"/>
                </a:lnTo>
                <a:close/>
              </a:path>
              <a:path fill="darkenLess" w="21600" h="27692">
                <a:moveTo>
                  <a:pt x="21600" y="27692"/>
                </a:moveTo>
                <a:lnTo>
                  <a:pt x="0" y="27692"/>
                </a:lnTo>
                <a:lnTo>
                  <a:pt x="1400" y="26292"/>
                </a:lnTo>
                <a:lnTo>
                  <a:pt x="20200" y="26292"/>
                </a:lnTo>
                <a:close/>
              </a:path>
              <a:path fill="lighten" w="21600" h="27692">
                <a:moveTo>
                  <a:pt x="0" y="27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292"/>
                </a:lnTo>
                <a:close/>
              </a:path>
              <a:path fill="darken" w="21600" h="27692">
                <a:moveTo>
                  <a:pt x="10800" y="684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7692">
                <a:moveTo>
                  <a:pt x="10800" y="7214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7692">
                <a:moveTo>
                  <a:pt x="8224" y="11270"/>
                </a:moveTo>
                <a:lnTo>
                  <a:pt x="12088" y="11270"/>
                </a:lnTo>
                <a:lnTo>
                  <a:pt x="12088" y="18268"/>
                </a:lnTo>
                <a:lnTo>
                  <a:pt x="13376" y="18268"/>
                </a:lnTo>
                <a:lnTo>
                  <a:pt x="13376" y="19190"/>
                </a:lnTo>
                <a:lnTo>
                  <a:pt x="8224" y="19190"/>
                </a:lnTo>
                <a:lnTo>
                  <a:pt x="8224" y="18268"/>
                </a:lnTo>
                <a:lnTo>
                  <a:pt x="9512" y="18268"/>
                </a:lnTo>
                <a:lnTo>
                  <a:pt x="9512" y="12175"/>
                </a:lnTo>
                <a:lnTo>
                  <a:pt x="8224" y="12175"/>
                </a:lnTo>
                <a:close/>
              </a:path>
            </a:pathLst>
          </a:cu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23"/>
          <p:cNvSpPr txBox="1"/>
          <p:nvPr/>
        </p:nvSpPr>
        <p:spPr>
          <a:xfrm>
            <a:off x="357120" y="11430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4.Подотрасль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latin typeface="Impact"/>
              </a:rPr>
              <a:t>прав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352" name="Text Box 24"/>
          <p:cNvSpPr/>
          <p:nvPr/>
        </p:nvSpPr>
        <p:spPr>
          <a:xfrm>
            <a:off x="2627280" y="928800"/>
            <a:ext cx="6516720" cy="1557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ъединение нескольких институ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дной и той же отрасли прав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Конституционное право (муниципаль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е, избирательное, парламентско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Text Box 25"/>
          <p:cNvSpPr/>
          <p:nvPr/>
        </p:nvSpPr>
        <p:spPr>
          <a:xfrm>
            <a:off x="287280" y="5661000"/>
            <a:ext cx="89042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Подотрасли права не являются обязательным компонентом отраслей прав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(Семейное, процессуальное право на подотрасли не делятс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27"/>
          <p:cNvSpPr/>
          <p:nvPr/>
        </p:nvSpPr>
        <p:spPr>
          <a:xfrm>
            <a:off x="2796480" y="3186000"/>
            <a:ext cx="6023880" cy="1922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сновное подразделение системы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ава.Совокупность норм,распре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еленная по правовым институтам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егулирующих особую область от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ношени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Прямоугольник 10"/>
          <p:cNvSpPr/>
          <p:nvPr/>
        </p:nvSpPr>
        <p:spPr>
          <a:xfrm>
            <a:off x="285840" y="3429000"/>
            <a:ext cx="228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3.Отрасль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Impact"/>
              </a:rPr>
              <a:t>прав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219240" y="-122400"/>
            <a:ext cx="8832600" cy="1036800"/>
          </a:xfrm>
          <a:prstGeom prst="rect">
            <a:avLst/>
          </a:prstGeom>
          <a:ln w="0">
            <a:noFill/>
          </a:ln>
        </p:spPr>
      </p:pic>
      <p:sp>
        <p:nvSpPr>
          <p:cNvPr id="358" name="WordArt 9"/>
          <p:cNvSpPr txBox="1"/>
          <p:nvPr/>
        </p:nvSpPr>
        <p:spPr>
          <a:xfrm>
            <a:off x="1835280" y="765000"/>
            <a:ext cx="5572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строение отрасли права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59" name="Group 20"/>
          <p:cNvGrpSpPr/>
          <p:nvPr/>
        </p:nvGrpSpPr>
        <p:grpSpPr>
          <a:xfrm>
            <a:off x="-133920" y="1197000"/>
            <a:ext cx="4938480" cy="2088360"/>
            <a:chOff x="-133920" y="1197000"/>
            <a:chExt cx="4938480" cy="2088360"/>
          </a:xfrm>
        </p:grpSpPr>
        <p:grpSp>
          <p:nvGrpSpPr>
            <p:cNvPr id="360" name="Group 16"/>
            <p:cNvGrpSpPr/>
            <p:nvPr/>
          </p:nvGrpSpPr>
          <p:grpSpPr>
            <a:xfrm>
              <a:off x="324000" y="1197000"/>
              <a:ext cx="3311280" cy="1152000"/>
              <a:chOff x="324000" y="1197000"/>
              <a:chExt cx="3311280" cy="1152000"/>
            </a:xfrm>
          </p:grpSpPr>
          <p:pic>
            <p:nvPicPr>
              <p:cNvPr id="361" name="WordArt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1912320"/>
                <a:ext cx="2627280" cy="43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Line 12"/>
              <p:cNvSpPr/>
              <p:nvPr/>
            </p:nvSpPr>
            <p:spPr>
              <a:xfrm flipH="1">
                <a:off x="2843280" y="1197000"/>
                <a:ext cx="792000" cy="78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Text Box 18"/>
            <p:cNvSpPr/>
            <p:nvPr/>
          </p:nvSpPr>
          <p:spPr>
            <a:xfrm>
              <a:off x="-133920" y="2368440"/>
              <a:ext cx="4938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все отношения, регулируемые дан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траслью права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4" name="Group 21"/>
          <p:cNvGrpSpPr/>
          <p:nvPr/>
        </p:nvGrpSpPr>
        <p:grpSpPr>
          <a:xfrm>
            <a:off x="4396680" y="1197000"/>
            <a:ext cx="4970520" cy="2088360"/>
            <a:chOff x="4396680" y="1197000"/>
            <a:chExt cx="4970520" cy="2088360"/>
          </a:xfrm>
        </p:grpSpPr>
        <p:grpSp>
          <p:nvGrpSpPr>
            <p:cNvPr id="365" name="Group 17"/>
            <p:cNvGrpSpPr/>
            <p:nvPr/>
          </p:nvGrpSpPr>
          <p:grpSpPr>
            <a:xfrm>
              <a:off x="4500720" y="1197000"/>
              <a:ext cx="4248000" cy="1079640"/>
              <a:chOff x="4500720" y="1197000"/>
              <a:chExt cx="4248000" cy="1079640"/>
            </a:xfrm>
          </p:grpSpPr>
          <p:sp>
            <p:nvSpPr>
              <p:cNvPr id="366" name="WordArt 11"/>
              <p:cNvSpPr txBox="1"/>
              <p:nvPr/>
            </p:nvSpPr>
            <p:spPr>
              <a:xfrm>
                <a:off x="5292720" y="1919160"/>
                <a:ext cx="3456000" cy="3574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0">
                      <a:noFill/>
                    </a:ln>
                    <a:solidFill>
                      <a:srgbClr val="ff0000"/>
                    </a:solidFill>
                    <a:latin typeface="Impact"/>
                  </a:rPr>
                  <a:t>особенная часть</a:t>
                </a:r>
                <a:endPara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Impact"/>
                  <a:ea typeface="Impact"/>
                </a:endParaRPr>
              </a:p>
            </p:txBody>
          </p:sp>
          <p:sp>
            <p:nvSpPr>
              <p:cNvPr id="367" name="Line 15"/>
              <p:cNvSpPr/>
              <p:nvPr/>
            </p:nvSpPr>
            <p:spPr>
              <a:xfrm>
                <a:off x="4500720" y="1197000"/>
                <a:ext cx="792000" cy="79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8" name="Text Box 19"/>
            <p:cNvSpPr/>
            <p:nvPr/>
          </p:nvSpPr>
          <p:spPr>
            <a:xfrm>
              <a:off x="4396680" y="2368440"/>
              <a:ext cx="497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ормы права, которые распространяют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на конкретные отношения, регулиру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данной отраслью права.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WordArt 22"/>
          <p:cNvSpPr txBox="1"/>
          <p:nvPr/>
        </p:nvSpPr>
        <p:spPr>
          <a:xfrm>
            <a:off x="826920" y="3759120"/>
            <a:ext cx="7267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ccffcc"/>
                  </a:solidFill>
                  <a:miter/>
                </a:ln>
                <a:gradFill rotWithShape="0">
                  <a:gsLst>
                    <a:gs pos="0">
                      <a:srgbClr val="008000"/>
                    </a:gs>
                    <a:gs pos="5000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atin typeface="Arial"/>
              </a:rPr>
              <a:t>система права характеризуется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gradFill rotWithShape="0">
                <a:gsLst>
                  <a:gs pos="0">
                    <a:srgbClr val="008000"/>
                  </a:gs>
                  <a:gs pos="50000">
                    <a:srgbClr val="33cc33"/>
                  </a:gs>
                  <a:gs pos="100000">
                    <a:srgbClr val="008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70" name="Text Box 23"/>
          <p:cNvSpPr/>
          <p:nvPr/>
        </p:nvSpPr>
        <p:spPr>
          <a:xfrm>
            <a:off x="506880" y="4613400"/>
            <a:ext cx="823032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взаимозависимостью и связью правовых нор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регулирует отношения всей совокупностью юри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дических сред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-целостностью и согласованность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Місце для нижнього колонтитула 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498920" y="115920"/>
            <a:ext cx="4321080" cy="24210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144360" y="907920"/>
            <a:ext cx="3996000" cy="2449800"/>
          </a:xfrm>
          <a:prstGeom prst="rect">
            <a:avLst/>
          </a:prstGeom>
          <a:solidFill>
            <a:srgbClr val="2127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52000" y="907920"/>
            <a:ext cx="40323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Материальное право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 норм, закрепляющих существующие общественные отношения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</a:t>
            </a: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имуществен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семейные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- трудовые и прочее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(Гражданск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Семейное прав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</a:rPr>
              <a:t>Трудовое право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5" name="Picture 5" descr="j0178279"/>
          <p:cNvPicPr/>
          <p:nvPr/>
        </p:nvPicPr>
        <p:blipFill>
          <a:blip r:embed="rId1"/>
          <a:stretch/>
        </p:blipFill>
        <p:spPr>
          <a:xfrm>
            <a:off x="34920" y="-27000"/>
            <a:ext cx="865080" cy="86508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6"/>
          <p:cNvSpPr/>
          <p:nvPr/>
        </p:nvSpPr>
        <p:spPr>
          <a:xfrm>
            <a:off x="4573440" y="73080"/>
            <a:ext cx="44625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оцессуальное пра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совокупность норм, определяющих порядок осуществления норм материального прав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7"/>
          <p:cNvSpPr/>
          <p:nvPr/>
        </p:nvSpPr>
        <p:spPr>
          <a:xfrm>
            <a:off x="4427640" y="2495520"/>
            <a:ext cx="4537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ача ис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оки рассмотр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истц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рава ответчик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ядок рассмотрения дела и п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ражданско-процессуальное пра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головно-процессуальное прав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5" descr=""/>
          <p:cNvPicPr/>
          <p:nvPr/>
        </p:nvPicPr>
        <p:blipFill>
          <a:blip r:embed="rId1"/>
          <a:stretch/>
        </p:blipFill>
        <p:spPr>
          <a:xfrm>
            <a:off x="219240" y="-231840"/>
            <a:ext cx="8943840" cy="15001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"/>
          <p:cNvSpPr/>
          <p:nvPr/>
        </p:nvSpPr>
        <p:spPr>
          <a:xfrm>
            <a:off x="324000" y="765000"/>
            <a:ext cx="4248000" cy="719280"/>
          </a:xfrm>
          <a:prstGeom prst="downArrowCallout">
            <a:avLst>
              <a:gd name="adj1" fmla="val 147661"/>
              <a:gd name="adj2" fmla="val 147648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тери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43280" y="765000"/>
            <a:ext cx="4248360" cy="71928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66667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цессуальные отрасл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250920" y="15573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он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250920" y="210816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250920" y="2660760"/>
            <a:ext cx="3456000" cy="431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250920" y="3213000"/>
            <a:ext cx="3456000" cy="43200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5437080" y="155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дминистрати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14"/>
          <p:cNvSpPr/>
          <p:nvPr/>
        </p:nvSpPr>
        <p:spPr>
          <a:xfrm>
            <a:off x="5437080" y="227664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5435640" y="2997360"/>
            <a:ext cx="3456000" cy="647640"/>
          </a:xfrm>
          <a:prstGeom prst="rect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жданско-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17"/>
          <p:cNvSpPr txBox="1"/>
          <p:nvPr/>
        </p:nvSpPr>
        <p:spPr>
          <a:xfrm rot="5400000">
            <a:off x="3419280" y="2374560"/>
            <a:ext cx="230508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Базов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250920" y="40053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ей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24"/>
          <p:cNvSpPr/>
          <p:nvPr/>
        </p:nvSpPr>
        <p:spPr>
          <a:xfrm>
            <a:off x="250920" y="44798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уд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Rectangle 25"/>
          <p:cNvSpPr/>
          <p:nvPr/>
        </p:nvSpPr>
        <p:spPr>
          <a:xfrm>
            <a:off x="250920" y="495468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6"/>
          <p:cNvSpPr/>
          <p:nvPr/>
        </p:nvSpPr>
        <p:spPr>
          <a:xfrm>
            <a:off x="250920" y="543096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250920" y="590544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Rectangle 28"/>
          <p:cNvSpPr/>
          <p:nvPr/>
        </p:nvSpPr>
        <p:spPr>
          <a:xfrm>
            <a:off x="250920" y="6381720"/>
            <a:ext cx="3456000" cy="287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логов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29"/>
          <p:cNvSpPr/>
          <p:nvPr/>
        </p:nvSpPr>
        <p:spPr>
          <a:xfrm>
            <a:off x="5437080" y="4005360"/>
            <a:ext cx="3456000" cy="93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головно-исполните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30"/>
          <p:cNvSpPr/>
          <p:nvPr/>
        </p:nvSpPr>
        <p:spPr>
          <a:xfrm>
            <a:off x="5435640" y="5661000"/>
            <a:ext cx="345600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рбитражно-процессуально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WordArt 31"/>
          <p:cNvSpPr txBox="1"/>
          <p:nvPr/>
        </p:nvSpPr>
        <p:spPr>
          <a:xfrm rot="5400000">
            <a:off x="3141360" y="5075280"/>
            <a:ext cx="26636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ециальны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ahoma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5:29:31Z</dcterms:created>
  <dc:creator>Чернов Алексей</dc:creator>
  <dc:description/>
  <dc:language>en-US</dc:language>
  <cp:lastModifiedBy>LEGION</cp:lastModifiedBy>
  <dcterms:modified xsi:type="dcterms:W3CDTF">2015-01-28T08:32:59Z</dcterms:modified>
  <cp:revision>150</cp:revision>
  <dc:subject/>
  <dc:title>Система пра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