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30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8.jpeg" ContentType="image/jpeg"/>
  <Override PartName="/ppt/media/image19.png" ContentType="image/png"/>
  <Override PartName="/ppt/media/image20.wmf" ContentType="image/x-wmf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097E-22C4-43CF-A011-FB653FF771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791B-52A0-4DE4-BFC7-F7335C583B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расл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1351-4BFB-4728-8F10-5F947F92CC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Публичное и част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52AF-D15B-499C-BC97-8C221C1B18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те структурные элементы норм пра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российским избирательным законодательством граждане Российской Федерации, достигшие 18 лет, имеют право избирать; лица, препятствующие осуществлению этого права, привлекаются к административной или уголовной ответственности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FFA8-5A13-436F-ACE3-DD27B8CC54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соответствии с российским избирательным законодательством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раждане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достигшие 18 лет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меют право избир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лица, препятствующие осуществлению этого права, привлекаются к административной или уголовной ответствен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55C1-FB59-4BBF-A38C-9EAF45FC77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ние признаётся совершённым невиновно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 и по обстоятельствам дела не должно было или не могло их предвиде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27F0-B574-4ACD-82D3-E91DAE0E7D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Деяние признаётся совершённым невиновно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 по обстоятельствам дела не должно было или не могло их предвиде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5307-8B32-4EF7-913C-4AE45C6B7D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ивая спиртные напитки в городском парке, группа лиц нарушала общественный порядок. Они приставали к прохожим, мусорили, нецензурно выражали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ределите вид правонаруше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анализируйте наличие состава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ределите форму в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CA12-EC93-4F2A-9F6F-B51653FCC5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1.Однородность фактического содерж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ый институт регулирует самостоятельную групп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ношений и поступков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2.Юридическое единство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рмы, входящие в конкретный институт образуют е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ый комплекс положений, принципов,понятий,право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жим рег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3.Нормативная обособл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особление норм образующих институт в главах, разд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х и частях закона, или нормативно-правового а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4.Полнота регулируем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ститут права включает набор норм, призванный обес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чить беспробельность регулируемых от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EFA6-B3E2-4E4C-85D5-B1EE207E2D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CEA8-FADF-4104-94CF-7A4576BC00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C337-DAB3-4B39-B77E-B372946098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. 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2. Отрасли права. Материальное и 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.Публичное и част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DAEE-02F8-4C5F-8592-3B0B04C53F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F59E-1FA2-4B03-B919-DE1721201A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К РФ п.1 Ст. 2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.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. 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2DED-D799-40F1-ADB8-2AC5865C8B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К РФ п. 2 Ст. 2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К РФ п. 1 Ст. 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C4F9-F48A-4E50-95A7-61788836C6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89BB-0BC7-432A-BFC2-5D7610CCF4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5DF3-7671-4ECC-8046-2B2E2B8F86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ъективно существующее, вну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ннее строение права, его под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еление на отрасли, подотрас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ституты и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66"/>
                </a:solidFill>
                <a:latin typeface="Book Antiqua"/>
              </a:rPr>
              <a:t>Система права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1.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Элемент системы права. Существу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е обособленно, а в зависимости 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едназначения объединяются в и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ституты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2.Инстит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сновной элемент системы права,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едставленный совокуп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авовых норм,регулирующих од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родную группу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3139-D98A-4F7B-B07F-225FA78253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4.Подотрас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бъединение нескольких институ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дной и той же отрасли пра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Конституционное право (муниципа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е, избирательное, парламентск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3.Отрас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сновное подразделение системы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ава.Совокупность норм,распр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деленная по правовым института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регулирующих особую область о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Подотрасли права не являются обязательным компонентом отраслей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(Семейное, процессуальное право на подотрасли не деля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FEE0-C489-4851-852B-2BAE2050D9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троение 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Impact"/>
              </a:rPr>
              <a:t>общая</a:t>
            </a: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Impact"/>
              </a:rPr>
              <a:t>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 права, которые распростра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се отношения, регулируемые да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ю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особен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 права, которые распростра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онкретные отношения, регулиру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й отраслью пра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права характер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взаимозависимостью и связью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регулирует отношения всей совокупностью юр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дически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целостностью и согласован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828E-F54D-4061-B7A8-A4286799B1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имуществен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 семей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 трудовые и проч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(Граждан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Трудов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ru-RU" sz="1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6469-EFFE-4DEF-ACB6-B317E54080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расл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5D3F-61E8-409F-BE84-C98B73A686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3B49-8097-45A2-8B2D-0E01B4B7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2F43-A6EE-4592-AD48-13EA5A0B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BD7-3A80-47F6-B052-1BE54908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642-C23E-4AA7-8D7E-8AED9753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B59F-365F-466E-BEF2-7AC14585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0086-3746-4777-B37A-0BE05A4B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93AE-A57E-40F8-886A-D54B743C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1620-9E6B-411F-9475-557D6768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8E9D-B057-4BEC-B7CE-1FFFC648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59BB-5ED5-4042-B2A0-2135C211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5D96-0A3B-4A82-B6B0-A3EC3F49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75B5-5581-4856-9060-320D8C10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72F2-2C8C-4081-9B51-83262D93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00FD-6BB1-406A-B4E5-C9FEC04B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5F50-2349-4E7B-B193-B88CC050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DE10-A72A-4059-A3D5-5E910968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FFCB-A9D6-4AAB-B9CF-0935A19A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F1B89-39A0-49CC-B992-5A76C1CE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FE055-4A36-4C6A-80F0-018934AF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2C037-8BE0-4B91-821F-B8DDA32D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69E35-712C-42BC-9F7D-9326C3BB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FD158-2ABD-437F-8345-79022907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CD8-67F8-4D94-A1A5-31CE7624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4B9D8-AD61-44BB-92A0-EB0B1C58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24D10-7325-40D8-ABCF-227352A0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DE8B8-15BD-4902-943C-253679D7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F41C0-96AB-4EEE-A3F2-0C9F0CEC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2D484-E527-4CB3-80D1-BF79ED04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B6FF1-B253-4164-8C9B-1CBE5011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3D976-863A-4051-84EE-841EEEF8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D9394-E23B-48D2-AF4A-0DF7CA8B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8BDA8-4191-4AAA-AC07-A4E55FDC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1B7DA-C4CB-4FD0-B11D-97C72848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467D-7DDC-46A4-B996-2EB50B5F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B6BFC-D795-452A-8DA1-D5BE323C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10D3E-1A30-42BF-896C-76629E81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982EE-A016-4801-BEB1-3078369D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C6CD1-06C0-4AE0-ADB6-A8F3D856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B21A3-FA49-4991-BA9D-3800B419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1ADDB-CA5C-42D4-8A9C-C29835B0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303B2-FE78-40C0-850E-92945879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00DD3-6B2D-46E9-B8A5-2935B7EE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AF9D1-16DF-4A2C-8066-00B8D49C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299EA-73AA-4029-A0AC-97BFF518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829-498E-467B-AC68-0ACEE736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581D2-D1D8-4284-9F97-C92AD730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8D964-A2D3-49A5-A6F9-560BB983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BAD26-7719-41EE-8675-504753F0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DECE1-668A-4D76-BFF8-AD757422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F34FE-35E1-42C5-BE34-B3C7FBC1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58E7B-5F31-4A58-8EDF-D24AAA77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E2613-5F62-4917-809D-9AD5D857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6078B-4046-4DE7-A4B9-7054DE92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EE644-C255-499C-B139-2F746B60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F1065-8978-4B81-930C-82AB4B3A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9EC5-53CF-424E-9DD4-48275BF6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6F597-AC05-445B-9FCC-D54B9628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E688E-B0AE-4BEF-A2A2-DAC85E97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10009-BCEC-45BF-91F1-C14F7A52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C37D2-4BBC-485A-B347-5CB4D6FD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08E10-5F80-4BA0-9E70-025E58D1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F3E2D-8825-442F-A687-6ED3F3F4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71875-FA0E-4433-AFA4-33991E80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12473-C267-4BAA-B99A-6996A3D3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D1E6B-D111-4ECE-80B9-DEC18D9B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97961-E9EB-4755-9779-DFA2EA37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BB5F-AEFC-46B2-8E8D-F4E97949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12506-BACE-47DA-9074-94427ACF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07937-864F-434B-AC87-EE249016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1EEAC-3454-41C9-99B1-258B9189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820-4B44-4567-960A-18DE80A7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83E6-4173-495C-8BC6-7C235463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22A8-EB32-4E22-8A9A-73F5162178E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A35C-F2F4-415A-915B-2F80505831A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43F4-C215-428F-8305-2CF2E517583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FBFE-17B1-4D97-B740-15D71469C15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B3C1-8CB3-47E5-96AB-77625776EF2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A023-9D25-4306-84C9-518CCCBD981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15.jpe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10.jpeg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7"/>
          <p:cNvSpPr txBox="1"/>
          <p:nvPr/>
        </p:nvSpPr>
        <p:spPr>
          <a:xfrm>
            <a:off x="395280" y="2205000"/>
            <a:ext cx="5040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исте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пра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219240" y="-231840"/>
            <a:ext cx="8943840" cy="150012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3"/>
          <p:cNvSpPr/>
          <p:nvPr/>
        </p:nvSpPr>
        <p:spPr>
          <a:xfrm>
            <a:off x="324000" y="765000"/>
            <a:ext cx="4248000" cy="719280"/>
          </a:xfrm>
          <a:prstGeom prst="downArrowCallout">
            <a:avLst>
              <a:gd name="adj1" fmla="val 147661"/>
              <a:gd name="adj2" fmla="val 147648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ри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4643280" y="765000"/>
            <a:ext cx="4248360" cy="71928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цессу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179280" y="15573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зяйств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179280" y="20764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льскохозяйств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179280" y="259704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орг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179280" y="311616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Жилищ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WordArt 12"/>
          <p:cNvSpPr txBox="1"/>
          <p:nvPr/>
        </p:nvSpPr>
        <p:spPr>
          <a:xfrm rot="5400000">
            <a:off x="2446920" y="3346920"/>
            <a:ext cx="424980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Комплекс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8" name="Rectangle 22"/>
          <p:cNvSpPr/>
          <p:nvPr/>
        </p:nvSpPr>
        <p:spPr>
          <a:xfrm>
            <a:off x="179280" y="36370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уницип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23"/>
          <p:cNvSpPr/>
          <p:nvPr/>
        </p:nvSpPr>
        <p:spPr>
          <a:xfrm>
            <a:off x="179280" y="415620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курорского надзо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4"/>
          <p:cNvSpPr/>
          <p:nvPr/>
        </p:nvSpPr>
        <p:spPr>
          <a:xfrm>
            <a:off x="179280" y="465300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25"/>
          <p:cNvSpPr/>
          <p:nvPr/>
        </p:nvSpPr>
        <p:spPr>
          <a:xfrm>
            <a:off x="179280" y="57340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27"/>
          <p:cNvSpPr/>
          <p:nvPr/>
        </p:nvSpPr>
        <p:spPr>
          <a:xfrm>
            <a:off x="179280" y="46767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мож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28"/>
          <p:cNvSpPr/>
          <p:nvPr/>
        </p:nvSpPr>
        <p:spPr>
          <a:xfrm>
            <a:off x="179280" y="571644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родоохранит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29"/>
          <p:cNvSpPr/>
          <p:nvPr/>
        </p:nvSpPr>
        <p:spPr>
          <a:xfrm>
            <a:off x="179280" y="51958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кологиче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0"/>
          <p:cNvSpPr/>
          <p:nvPr/>
        </p:nvSpPr>
        <p:spPr>
          <a:xfrm>
            <a:off x="179280" y="62373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р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18"/>
          <p:cNvGrpSpPr/>
          <p:nvPr/>
        </p:nvGrpSpPr>
        <p:grpSpPr>
          <a:xfrm>
            <a:off x="3510720" y="765000"/>
            <a:ext cx="1694160" cy="1246320"/>
            <a:chOff x="3510720" y="765000"/>
            <a:chExt cx="1694160" cy="1246320"/>
          </a:xfrm>
        </p:grpSpPr>
        <p:pic>
          <p:nvPicPr>
            <p:cNvPr id="419" name="Picture 16" descr="j0231057"/>
            <p:cNvPicPr/>
            <p:nvPr/>
          </p:nvPicPr>
          <p:blipFill>
            <a:blip r:embed="rId2"/>
            <a:stretch/>
          </p:blipFill>
          <p:spPr>
            <a:xfrm>
              <a:off x="3922560" y="765000"/>
              <a:ext cx="87156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Text Box 17"/>
            <p:cNvSpPr/>
            <p:nvPr/>
          </p:nvSpPr>
          <p:spPr>
            <a:xfrm>
              <a:off x="3510720" y="164304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ff"/>
                  </a:solidFill>
                  <a:latin typeface="Tahoma"/>
                </a:rPr>
                <a:t>Древний Рим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1" name="WordArt 19"/>
          <p:cNvSpPr txBox="1"/>
          <p:nvPr/>
        </p:nvSpPr>
        <p:spPr>
          <a:xfrm>
            <a:off x="3645000" y="2060640"/>
            <a:ext cx="137160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раво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grpSp>
        <p:nvGrpSpPr>
          <p:cNvPr id="422" name="Group 25"/>
          <p:cNvGrpSpPr/>
          <p:nvPr/>
        </p:nvGrpSpPr>
        <p:grpSpPr>
          <a:xfrm>
            <a:off x="5090400" y="1052640"/>
            <a:ext cx="3166200" cy="1346040"/>
            <a:chOff x="5090400" y="1052640"/>
            <a:chExt cx="3166200" cy="1346040"/>
          </a:xfrm>
        </p:grpSpPr>
        <p:sp>
          <p:nvSpPr>
            <p:cNvPr id="423" name="WordArt 21"/>
            <p:cNvSpPr txBox="1"/>
            <p:nvPr/>
          </p:nvSpPr>
          <p:spPr>
            <a:xfrm>
              <a:off x="5722920" y="1052640"/>
              <a:ext cx="25336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Публичное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24" name="AutoShape 22"/>
            <p:cNvSpPr/>
            <p:nvPr/>
          </p:nvSpPr>
          <p:spPr>
            <a:xfrm rot="19959600">
              <a:off x="5087880" y="1846080"/>
              <a:ext cx="1224000" cy="287280"/>
            </a:xfrm>
            <a:custGeom>
              <a:avLst/>
              <a:gdLst>
                <a:gd name="textAreaLeft" fmla="*/ 214200 w 1224000"/>
                <a:gd name="textAreaRight" fmla="*/ 887400 w 122400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5" name="Group 24"/>
          <p:cNvGrpSpPr/>
          <p:nvPr/>
        </p:nvGrpSpPr>
        <p:grpSpPr>
          <a:xfrm>
            <a:off x="971640" y="1052640"/>
            <a:ext cx="2601000" cy="1344240"/>
            <a:chOff x="971640" y="1052640"/>
            <a:chExt cx="2601000" cy="1344240"/>
          </a:xfrm>
        </p:grpSpPr>
        <p:sp>
          <p:nvSpPr>
            <p:cNvPr id="426" name="WordArt 20"/>
            <p:cNvSpPr txBox="1"/>
            <p:nvPr/>
          </p:nvSpPr>
          <p:spPr>
            <a:xfrm>
              <a:off x="971640" y="1052640"/>
              <a:ext cx="186696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Частное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27" name="AutoShape 23"/>
            <p:cNvSpPr/>
            <p:nvPr/>
          </p:nvSpPr>
          <p:spPr>
            <a:xfrm flipH="1" rot="1640400">
              <a:off x="2350440" y="1844280"/>
              <a:ext cx="1224000" cy="287280"/>
            </a:xfrm>
            <a:custGeom>
              <a:avLst/>
              <a:gdLst>
                <a:gd name="textAreaLeft" fmla="*/ 214200 w 1224000"/>
                <a:gd name="textAreaRight" fmla="*/ 887400 w 122400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8" name="Text Box 26"/>
          <p:cNvSpPr/>
          <p:nvPr/>
        </p:nvSpPr>
        <p:spPr>
          <a:xfrm>
            <a:off x="6364440" y="1557360"/>
            <a:ext cx="277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сится к положени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суда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27"/>
          <p:cNvSpPr/>
          <p:nvPr/>
        </p:nvSpPr>
        <p:spPr>
          <a:xfrm>
            <a:off x="179280" y="16430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сится к польз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астных лиц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28"/>
          <p:cNvSpPr/>
          <p:nvPr/>
        </p:nvSpPr>
        <p:spPr>
          <a:xfrm>
            <a:off x="58680" y="2789280"/>
            <a:ext cx="4489200" cy="1465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это право, защищающее интерес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лица в его взаимоотношениях 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государством, регулирует сфер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в которые вмешательство госу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дарства ограниченн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29"/>
          <p:cNvSpPr/>
          <p:nvPr/>
        </p:nvSpPr>
        <p:spPr>
          <a:xfrm>
            <a:off x="4525920" y="2781360"/>
            <a:ext cx="4618080" cy="1465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 это право, регулирующее отноше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ния между государством и гражда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нами. Стороны в этих отношения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выступают как неравноправны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WordArt 30"/>
          <p:cNvSpPr txBox="1"/>
          <p:nvPr/>
        </p:nvSpPr>
        <p:spPr>
          <a:xfrm>
            <a:off x="324000" y="4365720"/>
            <a:ext cx="3924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Область свободы,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децентрализации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33" name="WordArt 31"/>
          <p:cNvSpPr txBox="1"/>
          <p:nvPr/>
        </p:nvSpPr>
        <p:spPr>
          <a:xfrm>
            <a:off x="4680000" y="4365720"/>
            <a:ext cx="4213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Область необходимости,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империтивных начал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34" name="Group 34"/>
          <p:cNvGrpSpPr/>
          <p:nvPr/>
        </p:nvGrpSpPr>
        <p:grpSpPr>
          <a:xfrm>
            <a:off x="898560" y="5516640"/>
            <a:ext cx="7561080" cy="1152360"/>
            <a:chOff x="898560" y="5516640"/>
            <a:chExt cx="7561080" cy="1152360"/>
          </a:xfrm>
        </p:grpSpPr>
        <p:sp>
          <p:nvSpPr>
            <p:cNvPr id="435" name="WordArt 32"/>
            <p:cNvSpPr txBox="1"/>
            <p:nvPr/>
          </p:nvSpPr>
          <p:spPr>
            <a:xfrm>
              <a:off x="954000" y="6097680"/>
              <a:ext cx="74487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660033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Impact"/>
                </a:rPr>
                <a:t>Взаимосвязаны, четкой границы нет</a:t>
              </a:r>
              <a:endParaRPr b="0" lang="en-US" sz="1800" spc="1" strike="noStrike">
                <a:ln w="9360">
                  <a:solidFill>
                    <a:srgbClr val="660033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436" name="AutoShape 33"/>
            <p:cNvSpPr/>
            <p:nvPr/>
          </p:nvSpPr>
          <p:spPr>
            <a:xfrm>
              <a:off x="898560" y="5516640"/>
              <a:ext cx="7561080" cy="504720"/>
            </a:xfrm>
            <a:prstGeom prst="downArrowCallout">
              <a:avLst>
                <a:gd name="adj1" fmla="val 67697"/>
                <a:gd name="adj2" fmla="val 77539"/>
                <a:gd name="adj3" fmla="val 26731"/>
                <a:gd name="adj4" fmla="val 49056"/>
              </a:avLst>
            </a:prstGeom>
            <a:solidFill>
              <a:srgbClr val="ff33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250920" y="1557360"/>
            <a:ext cx="8064360" cy="374472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468360" y="1628640"/>
            <a:ext cx="7704000" cy="40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ahoma"/>
              </a:rPr>
              <a:t>Выделите структурные элементы норм пра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соответствии с российским избирательным законодательством граждане Российской Федерации, достигшие 18 лет, имеют право избирать; лица, препятствующие осуществлению этого права, привлекаются к административной или уголовной ответственности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428472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250920" y="1557360"/>
            <a:ext cx="8064360" cy="374472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468360" y="1628640"/>
            <a:ext cx="734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В соответствии с российским избирательным законодательством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граждане Российской Федера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достигшие 18 лет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56c7aa"/>
                </a:solidFill>
                <a:latin typeface="Tahoma"/>
              </a:rPr>
              <a:t>имеют право избира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лица, препятствующие осуществлению этого права, привлекаются к административной или уголовной ответственности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421164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2268360" y="5661000"/>
            <a:ext cx="172908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2" name="Rectangle 10" descr=""/>
          <p:cNvPicPr/>
          <p:nvPr/>
        </p:nvPicPr>
        <p:blipFill>
          <a:blip r:embed="rId1"/>
          <a:stretch/>
        </p:blipFill>
        <p:spPr>
          <a:xfrm>
            <a:off x="1779480" y="4127400"/>
            <a:ext cx="6907320" cy="1895400"/>
          </a:xfrm>
          <a:prstGeom prst="rect">
            <a:avLst/>
          </a:prstGeom>
          <a:ln w="0">
            <a:noFill/>
          </a:ln>
        </p:spPr>
      </p:pic>
      <p:sp>
        <p:nvSpPr>
          <p:cNvPr id="453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2"/>
          <p:cNvSpPr/>
          <p:nvPr/>
        </p:nvSpPr>
        <p:spPr>
          <a:xfrm>
            <a:off x="324000" y="1557360"/>
            <a:ext cx="8351640" cy="367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395280" y="170352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яние признаётся совершённым невиновно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 и по обстоятельствам дела не должно было или не могло их предвиде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Rectangle 13" descr=""/>
          <p:cNvPicPr/>
          <p:nvPr/>
        </p:nvPicPr>
        <p:blipFill>
          <a:blip r:embed="rId1"/>
          <a:stretch/>
        </p:blipFill>
        <p:spPr>
          <a:xfrm>
            <a:off x="1792440" y="4187880"/>
            <a:ext cx="6771960" cy="15177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14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428472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 Box 17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24000" y="1557360"/>
            <a:ext cx="8351640" cy="367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468360" y="1700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Деяние признаётся совершённым невиновно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56c7aa"/>
                </a:solidFill>
                <a:latin typeface="Tahoma"/>
              </a:rPr>
              <a:t>и по обстоятельствам дела не должно было или не могло их предвиде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4356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8" name="Rectangle 8" descr=""/>
          <p:cNvPicPr/>
          <p:nvPr/>
        </p:nvPicPr>
        <p:blipFill>
          <a:blip r:embed="rId1"/>
          <a:stretch/>
        </p:blipFill>
        <p:spPr>
          <a:xfrm>
            <a:off x="1792440" y="4187880"/>
            <a:ext cx="6771960" cy="151776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аспивая спиртные напитки в городском парке, группа лиц нарушала общественный порядок. Они приставали к прохожим, мусорили, нецензурно выражались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1. Определите вид правонарушения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2. Проанализируйте наличие состава правонарушен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3. Определите форму вин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WordArt 11"/>
          <p:cNvSpPr txBox="1"/>
          <p:nvPr/>
        </p:nvSpPr>
        <p:spPr>
          <a:xfrm>
            <a:off x="1047600" y="735120"/>
            <a:ext cx="704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войства правового института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473" name="Group 23"/>
          <p:cNvGrpSpPr/>
          <p:nvPr/>
        </p:nvGrpSpPr>
        <p:grpSpPr>
          <a:xfrm>
            <a:off x="598680" y="1268280"/>
            <a:ext cx="7848000" cy="1206720"/>
            <a:chOff x="598680" y="1268280"/>
            <a:chExt cx="7848000" cy="1206720"/>
          </a:xfrm>
        </p:grpSpPr>
        <p:sp>
          <p:nvSpPr>
            <p:cNvPr id="474" name="WordArt 12"/>
            <p:cNvSpPr txBox="1"/>
            <p:nvPr/>
          </p:nvSpPr>
          <p:spPr>
            <a:xfrm>
              <a:off x="625320" y="1268280"/>
              <a:ext cx="7793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1.Однородность фактического содержания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75" name="Text Box 16"/>
            <p:cNvSpPr/>
            <p:nvPr/>
          </p:nvSpPr>
          <p:spPr>
            <a:xfrm>
              <a:off x="598680" y="1649520"/>
              <a:ext cx="784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аждый институт регулирует самостоятельную группу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тношений и поступков людей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6" name="Group 18"/>
          <p:cNvGrpSpPr/>
          <p:nvPr/>
        </p:nvGrpSpPr>
        <p:grpSpPr>
          <a:xfrm>
            <a:off x="603360" y="2349360"/>
            <a:ext cx="8182440" cy="1672200"/>
            <a:chOff x="603360" y="2349360"/>
            <a:chExt cx="8182440" cy="1672200"/>
          </a:xfrm>
        </p:grpSpPr>
        <p:sp>
          <p:nvSpPr>
            <p:cNvPr id="477" name="WordArt 13"/>
            <p:cNvSpPr txBox="1"/>
            <p:nvPr/>
          </p:nvSpPr>
          <p:spPr>
            <a:xfrm>
              <a:off x="603360" y="2349360"/>
              <a:ext cx="77929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2.Юридическое единство правовых норм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78" name="Text Box 17"/>
            <p:cNvSpPr/>
            <p:nvPr/>
          </p:nvSpPr>
          <p:spPr>
            <a:xfrm>
              <a:off x="687960" y="2830320"/>
              <a:ext cx="809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рмы, входящие в конкретный институт образуют еди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ый комплекс положений, принципов,понятий,правовой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жим регулирования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9" name="Group 20"/>
          <p:cNvGrpSpPr/>
          <p:nvPr/>
        </p:nvGrpSpPr>
        <p:grpSpPr>
          <a:xfrm>
            <a:off x="568440" y="3975120"/>
            <a:ext cx="8105400" cy="1257480"/>
            <a:chOff x="568440" y="3975120"/>
            <a:chExt cx="8105400" cy="1257480"/>
          </a:xfrm>
        </p:grpSpPr>
        <p:sp>
          <p:nvSpPr>
            <p:cNvPr id="480" name="WordArt 14"/>
            <p:cNvSpPr txBox="1"/>
            <p:nvPr/>
          </p:nvSpPr>
          <p:spPr>
            <a:xfrm>
              <a:off x="587160" y="3975120"/>
              <a:ext cx="7793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3.Нормативная обособленность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81" name="Text Box 19"/>
            <p:cNvSpPr/>
            <p:nvPr/>
          </p:nvSpPr>
          <p:spPr>
            <a:xfrm>
              <a:off x="568440" y="4407120"/>
              <a:ext cx="810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особление норм образующих институт в главах, разде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ах и частях закона, или нормативно-правового акта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2" name="Group 22"/>
          <p:cNvGrpSpPr/>
          <p:nvPr/>
        </p:nvGrpSpPr>
        <p:grpSpPr>
          <a:xfrm>
            <a:off x="587520" y="5229360"/>
            <a:ext cx="8224920" cy="1257120"/>
            <a:chOff x="587520" y="5229360"/>
            <a:chExt cx="8224920" cy="1257120"/>
          </a:xfrm>
        </p:grpSpPr>
        <p:sp>
          <p:nvSpPr>
            <p:cNvPr id="483" name="WordArt 15"/>
            <p:cNvSpPr txBox="1"/>
            <p:nvPr/>
          </p:nvSpPr>
          <p:spPr>
            <a:xfrm>
              <a:off x="587520" y="5229360"/>
              <a:ext cx="77929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4.Полнота регулируемых отношений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84" name="Text Box 21"/>
            <p:cNvSpPr/>
            <p:nvPr/>
          </p:nvSpPr>
          <p:spPr>
            <a:xfrm>
              <a:off x="700920" y="5661000"/>
              <a:ext cx="811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нститут права включает набор норм, призванный обес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ечить беспробельность регулируемых отношений.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85" name="Rectangle 25" descr=""/>
          <p:cNvPicPr/>
          <p:nvPr/>
        </p:nvPicPr>
        <p:blipFill>
          <a:blip r:embed="rId3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5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488" name="WordArt 3"/>
          <p:cNvSpPr txBox="1"/>
          <p:nvPr/>
        </p:nvSpPr>
        <p:spPr>
          <a:xfrm>
            <a:off x="1047600" y="735120"/>
            <a:ext cx="704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50000">
                      <a:srgbClr val="765e2f"/>
                    </a:gs>
                    <a:gs pos="100000">
                      <a:srgbClr val="ffcc66"/>
                    </a:gs>
                  </a:gsLst>
                  <a:lin ang="5400000"/>
                </a:gradFill>
                <a:latin typeface="Arial"/>
              </a:rPr>
              <a:t>Виды институтов 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50000">
                    <a:srgbClr val="765e2f"/>
                  </a:gs>
                  <a:gs pos="100000">
                    <a:srgbClr val="ffcc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89" name="Group 23"/>
          <p:cNvGrpSpPr/>
          <p:nvPr/>
        </p:nvGrpSpPr>
        <p:grpSpPr>
          <a:xfrm>
            <a:off x="257040" y="1197000"/>
            <a:ext cx="4243680" cy="1977840"/>
            <a:chOff x="257040" y="1197000"/>
            <a:chExt cx="4243680" cy="1977840"/>
          </a:xfrm>
        </p:grpSpPr>
        <p:grpSp>
          <p:nvGrpSpPr>
            <p:cNvPr id="490" name="Group 20"/>
            <p:cNvGrpSpPr/>
            <p:nvPr/>
          </p:nvGrpSpPr>
          <p:grpSpPr>
            <a:xfrm>
              <a:off x="900000" y="1197000"/>
              <a:ext cx="3600720" cy="1219320"/>
              <a:chOff x="900000" y="1197000"/>
              <a:chExt cx="3600720" cy="1219320"/>
            </a:xfrm>
          </p:grpSpPr>
          <p:sp>
            <p:nvSpPr>
              <p:cNvPr id="491" name="WordArt 16"/>
              <p:cNvSpPr txBox="1"/>
              <p:nvPr/>
            </p:nvSpPr>
            <p:spPr>
              <a:xfrm>
                <a:off x="900000" y="1844640"/>
                <a:ext cx="181944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800000"/>
                      </a:solidFill>
                      <a:miter/>
                    </a:ln>
                    <a:blipFill rotWithShape="0">
                      <a:blip r:embed="rId2"/>
                      <a:srcRect/>
                      <a:stretch/>
                    </a:blipFill>
                    <a:latin typeface="Impact"/>
                  </a:rPr>
                  <a:t>простые</a:t>
                </a:r>
                <a:endParaRPr b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Impact"/>
                  <a:ea typeface="Impact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H="1">
                <a:off x="2843280" y="1197000"/>
                <a:ext cx="1657440" cy="86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3" name="Text Box 22"/>
            <p:cNvSpPr/>
            <p:nvPr/>
          </p:nvSpPr>
          <p:spPr>
            <a:xfrm>
              <a:off x="257040" y="2349360"/>
              <a:ext cx="301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Юридические  норм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дной отрасли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4" name="Group 25"/>
          <p:cNvGrpSpPr/>
          <p:nvPr/>
        </p:nvGrpSpPr>
        <p:grpSpPr>
          <a:xfrm>
            <a:off x="4572000" y="1197000"/>
            <a:ext cx="4593960" cy="2362680"/>
            <a:chOff x="4572000" y="1197000"/>
            <a:chExt cx="4593960" cy="2362680"/>
          </a:xfrm>
        </p:grpSpPr>
        <p:grpSp>
          <p:nvGrpSpPr>
            <p:cNvPr id="495" name="Group 21"/>
            <p:cNvGrpSpPr/>
            <p:nvPr/>
          </p:nvGrpSpPr>
          <p:grpSpPr>
            <a:xfrm>
              <a:off x="4572000" y="1197000"/>
              <a:ext cx="3887640" cy="1174680"/>
              <a:chOff x="4572000" y="1197000"/>
              <a:chExt cx="3887640" cy="1174680"/>
            </a:xfrm>
          </p:grpSpPr>
          <p:sp>
            <p:nvSpPr>
              <p:cNvPr id="496" name="WordArt 17"/>
              <p:cNvSpPr txBox="1"/>
              <p:nvPr/>
            </p:nvSpPr>
            <p:spPr>
              <a:xfrm>
                <a:off x="6372360" y="1889280"/>
                <a:ext cx="2087280" cy="482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сложные</a:t>
                </a:r>
                <a:endPara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497" name="Line 19"/>
              <p:cNvSpPr/>
              <p:nvPr/>
            </p:nvSpPr>
            <p:spPr>
              <a:xfrm>
                <a:off x="4572000" y="1197000"/>
                <a:ext cx="1657440" cy="86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8" name="Text Box 24"/>
            <p:cNvSpPr/>
            <p:nvPr/>
          </p:nvSpPr>
          <p:spPr>
            <a:xfrm>
              <a:off x="5367240" y="2368440"/>
              <a:ext cx="379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овокупность норм ,входя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щих в состав различных от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слей права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Text Box 26"/>
          <p:cNvSpPr/>
          <p:nvPr/>
        </p:nvSpPr>
        <p:spPr>
          <a:xfrm>
            <a:off x="30240" y="3357720"/>
            <a:ext cx="353196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прекращения бра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семейное право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зало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гражданское право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27"/>
          <p:cNvSpPr/>
          <p:nvPr/>
        </p:nvSpPr>
        <p:spPr>
          <a:xfrm>
            <a:off x="5525640" y="3645000"/>
            <a:ext cx="3574800" cy="916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собствен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гражданское, семейно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ституционное право и др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1" name="Group 32"/>
          <p:cNvGrpSpPr/>
          <p:nvPr/>
        </p:nvGrpSpPr>
        <p:grpSpPr>
          <a:xfrm>
            <a:off x="2124000" y="3284640"/>
            <a:ext cx="5105520" cy="1942920"/>
            <a:chOff x="2124000" y="3284640"/>
            <a:chExt cx="5105520" cy="1942920"/>
          </a:xfrm>
        </p:grpSpPr>
        <p:sp>
          <p:nvSpPr>
            <p:cNvPr id="502" name="WordArt 28"/>
            <p:cNvSpPr txBox="1"/>
            <p:nvPr/>
          </p:nvSpPr>
          <p:spPr>
            <a:xfrm>
              <a:off x="2124000" y="4724280"/>
              <a:ext cx="51055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включает субинституты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503" name="AutoShape 31"/>
            <p:cNvSpPr/>
            <p:nvPr/>
          </p:nvSpPr>
          <p:spPr>
            <a:xfrm rot="10800000">
              <a:off x="4427280" y="3284640"/>
              <a:ext cx="1081080" cy="1224000"/>
            </a:xfrm>
            <a:custGeom>
              <a:avLst/>
              <a:gdLst>
                <a:gd name="textAreaLeft" fmla="*/ 0 w 1081080"/>
                <a:gd name="textAreaRight" fmla="*/ 927360 w 1081080"/>
                <a:gd name="textAreaTop" fmla="*/ 81612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cc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WordArt 33"/>
          <p:cNvSpPr txBox="1"/>
          <p:nvPr/>
        </p:nvSpPr>
        <p:spPr>
          <a:xfrm>
            <a:off x="2833560" y="5200560"/>
            <a:ext cx="3610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Институт ренты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grpSp>
        <p:nvGrpSpPr>
          <p:cNvPr id="505" name="Group 36"/>
          <p:cNvGrpSpPr/>
          <p:nvPr/>
        </p:nvGrpSpPr>
        <p:grpSpPr>
          <a:xfrm>
            <a:off x="288000" y="5749920"/>
            <a:ext cx="8531640" cy="916920"/>
            <a:chOff x="288000" y="5749920"/>
            <a:chExt cx="8531640" cy="916920"/>
          </a:xfrm>
        </p:grpSpPr>
        <p:sp>
          <p:nvSpPr>
            <p:cNvPr id="506" name="Text Box 34"/>
            <p:cNvSpPr/>
            <p:nvPr/>
          </p:nvSpPr>
          <p:spPr>
            <a:xfrm>
              <a:off x="288000" y="5749920"/>
              <a:ext cx="4940280" cy="916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стоянная рента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жизненная рента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жизненное содержание с иждивением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WordArt 35"/>
            <p:cNvSpPr txBox="1"/>
            <p:nvPr/>
          </p:nvSpPr>
          <p:spPr>
            <a:xfrm>
              <a:off x="5533560" y="5965920"/>
              <a:ext cx="32860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cc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убинституты</a:t>
              </a:r>
              <a:endParaRPr b="1" lang="en-US" sz="1800" spc="1" strike="noStrike">
                <a:ln w="28440">
                  <a:solidFill>
                    <a:srgbClr val="cc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08" name="AutoShape 38">
            <a:hlinkClick r:id="rId7" action="ppaction://hlinksldjump"/>
          </p:cNvPr>
          <p:cNvSpPr/>
          <p:nvPr/>
        </p:nvSpPr>
        <p:spPr>
          <a:xfrm>
            <a:off x="6877080" y="5300640"/>
            <a:ext cx="1079640" cy="504720"/>
          </a:xfrm>
          <a:custGeom>
            <a:avLst/>
            <a:gdLst>
              <a:gd name="textAreaLeft" fmla="*/ 32400 w 1079640"/>
              <a:gd name="textAreaRight" fmla="*/ 1047240 w 107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187" h="21600">
                <a:moveTo>
                  <a:pt x="0" y="0"/>
                </a:moveTo>
                <a:lnTo>
                  <a:pt x="46187" y="0"/>
                </a:lnTo>
                <a:lnTo>
                  <a:pt x="46187" y="21600"/>
                </a:lnTo>
                <a:lnTo>
                  <a:pt x="0" y="21600"/>
                </a:lnTo>
                <a:close/>
              </a:path>
              <a:path fill="lightenLess" w="46187" h="21600">
                <a:moveTo>
                  <a:pt x="0" y="0"/>
                </a:moveTo>
                <a:lnTo>
                  <a:pt x="46187" y="0"/>
                </a:lnTo>
                <a:lnTo>
                  <a:pt x="44787" y="1400"/>
                </a:lnTo>
                <a:lnTo>
                  <a:pt x="1400" y="1400"/>
                </a:lnTo>
                <a:close/>
              </a:path>
              <a:path fill="darken" w="46187" h="21600">
                <a:moveTo>
                  <a:pt x="46187" y="0"/>
                </a:moveTo>
                <a:lnTo>
                  <a:pt x="46187" y="21600"/>
                </a:lnTo>
                <a:lnTo>
                  <a:pt x="44787" y="20200"/>
                </a:lnTo>
                <a:lnTo>
                  <a:pt x="44787" y="1400"/>
                </a:lnTo>
                <a:close/>
              </a:path>
              <a:path fill="darkenLess" w="46187" h="21600">
                <a:moveTo>
                  <a:pt x="46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87" y="20200"/>
                </a:lnTo>
                <a:close/>
              </a:path>
              <a:path fill="lighten" w="46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187" h="21600">
                <a:moveTo>
                  <a:pt x="16087" y="10800"/>
                </a:moveTo>
                <a:lnTo>
                  <a:pt x="30100" y="3794"/>
                </a:lnTo>
                <a:lnTo>
                  <a:pt x="30100" y="17806"/>
                </a:ln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Місце для нижнього колонтитула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j0178279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5"/>
          <p:cNvSpPr/>
          <p:nvPr/>
        </p:nvSpPr>
        <p:spPr>
          <a:xfrm rot="6459600">
            <a:off x="6298920" y="-25239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826920" y="364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b4dcfa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marL="318960" indent="-318960" algn="r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План урока.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46040" y="2060280"/>
            <a:ext cx="8229600" cy="403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1. Понятие системы права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2. Отрасли права. Материальное и процессуальное право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3.Публичное и частное право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5"/>
          <p:cNvSpPr/>
          <p:nvPr/>
        </p:nvSpPr>
        <p:spPr>
          <a:xfrm>
            <a:off x="2392200" y="3524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6" name="Rectangle 6" descr=""/>
          <p:cNvPicPr/>
          <p:nvPr/>
        </p:nvPicPr>
        <p:blipFill>
          <a:blip r:embed="rId2"/>
          <a:stretch/>
        </p:blipFill>
        <p:spPr>
          <a:xfrm>
            <a:off x="1116000" y="-103320"/>
            <a:ext cx="7912080" cy="17859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250920" y="1484280"/>
            <a:ext cx="8447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520" name="Rectangle 5" descr=""/>
          <p:cNvPicPr/>
          <p:nvPr/>
        </p:nvPicPr>
        <p:blipFill>
          <a:blip r:embed="rId2"/>
          <a:stretch/>
        </p:blipFill>
        <p:spPr>
          <a:xfrm>
            <a:off x="1189080" y="-438120"/>
            <a:ext cx="8478720" cy="14191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4572000" y="177336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324000" y="17938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0" y="4508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ГК РФ п.1 Ст. 209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4500720" y="45086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.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т. 5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-324000" y="980640"/>
            <a:ext cx="48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5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23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2300" spc="-1" strike="noStrike">
                <a:solidFill>
                  <a:srgbClr val="404040"/>
                </a:solidFill>
                <a:latin typeface="Times New Roman"/>
              </a:rPr>
              <a:t>  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0" y="7776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5148360" y="1052640"/>
            <a:ext cx="3671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-324000" y="4797360"/>
            <a:ext cx="94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0" y="321300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ГК РФ п. 2 Ст. 20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4716360" y="2852640"/>
            <a:ext cx="44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СК РФ п. 1 Ст. 3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0" y="558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8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2268360" y="4762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1116000" y="0"/>
            <a:ext cx="71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5007240" y="3141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57200" y="765000"/>
          <a:ext cx="8218440" cy="5904000"/>
        </p:xfrm>
        <a:graphic>
          <a:graphicData uri="http://schemas.openxmlformats.org/drawingml/2006/table">
            <a:tbl>
              <a:tblPr/>
              <a:tblGrid>
                <a:gridCol w="4114800"/>
                <a:gridCol w="4103640"/>
              </a:tblGrid>
              <a:tr h="29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1" name="Text Box 26"/>
          <p:cNvSpPr/>
          <p:nvPr/>
        </p:nvSpPr>
        <p:spPr>
          <a:xfrm>
            <a:off x="468360" y="85896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Text Box 27"/>
          <p:cNvSpPr/>
          <p:nvPr/>
        </p:nvSpPr>
        <p:spPr>
          <a:xfrm>
            <a:off x="539640" y="414972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Text Box 28"/>
          <p:cNvSpPr/>
          <p:nvPr/>
        </p:nvSpPr>
        <p:spPr>
          <a:xfrm>
            <a:off x="826920" y="4292640"/>
            <a:ext cx="36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Text Box 29"/>
          <p:cNvSpPr/>
          <p:nvPr/>
        </p:nvSpPr>
        <p:spPr>
          <a:xfrm>
            <a:off x="468360" y="4292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30"/>
          <p:cNvSpPr/>
          <p:nvPr/>
        </p:nvSpPr>
        <p:spPr>
          <a:xfrm>
            <a:off x="539640" y="3429000"/>
            <a:ext cx="39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4643280" y="1413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Text Box 44"/>
          <p:cNvSpPr/>
          <p:nvPr/>
        </p:nvSpPr>
        <p:spPr>
          <a:xfrm>
            <a:off x="4788000" y="141300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 Box 45"/>
          <p:cNvSpPr/>
          <p:nvPr/>
        </p:nvSpPr>
        <p:spPr>
          <a:xfrm>
            <a:off x="4716360" y="86832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Text Box 47"/>
          <p:cNvSpPr/>
          <p:nvPr/>
        </p:nvSpPr>
        <p:spPr>
          <a:xfrm>
            <a:off x="4643280" y="24210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48"/>
          <p:cNvSpPr/>
          <p:nvPr/>
        </p:nvSpPr>
        <p:spPr>
          <a:xfrm>
            <a:off x="4643280" y="5516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49"/>
          <p:cNvSpPr/>
          <p:nvPr/>
        </p:nvSpPr>
        <p:spPr>
          <a:xfrm>
            <a:off x="4500720" y="4365720"/>
            <a:ext cx="43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542880" y="-542880"/>
            <a:ext cx="8508960" cy="1549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0" y="1557000"/>
            <a:ext cx="4581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284720" y="1557000"/>
            <a:ext cx="4859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4220640"/>
            <a:ext cx="443376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211280" y="4265280"/>
            <a:ext cx="49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3" name="Picture 4" descr="j017827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9"/>
          <p:cNvSpPr/>
          <p:nvPr/>
        </p:nvSpPr>
        <p:spPr>
          <a:xfrm>
            <a:off x="1816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0" y="765000"/>
            <a:ext cx="896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000066"/>
                </a:solidFill>
                <a:latin typeface="Tahoma"/>
              </a:rPr>
              <a:t>внутренняя структура права, состоящая из взаимосогласованных норм, институтов и отраслей пра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хема 3" descr=""/>
          <p:cNvPicPr/>
          <p:nvPr/>
        </p:nvPicPr>
        <p:blipFill>
          <a:blip r:embed="rId1"/>
          <a:stretch/>
        </p:blipFill>
        <p:spPr>
          <a:xfrm>
            <a:off x="-182520" y="0"/>
            <a:ext cx="9387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40" name="WordArt 46"/>
          <p:cNvSpPr txBox="1"/>
          <p:nvPr/>
        </p:nvSpPr>
        <p:spPr>
          <a:xfrm>
            <a:off x="108000" y="1052640"/>
            <a:ext cx="25210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истем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41" name="Text Box 47"/>
          <p:cNvSpPr/>
          <p:nvPr/>
        </p:nvSpPr>
        <p:spPr>
          <a:xfrm>
            <a:off x="3101040" y="765000"/>
            <a:ext cx="5910840" cy="1557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ъективно существующее, внут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ннее строение права, его подраз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ление на отрасли, подотрасл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ституты и нор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48"/>
          <p:cNvSpPr/>
          <p:nvPr/>
        </p:nvSpPr>
        <p:spPr>
          <a:xfrm flipV="1">
            <a:off x="2340000" y="1483920"/>
            <a:ext cx="647640" cy="2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WordArt 49"/>
          <p:cNvSpPr txBox="1"/>
          <p:nvPr/>
        </p:nvSpPr>
        <p:spPr>
          <a:xfrm>
            <a:off x="468360" y="3621240"/>
            <a:ext cx="165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1.Норм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44" name="Text Box 50"/>
          <p:cNvSpPr/>
          <p:nvPr/>
        </p:nvSpPr>
        <p:spPr>
          <a:xfrm>
            <a:off x="2768400" y="3240000"/>
            <a:ext cx="61776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Элемент системы права. Существу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е обособленно, а в зависимости о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едназначения объединяются в ин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титуты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WordArt 52"/>
          <p:cNvSpPr txBox="1"/>
          <p:nvPr/>
        </p:nvSpPr>
        <p:spPr>
          <a:xfrm>
            <a:off x="1187280" y="2492280"/>
            <a:ext cx="6975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Book Antiqua"/>
              </a:rPr>
              <a:t>Система права включает: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Book Antiqua"/>
              <a:ea typeface="Book Antiqua"/>
            </a:endParaRPr>
          </a:p>
        </p:txBody>
      </p:sp>
      <p:sp>
        <p:nvSpPr>
          <p:cNvPr id="346" name="WordArt 54"/>
          <p:cNvSpPr txBox="1"/>
          <p:nvPr/>
        </p:nvSpPr>
        <p:spPr>
          <a:xfrm>
            <a:off x="324000" y="5421240"/>
            <a:ext cx="2087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2.Институ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47" name="Text Box 55"/>
          <p:cNvSpPr/>
          <p:nvPr/>
        </p:nvSpPr>
        <p:spPr>
          <a:xfrm>
            <a:off x="2777760" y="5040360"/>
            <a:ext cx="61837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сновной элемент системы права,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едставленный совокупность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авовых норм,регулирующих од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родную группу отнош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AutoShape 57">
            <a:hlinkClick r:id="rId4" action="ppaction://hlinksldjump"/>
          </p:cNvPr>
          <p:cNvSpPr/>
          <p:nvPr/>
        </p:nvSpPr>
        <p:spPr>
          <a:xfrm>
            <a:off x="179280" y="5950080"/>
            <a:ext cx="505080" cy="64764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647640"/>
              <a:gd name="textAreaBottom" fmla="*/ 614880 h 647640"/>
            </a:gdLst>
            <a:ahLst/>
            <a:rect l="textAreaLeft" t="textAreaTop" r="textAreaRight" b="textAreaBottom"/>
            <a:pathLst>
              <a:path w="21600" h="27692">
                <a:moveTo>
                  <a:pt x="0" y="0"/>
                </a:moveTo>
                <a:lnTo>
                  <a:pt x="21600" y="0"/>
                </a:lnTo>
                <a:lnTo>
                  <a:pt x="21600" y="27692"/>
                </a:lnTo>
                <a:lnTo>
                  <a:pt x="0" y="27692"/>
                </a:lnTo>
                <a:close/>
              </a:path>
              <a:path fill="lightenLess" w="21600" h="27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92">
                <a:moveTo>
                  <a:pt x="21600" y="0"/>
                </a:moveTo>
                <a:lnTo>
                  <a:pt x="21600" y="27692"/>
                </a:lnTo>
                <a:lnTo>
                  <a:pt x="20200" y="26292"/>
                </a:lnTo>
                <a:lnTo>
                  <a:pt x="20200" y="1400"/>
                </a:lnTo>
                <a:close/>
              </a:path>
              <a:path fill="darkenLess" w="21600" h="27692">
                <a:moveTo>
                  <a:pt x="21600" y="27692"/>
                </a:moveTo>
                <a:lnTo>
                  <a:pt x="0" y="27692"/>
                </a:lnTo>
                <a:lnTo>
                  <a:pt x="1400" y="26292"/>
                </a:lnTo>
                <a:lnTo>
                  <a:pt x="20200" y="26292"/>
                </a:lnTo>
                <a:close/>
              </a:path>
              <a:path fill="lighten" w="21600" h="27692">
                <a:moveTo>
                  <a:pt x="0" y="27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92"/>
                </a:lnTo>
                <a:close/>
              </a:path>
              <a:path fill="darken" w="21600" h="27692">
                <a:moveTo>
                  <a:pt x="10800" y="68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7692">
                <a:moveTo>
                  <a:pt x="10800" y="72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7692">
                <a:moveTo>
                  <a:pt x="8224" y="11270"/>
                </a:moveTo>
                <a:lnTo>
                  <a:pt x="12088" y="11270"/>
                </a:lnTo>
                <a:lnTo>
                  <a:pt x="12088" y="18268"/>
                </a:lnTo>
                <a:lnTo>
                  <a:pt x="13376" y="18268"/>
                </a:lnTo>
                <a:lnTo>
                  <a:pt x="13376" y="19190"/>
                </a:lnTo>
                <a:lnTo>
                  <a:pt x="8224" y="19190"/>
                </a:lnTo>
                <a:lnTo>
                  <a:pt x="8224" y="18268"/>
                </a:lnTo>
                <a:lnTo>
                  <a:pt x="9512" y="18268"/>
                </a:lnTo>
                <a:lnTo>
                  <a:pt x="9512" y="12175"/>
                </a:lnTo>
                <a:lnTo>
                  <a:pt x="8224" y="12175"/>
                </a:ln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51" name="WordArt 23"/>
          <p:cNvSpPr txBox="1"/>
          <p:nvPr/>
        </p:nvSpPr>
        <p:spPr>
          <a:xfrm>
            <a:off x="357120" y="1143000"/>
            <a:ext cx="208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4.Подотрасль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2627280" y="928800"/>
            <a:ext cx="651672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бъединение нескольких институ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дной и той же отрасли прав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Конституционное право (муниципаль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е, избирательное, парламентско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287280" y="5661000"/>
            <a:ext cx="89042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одотрасли права не являются обязательным компонентом отраслей прав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Семейное, процессуальное право на подотрасли не делятся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2796480" y="3186000"/>
            <a:ext cx="6023880" cy="1922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сновное подразделение системы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ава.Совокупность норм,распре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деленная по правовым институтам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регулирующих особую область от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ше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Прямоугольник 10"/>
          <p:cNvSpPr/>
          <p:nvPr/>
        </p:nvSpPr>
        <p:spPr>
          <a:xfrm>
            <a:off x="285840" y="34290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3.Отрасл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58" name="WordArt 9"/>
          <p:cNvSpPr txBox="1"/>
          <p:nvPr/>
        </p:nvSpPr>
        <p:spPr>
          <a:xfrm>
            <a:off x="1835280" y="765000"/>
            <a:ext cx="557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троение отрасли 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59" name="Group 20"/>
          <p:cNvGrpSpPr/>
          <p:nvPr/>
        </p:nvGrpSpPr>
        <p:grpSpPr>
          <a:xfrm>
            <a:off x="-133920" y="1197000"/>
            <a:ext cx="4938480" cy="2088360"/>
            <a:chOff x="-133920" y="1197000"/>
            <a:chExt cx="4938480" cy="2088360"/>
          </a:xfrm>
        </p:grpSpPr>
        <p:grpSp>
          <p:nvGrpSpPr>
            <p:cNvPr id="360" name="Group 16"/>
            <p:cNvGrpSpPr/>
            <p:nvPr/>
          </p:nvGrpSpPr>
          <p:grpSpPr>
            <a:xfrm>
              <a:off x="324000" y="1197000"/>
              <a:ext cx="3311280" cy="1152000"/>
              <a:chOff x="324000" y="1197000"/>
              <a:chExt cx="3311280" cy="1152000"/>
            </a:xfrm>
          </p:grpSpPr>
          <p:pic>
            <p:nvPicPr>
              <p:cNvPr id="361" name="WordArt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1912320"/>
                <a:ext cx="2627280" cy="43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Line 12"/>
              <p:cNvSpPr/>
              <p:nvPr/>
            </p:nvSpPr>
            <p:spPr>
              <a:xfrm flipH="1">
                <a:off x="2843280" y="1197000"/>
                <a:ext cx="792000" cy="78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Text Box 18"/>
            <p:cNvSpPr/>
            <p:nvPr/>
          </p:nvSpPr>
          <p:spPr>
            <a:xfrm>
              <a:off x="-133920" y="2368440"/>
              <a:ext cx="4938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ормы права, которые распространяютс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а все отношения, регулируемые данно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траслью права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4" name="Group 21"/>
          <p:cNvGrpSpPr/>
          <p:nvPr/>
        </p:nvGrpSpPr>
        <p:grpSpPr>
          <a:xfrm>
            <a:off x="4396680" y="1197000"/>
            <a:ext cx="4970520" cy="2088360"/>
            <a:chOff x="4396680" y="1197000"/>
            <a:chExt cx="4970520" cy="2088360"/>
          </a:xfrm>
        </p:grpSpPr>
        <p:grpSp>
          <p:nvGrpSpPr>
            <p:cNvPr id="365" name="Group 17"/>
            <p:cNvGrpSpPr/>
            <p:nvPr/>
          </p:nvGrpSpPr>
          <p:grpSpPr>
            <a:xfrm>
              <a:off x="4500720" y="1197000"/>
              <a:ext cx="4248000" cy="1079640"/>
              <a:chOff x="4500720" y="1197000"/>
              <a:chExt cx="4248000" cy="1079640"/>
            </a:xfrm>
          </p:grpSpPr>
          <p:sp>
            <p:nvSpPr>
              <p:cNvPr id="366" name="WordArt 11"/>
              <p:cNvSpPr txBox="1"/>
              <p:nvPr/>
            </p:nvSpPr>
            <p:spPr>
              <a:xfrm>
                <a:off x="5292720" y="1919160"/>
                <a:ext cx="3456000" cy="357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latin typeface="Impact"/>
                  </a:rPr>
                  <a:t>особенная часть</a:t>
                </a:r>
                <a:endPara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Impact"/>
                  <a:ea typeface="Impact"/>
                </a:endParaRPr>
              </a:p>
            </p:txBody>
          </p:sp>
          <p:sp>
            <p:nvSpPr>
              <p:cNvPr id="367" name="Line 15"/>
              <p:cNvSpPr/>
              <p:nvPr/>
            </p:nvSpPr>
            <p:spPr>
              <a:xfrm>
                <a:off x="4500720" y="1197000"/>
                <a:ext cx="792000" cy="792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8" name="Text Box 19"/>
            <p:cNvSpPr/>
            <p:nvPr/>
          </p:nvSpPr>
          <p:spPr>
            <a:xfrm>
              <a:off x="4396680" y="2368440"/>
              <a:ext cx="497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ормы права, которые распространяютс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а конкретные отношения, регулируемы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данной отраслью права.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9" name="WordArt 22"/>
          <p:cNvSpPr txBox="1"/>
          <p:nvPr/>
        </p:nvSpPr>
        <p:spPr>
          <a:xfrm>
            <a:off x="826920" y="3759120"/>
            <a:ext cx="7267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cffcc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33cc33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Arial"/>
              </a:rPr>
              <a:t>система права характеризуется</a:t>
            </a:r>
            <a:endParaRPr b="1" lang="en-US" sz="1800" spc="1" strike="noStrike">
              <a:ln w="19080">
                <a:solidFill>
                  <a:srgbClr val="ccffcc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50000">
                    <a:srgbClr val="33cc33"/>
                  </a:gs>
                  <a:gs pos="100000">
                    <a:srgbClr val="008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506880" y="4613400"/>
            <a:ext cx="82303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взаимозависимостью и связью правовых нор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регулирует отношения всей совокупностью юри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дических сред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целостностью и согласованность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Місце для нижнього колонтитула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498920" y="115920"/>
            <a:ext cx="4321080" cy="2421000"/>
          </a:xfrm>
          <a:prstGeom prst="rect">
            <a:avLst/>
          </a:prstGeom>
          <a:solidFill>
            <a:srgbClr val="212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44360" y="907920"/>
            <a:ext cx="3996000" cy="2449800"/>
          </a:xfrm>
          <a:prstGeom prst="rect">
            <a:avLst/>
          </a:prstGeom>
          <a:solidFill>
            <a:srgbClr val="212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52000" y="907920"/>
            <a:ext cx="4032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имущественные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 семейные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 трудовые и проче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(Гражданско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Семейно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Трудовое право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75" name="Picture 5" descr="j0178279"/>
          <p:cNvPicPr/>
          <p:nvPr/>
        </p:nvPicPr>
        <p:blipFill>
          <a:blip r:embed="rId1"/>
          <a:stretch/>
        </p:blipFill>
        <p:spPr>
          <a:xfrm>
            <a:off x="34920" y="-2700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6"/>
          <p:cNvSpPr/>
          <p:nvPr/>
        </p:nvSpPr>
        <p:spPr>
          <a:xfrm>
            <a:off x="4573440" y="73080"/>
            <a:ext cx="4462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4427640" y="249552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5" descr=""/>
          <p:cNvPicPr/>
          <p:nvPr/>
        </p:nvPicPr>
        <p:blipFill>
          <a:blip r:embed="rId1"/>
          <a:stretch/>
        </p:blipFill>
        <p:spPr>
          <a:xfrm>
            <a:off x="219240" y="-231840"/>
            <a:ext cx="8943840" cy="150012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6"/>
          <p:cNvSpPr/>
          <p:nvPr/>
        </p:nvSpPr>
        <p:spPr>
          <a:xfrm>
            <a:off x="324000" y="765000"/>
            <a:ext cx="4248000" cy="719280"/>
          </a:xfrm>
          <a:prstGeom prst="downArrowCallout">
            <a:avLst>
              <a:gd name="adj1" fmla="val 147661"/>
              <a:gd name="adj2" fmla="val 147648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ри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4643280" y="765000"/>
            <a:ext cx="4248360" cy="71928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цессу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50920" y="1557360"/>
            <a:ext cx="3456000" cy="431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ституцио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250920" y="2108160"/>
            <a:ext cx="3456000" cy="43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дминистратив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250920" y="2660760"/>
            <a:ext cx="3456000" cy="431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250920" y="3213000"/>
            <a:ext cx="3456000" cy="43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5437080" y="155736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дминистративн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5437080" y="227664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16"/>
          <p:cNvSpPr/>
          <p:nvPr/>
        </p:nvSpPr>
        <p:spPr>
          <a:xfrm>
            <a:off x="5435640" y="299736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WordArt 17"/>
          <p:cNvSpPr txBox="1"/>
          <p:nvPr/>
        </p:nvSpPr>
        <p:spPr>
          <a:xfrm rot="5400000">
            <a:off x="3419280" y="2374560"/>
            <a:ext cx="230508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Базов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0" name="Rectangle 18"/>
          <p:cNvSpPr/>
          <p:nvPr/>
        </p:nvSpPr>
        <p:spPr>
          <a:xfrm>
            <a:off x="250920" y="400536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ей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24"/>
          <p:cNvSpPr/>
          <p:nvPr/>
        </p:nvSpPr>
        <p:spPr>
          <a:xfrm>
            <a:off x="250920" y="447984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уд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25"/>
          <p:cNvSpPr/>
          <p:nvPr/>
        </p:nvSpPr>
        <p:spPr>
          <a:xfrm>
            <a:off x="250920" y="495468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ем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26"/>
          <p:cNvSpPr/>
          <p:nvPr/>
        </p:nvSpPr>
        <p:spPr>
          <a:xfrm>
            <a:off x="250920" y="543096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27"/>
          <p:cNvSpPr/>
          <p:nvPr/>
        </p:nvSpPr>
        <p:spPr>
          <a:xfrm>
            <a:off x="250920" y="590544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нанс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28"/>
          <p:cNvSpPr/>
          <p:nvPr/>
        </p:nvSpPr>
        <p:spPr>
          <a:xfrm>
            <a:off x="250920" y="638172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лог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29"/>
          <p:cNvSpPr/>
          <p:nvPr/>
        </p:nvSpPr>
        <p:spPr>
          <a:xfrm>
            <a:off x="5437080" y="4005360"/>
            <a:ext cx="3456000" cy="93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-исполнит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30"/>
          <p:cNvSpPr/>
          <p:nvPr/>
        </p:nvSpPr>
        <p:spPr>
          <a:xfrm>
            <a:off x="5435640" y="5661000"/>
            <a:ext cx="345600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рбитражно-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WordArt 31"/>
          <p:cNvSpPr txBox="1"/>
          <p:nvPr/>
        </p:nvSpPr>
        <p:spPr>
          <a:xfrm rot="5400000">
            <a:off x="3141360" y="5075280"/>
            <a:ext cx="266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ециаль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LEGION</cp:lastModifiedBy>
  <dcterms:modified xsi:type="dcterms:W3CDTF">2015-01-28T08:32:59Z</dcterms:modified>
  <cp:revision>150</cp:revision>
  <dc:subject/>
  <dc:title>Система пра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