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30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8.jpeg" ContentType="image/jpeg"/>
  <Override PartName="/ppt/media/image19.png" ContentType="image/png"/>
  <Override PartName="/ppt/media/image20.wmf" ContentType="image/x-wmf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6C1B-7165-4D8F-BB23-DDEA021B2D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5898-50BF-4C32-B78D-941ED93491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расли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47C0-9A0D-4908-81DA-9A17C1F4DF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Публичное и частн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2006-F22F-4B8C-B46A-35F314445A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те структурные элементы норм пра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российским избирательным законодательством граждане Российской Федерации, достигшие 18 лет, имеют право избирать; лица, препятствующие осуществлению этого права, привлекаются к административной или уголовной ответственности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0DDF-3BE8-40CA-8DFA-AC8C2CA94B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те структурные элемент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соответствии с российским избирательным законодательством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раждане Российской Федер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достигшие 18 лет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имеют право избир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лица, препятствующие осуществлению этого права, привлекаются к административной или уголовной ответственност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2D54-B497-4083-8D87-5E0B43FCA2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ыделите структурные элемент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ние признаётся совершённым невиновно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 и по обстоятельствам дела не должно было или не могло их предвиде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3B15-FCD6-4295-B1E2-15004670AE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ыделите структурные элемент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Деяние признаётся совершённым невиновно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и по обстоятельствам дела не должно было или не могло их предвиде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B2AD-0C18-4E97-AE61-B77EA0DD2C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ивая спиртные напитки в городском парке, группа лиц нарушала общественный порядок. Они приставали к прохожим, мусорили, нецензурно выражали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ределите вид правонаруше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анализируйте наличие состава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пределите форму в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8300-F1AC-40BC-AD9A-FCBAE312F8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1.Однородность фактического содерж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ждый институт регулирует самостоятельную групп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ношений и поступков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2.Юридическое единство правовых н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рмы, входящие в конкретный институт образуют ед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ый комплекс положений, принципов,понятий,право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жим регул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3.Нормативная обособл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особление норм образующих институт в главах, разд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ах и частях закона, или нормативно-правового а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4.Полнота регулируем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ститут права включает набор норм, призванный обес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чить беспробельность регулируемых отно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FE8E-4CAD-42F2-825F-EA13B83C76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213D-5A6C-4C5F-89C1-E5AEF8DC94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9E71-67CB-483B-8E87-507C0718A6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. 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2. Отрасли права. Материальное и 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3.Публичное и частн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17BF-0211-49C8-8EC8-68F21C0F04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E618-E4F7-4BCB-ACCC-16C064FE5B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К РФ п.1 Ст. 2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.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. 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2977-476D-45BB-9457-7324A168AE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К РФ п. 2 Ст. 2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К РФ п. 1 Ст. 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CEC7-7340-453D-9943-DDD33A16D3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52BB-3B89-4A78-AAB7-61FA403C1C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6AFC-DD6C-48D4-8116-CE0E155729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ъективно существующее, вну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ннее строение права, его под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еление на отрасли, подотрасл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ституты и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66"/>
                </a:solidFill>
                <a:latin typeface="Book Antiqua"/>
              </a:rPr>
              <a:t>Система права 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1.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Элемент системы права. Существу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е обособленно, а в зависимости 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едназначения объединяются в и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ституты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2.Инстит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сновной элемент системы права,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едставленный совокуп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авовых норм,регулирующих од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ородную группу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1960-C651-4F0F-A625-49F37899A9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4.Подотрас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бъединение нескольких институ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дной и той же отрасли пра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Конституционное право (муниципа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ое, избирательное, парламентск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3.Отрас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сновное подразделение системы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ава.Совокупность норм,распр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деленная по правовым института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регулирующих особую область о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о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Подотрасли права не являются обязательным компонентом отраслей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(Семейное, процессуальное право на подотрасли не делятс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B8AC-12AA-454E-A1B7-2967E056A9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троение 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Impact"/>
              </a:rPr>
              <a:t>общая</a:t>
            </a:r>
            <a:r>
              <a:rPr b="1" lang="ru-RU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Impact"/>
              </a:rPr>
              <a:t>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 права, которые распростра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се отношения, регулируемые да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ю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особенн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 права, которые распростра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онкретные отношения, регулируе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й отраслью пра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права характери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-взаимозависимостью и связью правовых н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-регулирует отношения всей совокупностью юр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дически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-целостностью и согласован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6BB6-0F34-46AE-A976-CF3AE9C218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имущественн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- семейн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- трудовые и проч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(Граждан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Трудов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ru-RU" sz="11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5442-6E70-465E-BF2E-E16858E468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расли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0AC6-75D0-4234-A665-1B8BCFF4FA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3E73-156C-4FAD-8EA9-E72A7754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1403-8183-42E0-AA07-2994C949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76A1-7F8C-4054-BCD4-ECB56F15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EF48-C6AF-4427-A173-F758F8FA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CC56-8A60-45F5-B306-3D1FBADC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D048-82D6-43DD-9092-520BD6D3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ED22-AA43-4B6C-BC89-D868DE66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5B3E-EDB2-469B-A4D7-EC87433E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11B0-7BFA-403A-A3C6-5DF1E923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6E33-B7B5-49F3-9DED-F9CF95FC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D9CA-F759-4B8F-B301-EBDE511A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D9AB-D946-4006-8521-1469C060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B503-718D-4251-AD78-2645A7AD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9DAB-0A71-4635-A154-3EDCF8C7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80FC-5997-4144-963C-29591196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DA11-42EF-4CA8-9BF7-024C756F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FE20-D51C-4E3B-88A3-611CB144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29D91-CA91-4BE2-ACC5-FBEAF18B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C34B6-8D7B-4BFE-83DA-92394A94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88591-2E66-4E0F-A0AE-3FC848EB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C3DA6-5298-4777-BD80-4F4456D1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25C4D-700D-4A6C-AD4B-C4BBCC1B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E545-9AD2-48FE-8F26-6FB23322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864F1-92B9-495F-8F57-24050499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F01D0-6A2C-4125-9FAA-9D31D524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33660-0CA8-4226-9BCB-F1A48965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DCBC9-0114-48C5-9B08-51E50D3D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BC710-A65E-4402-A3D2-9DABAE61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2D4F2-E470-4A8C-8933-00531498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7ED8E-A7B2-47AE-9A74-A9809825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EDB67-001C-4D02-80D7-5AC5EE7B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21B0E-A227-404D-B714-904CD0B9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5CC46-8F2B-4F8A-A8DE-D6BF7D89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228D-412F-49ED-8A26-F1CCBB12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CE93B-79FA-4B7A-B913-15364008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D8D64-328C-45E4-890D-0F28ABB1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E5099-5452-47FF-9D5C-91E18020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E988D-B575-4771-A019-7D729301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A81C4-5343-4C3D-A3A8-031E225D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43D63-6740-4625-A9F4-65B040CC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4E14B-CFF4-4045-A166-922E672F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179AA-8F51-484D-84A1-EA1C79D5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0AD04-D8C1-448E-8969-8FC862FB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71FC4-D9F2-4497-8230-A17E19B5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FD1E-1C6F-4DC7-AD87-0AB2C6D9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91722-E8EE-4A14-90CD-9855E740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E7908-4CD6-4940-99EE-3715EA48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FDBB5-3EF4-4995-9E8A-43195907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CFD99-392F-45B0-93FB-D8521FE3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C793A-CD49-482A-9911-B573B6A6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ACC8B-85B9-42BE-A6A0-C527E245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1EEA0-6B5E-4E19-907B-F8777E65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716FB-3D39-4295-A0F1-3C836A7F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47E7A-B613-4CAC-A7DF-9DD42C83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4DDBE-8E41-4184-9778-5687E008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CD4C-D2E2-4129-A226-6FC0E38D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E701C-552A-4DE9-A802-D0CDCE29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8EB9B-1122-4756-AD27-19E9CD47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5CF82-A826-4B38-8431-07A9CDD4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6C0F6-7ED7-45CD-846D-35A6041E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49D31-C50D-4FCB-A25A-B6FE280E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EFB40-B842-4281-A688-9F90480E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C3DA9-0A22-41C8-994C-E6385BBE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77D15-4028-4122-B4C0-75A7C3D1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A56B4-B402-4983-9123-D00BD38F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F6F66-0B78-47B5-8257-0B9C3756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4130-99F4-4D47-8886-E8ED3B6A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2786E-B0C5-4FBA-8553-429A3D82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D64F3-6960-463E-B4B9-3D063041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A2C45-D872-492F-B9CB-FA7A5065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CAE6-D24F-4105-95C4-D15CEEC8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C5D-B86D-430F-A32A-C61CFF5C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90BD-993B-4808-A3C8-609ED8E39CA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D60C-1C7A-40F9-AD5E-7BAA55F18EC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3D8B-034E-45B7-A725-6AC764FDF03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6D51-B37D-4737-83F5-E1B154BFC51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1808-6DF3-465B-8C1B-709460166BC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BE1F-10DE-4B35-BE58-00C447AA69A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image" Target="../media/image15.jpe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10.jpeg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7"/>
          <p:cNvSpPr txBox="1"/>
          <p:nvPr/>
        </p:nvSpPr>
        <p:spPr>
          <a:xfrm>
            <a:off x="395280" y="2205000"/>
            <a:ext cx="5040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Систе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пра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219240" y="-231840"/>
            <a:ext cx="8943840" cy="150012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3"/>
          <p:cNvSpPr/>
          <p:nvPr/>
        </p:nvSpPr>
        <p:spPr>
          <a:xfrm>
            <a:off x="324000" y="765000"/>
            <a:ext cx="4248000" cy="719280"/>
          </a:xfrm>
          <a:prstGeom prst="downArrowCallout">
            <a:avLst>
              <a:gd name="adj1" fmla="val 147661"/>
              <a:gd name="adj2" fmla="val 147648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ери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AutoShape 4"/>
          <p:cNvSpPr/>
          <p:nvPr/>
        </p:nvSpPr>
        <p:spPr>
          <a:xfrm>
            <a:off x="4643280" y="765000"/>
            <a:ext cx="4248360" cy="719280"/>
          </a:xfrm>
          <a:prstGeom prst="downArrowCallout">
            <a:avLst>
              <a:gd name="adj1" fmla="val 147674"/>
              <a:gd name="adj2" fmla="val 147660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цессу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179280" y="155736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озяйстве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179280" y="20764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льскохозяйстве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179280" y="2597040"/>
            <a:ext cx="3456000" cy="43200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орг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179280" y="3116160"/>
            <a:ext cx="3456000" cy="43200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Жилищ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WordArt 12"/>
          <p:cNvSpPr txBox="1"/>
          <p:nvPr/>
        </p:nvSpPr>
        <p:spPr>
          <a:xfrm rot="5400000">
            <a:off x="2446920" y="3346920"/>
            <a:ext cx="424980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Комплексн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8" name="Rectangle 22"/>
          <p:cNvSpPr/>
          <p:nvPr/>
        </p:nvSpPr>
        <p:spPr>
          <a:xfrm>
            <a:off x="179280" y="36370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уницип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23"/>
          <p:cNvSpPr/>
          <p:nvPr/>
        </p:nvSpPr>
        <p:spPr>
          <a:xfrm>
            <a:off x="179280" y="415620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курорского надзо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4"/>
          <p:cNvSpPr/>
          <p:nvPr/>
        </p:nvSpPr>
        <p:spPr>
          <a:xfrm>
            <a:off x="179280" y="465300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25"/>
          <p:cNvSpPr/>
          <p:nvPr/>
        </p:nvSpPr>
        <p:spPr>
          <a:xfrm>
            <a:off x="179280" y="57340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27"/>
          <p:cNvSpPr/>
          <p:nvPr/>
        </p:nvSpPr>
        <p:spPr>
          <a:xfrm>
            <a:off x="179280" y="467676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може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28"/>
          <p:cNvSpPr/>
          <p:nvPr/>
        </p:nvSpPr>
        <p:spPr>
          <a:xfrm>
            <a:off x="179280" y="5716440"/>
            <a:ext cx="3456000" cy="43200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родоохраните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29"/>
          <p:cNvSpPr/>
          <p:nvPr/>
        </p:nvSpPr>
        <p:spPr>
          <a:xfrm>
            <a:off x="179280" y="51958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кологиче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0"/>
          <p:cNvSpPr/>
          <p:nvPr/>
        </p:nvSpPr>
        <p:spPr>
          <a:xfrm>
            <a:off x="179280" y="623736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р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18"/>
          <p:cNvGrpSpPr/>
          <p:nvPr/>
        </p:nvGrpSpPr>
        <p:grpSpPr>
          <a:xfrm>
            <a:off x="3510720" y="765000"/>
            <a:ext cx="1694160" cy="1246320"/>
            <a:chOff x="3510720" y="765000"/>
            <a:chExt cx="1694160" cy="1246320"/>
          </a:xfrm>
        </p:grpSpPr>
        <p:pic>
          <p:nvPicPr>
            <p:cNvPr id="419" name="Picture 16" descr="j0231057"/>
            <p:cNvPicPr/>
            <p:nvPr/>
          </p:nvPicPr>
          <p:blipFill>
            <a:blip r:embed="rId2"/>
            <a:stretch/>
          </p:blipFill>
          <p:spPr>
            <a:xfrm>
              <a:off x="3922560" y="765000"/>
              <a:ext cx="87156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Text Box 17"/>
            <p:cNvSpPr/>
            <p:nvPr/>
          </p:nvSpPr>
          <p:spPr>
            <a:xfrm>
              <a:off x="3510720" y="164304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ccff"/>
                  </a:solidFill>
                  <a:latin typeface="Tahoma"/>
                </a:rPr>
                <a:t>Древний Рим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1" name="WordArt 19"/>
          <p:cNvSpPr txBox="1"/>
          <p:nvPr/>
        </p:nvSpPr>
        <p:spPr>
          <a:xfrm>
            <a:off x="3645000" y="2060640"/>
            <a:ext cx="137160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право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grpSp>
        <p:nvGrpSpPr>
          <p:cNvPr id="422" name="Group 25"/>
          <p:cNvGrpSpPr/>
          <p:nvPr/>
        </p:nvGrpSpPr>
        <p:grpSpPr>
          <a:xfrm>
            <a:off x="5090400" y="1052640"/>
            <a:ext cx="3166200" cy="1346040"/>
            <a:chOff x="5090400" y="1052640"/>
            <a:chExt cx="3166200" cy="1346040"/>
          </a:xfrm>
        </p:grpSpPr>
        <p:sp>
          <p:nvSpPr>
            <p:cNvPr id="423" name="WordArt 21"/>
            <p:cNvSpPr txBox="1"/>
            <p:nvPr/>
          </p:nvSpPr>
          <p:spPr>
            <a:xfrm>
              <a:off x="5722920" y="1052640"/>
              <a:ext cx="25336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Публичное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24" name="AutoShape 22"/>
            <p:cNvSpPr/>
            <p:nvPr/>
          </p:nvSpPr>
          <p:spPr>
            <a:xfrm rot="19959600">
              <a:off x="5087880" y="1846080"/>
              <a:ext cx="1224000" cy="287280"/>
            </a:xfrm>
            <a:custGeom>
              <a:avLst/>
              <a:gdLst>
                <a:gd name="textAreaLeft" fmla="*/ 214200 w 1224000"/>
                <a:gd name="textAreaRight" fmla="*/ 887400 w 122400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5" name="Group 24"/>
          <p:cNvGrpSpPr/>
          <p:nvPr/>
        </p:nvGrpSpPr>
        <p:grpSpPr>
          <a:xfrm>
            <a:off x="971640" y="1052640"/>
            <a:ext cx="2601000" cy="1344240"/>
            <a:chOff x="971640" y="1052640"/>
            <a:chExt cx="2601000" cy="1344240"/>
          </a:xfrm>
        </p:grpSpPr>
        <p:sp>
          <p:nvSpPr>
            <p:cNvPr id="426" name="WordArt 20"/>
            <p:cNvSpPr txBox="1"/>
            <p:nvPr/>
          </p:nvSpPr>
          <p:spPr>
            <a:xfrm>
              <a:off x="971640" y="1052640"/>
              <a:ext cx="186696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Частное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27" name="AutoShape 23"/>
            <p:cNvSpPr/>
            <p:nvPr/>
          </p:nvSpPr>
          <p:spPr>
            <a:xfrm flipH="1" rot="1640400">
              <a:off x="2350440" y="1844280"/>
              <a:ext cx="1224000" cy="287280"/>
            </a:xfrm>
            <a:custGeom>
              <a:avLst/>
              <a:gdLst>
                <a:gd name="textAreaLeft" fmla="*/ 214200 w 1224000"/>
                <a:gd name="textAreaRight" fmla="*/ 887400 w 122400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8" name="Text Box 26"/>
          <p:cNvSpPr/>
          <p:nvPr/>
        </p:nvSpPr>
        <p:spPr>
          <a:xfrm>
            <a:off x="6364440" y="1557360"/>
            <a:ext cx="277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носится к положени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суда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27"/>
          <p:cNvSpPr/>
          <p:nvPr/>
        </p:nvSpPr>
        <p:spPr>
          <a:xfrm>
            <a:off x="179280" y="16430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носится к польз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астных лиц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28"/>
          <p:cNvSpPr/>
          <p:nvPr/>
        </p:nvSpPr>
        <p:spPr>
          <a:xfrm>
            <a:off x="58680" y="2789280"/>
            <a:ext cx="4489200" cy="1465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это право, защищающее интерес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лица в его взаимоотношениях 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государством, регулирует сферы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в которые вмешательство госу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дарства ограниченн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Rectangle 29"/>
          <p:cNvSpPr/>
          <p:nvPr/>
        </p:nvSpPr>
        <p:spPr>
          <a:xfrm>
            <a:off x="4525920" y="2781360"/>
            <a:ext cx="4618080" cy="1465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 это право, регулирующее отноше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ния между государством и гражда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нами. Стороны в этих отношения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выступают как неравноправны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WordArt 30"/>
          <p:cNvSpPr txBox="1"/>
          <p:nvPr/>
        </p:nvSpPr>
        <p:spPr>
          <a:xfrm>
            <a:off x="324000" y="4365720"/>
            <a:ext cx="3924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Область свободы,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децентрализации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33" name="WordArt 31"/>
          <p:cNvSpPr txBox="1"/>
          <p:nvPr/>
        </p:nvSpPr>
        <p:spPr>
          <a:xfrm>
            <a:off x="4680000" y="4365720"/>
            <a:ext cx="4213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Область необходимости,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империтивных начал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34" name="Group 34"/>
          <p:cNvGrpSpPr/>
          <p:nvPr/>
        </p:nvGrpSpPr>
        <p:grpSpPr>
          <a:xfrm>
            <a:off x="898560" y="5516640"/>
            <a:ext cx="7561080" cy="1152360"/>
            <a:chOff x="898560" y="5516640"/>
            <a:chExt cx="7561080" cy="1152360"/>
          </a:xfrm>
        </p:grpSpPr>
        <p:sp>
          <p:nvSpPr>
            <p:cNvPr id="435" name="WordArt 32"/>
            <p:cNvSpPr txBox="1"/>
            <p:nvPr/>
          </p:nvSpPr>
          <p:spPr>
            <a:xfrm>
              <a:off x="954000" y="6097680"/>
              <a:ext cx="74487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660033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latin typeface="Impact"/>
                </a:rPr>
                <a:t>Взаимосвязаны, четкой границы нет</a:t>
              </a:r>
              <a:endParaRPr b="0" lang="en-US" sz="1800" spc="1" strike="noStrike">
                <a:ln w="9360">
                  <a:solidFill>
                    <a:srgbClr val="660033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sp>
          <p:nvSpPr>
            <p:cNvPr id="436" name="AutoShape 33"/>
            <p:cNvSpPr/>
            <p:nvPr/>
          </p:nvSpPr>
          <p:spPr>
            <a:xfrm>
              <a:off x="898560" y="5516640"/>
              <a:ext cx="7561080" cy="504720"/>
            </a:xfrm>
            <a:prstGeom prst="downArrowCallout">
              <a:avLst>
                <a:gd name="adj1" fmla="val 67697"/>
                <a:gd name="adj2" fmla="val 77539"/>
                <a:gd name="adj3" fmla="val 26731"/>
                <a:gd name="adj4" fmla="val 49056"/>
              </a:avLst>
            </a:prstGeom>
            <a:solidFill>
              <a:srgbClr val="ff33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9"/>
          <p:cNvSpPr/>
          <p:nvPr/>
        </p:nvSpPr>
        <p:spPr>
          <a:xfrm>
            <a:off x="250920" y="1557360"/>
            <a:ext cx="8064360" cy="374472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468360" y="1628640"/>
            <a:ext cx="7704000" cy="40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ahoma"/>
              </a:rPr>
              <a:t>Выделите структурные элементы норм пра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соответствии с российским избирательным законодательством граждане Российской Федерации, достигшие 18 лет, имеют право избирать; лица, препятствующие осуществлению этого права, привлекаются к административной или уголовной ответственности»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428472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250920" y="1557360"/>
            <a:ext cx="8064360" cy="374472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468360" y="1628640"/>
            <a:ext cx="734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В соответствии с российским избирательным законодательством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граждане Российской Федера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достигшие 18 лет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56c7aa"/>
                </a:solidFill>
                <a:latin typeface="Tahoma"/>
              </a:rPr>
              <a:t>имеют право избира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лица, препятствующие осуществлению этого права, привлекаются к административной или уголовной ответственности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421164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2268360" y="5661000"/>
            <a:ext cx="172908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2" name="Rectangle 10" descr=""/>
          <p:cNvPicPr/>
          <p:nvPr/>
        </p:nvPicPr>
        <p:blipFill>
          <a:blip r:embed="rId1"/>
          <a:stretch/>
        </p:blipFill>
        <p:spPr>
          <a:xfrm>
            <a:off x="1779480" y="4127400"/>
            <a:ext cx="6907320" cy="1895400"/>
          </a:xfrm>
          <a:prstGeom prst="rect">
            <a:avLst/>
          </a:prstGeom>
          <a:ln w="0">
            <a:noFill/>
          </a:ln>
        </p:spPr>
      </p:pic>
      <p:sp>
        <p:nvSpPr>
          <p:cNvPr id="453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2"/>
          <p:cNvSpPr/>
          <p:nvPr/>
        </p:nvSpPr>
        <p:spPr>
          <a:xfrm>
            <a:off x="324000" y="1557360"/>
            <a:ext cx="8351640" cy="367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395280" y="170352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яние признаётся совершённым невиновно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 и по обстоятельствам дела не должно было или не могло их предвиде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Rectangle 13" descr=""/>
          <p:cNvPicPr/>
          <p:nvPr/>
        </p:nvPicPr>
        <p:blipFill>
          <a:blip r:embed="rId1"/>
          <a:stretch/>
        </p:blipFill>
        <p:spPr>
          <a:xfrm>
            <a:off x="1792440" y="4187880"/>
            <a:ext cx="6771960" cy="151776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14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428472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Text Box 17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24000" y="1557360"/>
            <a:ext cx="8351640" cy="367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468360" y="1700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Деяние признаётся совершённым невиновно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56c7aa"/>
                </a:solidFill>
                <a:latin typeface="Tahoma"/>
              </a:rPr>
              <a:t>и по обстоятельствам дела не должно было или не могло их предвиде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4356000" y="5661000"/>
            <a:ext cx="172872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8" name="Rectangle 8" descr=""/>
          <p:cNvPicPr/>
          <p:nvPr/>
        </p:nvPicPr>
        <p:blipFill>
          <a:blip r:embed="rId1"/>
          <a:stretch/>
        </p:blipFill>
        <p:spPr>
          <a:xfrm>
            <a:off x="1792440" y="4187880"/>
            <a:ext cx="6771960" cy="1517760"/>
          </a:xfrm>
          <a:prstGeom prst="rect">
            <a:avLst/>
          </a:prstGeom>
          <a:ln w="0">
            <a:noFill/>
          </a:ln>
        </p:spPr>
      </p:pic>
      <p:sp>
        <p:nvSpPr>
          <p:cNvPr id="469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Распивая спиртные напитки в городском парке, группа лиц нарушала общественный порядок. Они приставали к прохожим, мусорили, нецензурно выражались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1. Определите вид правонарушения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2. Проанализируйте наличие состава правонарушени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3. Определите форму вин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WordArt 11"/>
          <p:cNvSpPr txBox="1"/>
          <p:nvPr/>
        </p:nvSpPr>
        <p:spPr>
          <a:xfrm>
            <a:off x="1047600" y="735120"/>
            <a:ext cx="704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ffcc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войства правового института</a:t>
            </a:r>
            <a:endParaRPr b="1" lang="en-US" sz="1800" spc="1" strike="noStrike">
              <a:ln w="28440">
                <a:solidFill>
                  <a:srgbClr val="ccffcc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473" name="Group 23"/>
          <p:cNvGrpSpPr/>
          <p:nvPr/>
        </p:nvGrpSpPr>
        <p:grpSpPr>
          <a:xfrm>
            <a:off x="598680" y="1268280"/>
            <a:ext cx="7848000" cy="1206720"/>
            <a:chOff x="598680" y="1268280"/>
            <a:chExt cx="7848000" cy="1206720"/>
          </a:xfrm>
        </p:grpSpPr>
        <p:sp>
          <p:nvSpPr>
            <p:cNvPr id="474" name="WordArt 12"/>
            <p:cNvSpPr txBox="1"/>
            <p:nvPr/>
          </p:nvSpPr>
          <p:spPr>
            <a:xfrm>
              <a:off x="625320" y="1268280"/>
              <a:ext cx="7793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1.Однородность фактического содержания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75" name="Text Box 16"/>
            <p:cNvSpPr/>
            <p:nvPr/>
          </p:nvSpPr>
          <p:spPr>
            <a:xfrm>
              <a:off x="598680" y="1649520"/>
              <a:ext cx="784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аждый институт регулирует самостоятельную группу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тношений и поступков людей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6" name="Group 18"/>
          <p:cNvGrpSpPr/>
          <p:nvPr/>
        </p:nvGrpSpPr>
        <p:grpSpPr>
          <a:xfrm>
            <a:off x="603360" y="2349360"/>
            <a:ext cx="8182440" cy="1672200"/>
            <a:chOff x="603360" y="2349360"/>
            <a:chExt cx="8182440" cy="1672200"/>
          </a:xfrm>
        </p:grpSpPr>
        <p:sp>
          <p:nvSpPr>
            <p:cNvPr id="477" name="WordArt 13"/>
            <p:cNvSpPr txBox="1"/>
            <p:nvPr/>
          </p:nvSpPr>
          <p:spPr>
            <a:xfrm>
              <a:off x="603360" y="2349360"/>
              <a:ext cx="77929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2.Юридическое единство правовых норм.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78" name="Text Box 17"/>
            <p:cNvSpPr/>
            <p:nvPr/>
          </p:nvSpPr>
          <p:spPr>
            <a:xfrm>
              <a:off x="687960" y="2830320"/>
              <a:ext cx="809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ормы, входящие в конкретный институт образуют еди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ый комплекс положений, принципов,понятий,правовой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жим регулирования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9" name="Group 20"/>
          <p:cNvGrpSpPr/>
          <p:nvPr/>
        </p:nvGrpSpPr>
        <p:grpSpPr>
          <a:xfrm>
            <a:off x="568440" y="3975120"/>
            <a:ext cx="8105400" cy="1257480"/>
            <a:chOff x="568440" y="3975120"/>
            <a:chExt cx="8105400" cy="1257480"/>
          </a:xfrm>
        </p:grpSpPr>
        <p:sp>
          <p:nvSpPr>
            <p:cNvPr id="480" name="WordArt 14"/>
            <p:cNvSpPr txBox="1"/>
            <p:nvPr/>
          </p:nvSpPr>
          <p:spPr>
            <a:xfrm>
              <a:off x="587160" y="3975120"/>
              <a:ext cx="7793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3.Нормативная обособленность.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81" name="Text Box 19"/>
            <p:cNvSpPr/>
            <p:nvPr/>
          </p:nvSpPr>
          <p:spPr>
            <a:xfrm>
              <a:off x="568440" y="4407120"/>
              <a:ext cx="810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особление норм образующих институт в главах, разде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ах и частях закона, или нормативно-правового акта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2" name="Group 22"/>
          <p:cNvGrpSpPr/>
          <p:nvPr/>
        </p:nvGrpSpPr>
        <p:grpSpPr>
          <a:xfrm>
            <a:off x="587520" y="5229360"/>
            <a:ext cx="8224920" cy="1257120"/>
            <a:chOff x="587520" y="5229360"/>
            <a:chExt cx="8224920" cy="1257120"/>
          </a:xfrm>
        </p:grpSpPr>
        <p:sp>
          <p:nvSpPr>
            <p:cNvPr id="483" name="WordArt 15"/>
            <p:cNvSpPr txBox="1"/>
            <p:nvPr/>
          </p:nvSpPr>
          <p:spPr>
            <a:xfrm>
              <a:off x="587520" y="5229360"/>
              <a:ext cx="77929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4.Полнота регулируемых отношений.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84" name="Text Box 21"/>
            <p:cNvSpPr/>
            <p:nvPr/>
          </p:nvSpPr>
          <p:spPr>
            <a:xfrm>
              <a:off x="700920" y="5661000"/>
              <a:ext cx="811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нститут права включает набор норм, призванный обес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ечить беспробельность регулируемых отношений.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85" name="Rectangle 25" descr=""/>
          <p:cNvPicPr/>
          <p:nvPr/>
        </p:nvPicPr>
        <p:blipFill>
          <a:blip r:embed="rId3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486" name="Місце для нижнього колонтитула 5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488" name="WordArt 3"/>
          <p:cNvSpPr txBox="1"/>
          <p:nvPr/>
        </p:nvSpPr>
        <p:spPr>
          <a:xfrm>
            <a:off x="1047600" y="735120"/>
            <a:ext cx="704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50000">
                      <a:srgbClr val="765e2f"/>
                    </a:gs>
                    <a:gs pos="100000">
                      <a:srgbClr val="ffcc66"/>
                    </a:gs>
                  </a:gsLst>
                  <a:lin ang="5400000"/>
                </a:gradFill>
                <a:latin typeface="Arial"/>
              </a:rPr>
              <a:t>Виды институтов пра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50000">
                    <a:srgbClr val="765e2f"/>
                  </a:gs>
                  <a:gs pos="100000">
                    <a:srgbClr val="ffcc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89" name="Group 23"/>
          <p:cNvGrpSpPr/>
          <p:nvPr/>
        </p:nvGrpSpPr>
        <p:grpSpPr>
          <a:xfrm>
            <a:off x="257040" y="1197000"/>
            <a:ext cx="4243680" cy="1977840"/>
            <a:chOff x="257040" y="1197000"/>
            <a:chExt cx="4243680" cy="1977840"/>
          </a:xfrm>
        </p:grpSpPr>
        <p:grpSp>
          <p:nvGrpSpPr>
            <p:cNvPr id="490" name="Group 20"/>
            <p:cNvGrpSpPr/>
            <p:nvPr/>
          </p:nvGrpSpPr>
          <p:grpSpPr>
            <a:xfrm>
              <a:off x="900000" y="1197000"/>
              <a:ext cx="3600720" cy="1219320"/>
              <a:chOff x="900000" y="1197000"/>
              <a:chExt cx="3600720" cy="1219320"/>
            </a:xfrm>
          </p:grpSpPr>
          <p:sp>
            <p:nvSpPr>
              <p:cNvPr id="491" name="WordArt 16"/>
              <p:cNvSpPr txBox="1"/>
              <p:nvPr/>
            </p:nvSpPr>
            <p:spPr>
              <a:xfrm>
                <a:off x="900000" y="1844640"/>
                <a:ext cx="181944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800000"/>
                      </a:solidFill>
                      <a:miter/>
                    </a:ln>
                    <a:blipFill rotWithShape="0">
                      <a:blip r:embed="rId2"/>
                      <a:srcRect/>
                      <a:stretch/>
                    </a:blipFill>
                    <a:latin typeface="Impact"/>
                  </a:rPr>
                  <a:t>простые</a:t>
                </a:r>
                <a:endParaRPr b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latin typeface="Impact"/>
                  <a:ea typeface="Impact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H="1">
                <a:off x="2843280" y="1197000"/>
                <a:ext cx="1657440" cy="863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3" name="Text Box 22"/>
            <p:cNvSpPr/>
            <p:nvPr/>
          </p:nvSpPr>
          <p:spPr>
            <a:xfrm>
              <a:off x="257040" y="2349360"/>
              <a:ext cx="301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Юридические  норм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дной отрасли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4" name="Group 25"/>
          <p:cNvGrpSpPr/>
          <p:nvPr/>
        </p:nvGrpSpPr>
        <p:grpSpPr>
          <a:xfrm>
            <a:off x="4572000" y="1197000"/>
            <a:ext cx="4593960" cy="2362680"/>
            <a:chOff x="4572000" y="1197000"/>
            <a:chExt cx="4593960" cy="2362680"/>
          </a:xfrm>
        </p:grpSpPr>
        <p:grpSp>
          <p:nvGrpSpPr>
            <p:cNvPr id="495" name="Group 21"/>
            <p:cNvGrpSpPr/>
            <p:nvPr/>
          </p:nvGrpSpPr>
          <p:grpSpPr>
            <a:xfrm>
              <a:off x="4572000" y="1197000"/>
              <a:ext cx="3887640" cy="1174680"/>
              <a:chOff x="4572000" y="1197000"/>
              <a:chExt cx="3887640" cy="1174680"/>
            </a:xfrm>
          </p:grpSpPr>
          <p:sp>
            <p:nvSpPr>
              <p:cNvPr id="496" name="WordArt 17"/>
              <p:cNvSpPr txBox="1"/>
              <p:nvPr/>
            </p:nvSpPr>
            <p:spPr>
              <a:xfrm>
                <a:off x="6372360" y="1889280"/>
                <a:ext cx="2087280" cy="482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Arial"/>
                  </a:rPr>
                  <a:t>сложные</a:t>
                </a:r>
                <a:endPara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497" name="Line 19"/>
              <p:cNvSpPr/>
              <p:nvPr/>
            </p:nvSpPr>
            <p:spPr>
              <a:xfrm>
                <a:off x="4572000" y="1197000"/>
                <a:ext cx="1657440" cy="863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8" name="Text Box 24"/>
            <p:cNvSpPr/>
            <p:nvPr/>
          </p:nvSpPr>
          <p:spPr>
            <a:xfrm>
              <a:off x="5367240" y="2368440"/>
              <a:ext cx="379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овокупность норм ,входя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щих в состав различных от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слей права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9" name="Text Box 26"/>
          <p:cNvSpPr/>
          <p:nvPr/>
        </p:nvSpPr>
        <p:spPr>
          <a:xfrm>
            <a:off x="30240" y="3357720"/>
            <a:ext cx="353196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нститут прекращения бра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семейное право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нститут зало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гражданское право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27"/>
          <p:cNvSpPr/>
          <p:nvPr/>
        </p:nvSpPr>
        <p:spPr>
          <a:xfrm>
            <a:off x="5525640" y="3645000"/>
            <a:ext cx="3574800" cy="916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нститут собствен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гражданское, семейное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нституционное право и др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1" name="Group 32"/>
          <p:cNvGrpSpPr/>
          <p:nvPr/>
        </p:nvGrpSpPr>
        <p:grpSpPr>
          <a:xfrm>
            <a:off x="2124000" y="3284640"/>
            <a:ext cx="5105520" cy="1942920"/>
            <a:chOff x="2124000" y="3284640"/>
            <a:chExt cx="5105520" cy="1942920"/>
          </a:xfrm>
        </p:grpSpPr>
        <p:sp>
          <p:nvSpPr>
            <p:cNvPr id="502" name="WordArt 28"/>
            <p:cNvSpPr txBox="1"/>
            <p:nvPr/>
          </p:nvSpPr>
          <p:spPr>
            <a:xfrm>
              <a:off x="2124000" y="4724280"/>
              <a:ext cx="51055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включает субинституты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503" name="AutoShape 31"/>
            <p:cNvSpPr/>
            <p:nvPr/>
          </p:nvSpPr>
          <p:spPr>
            <a:xfrm rot="10800000">
              <a:off x="4427280" y="3284640"/>
              <a:ext cx="1081080" cy="1224000"/>
            </a:xfrm>
            <a:custGeom>
              <a:avLst/>
              <a:gdLst>
                <a:gd name="textAreaLeft" fmla="*/ 0 w 1081080"/>
                <a:gd name="textAreaRight" fmla="*/ 927360 w 1081080"/>
                <a:gd name="textAreaTop" fmla="*/ 81612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cc00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4" name="WordArt 33"/>
          <p:cNvSpPr txBox="1"/>
          <p:nvPr/>
        </p:nvSpPr>
        <p:spPr>
          <a:xfrm>
            <a:off x="2833560" y="5200560"/>
            <a:ext cx="3610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Институт ренты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grpSp>
        <p:nvGrpSpPr>
          <p:cNvPr id="505" name="Group 36"/>
          <p:cNvGrpSpPr/>
          <p:nvPr/>
        </p:nvGrpSpPr>
        <p:grpSpPr>
          <a:xfrm>
            <a:off x="288000" y="5749920"/>
            <a:ext cx="8531640" cy="916920"/>
            <a:chOff x="288000" y="5749920"/>
            <a:chExt cx="8531640" cy="916920"/>
          </a:xfrm>
        </p:grpSpPr>
        <p:sp>
          <p:nvSpPr>
            <p:cNvPr id="506" name="Text Box 34"/>
            <p:cNvSpPr/>
            <p:nvPr/>
          </p:nvSpPr>
          <p:spPr>
            <a:xfrm>
              <a:off x="288000" y="5749920"/>
              <a:ext cx="4940280" cy="916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-Постоянная рента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-Пожизненная рента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-Пожизненное содержание с иждивением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WordArt 35"/>
            <p:cNvSpPr txBox="1"/>
            <p:nvPr/>
          </p:nvSpPr>
          <p:spPr>
            <a:xfrm>
              <a:off x="5533560" y="5965920"/>
              <a:ext cx="32860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cc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убинституты</a:t>
              </a:r>
              <a:endParaRPr b="1" lang="en-US" sz="1800" spc="1" strike="noStrike">
                <a:ln w="28440">
                  <a:solidFill>
                    <a:srgbClr val="cc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08" name="AutoShape 38">
            <a:hlinkClick r:id="rId7" action="ppaction://hlinksldjump"/>
          </p:cNvPr>
          <p:cNvSpPr/>
          <p:nvPr/>
        </p:nvSpPr>
        <p:spPr>
          <a:xfrm>
            <a:off x="6877080" y="5300640"/>
            <a:ext cx="1079640" cy="504720"/>
          </a:xfrm>
          <a:custGeom>
            <a:avLst/>
            <a:gdLst>
              <a:gd name="textAreaLeft" fmla="*/ 32400 w 1079640"/>
              <a:gd name="textAreaRight" fmla="*/ 1047240 w 107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6187" h="21600">
                <a:moveTo>
                  <a:pt x="0" y="0"/>
                </a:moveTo>
                <a:lnTo>
                  <a:pt x="46187" y="0"/>
                </a:lnTo>
                <a:lnTo>
                  <a:pt x="46187" y="21600"/>
                </a:lnTo>
                <a:lnTo>
                  <a:pt x="0" y="21600"/>
                </a:lnTo>
                <a:close/>
              </a:path>
              <a:path fill="lightenLess" w="46187" h="21600">
                <a:moveTo>
                  <a:pt x="0" y="0"/>
                </a:moveTo>
                <a:lnTo>
                  <a:pt x="46187" y="0"/>
                </a:lnTo>
                <a:lnTo>
                  <a:pt x="44787" y="1400"/>
                </a:lnTo>
                <a:lnTo>
                  <a:pt x="1400" y="1400"/>
                </a:lnTo>
                <a:close/>
              </a:path>
              <a:path fill="darken" w="46187" h="21600">
                <a:moveTo>
                  <a:pt x="46187" y="0"/>
                </a:moveTo>
                <a:lnTo>
                  <a:pt x="46187" y="21600"/>
                </a:lnTo>
                <a:lnTo>
                  <a:pt x="44787" y="20200"/>
                </a:lnTo>
                <a:lnTo>
                  <a:pt x="44787" y="1400"/>
                </a:lnTo>
                <a:close/>
              </a:path>
              <a:path fill="darkenLess" w="46187" h="21600">
                <a:moveTo>
                  <a:pt x="46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87" y="20200"/>
                </a:lnTo>
                <a:close/>
              </a:path>
              <a:path fill="lighten" w="46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187" h="21600">
                <a:moveTo>
                  <a:pt x="16087" y="10800"/>
                </a:moveTo>
                <a:lnTo>
                  <a:pt x="30100" y="3794"/>
                </a:lnTo>
                <a:lnTo>
                  <a:pt x="30100" y="17806"/>
                </a:ln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Місце для нижнього колонтитула 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4" descr="j0178279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5"/>
          <p:cNvSpPr/>
          <p:nvPr/>
        </p:nvSpPr>
        <p:spPr>
          <a:xfrm rot="6459600">
            <a:off x="6298920" y="-25239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826920" y="3645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b4dcfa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marL="318960" indent="-318960" algn="r"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План урока.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46040" y="2060280"/>
            <a:ext cx="8229600" cy="403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rebuchet MS"/>
              </a:rPr>
              <a:t>1. Понятие системы права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rebuchet MS"/>
              </a:rPr>
              <a:t>2. Отрасли права. Материальное и процессуальное право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rebuchet MS"/>
              </a:rPr>
              <a:t>3.Публичное и частное право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5"/>
          <p:cNvSpPr/>
          <p:nvPr/>
        </p:nvSpPr>
        <p:spPr>
          <a:xfrm>
            <a:off x="2392200" y="352440"/>
            <a:ext cx="56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6" name="Rectangle 6" descr=""/>
          <p:cNvPicPr/>
          <p:nvPr/>
        </p:nvPicPr>
        <p:blipFill>
          <a:blip r:embed="rId2"/>
          <a:stretch/>
        </p:blipFill>
        <p:spPr>
          <a:xfrm>
            <a:off x="1116000" y="-103320"/>
            <a:ext cx="7912080" cy="178596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 txBox="1"/>
          <p:nvPr/>
        </p:nvSpPr>
        <p:spPr>
          <a:xfrm>
            <a:off x="250920" y="1484280"/>
            <a:ext cx="84470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520" name="Rectangle 5" descr=""/>
          <p:cNvPicPr/>
          <p:nvPr/>
        </p:nvPicPr>
        <p:blipFill>
          <a:blip r:embed="rId2"/>
          <a:stretch/>
        </p:blipFill>
        <p:spPr>
          <a:xfrm>
            <a:off x="1189080" y="-438120"/>
            <a:ext cx="8478720" cy="14191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4572000" y="177336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324000" y="179388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0" y="4508640"/>
            <a:ext cx="47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ГК РФ п.1 Ст. 209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4500720" y="450864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.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т. 5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-324000" y="980640"/>
            <a:ext cx="4824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00000"/>
              </a:lnSpc>
              <a:spcBef>
                <a:spcPts val="5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23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2300" spc="-1" strike="noStrike">
                <a:solidFill>
                  <a:srgbClr val="404040"/>
                </a:solidFill>
                <a:latin typeface="Times New Roman"/>
              </a:rPr>
              <a:t>   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0" y="7776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5148360" y="1052640"/>
            <a:ext cx="3671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Text Box 14"/>
          <p:cNvSpPr/>
          <p:nvPr/>
        </p:nvSpPr>
        <p:spPr>
          <a:xfrm>
            <a:off x="-324000" y="4797360"/>
            <a:ext cx="94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0" y="321300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ГК РФ п. 2 Ст. 20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4716360" y="2852640"/>
            <a:ext cx="442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СК РФ п. 1 Ст. 3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17"/>
          <p:cNvSpPr/>
          <p:nvPr/>
        </p:nvSpPr>
        <p:spPr>
          <a:xfrm>
            <a:off x="0" y="5589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8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2268360" y="4762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1116000" y="0"/>
            <a:ext cx="71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5007240" y="3141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457200" y="765000"/>
          <a:ext cx="8218440" cy="5904000"/>
        </p:xfrm>
        <a:graphic>
          <a:graphicData uri="http://schemas.openxmlformats.org/drawingml/2006/table">
            <a:tbl>
              <a:tblPr/>
              <a:tblGrid>
                <a:gridCol w="4114800"/>
                <a:gridCol w="4103640"/>
              </a:tblGrid>
              <a:tr h="29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1" name="Text Box 26"/>
          <p:cNvSpPr/>
          <p:nvPr/>
        </p:nvSpPr>
        <p:spPr>
          <a:xfrm>
            <a:off x="468360" y="858960"/>
            <a:ext cx="38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Text Box 27"/>
          <p:cNvSpPr/>
          <p:nvPr/>
        </p:nvSpPr>
        <p:spPr>
          <a:xfrm>
            <a:off x="539640" y="414972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Text Box 28"/>
          <p:cNvSpPr/>
          <p:nvPr/>
        </p:nvSpPr>
        <p:spPr>
          <a:xfrm>
            <a:off x="826920" y="4292640"/>
            <a:ext cx="36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Text Box 29"/>
          <p:cNvSpPr/>
          <p:nvPr/>
        </p:nvSpPr>
        <p:spPr>
          <a:xfrm>
            <a:off x="468360" y="4292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30"/>
          <p:cNvSpPr/>
          <p:nvPr/>
        </p:nvSpPr>
        <p:spPr>
          <a:xfrm>
            <a:off x="539640" y="3429000"/>
            <a:ext cx="397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4643280" y="141300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Text Box 44"/>
          <p:cNvSpPr/>
          <p:nvPr/>
        </p:nvSpPr>
        <p:spPr>
          <a:xfrm>
            <a:off x="4788000" y="141300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 Box 45"/>
          <p:cNvSpPr/>
          <p:nvPr/>
        </p:nvSpPr>
        <p:spPr>
          <a:xfrm>
            <a:off x="4716360" y="86832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Text Box 47"/>
          <p:cNvSpPr/>
          <p:nvPr/>
        </p:nvSpPr>
        <p:spPr>
          <a:xfrm>
            <a:off x="4643280" y="242100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48"/>
          <p:cNvSpPr/>
          <p:nvPr/>
        </p:nvSpPr>
        <p:spPr>
          <a:xfrm>
            <a:off x="4643280" y="551664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49"/>
          <p:cNvSpPr/>
          <p:nvPr/>
        </p:nvSpPr>
        <p:spPr>
          <a:xfrm>
            <a:off x="4500720" y="4365720"/>
            <a:ext cx="435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542880" y="-542880"/>
            <a:ext cx="8508960" cy="1549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0" y="1557000"/>
            <a:ext cx="4581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284720" y="1557000"/>
            <a:ext cx="48592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4220640"/>
            <a:ext cx="443376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211280" y="4265280"/>
            <a:ext cx="493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3" name="Picture 4" descr="j017827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9"/>
          <p:cNvSpPr/>
          <p:nvPr/>
        </p:nvSpPr>
        <p:spPr>
          <a:xfrm>
            <a:off x="1816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0" y="765000"/>
            <a:ext cx="896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- </a:t>
            </a:r>
            <a:r>
              <a:rPr b="1" i="1" lang="ru-RU" sz="2400" spc="-1" strike="noStrike">
                <a:solidFill>
                  <a:srgbClr val="000066"/>
                </a:solidFill>
                <a:latin typeface="Tahoma"/>
              </a:rPr>
              <a:t>внутренняя структура права, состоящая из взаимосогласованных норм, институтов и отраслей пра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Схема 3" descr=""/>
          <p:cNvPicPr/>
          <p:nvPr/>
        </p:nvPicPr>
        <p:blipFill>
          <a:blip r:embed="rId1"/>
          <a:stretch/>
        </p:blipFill>
        <p:spPr>
          <a:xfrm>
            <a:off x="-182520" y="0"/>
            <a:ext cx="9387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340" name="WordArt 46"/>
          <p:cNvSpPr txBox="1"/>
          <p:nvPr/>
        </p:nvSpPr>
        <p:spPr>
          <a:xfrm>
            <a:off x="108000" y="1052640"/>
            <a:ext cx="252108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истем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а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41" name="Text Box 47"/>
          <p:cNvSpPr/>
          <p:nvPr/>
        </p:nvSpPr>
        <p:spPr>
          <a:xfrm>
            <a:off x="3101040" y="765000"/>
            <a:ext cx="5910840" cy="1557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ъективно существующее, внут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ннее строение права, его подраз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ление на отрасли, подотрасл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ституты и норм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48"/>
          <p:cNvSpPr/>
          <p:nvPr/>
        </p:nvSpPr>
        <p:spPr>
          <a:xfrm flipV="1">
            <a:off x="2340000" y="1483920"/>
            <a:ext cx="647640" cy="28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WordArt 49"/>
          <p:cNvSpPr txBox="1"/>
          <p:nvPr/>
        </p:nvSpPr>
        <p:spPr>
          <a:xfrm>
            <a:off x="468360" y="3621240"/>
            <a:ext cx="1655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1.Норм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44" name="Text Box 50"/>
          <p:cNvSpPr/>
          <p:nvPr/>
        </p:nvSpPr>
        <p:spPr>
          <a:xfrm>
            <a:off x="2768400" y="3240000"/>
            <a:ext cx="61776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Элемент системы права. Существу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е обособленно, а в зависимости о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едназначения объединяются в ин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титуты пра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WordArt 52"/>
          <p:cNvSpPr txBox="1"/>
          <p:nvPr/>
        </p:nvSpPr>
        <p:spPr>
          <a:xfrm>
            <a:off x="1187280" y="2492280"/>
            <a:ext cx="6975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Book Antiqua"/>
              </a:rPr>
              <a:t>Система права включает: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Book Antiqua"/>
              <a:ea typeface="Book Antiqua"/>
            </a:endParaRPr>
          </a:p>
        </p:txBody>
      </p:sp>
      <p:sp>
        <p:nvSpPr>
          <p:cNvPr id="346" name="WordArt 54"/>
          <p:cNvSpPr txBox="1"/>
          <p:nvPr/>
        </p:nvSpPr>
        <p:spPr>
          <a:xfrm>
            <a:off x="324000" y="5421240"/>
            <a:ext cx="2087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2.Институ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47" name="Text Box 55"/>
          <p:cNvSpPr/>
          <p:nvPr/>
        </p:nvSpPr>
        <p:spPr>
          <a:xfrm>
            <a:off x="2777760" y="5040360"/>
            <a:ext cx="61837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сновной элемент системы права,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едставленный совокупностью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авовых норм,регулирующих од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ородную группу отнош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AutoShape 57">
            <a:hlinkClick r:id="rId4" action="ppaction://hlinksldjump"/>
          </p:cNvPr>
          <p:cNvSpPr/>
          <p:nvPr/>
        </p:nvSpPr>
        <p:spPr>
          <a:xfrm>
            <a:off x="179280" y="5950080"/>
            <a:ext cx="505080" cy="64764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647640"/>
              <a:gd name="textAreaBottom" fmla="*/ 614880 h 647640"/>
            </a:gdLst>
            <a:ahLst/>
            <a:rect l="textAreaLeft" t="textAreaTop" r="textAreaRight" b="textAreaBottom"/>
            <a:pathLst>
              <a:path w="21600" h="27692">
                <a:moveTo>
                  <a:pt x="0" y="0"/>
                </a:moveTo>
                <a:lnTo>
                  <a:pt x="21600" y="0"/>
                </a:lnTo>
                <a:lnTo>
                  <a:pt x="21600" y="27692"/>
                </a:lnTo>
                <a:lnTo>
                  <a:pt x="0" y="27692"/>
                </a:lnTo>
                <a:close/>
              </a:path>
              <a:path fill="lightenLess" w="21600" h="27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92">
                <a:moveTo>
                  <a:pt x="21600" y="0"/>
                </a:moveTo>
                <a:lnTo>
                  <a:pt x="21600" y="27692"/>
                </a:lnTo>
                <a:lnTo>
                  <a:pt x="20200" y="26292"/>
                </a:lnTo>
                <a:lnTo>
                  <a:pt x="20200" y="1400"/>
                </a:lnTo>
                <a:close/>
              </a:path>
              <a:path fill="darkenLess" w="21600" h="27692">
                <a:moveTo>
                  <a:pt x="21600" y="27692"/>
                </a:moveTo>
                <a:lnTo>
                  <a:pt x="0" y="27692"/>
                </a:lnTo>
                <a:lnTo>
                  <a:pt x="1400" y="26292"/>
                </a:lnTo>
                <a:lnTo>
                  <a:pt x="20200" y="26292"/>
                </a:lnTo>
                <a:close/>
              </a:path>
              <a:path fill="lighten" w="21600" h="27692">
                <a:moveTo>
                  <a:pt x="0" y="27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92"/>
                </a:lnTo>
                <a:close/>
              </a:path>
              <a:path fill="darken" w="21600" h="27692">
                <a:moveTo>
                  <a:pt x="10800" y="68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7692">
                <a:moveTo>
                  <a:pt x="10800" y="72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7692">
                <a:moveTo>
                  <a:pt x="8224" y="11270"/>
                </a:moveTo>
                <a:lnTo>
                  <a:pt x="12088" y="11270"/>
                </a:lnTo>
                <a:lnTo>
                  <a:pt x="12088" y="18268"/>
                </a:lnTo>
                <a:lnTo>
                  <a:pt x="13376" y="18268"/>
                </a:lnTo>
                <a:lnTo>
                  <a:pt x="13376" y="19190"/>
                </a:lnTo>
                <a:lnTo>
                  <a:pt x="8224" y="19190"/>
                </a:lnTo>
                <a:lnTo>
                  <a:pt x="8224" y="18268"/>
                </a:lnTo>
                <a:lnTo>
                  <a:pt x="9512" y="18268"/>
                </a:lnTo>
                <a:lnTo>
                  <a:pt x="9512" y="12175"/>
                </a:lnTo>
                <a:lnTo>
                  <a:pt x="8224" y="12175"/>
                </a:ln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351" name="WordArt 23"/>
          <p:cNvSpPr txBox="1"/>
          <p:nvPr/>
        </p:nvSpPr>
        <p:spPr>
          <a:xfrm>
            <a:off x="357120" y="1143000"/>
            <a:ext cx="208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4.Подотрасль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52" name="Text Box 24"/>
          <p:cNvSpPr/>
          <p:nvPr/>
        </p:nvSpPr>
        <p:spPr>
          <a:xfrm>
            <a:off x="2627280" y="928800"/>
            <a:ext cx="651672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бъединение нескольких институ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дной и той же отрасли прав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Конституционное право (муниципаль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ое, избирательное, парламентско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287280" y="5661000"/>
            <a:ext cx="89042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одотрасли права не являются обязательным компонентом отраслей прав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Семейное, процессуальное право на подотрасли не делятся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27"/>
          <p:cNvSpPr/>
          <p:nvPr/>
        </p:nvSpPr>
        <p:spPr>
          <a:xfrm>
            <a:off x="2796480" y="3186000"/>
            <a:ext cx="6023880" cy="1922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сновное подразделение системы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ава.Совокупность норм,распре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деленная по правовым институтам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регулирующих особую область от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ошен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Прямоугольник 10"/>
          <p:cNvSpPr/>
          <p:nvPr/>
        </p:nvSpPr>
        <p:spPr>
          <a:xfrm>
            <a:off x="285840" y="34290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Impact"/>
              </a:rPr>
              <a:t>3.Отрасл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358" name="WordArt 9"/>
          <p:cNvSpPr txBox="1"/>
          <p:nvPr/>
        </p:nvSpPr>
        <p:spPr>
          <a:xfrm>
            <a:off x="1835280" y="765000"/>
            <a:ext cx="557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троение отрасли пра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59" name="Group 20"/>
          <p:cNvGrpSpPr/>
          <p:nvPr/>
        </p:nvGrpSpPr>
        <p:grpSpPr>
          <a:xfrm>
            <a:off x="-133920" y="1197000"/>
            <a:ext cx="4938480" cy="2088360"/>
            <a:chOff x="-133920" y="1197000"/>
            <a:chExt cx="4938480" cy="2088360"/>
          </a:xfrm>
        </p:grpSpPr>
        <p:grpSp>
          <p:nvGrpSpPr>
            <p:cNvPr id="360" name="Group 16"/>
            <p:cNvGrpSpPr/>
            <p:nvPr/>
          </p:nvGrpSpPr>
          <p:grpSpPr>
            <a:xfrm>
              <a:off x="324000" y="1197000"/>
              <a:ext cx="3311280" cy="1152000"/>
              <a:chOff x="324000" y="1197000"/>
              <a:chExt cx="3311280" cy="1152000"/>
            </a:xfrm>
          </p:grpSpPr>
          <p:pic>
            <p:nvPicPr>
              <p:cNvPr id="361" name="WordArt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1912320"/>
                <a:ext cx="2627280" cy="43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Line 12"/>
              <p:cNvSpPr/>
              <p:nvPr/>
            </p:nvSpPr>
            <p:spPr>
              <a:xfrm flipH="1">
                <a:off x="2843280" y="1197000"/>
                <a:ext cx="792000" cy="78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Text Box 18"/>
            <p:cNvSpPr/>
            <p:nvPr/>
          </p:nvSpPr>
          <p:spPr>
            <a:xfrm>
              <a:off x="-133920" y="2368440"/>
              <a:ext cx="4938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ормы права, которые распространяютс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а все отношения, регулируемые данной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отраслью права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4" name="Group 21"/>
          <p:cNvGrpSpPr/>
          <p:nvPr/>
        </p:nvGrpSpPr>
        <p:grpSpPr>
          <a:xfrm>
            <a:off x="4396680" y="1197000"/>
            <a:ext cx="4970520" cy="2088360"/>
            <a:chOff x="4396680" y="1197000"/>
            <a:chExt cx="4970520" cy="2088360"/>
          </a:xfrm>
        </p:grpSpPr>
        <p:grpSp>
          <p:nvGrpSpPr>
            <p:cNvPr id="365" name="Group 17"/>
            <p:cNvGrpSpPr/>
            <p:nvPr/>
          </p:nvGrpSpPr>
          <p:grpSpPr>
            <a:xfrm>
              <a:off x="4500720" y="1197000"/>
              <a:ext cx="4248000" cy="1079640"/>
              <a:chOff x="4500720" y="1197000"/>
              <a:chExt cx="4248000" cy="1079640"/>
            </a:xfrm>
          </p:grpSpPr>
          <p:sp>
            <p:nvSpPr>
              <p:cNvPr id="366" name="WordArt 11"/>
              <p:cNvSpPr txBox="1"/>
              <p:nvPr/>
            </p:nvSpPr>
            <p:spPr>
              <a:xfrm>
                <a:off x="5292720" y="1919160"/>
                <a:ext cx="3456000" cy="357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0000"/>
                    </a:solidFill>
                    <a:latin typeface="Impact"/>
                  </a:rPr>
                  <a:t>особенная часть</a:t>
                </a:r>
                <a:endPara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Impact"/>
                  <a:ea typeface="Impact"/>
                </a:endParaRPr>
              </a:p>
            </p:txBody>
          </p:sp>
          <p:sp>
            <p:nvSpPr>
              <p:cNvPr id="367" name="Line 15"/>
              <p:cNvSpPr/>
              <p:nvPr/>
            </p:nvSpPr>
            <p:spPr>
              <a:xfrm>
                <a:off x="4500720" y="1197000"/>
                <a:ext cx="792000" cy="792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8" name="Text Box 19"/>
            <p:cNvSpPr/>
            <p:nvPr/>
          </p:nvSpPr>
          <p:spPr>
            <a:xfrm>
              <a:off x="4396680" y="2368440"/>
              <a:ext cx="497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ормы права, которые распространяютс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а конкретные отношения, регулируемые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данной отраслью права.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9" name="WordArt 22"/>
          <p:cNvSpPr txBox="1"/>
          <p:nvPr/>
        </p:nvSpPr>
        <p:spPr>
          <a:xfrm>
            <a:off x="826920" y="3759120"/>
            <a:ext cx="7267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ccffcc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50000">
                      <a:srgbClr val="33cc33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Arial"/>
              </a:rPr>
              <a:t>система права характеризуется</a:t>
            </a:r>
            <a:endParaRPr b="1" lang="en-US" sz="1800" spc="1" strike="noStrike">
              <a:ln w="19080">
                <a:solidFill>
                  <a:srgbClr val="ccffcc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50000">
                    <a:srgbClr val="33cc33"/>
                  </a:gs>
                  <a:gs pos="100000">
                    <a:srgbClr val="008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70" name="Text Box 23"/>
          <p:cNvSpPr/>
          <p:nvPr/>
        </p:nvSpPr>
        <p:spPr>
          <a:xfrm>
            <a:off x="506880" y="4613400"/>
            <a:ext cx="82303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-взаимозависимостью и связью правовых нор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-регулирует отношения всей совокупностью юри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дических сред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-целостностью и согласованность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Місце для нижнього колонтитула 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498920" y="115920"/>
            <a:ext cx="4321080" cy="2421000"/>
          </a:xfrm>
          <a:prstGeom prst="rect">
            <a:avLst/>
          </a:prstGeom>
          <a:solidFill>
            <a:srgbClr val="212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44360" y="907920"/>
            <a:ext cx="3996000" cy="2449800"/>
          </a:xfrm>
          <a:prstGeom prst="rect">
            <a:avLst/>
          </a:prstGeom>
          <a:solidFill>
            <a:srgbClr val="212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52000" y="907920"/>
            <a:ext cx="4032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имущественные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- семейные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- трудовые и проче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(Гражданское пра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Семейное пра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Трудовое право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75" name="Picture 5" descr="j0178279"/>
          <p:cNvPicPr/>
          <p:nvPr/>
        </p:nvPicPr>
        <p:blipFill>
          <a:blip r:embed="rId1"/>
          <a:stretch/>
        </p:blipFill>
        <p:spPr>
          <a:xfrm>
            <a:off x="34920" y="-2700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6"/>
          <p:cNvSpPr/>
          <p:nvPr/>
        </p:nvSpPr>
        <p:spPr>
          <a:xfrm>
            <a:off x="4573440" y="73080"/>
            <a:ext cx="44625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4427640" y="2495520"/>
            <a:ext cx="453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5" descr=""/>
          <p:cNvPicPr/>
          <p:nvPr/>
        </p:nvPicPr>
        <p:blipFill>
          <a:blip r:embed="rId1"/>
          <a:stretch/>
        </p:blipFill>
        <p:spPr>
          <a:xfrm>
            <a:off x="219240" y="-231840"/>
            <a:ext cx="8943840" cy="150012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6"/>
          <p:cNvSpPr/>
          <p:nvPr/>
        </p:nvSpPr>
        <p:spPr>
          <a:xfrm>
            <a:off x="324000" y="765000"/>
            <a:ext cx="4248000" cy="719280"/>
          </a:xfrm>
          <a:prstGeom prst="downArrowCallout">
            <a:avLst>
              <a:gd name="adj1" fmla="val 147661"/>
              <a:gd name="adj2" fmla="val 147648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ери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4643280" y="765000"/>
            <a:ext cx="4248360" cy="719280"/>
          </a:xfrm>
          <a:prstGeom prst="downArrowCallout">
            <a:avLst>
              <a:gd name="adj1" fmla="val 147674"/>
              <a:gd name="adj2" fmla="val 147660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цессу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250920" y="1557360"/>
            <a:ext cx="3456000" cy="431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ституцио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250920" y="2108160"/>
            <a:ext cx="3456000" cy="43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дминистратив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250920" y="2660760"/>
            <a:ext cx="3456000" cy="431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олов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250920" y="3213000"/>
            <a:ext cx="3456000" cy="43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5437080" y="1557360"/>
            <a:ext cx="3456000" cy="647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дминистративн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14"/>
          <p:cNvSpPr/>
          <p:nvPr/>
        </p:nvSpPr>
        <p:spPr>
          <a:xfrm>
            <a:off x="5437080" y="2276640"/>
            <a:ext cx="3456000" cy="647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оловн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16"/>
          <p:cNvSpPr/>
          <p:nvPr/>
        </p:nvSpPr>
        <p:spPr>
          <a:xfrm>
            <a:off x="5435640" y="2997360"/>
            <a:ext cx="3456000" cy="647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WordArt 17"/>
          <p:cNvSpPr txBox="1"/>
          <p:nvPr/>
        </p:nvSpPr>
        <p:spPr>
          <a:xfrm rot="5400000">
            <a:off x="3419280" y="2374560"/>
            <a:ext cx="230508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Базов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0" name="Rectangle 18"/>
          <p:cNvSpPr/>
          <p:nvPr/>
        </p:nvSpPr>
        <p:spPr>
          <a:xfrm>
            <a:off x="250920" y="400536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мей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24"/>
          <p:cNvSpPr/>
          <p:nvPr/>
        </p:nvSpPr>
        <p:spPr>
          <a:xfrm>
            <a:off x="250920" y="447984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уд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25"/>
          <p:cNvSpPr/>
          <p:nvPr/>
        </p:nvSpPr>
        <p:spPr>
          <a:xfrm>
            <a:off x="250920" y="495468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еме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26"/>
          <p:cNvSpPr/>
          <p:nvPr/>
        </p:nvSpPr>
        <p:spPr>
          <a:xfrm>
            <a:off x="250920" y="543096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27"/>
          <p:cNvSpPr/>
          <p:nvPr/>
        </p:nvSpPr>
        <p:spPr>
          <a:xfrm>
            <a:off x="250920" y="590544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инанс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Rectangle 28"/>
          <p:cNvSpPr/>
          <p:nvPr/>
        </p:nvSpPr>
        <p:spPr>
          <a:xfrm>
            <a:off x="250920" y="638172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лог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29"/>
          <p:cNvSpPr/>
          <p:nvPr/>
        </p:nvSpPr>
        <p:spPr>
          <a:xfrm>
            <a:off x="5437080" y="4005360"/>
            <a:ext cx="3456000" cy="93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оловно-исполните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30"/>
          <p:cNvSpPr/>
          <p:nvPr/>
        </p:nvSpPr>
        <p:spPr>
          <a:xfrm>
            <a:off x="5435640" y="5661000"/>
            <a:ext cx="345600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рбитражно-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WordArt 31"/>
          <p:cNvSpPr txBox="1"/>
          <p:nvPr/>
        </p:nvSpPr>
        <p:spPr>
          <a:xfrm rot="5400000">
            <a:off x="3141360" y="5075280"/>
            <a:ext cx="266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ециальн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LEGION</cp:lastModifiedBy>
  <dcterms:modified xsi:type="dcterms:W3CDTF">2015-01-28T08:32:59Z</dcterms:modified>
  <cp:revision>150</cp:revision>
  <dc:subject/>
  <dc:title>Система пра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