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BC75-E71C-45B3-976C-0E24AB549E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008C-8A6D-4C06-B0E6-1BCFA14ACB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ачества проектов правовых актов. 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, формы и виды экспертиз в правотворческом процессе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и-коррупционная экспертиза муниципальных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аемым задач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A8E4-E89C-4FF2-9B57-6CE32E713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(по догов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(инициатив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C148-76E7-449E-9CBE-6D5D61BE60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щественная экспертиза проекта/реш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C01E-0409-46F1-B58C-17BECA7E2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D495-EFB6-43E4-8A3C-345CB9E95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(правовая)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B9FA-68EF-4C90-A1C8-74BF1064D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172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C3CB-F8AD-4F29-8CA1-C942BF069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овации закона об антикоррупционной экспертизе (АК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с институтами гражданского общества при провед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ая трактовка «коррупциогенных факто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рассмотрения представлен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нициатив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9DB6-872C-4CA7-8543-6B5C6424C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3A20-89F9-4C55-8432-9E5E0F54A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принятие муниципального нормативно правового 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3,ч.1,п.3. ФЗ№17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A65D-9C27-4970-8F65-8A0BFA287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9BE3-DF45-461D-85D6-E970D31CD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определя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органов местного самоуправления и легитимность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788F-4D3D-48DD-989E-CB7B0CC06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ррупциогенные факторы (ст.1, ч.2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A352-B5C3-4EA8-9FAB-6A3541765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93A6-4AB8-416A-BC08-05E828A5C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корпуционная экспертиза проводится в отношен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2914-0F21-41AA-8A87-7FB09D6CA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рави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я экспертизы на коррупциогенность (АК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0F57-C4B6-4852-A09F-1EFDC1CAC7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АК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зультатам АКЭ составляется экспертное заключение, в котором отражают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DACD-28A4-43FE-AE52-FCD02B789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е факторы (из 172 Ф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0F98-E146-4727-A25D-B1F4030E66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D046-B7CA-442F-9846-F2D5B2642F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7EFB-1315-4C69-B9C8-E73FC53B7F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2143-D921-42DD-B3B3-044BCE364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34D0-534D-49F8-835F-366662846B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54E6-8D71-489E-8DD6-BC8A1E0EE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7869-0F24-461D-B95E-09C2ECDF2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5F0F-229A-49D7-BACF-CD9A672674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и регламентирование организации правотворче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система принятия решений о разработке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изация  процедуры проектирования нормативных правов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02DF-D7C6-491F-82C4-1114F121C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: организация правотвор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а принятия решений о разработке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ИРОВАНИЕ ПРАВОТВОРЧЕСКОЙ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право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удит действующей системы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зменений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4E0B-61A3-436B-A58D-0FCE9728B6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проектирования нормативных правовых ак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ая предварительная разработка КОНЦЕПЦИИ нормативного правового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83AE-8A97-4922-AE79-391A472CC6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ественное участие в правотворческом процес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 на самых ранних стад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организ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поощр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3177-F069-4EF7-A751-B46A2BB43D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онтроля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Calibri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40AB-7B65-4B0D-B99B-4E43CED5F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2643-2119-410A-96C3-1182ED007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93D-3740-4BA1-91B3-F33F169A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703-05AE-44CB-8936-E7C37ED0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D3D-FF11-42B4-B88C-AAFD1C1B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1E4-0556-45A9-A396-CA2DC33C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FE14-2D74-4A94-8D27-7A4CEA17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41DC-C487-4286-A36B-295C4C72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D44A-2A8C-47C5-97DD-21048687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C5E8-C05D-463D-A637-2C2BBE51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5243-B0B0-485E-AD9E-4777F88F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455D-FB2C-449B-81CA-C5EEC108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F6A-8AF3-4F16-811D-C2E169A9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B1E-E6B1-4AC4-BA5B-BA53C3A5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51A9-8682-45E2-9C57-37F9A7FC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5B74-B2F5-40B2-AD54-626C24C9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79A7-D650-4A29-8D4B-3A82DADC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347E-8AE2-45C9-85B3-5F4080FB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3EED-7B9D-4254-9338-AC102C63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6B0-5052-4704-9195-BBDE59C3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E9B-45E4-476C-A46A-D66291DB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C98-0933-4845-97AE-FABFAC7F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436-A939-4C94-ADAD-B979B955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C15-02A5-494C-9912-2C422A25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3F6-F8D9-40A1-AEFB-77A1D9E9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724-0AE2-411C-8B4A-83C6C71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3FE6-268A-4EEA-A1C0-1B63E017387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5A73-FED6-4E86-9CEF-08B7F44951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7505-D88A-417B-8A03-BBC816038C1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1D85-1479-490B-83C8-BE3D5F58EB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77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Повышение качества проектов правовых актов. 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оль, формы и виды экспертиз в правотворческом процессе.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7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-коррупционная экспертиза муниципальных правовых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решаемым задача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905120"/>
            <a:ext cx="84168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способу организации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(по договор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ая (инициатив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бщественная экспертиза проекта/решения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(правовая)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17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новации закона об антикоррупционной экспертизе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7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трудничество с институтами гражданского общества при проведен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ирокая трактовка «коррупциогенных факторо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рассмотрения представлен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инициатив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КУРА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Ы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И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ИТУТЫ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еобходимо принятие муниципального нормативно правового акт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3,ч.1,п.3. ФЗ№1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67280" y="3716280"/>
            <a:ext cx="1512720" cy="1585800"/>
          </a:xfrm>
          <a:custGeom>
            <a:avLst/>
            <a:gdLst>
              <a:gd name="textAreaLeft" fmla="*/ 0 w 1512720"/>
              <a:gd name="textAreaRight" fmla="*/ 546120 w 1512720"/>
              <a:gd name="textAreaTop" fmla="*/ 41040 h 1585800"/>
              <a:gd name="textAreaBottom" fmla="*/ 154476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932360" y="4149720"/>
            <a:ext cx="4030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рмо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определяет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способность органов местного самоуправления и легитимность и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ст.1, ч.2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нтикорпуционная экспертиза проводится в отношении: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прави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ведения экспертизы на коррупциогенность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ключение АКЭ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езультатам АКЭ составляется экспертное заключение, в котором отражаю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из 172 ФЗ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5597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норм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840"/>
            <a:ext cx="870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040" y="1904760"/>
            <a:ext cx="8345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4200" y="1714680"/>
            <a:ext cx="8631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гламентирование организации правотворческого проце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об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а система принятия решений о разработке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ализация  процедуры проектирования нормативных правовых ак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: организация правотворческого процесс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принятия решений о разработке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 ПРАВО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636640"/>
            <a:ext cx="8007840" cy="21124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 право примен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Аудит действующей системы правовых а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нозирование развития социальных отнош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изменений законодатель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проектирования нормативных правовых ак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ая предварительная разработка КОНЦЕПЦИИ нормативного правового 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бщественное участие в правотворческом процессе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 на самых ранних стад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быть организов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поощ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истема контроля качеств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760" y="1413000"/>
            <a:ext cx="848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6:41:01Z</dcterms:created>
  <dc:creator>Хозяин</dc:creator>
  <dc:description/>
  <dc:language>en-US</dc:language>
  <cp:lastModifiedBy>LEGION</cp:lastModifiedBy>
  <dcterms:modified xsi:type="dcterms:W3CDTF">2015-01-28T10:10:14Z</dcterms:modified>
  <cp:revision>16</cp:revision>
  <dc:subject/>
  <dc:title>Повышение качества проектов правовых актов.  Роль, формы и виды экспертиз в правотворческом процессе. </dc:title>
</cp:coreProperties>
</file>