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D54A-6E43-4CFE-8546-D0330CE46D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6CA5-DE37-47F4-982B-382063C9B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ачества проектов правовых актов. 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, формы и виды экспертиз в правотворческом процессе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и-коррупционная экспертиза муниципальных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аемым задач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Calibri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C66C-998F-4BE1-BD6F-F2E71AD3D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(по догов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(инициатив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5FE3-7BAD-4330-A7C6-1C04898C8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щественная экспертиза проекта/реше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5428-5CFA-4014-941E-F68C93274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56F9-729E-47C0-BEE6-1FB727202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(правовая)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17C-D2CD-4ECB-96CF-738729B285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172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0884-DAAE-4C48-9B54-42400A442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овации закона об антикоррупционной экспертизе (АК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с институтами гражданского общества при проведе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ая трактовка «коррупциогенных факто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рассмотрения представлен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нициативных заклю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E3B-6D2E-4792-8AB9-97826157B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(ИХ ДОЛЖНОСТНЫЕ Л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81C0-87B9-4FE6-BC90-C23B5B464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принятие муниципального нормативно правового 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.3,ч.1,п.3. ФЗ№17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D47E-D3FA-464A-AC67-7468B913B0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м проводится  АКЭ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FAA-1E02-4549-B2E7-3932A8698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определя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органов местного самоуправления и легитимность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9F68-E11C-4862-A0B2-23F2CBF2C4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ррупциогенные факторы (ст.1, ч.2)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A8D5-0C67-44E4-878E-E7A30DE80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ррупционная эксперти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AC45-9B23-4E4A-BA99-C04CE6A53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икорпуционная экспертиза проводится в отношени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F94E-9986-4023-92D2-E6EE3B6E3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равил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я экспертизы на коррупциогенность (АК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817-180D-4895-9C04-223AEC9C8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АК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зультатам АКЭ составляется экспертное заключение, в котором отражают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2DEA-2DD4-40D9-B9E6-9DC1E923B9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упциогенные факторы (из 172 Ф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8723-0E86-43E8-8F26-6CDF98C0A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E90A-F548-45A7-B4D8-1DB17CE37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7F82-2C71-4547-99AE-1FE453DA5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3447-38C9-4B27-BB24-DC8BBC0B6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B05F-E724-43A8-8C7B-0EA1ABA11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743E-A048-41DD-8BC7-355C8D8EF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упци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E5D6-7630-4D3C-8A1A-D3CB8B5EC9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876-BDEB-469B-A0E7-FA6D5CC29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 и регламентирование организации правотворче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система принятия решений о разработке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изация  процедуры проектирования нормативных правовых а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B846-01DA-4E3F-AFB7-634F750F4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: организация правотворческ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а принятия решений о разработке ак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ИРОВАНИЕ ПРАВОТВОРЧЕСКОЙ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право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удит действующей системы правов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зменений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BBEB-94BB-4AA2-A863-CEA5E75DDA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нормативных 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проектирования нормативных правовых ак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ая предварительная разработка КОНЦЕПЦИИ нормативного правового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3EE4-8769-486E-8747-320E4CF2E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щественное участие в правотворческом процесс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 на самых ранних стад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организ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поощр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4953-AD53-49F9-BE62-D62071AB3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онтроля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Calibri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B378-758B-4715-891C-E1A0A5F25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и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верхнього колонтитула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. 19-20 мая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ьневосточный центр социальных иннов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5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16F-FB86-4DE1-AF3F-54F261599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45B-B0ED-40A9-A219-DE82F552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E6F-170D-4E26-8DFB-4A7C7427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C38-27EC-4523-8748-42D132C2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036-7827-4230-842E-2CD2F61A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79D9-1F76-48F7-8DDC-57042147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E1C8-CF08-4553-A17E-AD18862A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B9E6-1806-43A1-BE8C-F168E3A9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DEC0-A111-4CE8-8C6F-CEDF7BA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85C8-6545-467F-BC43-1CFCB4F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8088-5A4A-4142-AFA5-55BFEB38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42F8-A341-46EF-BAE3-11030ED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88D-7DAF-4AC5-B2DE-9A97378D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1C97-C221-4EA1-AD64-B0047AD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04A-FB80-4D58-90DD-6872D223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478C-4A9B-4352-BA82-93DDAB4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CCCC-DCCD-43B3-A8B0-0BE5F5E0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78B0-6B1C-4F27-94B9-C7FC587E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E18-41ED-49A2-8496-066EDFD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F48-D960-4703-9E67-6F7FACAB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6C4-336C-40A2-8829-FDE2F43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A74-7380-4817-9D56-978F0D56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0B0-3DEC-48BC-A283-4A86BD4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523-578E-403A-B538-9493C597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D6E-A46A-4E04-950D-F48A3CC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1400-CEFD-4BF1-BC67-E2332A0FB1F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9600-A9A6-4F42-8ABF-EA68021826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A3CF-BD3D-43CE-BCCD-A1D7DD1E21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320E-24FB-4262-9B73-C1EE2A6AA5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7712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Повышение качества проектов правовых актов. </a:t>
            </a:r>
            <a:br>
              <a:rPr sz="4800"/>
            </a:b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оль, формы и виды экспертиз в правотворческом процессе.</a:t>
            </a: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907640" y="386028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-коррупционная экспертиза муниципальных правовых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решаемым задача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8760" y="1905120"/>
            <a:ext cx="84168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Юридическая/прав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66"/>
                </a:solidFill>
                <a:latin typeface="Arial"/>
              </a:rPr>
              <a:t>Антикорруп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гв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минол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де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 способу организации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я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-  проводится  уполномоченными государственными органами и организац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ая (по догово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висимая (инициатив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бщественная экспертиза проекта/решения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ючается в  оцен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я  докумен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терес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(при реализации всех положений документа) достичь поставленных ц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стичности, т.е. возможности в существующих условиях реализовать предложенное реш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се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ых правил и процедур, обеспечивающих реализацию предлагаемого решения в практической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я принципа равенства и доступности участия для всех заинтересованны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и понимания и использования  документа людьми, не имеющими специальной подгот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ц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а правового регу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ции органа, принявшего а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ихся в нем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а принятия, обнародования(опублик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 акта законодательс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ие требованиям юридической 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Юридическая (правовая)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: рекомендации по проведению юридической экспертизы нормативных правовых актов субъектов Российской Феде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ложение к Приказу Министерства юстиции Российской Федерации от 29 октября 2003 г. №2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ДЕРАЛЬНЫЙ ЗАКОН №172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Б АНТИКОРРУПЦИОННОЙ ЭКСПЕРТИЗЕ НОРМАТИВНЫХ ПРАВОВЫХ АКТОВ И ПРОЕКТОВ НОРМАТИВНЫХ ПРАВОВЫХ АК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новации закона об антикоррупционной экспертизе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377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трудничество с институтами гражданского общества при проведени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ирокая трактовка «коррупциогенных факторо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язательность рассмотрения представлен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можность инициативных заключ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КУРАТУ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Ы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ГАНИЗАЦИИ (ИХ ДОЛЖНОСТНЫЕ ЛИ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ИТУТЫ ГРАЖДАНСКОГО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еобходимо принятие муниципального нормативно правового акт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рядке проведения антикоррупционной экспертизы правовых актов и проектов правов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3,ч.1,п.3. ФЗ№1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ем проводится  АКЭ?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куратура проводит АКЭ в следующих област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, свобод и обязанностей человека и граждан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обств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ой служб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юджетного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огов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н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мель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остроительн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оохранного социальных гарантий лицам, замещающим (замещавшим) муниципальные должности, должности муниципальной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67280" y="3716280"/>
            <a:ext cx="1512720" cy="1585800"/>
          </a:xfrm>
          <a:custGeom>
            <a:avLst/>
            <a:gdLst>
              <a:gd name="textAreaLeft" fmla="*/ 0 w 1512720"/>
              <a:gd name="textAreaRight" fmla="*/ 546120 w 1512720"/>
              <a:gd name="textAreaTop" fmla="*/ 41040 h 1585800"/>
              <a:gd name="textAreaBottom" fmla="*/ 1544760 h 15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932360" y="4149720"/>
            <a:ext cx="40305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рмо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определяет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системы местного самоуправления (в том числе свободу от коррупциогенных факто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способность органов местного самоуправления и легитимность и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ресурса права для решения вопросов местного значения, в том числе через расширение использования собственных ресурсов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ст.1, ч.2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, устанавлив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авоприменителя необоснованно широкие пределы усмот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возможность необоснованного применения исключений из общих прави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положения, содержа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пределе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выполни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или) обременительные требования к гражданам и организациям и тем самым создающие условия для проявления корру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тикоррупционная экспертиза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экспертизы проектов нормативных правовых актов и иных документов в целях выявления в них положений, способствующих созданию условий для проявления корруп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верждены новые правила и методика проведения анти коррупционной экспертизы  Постановлением Правительства Российской Федерации от 26 февраля 2010 г. №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нтикорпуционная экспертиза проводится в отношении: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роектов федеральных законов, проектов указов Президента Российской Федерации и проектов постановлений Правительства Российской Федерации, разрабатываемых федеральными органами исполнительной власти, иными государственными органами и организациями,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проектов концепций и технических заданий на разработку проектов федеральных законов, проектов официальных отзывов и заключений на проекты федеральных законов - при проведении их правовой экспертиз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нормативных правовых актов федеральных органов исполнительной власти, иных государственных органов и организаций, затрагивающих права, свободы и обязанности человека и гражданина, устанавливающих правовой статус организаций или имеющих межведомственный характер, а также уставов муниципальных образований и муниципальных правовых актов о внесении изменений в уставы муниципальных образований - при их государственной регистр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нормативных правовых актов субъектов Российской Федерации - при мониторинге их при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Основные правил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роведения экспертизы на коррупциогенность (АКЭ)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Э должна бы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вер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проводить экспертизу каждой нормы проекта документа на коррупциогенность и излагать ее результаты единообразно с учетом состава и последовательности коррупцион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ключение АКЭ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результатам АКЭ составляется экспертное заключение, в котором отражаю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явленные положения проекта документа, способствующие созданию условий для проявления коррупции, с указанием структурных единиц проекта документа (разделы, главы, статьи, части, пункты, подпункты, абзацы) и соответствующих коррупционных фак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 Black"/>
              </a:rPr>
              <a:t>Коррупциогенные факторы (из 172 ФЗ)</a:t>
            </a:r>
            <a:endParaRPr b="1" lang="en-US" sz="4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55972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упциогенными факторами являются положения нормативных правовых актов (проектов нормативных правовых акт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ющие для правоприменителя необоснованно широкие пределы усмотрения или возможность необоснованного применения исключений из общих прав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я, содержащие неопределенные, трудновыполнимые и (или) обременительные требования к гражданам и организациям и тем самым создающие условия для проявления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норм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рупциогенными нормами признаются положения проектов документов, содержащие коррупционные фа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2920" y="14288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широта дискреционных полномоч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или неопределенность сроков, условий или оснований принятия реш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ублирующих полномочий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определение компетенции по формуле "впра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ыборочное изменение объема пр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необоснованного установления исключений из общего порядка для граждан и организаций по усмотрению органов государственной власти или органов местного самоуправления (их должностных л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840"/>
            <a:ext cx="870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) чрезмерная свобода подзаконного нормотворчеств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бланкетных и отсылочных норм, приводящее к принятию подзаконных актов, вторгающихся в компетенцию органа государственной власти или органа местного самоуправления, принявшего первоначальный нормативный правовой ак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принятие нормативного правового акта за пределами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компетенции органов государственной власти или органов местного самоуправления (их должностных лиц) при принятии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) заполнение законодательных пробелов при помощи подзаконных актов в отсутствие законодательной делегации соответствующих полном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ие общеобязательных правил поведения в подзаконном акте в условиях отсутствия зак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0040" y="1904760"/>
            <a:ext cx="8345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отсутствие или неполнота административ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порядка совершения органами государственной власти или органами местного самоуправления (их должностными лицами) определенных действий либо одного из элементов такого поря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) отказ от конкурсных (аукционных) процедур - закрепление административного порядка предоставления права (благ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ачество нормативных актов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организации правотворческого процесса (этапы, распределение полномочий, процеду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остава участников правотворческого процесса (различные группы интересов, синтез профессиональных зн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наличия системы контроля кач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право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рупциогенные фактор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14200" y="1714680"/>
            <a:ext cx="8631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наличие завышенных требований к лицу, предъявляемых для реализации принадлежащего ему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установление неопределенных, трудновыполнимых и обременительных требований к гражданам и организац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злоупотребление правом заявителя органами государственной власти или органами местного самоуправления (их должностными лицам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утствие четкой регламентации прав граждан и организ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юридико-лингвистическая неопреде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требление неустоявшихся, двусмысленных терминов и категорий оценочн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Качество нормативного акта обеспечивает общую эффективность деятельности, в том числе и предотвращение коррупции!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и регламентирование организации правотворческ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а система принятия решений о разработке а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ализация  процедуры проектирования нормативных правовых ак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: организация правотворческого процесса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разработке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 ПРАВО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636640"/>
            <a:ext cx="8007840" cy="211248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 право примен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Аудит действующей системы правовых ак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гнозирование развития социальных отнош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ониторинг изменений законодатель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зучение потребностей, интересов жителей, существующих проблем в общественных отношения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ышение качества нормативных акт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дуры проектирования нормативных правовых ак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ая предварительная разработка КОНЦЕПЦИИ нормативного правового 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окое общественное участие в проектировании и обсуждении /экспертизах КОНЦЕПЦИИ 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бщественное участие в правотворческом процесс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 на самых ранних стад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быть органи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жно поощр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истема контроля качеств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разработке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Эксперти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иторинг правопри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ертиз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760" y="1413000"/>
            <a:ext cx="8488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а – это совокупность мотивированных заключений по предмету и вопросам эксперт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проведения эксперти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 (группа экспертов или экспертная организация) не принимали ранее участия в подготовке дан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фессиональной экспертизы: обладают специальными знаниями в дан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висимос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тизы можно классифицировать п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аем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у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6:41:01Z</dcterms:created>
  <dc:creator>Хозяин</dc:creator>
  <dc:description/>
  <dc:language>en-US</dc:language>
  <cp:lastModifiedBy>LEGION</cp:lastModifiedBy>
  <dcterms:modified xsi:type="dcterms:W3CDTF">2015-01-28T10:10:14Z</dcterms:modified>
  <cp:revision>16</cp:revision>
  <dc:subject/>
  <dc:title>Повышение качества проектов правовых актов.  Роль, формы и виды экспертиз в правотворческом процессе. </dc:title>
</cp:coreProperties>
</file>