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DDAD-1ED6-4E36-8194-6F30424C9D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D90B-31B6-459B-A993-0DA33E912F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 качества проектов правовых актов. </a:t>
            </a:r>
            <a:br>
              <a:rPr sz="2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, формы и виды экспертиз в правотворческом процессе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ти-коррупционная экспертиза муниципальных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шаемым задач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с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Calibri"/>
              </a:rPr>
              <a:t>Юридическая/правов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Calibri"/>
              </a:rPr>
              <a:t>Антикоррупцион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нгвист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иминолог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нансов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ндер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36A4-1CA0-4B6F-84AB-9779290796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-  проводится  уполномоченными государственными органами и организац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ая (по догово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ая (инициатив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B1E6-F2CA-43A4-9633-7224750483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щественная экспертиза проекта/реше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лючается в  оценк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я  докумен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нтерес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се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и (при реализации всех положений документа) достичь поставленных ц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стичности, т.е. возможности в существующих условиях реализовать предложенное реш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ич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сех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ых правил и процедур, обеспечивающих реализацию предлагаемого решения в практической жиз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людения принципа равенства и доступности участия для всех заинтересованных лиц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и понимания и использования  документа людьми, не имеющими специальной подготов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936F-3534-4746-B45E-7CAAA578F5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вая оцен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ы а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ц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мета правового регул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етенции органа, принявшего а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ржащихся в нем нор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ядка принятия, обнародования(опубликова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е  акта законодательств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е требованиям юридической тех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266F-A8F0-4856-9BD9-3ECB435692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(правовая)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: рекомендации по проведению юридической экспертизы нормативных правовых актов субъектов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иложение к Приказу Министерства юстиции Российской Федерации от 29 октября 2003 г. №27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7DAD-D8B9-41B6-BBF9-17159DE368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ррупционная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172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Б АНТИКОРРУПЦИОННОЙ ЭКСПЕРТИЗЕ НОРМАТИВНЫХ ПРАВОВЫХ АКТОВ И ПРОЕКТОВ НОРМАТИВНЫХ ПРАВОВЫХ АК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F6A1-D6EF-4CBF-A05D-E04043DE95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овации закона об антикоррупционной экспертизе (АК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пр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ество с институтами гражданского общества при проведе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ая трактовка «коррупциогенных фактор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рассмотрения представленных заклю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нициативных заклю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7DC5-9134-4984-A693-8B38732007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проводится  АКЭ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Ы (ИХ ДОЛЖНОСТНЫЕ Л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(ИХ ДОЛЖНОСТНЫЕ Л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ГРАЖДАНСК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7366-7C11-4AA8-8359-4EE7F37662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ходимо принятие муниципального нормативно правового 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порядке проведения антикоррупционной экспертизы правовых актов и проектов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.3,ч.1,п.3. ФЗ№17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7CD9-5850-485E-8288-33F7F7EE9B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проводится  АКЭ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куратура проводит АКЭ в следующих област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, свобод и обязанностей человека и граждан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ниципальной собственно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ниципальной служб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юджетного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логов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сн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дног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емельн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адостроительног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родоохранного социальных гарантий лицам, замещающим (замещавшим) муниципальные должности, должности муниципальной служб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5B58-86CF-4DAA-84DC-027C348684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ых актов определя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системы местного самоуправления (в том числе свободу от коррупциогенных фактор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 органов местного самоуправления и легитимность их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спользования ресурса права для решения вопросов местного значения, в том числе через расширение использования собственных ресурс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9D24-2E59-46A2-99ED-9D3FFB493A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Коррупциогенные факторы (ст.1, ч.2)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упциогенными факторами являются положения нормативных правовых актов (проектов нормативных правовых актов), устанавливающ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авоприменителя необоснованно широкие пределы усмотр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возможность необоснованного применения исключений из общих прави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также положения, содержащ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пределенны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выполним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(или) обременительные требования к гражданам и организациям и тем самым создающие условия для проявления корруп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C851-D3C3-4627-9FCC-B1E9BE86DE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ррупционная эксперти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проведения экспертизы проектов нормативных правовых актов и иных документов в целях выявления в них положений, способствующих созданию условий для проявлен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тверждены новые правила и методика проведения анти коррупционной экспертизы  Постановлением Правительства Российской Федерации от 26 февраля 2010 г. № 9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CF7F-84DD-466F-9CBA-C08B03F57C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икорпуционная экспертиза проводится в отношени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оектов федеральных законов, проектов указов Президента Российской Федерации и проектов постановлений Правительства Российской Федерации, разрабатываемых федеральными органами исполнительной власти, иными государственными органами и организациями, - при проведении их правовой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оектов концепций и технических заданий на разработку проектов федеральных законов, проектов официальных отзывов и заключений на проекты федеральных законов - при проведении их правовой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ормативных правовых актов федеральных органов исполнительной власти, иных государственных органов и организаций, затрагивающих права, свободы и обязанности человека и гражданина, устанавливающих правовой статус организаций или имеющих межведомственный характер, а также уставов муниципальных образований и муниципальных правовых актов о внесении изменений в уставы муниципальных образований - при их государственной регист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нормативных правовых актов субъектов Российской Федерации - при мониторинге их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9F1B-04EB-4573-8F17-DBA4944495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правил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я экспертизы на коррупциогенность (АКЭ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Э должна бы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овер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яем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проводить экспертизу каждой нормы проекта документа на коррупциогенность и излагать ее результаты единообразно с учетом состава и последовательности коррупционных факт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0D67-F8AD-4AF4-B738-BFE863C7F5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АК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зультатам АКЭ составляется экспертное заключение, в котором отражают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явленные положения проекта документа, способствующие созданию условий для проявления коррупции, с указанием структурных единиц проекта документа (разделы, главы, статьи, части, пункты, подпункты, абзацы) и соответствующих коррупционны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62F5-17C7-4E74-B655-23BD9446CB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упциогенные факторы (из 172 Ф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ми факторами являются положения нормативных правовых актов (проектов нормативных правовых актов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щие для правоприменителя необоснованно широкие пределы усмотрения или возможность необоснованного применения исключений из общих прави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я, содержащие неопределенные, трудновыполнимые и (или) обременительные требования к гражданам и организациям и тем самым создающие условия для проявления корру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E35D-A846-4E86-ABBB-0AFD12AB3E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ми нормами признаются положения проектов документов, содержащие коррупционные 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C46B-9114-4E03-9AAF-560FE46265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широта дискреционных полномочий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или неопределенность сроков, условий или оснований принятия реше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дублирующих полномочий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определение компетенции по формуле "вправ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выборочное изменение объема пра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ь необоснованного установления исключений из общего порядка для граждан и организаций по усмотрению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732D-A42B-488C-B7AC-59B4CA34C7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г) чрезмерная свобода подзаконного нормотворчеств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бланкетных и отсылочных норм, приводящее к принятию подзаконных актов, вторгающихся в компетенцию органа государственной власти или органа местного самоуправления, принявшего первоначальный нормативный правовой ак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принятие нормативного правового акта за пределами компет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рушение компетенции органов государственной власти или органов местного самоуправления (их должностных лиц) при принятии нормативных правовых ак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заполнение законодательных пробелов при помощи подзаконных актов в отсутствие законодательной делегации соответствующих полномоч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ление общеобязательных правил поведения в подзаконном акте в условиях отсутствия зако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08ED-2143-4E8F-9D55-3F97B4D049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) отсутствие или неполнота административных процеду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порядка совершения органами государственной власти или органами местного самоуправления (их должностными лицами) определенных действий либо одного из элементов такого поряд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) отказ от конкурсных (аукционных) процедур - закрепление административного порядка предоставления права (благ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D178-FA77-44ED-BEE5-3AFE21184C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ых а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виси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организации правотворческого процесса (этапы, распределение полномочий, процеду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состава участников правотворческого процесса (различные группы интересов, синтез профессиональных знани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наличия системы контроля качест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бования к разработке проект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у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право при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2032-AE88-48FF-905B-6E2201CA00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наличие завышенных требований к лицу, предъявляемых для реализации принадлежащего ему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становление неопределенных, трудновыполнимых и обременительных требований к гражданам и организаци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злоупотребление правом заявителя органами государственной власти или органами местного самоуправления (их должностными лицам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сутствие четкой регламентации прав граждан и организац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юридико-лингвистическая неопределе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отребление неустоявшихся, двусмысленных терминов и категорий оценочного характе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DA85-84F6-4F61-89A0-2DC4726292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ого акта обеспечивает общую эффективность деятельности, в том числе и предотвращение коррупци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DE5D-4596-4526-B97D-4F9914A7C4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ние и регламентирование организации правотворческого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бен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система принятия решений о разработке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ализация  процедуры проектирования нормативных правовых а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B0F0-EA69-47F7-9E9B-53D16A3D22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: организация правотворческ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стема принятия решений о разработке а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ЛАНИРОВАНИЕ ПРАВОТВОРЧЕСКОЙ ДЕЯ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 право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удит действующей системы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развития соци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зменений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отребностей, интересов жителей, существующих проблем в общественных отно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2F5D-68EC-4CAB-B18E-A6E2555691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ы проектирования нормативных правовых ак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ая предварительная разработка КОНЦЕПЦИИ нормативного правового 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общественное участие в проектировании и обсуждении /экспертизах КОНЦЕПЦИИ а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A94F-1B0C-474F-9BA0-EC48EB1B21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щественное участие в правотворческом процесс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 на самых ранних стад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быть организ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поощря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9E17-5E62-4967-9EC6-D6228441D5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онтроля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ебования к разработке проект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Calibri"/>
              </a:rPr>
              <a:t>Экспертиз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суж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ниторинг правоприме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A9B7-9670-4DB9-9FD6-8CDD949AC5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иза – это совокупность мотивированных заключений по предмету и вопросам экспертиз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ловия проведения экспертиз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 (группа экспертов или экспертная организация) не принимали ранее участия в подготовке данного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профессиональной экспертизы: обладают специальными знаниями в данн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зависимость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изы можно классифицировать по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аемым задач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у орган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2D69-81E0-4EAD-A7A6-69BD3E2B0B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9709-FD5E-4B42-ABDF-A8897937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6A5-B4CF-48EE-A640-09987387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7AB-0286-4171-88B8-D1530A6F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7298-CBAF-4E3E-B843-65D166FC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7D43-53C6-41E6-B284-98092EE4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321C-5D0B-4F3F-BE36-F1C106D2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1EE8-310F-4CA3-8639-A07B7987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C9CC-679E-47D4-A40A-A64638D2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5CE4-E161-45A1-B669-2AD99296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BB14-54CB-4CB4-8ABA-003B9720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A2A0-6864-4DBA-B199-0327AA70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679-A769-42BD-8CF0-738F2C57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5EAD-DB38-4223-9051-5B1ADEA9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AB1F-3A05-47C8-94B8-F8B64D9A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814E-7C3F-4C36-91F6-188AABBC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5782-3E36-431B-8DC1-EC506E02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39EA-C1DA-4715-ACD3-92DE263D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DC85-0A31-4CB7-A680-0AA47B62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1725-D4CD-49E3-B000-44679610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97E-6F63-418B-92A0-EE79C4A5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D2C-91FF-4564-B366-EFE15F0D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8B8-4A80-43D6-AF42-03E9CE2A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8DAB-12E2-4C6F-B98B-5165214A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AA2D-ADE2-47D5-A2C3-DDC370E4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8166-FD06-4A40-ABAB-6FF651E05F7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76DD-1866-4C44-8B75-E12B4A65BE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4DC6-006B-4C67-A0A2-6A2CA0CA9C5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4476-D552-4500-AE38-1784DE0A8D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7712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Повышение качества проектов правовых актов. </a:t>
            </a:r>
            <a:br>
              <a:rPr sz="4800"/>
            </a:b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оль, формы и виды экспертиз в правотворческом процессе.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907640" y="386028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-коррупционная экспертиза муниципальных правовых а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 решаемым задачам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760" y="1905120"/>
            <a:ext cx="84168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лекс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Arial"/>
              </a:rPr>
              <a:t>Юридическая/прав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Arial"/>
              </a:rPr>
              <a:t>Антикоррупци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гвис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мин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де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 способу организации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ая -  проводится  уполномоченными государственными органами и организац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ая (по договор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ст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ависимая (инициатив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Общественная экспертиза проекта/решения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ючается в  оцен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я  докумен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терес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(при реализации всех положений документа) достичь поставленных ц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стичности, т.е. возможности в существующих условиях реализовать предложенное реш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се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ых правил и процедур, обеспечивающих реализацию предлагаемого решения в практической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я принципа равенства и доступности участия для всех заинтересованных л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понимания и использования  документа людьми, не имеющими специальной подго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Юридическая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вая оце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а правового регу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етенции органа, принявшего а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щихся в нем н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ка принятия, обнародования(опублико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е  акта законодатель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е требованиям юридической 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Юридическая (правовая)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: рекомендации по проведению юридической экспертизы нормативных правовых актов субъектов Российской Феде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иложение к Приказу Министерства юстиции Российской Федерации от 29 октября 2003 г. №2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нтикоррупционная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ЛЬНЫЙ ЗАКОН №17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ОБ АНТИКОРРУПЦИОННОЙ ЭКСПЕРТИЗЕ НОРМАТИВНЫХ ПРАВОВЫХ АКТОВ И ПРОЕКТОВ НОРМАТИВНЫХ ПРАВОВЫХ АК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сновные новации закона об антикоррупционной экспертизе (АКЭ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3772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язательность прове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трудничество с институтами гражданского общества при проведени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ирокая трактовка «коррупциогенных факторов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язательность рассмотрения представленных заключ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ость инициативных заключ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ем проводится  АКЭ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КУРАТУ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Ы (ИХ ДОЛЖНОСТНЫЕ ЛИЦ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ИЗАЦИИ (ИХ ДОЛЖНОСТНЫЕ ЛИЦ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СТИТУТЫ ГРАЖДАНСК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Необходимо принятие муниципального нормативно правового акт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порядке проведения антикоррупционной экспертизы правовых актов и проектов правовых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т.3,ч.1,п.3. ФЗ№1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ем проводится  АКЭ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07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куратура проводит АКЭ в следующих област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, свобод и обязанностей человека и граждан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ой собствен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ой служб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юджетного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гов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н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мель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достроитель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оохранного социальных гарантий лицам, замещающим (замещавшим) муниципальные должности, должности муниципальной служ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4067280" y="3716280"/>
            <a:ext cx="1512720" cy="1585800"/>
          </a:xfrm>
          <a:custGeom>
            <a:avLst/>
            <a:gdLst>
              <a:gd name="textAreaLeft" fmla="*/ 0 w 1512720"/>
              <a:gd name="textAreaRight" fmla="*/ 546120 w 1512720"/>
              <a:gd name="textAreaTop" fmla="*/ 41040 h 1585800"/>
              <a:gd name="textAreaBottom" fmla="*/ 1544760 h 15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932360" y="4149720"/>
            <a:ext cx="40305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ормо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ачество нормативных актов определяет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ость системы местного самоуправления (в том числе свободу от коррупциогенных фактор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способность органов местного самоуправления и легитимность их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использования ресурса права для решения вопросов местного значения, в том числе через расширение использования собственных ресурсов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Коррупциогенные факторы (ст.1, ч.2)</a:t>
            </a:r>
            <a:endParaRPr b="1" lang="en-US" sz="4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упциогенными факторами являются положения нормативных правовых актов (проектов нормативных правовых актов), устанавлив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авоприменителя необоснованно широкие пределы усмот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возможность необоснованного применения исключений из общих прави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положения, содержа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пределенн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выполним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(или) обременительные требования к гражданам и организациям и тем самым создающие условия для проявления корруп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нтикоррупционная экспертиза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проведения экспертизы проектов нормативных правовых актов и иных документов в целях выявления в них положений, способствующих созданию условий для проявления корруп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тверждены новые правила и методика проведения анти коррупционной экспертизы  Постановлением Правительства Российской Федерации от 26 февраля 2010 г. № 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Антикорпуционная экспертиза проводится в отношении: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оектов федеральных законов, проектов указов Президента Российской Федерации и проектов постановлений Правительства Российской Федерации, разрабатываемых федеральными органами исполнительной власти, иными государственными органами и организациями, - при проведении их правов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роектов концепций и технических заданий на разработку проектов федеральных законов, проектов официальных отзывов и заключений на проекты федеральных законов - при проведении их правов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нормативных правовых актов федеральных органов исполнительной власти, иных государственных органов и организаций, затрагивающих права, свободы и обязанности человека и гражданина, устанавливающих правовой статус организаций или имеющих межведомственный характер, а также уставов муниципальных образований и муниципальных правовых актов о внесении изменений в уставы муниципальных образований - при их государственной регист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нормативных правовых актов субъектов Российской Федерации - при мониторинге их приме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сновные правил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роведения экспертизы на коррупциогенность (АКЭ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Э должна бы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вер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проводить экспертизу каждой нормы проекта документа на коррупциогенность и излагать ее результаты единообразно с учетом состава и последовательности коррупционн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Заключение АКЭ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результатам АКЭ составляется экспертное заключение, в котором отражаю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явленные положения проекта документа, способствующие созданию условий для проявления коррупции, с указанием структурных единиц проекта документа (разделы, главы, статьи, части, пункты, подпункты, абзацы) и соответствующих коррупционных фак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Коррупциогенные факторы (из 172 ФЗ)</a:t>
            </a:r>
            <a:endParaRPr b="1" lang="en-US" sz="4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55972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упциогенными факторами являются положения нормативных правовых актов (проектов нормативных правовых акт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авливающие для правоприменителя необоснованно широкие пределы усмотрения или возможность необоснованного применения исключений из общих прави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ения, содержащие неопределенные, трудновыполнимые и (или) обременительные требования к гражданам и организациям и тем самым создающие условия для проявления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норм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рупциогенными нормами признаются положения проектов документов, содержащие коррупционные факт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2920" y="14288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широта дискреционных полномоч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или неопределенность сроков, условий или оснований принятия ре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дублирующих полномочий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пределение компетенции по формуле "впра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ыборочное изменение объема пр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необоснованного установления исключений из общего порядка для граждан и организаций по усмотрению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840"/>
            <a:ext cx="87026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) чрезмерная свобода подзаконного нормотворчеств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бланкетных и отсылочных норм, приводящее к принятию подзаконных актов, вторгающихся в компетенцию органа государственной власти или органа местного самоуправления, принявшего первоначальный нормативный правовой ак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принятие нормативного правового акта за пределами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компетенции органов государственной власти или органов местного самоуправления (их должностных лиц) при принятии нормативных правовых а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заполнение законодательных пробелов при помощи подзаконных актов в отсутствие законодательной делегации соответствующих полном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ие общеобязательных правил поведения в подзаконном акте в условиях отсутствия зак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00040" y="1904760"/>
            <a:ext cx="8345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отсутствие или неполнота административных процед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порядка совершения органами государственной власти или органами местного самоуправления (их должностными лицами) определенных действий либо одного из элементов такого поря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) отказ от конкурсных (аукционных) процедур - закрепление административного порядка предоставления права (благ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ачество нормативных актов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организации правотворческого процесса (этапы, распределение полномочий, процеду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состава участников правотворческого процесса (различные группы интересов, синтез профессиональных зн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наличия системы контроля кач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ния к разработке прое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и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иторинг право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14200" y="1714680"/>
            <a:ext cx="8631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наличие завышенных требований к лицу, предъявляемых для реализации принадлежащего ему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становление неопределенных, трудновыполнимых и обременительных требований к гражданам и организац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злоупотребление правом заявителя органами государственной власти или органами местного самоуправления (их должностными лицам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утствие четкой регламентации прав граждан и организ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юридико-лингвистическая неопреде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требление неустоявшихся, двусмысленных терминов и категорий оценочного х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Качество нормативного акта обеспечивает общую эффективность деятельности, в том числе и предотвращение коррупции!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ирование и регламентирование организации правотворческого процес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собен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а система принятия решений о разработке а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ализация  процедуры проектирования нормативных правовых ак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: организация правотворческого процесса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принятия решений о разработке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ИРОВАНИЕ ПРАВОТВОР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2636640"/>
            <a:ext cx="8007840" cy="211248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ониторинг  право примен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Аудит действующей системы правовых акт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гнозирование развития социальных отноше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ониторинг изменений законодатель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зучение потребностей, интересов жителей, существующих проблем в общественных отношения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дуры проектирования нормативных правовых ак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ая предварительная разработка КОНЦЕПЦИИ нормативного правового 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рокое общественное участие в проектировании и обсуждении /экспертизах КОНЦЕПЦИИ а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бщественное участие в правотворческом процессе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 на самых ранних стад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о быть организов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о поощря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Система контроля качеств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бования к разработке проект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Arial"/>
              </a:rPr>
              <a:t>Эксперти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су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ниторинг правоприме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6760" y="1413000"/>
            <a:ext cx="8488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иза – это совокупность мотивированных заключений по предмету и вопросам эксперти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 проведения эксперти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 (группа экспертов или экспертная организация) не принимали ранее участия в подготовке данног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рофессиональной экспертизы: обладают специальными знаниями в данн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зависимость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изы можно классифицировать п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аем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у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06:41:01Z</dcterms:created>
  <dc:creator>Хозяин</dc:creator>
  <dc:description/>
  <dc:language>en-US</dc:language>
  <cp:lastModifiedBy>LEGION</cp:lastModifiedBy>
  <dcterms:modified xsi:type="dcterms:W3CDTF">2015-01-28T10:10:14Z</dcterms:modified>
  <cp:revision>16</cp:revision>
  <dc:subject/>
  <dc:title>Повышение качества проектов правовых актов.  Роль, формы и виды экспертиз в правотворческом процессе. </dc:title>
</cp:coreProperties>
</file>