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6.gif" ContentType="image/gif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B14A-34EC-4C25-B534-037EDA4BC0A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права в жизни общества 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 учитель обществознания МОУ СОШ №1 Коребо О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644A-439D-4126-B575-4F1CFE04C7B1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появились зако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 Месопотам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 до н.э. царь Хаммураппи создал целый свод законов, чтобы «дать сиять справедливости в стране, чтобы погубить беззаконных и злых, чтобы сильному не притеснять слабог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BFCE-1EBA-4303-82B6-D39ED7E71BFA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м 387 г. до н.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Законы 12 таблиц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анавливали жесткие наказания для провинивш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вергали людей штраф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ставляли загладить причиненный в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зн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9D49-8F74-47CF-BCBA-D0D7A78932D7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право служит челове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момента рождения гражданин нашей страны имеет права –это называется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оспособ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действовать в соответствии со своими правами называется-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дееспособ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CD11-A050-43DF-89BE-C7958C1EEE20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наступает постепенно (стр 64-6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C9F6-BB84-43B8-99B6-C8A58D5D2E4F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46FB-CF4C-4162-9FC5-EE7C2F8C22B7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де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 65  3-й абзац, Интересны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94EA-F68B-44E5-8B92-93C3AD38386F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нарушение права наступает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Ответстве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неблагоприятные последствия наступающие за нарушени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поступки называют –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еступл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голо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F593-24D0-4614-8D4F-6C9F0394D46B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67 исторический фа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 фразу: «Во все времена преступников наказывали по закону, потому что….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сните, как право защищает людей от несправедливости и з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 детям нужны пра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DA0B-6BCA-4C36-8050-000655FF72F8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FC4C-9997-4DC6-95EC-5E2637D185E9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ля решения каких вопросов существует суд? Как в разные эпохи понимали, что такое «справедливый суд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ак можно защититься от несправедлив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 список действий, которые могут  вам повред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вать двери малознаком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лять вещи без присмотра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1749-9BC5-42CA-B991-2D01DE8D69C7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ы ли сужд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должно помогать  человеку в трудно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ая в магазине дорогостоящую вещь, чек аккуратно выбрасывайте в мусорную корз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лучился конфликт, нужно сразу идти в с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являются защитниками прав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суда является последним и обжалованью не подлеж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4E3E-798B-4BB6-A509-97B159D2C0AB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пособность и дее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64FD-B899-440A-9C34-14DCF8AAA2E9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в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это система взаимосвязанных между собой юридических норм(правил), которые надо исполнять, иначе придется нести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529F-B183-45B1-BF9A-9AC18767DB04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во выражается в разных источниках, например в закона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закон? (стр 62 2-й абзац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Зак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ажный юридический документ, созданный особым путем, обязательный для испол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9B47-0BEA-4248-9B16-09E78C20A5C8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ы законов пишут юрис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такие юрис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ческий факт (стр. 63 втор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FFE2-7A1B-4C4D-BD33-9D494C28F5EC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лению закона в силу предшествует сложная процед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5F68-EE14-4257-9167-AC44435E9295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е сферы жизни человека регулируют разны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8790-CF38-4843-9F3F-908C7ED2EA6C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144E-A901-4432-BDFF-7E8B8991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41FC-4FBF-40E1-9180-88EF7D58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E5049-5BF1-481F-9464-686DC63B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8D46E-5EF0-4415-B477-F15E6E1A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F9E1F-000F-4F98-A4C8-D05CAAF7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69408-5112-42B4-B90F-37906065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01A98-4D96-40C5-87F4-A5623E5C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4A712-077B-4B28-B45F-0D6C8C3B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70A68-C993-4AC6-A5BB-B193F799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FDE48-8DB4-442D-AA35-A00AF257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B6648-C27C-4A7D-B414-B9D6F7A0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DC60E-C3C5-4733-893C-FBDB4E9B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CF24-0A15-4385-9A32-3F9DA10D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A2EEB-55C2-46EB-B656-8AA46ACD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0E2C9-B13B-4926-8641-F875C772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F5E85-A680-4BDD-8B57-730033EF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4469D-C16B-40F9-AB2B-F707329D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D37A2-0A83-42E8-92F8-11A636AD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531D2-C530-41B5-B813-7C3B9165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28948-FBB7-45E9-B9BC-5F1C4657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A36BB-54F2-4F31-B263-B522F02A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329BF-B14C-47C8-84A0-0BB2B4C1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5D1D3-36EF-4C07-B4B6-9606AFC4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7B78-8438-43F7-AC36-3E82A24C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5192D-E0D4-4927-9325-7182CF4E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047E4-EC12-4E69-BA01-8E116CBC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C48BF-5DB9-4F1E-80A7-CF01B7FB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709D1-4C43-4559-A1CE-84CFC343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293B7-8813-4F76-A7E8-61D02767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B3C46-FEF3-4A55-B510-07609CF6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9CB90-6E72-4DC5-A94D-ABC2D443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1959A-7C85-47C0-8FF7-8C0E6F4E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F9502-9E2F-45C1-9296-3F0BDAEF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A4D84-8D26-4F5C-99D0-F6BBC8A1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02D6-F2A8-4EC3-8FB4-233AB7E8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5CEDA-1933-4694-B95F-100FB798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46E7A-C2C1-4986-B16C-31E7394D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44EDF-EE39-4784-9145-1810292A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4A290-D4B6-4AEE-AD99-FB9D7023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933EE-BD7F-4158-8F6F-D2E6838E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480C0-BC4E-4231-862A-EDE8BC44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0D5D4-268C-4880-9D43-843A4E4B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7419D-AF22-4C03-B32C-97DF54A3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4B42E-F1A0-4AA2-8ADC-E78D0F1B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2DC50-5DDB-4DD3-A5A3-B817A6A7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5DB3-E8AA-410D-9A6A-33C3AB27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2E695-4C01-4A13-BAC7-9602A28D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1F939-905E-409A-8806-7CCC74AA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8CC33-8B8C-4765-BAAF-331B7FA0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B4728-0ECC-4A84-BD51-2EC534B2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A1784-FA3A-4696-B679-527961AD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CF184E-1FDD-4E93-B235-8384C1E5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BF8C82-62F4-4C89-93D6-6D809716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B9BCFF-CF61-483E-9E62-4EA07B8A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949932-FA16-4A96-A936-984E8E96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6A3B22-D810-4883-A5D4-D89D9E13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5334-E414-4A5C-99B3-18708A2C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5E43D1-6219-4B22-ABA3-B63F1F9C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C3A969-0F4C-4660-9240-E140F12B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941C14-B534-460F-B7A1-4C48B64B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52D506-E0D3-4AD7-B117-60911633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135DC5-D9C0-4878-8DE0-AAD9FF70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1591E7-F504-4AEE-8FA0-79219065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AD0AE-F256-4B3C-8219-085FF6A0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5884E0-2DDD-488C-AC4F-A84DBF4F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3B481F-7259-4F72-904C-69B6543C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7D2AF3-0F83-4ED7-A899-1C4B7669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6CD9-2CEC-4E1A-9823-5A5E4EE3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EE4C77-3B70-400C-AAAE-03986C8B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3BDE68-25E6-4CB9-9113-5025E53E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DC0829-1BDD-4726-80F1-7A3CC244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8BBD23-93DB-4031-8BC4-C81139F1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3E07FA-D0E5-4872-A849-D9C5EFE3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DBB4D9-BB74-42AE-BD86-E566A9B3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38524-4D8C-449F-9940-8C0B267A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75D64D-F113-4CAE-BFB4-5BE28BF8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29507F-CEB2-415D-896C-5A61FFEE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F11CBB-49E0-4366-8B41-56FFEFFC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B86D-108C-4875-9DFC-7DBD8284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A4617B-88C8-4588-983F-3A635FBB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8544EE-9700-485F-9A63-BD5343A9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5D8FA2-ABD9-424C-84B4-306AC8DC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485477-D882-425A-B2B9-2DF82BD1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CD360B-2FE5-46B4-BBF1-19F64893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96E111-DDC7-4DCF-9E51-936912A5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DE6757-8601-4FC2-99FA-56202F76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A68EE0-3EB6-4F6C-8E98-357B2F44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3613F0-9EA3-4962-AB17-B39D31DD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11F7D9-756F-4FF0-8FE5-B3CC165B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9A86-FDF1-4C82-8473-84BBEE8B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021786-951A-43AF-A84C-E2B0B498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9634-FB30-46CD-A994-E7123A94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9D5E-90F5-494F-AF36-0A349565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B76A-A61B-47D7-8DBB-CAFCA391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5783-CA7D-4997-9E21-980FFA42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18A2-9C66-4706-B9D5-EA14E637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41A1-19D9-43FE-A302-D4DF009F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DC88-82EA-4726-AFF5-6C1BA5FE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51FB1-60E8-49ED-B406-CEAE9DF1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389DC-DD9C-40E1-A7F4-C484D67A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CDFAC-71B7-4BDA-BDD6-14E8442B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D8719-E744-4F28-8443-4590C292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8D087-E4EE-4B94-9730-DEEFFDFF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F623-AFA6-4C0F-967F-1DF62CAF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1D180-5416-463C-B861-DE6CEDF1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526F8-1156-45EA-980C-D4848035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6BAD2-B575-41D2-9D5B-1795211F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F9154-1C08-41B7-91F6-019A5AB0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55718-8685-41B1-B5C0-C29B50B9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BC545-0ED9-4C1E-A049-998A2B9E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B12FD-BE52-46A8-AAB8-9D0CAB16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90BD5-9122-405A-B7EB-ED981FE2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13A2A-B916-4898-A6D4-5E5510D5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33D8F-414A-4BA8-8B0A-F5F0B55D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33A-2BC6-44AC-860C-6C3E166B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731E4-9D32-41D8-B5A2-49DBCA66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A9E9B-F3B7-4395-8F2C-97CD60CF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74D01-06E0-4ED0-B6F5-736B1446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DDBE4-569A-44AC-B1E6-72A9DA43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632AB-BB8A-450D-A266-E5041B5C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A8CBB-13A4-466A-BF4F-0E2A7C4F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27029-134A-4F7E-8269-187C4B76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9535E-F140-4884-B9DA-9A3E04D0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090E4-0B7B-423F-A075-377099C6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40CB9-8E41-4A96-B53D-7B7E4827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8F95-17BF-453C-8029-8C3A944C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68CA1-83D6-4985-8730-A3419663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B5CAB-424E-4DFA-B964-9821FDC2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1B178-FB38-4F85-88FB-2472ADAB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4708F-C26F-4608-8212-3B089B8E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112F2-6C86-4538-86A7-795EA02C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13AD0-9AA4-4C3D-8B29-731B3CEB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9A17A-D2E0-4191-BBDE-9BE403BA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B2F9F-A308-4027-B3A9-082E4A49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FB2C4-B1D0-449D-A3B8-01965ECB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BD23E-7290-4D3C-8A0A-D72F3E57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B4CE-1CA3-44D2-B87F-0FA41634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39601-2695-4C9D-B490-570B0011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8A065-C34C-4E65-9771-FFA1DA68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4C328-280E-4497-803D-73D75C5C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7E979-FD7B-4854-9331-877FFE5D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B82B6-344D-443E-A368-48364F1A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EAD7E-686B-4D7A-A00C-1F65C769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B7D62-F850-4D95-BED4-2745D38D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7F481-E07C-4504-959C-824388C7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D87D6-4B57-43D9-BF69-25EE3D18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6027B-3E60-4EB2-B04F-BE56B13E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FE37-9CBD-441E-9467-DA067AA8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0E929-6478-46F7-9075-F6F74E32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11FF1-2AA4-4928-9111-4B7BEF3B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39BB0-901B-422F-90AB-182DE9CC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54C8C-52AE-42BB-AFDC-21CAC68D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98702-08B6-4348-AAAC-C1240305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D7EDC-6D2B-4584-8944-4F2F502A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7353C-EF70-42E2-BF3D-EDC3589E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D30CD-A080-416E-9A88-8B0036CE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C3600-0CC3-4DEE-8E0D-B783BD4A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08AB8-96D0-4BE0-B18E-D37A2A27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8F69-8669-48A0-8596-C50CBE3C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03E7C-C1AD-4F5B-8A6E-48A668F3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902B3-5C70-426E-BBF6-B286B0C4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5EC49-E0FE-4613-9AB2-6E6F2820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5C318-AFCB-4DE9-B1EF-4B61DBA1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F07D4-DD32-45F3-8285-0805A828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6ADF9-2DC8-4FA4-A3F6-BE8107EE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5FEF6-EB16-419E-A1F9-EC2A4CCC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80D08-AD13-4FD7-9B51-CFA791CA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47D70-288D-4FF3-AA2F-A22DD24F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CD16C-9EA4-435F-B959-2BA9A1E5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E9A-FCFB-4ADE-B9AB-6A232061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A74EB-57A4-46BB-A0D3-D9F5A695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9E448-C252-4F45-B0B8-6ADF2CC5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57608-A884-4AB7-A03F-F57C3E56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FDD45-8601-4E3C-9E6A-03FF227F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7F9BD-05BB-4210-B0BD-231240A3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6B7D2-A9C0-4ADD-B0D0-F65C584A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57F4E-6A34-4408-A996-8316DA75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567F9-5B87-4DB8-B9E9-FAB0459F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365DC-4BD6-4B36-B032-338B654E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84F8B-BCBE-4574-A69D-D01E0E60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4E03-5480-4AE8-9CDA-D01CC6FDDDE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DC2C-6D53-4880-8A48-18705B30812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60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61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2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63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4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5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6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7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468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8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F9D9-A10C-4E0F-B064-9EDCDF3BB25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9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8E34-FD71-4A4D-A78C-BDADF2751BB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1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51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1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1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1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8C30-331A-40A0-AD2A-B1372B511CE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DA1F-0633-4434-9B00-DAA5EDA93C7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6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56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6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6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7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C5C3-ACD3-4CEB-A64B-F4A1C554512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0E30-59E2-4853-BC22-25BCFE68741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613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614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5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16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617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8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9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0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21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37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C235-3CB5-4CA0-AC9A-00B8011684D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38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9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2B37-7226-40CC-BBBF-00CA1670C84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664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665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6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67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668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9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0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1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72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40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0DEB-E1F3-4617-B2CE-631077A673D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41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4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E06A-F1E7-4EC2-83BD-7D1287CEBC9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715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716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7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718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719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0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1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2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723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3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9CA5-E3E5-411F-AE1F-0413665A8E9D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4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5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B8C1-BCE9-4559-BD7A-CDF7829B154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F3B1-039A-4FD5-80C4-2325121F759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662F-7B6F-48D5-80B0-D7DEDF8AD87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104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6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107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8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9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11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A9D8-8A5B-465F-9A6E-FF3AD3528BF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738F-9767-438D-BB5B-2C6DE1E9E39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155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6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7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158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62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9487-C2F8-4505-9B97-5FD13372D71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8913-459A-45E9-A195-225AE8922A8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06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08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209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0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1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13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4D50-99DD-4F0C-B7B4-BB00062A087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67E8-0929-4B9C-8463-EAB58DAC100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56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57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8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59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260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1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2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4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7EF8-529A-46F8-9B6A-A6A2B78F772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35BF-C07E-4915-97FE-BC17CFE6879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308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9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10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311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2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3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4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15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59B4-AFA2-460C-B6B5-003CB66BF87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6980-07CC-442A-B2C0-1A676CE8D72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58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359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0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61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362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3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4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5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66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8E4D-749C-48BB-B222-FDB2BF8247D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C0B0-DFA1-4B0A-8B86-22BF4195914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10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1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12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13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4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5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6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417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228D-60D4-4E19-A922-1C19E42CDD8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874B-CBF8-4AA1-8246-4C183311F48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749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оль права в жизни общества и челове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1371600" y="5219280"/>
            <a:ext cx="6400800" cy="124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дготовила учитель обществознания МОУ СОШ №1 Коребо О.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4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Когда появились законы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авитель Месопотамии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XVIII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века до н.э. царь Хаммураппи создал целый свод законов, чтобы «дать сиять справедливости в стране, чтобы погубить беззаконных и злых, чтобы сильному не притеснять слабого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36" name="Picture 7" descr="j0297161"/>
          <p:cNvPicPr/>
          <p:nvPr/>
        </p:nvPicPr>
        <p:blipFill>
          <a:blip r:embed="rId1"/>
          <a:stretch/>
        </p:blipFill>
        <p:spPr>
          <a:xfrm>
            <a:off x="4067280" y="5013360"/>
            <a:ext cx="1657080" cy="16556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83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им 387 г. до н.э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Законы 12 таблиц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Устанавливали жесткие наказания для провинившихся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Подвергали людей штрафа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Заставляли загладить причиненный вре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Казнил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40" name="Group 8"/>
          <p:cNvGrpSpPr/>
          <p:nvPr/>
        </p:nvGrpSpPr>
        <p:grpSpPr>
          <a:xfrm>
            <a:off x="6934320" y="189000"/>
            <a:ext cx="2209680" cy="2406600"/>
            <a:chOff x="6934320" y="189000"/>
            <a:chExt cx="2209680" cy="2406600"/>
          </a:xfrm>
        </p:grpSpPr>
        <p:pic>
          <p:nvPicPr>
            <p:cNvPr id="841" name="Object 9" descr=""/>
            <p:cNvPicPr/>
            <p:nvPr/>
          </p:nvPicPr>
          <p:blipFill>
            <a:blip r:embed="rId1"/>
            <a:stretch/>
          </p:blipFill>
          <p:spPr>
            <a:xfrm>
              <a:off x="6934320" y="189000"/>
              <a:ext cx="2209680" cy="1527120"/>
            </a:xfrm>
            <a:prstGeom prst="rect">
              <a:avLst/>
            </a:prstGeom>
            <a:ln w="38160">
              <a:solidFill>
                <a:srgbClr val="0000cc"/>
              </a:solidFill>
              <a:miter/>
            </a:ln>
          </p:spPr>
        </p:pic>
        <p:sp>
          <p:nvSpPr>
            <p:cNvPr id="842" name="Text Box 10"/>
            <p:cNvSpPr/>
            <p:nvPr/>
          </p:nvSpPr>
          <p:spPr>
            <a:xfrm>
              <a:off x="7355880" y="1770120"/>
              <a:ext cx="1308600" cy="825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ревний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им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4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егодня право служит человеку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 момента рождения гражданин нашей страны имеет права –это называется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равоспособностью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озможность действовать в соответствии со своими правами называется-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дееспособность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46" name="Group 5"/>
          <p:cNvGrpSpPr/>
          <p:nvPr/>
        </p:nvGrpSpPr>
        <p:grpSpPr>
          <a:xfrm>
            <a:off x="5726880" y="2421000"/>
            <a:ext cx="2373840" cy="2513160"/>
            <a:chOff x="5726880" y="2421000"/>
            <a:chExt cx="2373840" cy="2513160"/>
          </a:xfrm>
        </p:grpSpPr>
        <p:pic>
          <p:nvPicPr>
            <p:cNvPr id="847" name="Picture 6" descr="j0078835"/>
            <p:cNvPicPr/>
            <p:nvPr/>
          </p:nvPicPr>
          <p:blipFill>
            <a:blip r:embed="rId1"/>
            <a:stretch/>
          </p:blipFill>
          <p:spPr>
            <a:xfrm>
              <a:off x="6090840" y="2421000"/>
              <a:ext cx="2009880" cy="208764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848" name="Text Box 7"/>
            <p:cNvSpPr/>
            <p:nvPr/>
          </p:nvSpPr>
          <p:spPr>
            <a:xfrm>
              <a:off x="5726880" y="4474440"/>
              <a:ext cx="20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     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С рождения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4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Дееспособность наступает постепенно (стр 64-65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851" name=""/>
          <p:cNvGraphicFramePr/>
          <p:nvPr/>
        </p:nvGraphicFramePr>
        <p:xfrm>
          <a:off x="662040" y="190512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-14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4-18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8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Дееспособност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854" name=""/>
          <p:cNvGraphicFramePr/>
          <p:nvPr/>
        </p:nvGraphicFramePr>
        <p:xfrm>
          <a:off x="684360" y="1557360"/>
          <a:ext cx="7772400" cy="49928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-14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вершать мелкие бытовые сделк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Быть автором произведени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74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4-18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одрабатывать, самостоятельно распоряжаться доходам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Вносить вклады в банки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вершать сделки от своего имен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8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тановится взрослым человеком – полная дееспособность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а детей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тр 65  3-й абзац, Интересный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фак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58" name="Picture 5" descr="j0295182"/>
          <p:cNvPicPr/>
          <p:nvPr/>
        </p:nvPicPr>
        <p:blipFill>
          <a:blip r:embed="rId1"/>
          <a:stretch/>
        </p:blipFill>
        <p:spPr>
          <a:xfrm>
            <a:off x="611280" y="1628640"/>
            <a:ext cx="1800000" cy="1117800"/>
          </a:xfrm>
          <a:prstGeom prst="rect">
            <a:avLst/>
          </a:prstGeom>
          <a:ln w="0">
            <a:noFill/>
          </a:ln>
        </p:spPr>
      </p:pic>
      <p:sp>
        <p:nvSpPr>
          <p:cNvPr id="859" name="Rectangle 8"/>
          <p:cNvSpPr/>
          <p:nvPr/>
        </p:nvSpPr>
        <p:spPr>
          <a:xfrm>
            <a:off x="2771640" y="1628640"/>
            <a:ext cx="5616720" cy="10810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0" name="Picture 10" descr="j0344285"/>
          <p:cNvPicPr/>
          <p:nvPr/>
        </p:nvPicPr>
        <p:blipFill>
          <a:blip r:embed="rId2"/>
          <a:stretch/>
        </p:blipFill>
        <p:spPr>
          <a:xfrm>
            <a:off x="611280" y="5584680"/>
            <a:ext cx="1655640" cy="12733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861" name="Picture 14" descr="j0286972"/>
          <p:cNvPicPr/>
          <p:nvPr/>
        </p:nvPicPr>
        <p:blipFill>
          <a:blip r:embed="rId3"/>
          <a:stretch/>
        </p:blipFill>
        <p:spPr>
          <a:xfrm>
            <a:off x="684360" y="2852640"/>
            <a:ext cx="1655640" cy="1152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862" name="Rectangle 17"/>
          <p:cNvSpPr/>
          <p:nvPr/>
        </p:nvSpPr>
        <p:spPr>
          <a:xfrm>
            <a:off x="2700360" y="2852640"/>
            <a:ext cx="5688000" cy="7923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. 65 последний абзац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3" name="Rectangle 18"/>
          <p:cNvSpPr/>
          <p:nvPr/>
        </p:nvSpPr>
        <p:spPr>
          <a:xfrm>
            <a:off x="2700360" y="5850000"/>
            <a:ext cx="5616720" cy="1008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. 66 3-й абзац, Исторический фак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4" name="Picture 24" descr="j0292082"/>
          <p:cNvPicPr/>
          <p:nvPr/>
        </p:nvPicPr>
        <p:blipFill>
          <a:blip r:embed="rId4"/>
          <a:stretch/>
        </p:blipFill>
        <p:spPr>
          <a:xfrm>
            <a:off x="684360" y="4221000"/>
            <a:ext cx="1584000" cy="1152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865" name="Rectangle 25"/>
          <p:cNvSpPr/>
          <p:nvPr/>
        </p:nvSpPr>
        <p:spPr>
          <a:xfrm>
            <a:off x="2700360" y="4365720"/>
            <a:ext cx="5688000" cy="8636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 66 2-й абзац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За нарушение права наступает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ответственност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7894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Ответственность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– это неблагоприятные последствия наступающие за нарушение прав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пасные поступки называют –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преступлениям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Уголовная ответственност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69" name="Group 14"/>
          <p:cNvGrpSpPr/>
          <p:nvPr/>
        </p:nvGrpSpPr>
        <p:grpSpPr>
          <a:xfrm>
            <a:off x="324000" y="5013360"/>
            <a:ext cx="8064360" cy="1584360"/>
            <a:chOff x="324000" y="5013360"/>
            <a:chExt cx="8064360" cy="1584360"/>
          </a:xfrm>
        </p:grpSpPr>
        <p:sp>
          <p:nvSpPr>
            <p:cNvPr id="870" name="Line 9"/>
            <p:cNvSpPr/>
            <p:nvPr/>
          </p:nvSpPr>
          <p:spPr>
            <a:xfrm flipH="1">
              <a:off x="2411280" y="5013360"/>
              <a:ext cx="1152720" cy="360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1" name="Line 10"/>
            <p:cNvSpPr/>
            <p:nvPr/>
          </p:nvSpPr>
          <p:spPr>
            <a:xfrm>
              <a:off x="4427640" y="5013360"/>
              <a:ext cx="1081080" cy="360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2" name="Rectangle 11"/>
            <p:cNvSpPr/>
            <p:nvPr/>
          </p:nvSpPr>
          <p:spPr>
            <a:xfrm>
              <a:off x="324000" y="5445000"/>
              <a:ext cx="2952720" cy="11527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аступает с 16 лет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3" name="Rectangle 12"/>
            <p:cNvSpPr/>
            <p:nvPr/>
          </p:nvSpPr>
          <p:spPr>
            <a:xfrm>
              <a:off x="4500720" y="5373720"/>
              <a:ext cx="388764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а тяжкие (убийство, 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ымогательство, теракт 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аступает с 14 лет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74" name="Місце для нижнього колонтитула 2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тр. 67 исторический факт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одолжите фразу: «Во все времена преступников наказывали по закону, потому что…..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оясните, как право защищает людей от несправедливости и зл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ак вы считаете детям нужны права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пасибо за внимание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роверка домашнего зад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1. Для решения каких вопросов существует суд? Как в разные эпохи понимали, что такое «справедливый суд»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2. Как можно защититься от несправедливости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одолжите список действий, которые могут  вам повредить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ткрывать двери малознакомым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ставлять вещи без присмотра…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7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Верны ли суждения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772400" cy="47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аво должно помогать  человеку в трудно ситуаци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иобретая в магазине дорогостоящую вещь, чек аккуратно выбрасывайте в мусорную корзину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Если случился конфликт, нужно сразу идти в суд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одители являются защитниками прав детей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ешение суда является последним и обжалованью не подлежит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0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аво и закон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авоспособность и дееспособност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иды пра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ветственност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20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раво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-это система взаимосвязанных между собой юридических норм(правил), которые надо исполнять, иначе придется нести ответственность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85" name="Group 18"/>
          <p:cNvGrpSpPr/>
          <p:nvPr/>
        </p:nvGrpSpPr>
        <p:grpSpPr>
          <a:xfrm>
            <a:off x="1191960" y="2924280"/>
            <a:ext cx="7136280" cy="2712960"/>
            <a:chOff x="1191960" y="2924280"/>
            <a:chExt cx="7136280" cy="2712960"/>
          </a:xfrm>
        </p:grpSpPr>
        <p:grpSp>
          <p:nvGrpSpPr>
            <p:cNvPr id="786" name="Group 5"/>
            <p:cNvGrpSpPr/>
            <p:nvPr/>
          </p:nvGrpSpPr>
          <p:grpSpPr>
            <a:xfrm>
              <a:off x="4122720" y="3213000"/>
              <a:ext cx="1730520" cy="2039040"/>
              <a:chOff x="4122720" y="3213000"/>
              <a:chExt cx="1730520" cy="2039040"/>
            </a:xfrm>
          </p:grpSpPr>
          <p:pic>
            <p:nvPicPr>
              <p:cNvPr id="787" name="Picture 6" descr="j0215541"/>
              <p:cNvPicPr/>
              <p:nvPr/>
            </p:nvPicPr>
            <p:blipFill>
              <a:blip r:embed="rId1"/>
              <a:stretch/>
            </p:blipFill>
            <p:spPr>
              <a:xfrm>
                <a:off x="4303800" y="3213000"/>
                <a:ext cx="1368360" cy="134892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788" name="Text Box 7"/>
              <p:cNvSpPr/>
              <p:nvPr/>
            </p:nvSpPr>
            <p:spPr>
              <a:xfrm>
                <a:off x="4122720" y="4792320"/>
                <a:ext cx="173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 Narrow"/>
                  </a:rPr>
                  <a:t>государство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789" name="Group 8"/>
            <p:cNvGrpSpPr/>
            <p:nvPr/>
          </p:nvGrpSpPr>
          <p:grpSpPr>
            <a:xfrm>
              <a:off x="1191960" y="3068640"/>
              <a:ext cx="2873160" cy="2503080"/>
              <a:chOff x="1191960" y="3068640"/>
              <a:chExt cx="2873160" cy="2503080"/>
            </a:xfrm>
          </p:grpSpPr>
          <p:sp>
            <p:nvSpPr>
              <p:cNvPr id="790" name="Text Box 9"/>
              <p:cNvSpPr/>
              <p:nvPr/>
            </p:nvSpPr>
            <p:spPr>
              <a:xfrm>
                <a:off x="1191960" y="4746240"/>
                <a:ext cx="2004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ccff"/>
                    </a:solidFill>
                    <a:latin typeface="Arial Narrow"/>
                  </a:rPr>
                  <a:t>Поддерживает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ccff"/>
                    </a:solidFill>
                    <a:latin typeface="Arial Narrow"/>
                  </a:rPr>
                  <a:t>право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791" name="Group 10"/>
              <p:cNvGrpSpPr/>
              <p:nvPr/>
            </p:nvGrpSpPr>
            <p:grpSpPr>
              <a:xfrm>
                <a:off x="1662120" y="3068640"/>
                <a:ext cx="2403000" cy="1733040"/>
                <a:chOff x="1662120" y="3068640"/>
                <a:chExt cx="2403000" cy="1733040"/>
              </a:xfrm>
            </p:grpSpPr>
            <p:pic>
              <p:nvPicPr>
                <p:cNvPr id="792" name="Picture 11" descr="j0344099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62120" y="3068640"/>
                  <a:ext cx="1066680" cy="1733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Line 12"/>
                <p:cNvSpPr/>
                <p:nvPr/>
              </p:nvSpPr>
              <p:spPr>
                <a:xfrm flipH="1">
                  <a:off x="2912760" y="3912840"/>
                  <a:ext cx="1152360" cy="0"/>
                </a:xfrm>
                <a:prstGeom prst="line">
                  <a:avLst/>
                </a:prstGeom>
                <a:ln w="76320">
                  <a:solidFill>
                    <a:srgbClr val="ff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4" name="Group 13"/>
            <p:cNvGrpSpPr/>
            <p:nvPr/>
          </p:nvGrpSpPr>
          <p:grpSpPr>
            <a:xfrm>
              <a:off x="5865840" y="2924280"/>
              <a:ext cx="2462400" cy="2712960"/>
              <a:chOff x="5865840" y="2924280"/>
              <a:chExt cx="2462400" cy="2712960"/>
            </a:xfrm>
          </p:grpSpPr>
          <p:grpSp>
            <p:nvGrpSpPr>
              <p:cNvPr id="795" name="Group 14"/>
              <p:cNvGrpSpPr/>
              <p:nvPr/>
            </p:nvGrpSpPr>
            <p:grpSpPr>
              <a:xfrm>
                <a:off x="6878160" y="2924280"/>
                <a:ext cx="1450080" cy="2712960"/>
                <a:chOff x="6878160" y="2924280"/>
                <a:chExt cx="1450080" cy="2712960"/>
              </a:xfrm>
            </p:grpSpPr>
            <p:pic>
              <p:nvPicPr>
                <p:cNvPr id="796" name="Picture 15" descr="j0343529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82000" y="2924280"/>
                  <a:ext cx="885600" cy="1801440"/>
                </a:xfrm>
                <a:prstGeom prst="rect">
                  <a:avLst/>
                </a:prstGeom>
                <a:ln w="76320">
                  <a:solidFill>
                    <a:srgbClr val="ffcc00"/>
                  </a:solidFill>
                  <a:miter/>
                </a:ln>
              </p:spPr>
            </p:pic>
            <p:sp>
              <p:nvSpPr>
                <p:cNvPr id="797" name="Text Box 16"/>
                <p:cNvSpPr/>
                <p:nvPr/>
              </p:nvSpPr>
              <p:spPr>
                <a:xfrm>
                  <a:off x="6878160" y="4811760"/>
                  <a:ext cx="14500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ccff"/>
                      </a:solidFill>
                      <a:latin typeface="Arial Narrow"/>
                    </a:rPr>
                    <a:t>Защищает</a:t>
                  </a: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ccff"/>
                      </a:solidFill>
                      <a:latin typeface="Arial Narrow"/>
                    </a:rPr>
                    <a:t>право</a:t>
                  </a: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8" name="Line 17"/>
              <p:cNvSpPr/>
              <p:nvPr/>
            </p:nvSpPr>
            <p:spPr>
              <a:xfrm>
                <a:off x="5865840" y="3932280"/>
                <a:ext cx="1152360" cy="0"/>
              </a:xfrm>
              <a:prstGeom prst="line">
                <a:avLst/>
              </a:prstGeom>
              <a:ln w="7632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799" name="Місце для нижнього колонтитула 2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раво выражается в разных источниках, например в законах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Что такое закон? (стр 62 2-й абзац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Закон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– важный юридический документ, созданный особым путем, обязательный для исполнен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02" name="Group 7"/>
          <p:cNvGrpSpPr/>
          <p:nvPr/>
        </p:nvGrpSpPr>
        <p:grpSpPr>
          <a:xfrm>
            <a:off x="6227640" y="3933720"/>
            <a:ext cx="2663640" cy="2567520"/>
            <a:chOff x="6227640" y="3933720"/>
            <a:chExt cx="2663640" cy="2567520"/>
          </a:xfrm>
        </p:grpSpPr>
        <p:pic>
          <p:nvPicPr>
            <p:cNvPr id="803" name="Picture 8" descr="j0215689"/>
            <p:cNvPicPr/>
            <p:nvPr/>
          </p:nvPicPr>
          <p:blipFill>
            <a:blip r:embed="rId1"/>
            <a:stretch/>
          </p:blipFill>
          <p:spPr>
            <a:xfrm>
              <a:off x="6227640" y="3933720"/>
              <a:ext cx="2663640" cy="208224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804" name="Text Box 9"/>
            <p:cNvSpPr/>
            <p:nvPr/>
          </p:nvSpPr>
          <p:spPr>
            <a:xfrm>
              <a:off x="6543720" y="6041520"/>
              <a:ext cx="172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 Narrow"/>
                </a:rPr>
                <a:t>        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 Narrow"/>
                </a:rPr>
                <a:t>законы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0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Тексты законов пишут юристы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то такие юристы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сторический факт (стр. 63 второй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08" name="Picture 7" descr="j0231077"/>
          <p:cNvPicPr/>
          <p:nvPr/>
        </p:nvPicPr>
        <p:blipFill>
          <a:blip r:embed="rId1"/>
          <a:stretch/>
        </p:blipFill>
        <p:spPr>
          <a:xfrm>
            <a:off x="2627280" y="3933720"/>
            <a:ext cx="3489480" cy="22320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80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Вступлению закона в силу предшествует сложная процедура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1" name="Rectangle 5"/>
          <p:cNvSpPr/>
          <p:nvPr/>
        </p:nvSpPr>
        <p:spPr>
          <a:xfrm>
            <a:off x="1835280" y="2276640"/>
            <a:ext cx="4968720" cy="72072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Рассматривается в парламент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2" name="Line 6"/>
          <p:cNvSpPr/>
          <p:nvPr/>
        </p:nvSpPr>
        <p:spPr>
          <a:xfrm>
            <a:off x="4356000" y="306864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3" name="Rectangle 7"/>
          <p:cNvSpPr/>
          <p:nvPr/>
        </p:nvSpPr>
        <p:spPr>
          <a:xfrm>
            <a:off x="1763640" y="3500280"/>
            <a:ext cx="5113440" cy="86544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Утверждается Президенто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4" name="Line 9"/>
          <p:cNvSpPr/>
          <p:nvPr/>
        </p:nvSpPr>
        <p:spPr>
          <a:xfrm>
            <a:off x="4356000" y="436572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5" name="Rectangle 10"/>
          <p:cNvSpPr/>
          <p:nvPr/>
        </p:nvSpPr>
        <p:spPr>
          <a:xfrm>
            <a:off x="1763640" y="4724280"/>
            <a:ext cx="5256360" cy="79236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убликуется в СМ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6" name="Line 11"/>
          <p:cNvSpPr/>
          <p:nvPr/>
        </p:nvSpPr>
        <p:spPr>
          <a:xfrm flipH="1" flipV="1">
            <a:off x="4355640" y="4723920"/>
            <a:ext cx="71640" cy="71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7" name="Rectangle 12"/>
          <p:cNvSpPr/>
          <p:nvPr/>
        </p:nvSpPr>
        <p:spPr>
          <a:xfrm>
            <a:off x="755640" y="6021360"/>
            <a:ext cx="8064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Читать стр. 62 3-й абзац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18" name="Picture 14" descr="j0237460"/>
          <p:cNvPicPr/>
          <p:nvPr/>
        </p:nvPicPr>
        <p:blipFill>
          <a:blip r:embed="rId1"/>
          <a:stretch/>
        </p:blipFill>
        <p:spPr>
          <a:xfrm>
            <a:off x="7164360" y="2349360"/>
            <a:ext cx="1731960" cy="20163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81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Разные сферы жизни человека регулируют разные законы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21" name="Group 9"/>
          <p:cNvGrpSpPr/>
          <p:nvPr/>
        </p:nvGrpSpPr>
        <p:grpSpPr>
          <a:xfrm>
            <a:off x="396000" y="1628640"/>
            <a:ext cx="1706400" cy="1224000"/>
            <a:chOff x="396000" y="1628640"/>
            <a:chExt cx="1706400" cy="1224000"/>
          </a:xfrm>
        </p:grpSpPr>
        <p:pic>
          <p:nvPicPr>
            <p:cNvPr id="822" name="Picture 10" descr="ed00039_"/>
            <p:cNvPicPr/>
            <p:nvPr/>
          </p:nvPicPr>
          <p:blipFill>
            <a:blip r:embed="rId1"/>
            <a:stretch/>
          </p:blipFill>
          <p:spPr>
            <a:xfrm>
              <a:off x="463320" y="1628640"/>
              <a:ext cx="1584000" cy="1224000"/>
            </a:xfrm>
            <a:prstGeom prst="rect">
              <a:avLst/>
            </a:prstGeom>
            <a:ln w="76320">
              <a:solidFill>
                <a:srgbClr val="ff3300"/>
              </a:solidFill>
              <a:miter/>
            </a:ln>
          </p:spPr>
        </p:pic>
        <p:sp>
          <p:nvSpPr>
            <p:cNvPr id="823" name="Text Box 11"/>
            <p:cNvSpPr/>
            <p:nvPr/>
          </p:nvSpPr>
          <p:spPr>
            <a:xfrm>
              <a:off x="396000" y="1897920"/>
              <a:ext cx="1706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онституция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РФ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24" name="Rectangle 13"/>
          <p:cNvSpPr/>
          <p:nvPr/>
        </p:nvSpPr>
        <p:spPr>
          <a:xfrm>
            <a:off x="2268360" y="1773360"/>
            <a:ext cx="5545440" cy="9349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сновной закон стран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25" name="Picture 15" descr="j0233260"/>
          <p:cNvPicPr/>
          <p:nvPr/>
        </p:nvPicPr>
        <p:blipFill>
          <a:blip r:embed="rId2"/>
          <a:stretch/>
        </p:blipFill>
        <p:spPr>
          <a:xfrm>
            <a:off x="611280" y="3068640"/>
            <a:ext cx="1212840" cy="1170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826" name="Rectangle 17"/>
          <p:cNvSpPr/>
          <p:nvPr/>
        </p:nvSpPr>
        <p:spPr>
          <a:xfrm>
            <a:off x="2268360" y="3284640"/>
            <a:ext cx="5832720" cy="792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емейный кодек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27" name="Picture 19" descr="j0150102"/>
          <p:cNvPicPr/>
          <p:nvPr/>
        </p:nvPicPr>
        <p:blipFill>
          <a:blip r:embed="rId3"/>
          <a:stretch/>
        </p:blipFill>
        <p:spPr>
          <a:xfrm>
            <a:off x="395280" y="4437000"/>
            <a:ext cx="1657440" cy="1241640"/>
          </a:xfrm>
          <a:prstGeom prst="rect">
            <a:avLst/>
          </a:prstGeom>
          <a:ln w="76320">
            <a:solidFill>
              <a:srgbClr val="ffffcc"/>
            </a:solidFill>
            <a:miter/>
          </a:ln>
        </p:spPr>
      </p:pic>
      <p:sp>
        <p:nvSpPr>
          <p:cNvPr id="828" name="Rectangle 21"/>
          <p:cNvSpPr/>
          <p:nvPr/>
        </p:nvSpPr>
        <p:spPr>
          <a:xfrm>
            <a:off x="2484360" y="4437000"/>
            <a:ext cx="5472360" cy="10796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Трудовой кодек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829" name="Group 23"/>
          <p:cNvGrpSpPr/>
          <p:nvPr/>
        </p:nvGrpSpPr>
        <p:grpSpPr>
          <a:xfrm>
            <a:off x="613440" y="5734080"/>
            <a:ext cx="1166760" cy="1415520"/>
            <a:chOff x="613440" y="5734080"/>
            <a:chExt cx="1166760" cy="1415520"/>
          </a:xfrm>
        </p:grpSpPr>
        <p:pic>
          <p:nvPicPr>
            <p:cNvPr id="830" name="Picture 24" descr="bd06876_"/>
            <p:cNvPicPr/>
            <p:nvPr/>
          </p:nvPicPr>
          <p:blipFill>
            <a:blip r:embed="rId4"/>
            <a:stretch/>
          </p:blipFill>
          <p:spPr>
            <a:xfrm>
              <a:off x="687240" y="5734080"/>
              <a:ext cx="1067040" cy="9558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831" name="Text Box 25"/>
            <p:cNvSpPr/>
            <p:nvPr/>
          </p:nvSpPr>
          <p:spPr>
            <a:xfrm>
              <a:off x="613440" y="6689880"/>
              <a:ext cx="116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Школа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32" name="Rectangle 27"/>
          <p:cNvSpPr/>
          <p:nvPr/>
        </p:nvSpPr>
        <p:spPr>
          <a:xfrm>
            <a:off x="2556000" y="5661000"/>
            <a:ext cx="5400720" cy="1008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3" name="Місце для нижнього колонтитула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1:09:45Z</dcterms:created>
  <dc:creator>USER</dc:creator>
  <dc:description/>
  <dc:language>en-US</dc:language>
  <cp:lastModifiedBy>LEGION</cp:lastModifiedBy>
  <dcterms:modified xsi:type="dcterms:W3CDTF">2015-01-28T10:10:45Z</dcterms:modified>
  <cp:revision>9</cp:revision>
  <dc:subject/>
  <dc:title>Слайд 1</dc:title>
</cp:coreProperties>
</file>