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6.gif" ContentType="image/gi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C69E-CA94-4E3D-B0A1-CB64F2BDA20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права в жизни общества 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учитель обществознания МОУ СОШ №1 Коребо О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6FC6-EF65-4910-9358-03F87FED0E9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оявились зако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 Месопотам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до н.э. царь Хаммураппи создал целый свод законов, чтобы «дать сиять справедливости в стране, чтобы погубить беззаконных и злых, чтобы сильному не притеснять слабо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0CD5-BF22-4343-BBD5-25F08EB5B788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м 387 г. до н.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Законы 12 таблиц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авливали жесткие наказания для провинивш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вергали людей штраф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ставляли загладить причиненный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зн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4D27-34B4-4697-846F-8D90D82950E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право служит челове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момента рождения гражданин нашей страны имеет права –это называ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авоспособ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действовать в соответствии со своими правами называется-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дееспособ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1C2E-B31E-4D6A-B150-14703E43BDAD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 наступает постепенно (стр 64-6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E31A-36E1-49D0-A0C6-05CBBFFA103B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8A43-B5A4-40A2-9804-96CB9FD8E21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де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 65  3-й абзац, Интересны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766F-AA9F-40B7-AA93-C66A5034E02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арушение права наступает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тветств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неблагоприятные последствия наступающие за нарушен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оступки называют –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реступле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голо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73A8-480C-4B78-AD18-9319350AED8C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67 исторический ф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фразу: «Во все времена преступников наказывали по закону, потому что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сните, как право защищает людей от несправедливости и з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 детям нужны пра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6C4F-4270-4227-857D-B022B22FE978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DD86-27F6-48BC-A374-68DC3A1BC260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ля решения каких вопросов существует суд? Как в разные эпохи понимали, что такое «справедливый суд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можно защититься от несправедлив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 список действий, которые могут  вам повред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ать двери малознаком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лять вещи без присмотра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A12C-6160-45E5-A27F-08CFA6AFAB5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ы ли сужд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должно помогать  человеку в трудно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ая в магазине дорогостоящую вещь, чек аккуратно выбрасывайте в мусорную корз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лучился конфликт, нужно сразу идти в с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являются защитниками пра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суда является последним и обжалованью не подлеж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4DEF-C0A0-42FD-9FF3-0D0179C84F1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и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способность и дее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57C1-927B-4A9B-90D4-F279122BDDA6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это система взаимосвязанных между собой юридических норм(правил), которые надо исполнять, иначе придется нести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446B-B3D5-4EE6-9D9A-57BF1E42EDE5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во выражается в разных источниках, например в закон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закон? (стр 62 2-й абза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Зак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ажный юридический документ, созданный особым путем, обязательный для испол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6282-0650-492D-A0D6-B567F7C99D6B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ы законов пишут юрис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такие юрис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ческий факт (стр. 63 втор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D186-38B3-40EF-AA71-10CBF01A07B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лению закона в силу предшествует сложная процед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AE53-86C9-4F75-A931-6D9FB25E3EC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сферы жизни человека регулируют разные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2AE3-864D-47B4-B265-8686A73613D9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B78-DFF7-4C27-B16E-CDE59B3B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292-3241-479E-B829-4E145721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FDB40-B29E-4DBB-897E-F1E91F96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7AB6D-9137-408D-8153-9445C0C9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5EAD3-40BD-4556-A00A-5C975AC6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D9C73-D195-4139-87B9-6190208F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F9F14-AD14-41B2-B692-315ED241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F31A6-B257-4747-92CE-C65CDFC2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23098-4033-4BE6-980F-F975AA41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8A5E2-DA90-4B95-B276-2EA928B8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AF213-6385-45DC-A0C6-2B597FE2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A2C1A-CB5B-4CCF-B4C2-EED01A93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228-46CD-41B9-90C0-2A295EB1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A7EAA-A2AD-44CC-ABDF-4B1D51D6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37733-EB68-4A99-A98B-87452F81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A100D-3A53-43BD-9487-E21CB8E7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C7911-A89F-4CBC-8829-E77E273E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60842-E78A-42F2-AF14-BAFFCB1F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BCC86-67AF-483C-AA93-8F52B48B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070DB-AB3B-4A81-A29B-1C3972A5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91514-12EB-4123-85BB-F61F7F51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1BE9E-710D-4DC6-8378-CE70F591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8C3DC-1443-4279-9035-9F500D10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E5A-9C13-44E7-BEC5-0F77D559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05B84-EF97-47CA-AEB7-E7EB06CD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83676-EE2A-4DCE-94D9-F53F97FB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B5848-4C0E-42C1-9D9C-826329FA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DBC73-0BC1-4A72-84A7-23D6F29B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2739C-DF45-46F7-B194-B4FD6B6E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C6E6F-AE91-4175-9F19-75D89DE2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C1D36-AC8E-4F75-BDA6-FAC6951B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9C959-2E9B-4464-B126-0A3376DF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5E9B8-8F65-456F-B3C4-F4CCB51E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5B9B5-0A95-464B-BBB7-828E3E13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2692-CCE3-4837-9BA3-1B9FF908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85C62-344E-43AB-9E54-409608A8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FF3BE-A801-4B2A-92F5-1EC95097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3F953-34A3-4B91-9ADF-E147BC87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FD4BA-9A95-4535-8277-D9818FDD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14120-D31A-4E35-BFF6-D64D0469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EDA3D-4F1B-46D2-AD9E-1757B7CB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6023D-9DB3-4066-824B-FF8B55B6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F689D-1993-43BE-B911-4021D549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E7BE8-23D1-4A41-A571-4EB32D80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A24C3F-E435-47E7-8BCE-89163004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71DF-82A9-49F8-860B-892B2629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E919D-E7DA-4C29-AC9F-7BC879D4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CC6A6-340F-4F71-924A-9F173FE9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EC237-8AF4-4A24-AD98-93CC1F80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2FBC9-4C09-414C-9871-1193638A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AB3FD-85D8-4FC5-8D57-9322A48B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A58BD-C2AB-42C1-A54F-D1CC1C59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5C9A8-10A6-4835-83B1-8A2651A7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D42BA-EF69-47E6-9892-1058E6D3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7C3BA-805D-425F-812D-F527552E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513D3-3420-4C5A-BC55-48F28195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85E6-0007-4860-9ABE-984C8E32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96B7F-0DEE-45FC-AB5B-1AC11C6B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57E02-AF4C-498F-ACE3-46A38087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C9091-7298-4403-A54A-CCECBA44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11B1D-199A-437A-B387-3000F8FC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49595-7566-4DC3-9B3B-1F8E3E5B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1DC5E8-D907-4BAD-B679-9E49BD9B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5C54A-D9DF-4E91-A238-67719CC9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724101-CA8E-4516-80F0-5C2A1BA7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4B299-8D40-42DB-83AD-D394705C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7D6E2C-676A-46A4-B5E2-9E4F2185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583A-E4BD-4B47-87FC-7E8BC9CD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8D273-9246-466C-B1AC-E88F52BD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063ED-AC77-4BDE-BA50-AC4D4FE4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196D9-197C-4A03-AB22-5F24CE1C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7D357F-3FC7-4DE0-BD02-9E7F9B98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585CC-6960-4339-A449-5236A7F1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60D5D-880C-4E3A-BD5E-9F42AE4E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73E86-11C8-472A-A4A2-29BFC1FE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2AB90B-7A83-40D3-8C71-5C77B292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CEB933-6F40-4258-9481-140517A2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92AFA3-6BBC-49D7-A88C-D3A2A710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7C0E-59ED-4A5C-9B2A-B5DDFD40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EEBD9D-4286-4150-867C-60F5EE6C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71FCCC-2FC1-4E48-97FE-C665947B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1515E-6558-4428-B90D-35D78A4E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B7DE58-8E49-44E0-BBF0-B5C5AD9F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13F69-8FBE-4833-943A-3CD84C25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A70301-869C-4A5D-AF7B-0DEC78D6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130E9-7107-406C-9745-72EE316F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AE93FB-8DBB-45FA-952F-F78E057F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766312-FC00-42F8-A2CD-415B706B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9C718-B9D5-4838-8108-39F523D01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527D-3DE0-4BB2-8828-400A3885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14AA30-A51B-490C-B204-AC0700A3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448F-2566-42AC-8D25-BE0E43D4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6B3-EB76-4271-B140-34123B51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D3D0-5773-4C3E-9777-22513472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3239-7DF2-424C-8767-28B69B40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1890-0F5C-44DE-B93A-83E06F78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B8A7-E02B-48DB-A9C2-841813B3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3F4F-E38E-4A70-AACC-ACA9F8D1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805E4-E126-4170-9886-D41F9181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550F6-4686-49B6-A0A3-C14E0669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397BF-9C99-4301-A6DF-835031C9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7ACD-B47A-46BA-BF6B-D6D127C8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D8935-2A3F-4ACF-9FE0-0C575113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FB1-C40B-46FD-85B9-F10784C9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9071E-CC1D-4BE8-BDF9-1149A78C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A1CBF-4EC9-4521-81C8-ABE397A1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E332B-9DA4-4D57-A88B-BAB42AB2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126A2-B1E6-40D7-BE20-B52256AB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2F149-549C-436B-922A-3240165E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8D988-7BCB-494B-8C54-E2186932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D98A9-A84D-47A9-9651-8BB98ABD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61B7A-EAFE-4F83-B186-2944F5CF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A0CBB-9D87-4791-9B8E-3933803C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7C21B-E6A0-4FF7-8763-22343FD2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AC6-BB37-4D30-B1EC-7070885E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D893C-4C3F-4A97-9902-0B41148A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4AA91-1D98-4D8D-A5EC-AB35D3C4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2379C-B7E2-4A89-876D-6F56CA4F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D4411-F196-4DD9-ABB9-3CEAA089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C7BCF-D814-4846-BFB6-72C0FBAB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CA546-F5A4-4F41-BA4D-2EE5C0A3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29412-876B-4113-812C-6CC2A376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9AE74-B45A-4B34-A3F7-A60FD392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70798-B2D0-44E3-833B-39D255C4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558BE-3DEB-46EA-957C-ED2A287F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196-5DDB-468A-987C-A81096BA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38D8B-9D97-4DEE-876E-5F8144CA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15E42-F482-4B59-94B6-CD90A836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696A1-A0B8-490C-9BF7-7675A00D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A98A2-8EBD-40C5-86AC-C8AADA0F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0C270-0B63-40DB-9F6B-97245B60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565C2-153E-4C71-913A-8DBEA015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75061-B5DE-4674-A5DA-B76928A7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CBBE2-263A-455F-B16D-4CBD62C4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5B038-F657-43A9-B4E6-BCB9652D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C6587-7E5C-4222-8D6B-3AFBCB12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E230-89CF-4DCF-8A14-1ED778B6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73699-1E7E-4780-9D88-119D4960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B1477-9D80-402C-99BF-290D3527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951F5-69A2-498B-A670-1391A66C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A8054-91E6-4F56-B994-C8728657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C6CAE-B78B-4802-BF45-1BCF8324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E7608-04F2-4768-BE48-111D033F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F74A8-5AC5-46CD-8719-95C7AF9A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A9087-E5DB-47BE-868E-B59C4BBE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DF2AA-F97B-4702-A3DD-9021155C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15688-DA82-4849-8990-3EA53C49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B61-5341-4A86-A146-0762A8A4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6E61F-9E30-4FFB-ACAF-6AA8BB6D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DFE06-9604-4627-996E-1B173E88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E5978-6C68-4842-A4FD-3CC12609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F8213-AA56-4E32-A1C6-062DB4A9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106F2-A521-400B-BC37-A695775A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A2B89-D884-4D8C-A2EB-26A7FD1F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32288-9F91-43D6-AE5A-534AD82B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0E6F2-530A-4A39-8A57-2C8E4763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56A93-5C4E-4092-BFFC-DDB2D200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AA197-CA69-49E1-BA52-6847C210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77F-FE3B-448D-AE07-2FB2404D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BCB6F-F085-43C5-BDC0-AA0E85F5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2912E-D5B6-4FD6-A5D4-07851401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DA6B2-5B51-48DB-AAFF-FF88CDD8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B426F-6925-4A76-BF90-7D894A0D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4C0B2-F9B7-45E6-821D-9C883D6E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58AA4-05CE-403D-9B4C-E76C494E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3BE5C-1AB4-47F7-8FB2-0D1BC81B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06183-4205-444C-8F59-2B3573DE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E5497-0ACF-43C0-B8F7-2735D954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B13EB-364D-49DA-A0CA-DA9143C1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E264-2A7D-41E2-99FD-DCA8FFF9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13370-F414-402B-8210-ED926B59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EF42B-D32E-457A-9EA2-B084ECC1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F527E-D4E2-4E8D-A03B-FD539317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BD4EE-6FBB-4A08-9F1F-46EAEF9E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65E2F-DD2C-47AA-83DF-861C1E6C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F6599-657D-433B-987A-10C358FE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1BF8E-6720-4156-8493-9E16816F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E8F96-A2B0-4762-B35B-FBD050F7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AB80E-55F0-4B30-A716-543DF802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8ACD6-9814-43D6-9988-D44F4D6D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FDF4-6966-4FB5-8B71-4337FA20E88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42E5-C28F-413B-A50E-D91FAB32805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61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2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63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4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5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6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7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68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2703-51F7-45A1-BFE7-587A636F216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6C45-D97F-40DC-9776-136061CCB31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1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51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1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1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1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1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C26B-92FE-4859-A8AE-996FC38D517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C77C-0F74-4533-934E-E4852DA0077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56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6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6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7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B5D5-F5F7-40DB-B804-B06A4C22C31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F7F7-2A1D-444B-82D8-12DB9B3232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13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614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16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617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8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9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0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21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1706-A2D0-4C64-B0B8-59393143287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B0CD-9D9C-424E-B432-693F213C9C0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664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665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6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667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668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9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0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1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72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0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66C6-A31E-45A6-8493-443C2D12147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57BF-E03D-414D-BB85-80F594DF59B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716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7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71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71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72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3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3409-600E-480F-AABD-64618BEB2646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4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13CB-5286-4390-8198-9CB782359693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091A-2057-4EB7-9114-563CF658F8B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93FE-0642-48EF-BCE8-D6F2A79EDA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04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6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07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8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9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11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1A47-717D-492D-91A5-0CCEF4C476E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A2B6-F256-44F6-9B2F-57379642FE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55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7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58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2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09A8-B74C-4CE1-B616-18070702292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6978-CF03-443E-8601-5081F07D3E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06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08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209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0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1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13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10E0-160C-4F30-8B2B-6C63C2E5D5B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9FF5-E006-4737-8096-0F6500C7EB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57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8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59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260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1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2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4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C017-D809-4A87-B0DF-8745366AF4F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B946-50DB-45E7-BF50-D577DE996A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308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9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10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311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2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3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14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5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5171-BF35-4A00-BCCC-C0A756B30C0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B0BB-E5BE-4915-81A8-94241C1994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359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361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362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3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4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65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66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FD99-757C-4B44-9FB2-DEA23CF6F70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3B3D-887A-4FDE-B4AC-723ACE8BDE7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10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11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12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13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4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5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16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17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FCF7-252C-4D39-AB72-DCBFD38623F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1B14-6FAB-4B23-9A9D-EEC94E7747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749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Роль права в жизни общества и челове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1371600" y="5219280"/>
            <a:ext cx="6400800" cy="12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Подготовила учитель обществознания МОУ СОШ №1 Коребо О.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4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огда появились законы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авитель Месопотамии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VIII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века до н.э. царь Хаммураппи создал целый свод законов, чтобы «дать сиять справедливости в стране, чтобы погубить беззаконных и злых, чтобы сильному не притеснять слабого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36" name="Picture 7" descr="j0297161"/>
          <p:cNvPicPr/>
          <p:nvPr/>
        </p:nvPicPr>
        <p:blipFill>
          <a:blip r:embed="rId1"/>
          <a:stretch/>
        </p:blipFill>
        <p:spPr>
          <a:xfrm>
            <a:off x="4067280" y="5013360"/>
            <a:ext cx="1657080" cy="1655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3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им 387 г. до н.э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Законы 12 таблиц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Устанавливали жесткие наказания для провинившихся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Подвергали людей штрафа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Заставляли загладить причиненный вре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Казнил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40" name="Group 8"/>
          <p:cNvGrpSpPr/>
          <p:nvPr/>
        </p:nvGrpSpPr>
        <p:grpSpPr>
          <a:xfrm>
            <a:off x="6934320" y="189000"/>
            <a:ext cx="2209680" cy="2406600"/>
            <a:chOff x="6934320" y="189000"/>
            <a:chExt cx="2209680" cy="2406600"/>
          </a:xfrm>
        </p:grpSpPr>
        <p:pic>
          <p:nvPicPr>
            <p:cNvPr id="841" name="Object 9" descr=""/>
            <p:cNvPicPr/>
            <p:nvPr/>
          </p:nvPicPr>
          <p:blipFill>
            <a:blip r:embed="rId1"/>
            <a:stretch/>
          </p:blipFill>
          <p:spPr>
            <a:xfrm>
              <a:off x="6934320" y="189000"/>
              <a:ext cx="2209680" cy="1527120"/>
            </a:xfrm>
            <a:prstGeom prst="rect">
              <a:avLst/>
            </a:prstGeom>
            <a:ln w="38160">
              <a:solidFill>
                <a:srgbClr val="0000cc"/>
              </a:solidFill>
              <a:miter/>
            </a:ln>
          </p:spPr>
        </p:pic>
        <p:sp>
          <p:nvSpPr>
            <p:cNvPr id="842" name="Text Box 10"/>
            <p:cNvSpPr/>
            <p:nvPr/>
          </p:nvSpPr>
          <p:spPr>
            <a:xfrm>
              <a:off x="7355880" y="1770120"/>
              <a:ext cx="1308600" cy="825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ревний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им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4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егодня право служит человеку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6168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 момента рождения гражданин нашей страны имеет права –это называется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правоспособностью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озможность действовать в соответствии со своими правами называется-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ееспособность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46" name="Group 5"/>
          <p:cNvGrpSpPr/>
          <p:nvPr/>
        </p:nvGrpSpPr>
        <p:grpSpPr>
          <a:xfrm>
            <a:off x="5726880" y="2421000"/>
            <a:ext cx="2373840" cy="2513160"/>
            <a:chOff x="5726880" y="2421000"/>
            <a:chExt cx="2373840" cy="2513160"/>
          </a:xfrm>
        </p:grpSpPr>
        <p:pic>
          <p:nvPicPr>
            <p:cNvPr id="847" name="Picture 6" descr="j0078835"/>
            <p:cNvPicPr/>
            <p:nvPr/>
          </p:nvPicPr>
          <p:blipFill>
            <a:blip r:embed="rId1"/>
            <a:stretch/>
          </p:blipFill>
          <p:spPr>
            <a:xfrm>
              <a:off x="6090840" y="2421000"/>
              <a:ext cx="2009880" cy="20876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48" name="Text Box 7"/>
            <p:cNvSpPr/>
            <p:nvPr/>
          </p:nvSpPr>
          <p:spPr>
            <a:xfrm>
              <a:off x="5726880" y="4474440"/>
              <a:ext cx="20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     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 Narrow"/>
                </a:rPr>
                <a:t>С рождения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4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ееспособность наступает постепенно (стр 64-65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51" name=""/>
          <p:cNvGraphicFramePr/>
          <p:nvPr/>
        </p:nvGraphicFramePr>
        <p:xfrm>
          <a:off x="662040" y="190512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-14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-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ееспособн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684360" y="1557360"/>
          <a:ext cx="7772400" cy="49928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-14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вершать мелкие бытовые сделк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Быть автором произведени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4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-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одрабатывать, самостоятельно распоряжаться доходам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Вносить вклады в банки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вершать сделки от своего имен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8 лет</a:t>
                      </a:r>
                      <a:endParaRPr b="0" lang="en-US" sz="4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тановится взрослым человеком – полная дееспособность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ава детей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тр 65  3-й абзац, Интересный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фак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58" name="Picture 5" descr="j0295182"/>
          <p:cNvPicPr/>
          <p:nvPr/>
        </p:nvPicPr>
        <p:blipFill>
          <a:blip r:embed="rId1"/>
          <a:stretch/>
        </p:blipFill>
        <p:spPr>
          <a:xfrm>
            <a:off x="611280" y="1628640"/>
            <a:ext cx="1800000" cy="1117800"/>
          </a:xfrm>
          <a:prstGeom prst="rect">
            <a:avLst/>
          </a:prstGeom>
          <a:ln w="0">
            <a:noFill/>
          </a:ln>
        </p:spPr>
      </p:pic>
      <p:sp>
        <p:nvSpPr>
          <p:cNvPr id="859" name="Rectangle 8"/>
          <p:cNvSpPr/>
          <p:nvPr/>
        </p:nvSpPr>
        <p:spPr>
          <a:xfrm>
            <a:off x="2771640" y="1628640"/>
            <a:ext cx="5616720" cy="1081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0" name="Picture 10" descr="j0344285"/>
          <p:cNvPicPr/>
          <p:nvPr/>
        </p:nvPicPr>
        <p:blipFill>
          <a:blip r:embed="rId2"/>
          <a:stretch/>
        </p:blipFill>
        <p:spPr>
          <a:xfrm>
            <a:off x="611280" y="5584680"/>
            <a:ext cx="1655640" cy="12733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861" name="Picture 14" descr="j0286972"/>
          <p:cNvPicPr/>
          <p:nvPr/>
        </p:nvPicPr>
        <p:blipFill>
          <a:blip r:embed="rId3"/>
          <a:stretch/>
        </p:blipFill>
        <p:spPr>
          <a:xfrm>
            <a:off x="684360" y="2852640"/>
            <a:ext cx="1655640" cy="1152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62" name="Rectangle 17"/>
          <p:cNvSpPr/>
          <p:nvPr/>
        </p:nvSpPr>
        <p:spPr>
          <a:xfrm>
            <a:off x="2700360" y="2852640"/>
            <a:ext cx="5688000" cy="792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. 65 последний абзац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3" name="Rectangle 18"/>
          <p:cNvSpPr/>
          <p:nvPr/>
        </p:nvSpPr>
        <p:spPr>
          <a:xfrm>
            <a:off x="2700360" y="5850000"/>
            <a:ext cx="5616720" cy="1008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. 66 3-й абзац, Исторический фак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4" name="Picture 24" descr="j0292082"/>
          <p:cNvPicPr/>
          <p:nvPr/>
        </p:nvPicPr>
        <p:blipFill>
          <a:blip r:embed="rId4"/>
          <a:stretch/>
        </p:blipFill>
        <p:spPr>
          <a:xfrm>
            <a:off x="684360" y="4221000"/>
            <a:ext cx="1584000" cy="1152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65" name="Rectangle 25"/>
          <p:cNvSpPr/>
          <p:nvPr/>
        </p:nvSpPr>
        <p:spPr>
          <a:xfrm>
            <a:off x="2700360" y="4365720"/>
            <a:ext cx="5688000" cy="863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 66 2-й абзац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За нарушение права наступает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ответственност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894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Ответственность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– это неблагоприятные последствия наступающие за нарушение прав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пасные поступки называют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преступлениям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Уголовная ответствен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69" name="Group 14"/>
          <p:cNvGrpSpPr/>
          <p:nvPr/>
        </p:nvGrpSpPr>
        <p:grpSpPr>
          <a:xfrm>
            <a:off x="324000" y="5013360"/>
            <a:ext cx="8064360" cy="1584360"/>
            <a:chOff x="324000" y="5013360"/>
            <a:chExt cx="8064360" cy="1584360"/>
          </a:xfrm>
        </p:grpSpPr>
        <p:sp>
          <p:nvSpPr>
            <p:cNvPr id="870" name="Line 9"/>
            <p:cNvSpPr/>
            <p:nvPr/>
          </p:nvSpPr>
          <p:spPr>
            <a:xfrm flipH="1">
              <a:off x="2411280" y="5013360"/>
              <a:ext cx="1152720" cy="360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1" name="Line 10"/>
            <p:cNvSpPr/>
            <p:nvPr/>
          </p:nvSpPr>
          <p:spPr>
            <a:xfrm>
              <a:off x="4427640" y="5013360"/>
              <a:ext cx="1081080" cy="360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2" name="Rectangle 11"/>
            <p:cNvSpPr/>
            <p:nvPr/>
          </p:nvSpPr>
          <p:spPr>
            <a:xfrm>
              <a:off x="324000" y="5445000"/>
              <a:ext cx="2952720" cy="1152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ступает с 16 лет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73" name="Rectangle 12"/>
            <p:cNvSpPr/>
            <p:nvPr/>
          </p:nvSpPr>
          <p:spPr>
            <a:xfrm>
              <a:off x="4500720" y="5373720"/>
              <a:ext cx="3887640" cy="1224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 тяжкие (убийство,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ымогательство, теракт 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ступает с 14 лет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74" name="Місце для нижнього колонтитула 2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тр. 67 исторический факт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должите фразу: «Во все времена преступников наказывали по закону, потому что…..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ясните, как право защищает людей от несправедливости и зла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ак вы считаете детям нужны права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пасибо за внимание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оверка домашнего зад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1. Для решения каких вопросов существует суд? Как в разные эпохи понимали, что такое «справедливый суд»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2. Как можно защититься от несправедливости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одолжите список действий, которые могут  вам повредить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ткрывать двери малознакомы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Оставлять вещи без присмотра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7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Верны ли суждения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47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аво должно помогать  человеку в трудно ситуаци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риобретая в магазине дорогостоящую вещь, чек аккуратно выбрасывайте в мусорную корзину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Если случился конфликт, нужно сразу идти в суд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одители являются защитниками прав детей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ешение суда является последним и обжалованью не подлежит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во и закон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воспособность и дееспособ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иды пра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ветствен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7086600" cy="20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Право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-это система взаимосвязанных между собой юридических норм(правил), которые надо исполнять, иначе придется нести ответственность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85" name="Group 18"/>
          <p:cNvGrpSpPr/>
          <p:nvPr/>
        </p:nvGrpSpPr>
        <p:grpSpPr>
          <a:xfrm>
            <a:off x="1191960" y="2924280"/>
            <a:ext cx="7136280" cy="2712960"/>
            <a:chOff x="1191960" y="2924280"/>
            <a:chExt cx="7136280" cy="2712960"/>
          </a:xfrm>
        </p:grpSpPr>
        <p:grpSp>
          <p:nvGrpSpPr>
            <p:cNvPr id="786" name="Group 5"/>
            <p:cNvGrpSpPr/>
            <p:nvPr/>
          </p:nvGrpSpPr>
          <p:grpSpPr>
            <a:xfrm>
              <a:off x="4122720" y="3213000"/>
              <a:ext cx="1730520" cy="2039040"/>
              <a:chOff x="4122720" y="3213000"/>
              <a:chExt cx="1730520" cy="2039040"/>
            </a:xfrm>
          </p:grpSpPr>
          <p:pic>
            <p:nvPicPr>
              <p:cNvPr id="787" name="Picture 6" descr="j0215541"/>
              <p:cNvPicPr/>
              <p:nvPr/>
            </p:nvPicPr>
            <p:blipFill>
              <a:blip r:embed="rId1"/>
              <a:stretch/>
            </p:blipFill>
            <p:spPr>
              <a:xfrm>
                <a:off x="4303800" y="3213000"/>
                <a:ext cx="1368360" cy="134892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788" name="Text Box 7"/>
              <p:cNvSpPr/>
              <p:nvPr/>
            </p:nvSpPr>
            <p:spPr>
              <a:xfrm>
                <a:off x="4122720" y="4792320"/>
                <a:ext cx="173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Arial Narrow"/>
                  </a:rPr>
                  <a:t>государство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89" name="Group 8"/>
            <p:cNvGrpSpPr/>
            <p:nvPr/>
          </p:nvGrpSpPr>
          <p:grpSpPr>
            <a:xfrm>
              <a:off x="1191960" y="3068640"/>
              <a:ext cx="2873160" cy="2503080"/>
              <a:chOff x="1191960" y="3068640"/>
              <a:chExt cx="2873160" cy="2503080"/>
            </a:xfrm>
          </p:grpSpPr>
          <p:sp>
            <p:nvSpPr>
              <p:cNvPr id="790" name="Text Box 9"/>
              <p:cNvSpPr/>
              <p:nvPr/>
            </p:nvSpPr>
            <p:spPr>
              <a:xfrm>
                <a:off x="1191960" y="4746240"/>
                <a:ext cx="2004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ff"/>
                    </a:solidFill>
                    <a:latin typeface="Arial Narrow"/>
                  </a:rPr>
                  <a:t>Поддерживает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ccff"/>
                    </a:solidFill>
                    <a:latin typeface="Arial Narrow"/>
                  </a:rPr>
                  <a:t>право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791" name="Group 10"/>
              <p:cNvGrpSpPr/>
              <p:nvPr/>
            </p:nvGrpSpPr>
            <p:grpSpPr>
              <a:xfrm>
                <a:off x="1662120" y="3068640"/>
                <a:ext cx="2403000" cy="1733040"/>
                <a:chOff x="1662120" y="3068640"/>
                <a:chExt cx="2403000" cy="1733040"/>
              </a:xfrm>
            </p:grpSpPr>
            <p:pic>
              <p:nvPicPr>
                <p:cNvPr id="792" name="Picture 11" descr="j0344099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62120" y="3068640"/>
                  <a:ext cx="1066680" cy="1733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Line 12"/>
                <p:cNvSpPr/>
                <p:nvPr/>
              </p:nvSpPr>
              <p:spPr>
                <a:xfrm flipH="1">
                  <a:off x="2912760" y="3912840"/>
                  <a:ext cx="1152360" cy="0"/>
                </a:xfrm>
                <a:prstGeom prst="line">
                  <a:avLst/>
                </a:prstGeom>
                <a:ln w="76320">
                  <a:solidFill>
                    <a:srgbClr val="ff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4" name="Group 13"/>
            <p:cNvGrpSpPr/>
            <p:nvPr/>
          </p:nvGrpSpPr>
          <p:grpSpPr>
            <a:xfrm>
              <a:off x="5865840" y="2924280"/>
              <a:ext cx="2462400" cy="2712960"/>
              <a:chOff x="5865840" y="2924280"/>
              <a:chExt cx="2462400" cy="2712960"/>
            </a:xfrm>
          </p:grpSpPr>
          <p:grpSp>
            <p:nvGrpSpPr>
              <p:cNvPr id="795" name="Group 14"/>
              <p:cNvGrpSpPr/>
              <p:nvPr/>
            </p:nvGrpSpPr>
            <p:grpSpPr>
              <a:xfrm>
                <a:off x="6878160" y="2924280"/>
                <a:ext cx="1450080" cy="2712960"/>
                <a:chOff x="6878160" y="2924280"/>
                <a:chExt cx="1450080" cy="2712960"/>
              </a:xfrm>
            </p:grpSpPr>
            <p:pic>
              <p:nvPicPr>
                <p:cNvPr id="796" name="Picture 15" descr="j034352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182000" y="2924280"/>
                  <a:ext cx="885600" cy="1801440"/>
                </a:xfrm>
                <a:prstGeom prst="rect">
                  <a:avLst/>
                </a:prstGeom>
                <a:ln w="76320">
                  <a:solidFill>
                    <a:srgbClr val="ffcc00"/>
                  </a:solidFill>
                  <a:miter/>
                </a:ln>
              </p:spPr>
            </p:pic>
            <p:sp>
              <p:nvSpPr>
                <p:cNvPr id="797" name="Text Box 16"/>
                <p:cNvSpPr/>
                <p:nvPr/>
              </p:nvSpPr>
              <p:spPr>
                <a:xfrm>
                  <a:off x="6878160" y="4811760"/>
                  <a:ext cx="14500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ccff"/>
                      </a:solidFill>
                      <a:latin typeface="Arial Narrow"/>
                    </a:rPr>
                    <a:t>Защищает</a:t>
                  </a: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400" spc="-1" strike="noStrike">
                      <a:solidFill>
                        <a:srgbClr val="ffccff"/>
                      </a:solidFill>
                      <a:latin typeface="Arial Narrow"/>
                    </a:rPr>
                    <a:t>право</a:t>
                  </a: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" name="Line 17"/>
              <p:cNvSpPr/>
              <p:nvPr/>
            </p:nvSpPr>
            <p:spPr>
              <a:xfrm>
                <a:off x="5865840" y="3932280"/>
                <a:ext cx="1152360" cy="0"/>
              </a:xfrm>
              <a:prstGeom prst="line">
                <a:avLst/>
              </a:prstGeom>
              <a:ln w="7632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799" name="Місце для нижнього колонтитула 2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раво выражается в разных источниках, например в законах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то такое закон? (стр 62 2-й абзац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Закон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– важный юридический документ, созданный особым путем, обязательный для исполнен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02" name="Group 7"/>
          <p:cNvGrpSpPr/>
          <p:nvPr/>
        </p:nvGrpSpPr>
        <p:grpSpPr>
          <a:xfrm>
            <a:off x="6227640" y="3933720"/>
            <a:ext cx="2663640" cy="2567520"/>
            <a:chOff x="6227640" y="3933720"/>
            <a:chExt cx="2663640" cy="2567520"/>
          </a:xfrm>
        </p:grpSpPr>
        <p:pic>
          <p:nvPicPr>
            <p:cNvPr id="803" name="Picture 8" descr="j0215689"/>
            <p:cNvPicPr/>
            <p:nvPr/>
          </p:nvPicPr>
          <p:blipFill>
            <a:blip r:embed="rId1"/>
            <a:stretch/>
          </p:blipFill>
          <p:spPr>
            <a:xfrm>
              <a:off x="6227640" y="3933720"/>
              <a:ext cx="2663640" cy="208224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804" name="Text Box 9"/>
            <p:cNvSpPr/>
            <p:nvPr/>
          </p:nvSpPr>
          <p:spPr>
            <a:xfrm>
              <a:off x="6543720" y="604152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 Narrow"/>
                </a:rPr>
                <a:t>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 Narrow"/>
                </a:rPr>
                <a:t>законы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0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ексты законов пишут юристы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Кто такие юристы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сторический факт (стр. 63 второй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08" name="Picture 7" descr="j0231077"/>
          <p:cNvPicPr/>
          <p:nvPr/>
        </p:nvPicPr>
        <p:blipFill>
          <a:blip r:embed="rId1"/>
          <a:stretch/>
        </p:blipFill>
        <p:spPr>
          <a:xfrm>
            <a:off x="2627280" y="3933720"/>
            <a:ext cx="3489480" cy="2232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0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ступлению закона в силу предшествует сложная процедура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1835280" y="2276640"/>
            <a:ext cx="4968720" cy="72072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Рассматривается в парламент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2" name="Line 6"/>
          <p:cNvSpPr/>
          <p:nvPr/>
        </p:nvSpPr>
        <p:spPr>
          <a:xfrm>
            <a:off x="4356000" y="3068640"/>
            <a:ext cx="0" cy="360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1763640" y="3500280"/>
            <a:ext cx="5113440" cy="865440"/>
          </a:xfrm>
          <a:prstGeom prst="rect">
            <a:avLst/>
          </a:pr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Утверждается Президенто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4" name="Line 9"/>
          <p:cNvSpPr/>
          <p:nvPr/>
        </p:nvSpPr>
        <p:spPr>
          <a:xfrm>
            <a:off x="4356000" y="4365720"/>
            <a:ext cx="0" cy="287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5" name="Rectangle 10"/>
          <p:cNvSpPr/>
          <p:nvPr/>
        </p:nvSpPr>
        <p:spPr>
          <a:xfrm>
            <a:off x="1763640" y="4724280"/>
            <a:ext cx="5256360" cy="792360"/>
          </a:xfrm>
          <a:prstGeom prst="rect">
            <a:avLst/>
          </a:prstGeom>
          <a:noFill/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убликуется в С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6" name="Line 11"/>
          <p:cNvSpPr/>
          <p:nvPr/>
        </p:nvSpPr>
        <p:spPr>
          <a:xfrm flipH="1" flipV="1">
            <a:off x="4355640" y="4723920"/>
            <a:ext cx="71640" cy="71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7" name="Rectangle 12"/>
          <p:cNvSpPr/>
          <p:nvPr/>
        </p:nvSpPr>
        <p:spPr>
          <a:xfrm>
            <a:off x="755640" y="6021360"/>
            <a:ext cx="8064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Читать стр. 62 3-й абзац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18" name="Picture 14" descr="j0237460"/>
          <p:cNvPicPr/>
          <p:nvPr/>
        </p:nvPicPr>
        <p:blipFill>
          <a:blip r:embed="rId1"/>
          <a:stretch/>
        </p:blipFill>
        <p:spPr>
          <a:xfrm>
            <a:off x="7164360" y="2349360"/>
            <a:ext cx="1731960" cy="20163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1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Разные сферы жизни человека регулируют разные законы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21" name="Group 9"/>
          <p:cNvGrpSpPr/>
          <p:nvPr/>
        </p:nvGrpSpPr>
        <p:grpSpPr>
          <a:xfrm>
            <a:off x="396000" y="1628640"/>
            <a:ext cx="1706400" cy="1224000"/>
            <a:chOff x="396000" y="1628640"/>
            <a:chExt cx="1706400" cy="1224000"/>
          </a:xfrm>
        </p:grpSpPr>
        <p:pic>
          <p:nvPicPr>
            <p:cNvPr id="822" name="Picture 10" descr="ed00039_"/>
            <p:cNvPicPr/>
            <p:nvPr/>
          </p:nvPicPr>
          <p:blipFill>
            <a:blip r:embed="rId1"/>
            <a:stretch/>
          </p:blipFill>
          <p:spPr>
            <a:xfrm>
              <a:off x="463320" y="1628640"/>
              <a:ext cx="1584000" cy="1224000"/>
            </a:xfrm>
            <a:prstGeom prst="rect">
              <a:avLst/>
            </a:prstGeom>
            <a:ln w="76320">
              <a:solidFill>
                <a:srgbClr val="ff3300"/>
              </a:solidFill>
              <a:miter/>
            </a:ln>
          </p:spPr>
        </p:pic>
        <p:sp>
          <p:nvSpPr>
            <p:cNvPr id="823" name="Text Box 11"/>
            <p:cNvSpPr/>
            <p:nvPr/>
          </p:nvSpPr>
          <p:spPr>
            <a:xfrm>
              <a:off x="396000" y="1897920"/>
              <a:ext cx="1706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Конституция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Ф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24" name="Rectangle 13"/>
          <p:cNvSpPr/>
          <p:nvPr/>
        </p:nvSpPr>
        <p:spPr>
          <a:xfrm>
            <a:off x="2268360" y="1773360"/>
            <a:ext cx="5545440" cy="9349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сновной закон стран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5" name="Picture 15" descr="j0233260"/>
          <p:cNvPicPr/>
          <p:nvPr/>
        </p:nvPicPr>
        <p:blipFill>
          <a:blip r:embed="rId2"/>
          <a:stretch/>
        </p:blipFill>
        <p:spPr>
          <a:xfrm>
            <a:off x="611280" y="3068640"/>
            <a:ext cx="1212840" cy="1170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826" name="Rectangle 17"/>
          <p:cNvSpPr/>
          <p:nvPr/>
        </p:nvSpPr>
        <p:spPr>
          <a:xfrm>
            <a:off x="2268360" y="3284640"/>
            <a:ext cx="5832720" cy="792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емейный кодек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7" name="Picture 19" descr="j0150102"/>
          <p:cNvPicPr/>
          <p:nvPr/>
        </p:nvPicPr>
        <p:blipFill>
          <a:blip r:embed="rId3"/>
          <a:stretch/>
        </p:blipFill>
        <p:spPr>
          <a:xfrm>
            <a:off x="395280" y="4437000"/>
            <a:ext cx="1657440" cy="124164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  <p:sp>
        <p:nvSpPr>
          <p:cNvPr id="828" name="Rectangle 21"/>
          <p:cNvSpPr/>
          <p:nvPr/>
        </p:nvSpPr>
        <p:spPr>
          <a:xfrm>
            <a:off x="2484360" y="4437000"/>
            <a:ext cx="5472360" cy="1079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Трудовой кодек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829" name="Group 23"/>
          <p:cNvGrpSpPr/>
          <p:nvPr/>
        </p:nvGrpSpPr>
        <p:grpSpPr>
          <a:xfrm>
            <a:off x="613440" y="5734080"/>
            <a:ext cx="1166760" cy="1415520"/>
            <a:chOff x="613440" y="5734080"/>
            <a:chExt cx="1166760" cy="1415520"/>
          </a:xfrm>
        </p:grpSpPr>
        <p:pic>
          <p:nvPicPr>
            <p:cNvPr id="830" name="Picture 24" descr="bd06876_"/>
            <p:cNvPicPr/>
            <p:nvPr/>
          </p:nvPicPr>
          <p:blipFill>
            <a:blip r:embed="rId4"/>
            <a:stretch/>
          </p:blipFill>
          <p:spPr>
            <a:xfrm>
              <a:off x="687240" y="5734080"/>
              <a:ext cx="1067040" cy="955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831" name="Text Box 25"/>
            <p:cNvSpPr/>
            <p:nvPr/>
          </p:nvSpPr>
          <p:spPr>
            <a:xfrm>
              <a:off x="613440" y="6689880"/>
              <a:ext cx="11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Школа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2" name="Rectangle 27"/>
          <p:cNvSpPr/>
          <p:nvPr/>
        </p:nvSpPr>
        <p:spPr>
          <a:xfrm>
            <a:off x="2556000" y="5661000"/>
            <a:ext cx="5400720" cy="1008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3" name="Місце для нижнього колонтитула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1:09:45Z</dcterms:created>
  <dc:creator>USER</dc:creator>
  <dc:description/>
  <dc:language>en-US</dc:language>
  <cp:lastModifiedBy>LEGION</cp:lastModifiedBy>
  <dcterms:modified xsi:type="dcterms:W3CDTF">2015-01-28T10:10:45Z</dcterms:modified>
  <cp:revision>9</cp:revision>
  <dc:subject/>
  <dc:title>Слайд 1</dc:title>
</cp:coreProperties>
</file>