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6.gif" ContentType="image/gi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2693-511B-4673-97E9-162083D0AFA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жизни общества 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учитель обществознания МОУ СОШ №1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F6B2-B8BC-4206-8C15-DE217BF285DC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оявились зако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 Месопотам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до н.э. царь Хаммураппи создал целый свод законов, чтобы «дать сиять справедливости в стране, чтобы погубить беззаконных и злых, чтобы сильному не притеснять слабо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A662-B14B-4F74-8DCE-493EBD6426A0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м 387 г. до н.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оны 12 таблиц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авливали жесткие наказания для провинивш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вергали людей штраф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ставлял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зн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D35B-567F-4874-A88D-24CE8146B019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право служит челове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момента рождения гражданин нашей страны имеет права –это называ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оспособ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действовать в соответствии со своими правами называется-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дееспособ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D3A8-7D6A-4856-B5D4-E2CC8427F27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наступает постепенно (стр 64-6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5A94-FB9F-4114-90C6-808D82FC8B9E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E7F8-ED49-476E-B50D-948055B6A0FE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де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 65  3-й абзац, Интересны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E6B9-C371-4183-BDC8-74C4655BC59C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нарушение права наступает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твет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неблагоприятные последствия наступающие за нарушен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поступки называют –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еступ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голо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D833-EFA2-467B-B819-7E7417D9302C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67 исторический ф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фразу: «Во все времена преступников наказывали по закону, потому что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сните, как право защищает людей от несправедливости и з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 детям нужны пра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CF92-1870-46DC-9FCB-5EF013C6389A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2795-17C2-4FD8-9006-7F8C162C0D7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ля решения каких вопросов существует суд? Как в разные эпохи понимали, что такое «справедливый суд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можно защититься от несправедлив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список действий, которые могут  вам повред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ать двери малознаком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лять вещи без присмотра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AE0A-D9BD-497E-954C-D62890F4AA1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ы ли сужд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должно помогать  человеку в трудно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ая в магазине дорогостоящую вещь, чек аккуратно выбрасывайте в мусорную корз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лучился конфликт, нужно сразу идти в с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являются защитниками пра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суда является последним и обжалованью не подлеж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7101-5BC2-4DC5-9BB1-50618FC6CFDE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 и 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391B-D444-4D26-97AB-4F719CA6BDBB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это система взаимосвязанных между собой юридических норм(правил), которые надо исполнять, иначе придется нести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48B6-A620-4904-816F-9236BA49749C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во выражается в разных источниках, например в закона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закон? (стр 62 2-й абза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Зак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ажный юридический документ, созданный особым путем, обязательный для испол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3722-F6BB-4CCE-9D5D-DB7605FB8B85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ы законов пишут юрис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такие юрис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ческий факт (стр. 63 втор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607C-98CE-40FD-9D59-E046F5E1BBEE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лению закона в силу предшествует сложная процед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9671-FC9F-45E2-B086-1F4DE04E94A6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сферы жизни человека регулируют раз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2AAF-3075-45DD-A8AC-74ABAD31813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26F-1BFA-40BA-9F2F-AFE28BD7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B361-34C1-45F1-B82C-293C4849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7BFE2-EB91-4E63-980F-C9CF83BE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F1353-D36A-46FE-91A0-A248725C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2C9A9-66D2-4055-8D6C-BBFB8D27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23142-008C-4972-BBB6-49938D2B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9C754-48AF-4CCE-9C01-13EA0E90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6A5E3-3770-4B20-AC6A-484204C3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F3E5F-BE5D-4D22-B70A-587C499D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FB7CC-CF05-43DC-BEC4-2A3EABB5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E3F28-41A6-4668-9058-F45DB679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D5578-67B2-412C-87D3-8D93C701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A09-C8C7-4A4D-9BEC-1E2014A8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93A18-1398-4AB0-88AC-D5D4499C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48FC2-2020-44A3-ACAE-A0651394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C566C-53A0-4883-98D9-A336C745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22691-4AAF-4465-B77F-D2994ABB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3264C-56BF-4BAC-9663-377A6456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70D38-C5CF-41F0-ACA5-B32A578A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51747-51B9-4A30-9D8E-A876EE10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9266C-D7EB-4939-B2A9-A6D53F0E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DAE64-9DF8-4139-9482-CB85958F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F567E-99EE-4BF8-9C06-C630C89F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628-3466-4B28-8B9E-CA1420ED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086CD-A108-4FA7-8F29-5671913E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9C57C-9B43-4FB9-972F-093733CE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28D6F-BD10-46FB-A372-9A401042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44314-848F-4AA2-BDA7-61FCD54F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3F974-39D1-4DA1-94C1-A020FF60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EA8FB-56A4-47E6-825B-EFE2F50E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ABD54-23AC-445A-8714-2AAF42FD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05AFE-7C18-4FE6-B9CA-8F01C068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B14A1-90C1-4BB9-B58A-D2F75F73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FE56F-F9EE-49CE-A0B4-98363581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9C33-A14F-4902-A61B-CBA5C4C9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094E4-1B3E-44F5-A295-514D7F79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38E5C-6219-450C-8F52-FCAF6416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A9C23-CC7F-4314-92AB-B43F286B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7F9CA-2298-4047-8036-9D7D0A72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D841F-AF67-4CE2-A986-4F67A201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0533A-D1FB-4915-AD37-CC6B78DE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7E718-1AED-4B66-A27A-6DEE808C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011A8-98DC-40C4-897E-080B0DE0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4F650-6416-427C-B2AD-EE83B8F7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5CA39-B136-46AC-B696-C2285C2C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BF2B-C077-4EF1-A832-5F92423B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558F8-F9A1-4772-B420-B0E905E6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275C5-AD2E-4DF0-BC38-A5C73999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EE1EB-25B8-4397-AAA0-50CC1FC0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8ADEB-64DC-4693-AA9F-362CCE9F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5CE58-C03B-416D-B01A-9A0A373B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E8274-2005-4BB9-99F1-A19AE77D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C3394-92CF-41DF-840B-EFB6D852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53AB4-FAEA-4BAF-88E5-7CD1956B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916BC-7433-4FA1-BDD3-4DEFE36D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091AA-BC15-4160-A2E8-1EFDA46C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C119-F26F-4923-B90A-9BAAAFD7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E3018-605D-4E84-A371-7305F601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26F37-E405-4832-BEE2-8D05AAD7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991821-FF85-430D-92FD-316B6557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8E5BE-20BB-492D-BA8C-EE620B52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B2A35-1ED7-445D-BC4A-99963929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03EF5-374D-48E2-BF2B-81BBC376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F2974-4184-483D-BBF6-4E566074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0C7FB9-6504-41B0-B3DA-7CCAF90E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E2B67-E4BB-4F63-A35D-0880E4F7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CD846-583F-471B-A36A-6F7E47E4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E188-0E5F-42CB-ACD2-3C29E40A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8F71AC-4242-4B9F-ABD2-BBDAF5AE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EDBCFB-303C-43BA-A5DC-DBB7D28D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4AD6F-870E-476B-8189-B3BECD7A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7BEC9C-1220-4E4E-A4A2-B5C4E8D5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EBE064-CA7B-4ABD-8064-2A80E800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463787-DB05-43BE-82EC-2AA33C5F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80A279-0A13-48B0-AD18-9C14071D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AF57A-D88B-4946-8E67-7D274908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4B8E0-0580-4BE0-BA1C-CBAD6154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A6FA59-4FD4-4C8B-BBEA-E98FB540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843A-FBEE-405C-A748-C34D4672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757ECE-B5CB-476A-B558-26761052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6F3427-94F2-4CC1-AB37-021A9F99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D34ABE-4AEE-4678-91AB-1E17B97F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28723E-1434-4A81-9EAA-A4B52AF1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67D3CA-D535-470B-8DE9-FC2C0321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E51A3A-1AE3-4271-B583-CEDFD49A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008E3-006E-4287-BF20-9252F06D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FC91F7-521D-47A0-8717-6BF26C05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B563D-44A5-4467-8399-398B379D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2A4529-CD6E-4E46-AEB4-CA95EAB3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F45A-68C8-4A03-B6E2-B35B520D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97DA04-C00E-4A79-A0C7-49437748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7596-C8E6-4829-9C0C-55DCAE64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73A-5C9B-49F5-BFE8-322E9F75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1747-A771-4604-A5AC-A32143B7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3673-5E75-442C-BA19-ADE8EBB4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68F6-D2F5-4D57-98D2-FA8F6238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DA91-5184-461C-BF92-59642A39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53A7-423D-41ED-ACA0-30A79736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DE20-11B5-4514-95C3-81FD4D98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F84EC-DF32-4486-BF0C-834C5086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C9B68-8E4C-4121-8AB5-E5764457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48197-4A7E-4F4F-A9C0-23B4BD7E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4383F-0A2E-4824-87E6-94048734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D45-B7C3-4020-AAF3-B69436E6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CBB79-33C5-4689-A818-C552B6FD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F6C14-4BAB-4DF9-8C54-727B2EA2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8C097-2290-47DC-A384-A8264086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ED440-3B20-40A8-BB43-60324D64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89CC4-3849-4413-B341-2555E209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C7D13-1B2F-4F1D-96D7-47160BA4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9A058-9D50-46BB-9318-A80103DA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CE7DC-6E20-4B2D-914D-EAC5D01E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44BB3-BB2F-4529-AC1D-8264871F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4909A-EB75-4377-91C0-4E25E941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36F-1D25-4BD5-BE7C-7141BC98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BDD00-D0BB-463E-A7C4-D0608536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65EB4-A603-4E97-ACAD-DB25436C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61351-86FB-4F58-884D-C7988527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C2FF4-1724-48AF-B046-EB8FA62B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593EA-882F-444D-8A0B-78D2C6FC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EBAC3-F95F-4194-AC72-F5048B26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12653-846E-405C-A0F1-8E025E2B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5ABEF-089C-411B-88FC-53AAAB28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35DCF-E416-44A4-8474-93275E49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C4C63-58C7-4D32-AA97-29471F59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383-375E-41B6-BBC4-3960C4D3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42EB0-489A-40DC-B9CA-8C6A55FC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D767C-52DB-4571-B37A-10883D4B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EA576-12BD-458E-990E-6055F725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CCBC1-CE76-443C-9169-4E376BB7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741D6-3B7D-4987-8565-D070A062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888DB-420E-4F50-BA78-D699669B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76A05-2EA2-47D6-BB01-E422ABD2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66145-32BB-4486-80D4-2E050416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5FE48-1005-48BF-BFF3-AFE26AEC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0B395-A1D2-475D-9916-FB38D3E7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A0D7-6551-44AA-96D6-BF968F2B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27ECF-7F8A-4E70-8EC1-4BBFCB10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142D3-0A38-4EF8-9552-60AFAA1E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3A51A-F834-4D26-8D3B-00C20B75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35432-DF11-4196-855C-134810E4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B8308-CC49-4255-8DB3-7C9BE676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014DE-D661-4226-B285-8326990F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6B434-A6B1-4ECE-B7D2-FF1A4C20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BC8B8-FD00-4781-9236-ABE83E5E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6EE67-5A19-4E2B-96D5-EEFC399C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F50C7-5B74-454C-B5E4-4332D164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0F2-F472-4E8E-B465-799D88EB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C655B-DC16-46F7-8D57-2CF84CB5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D80CE-8F9F-4005-BBB2-5F22D36A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75302-6562-4B33-BE09-F49196E7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D12F0-8DDD-4009-AE17-E43F9B14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FB338-BC03-47C1-A538-805E2D9B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F16F6-1C37-499F-9C97-3B758C50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D7E82-BD46-49C2-B1D0-E39513EC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CD1B7-AE08-48B2-A43E-45331ADD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11275-AABF-4585-996C-D3A186D8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D2BFF-F505-4445-BA1E-DBBDBC1A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D08-67F4-42A2-A0A2-895E143D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DF436-9B43-4E73-B0D4-DF22CD14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6EE58-8AF0-4397-AE80-280981CD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8814A-2094-44DE-B074-8F8F4B52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51458-4B59-4D21-A2C0-45199EE4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92C09-F63A-42F7-95C5-23A93C1C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8EC4A-A32F-46FA-B903-4896F664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689CB-E487-4524-9137-F9D534A4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728E2-D18F-4110-AA40-FD81D6FB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76664-AB1E-452E-BC0E-AB22A698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38504-3FBE-4F08-8975-F2BD10C1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E74-7209-4C40-A79B-7B034738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E896D-39BA-454C-AAC9-ACB194E1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D4E0B-755A-4378-A6E8-A2F28853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8C44A-606C-46E8-BA00-C2EE6689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073B3-A6E3-4413-BA31-B3E54424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0622C-D6A1-4201-9FB4-2C79050B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949A2-72F4-4A9D-BC6E-BC310533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2860F-29CF-44BF-ADB4-B151ACE0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25525-EB76-4E57-A681-63E5D801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7BA01-2FEF-41CC-940F-81FB6CE3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0DFB3-D3A3-4B7A-BD1F-1BC9A9DA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9270-17A3-4D09-B801-C16C2B5B7A6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60DE-6482-4C34-A366-0682A1CEFA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61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2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63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4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5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6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7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68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3DF6-33F3-4AD5-8589-D3AC3E27773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4D8A-219E-483C-A5AF-301F15154B7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1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51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1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1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1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4660-F8AE-4DDF-930E-088FDE53D15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8732-9E3E-45E3-9D4C-3D7A7AEE1F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56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6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6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7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1590-1265-4169-9AF0-3C44E01E84E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3755-936E-4262-A564-BBA4457F1F6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13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614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5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16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617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8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9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0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21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BC61-1FE1-4363-9FC0-C7DE21A80F8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B655-BDC9-4097-AA56-80767A8DC36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64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665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6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67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668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9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0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1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72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0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A298-EDB2-4CF1-8677-A1B403A0395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5CDC-556A-4089-9243-EDB12BFAA0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5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716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7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718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719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0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1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2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723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3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7BAF-A7E0-415B-BF25-640E2DFFEA58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4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5BBC-5762-4113-9F40-D862B0B8BFC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4262-0DF0-4FE3-87E3-353284652FC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3C8C-2436-41DC-A5D6-D37730DA2A6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04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6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07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8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9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11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0728-4C69-4828-8F9A-45DC9583C24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90DD-E66D-4923-BEE1-D059A8F04AB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55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7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58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2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2646-2535-49ED-BA3B-8E5A7F8C644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665C-ED28-4222-AD9A-103C97B3DA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06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08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209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0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1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13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1A92-6734-41F7-956F-20D0BA49BF1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A1BE-3352-4ECA-A21C-FDA0C5109A2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57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8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59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260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1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2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4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43AD-8AAB-4B00-871D-790A15A4320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0DC3-2C05-4EE6-8F8F-917AB1AEF64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308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9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10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311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2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3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4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5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725D-2DCE-4272-AF3F-52CB829FC2A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54DB-E878-4A13-AE25-F746B2CB32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359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61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362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3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4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5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66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3402-D0D1-4326-998A-2562A01739A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8C24-9CF0-4756-A0A5-10440DB11D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10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1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12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13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4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5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6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17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2C33-409A-4399-84C0-F6C75CC8C23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0CCA-46E6-44EE-B873-7CC150B145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749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оль права в жизни общества и челове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1371600" y="5219280"/>
            <a:ext cx="640080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дготовила учитель обществознания МОУ СОШ №1 Коребо О.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4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огда появились законы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авитель Месопотамии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VIII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века до н.э. царь Хаммураппи создал целый свод законов, чтобы «дать сиять справедливости в стране, чтобы погубить беззаконных и злых, чтобы сильному не притеснять слабого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36" name="Picture 7" descr="j0297161"/>
          <p:cNvPicPr/>
          <p:nvPr/>
        </p:nvPicPr>
        <p:blipFill>
          <a:blip r:embed="rId1"/>
          <a:stretch/>
        </p:blipFill>
        <p:spPr>
          <a:xfrm>
            <a:off x="4067280" y="5013360"/>
            <a:ext cx="1657080" cy="1655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3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им 387 г. до н.э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Законы 12 таблиц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Устанавливали жесткие наказания для провинившихся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Подвергали людей штрафа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Заставляли загладить причиненный вре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Казнил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40" name="Group 8"/>
          <p:cNvGrpSpPr/>
          <p:nvPr/>
        </p:nvGrpSpPr>
        <p:grpSpPr>
          <a:xfrm>
            <a:off x="6934320" y="189000"/>
            <a:ext cx="2209680" cy="2406600"/>
            <a:chOff x="6934320" y="189000"/>
            <a:chExt cx="2209680" cy="2406600"/>
          </a:xfrm>
        </p:grpSpPr>
        <p:pic>
          <p:nvPicPr>
            <p:cNvPr id="841" name="Object 9" descr=""/>
            <p:cNvPicPr/>
            <p:nvPr/>
          </p:nvPicPr>
          <p:blipFill>
            <a:blip r:embed="rId1"/>
            <a:stretch/>
          </p:blipFill>
          <p:spPr>
            <a:xfrm>
              <a:off x="6934320" y="189000"/>
              <a:ext cx="2209680" cy="1527120"/>
            </a:xfrm>
            <a:prstGeom prst="rect">
              <a:avLst/>
            </a:prstGeom>
            <a:ln w="38160">
              <a:solidFill>
                <a:srgbClr val="0000cc"/>
              </a:solidFill>
              <a:miter/>
            </a:ln>
          </p:spPr>
        </p:pic>
        <p:sp>
          <p:nvSpPr>
            <p:cNvPr id="842" name="Text Box 10"/>
            <p:cNvSpPr/>
            <p:nvPr/>
          </p:nvSpPr>
          <p:spPr>
            <a:xfrm>
              <a:off x="7355880" y="1770120"/>
              <a:ext cx="1308600" cy="825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ревний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им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4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егодня право служит человеку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 момента рождения гражданин нашей страны имеет права –это называется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авоспособностью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озможность действовать в соответствии со своими правами называется-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ееспособность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46" name="Group 5"/>
          <p:cNvGrpSpPr/>
          <p:nvPr/>
        </p:nvGrpSpPr>
        <p:grpSpPr>
          <a:xfrm>
            <a:off x="5726880" y="2421000"/>
            <a:ext cx="2373840" cy="2513160"/>
            <a:chOff x="5726880" y="2421000"/>
            <a:chExt cx="2373840" cy="2513160"/>
          </a:xfrm>
        </p:grpSpPr>
        <p:pic>
          <p:nvPicPr>
            <p:cNvPr id="847" name="Picture 6" descr="j0078835"/>
            <p:cNvPicPr/>
            <p:nvPr/>
          </p:nvPicPr>
          <p:blipFill>
            <a:blip r:embed="rId1"/>
            <a:stretch/>
          </p:blipFill>
          <p:spPr>
            <a:xfrm>
              <a:off x="6090840" y="2421000"/>
              <a:ext cx="2009880" cy="20876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48" name="Text Box 7"/>
            <p:cNvSpPr/>
            <p:nvPr/>
          </p:nvSpPr>
          <p:spPr>
            <a:xfrm>
              <a:off x="5726880" y="4474440"/>
              <a:ext cx="20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     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С рождения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4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ееспособность наступает постепенно (стр 64-65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66204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-14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-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ееспособно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684360" y="1557360"/>
          <a:ext cx="7772400" cy="49928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-14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вершать мелкие бытовые сделк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Быть автором произведени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74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-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одрабатывать, самостоятельно распоряжаться доходам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Вносить вклады в банки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вершать сделки от своего имен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тановится взрослым человеком – полная дееспособность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а детей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тр 65  3-й абзац, Интересный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ак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58" name="Picture 5" descr="j0295182"/>
          <p:cNvPicPr/>
          <p:nvPr/>
        </p:nvPicPr>
        <p:blipFill>
          <a:blip r:embed="rId1"/>
          <a:stretch/>
        </p:blipFill>
        <p:spPr>
          <a:xfrm>
            <a:off x="611280" y="1628640"/>
            <a:ext cx="1800000" cy="1117800"/>
          </a:xfrm>
          <a:prstGeom prst="rect">
            <a:avLst/>
          </a:prstGeom>
          <a:ln w="0">
            <a:noFill/>
          </a:ln>
        </p:spPr>
      </p:pic>
      <p:sp>
        <p:nvSpPr>
          <p:cNvPr id="859" name="Rectangle 8"/>
          <p:cNvSpPr/>
          <p:nvPr/>
        </p:nvSpPr>
        <p:spPr>
          <a:xfrm>
            <a:off x="2771640" y="1628640"/>
            <a:ext cx="5616720" cy="1081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0" name="Picture 10" descr="j0344285"/>
          <p:cNvPicPr/>
          <p:nvPr/>
        </p:nvPicPr>
        <p:blipFill>
          <a:blip r:embed="rId2"/>
          <a:stretch/>
        </p:blipFill>
        <p:spPr>
          <a:xfrm>
            <a:off x="611280" y="5584680"/>
            <a:ext cx="1655640" cy="12733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861" name="Picture 14" descr="j0286972"/>
          <p:cNvPicPr/>
          <p:nvPr/>
        </p:nvPicPr>
        <p:blipFill>
          <a:blip r:embed="rId3"/>
          <a:stretch/>
        </p:blipFill>
        <p:spPr>
          <a:xfrm>
            <a:off x="684360" y="2852640"/>
            <a:ext cx="1655640" cy="1152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62" name="Rectangle 17"/>
          <p:cNvSpPr/>
          <p:nvPr/>
        </p:nvSpPr>
        <p:spPr>
          <a:xfrm>
            <a:off x="2700360" y="2852640"/>
            <a:ext cx="5688000" cy="792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. 65 последний абзац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3" name="Rectangle 18"/>
          <p:cNvSpPr/>
          <p:nvPr/>
        </p:nvSpPr>
        <p:spPr>
          <a:xfrm>
            <a:off x="2700360" y="5850000"/>
            <a:ext cx="5616720" cy="1008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. 66 3-й абзац, Исторический фак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4" name="Picture 24" descr="j0292082"/>
          <p:cNvPicPr/>
          <p:nvPr/>
        </p:nvPicPr>
        <p:blipFill>
          <a:blip r:embed="rId4"/>
          <a:stretch/>
        </p:blipFill>
        <p:spPr>
          <a:xfrm>
            <a:off x="684360" y="4221000"/>
            <a:ext cx="1584000" cy="1152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65" name="Rectangle 25"/>
          <p:cNvSpPr/>
          <p:nvPr/>
        </p:nvSpPr>
        <p:spPr>
          <a:xfrm>
            <a:off x="2700360" y="4365720"/>
            <a:ext cx="5688000" cy="863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 66 2-й абзац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За нарушение права наступает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ответственно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894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Ответственность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– это неблагоприятные последствия наступающие за нарушение прав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пасные поступки называют –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еступлениям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Уголовная ответствен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69" name="Group 14"/>
          <p:cNvGrpSpPr/>
          <p:nvPr/>
        </p:nvGrpSpPr>
        <p:grpSpPr>
          <a:xfrm>
            <a:off x="324000" y="5013360"/>
            <a:ext cx="8064360" cy="1584360"/>
            <a:chOff x="324000" y="5013360"/>
            <a:chExt cx="8064360" cy="1584360"/>
          </a:xfrm>
        </p:grpSpPr>
        <p:sp>
          <p:nvSpPr>
            <p:cNvPr id="870" name="Line 9"/>
            <p:cNvSpPr/>
            <p:nvPr/>
          </p:nvSpPr>
          <p:spPr>
            <a:xfrm flipH="1">
              <a:off x="2411280" y="5013360"/>
              <a:ext cx="1152720" cy="360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Line 10"/>
            <p:cNvSpPr/>
            <p:nvPr/>
          </p:nvSpPr>
          <p:spPr>
            <a:xfrm>
              <a:off x="4427640" y="5013360"/>
              <a:ext cx="1081080" cy="360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2" name="Rectangle 11"/>
            <p:cNvSpPr/>
            <p:nvPr/>
          </p:nvSpPr>
          <p:spPr>
            <a:xfrm>
              <a:off x="324000" y="5445000"/>
              <a:ext cx="2952720" cy="1152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ступает с 16 лет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3" name="Rectangle 12"/>
            <p:cNvSpPr/>
            <p:nvPr/>
          </p:nvSpPr>
          <p:spPr>
            <a:xfrm>
              <a:off x="4500720" y="5373720"/>
              <a:ext cx="388764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 тяжкие (убийство,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ымогательство, теракт 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ступает с 14 лет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74" name="Місце для нижнього колонтитула 2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тр. 67 исторический факт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должите фразу: «Во все времена преступников наказывали по закону, потому что…..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ясните, как право защищает людей от несправедливости и зл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ак вы считаете детям нужны права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пасибо за внимание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оверка домашнего зад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1. Для решения каких вопросов существует суд? Как в разные эпохи понимали, что такое «справедливый суд»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2. Как можно защититься от несправедливости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одолжите список действий, которые могут  вам повредить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ткрывать двери малознакомы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ставлять вещи без присмотра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7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ерны ли суждения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47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аво должно помогать  человеку в трудно ситуаци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обретая в магазине дорогостоящую вещь, чек аккуратно выбрасывайте в мусорную корзин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Если случился конфликт, нужно сразу идти в суд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дители являются защитниками прав дете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ешение суда является последним и обжалованью не подлежит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аво и закон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авоспособность и дееспособ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иды пра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ветствен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20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раво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-это система взаимосвязанных между собой юридических норм(правил), которые надо исполнять, иначе придется нести ответственность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85" name="Group 18"/>
          <p:cNvGrpSpPr/>
          <p:nvPr/>
        </p:nvGrpSpPr>
        <p:grpSpPr>
          <a:xfrm>
            <a:off x="1191960" y="2924280"/>
            <a:ext cx="7136280" cy="2712960"/>
            <a:chOff x="1191960" y="2924280"/>
            <a:chExt cx="7136280" cy="2712960"/>
          </a:xfrm>
        </p:grpSpPr>
        <p:grpSp>
          <p:nvGrpSpPr>
            <p:cNvPr id="786" name="Group 5"/>
            <p:cNvGrpSpPr/>
            <p:nvPr/>
          </p:nvGrpSpPr>
          <p:grpSpPr>
            <a:xfrm>
              <a:off x="4122720" y="3213000"/>
              <a:ext cx="1730520" cy="2039040"/>
              <a:chOff x="4122720" y="3213000"/>
              <a:chExt cx="1730520" cy="2039040"/>
            </a:xfrm>
          </p:grpSpPr>
          <p:pic>
            <p:nvPicPr>
              <p:cNvPr id="787" name="Picture 6" descr="j0215541"/>
              <p:cNvPicPr/>
              <p:nvPr/>
            </p:nvPicPr>
            <p:blipFill>
              <a:blip r:embed="rId1"/>
              <a:stretch/>
            </p:blipFill>
            <p:spPr>
              <a:xfrm>
                <a:off x="4303800" y="3213000"/>
                <a:ext cx="1368360" cy="134892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788" name="Text Box 7"/>
              <p:cNvSpPr/>
              <p:nvPr/>
            </p:nvSpPr>
            <p:spPr>
              <a:xfrm>
                <a:off x="4122720" y="4792320"/>
                <a:ext cx="173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 Narrow"/>
                  </a:rPr>
                  <a:t>государство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89" name="Group 8"/>
            <p:cNvGrpSpPr/>
            <p:nvPr/>
          </p:nvGrpSpPr>
          <p:grpSpPr>
            <a:xfrm>
              <a:off x="1191960" y="3068640"/>
              <a:ext cx="2873160" cy="2503080"/>
              <a:chOff x="1191960" y="3068640"/>
              <a:chExt cx="2873160" cy="2503080"/>
            </a:xfrm>
          </p:grpSpPr>
          <p:sp>
            <p:nvSpPr>
              <p:cNvPr id="790" name="Text Box 9"/>
              <p:cNvSpPr/>
              <p:nvPr/>
            </p:nvSpPr>
            <p:spPr>
              <a:xfrm>
                <a:off x="1191960" y="4746240"/>
                <a:ext cx="2004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ff"/>
                    </a:solidFill>
                    <a:latin typeface="Arial Narrow"/>
                  </a:rPr>
                  <a:t>Поддерживает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ff"/>
                    </a:solidFill>
                    <a:latin typeface="Arial Narrow"/>
                  </a:rPr>
                  <a:t>право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791" name="Group 10"/>
              <p:cNvGrpSpPr/>
              <p:nvPr/>
            </p:nvGrpSpPr>
            <p:grpSpPr>
              <a:xfrm>
                <a:off x="1662120" y="3068640"/>
                <a:ext cx="2403000" cy="1733040"/>
                <a:chOff x="1662120" y="3068640"/>
                <a:chExt cx="2403000" cy="1733040"/>
              </a:xfrm>
            </p:grpSpPr>
            <p:pic>
              <p:nvPicPr>
                <p:cNvPr id="792" name="Picture 11" descr="j0344099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62120" y="3068640"/>
                  <a:ext cx="1066680" cy="1733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Line 12"/>
                <p:cNvSpPr/>
                <p:nvPr/>
              </p:nvSpPr>
              <p:spPr>
                <a:xfrm flipH="1">
                  <a:off x="2912760" y="3912840"/>
                  <a:ext cx="1152360" cy="0"/>
                </a:xfrm>
                <a:prstGeom prst="line">
                  <a:avLst/>
                </a:prstGeom>
                <a:ln w="76320">
                  <a:solidFill>
                    <a:srgbClr val="ff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4" name="Group 13"/>
            <p:cNvGrpSpPr/>
            <p:nvPr/>
          </p:nvGrpSpPr>
          <p:grpSpPr>
            <a:xfrm>
              <a:off x="5865840" y="2924280"/>
              <a:ext cx="2462400" cy="2712960"/>
              <a:chOff x="5865840" y="2924280"/>
              <a:chExt cx="2462400" cy="2712960"/>
            </a:xfrm>
          </p:grpSpPr>
          <p:grpSp>
            <p:nvGrpSpPr>
              <p:cNvPr id="795" name="Group 14"/>
              <p:cNvGrpSpPr/>
              <p:nvPr/>
            </p:nvGrpSpPr>
            <p:grpSpPr>
              <a:xfrm>
                <a:off x="6878160" y="2924280"/>
                <a:ext cx="1450080" cy="2712960"/>
                <a:chOff x="6878160" y="2924280"/>
                <a:chExt cx="1450080" cy="2712960"/>
              </a:xfrm>
            </p:grpSpPr>
            <p:pic>
              <p:nvPicPr>
                <p:cNvPr id="796" name="Picture 15" descr="j034352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82000" y="2924280"/>
                  <a:ext cx="885600" cy="1801440"/>
                </a:xfrm>
                <a:prstGeom prst="rect">
                  <a:avLst/>
                </a:prstGeom>
                <a:ln w="76320">
                  <a:solidFill>
                    <a:srgbClr val="ffcc00"/>
                  </a:solidFill>
                  <a:miter/>
                </a:ln>
              </p:spPr>
            </p:pic>
            <p:sp>
              <p:nvSpPr>
                <p:cNvPr id="797" name="Text Box 16"/>
                <p:cNvSpPr/>
                <p:nvPr/>
              </p:nvSpPr>
              <p:spPr>
                <a:xfrm>
                  <a:off x="6878160" y="4811760"/>
                  <a:ext cx="14500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ccff"/>
                      </a:solidFill>
                      <a:latin typeface="Arial Narrow"/>
                    </a:rPr>
                    <a:t>Защищает</a:t>
                  </a: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ccff"/>
                      </a:solidFill>
                      <a:latin typeface="Arial Narrow"/>
                    </a:rPr>
                    <a:t>право</a:t>
                  </a: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Line 17"/>
              <p:cNvSpPr/>
              <p:nvPr/>
            </p:nvSpPr>
            <p:spPr>
              <a:xfrm>
                <a:off x="5865840" y="3932280"/>
                <a:ext cx="1152360" cy="0"/>
              </a:xfrm>
              <a:prstGeom prst="line">
                <a:avLst/>
              </a:prstGeom>
              <a:ln w="7632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799" name="Місце для нижнього колонтитула 2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раво выражается в разных источниках, например в законах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то такое закон? (стр 62 2-й абзац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Закон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– важный юридический документ, созданный особым путем, обязательный для исполнен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02" name="Group 7"/>
          <p:cNvGrpSpPr/>
          <p:nvPr/>
        </p:nvGrpSpPr>
        <p:grpSpPr>
          <a:xfrm>
            <a:off x="6227640" y="3933720"/>
            <a:ext cx="2663640" cy="2567520"/>
            <a:chOff x="6227640" y="3933720"/>
            <a:chExt cx="2663640" cy="2567520"/>
          </a:xfrm>
        </p:grpSpPr>
        <p:pic>
          <p:nvPicPr>
            <p:cNvPr id="803" name="Picture 8" descr="j0215689"/>
            <p:cNvPicPr/>
            <p:nvPr/>
          </p:nvPicPr>
          <p:blipFill>
            <a:blip r:embed="rId1"/>
            <a:stretch/>
          </p:blipFill>
          <p:spPr>
            <a:xfrm>
              <a:off x="6227640" y="3933720"/>
              <a:ext cx="2663640" cy="20822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04" name="Text Box 9"/>
            <p:cNvSpPr/>
            <p:nvPr/>
          </p:nvSpPr>
          <p:spPr>
            <a:xfrm>
              <a:off x="6543720" y="604152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 Narrow"/>
                </a:rPr>
                <a:t>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 Narrow"/>
                </a:rPr>
                <a:t>законы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0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ексты законов пишут юрист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то такие юристы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сторический факт (стр. 63 второй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08" name="Picture 7" descr="j0231077"/>
          <p:cNvPicPr/>
          <p:nvPr/>
        </p:nvPicPr>
        <p:blipFill>
          <a:blip r:embed="rId1"/>
          <a:stretch/>
        </p:blipFill>
        <p:spPr>
          <a:xfrm>
            <a:off x="2627280" y="3933720"/>
            <a:ext cx="3489480" cy="2232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0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ступлению закона в силу предшествует сложная процедура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1835280" y="2276640"/>
            <a:ext cx="4968720" cy="72072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Рассматривается в парламент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2" name="Line 6"/>
          <p:cNvSpPr/>
          <p:nvPr/>
        </p:nvSpPr>
        <p:spPr>
          <a:xfrm>
            <a:off x="4356000" y="3068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1763640" y="3500280"/>
            <a:ext cx="5113440" cy="86544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Утверждается Президент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4" name="Line 9"/>
          <p:cNvSpPr/>
          <p:nvPr/>
        </p:nvSpPr>
        <p:spPr>
          <a:xfrm>
            <a:off x="4356000" y="436572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5" name="Rectangle 10"/>
          <p:cNvSpPr/>
          <p:nvPr/>
        </p:nvSpPr>
        <p:spPr>
          <a:xfrm>
            <a:off x="1763640" y="4724280"/>
            <a:ext cx="5256360" cy="79236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убликуется в С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6" name="Line 11"/>
          <p:cNvSpPr/>
          <p:nvPr/>
        </p:nvSpPr>
        <p:spPr>
          <a:xfrm flipH="1" flipV="1">
            <a:off x="4355640" y="4723920"/>
            <a:ext cx="71640" cy="7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7" name="Rectangle 12"/>
          <p:cNvSpPr/>
          <p:nvPr/>
        </p:nvSpPr>
        <p:spPr>
          <a:xfrm>
            <a:off x="755640" y="6021360"/>
            <a:ext cx="8064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Читать стр. 62 3-й абзац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18" name="Picture 14" descr="j0237460"/>
          <p:cNvPicPr/>
          <p:nvPr/>
        </p:nvPicPr>
        <p:blipFill>
          <a:blip r:embed="rId1"/>
          <a:stretch/>
        </p:blipFill>
        <p:spPr>
          <a:xfrm>
            <a:off x="7164360" y="2349360"/>
            <a:ext cx="1731960" cy="20163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1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Разные сферы жизни человека регулируют разные законы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21" name="Group 9"/>
          <p:cNvGrpSpPr/>
          <p:nvPr/>
        </p:nvGrpSpPr>
        <p:grpSpPr>
          <a:xfrm>
            <a:off x="396000" y="1628640"/>
            <a:ext cx="1706400" cy="1224000"/>
            <a:chOff x="396000" y="1628640"/>
            <a:chExt cx="1706400" cy="1224000"/>
          </a:xfrm>
        </p:grpSpPr>
        <p:pic>
          <p:nvPicPr>
            <p:cNvPr id="822" name="Picture 10" descr="ed00039_"/>
            <p:cNvPicPr/>
            <p:nvPr/>
          </p:nvPicPr>
          <p:blipFill>
            <a:blip r:embed="rId1"/>
            <a:stretch/>
          </p:blipFill>
          <p:spPr>
            <a:xfrm>
              <a:off x="463320" y="1628640"/>
              <a:ext cx="1584000" cy="1224000"/>
            </a:xfrm>
            <a:prstGeom prst="rect">
              <a:avLst/>
            </a:prstGeom>
            <a:ln w="76320">
              <a:solidFill>
                <a:srgbClr val="ff3300"/>
              </a:solidFill>
              <a:miter/>
            </a:ln>
          </p:spPr>
        </p:pic>
        <p:sp>
          <p:nvSpPr>
            <p:cNvPr id="823" name="Text Box 11"/>
            <p:cNvSpPr/>
            <p:nvPr/>
          </p:nvSpPr>
          <p:spPr>
            <a:xfrm>
              <a:off x="396000" y="1897920"/>
              <a:ext cx="1706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ституция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РФ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24" name="Rectangle 13"/>
          <p:cNvSpPr/>
          <p:nvPr/>
        </p:nvSpPr>
        <p:spPr>
          <a:xfrm>
            <a:off x="2268360" y="1773360"/>
            <a:ext cx="5545440" cy="93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сновной закон стран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5" name="Picture 15" descr="j0233260"/>
          <p:cNvPicPr/>
          <p:nvPr/>
        </p:nvPicPr>
        <p:blipFill>
          <a:blip r:embed="rId2"/>
          <a:stretch/>
        </p:blipFill>
        <p:spPr>
          <a:xfrm>
            <a:off x="611280" y="3068640"/>
            <a:ext cx="1212840" cy="1170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26" name="Rectangle 17"/>
          <p:cNvSpPr/>
          <p:nvPr/>
        </p:nvSpPr>
        <p:spPr>
          <a:xfrm>
            <a:off x="2268360" y="3284640"/>
            <a:ext cx="5832720" cy="792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емейный кодек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7" name="Picture 19" descr="j0150102"/>
          <p:cNvPicPr/>
          <p:nvPr/>
        </p:nvPicPr>
        <p:blipFill>
          <a:blip r:embed="rId3"/>
          <a:stretch/>
        </p:blipFill>
        <p:spPr>
          <a:xfrm>
            <a:off x="395280" y="4437000"/>
            <a:ext cx="1657440" cy="124164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  <p:sp>
        <p:nvSpPr>
          <p:cNvPr id="828" name="Rectangle 21"/>
          <p:cNvSpPr/>
          <p:nvPr/>
        </p:nvSpPr>
        <p:spPr>
          <a:xfrm>
            <a:off x="2484360" y="4437000"/>
            <a:ext cx="5472360" cy="1079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Трудовой кодек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829" name="Group 23"/>
          <p:cNvGrpSpPr/>
          <p:nvPr/>
        </p:nvGrpSpPr>
        <p:grpSpPr>
          <a:xfrm>
            <a:off x="613440" y="5734080"/>
            <a:ext cx="1166760" cy="1415520"/>
            <a:chOff x="613440" y="5734080"/>
            <a:chExt cx="1166760" cy="1415520"/>
          </a:xfrm>
        </p:grpSpPr>
        <p:pic>
          <p:nvPicPr>
            <p:cNvPr id="830" name="Picture 24" descr="bd06876_"/>
            <p:cNvPicPr/>
            <p:nvPr/>
          </p:nvPicPr>
          <p:blipFill>
            <a:blip r:embed="rId4"/>
            <a:stretch/>
          </p:blipFill>
          <p:spPr>
            <a:xfrm>
              <a:off x="687240" y="5734080"/>
              <a:ext cx="1067040" cy="9558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831" name="Text Box 25"/>
            <p:cNvSpPr/>
            <p:nvPr/>
          </p:nvSpPr>
          <p:spPr>
            <a:xfrm>
              <a:off x="613440" y="6689880"/>
              <a:ext cx="11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Школа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2" name="Rectangle 27"/>
          <p:cNvSpPr/>
          <p:nvPr/>
        </p:nvSpPr>
        <p:spPr>
          <a:xfrm>
            <a:off x="2556000" y="5661000"/>
            <a:ext cx="5400720" cy="1008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3" name="Місце для нижнього колонтитула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1:09:45Z</dcterms:created>
  <dc:creator>USER</dc:creator>
  <dc:description/>
  <dc:language>en-US</dc:language>
  <cp:lastModifiedBy>LEGION</cp:lastModifiedBy>
  <dcterms:modified xsi:type="dcterms:W3CDTF">2015-01-28T10:10:45Z</dcterms:modified>
  <cp:revision>9</cp:revision>
  <dc:subject/>
  <dc:title>Слайд 1</dc:title>
</cp:coreProperties>
</file>