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6.gif" ContentType="image/gi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D9CE-6A09-4A36-8D22-8D6D3962567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жизни общества 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учитель обществознания МОУ СОШ №1 Коребо О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5131-EBF3-45EA-8FA9-169937580CBF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оявились зако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 Месопотам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до н.э. царь Хаммураппи создал целый свод законов, чтобы «дать сиять справедливости в стране, чтобы погубить беззаконных и злых, чтобы сильному не притеснять слабог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8EBA-DBFF-4CDB-8223-1B9F64E82948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м 387 г. до н.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коны 12 таблиц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авливали жесткие наказания для провинивш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вергали людей штраф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ставлял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зн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B3B1-FCE2-430D-9DEE-57BCFF99F0C4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право служит челове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момента рождения гражданин нашей страны имеет права –это называется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оспособ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действовать в соответствии со своими правами называется-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дееспособ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66AD-A9ED-4281-A875-BD01EE1B5821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наступает постепенно (стр 64-6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9AC4-7ECA-4893-8904-B4AB555FD6F3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A599-E9D8-48A3-9C1A-CEB3E8435E04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де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 65  3-й абзац, Интересны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AB03-AE19-45A5-8438-DC00A6CC8F45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нарушение права наступает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твет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неблагоприятные последствия наступающие за нарушен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поступки называют –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еступ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голо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3F0E-1E4F-4A8D-A341-A40A0DBC5BBC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67 исторический ф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 фразу: «Во все времена преступников наказывали по закону, потому что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сните, как право защищает людей от несправедливости и з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 детям нужны пра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2EB9-4700-416C-B7BB-EDE6FA658C7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9CEC-E649-4C20-B582-80165B06263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ля решения каких вопросов существует суд? Как в разные эпохи понимали, что такое «справедливый суд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можно защититься от несправедлив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 список действий, которые могут  вам повред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вать двери малознаком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лять вещи без присмотра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5351-E4F6-46BD-A1AC-69380BC1BFD0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ы ли сужд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должно помогать  человеку в трудно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ая в магазине дорогостоящую вещь, чек аккуратно выбрасывайте в мусорную корз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лучился конфликт, нужно сразу идти в с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являются защитниками пра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суда является последним и обжалованью не подлеж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9F52-9861-4D58-95AA-9A4415A465C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 и 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95CE-5B34-4167-A80D-EA7CB577DC6B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это система взаимосвязанных между собой юридических норм(правил), которые надо исполнять, иначе придется нести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AF1C-ECF8-44A9-AB56-10EA3A9C592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во выражается в разных источниках, например в закона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закон? (стр 62 2-й абза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Зак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ажный юридический документ, созданный особым путем, обязательный для испол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7CF7-28BE-4C04-B1BF-FFE7AE91580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ы законов пишут юрис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такие юрис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ческий факт (стр. 63 втор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D79E-6ED5-4E70-A12A-E0FD5D1AAA19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лению закона в силу предшествует сложная процед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1712-2CB2-44EC-AAAC-3902E222FD9F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сферы жизни человека регулируют раз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F2B9-4257-46FC-A1F1-4ABCBB334551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6A7F-B33C-4F06-BDF7-183BC4D2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AEB1-281A-4825-A7BB-EFE9D798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AEA8C-3476-4ED3-BC27-2C75F71C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A813B-192E-4F49-B602-B0F8F17D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B3460-D824-4522-8DCB-AC211D6F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23552-E904-43C8-8A94-CA02450E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CCEF7-203A-4D1F-A267-B6E57C22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A72DA-3644-4D73-AD64-5CC490FA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20E8E-7BA8-40C2-A334-CE84EE41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A3C4F-855B-4DC1-9046-EE2D1C2D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94D16-7CA7-4D12-9709-B3559A3A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16BD1-B06B-49AE-BEFE-022C1C49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C85-5806-41C7-894C-31C35328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4D340-2A67-4044-A078-B9C293FF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AE51A-2FD6-4CB9-B2C6-8D60E560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343DC-0E5F-4F83-BF2B-0FB320B1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65C91-CBE5-4361-B3E1-EC20F700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EBA6E-C077-4E57-A9D4-6E9D84BF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6B06E-846D-46E6-8285-3A2B924F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258F9-CBAE-4770-83E4-C436C5B7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EC021-63F4-49C7-839A-0A9A63E9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7B183-CB15-4264-92B5-8EEE1D1A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3F455-C4DC-45BD-ACE3-A84412B8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A9D-96EB-44C5-A7F6-E22EBCFE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77A3D-1BA5-46A7-AFF6-33FB8E10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A39EB-AD8F-4AD2-A831-ED794DE5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9FE7E-24D0-43DB-ADB3-FB3FEF1D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118DD-73DF-49F6-88F4-9CAAD9A7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851AD-45D9-4788-97B3-DEB4FB0E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90CA7-3EC1-43CC-B025-F237EC09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C5A33-B221-43F3-A366-36EC50B2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9B2C9-E723-4336-87A1-97A10CB7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5F2AD-7615-427A-9537-D813F0B3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B6447-513B-4AF0-8951-8A60F48B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6022-978B-4AE0-B5EF-0FF2616F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B1454-4539-4C6A-99E4-C7AB0964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7FDE1-A943-4A61-A5EA-A431511F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FBACB-8ED3-4455-A8E0-1682725D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81389-F258-4487-A893-6CF85B14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FD231-8207-474C-8A0B-ED54E156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EB08D-1175-471B-AF7A-C2E73206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7CCAD-36ED-4E25-ACDA-BD0D9B1A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5C46D-DB98-4FAB-A097-1D493E21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1F66F-E117-4F11-B7E3-8E778DA2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9CC36-8CE8-4EA7-B5CC-1DD37EB3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9EC3-8253-438D-AE8A-D7264445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B87BA-53FB-4CA2-BE0F-B21B5234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F3CE8-4F42-48A6-8F6D-AB9EA876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87996-0A07-462D-85CA-72A2349F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74CB1-0B9C-4CA5-9A88-EB3E98E9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540A4-35C2-4E7B-87E1-3FA61F13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9109D-5AEA-435F-B14B-CAC8604B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60E87-5628-4DEE-9892-7018C531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70A71-AD52-47CE-B895-94C69735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51E31-D334-4090-8748-C1126F41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131F4-7E5A-465F-AD55-145357C9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5F40-9F8F-44B3-9801-DE76F6AA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7204A9-6131-4DA7-BCC9-00A92048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C1113-1F31-4537-95B5-223F0D5B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1E7BA-E7E8-4186-AA5C-C6B34207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D64F2-11BD-40A5-A909-583122F9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A8FB9-413F-4211-9A70-BFEC0434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3A974-E3DF-4678-8621-C2D73660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8D845-836E-47F9-8838-CF1892A2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04C82D-EE75-4397-BD5D-41C895CD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13F9DC-4F17-461E-8115-286B4F80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A7B1FC-1EC4-40D7-B093-08122E98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3FCA-528F-46CF-8C59-11982CEB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B5BB37-E69B-4877-84C3-4CD365D7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55B8DF-88D2-40C8-97B9-EBC23923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B6492B-47ED-40BE-8C28-DD40511D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3CDBED-4574-4426-9167-8F4C572A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83431-5E87-487A-AFBB-2A22AD8D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AAD48C-0D74-49F8-8DD6-B3D1D07E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4438F-0D88-402E-AD37-FF86B313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9CAE3B-4C01-491C-8378-BAFFC432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CE6B0-811C-481F-82B9-072912D6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57F346-618E-402E-A307-B3C81864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C598-D43F-42D9-B723-D3D2CF22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A599F0-CABB-4717-B2FE-C5DDAFCD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08F571-E459-4361-8521-4DCD3E6F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3B7EE0-9457-4820-AF08-01906D0D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CE0B26-2171-443B-9720-2C225F87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4578DF-4487-416C-8C37-ECE3758E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5E5BA1-9898-496E-9B25-C5016F7A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5F88F-8BEE-4829-9014-85E1307D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BCA848-64B5-44B2-961E-053E21EB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027998-28AE-4036-A839-ADF5F187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9D34C7-DF85-41CC-8DF5-C1B428DC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8FA5-D0E4-47A2-8EC0-7ED04EBB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3C148D-4546-4338-BD31-FDF7DF1E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FC64-98FA-4FE2-95F3-A37EFAD2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CF9-615F-4176-8642-F74AD5AE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D42F-E1F6-4DE2-92F4-F34F1D58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75B7-349E-4025-8994-BB6A840A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8337-6382-4085-A691-095CD870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1F3C-6E58-48C1-8F67-65A7ED8D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4051-D135-49D7-ABD5-D4A0E284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1328F-FE12-4735-9AFB-9C4D9879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903AC-FCE8-4027-8ED4-071120B0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3FEA6-CBBD-4D1E-AEDC-00FACE64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0D6F2-619A-49EF-851E-C20C2865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03648-6F90-47ED-9F23-FCC7655F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3F5-3C84-4AF4-B49F-DF20BC12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234D4-9A6F-4450-B9D2-A17AA397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CA48E-E4BC-4FA1-9E80-D12E30B6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C3EC7-FBD1-4805-B1AC-B5154A87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AA904-9540-4963-B5A1-1DBA28FB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65968-672A-49D9-AAD1-74708041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339D5-A67D-4E5C-B417-02D2D8B8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31C40-410D-4400-AC04-C37D14BA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CE615-E5CC-48C7-AB36-58AB5D09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5EDF8-4320-47E9-8C3E-85B95622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44A49-E1E1-41D3-B2BC-DF694452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733D-3F38-4625-A715-8A7460AE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CC12A-AB92-47DB-8B14-8C2E40B7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089B9-74BA-4415-AA8F-52D1B7FD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FEA90-691F-40D8-BF15-CE539C7F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734D4-963F-44B5-A4A0-65F4BDFE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55C3D-6567-4767-A81C-2AECC898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5B580-0D97-48CB-BA42-F514AE86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3F31E-5554-4AAA-B2E6-ADDF73DE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298B2-2887-48BA-9624-AC8056A4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CACCA-FB14-420F-A168-7844DC97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DDDCD-0B88-4FB7-81D1-31E85CF2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495-6D4B-468B-B66F-D52EDBC4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718F9-626B-48AE-B871-6179BF94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55157-73DA-473B-A684-CC899C2D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546FA-4839-4D68-8E85-81F0FF6A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34E69-F883-41D8-A32F-A165FED3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DD59C-1CA0-4898-8D22-EE8C3D91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366A0-3A0E-497D-920B-DE07E23D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F66A8-1C7F-4B84-9C85-510DD0F5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71416-1FB1-4B77-8701-6CB330D4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13F64-8AB9-4F45-B7D9-4105B910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C7AC4-5731-48F0-B3A9-8C9C1F58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BC0-D090-44B3-9129-3C08924A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1DFC3-6EBE-4F25-A4C1-7F487282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D5F5D-75B4-405A-99D1-8450E8AF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5D4E2-94E3-45C7-A3F7-6BE8D1DA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AE3CD-1816-449E-ADBB-4C597765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5106F-614D-4A91-B2E7-D4E11C97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C0AE8-76ED-4EAA-B1FE-7FD5FA04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719A8-91C0-481F-B78C-9C6B4E63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52612-D22A-4B23-80E8-2DBB59AD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2ADA8-C500-4375-AA26-73676CC4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3AF24-D0D0-4C75-8BB7-E78FF225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378-4B02-4441-BCAE-51602068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DA552-9BF1-4935-A9A8-607A3158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674D6-0026-4E7A-9E41-009A3DBC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56D1B-B34F-4AB0-9BAE-FF6863A1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A3C9D-0C6C-4EAF-A734-62387836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5CBC5-61C3-4939-98D1-5418B4ED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FE2FA-4F55-41AA-8E2E-99C6B1A9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C3EC1-4419-47DD-BA1B-43F79414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4526F-D5FF-44A8-A160-A6B29105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C9534-45AB-477D-B4D2-EDCF8E16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E9C8F-28BB-4B34-846B-AC7F74B3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03B2-4E74-480D-A873-89AE48ED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4C076-0607-4072-A977-1DB8E824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2C0B6-4B76-4ADC-82FE-DB28DE2D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127D9-6228-44AF-A251-8DBBA32A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DC79A-71F0-43DD-96EF-2F2E0E17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1E96F-C47E-45C4-9A10-112E5E4B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D2FCC-0D7A-4E84-850F-A9DED746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6157D-F5BD-4F2F-87DE-0BC17594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CD3C2-F14A-4B0B-824F-D6C0CAFF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31CBD-CE9A-4E2D-B397-C2A0E187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4C470-2150-4766-B698-44792200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9C5E-87CA-496C-A5B8-14A027CB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48B11-0247-4008-884E-3A69419F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28938-5A60-4267-8A0F-DF8D4179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9EFF8-C072-498C-986F-570D9113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196F8-BF1F-4D7C-8D87-0EAF9ECC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5C70F-0D23-4F0D-B603-DD32DD3D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9491E-81C8-4FE5-ABB8-97030B1C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C8AE5-5BE9-4186-B3C8-60496154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890FA-F863-4B53-8CE8-0324FD36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4DAFC-9437-447A-9C0C-FC8802F6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A45FA-33CE-4F03-9AD0-A9F1598B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6C60-4E3C-4C3E-939F-485C629DBBD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3C82-8526-4FFB-BEAE-6B6BF91E51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61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2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63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4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5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6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7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68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F706-F87E-4F8B-A082-396D6CE2A19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0441-C29A-4AD7-91CC-3F1D457CD70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1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51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1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1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1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34ED-6713-47A2-92B8-E4753E0DBF4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239E-564F-4F07-AC2F-7191BFEF5E1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56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6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6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7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09EC-8033-4FC1-B7F4-F6230272BD7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175F-B5BB-497D-9E99-4D53D82E079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13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614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5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16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617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8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9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0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21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7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B591-0C8B-4084-8F2A-9841633082F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8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D2F7-A0C6-452A-B017-1AE90D13D5E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64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665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6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67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668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9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0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1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72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0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D1DC-37D4-470F-BC54-BB5D226BBC5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4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4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CD48-92E5-4FB1-9373-6472B40F4A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15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716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7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718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719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0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1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2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723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3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063C-B954-47C0-9751-E06DDEB570D2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4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5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2CC1-86C6-4CC2-BEE6-CD768339A46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795D-0BFC-4546-A49A-F4DD6A153E7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A2F2-F034-4C00-AD5C-585E951FED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104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6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107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8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9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11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410C-7BE9-47C8-902C-CF784B0FE2B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B3CD-90D9-48B3-952C-FBB49704814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155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7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158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62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C70E-BA3D-4D3B-9D52-E10D102F3AA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8939-7316-4726-B2C3-6C74219A6DB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06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08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209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0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1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13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5C68-A56D-467F-8358-93F5A48F1B3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BD89-12DB-45E3-97CB-367EB9A7CA0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6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57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8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59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260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1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2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4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2A96-8118-4F4F-8BA0-402B21459B4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87AD-7AE7-4D9E-9435-2C067AB06A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308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9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10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311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2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3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4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15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FC6F-9755-40A6-8914-9A044ED6797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1A41-50BD-4284-9E78-B2C928F13A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359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61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362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3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4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5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66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7B38-9B55-4A21-9578-AE014F4EBB4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B836-1926-4D8E-80BA-8BE1B287B7B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10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1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12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13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4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5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6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17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9B6F-17FC-49A2-A063-4D45C4984A0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C79C-A47D-4C1C-B4C4-4E1C2CBB4CD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749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оль права в жизни общества и челове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1371600" y="5219280"/>
            <a:ext cx="640080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дготовила учитель обществознания МОУ СОШ №1 Коребо О.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4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Когда появились законы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авитель Месопотамии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VIII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века до н.э. царь Хаммураппи создал целый свод законов, чтобы «дать сиять справедливости в стране, чтобы погубить беззаконных и злых, чтобы сильному не притеснять слабого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36" name="Picture 7" descr="j0297161"/>
          <p:cNvPicPr/>
          <p:nvPr/>
        </p:nvPicPr>
        <p:blipFill>
          <a:blip r:embed="rId1"/>
          <a:stretch/>
        </p:blipFill>
        <p:spPr>
          <a:xfrm>
            <a:off x="4067280" y="5013360"/>
            <a:ext cx="1657080" cy="1655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3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им 387 г. до н.э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Законы 12 таблиц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Устанавливали жесткие наказания для провинившихся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Подвергали людей штрафа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Заставляли загладить причиненный вре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Казнил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40" name="Group 8"/>
          <p:cNvGrpSpPr/>
          <p:nvPr/>
        </p:nvGrpSpPr>
        <p:grpSpPr>
          <a:xfrm>
            <a:off x="6934320" y="189000"/>
            <a:ext cx="2209680" cy="2406600"/>
            <a:chOff x="6934320" y="189000"/>
            <a:chExt cx="2209680" cy="2406600"/>
          </a:xfrm>
        </p:grpSpPr>
        <p:pic>
          <p:nvPicPr>
            <p:cNvPr id="841" name="Object 9" descr=""/>
            <p:cNvPicPr/>
            <p:nvPr/>
          </p:nvPicPr>
          <p:blipFill>
            <a:blip r:embed="rId1"/>
            <a:stretch/>
          </p:blipFill>
          <p:spPr>
            <a:xfrm>
              <a:off x="6934320" y="189000"/>
              <a:ext cx="2209680" cy="1527120"/>
            </a:xfrm>
            <a:prstGeom prst="rect">
              <a:avLst/>
            </a:prstGeom>
            <a:ln w="38160">
              <a:solidFill>
                <a:srgbClr val="0000cc"/>
              </a:solidFill>
              <a:miter/>
            </a:ln>
          </p:spPr>
        </p:pic>
        <p:sp>
          <p:nvSpPr>
            <p:cNvPr id="842" name="Text Box 10"/>
            <p:cNvSpPr/>
            <p:nvPr/>
          </p:nvSpPr>
          <p:spPr>
            <a:xfrm>
              <a:off x="7355880" y="1770120"/>
              <a:ext cx="1308600" cy="825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ревний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им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4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егодня право служит человеку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 момента рождения гражданин нашей страны имеет права –это называется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равоспособностью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озможность действовать в соответствии со своими правами называется-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ееспособность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46" name="Group 5"/>
          <p:cNvGrpSpPr/>
          <p:nvPr/>
        </p:nvGrpSpPr>
        <p:grpSpPr>
          <a:xfrm>
            <a:off x="5726880" y="2421000"/>
            <a:ext cx="2373840" cy="2513160"/>
            <a:chOff x="5726880" y="2421000"/>
            <a:chExt cx="2373840" cy="2513160"/>
          </a:xfrm>
        </p:grpSpPr>
        <p:pic>
          <p:nvPicPr>
            <p:cNvPr id="847" name="Picture 6" descr="j0078835"/>
            <p:cNvPicPr/>
            <p:nvPr/>
          </p:nvPicPr>
          <p:blipFill>
            <a:blip r:embed="rId1"/>
            <a:stretch/>
          </p:blipFill>
          <p:spPr>
            <a:xfrm>
              <a:off x="6090840" y="2421000"/>
              <a:ext cx="2009880" cy="20876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848" name="Text Box 7"/>
            <p:cNvSpPr/>
            <p:nvPr/>
          </p:nvSpPr>
          <p:spPr>
            <a:xfrm>
              <a:off x="5726880" y="4474440"/>
              <a:ext cx="20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     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С рождения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4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ееспособность наступает постепенно (стр 64-65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851" name=""/>
          <p:cNvGraphicFramePr/>
          <p:nvPr/>
        </p:nvGraphicFramePr>
        <p:xfrm>
          <a:off x="66204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-14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-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ееспособност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684360" y="1557360"/>
          <a:ext cx="7772400" cy="49928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-14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вершать мелкие бытовые сделк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Быть автором произведени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74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-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одрабатывать, самостоятельно распоряжаться доходам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Вносить вклады в банки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вершать сделки от своего имен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тановится взрослым человеком – полная дееспособность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а детей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тр 65  3-й абзац, Интересный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ак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58" name="Picture 5" descr="j0295182"/>
          <p:cNvPicPr/>
          <p:nvPr/>
        </p:nvPicPr>
        <p:blipFill>
          <a:blip r:embed="rId1"/>
          <a:stretch/>
        </p:blipFill>
        <p:spPr>
          <a:xfrm>
            <a:off x="611280" y="1628640"/>
            <a:ext cx="1800000" cy="1117800"/>
          </a:xfrm>
          <a:prstGeom prst="rect">
            <a:avLst/>
          </a:prstGeom>
          <a:ln w="0">
            <a:noFill/>
          </a:ln>
        </p:spPr>
      </p:pic>
      <p:sp>
        <p:nvSpPr>
          <p:cNvPr id="859" name="Rectangle 8"/>
          <p:cNvSpPr/>
          <p:nvPr/>
        </p:nvSpPr>
        <p:spPr>
          <a:xfrm>
            <a:off x="2771640" y="1628640"/>
            <a:ext cx="5616720" cy="1081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0" name="Picture 10" descr="j0344285"/>
          <p:cNvPicPr/>
          <p:nvPr/>
        </p:nvPicPr>
        <p:blipFill>
          <a:blip r:embed="rId2"/>
          <a:stretch/>
        </p:blipFill>
        <p:spPr>
          <a:xfrm>
            <a:off x="611280" y="5584680"/>
            <a:ext cx="1655640" cy="12733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861" name="Picture 14" descr="j0286972"/>
          <p:cNvPicPr/>
          <p:nvPr/>
        </p:nvPicPr>
        <p:blipFill>
          <a:blip r:embed="rId3"/>
          <a:stretch/>
        </p:blipFill>
        <p:spPr>
          <a:xfrm>
            <a:off x="684360" y="2852640"/>
            <a:ext cx="1655640" cy="1152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62" name="Rectangle 17"/>
          <p:cNvSpPr/>
          <p:nvPr/>
        </p:nvSpPr>
        <p:spPr>
          <a:xfrm>
            <a:off x="2700360" y="2852640"/>
            <a:ext cx="5688000" cy="792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. 65 последний абзац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3" name="Rectangle 18"/>
          <p:cNvSpPr/>
          <p:nvPr/>
        </p:nvSpPr>
        <p:spPr>
          <a:xfrm>
            <a:off x="2700360" y="5850000"/>
            <a:ext cx="5616720" cy="1008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. 66 3-й абзац, Исторический фак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4" name="Picture 24" descr="j0292082"/>
          <p:cNvPicPr/>
          <p:nvPr/>
        </p:nvPicPr>
        <p:blipFill>
          <a:blip r:embed="rId4"/>
          <a:stretch/>
        </p:blipFill>
        <p:spPr>
          <a:xfrm>
            <a:off x="684360" y="4221000"/>
            <a:ext cx="1584000" cy="1152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65" name="Rectangle 25"/>
          <p:cNvSpPr/>
          <p:nvPr/>
        </p:nvSpPr>
        <p:spPr>
          <a:xfrm>
            <a:off x="2700360" y="4365720"/>
            <a:ext cx="5688000" cy="8636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 66 2-й абзац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За нарушение права наступает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ответственност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894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Ответственность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– это неблагоприятные последствия наступающие за нарушение прав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пасные поступки называют –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еступлениям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Уголовная ответствен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69" name="Group 14"/>
          <p:cNvGrpSpPr/>
          <p:nvPr/>
        </p:nvGrpSpPr>
        <p:grpSpPr>
          <a:xfrm>
            <a:off x="324000" y="5013360"/>
            <a:ext cx="8064360" cy="1584360"/>
            <a:chOff x="324000" y="5013360"/>
            <a:chExt cx="8064360" cy="1584360"/>
          </a:xfrm>
        </p:grpSpPr>
        <p:sp>
          <p:nvSpPr>
            <p:cNvPr id="870" name="Line 9"/>
            <p:cNvSpPr/>
            <p:nvPr/>
          </p:nvSpPr>
          <p:spPr>
            <a:xfrm flipH="1">
              <a:off x="2411280" y="5013360"/>
              <a:ext cx="1152720" cy="360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1" name="Line 10"/>
            <p:cNvSpPr/>
            <p:nvPr/>
          </p:nvSpPr>
          <p:spPr>
            <a:xfrm>
              <a:off x="4427640" y="5013360"/>
              <a:ext cx="1081080" cy="360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2" name="Rectangle 11"/>
            <p:cNvSpPr/>
            <p:nvPr/>
          </p:nvSpPr>
          <p:spPr>
            <a:xfrm>
              <a:off x="324000" y="5445000"/>
              <a:ext cx="2952720" cy="11527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аступает с 16 лет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3" name="Rectangle 12"/>
            <p:cNvSpPr/>
            <p:nvPr/>
          </p:nvSpPr>
          <p:spPr>
            <a:xfrm>
              <a:off x="4500720" y="5373720"/>
              <a:ext cx="388764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 тяжкие (убийство,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ымогательство, теракт 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аступает с 14 лет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74" name="Місце для нижнього колонтитула 2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тр. 67 исторический факт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должите фразу: «Во все времена преступников наказывали по закону, потому что…..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ясните, как право защищает людей от несправедливости и зл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ак вы считаете детям нужны права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пасибо за внимание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оверка домашнего зад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1. Для решения каких вопросов существует суд? Как в разные эпохи понимали, что такое «справедливый суд»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2. Как можно защититься от несправедливости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одолжите список действий, которые могут  вам повредить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ткрывать двери малознакомы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ставлять вещи без присмотра…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7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ерны ли суждения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47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аво должно помогать  человеку в трудно ситуаци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иобретая в магазине дорогостоящую вещь, чек аккуратно выбрасывайте в мусорную корзин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Если случился конфликт, нужно сразу идти в суд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одители являются защитниками прав дете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ешение суда является последним и обжалованью не подлежит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аво и закон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авоспособность и дееспособ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иды пра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ветствен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20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раво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-это система взаимосвязанных между собой юридических норм(правил), которые надо исполнять, иначе придется нести ответственность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85" name="Group 18"/>
          <p:cNvGrpSpPr/>
          <p:nvPr/>
        </p:nvGrpSpPr>
        <p:grpSpPr>
          <a:xfrm>
            <a:off x="1191960" y="2924280"/>
            <a:ext cx="7136280" cy="2712960"/>
            <a:chOff x="1191960" y="2924280"/>
            <a:chExt cx="7136280" cy="2712960"/>
          </a:xfrm>
        </p:grpSpPr>
        <p:grpSp>
          <p:nvGrpSpPr>
            <p:cNvPr id="786" name="Group 5"/>
            <p:cNvGrpSpPr/>
            <p:nvPr/>
          </p:nvGrpSpPr>
          <p:grpSpPr>
            <a:xfrm>
              <a:off x="4122720" y="3213000"/>
              <a:ext cx="1730520" cy="2039040"/>
              <a:chOff x="4122720" y="3213000"/>
              <a:chExt cx="1730520" cy="2039040"/>
            </a:xfrm>
          </p:grpSpPr>
          <p:pic>
            <p:nvPicPr>
              <p:cNvPr id="787" name="Picture 6" descr="j0215541"/>
              <p:cNvPicPr/>
              <p:nvPr/>
            </p:nvPicPr>
            <p:blipFill>
              <a:blip r:embed="rId1"/>
              <a:stretch/>
            </p:blipFill>
            <p:spPr>
              <a:xfrm>
                <a:off x="4303800" y="3213000"/>
                <a:ext cx="1368360" cy="134892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788" name="Text Box 7"/>
              <p:cNvSpPr/>
              <p:nvPr/>
            </p:nvSpPr>
            <p:spPr>
              <a:xfrm>
                <a:off x="4122720" y="4792320"/>
                <a:ext cx="173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 Narrow"/>
                  </a:rPr>
                  <a:t>государство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89" name="Group 8"/>
            <p:cNvGrpSpPr/>
            <p:nvPr/>
          </p:nvGrpSpPr>
          <p:grpSpPr>
            <a:xfrm>
              <a:off x="1191960" y="3068640"/>
              <a:ext cx="2873160" cy="2503080"/>
              <a:chOff x="1191960" y="3068640"/>
              <a:chExt cx="2873160" cy="2503080"/>
            </a:xfrm>
          </p:grpSpPr>
          <p:sp>
            <p:nvSpPr>
              <p:cNvPr id="790" name="Text Box 9"/>
              <p:cNvSpPr/>
              <p:nvPr/>
            </p:nvSpPr>
            <p:spPr>
              <a:xfrm>
                <a:off x="1191960" y="4746240"/>
                <a:ext cx="2004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ff"/>
                    </a:solidFill>
                    <a:latin typeface="Arial Narrow"/>
                  </a:rPr>
                  <a:t>Поддерживает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ff"/>
                    </a:solidFill>
                    <a:latin typeface="Arial Narrow"/>
                  </a:rPr>
                  <a:t>право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791" name="Group 10"/>
              <p:cNvGrpSpPr/>
              <p:nvPr/>
            </p:nvGrpSpPr>
            <p:grpSpPr>
              <a:xfrm>
                <a:off x="1662120" y="3068640"/>
                <a:ext cx="2403000" cy="1733040"/>
                <a:chOff x="1662120" y="3068640"/>
                <a:chExt cx="2403000" cy="1733040"/>
              </a:xfrm>
            </p:grpSpPr>
            <p:pic>
              <p:nvPicPr>
                <p:cNvPr id="792" name="Picture 11" descr="j0344099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62120" y="3068640"/>
                  <a:ext cx="1066680" cy="1733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Line 12"/>
                <p:cNvSpPr/>
                <p:nvPr/>
              </p:nvSpPr>
              <p:spPr>
                <a:xfrm flipH="1">
                  <a:off x="2912760" y="3912840"/>
                  <a:ext cx="1152360" cy="0"/>
                </a:xfrm>
                <a:prstGeom prst="line">
                  <a:avLst/>
                </a:prstGeom>
                <a:ln w="76320">
                  <a:solidFill>
                    <a:srgbClr val="ff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4" name="Group 13"/>
            <p:cNvGrpSpPr/>
            <p:nvPr/>
          </p:nvGrpSpPr>
          <p:grpSpPr>
            <a:xfrm>
              <a:off x="5865840" y="2924280"/>
              <a:ext cx="2462400" cy="2712960"/>
              <a:chOff x="5865840" y="2924280"/>
              <a:chExt cx="2462400" cy="2712960"/>
            </a:xfrm>
          </p:grpSpPr>
          <p:grpSp>
            <p:nvGrpSpPr>
              <p:cNvPr id="795" name="Group 14"/>
              <p:cNvGrpSpPr/>
              <p:nvPr/>
            </p:nvGrpSpPr>
            <p:grpSpPr>
              <a:xfrm>
                <a:off x="6878160" y="2924280"/>
                <a:ext cx="1450080" cy="2712960"/>
                <a:chOff x="6878160" y="2924280"/>
                <a:chExt cx="1450080" cy="2712960"/>
              </a:xfrm>
            </p:grpSpPr>
            <p:pic>
              <p:nvPicPr>
                <p:cNvPr id="796" name="Picture 15" descr="j034352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82000" y="2924280"/>
                  <a:ext cx="885600" cy="1801440"/>
                </a:xfrm>
                <a:prstGeom prst="rect">
                  <a:avLst/>
                </a:prstGeom>
                <a:ln w="76320">
                  <a:solidFill>
                    <a:srgbClr val="ffcc00"/>
                  </a:solidFill>
                  <a:miter/>
                </a:ln>
              </p:spPr>
            </p:pic>
            <p:sp>
              <p:nvSpPr>
                <p:cNvPr id="797" name="Text Box 16"/>
                <p:cNvSpPr/>
                <p:nvPr/>
              </p:nvSpPr>
              <p:spPr>
                <a:xfrm>
                  <a:off x="6878160" y="4811760"/>
                  <a:ext cx="14500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ccff"/>
                      </a:solidFill>
                      <a:latin typeface="Arial Narrow"/>
                    </a:rPr>
                    <a:t>Защищает</a:t>
                  </a: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ccff"/>
                      </a:solidFill>
                      <a:latin typeface="Arial Narrow"/>
                    </a:rPr>
                    <a:t>право</a:t>
                  </a: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Line 17"/>
              <p:cNvSpPr/>
              <p:nvPr/>
            </p:nvSpPr>
            <p:spPr>
              <a:xfrm>
                <a:off x="5865840" y="3932280"/>
                <a:ext cx="1152360" cy="0"/>
              </a:xfrm>
              <a:prstGeom prst="line">
                <a:avLst/>
              </a:prstGeom>
              <a:ln w="7632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799" name="Місце для нижнього колонтитула 2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раво выражается в разных источниках, например в законах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Что такое закон? (стр 62 2-й абзац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Закон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– важный юридический документ, созданный особым путем, обязательный для исполнен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02" name="Group 7"/>
          <p:cNvGrpSpPr/>
          <p:nvPr/>
        </p:nvGrpSpPr>
        <p:grpSpPr>
          <a:xfrm>
            <a:off x="6227640" y="3933720"/>
            <a:ext cx="2663640" cy="2567520"/>
            <a:chOff x="6227640" y="3933720"/>
            <a:chExt cx="2663640" cy="2567520"/>
          </a:xfrm>
        </p:grpSpPr>
        <p:pic>
          <p:nvPicPr>
            <p:cNvPr id="803" name="Picture 8" descr="j0215689"/>
            <p:cNvPicPr/>
            <p:nvPr/>
          </p:nvPicPr>
          <p:blipFill>
            <a:blip r:embed="rId1"/>
            <a:stretch/>
          </p:blipFill>
          <p:spPr>
            <a:xfrm>
              <a:off x="6227640" y="3933720"/>
              <a:ext cx="2663640" cy="20822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804" name="Text Box 9"/>
            <p:cNvSpPr/>
            <p:nvPr/>
          </p:nvSpPr>
          <p:spPr>
            <a:xfrm>
              <a:off x="6543720" y="604152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 Narrow"/>
                </a:rPr>
                <a:t>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 Narrow"/>
                </a:rPr>
                <a:t>законы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0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ексты законов пишут юрист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то такие юристы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сторический факт (стр. 63 второй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08" name="Picture 7" descr="j0231077"/>
          <p:cNvPicPr/>
          <p:nvPr/>
        </p:nvPicPr>
        <p:blipFill>
          <a:blip r:embed="rId1"/>
          <a:stretch/>
        </p:blipFill>
        <p:spPr>
          <a:xfrm>
            <a:off x="2627280" y="3933720"/>
            <a:ext cx="3489480" cy="2232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0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ступлению закона в силу предшествует сложная процедура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1835280" y="2276640"/>
            <a:ext cx="4968720" cy="72072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Рассматривается в парламент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2" name="Line 6"/>
          <p:cNvSpPr/>
          <p:nvPr/>
        </p:nvSpPr>
        <p:spPr>
          <a:xfrm>
            <a:off x="4356000" y="3068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3" name="Rectangle 7"/>
          <p:cNvSpPr/>
          <p:nvPr/>
        </p:nvSpPr>
        <p:spPr>
          <a:xfrm>
            <a:off x="1763640" y="3500280"/>
            <a:ext cx="5113440" cy="86544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Утверждается Президенто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4" name="Line 9"/>
          <p:cNvSpPr/>
          <p:nvPr/>
        </p:nvSpPr>
        <p:spPr>
          <a:xfrm>
            <a:off x="4356000" y="436572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5" name="Rectangle 10"/>
          <p:cNvSpPr/>
          <p:nvPr/>
        </p:nvSpPr>
        <p:spPr>
          <a:xfrm>
            <a:off x="1763640" y="4724280"/>
            <a:ext cx="5256360" cy="79236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убликуется в СМ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6" name="Line 11"/>
          <p:cNvSpPr/>
          <p:nvPr/>
        </p:nvSpPr>
        <p:spPr>
          <a:xfrm flipH="1" flipV="1">
            <a:off x="4355640" y="4723920"/>
            <a:ext cx="71640" cy="7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7" name="Rectangle 12"/>
          <p:cNvSpPr/>
          <p:nvPr/>
        </p:nvSpPr>
        <p:spPr>
          <a:xfrm>
            <a:off x="755640" y="6021360"/>
            <a:ext cx="8064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Читать стр. 62 3-й абзац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18" name="Picture 14" descr="j0237460"/>
          <p:cNvPicPr/>
          <p:nvPr/>
        </p:nvPicPr>
        <p:blipFill>
          <a:blip r:embed="rId1"/>
          <a:stretch/>
        </p:blipFill>
        <p:spPr>
          <a:xfrm>
            <a:off x="7164360" y="2349360"/>
            <a:ext cx="1731960" cy="20163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1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Разные сферы жизни человека регулируют разные законы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21" name="Group 9"/>
          <p:cNvGrpSpPr/>
          <p:nvPr/>
        </p:nvGrpSpPr>
        <p:grpSpPr>
          <a:xfrm>
            <a:off x="396000" y="1628640"/>
            <a:ext cx="1706400" cy="1224000"/>
            <a:chOff x="396000" y="1628640"/>
            <a:chExt cx="1706400" cy="1224000"/>
          </a:xfrm>
        </p:grpSpPr>
        <p:pic>
          <p:nvPicPr>
            <p:cNvPr id="822" name="Picture 10" descr="ed00039_"/>
            <p:cNvPicPr/>
            <p:nvPr/>
          </p:nvPicPr>
          <p:blipFill>
            <a:blip r:embed="rId1"/>
            <a:stretch/>
          </p:blipFill>
          <p:spPr>
            <a:xfrm>
              <a:off x="463320" y="1628640"/>
              <a:ext cx="1584000" cy="1224000"/>
            </a:xfrm>
            <a:prstGeom prst="rect">
              <a:avLst/>
            </a:prstGeom>
            <a:ln w="76320">
              <a:solidFill>
                <a:srgbClr val="ff3300"/>
              </a:solidFill>
              <a:miter/>
            </a:ln>
          </p:spPr>
        </p:pic>
        <p:sp>
          <p:nvSpPr>
            <p:cNvPr id="823" name="Text Box 11"/>
            <p:cNvSpPr/>
            <p:nvPr/>
          </p:nvSpPr>
          <p:spPr>
            <a:xfrm>
              <a:off x="396000" y="1897920"/>
              <a:ext cx="1706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ституция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РФ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24" name="Rectangle 13"/>
          <p:cNvSpPr/>
          <p:nvPr/>
        </p:nvSpPr>
        <p:spPr>
          <a:xfrm>
            <a:off x="2268360" y="1773360"/>
            <a:ext cx="5545440" cy="93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сновной закон стран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5" name="Picture 15" descr="j0233260"/>
          <p:cNvPicPr/>
          <p:nvPr/>
        </p:nvPicPr>
        <p:blipFill>
          <a:blip r:embed="rId2"/>
          <a:stretch/>
        </p:blipFill>
        <p:spPr>
          <a:xfrm>
            <a:off x="611280" y="3068640"/>
            <a:ext cx="1212840" cy="1170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26" name="Rectangle 17"/>
          <p:cNvSpPr/>
          <p:nvPr/>
        </p:nvSpPr>
        <p:spPr>
          <a:xfrm>
            <a:off x="2268360" y="3284640"/>
            <a:ext cx="5832720" cy="792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емейный кодек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7" name="Picture 19" descr="j0150102"/>
          <p:cNvPicPr/>
          <p:nvPr/>
        </p:nvPicPr>
        <p:blipFill>
          <a:blip r:embed="rId3"/>
          <a:stretch/>
        </p:blipFill>
        <p:spPr>
          <a:xfrm>
            <a:off x="395280" y="4437000"/>
            <a:ext cx="1657440" cy="1241640"/>
          </a:xfrm>
          <a:prstGeom prst="rect">
            <a:avLst/>
          </a:prstGeom>
          <a:ln w="76320">
            <a:solidFill>
              <a:srgbClr val="ffffcc"/>
            </a:solidFill>
            <a:miter/>
          </a:ln>
        </p:spPr>
      </p:pic>
      <p:sp>
        <p:nvSpPr>
          <p:cNvPr id="828" name="Rectangle 21"/>
          <p:cNvSpPr/>
          <p:nvPr/>
        </p:nvSpPr>
        <p:spPr>
          <a:xfrm>
            <a:off x="2484360" y="4437000"/>
            <a:ext cx="5472360" cy="10796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Трудовой кодек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829" name="Group 23"/>
          <p:cNvGrpSpPr/>
          <p:nvPr/>
        </p:nvGrpSpPr>
        <p:grpSpPr>
          <a:xfrm>
            <a:off x="613440" y="5734080"/>
            <a:ext cx="1166760" cy="1415520"/>
            <a:chOff x="613440" y="5734080"/>
            <a:chExt cx="1166760" cy="1415520"/>
          </a:xfrm>
        </p:grpSpPr>
        <p:pic>
          <p:nvPicPr>
            <p:cNvPr id="830" name="Picture 24" descr="bd06876_"/>
            <p:cNvPicPr/>
            <p:nvPr/>
          </p:nvPicPr>
          <p:blipFill>
            <a:blip r:embed="rId4"/>
            <a:stretch/>
          </p:blipFill>
          <p:spPr>
            <a:xfrm>
              <a:off x="687240" y="5734080"/>
              <a:ext cx="1067040" cy="9558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831" name="Text Box 25"/>
            <p:cNvSpPr/>
            <p:nvPr/>
          </p:nvSpPr>
          <p:spPr>
            <a:xfrm>
              <a:off x="613440" y="6689880"/>
              <a:ext cx="11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Школа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2" name="Rectangle 27"/>
          <p:cNvSpPr/>
          <p:nvPr/>
        </p:nvSpPr>
        <p:spPr>
          <a:xfrm>
            <a:off x="2556000" y="5661000"/>
            <a:ext cx="5400720" cy="1008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3" name="Місце для нижнього колонтитула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1:09:45Z</dcterms:created>
  <dc:creator>USER</dc:creator>
  <dc:description/>
  <dc:language>en-US</dc:language>
  <cp:lastModifiedBy>LEGION</cp:lastModifiedBy>
  <dcterms:modified xsi:type="dcterms:W3CDTF">2015-01-28T10:10:45Z</dcterms:modified>
  <cp:revision>9</cp:revision>
  <dc:subject/>
  <dc:title>Слайд 1</dc:title>
</cp:coreProperties>
</file>