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F2D0-48C0-44FC-BC8B-4C4EDD109A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Учебная дисциплина 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“</a:t>
            </a: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РАВОВЕДЕНИЕ</a:t>
            </a:r>
            <a:r>
              <a:rPr b="1" lang="en-US" sz="1200" spc="-1" strike="noStrike">
                <a:solidFill>
                  <a:srgbClr val="1f497d"/>
                </a:solidFill>
                <a:latin typeface="Times New Roman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7. Значение законности и правопорядка в совреме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е. Правов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Times New Roman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 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 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E929-BB20-4CB7-9643-653AD7545C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Законность, правопоряд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общественный 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495F-5CE7-4D64-90E2-31FBBFFC0E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ПОРЯД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порядо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реализованная законность, со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рядоченных на основе норм права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представляет собой цель правового регулиров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торого принимаются законы и иные норм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е акты, осуществляется 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C3A3-6415-4468-BD1D-4A4680DF2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порядок всегда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ториче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отнош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законности. Поэтому укрепление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ее принципов в полном объеме неизбе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крепля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чем слабее реализуются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ности, тем слабее правопорядок и силь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, тем ниже защищенность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, уровень их личной безопас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D8D9-72D6-4700-A51D-B1C2775DE3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Гарантии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E543-871A-47AF-AF15-5C7A715B8C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Эконом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означают, что производство материальных бл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 и доходы граждан, государ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 и управление и частное предпринимательств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 материально обеспе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установленных законами прав и своб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х гражда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A5D3-1915-4262-9867-8702DA3F53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 Политически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е гарантии означают, что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свою политику в различных сферах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нтересах большинства граждан, реал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ах волю народа, обеспечивает соблю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 всеми должностными лицами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E65C-4F3B-41D7-948D-1A14634334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оциальные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ые законы принимаются в интересах тех или ины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социальных групп и приводятся в действие людьми, поэт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ализации закона не может не быть заинтересов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ов. К сожалению, далеко не всегда законы исполня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вольно, в том числе по вине должностных лиц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в обществе должны дей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осударственные средства обеспечения исполнен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а также способствующие отмене законов (и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актов или их отдельных положений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х дл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9086-6457-459D-A86E-300600A1B9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деологические гаранти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ческие гарантии подразумевают целенаправл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активное повышение правовых знаний у насел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бщей грамотности, уровня образования и культу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ение причин принятия тех или иных правовых акт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мнения граждан при разработке и совершенствов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, разъяснение в общедоступных формах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рядка применения правовых а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BF65-7C7A-4F06-A845-FA7E5A50E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е (правовые) гарантии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аются от других гаран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правовые нормы не только закрепляют сложившие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еделенное время экономические, полит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 некоторые духовные основы об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изменяют их посредством установления законами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я хозяйственной деятельности, порядка при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их решений, бюджетного финансирования разли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й деятельности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юридические гарантии включают собственные 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я законности и правопо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2E9-07C5-43FF-A748-0DEB89A0F6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РЫ УКРЕПЛЕНИЯ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84E6-A2BA-437F-9F47-7E7D4F6FF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нятие и принципы закон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72F8-0F61-4083-8D87-33044395E8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Совершенствование законодательства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ходя из интересов всего общества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ая мера. Она предполагает своевременн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 из потребностей общественной практ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овление законов, устранение в них пробе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тивореч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1847-2929-4C20-832F-FB2294CCD5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становление законами понятных, лег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быстро реализуемых правил обжал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й, действий и бездействия люб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ганов и должностных ли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обращ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целью признания любых актов или их отд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ений не соответствующими актам бол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й юридической силы, в том числе сам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C788-0935-445C-AB75-04F4A019F7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 Предотвращение правонарушений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с правонарушениями — важная государ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. Однако не менее важна и даже первична 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изации правонарушений по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едупреждения, устранения причин и услов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ющих их совершению. В идеале след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предотвращению любых, даже са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начительных правонарушений, особенно сре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вершеннолет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1A48-8EE2-45E2-A255-2B70707B45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 Привлечение правонарушителе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юридической ответственности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многих случаях данная мера не требует значи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ий государства. Вред же, который нанос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наказанными правонарушителями, многокра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ит затраты по привлечению их к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B3C5-4FAF-4F31-813F-26DAFF3E0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EE77-BDBC-4718-9B36-49A59FA92C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ЯТИЕ ПРАВОМЕРНОГО ПОВЕД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омерное повед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это поступки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е не противоречат правовым норм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оответствует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е нарушает правопоряд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е государство должно быть заинтересова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ерном поведении своих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яческ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107A-F683-4E08-8E8C-C6D5F6F5A3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правомерного пове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64B2-FF2C-494A-A6FE-ADC2494D8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с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гранич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D44-1E06-414E-840F-3A2DAB4AA7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Б Л А Г О Д А Р 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Verdana"/>
                <a:ea typeface="Arial"/>
              </a:rPr>
              <a:t>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D5B-8FB4-41E7-BBE3-0F0A60950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нятие законн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Законность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уклонное соблюдение норм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ми субъектами (участниками)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 (гражданами, организациям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ми органами, должностными лица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32D3-0D0D-460E-B15B-9E509FCA4B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НЦИПЫ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C995-B63F-4906-8AE2-D90AA8546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 Верховенство зако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главный принцип зако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означает, что закон облада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ш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ой по отношению к любым другим ак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FEA7-668A-425C-9D0D-5D34EB568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сеобщность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данным принципом любой закон дол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образно реализовываться на всей террит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а при осуществлении люб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 отношении любого лица: бедного или богат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ющего на начальственной должности, подчинен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безработного, атеиста или верующег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 исключает особенностей действия законов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ы в них сам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46A4-2E75-4F43-816F-02E7BA09FB9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щественная польз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значает, что должны приниматься толь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 законы, которые продиктованы потребностями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а, а не корыстными и иными субъективн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ми отдельных государственных дея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а вла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не в искусственном создании закон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том, чтобы открывать объективные законы в са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и и соответственно их формулировать, не навязы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ческой необходимости свои произволь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BEF6-0D99-4CA1-B030-7AB9FE92C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допустимость противопоставл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конности и целесообразност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данного принципа обусловлено объектив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м изменения отдельных положений зак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принятия новых законов от изменения и по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общественных отношений либо, напроти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беганием» закона вперед сложившихся обществ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0EA7-D2E1-457F-8BBC-68A95331B9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еотвратимость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 нарушение закона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ринцип одновременно является и принцип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ой ответственности, что лишь подчеркив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равовое значение. Неотвратимость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нарушение закона позволяет воплощать зако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ственной практике и поддерживать ее, без ч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останется отвлеченной теоретико-юрид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рук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762-127E-472F-9AB4-D7C81C7395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404-D2DE-4D31-9AA1-E7BF6100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2F4-6460-4340-A046-D3384216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A91D-ECA9-4549-8E91-B6C21A9D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BAE-F1E8-4DDF-A7B4-7F2DCD125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84FA-6AE0-4424-88A4-D7965C53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8703-9C24-490D-ABE4-EAC5313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C27-79FF-408C-A91B-8CED9536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B4E0-D075-42E7-887D-EE1ECFE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E6-BD54-481E-812E-CBE4AF81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6DD-F121-47CB-A6CB-8DF2BF02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53A-CF37-4022-961F-8689C777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DDB-3319-47E3-BB0B-129FDB2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B3F-7DD9-40F9-9004-A1164C7D8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18728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 дисциплина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ВОВЕД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1280" y="141300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7. Значение законности и правопорядка в современ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. Правовое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564000" y="263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042920" y="3429000"/>
            <a:ext cx="691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Законность, правопорядок и общественный поряд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Гарантии законности и правопоряд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55640" y="2781360"/>
            <a:ext cx="770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Законность, правопоря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общественный поряд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826920" y="981000"/>
            <a:ext cx="7490160" cy="45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опоряд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реализованная законность, состоя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орядоченных на основе норм права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представляет собой цель правового регулиров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оторого принимаются законы и иные норм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вые акты, осуществляется совершенств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датель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187280" y="1197000"/>
            <a:ext cx="6842160" cy="39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порядок всегда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ич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 отнош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законности. Поэтому укреплени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кон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лизация ее принципов в полном объеме неизбе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крепля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чем слабее реализуются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ности, тем слабее правопорядок и силь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л, тем ниже защищенность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ждан, уровень их личн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116000" y="2708280"/>
            <a:ext cx="71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00000" y="1125360"/>
            <a:ext cx="75596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Эконом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означают, что производство материальных бл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 и доходы граждан, государств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 и управление и частное предпринимательст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я собственности материально обеспечив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установленных законами прав и своб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х гражд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166760" y="1144440"/>
            <a:ext cx="578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58920" y="1341360"/>
            <a:ext cx="6624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олитически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е гарантии означают, что 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 свою политику в различных сферах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нтересах большинства граждан, реализ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онах волю народа, обеспечивает соблю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 всеми должностными лицами в государ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84360" y="620640"/>
            <a:ext cx="8064360" cy="55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е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ые законы принимаются в интересах тех или ины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их социальных групп и приводятся в действие людьми, поэт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ализации закона не может не быть заинтересов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бъектов. К сожалению, далеко не всегда законы исполн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вольно, в том числе по вине должностных лиц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, в обществе должны действо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государственные средства обеспечения исполнения люб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а также способствующие отмене законов (и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х актов или их отдельных положений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редных дл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755640" y="981000"/>
            <a:ext cx="7777080" cy="41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ологические гаран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ологические гарантии подразумевают целенаправл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активное повышение правовых знаний у насел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общей грамотности, уровня образования и культу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ъяснение причин принятия тех или иных правовых ак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т мнения граждан при разработке и совершенств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ов, разъяснение в общедоступных формах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рядка применения правовых а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692280"/>
            <a:ext cx="7993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ие (правовые) гарантии законности и 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ются от других гаран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первых, правовые нормы не только закрепляют сложившие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пределенное время экономические, полит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циальные и некоторые духовные основы обще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и изменяют их посредством установления законами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ения хозяйственной деятельности, порядка при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итических решений, бюджетного финансирования разл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ий деятельност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-вторых, юридические гарантии включают собственные м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репления законности и правопоря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76360" y="2852640"/>
            <a:ext cx="64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УКРЕПЛЕНИЯ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ПРАВОПОРЯ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116000" y="328464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онятие и принципы зако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116000" y="1341360"/>
            <a:ext cx="705636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Совершенствование законодате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я из интересов всего обществ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ая мера. Она предполагает своевреме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ходи из потребностей общественной практ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новление законов, устранение в них пробе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отивореч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900000" y="1052640"/>
            <a:ext cx="7704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ановление законами понятных, лег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быстро реализуемых правил обжал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й, действий и бездействия люб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ов и должностных л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обращ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признания любых актов или их отд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ений не соответствующими актам бо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ой юридической силы, в том числе сам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71640" y="1052640"/>
            <a:ext cx="712944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редотвращение правонарушений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рьба с правонарушениями — важная государст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Однако не менее важна и даже первична зада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имизации правонарушений по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х предупреждения, устранения причин и услов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ствующих их совершению. В идеале след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к предотвращению любых, даже са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начительных правонарушений, особенно сре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овершеннолет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826920" y="1125360"/>
            <a:ext cx="741708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ивлечение правонаруш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 юридической ответств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многих случаях данная мера не требует значи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лий государства. Вред же, который нанос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наказанными правонарушителями, многокра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восходит затраты по привлечению их к ответствен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835280" y="3213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равомерное повед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332000" y="765000"/>
            <a:ext cx="6553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ПРАВОМЕРН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равомерное по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это поступки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не противоречат правовым норм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оответствует зако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не нарушает правопоряд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ое государство должно быть заинтерес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авомерном поведении своих граж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сячески поддержи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19280" y="3284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правомерного повед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620640"/>
            <a:ext cx="784836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характеризуется осознанной и целенаправленной деятельностью для достижения какого-либо полез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ы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свойственно людям, для которых оно является способом удовлетворения прежде всего индивидуальных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сс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роявляется в том, что человек сознательно уклоняется от использования некоторых прав и свобод, даже если они принесут ему материальную вы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ранич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вомерное поведение получило такое название потому, что находится на грани правомерного и неправомер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900000" y="1844640"/>
            <a:ext cx="73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Б Л А Г О Д А Р 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Verdana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468360" y="5877000"/>
            <a:ext cx="7200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Зульфугарзаде Т.Э.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Финансовая академия при Правительстве Российской Федерации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42920" y="1484280"/>
            <a:ext cx="705816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Законность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уклонное соблюдение норм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и субъектами (участниками)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 (гражданами, организац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ми органами, должностными лица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116000" y="306864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Ы ЗАКО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187280" y="155736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Верховенство зак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главный принцип зако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означает, что закон облада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сш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ой по отношению к любым другим акт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971640" y="836640"/>
            <a:ext cx="748980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общ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ответствии с данным принципом любой закон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ообразно реализовываться на всей терр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а при осуществлении люб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в отношении любого лица: бедного или богат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ющего на начальственной должности, подчин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безработного, атеиста или верующего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не исключает особенностей действия законов, котор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ы в них сам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826920" y="765000"/>
            <a:ext cx="756144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ая поль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значает, что должны приниматься т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 законы, которые продиктованы потребностями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а, а не корыстными и иными субъективны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ставлениями отдельных государственных дея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 вла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не в искусственном создании закон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том, чтобы открывать объективные законы в са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и и соответственно их формулировать, не навязы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ческой необходимости свои произвольные реш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971640" y="981000"/>
            <a:ext cx="727236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пустимость противопо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ности и целесообраз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данного принципа обусловлено объектив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таванием изменения отдельных положений зак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ринятия новых законов от изменения и поя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вых общественных отношений либо, напроти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беганием» закона вперед сложившихся обще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ш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042920" y="907920"/>
            <a:ext cx="7201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нарушение зак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принцип одновременно является и принцип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ридической ответственности, что лишь подчерки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 правовое значение. Неотвратимость ответств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нарушение закона позволяет воплощать зако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ственной практике и поддерживать ее, без ч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а останется отвлеченной теоретико-юридиче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20:32:54Z</dcterms:created>
  <dc:creator>ТЗ</dc:creator>
  <dc:description/>
  <dc:language>en-US</dc:language>
  <cp:lastModifiedBy>LEGION</cp:lastModifiedBy>
  <dcterms:modified xsi:type="dcterms:W3CDTF">2015-01-28T10:12:12Z</dcterms:modified>
  <cp:revision>223</cp:revision>
  <dc:subject/>
  <dc:title>Правоведение</dc:title>
</cp:coreProperties>
</file>