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893D-7C12-48A8-BBA9-87092DBB3D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Учебная дисциплина 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АВОВЕДЕНИЕ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Значение законности и правопорядка в совреме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. 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 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 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CD2-9611-4D09-A240-DF685E66EC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6FD6-7AAE-4E00-AB85-6845E30B1A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ПОРЯ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реализованная законность,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х на основе норм права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ставляет собой цель правового регул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торого принимаются законы и иные норм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акты, осуществляется 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4946-FC6E-4809-9581-4659EFA260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орядок всегд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ич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законности. Поэтому укрепл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ее принципов в полном объеме неизбе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крепля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чем слабее реализуются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и, тем слабее правопорядок и силь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, тем ниже защищенность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, уровень их лич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C180-89BF-45D0-9BE4-84758F6262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0182-D501-4856-99A6-F0132E6DF9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Эконом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значают, что производство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 и доходы граждан, государ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и управление и частное предприниматель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 материально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установленных законами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граж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0136-4D09-417B-B77C-5AE7B775B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олит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гарантии означают, что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свою политику в различных сферах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нтересах большинства граждан, реал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ах волю народа, обеспечивает со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 всеми должностными лицами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035B-37EB-4CED-8979-B3147D00C8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циальны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законы принимаются в интересах тех или ины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социальных групп и приводятся в действие людьми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изации закона не может не быть заинтересов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ов. К сожалению, далеко не всегда законы испол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, в том числе по вине должностных л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в обществе должны дей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сударственные средства обеспечения исполнен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а также способствующие отмене законов (и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актов или их отдельных полож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х дл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4462-B6FE-4D9A-8FC0-3549A6EF8D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деологические гарант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ческие гарантии подразумевают целенаправ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ктивное повышение правовых знаний у насе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бщей грамотности, уровня образования и культу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ение причин принятия тех или иных правовых а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мнения граждан при разработке и совершенств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разъяснение в общедоступных формах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рядка применения правовых а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DA3F-7562-48EE-8D37-0CF00C5989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ются от других гаран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авовые нормы не только закрепляют сложивш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еделенное время экономические, полит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 некоторые духовные основы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изменяют их посредством установления законами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я хозяйственной деятельности, порядка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х решений, бюджетного финансирования разли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й деятель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юридические гарантии включают собственные 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аконности и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0F32-A813-40C6-AEE5-EA16CBB81A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РЫ УКРЕПЛЕНИЯ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030A-577D-4A46-9602-2957FB3B16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C895-BD7F-42D7-9619-66D03E1A55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овершенствование законодательств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ходя из интересов всего об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ая мера. Она предполагает своевременн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 из потребностей общественной практ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законов, устранение в них проб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реч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E8F2-50B8-49CB-80A2-832A0C29FE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становление законами понятных,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ыстро реализуемых правил обжал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й, действий и бездейств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ов и должностных ли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обра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ризнания любых актов или их отд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й не соответствующими актам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юридической силы, в том числе сам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E42-94C0-4958-A5F3-25D2865563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едотвращение правонарушени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правонарушениями — важная государ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. Однако не менее важна и даже первична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изации правонарушений по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едупреждения, устранения причин и услов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щих их совершению. В идеал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предотвращению любых,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ых правонарушений, особенно ср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769-C9D1-4B8F-BCB4-9CB63FB1BE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Привлечение правонаруш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юридической ответствен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многих случаях данная мера не требует значи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й государства. Вред же, который на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казанными правонарушителями, многокра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ит затраты по привлечению их к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63C-B420-469C-8F17-13B9A48995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A0FC-8C34-4698-87FD-E20D2CC499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МЕРНОГО П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оступки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не противоречат правовым норм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оответствует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 нарушает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государство должно быть заинтерес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ерном поведении свои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яческ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9600-4E10-4951-AF50-766D896C50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равомерного п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AE9C-3529-481F-8D97-FFDF442F45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с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грани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44E1-AC60-4D3F-BA96-DA9B3F91F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Б Л А Г О Д А Р 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B5A9-AADE-461F-B5D6-0E9BCE7101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ятие зако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Зако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уклонное соблюдение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 субъектами (участниками)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 (гражданами, организац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ми органами, должностными лица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802C-369E-4AB1-A9A0-E14E367C2E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CC46-41FB-434C-9CC7-0A62AB9726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Верховенство зако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ый принцип зако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значает, что закон облад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ш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й по отношению к любым другим а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07B1-C7B3-4F0A-8DA7-293D2E2597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общ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данным принципом любой закон дол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образно реализовываться на всей терри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 при осуществлении люб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отношении любого лица: бедного или бога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щего на начальственной должности, подчин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езработного, атеиста или верующег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 исключает особенностей действия законов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ы в них сам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1D90-52BB-4971-9230-5E49946EF0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ственная польз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значает, что должны приниматься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 законы, которые продиктованы потребностям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, а не корыстными и иными субъ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ми отдельных государственных дея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в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е в искусственном создании зако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том, чтобы открывать объективные законы в са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и соответственно их формулировать, не навязы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ой необходимости свои произволь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C2C1-83CD-477F-987F-49E1AC5FF3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допустимость противопост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ности и целесообраз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анного принципа обусловлено о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м изменения отдельных положений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ятия новых законов от изменения и по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общественных отношений либо, напроти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беганием» закона вперед сложившихся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337B-685D-4A4B-B707-7C529A3BB0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твратимость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нарушение зако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дновременно является и принц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й ответственности, что лишь подчер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равовое значение. Неотвратимость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закона позволяет воплощать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нной практике и поддерживать ее, без ч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останется отвлеченной теоретико-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D81D-AE7F-4329-BE99-72C5F5FE09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ABE-C398-47B5-8CDA-D25C82CA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D0F-1FD7-4438-B563-D745E5B2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974-926B-4361-97B9-A1BA335E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5DB-DBBA-4538-B945-92A021B7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132-ADD1-4F92-B4D8-0AC1FC79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F13-86A9-47A0-990F-6D90F927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5D7-AEE9-497F-A3FB-A97A263E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C27-2382-499C-B125-41E5725B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E53-24A4-4739-BDE3-8710BEDF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DF3-239E-4F66-BC7E-9416F235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8BB-2BD5-4660-909B-40534C0F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B4C-241F-4211-9723-63B661C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28AE-E0C1-47D2-82CE-D2FED8B46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7. Значение законности и правопорядка в соврем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. 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64000" y="26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42920" y="3429000"/>
            <a:ext cx="691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конность, правопорядок и общественный поряд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арантии законности и правопоря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78136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аконность, право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щественный поряд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981000"/>
            <a:ext cx="74901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реализованная законность,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енных на основе норм права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едставляет собой цель правового регул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торого принимаются законы и иные норм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акты, осуществляется совершен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1197000"/>
            <a:ext cx="6842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порядок все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и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от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законности. Поэтому укрепл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о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ее принципов в полном объеме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еп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чем слабее реализуются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ности, тем слабее правопорядок и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л, тем ниже защищенность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уровень их лич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16000" y="270828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00000" y="1125360"/>
            <a:ext cx="7559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коном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значают, что производство материальных б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 и доходы граждан, 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и управление и частное предприним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собственности материально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установленных законами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х гражд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66760" y="114444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341360"/>
            <a:ext cx="6624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лит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е гарантии означают, чт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 свою политику в различных сферах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есах большинства граждан,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онах волю народа, обеспечивает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 всеми должностными лицами в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620640"/>
            <a:ext cx="806436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ые законы принимаются в интересах тех или ины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социальных групп и приводятся в действие людьми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ализации закона не может не быть заинтерес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. К сожалению, далеко не всегда законы ис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вольно, в том числе по вине должностных л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 в обществе должны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средства обеспечения исполнения люб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а также способствующие отмене законов (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х актов или их отдельных положен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х дл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55640" y="981000"/>
            <a:ext cx="7777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ческие гаран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ческие гарантии подразумевают целенаправл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активное повышение правовых знаний у 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общей грамотности, уровня образования и куль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ъяснение причин принятия тех или иных правовых 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мнения граждан при разработке и совершенств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разъяснение в общедоступных формах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рядка применения правов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692280"/>
            <a:ext cx="7993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 законности и 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от других гаран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правовые нормы не только закрепляют сложивш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ределенное время экономические, поли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 некоторые духовные основы 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изменяют их посредством установления законам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ния хозяйственной деятельности, порядка при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х решений, бюджетного финансирования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й деятельно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юридические гарантии включают собственные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ения законности и право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285264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УКРЕПЛЕНИЯ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16000" y="328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16000" y="1341360"/>
            <a:ext cx="705636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вершенствование законод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я из интересов всего об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ая мера. Она предполагает своевреме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и из потребностей общественной прак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ие законов, устранение в них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тивор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00000" y="1052640"/>
            <a:ext cx="77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ановление законами понятных,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стро реализуемых правил обжал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, действий и бездействия люб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и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признания любых актов или их отд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й не соответствующими актам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юридической силы, в том числе сам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71640" y="1052640"/>
            <a:ext cx="71294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дотвращение правонару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правонарушениями — важная госуд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Однако не менее важна и даже первична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изации правонарушений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предупреждения, устранения причин и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ующих их совершению. В идеал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к предотвращению любых, даже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х правонарушений, особенно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вершеннолет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125360"/>
            <a:ext cx="74170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влечение правонаруш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юридической ответств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данная мера не требует знач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й государства. Вред же, который на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наказанными правонарушителями, многок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осходит затраты по привлечению их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35280" y="32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32000" y="765000"/>
            <a:ext cx="6553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МЕР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омер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оступки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не противоречат правовым н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оответствует зак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нарушает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государство должно быть заинтерес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мерном поведении свои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ячески поддержи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19280" y="328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мер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620640"/>
            <a:ext cx="784836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ани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Б Л А Г О Д А Р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5877000"/>
            <a:ext cx="720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Зульфугарзаде Т.Э.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инансовая академия при Правительстве Российской Федерации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484280"/>
            <a:ext cx="7058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уклонное соблюдение норм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 субъектами (участниками)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 (гражданами, организац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ми органами, должностными лиц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16000" y="3068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87280" y="155736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ерховенство зак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ый принцип зако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означает, что закон облад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ой по отношению к любым другим ак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836640"/>
            <a:ext cx="74898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анным принципом любой закон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образно реализовываться на все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а при осуществлении люб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отношении любого лица: бедного или бога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го на начальственной должности, подчин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безработного, атеиста или верующе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 исключает особенностей действия закон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них сам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920" y="765000"/>
            <a:ext cx="75614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ая поль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значает, что должны приниматься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 законы, которые продиктованы потребностям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а, а не корыстными и иными субъекти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ями отдельных государственных дея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в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е в искусственном создании зако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том, чтобы открывать объективные законы в са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и и соответственно их формулировать, не навязы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ой необходимости свои произвольны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981000"/>
            <a:ext cx="72723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пустимость противопо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ности и целесообраз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анного принципа обусловлено объек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аванием изменения отдельных положений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ринятия новых законов от изменения и п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общественных отношений либо, напрот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беганием» закона вперед сложившихся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42920" y="907920"/>
            <a:ext cx="7201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рушение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дновременно является и принц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ой ответственности, что лишь подче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авовое значение. Неотвратимость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арушение закона позволяет воплощать 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нной практике и поддерживать ее, без 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станется отвлеченной теоретико-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10:12:12Z</dcterms:modified>
  <cp:revision>223</cp:revision>
  <dc:subject/>
  <dc:title>Правоведение</dc:title>
</cp:coreProperties>
</file>