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63E1-7B9D-4844-B833-0C7C8841F1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Учебная дисциплина 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“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АВОВЕДЕНИЕ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7. Значение законности и правопорядка в совреме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. Правов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 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 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B808-5CB2-4727-8213-005BA7928C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0B8F-A79C-4EA7-93BA-2E89EC179A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ПОРЯД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реализованная законность,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ных на основе норм права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ставляет собой цель правового регул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торого принимаются законы и иные норм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акты, осуществляется 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C386-5ABD-4690-899E-733AB34F4F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орядок всегд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торич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законности. Поэтому укрепл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ее принципов в полном объеме неизбе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крепля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чем слабее реализуются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и, тем слабее правопорядок и силь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, тем ниже защищенность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, уровень их лич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0759-33E5-458C-8C20-5A53213D89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5F6E-1128-44C7-846B-E3DB5CD8AF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Эконом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значают, что производство материальн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 и доходы граждан, государ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и управление и частное предприниматель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 материально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установленных законами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граж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3983-6CA5-45F9-B0FD-5E724D1F6F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олит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гарантии означают, что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свою политику в различных сферах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нтересах большинства граждан, реал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ах волю народа, обеспечивает со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 всеми должностными лицами в государ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BF61-03B5-4B00-9556-77263066CF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циальны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законы принимаются в интересах тех или ины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х социальных групп и приводятся в действие людьми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изации закона не может не быть заинтересов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ов. К сожалению, далеко не всегда законы испол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, в том числе по вине должностных л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в обществе должны дей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сударственные средства обеспечения исполнен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а также способствующие отмене законов (и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х актов или их отдельных полож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х дл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068A-9543-4D12-B440-8E9D5B0F93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деологические гаранти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ческие гарантии подразумевают целенаправ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ктивное повышение правовых знаний у насе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общей грамотности, уровня образования и культу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ение причин принятия тех или иных правовых а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мнения граждан при разработке и совершенств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разъяснение в общедоступных формах смы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рядка применения правовых а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C627-C3E6-4EA5-A5B5-EC5D191898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 законности 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ются от других гаран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авовые нормы не только закрепляют сложившие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еделенное время экономические, полит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 некоторые духовные основы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изменяют их посредством установления законами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я хозяйственной деятельности, порядка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х решений, бюджетного финансирования разли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й деятель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юридические гарантии включают собственные 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я законности и правопо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0BCD-00B0-4F8C-BCBA-35F63DDF1B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РЫ УКРЕПЛЕНИЯ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33D1-A9C3-432C-8F57-8DCDB475F9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B5A2-2E3C-4BC6-A27B-A1C13765C4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овершенствование законодательств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ходя из интересов всего обществ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ая мера. Она предполагает своевременно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 из потребностей общественной практ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овление законов, устранение в них проб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реч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C37C-89E4-48E5-AE85-240FD9D882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становление законами понятных,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быстро реализуемых правил обжал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й, действий и бездейств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ов и должностных ли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обращ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ризнания любых актов или их отд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й не соответствующими актам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юридической силы, в том числе сам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8C6D-C5FE-4194-98D1-FDDD0CB08E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редотвращение правонарушений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с правонарушениями — важная государ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. Однако не менее важна и даже первична 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изации правонарушений посред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едупреждения, устранения причин и услов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щих их совершению. В идеале след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предотвращению любых,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ых правонарушений, особенно ср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E77F-15C3-4382-A9C5-80FFC120D6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Привлечение правонаруши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 юридической ответственности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многих случаях данная мера не требует значи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й государства. Вред же, который на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наказанными правонарушителями, многокра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ит затраты по привлечению их к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7A8A-94E2-4A62-A5D4-2203218F4A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1089-D03F-49DF-97FA-149E33BA2E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МЕРНОГО ПО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поступки челов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не противоречат правовым норм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оответствует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 нарушает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государство должно быть заинтерес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ерном поведении свои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ячески поддерживать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BFF6-8D4B-4DFD-AFBA-C4ABE573E3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равомерного п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68C0-FF59-4783-AD88-387EA30B6D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ы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с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грани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469E-4E64-42CA-877F-3B057CD0AF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Б Л А Г О Д А Р 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1C93-54BA-4601-B4A3-0E35478383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нятие закон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Зако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уклонное соблюдение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 субъектами (участниками)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 (гражданами, организац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ми органами, должностными лица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535A-39CD-453F-B405-1E66CA873F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4EA3-DA54-428A-8951-84BBE28BAE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Верховенство зако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ый принцип зако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значает, что закон облад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ш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й по отношению к любым другим а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5A43-C8BC-4CC5-9CD7-F8313ACE80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сеобщнос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данным принципом любой закон дол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образно реализовываться на всей терри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 при осуществлении люб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отношении любого лица: бедного или бога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ющего на начальственной должности, подчин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езработного, атеиста или верующег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 исключает особенностей действия законов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ы в них сам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A99F-F303-484D-8EE6-747385B3DC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щественная польз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значает, что должны приниматься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 законы, которые продиктованы потребностям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, а не корыстными и иными субъ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ми отдельных государственных дея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в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е в искусственном создании зако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том, чтобы открывать объективные законы в са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и соответственно их формулировать, не навязы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ческой необходимости свои произволь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FC97-575C-4012-9C90-127912A5CB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допустимость противопост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ности и целесообраз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анного принципа обусловлено о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м изменения отдельных положений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ятия новых законов от изменения и по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общественных отношений либо, напроти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беганием» закона вперед сложившихся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ABFE-462D-4D92-AAD8-5DC9DFE0D7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отвратимость ответств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 нарушение закон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дновременно является и принц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й ответственности, что лишь подчер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равовое значение. Неотвратимость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арушение закона позволяет воплощать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нной практике и поддерживать ее, без ч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останется отвлеченной теоретико-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CEF9-D804-4988-A7D7-E652B9E68B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C686-5962-4C1D-930B-3A13228C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4BA-ECCD-45FD-BD29-E04D1F8D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002-8B65-4368-890D-E33D57B5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9C0C-9160-414C-9061-A5DA71A2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CA51-BD0F-48C0-BF8E-BD268340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70E-3A41-49C5-BFDE-C11A9EAD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6A1-68EF-43F6-8981-DAE63B79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B48C-0774-4CBA-A506-D70FAA10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039-84A0-41CF-90DB-CD2A10DB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826-E778-4077-860C-A67E8BCD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042-AFDE-4EED-AE83-033F4F0C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D06-8781-42C1-AC2A-4A3F6AB6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959D-FE84-431B-A702-FF07611D2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18728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бная дисципли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ОВЕД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141300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7. Значение законности и правопорядка в современ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. Правовое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564000" y="26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042920" y="3429000"/>
            <a:ext cx="6913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конность, правопорядок и общественный поряд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Гарантии законности и правопоряд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55640" y="278136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Законность, право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общественный поряд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26920" y="981000"/>
            <a:ext cx="749016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поряд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реализованная законность, 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рядоченных на основе норм права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редставляет собой цель правового регул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торого принимаются законы и иные норм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ые акты, осуществляется совершен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д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187280" y="1197000"/>
            <a:ext cx="6842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порядок всегд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торич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отно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законности. Поэтому укреплен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ко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ее принципов в полном объеме неизбе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реп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чем слабее реализуются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ности, тем слабее правопорядок и силь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л, тем ниже защищенность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ждан, уровень их лич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116000" y="2708280"/>
            <a:ext cx="712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Гарантии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00000" y="1125360"/>
            <a:ext cx="75596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Эконом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значают, что производство материальных бл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 и доходы граждан, государ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ство и управление и частное предприниматель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я собственности материально обеспечи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установленных законами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х гражд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66760" y="114444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58920" y="1341360"/>
            <a:ext cx="6624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лит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е гарантии означают, что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 свою политику в различных сферах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нтересах большинства граждан, реализ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онах волю народа, обеспечивает соблю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 всеми должностными лицами в государ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4360" y="620640"/>
            <a:ext cx="806436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ые законы принимаются в интересах тех или ины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х социальных групп и приводятся в действие людьми, поэт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ализации закона не может не быть заинтересов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. К сожалению, далеко не всегда законы исполн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вольно, в том числе по вине должностных л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, в обществе должны дей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осударственные средства обеспечения исполнения люб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а также способствующие отмене законов (и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х актов или их отдельных положени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дных дл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755640" y="981000"/>
            <a:ext cx="77770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еологические гаран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ологические гарантии подразумевают целенаправл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активное повышение правовых знаний у насе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общей грамотности, уровня образования и культу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ъяснение причин принятия тех или иных правовых ак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мнения граждан при разработке и совершенств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разъяснение в общедоступных формах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рядка применения правовых а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692280"/>
            <a:ext cx="79930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 законности и право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ются от других гаран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первых, правовые нормы не только закрепляют сложивши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пределенное время экономические, полит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ые и некоторые духовные основы обще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изменяют их посредством установления законами прав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ения хозяйственной деятельности, порядка при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х решений, бюджетного финансирования разл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й деятельност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вторых, юридические гарантии включают собственные 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репления законности и правопоря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76360" y="2852640"/>
            <a:ext cx="64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УКРЕПЛЕНИЯ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116000" y="328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116000" y="1341360"/>
            <a:ext cx="705636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Совершенствование законодатель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я из интересов всего общест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ая мера. Она предполагает своевремен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и из потребностей общественной практ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новление законов, устранение в них пробе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тиворе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900000" y="1052640"/>
            <a:ext cx="77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ановление законами понятных, лег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ыстро реализуемых правил обжал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й, действий и бездействия люб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ов и должностных л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обра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целью признания любых актов или их отд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й не соответствующими актам 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й юридической силы, в том числе сам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71640" y="1052640"/>
            <a:ext cx="712944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едотвращение правонаруш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ьба с правонарушениями — важная государст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. Однако не менее важна и даже первична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изации правонарушений по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предупреждения, устранения причин и услов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ствующих их совершению. В идеале след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к предотвращению любых, даже са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начительных правонарушений, особенно с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вершеннолет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826920" y="1125360"/>
            <a:ext cx="741708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ивлечение правонаруш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юридической ответственност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гих случаях данная мера не требует знач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й государства. Вред же, который нанос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наказанными правонарушителями, многок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осходит затраты по привлечению их к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835280" y="32130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332000" y="765000"/>
            <a:ext cx="6553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МЕРНОГО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омерное по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поступки челов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не противоречат правовым норм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оответствует зак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е нарушает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е государство должно быть заинтересов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вомерном поведении свои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сячески поддержи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619280" y="3284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равомерного пове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84360" y="620640"/>
            <a:ext cx="784836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ы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сс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рани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00000" y="184464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Б Л А Г О Д А Р 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68360" y="5877000"/>
            <a:ext cx="720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Зульфугарзаде Т.Э.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Финансовая академия при Правительстве Российской Федерации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42920" y="1484280"/>
            <a:ext cx="70581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ие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кон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уклонное соблюдение норм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и субъектами (участниками)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 (гражданами, организац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ми органами, должностными лиц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116000" y="306864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Ы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187280" y="155736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Верховенство зако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ый принцип зако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означает, что закон облада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ш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ой по отношению к любым другим ак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971640" y="836640"/>
            <a:ext cx="748980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общ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ответствии с данным принципом любой закон дол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ообразно реализовываться на всей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а при осуществлении люб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отношении любого лица: бедного или бога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ющего на начальственной должности, подчин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безработного, атеиста или верующего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 исключает особенностей действия законов, котор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ы в них сам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826920" y="765000"/>
            <a:ext cx="756144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ая поль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значает, что должны приниматься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 законы, которые продиктованы потребностями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а, а не корыстными и иными субъектив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ями отдельных государственных дея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вла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не в искусственном создании зако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том, чтобы открывать объективные законы в са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и и соответственно их формулировать, не навязы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ческой необходимости свои произвольные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71640" y="981000"/>
            <a:ext cx="727236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пустимость противопо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ности и целесообраз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анного принципа обусловлено объекти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таванием изменения отдельных положений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ринятия новых законов от изменения и по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общественных отношений либо, напроти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беганием» закона вперед сложившихся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042920" y="907920"/>
            <a:ext cx="7201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твратимость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нарушение зак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дновременно является и принци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ой ответственности, что лишь подчерк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авовое значение. Неотвратимость ответ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нарушение закона позволяет воплощать 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нной практике и поддерживать ее, без 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останется отвлеченной теоретико-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LEGION</cp:lastModifiedBy>
  <dcterms:modified xsi:type="dcterms:W3CDTF">2015-01-28T10:12:12Z</dcterms:modified>
  <cp:revision>223</cp:revision>
  <dc:subject/>
  <dc:title>Правоведение</dc:title>
</cp:coreProperties>
</file>