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D43D-858F-44FB-B5F6-6633F3B084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Calibri"/>
              </a:rPr>
              <a:t>Автор: Коробков А.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Calibri"/>
              </a:rPr>
              <a:t>МОУ ЖСОШ №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Calibri"/>
              </a:rPr>
              <a:t>2010 год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8D4B-DE51-4B19-9171-73A1181455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3C2E-486E-4DAC-93BC-2E405E2189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Calibri"/>
              </a:rPr>
              <a:t>Пл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Конституция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Закон РФ «О безопасности» (1992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ФЗ «О защите населения и территорий от ЧС природного и техногенного характера» (1994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ФЗ «О пожарной безопасности» (1994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ФЗ «Об обороне» (1996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ФЗ «О гражданской обороне» (1998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5BF3-E9F8-43B0-9B8A-82F10EB2C8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Конституция РФ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– основной закон государства. Она представляет право человеку на обеспечение своей личной безопасности, безопасности семьи и имущества. Государство обязано принимать все необходимые меры для обеспечения этого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днако, с гарантией безопасности Конституция возлагает на граждан РФ и определенные обязанности по обеспечению безопасности самого государства и его граждан. К ним относится и долг по защите Отечества и несению военной служ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D0A7-802B-4B52-8AB6-C192E1F0BA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Закон РФ «О безопасности»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закрепляет правовую основу обеспечения безопасности личности, общества и государства. В нем определены система безопасности и ее функции, разграничение полномочий органов власти в системе безопасности, силы и средства обеспечения безопасности, определены статус Совета Безопасности РФ, его состав и задачи, установлен порядок организации и финансирования органов обеспечения безопасности, порядок надзора и контроля за законностью их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D499-92D8-4AFC-8B87-5BF85E22C8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ФЗ «О защите населения и территорий от ЧС природного и техногенного характера»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определяет нормы в области защиты граждан РФ, иностранных граждан и лиц без гражданства от ЧС, и нормы социальной защиты пострадавших от Ч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9353-F6A7-460C-840B-57A180F5A9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ФЗ «О пожарной безопасности»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пределяет общие правовые, экономические и социальные основы обеспечения пожарной безопасности 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Законом предусмотрено обязательное обучение населения, в том числе и школьников, мерам пожарной безопас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В законе определены права,  обязанности и ответственность  граждан РФ в области пожарной безопас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AA08-519C-4543-A2B5-E022C3F316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ФЗ «Об обороне»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пределяет основы и организацию обороны РФ, полномочия органов власти субъектов, организаций и должностных лиц, права и обязанности граждан в области обороны, силы и средства, ответств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6B26-EFAB-4E48-B4EB-A12AAB7E79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ФЗ «Об обороне»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тмечает, что граждане РФ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исполняют воинскую обязанность в соответствии с ФЗ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ринимают участие в мероприятиях по гражданской и территориальной оборо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могут создавать организации и общественные объединения, содействующие укреплению оборо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редоставляют в военное время для нужд обороны здания, сооружения, транспорт и имущ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1147-FE8B-4A49-8D3D-ECF39D419E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ФЗ «О гражданской обороне»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пределяет задачи в области гражданской обороны (ГО) и правовые основы их осущест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28C2-FC9C-4EAD-BF21-FFA2EBD9F9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9977-EF0D-4284-BC27-E497121B1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A306-0F65-4854-B94E-5A60414D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F3C0-AC17-4227-BA92-01074FCD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5E4E-3502-46CF-A22D-E26F09FAA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F589-C537-40AF-B43D-444B38ED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C12E-040C-4F79-A56B-0480C5FB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18BE-3E41-44CB-9844-EBCA4FC0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A6AB-1C80-456E-B447-E8E0BA75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4090-AC79-4A85-BAC8-DF41D16C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B787-8ADD-4C0D-93A9-795FCF69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8165-6565-4FEC-88DD-A597D7FA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A6B1-3D9D-448D-BA30-9DE5697F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D571-74F8-4DBE-B349-B584F5CF61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5872320"/>
            <a:ext cx="370512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втор: Коробков А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У ЖСОШ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Documents and Settings\AVK\Рабочий стол\Новая папка\47102.jpg"/>
          <p:cNvPicPr/>
          <p:nvPr/>
        </p:nvPicPr>
        <p:blipFill>
          <a:blip r:embed="rId1"/>
          <a:stretch/>
        </p:blipFill>
        <p:spPr>
          <a:xfrm>
            <a:off x="2357280" y="2286000"/>
            <a:ext cx="4786560" cy="35496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gerb"/>
          <p:cNvPicPr/>
          <p:nvPr/>
        </p:nvPicPr>
        <p:blipFill>
          <a:blip r:embed="rId1"/>
          <a:stretch/>
        </p:blipFill>
        <p:spPr>
          <a:xfrm>
            <a:off x="179280" y="765000"/>
            <a:ext cx="1047960" cy="1133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флаг"/>
          <p:cNvPicPr/>
          <p:nvPr/>
        </p:nvPicPr>
        <p:blipFill>
          <a:blip r:embed="rId2"/>
          <a:stretch/>
        </p:blipFill>
        <p:spPr>
          <a:xfrm>
            <a:off x="8101080" y="765000"/>
            <a:ext cx="1042920" cy="762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КАВ - ФОТО"/>
          <p:cNvPicPr/>
          <p:nvPr/>
        </p:nvPicPr>
        <p:blipFill>
          <a:blip r:embed="rId3"/>
          <a:stretch/>
        </p:blipFill>
        <p:spPr>
          <a:xfrm>
            <a:off x="4597560" y="765000"/>
            <a:ext cx="3314520" cy="4896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8"/>
          <p:cNvSpPr txBox="1"/>
          <p:nvPr/>
        </p:nvSpPr>
        <p:spPr>
          <a:xfrm>
            <a:off x="395280" y="1557360"/>
            <a:ext cx="46083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   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Спасиб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за внимание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90" name="WordArt 9"/>
          <p:cNvSpPr txBox="1"/>
          <p:nvPr/>
        </p:nvSpPr>
        <p:spPr>
          <a:xfrm>
            <a:off x="755640" y="4365720"/>
            <a:ext cx="3240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втор: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РОБКОВ А.В.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WordArt 10"/>
          <p:cNvSpPr txBox="1"/>
          <p:nvPr/>
        </p:nvSpPr>
        <p:spPr>
          <a:xfrm>
            <a:off x="7164360" y="5805360"/>
            <a:ext cx="12286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2010 г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2" name="WordArt 11"/>
          <p:cNvSpPr txBox="1"/>
          <p:nvPr/>
        </p:nvSpPr>
        <p:spPr>
          <a:xfrm>
            <a:off x="179280" y="5445000"/>
            <a:ext cx="849816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У "Жиздринская средняя общеобразовательная школа №1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Конституция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Закон РФ «О безопасности» (1992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ФЗ «О защите населения и территорий от ЧС природного и техногенного характера» (1994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ФЗ «О пожарной безопасности» (1994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ФЗ «Об обороне» (1996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ФЗ «О гражданской обороне» (1998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C:\Documents and Settings\AVK\Рабочий стол\Новая папка\Const.jpg"/>
          <p:cNvPicPr/>
          <p:nvPr/>
        </p:nvPicPr>
        <p:blipFill>
          <a:blip r:embed="rId1"/>
          <a:stretch/>
        </p:blipFill>
        <p:spPr>
          <a:xfrm>
            <a:off x="6357960" y="4286160"/>
            <a:ext cx="2246400" cy="22464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50036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Конституция РФ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– основной закон государства. Она представляет право человеку на обеспечение своей личной безопасности, безопасности семьи и имущества. Государство обязано принимать все необходимые меры для обеспечения этого пра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днако, с гарантией безопасности Конституция возлагает на граждан РФ и определенные обязанности по обеспечению безопасности самого государства и его граждан. К ним относится и долг по защите Отечества и несению военной служб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C:\Documents and Settings\AVK\Рабочий стол\Новая папка\52319018_0akonstituciya.jpg"/>
          <p:cNvPicPr/>
          <p:nvPr/>
        </p:nvPicPr>
        <p:blipFill>
          <a:blip r:embed="rId1"/>
          <a:stretch/>
        </p:blipFill>
        <p:spPr>
          <a:xfrm>
            <a:off x="5286240" y="1285920"/>
            <a:ext cx="3333960" cy="472428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5076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Закон РФ «О безопасности»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закрепляет правовую основу обеспечения безопасности личности, общества и государства. В нем определены система безопасности и ее функции, разграничение полномочий органов власти в системе безопасности, силы и средства обеспечения безопасности, определены статус Совета Безопасности РФ, его состав и задачи, установлен порядок организации и финансирования органов обеспечения безопасности, порядок надзора и контроля за законностью их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C:\Documents and Settings\AVK\Рабочий стол\Новая папка\58238.jpg"/>
          <p:cNvPicPr/>
          <p:nvPr/>
        </p:nvPicPr>
        <p:blipFill>
          <a:blip r:embed="rId1"/>
          <a:stretch/>
        </p:blipFill>
        <p:spPr>
          <a:xfrm>
            <a:off x="5214960" y="1143000"/>
            <a:ext cx="3718080" cy="546408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071720"/>
            <a:ext cx="914400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З «О защите населения и территорий от ЧС природного и техногенного характера»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определяет нормы в области защиты граждан РФ, иностранных граждан и лиц без гражданства от ЧС, и нормы социальной защиты пострадавших от Ч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C:\Documents and Settings\AVK\Рабочий стол\Новая папка\big_gosduma500.jpg"/>
          <p:cNvPicPr/>
          <p:nvPr/>
        </p:nvPicPr>
        <p:blipFill>
          <a:blip r:embed="rId1"/>
          <a:stretch/>
        </p:blipFill>
        <p:spPr>
          <a:xfrm>
            <a:off x="1928880" y="2428920"/>
            <a:ext cx="5429160" cy="407196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4716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З «О пожарной безопасности»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пределяет общие правовые, экономические и социальные основы обеспечения пожарной безопасности в Р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Законом предусмотрено обязательное обучение населения, в том числе и школьников, мерам пожарной без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 законе определены права,  обязанности и ответственность  граждан РФ в области пожарной без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C:\Documents and Settings\AVK\Рабочий стол\Новая папка\2166100.jpg"/>
          <p:cNvPicPr/>
          <p:nvPr/>
        </p:nvPicPr>
        <p:blipFill>
          <a:blip r:embed="rId1"/>
          <a:stretch/>
        </p:blipFill>
        <p:spPr>
          <a:xfrm>
            <a:off x="5143680" y="1357200"/>
            <a:ext cx="3333600" cy="51246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2143080"/>
            <a:ext cx="48578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З «Об обороне»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пределяет основы и организацию обороны РФ, полномочия органов власти субъектов, организаций и должностных лиц, права и обязанности граждан в области обороны, силы и средства, ответств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C:\Documents and Settings\AVK\Рабочий стол\Новая папка\p907010.jpg"/>
          <p:cNvPicPr/>
          <p:nvPr/>
        </p:nvPicPr>
        <p:blipFill>
          <a:blip r:embed="rId1"/>
          <a:stretch/>
        </p:blipFill>
        <p:spPr>
          <a:xfrm>
            <a:off x="5118120" y="1428840"/>
            <a:ext cx="3414600" cy="47149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4932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З «Об обороне»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тмечает, что граждане РФ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исполняют воинскую обязанность в соответствии с Ф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ринимают участие в мероприятиях по гражданской и территориальной оборо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могут создавать организации и общественные объединения, содействующие укреплению оборо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редоставляют в военное время для нужд обороны здания, сооружения, транспорт и иму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C:\Documents and Settings\AVK\Рабочий стол\Новая папка\2275360.jpg"/>
          <p:cNvPicPr/>
          <p:nvPr/>
        </p:nvPicPr>
        <p:blipFill>
          <a:blip r:embed="rId1"/>
          <a:stretch/>
        </p:blipFill>
        <p:spPr>
          <a:xfrm>
            <a:off x="5357880" y="1214280"/>
            <a:ext cx="3333600" cy="533412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44276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З «О гражданской обороне»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пределяет задачи в области гражданской обороны (ГО) и правовые основы их осущест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C:\Documents and Settings\AVK\Рабочий стол\Новая папка\p483125.jpg"/>
          <p:cNvPicPr/>
          <p:nvPr/>
        </p:nvPicPr>
        <p:blipFill>
          <a:blip r:embed="rId1"/>
          <a:stretch/>
        </p:blipFill>
        <p:spPr>
          <a:xfrm>
            <a:off x="5000760" y="1214280"/>
            <a:ext cx="3448080" cy="530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Documents and Settings\AVK\Рабочий стол\Новая папка\446994.jpg"/>
          <p:cNvPicPr/>
          <p:nvPr/>
        </p:nvPicPr>
        <p:blipFill>
          <a:blip r:embed="rId2"/>
          <a:stretch/>
        </p:blipFill>
        <p:spPr>
          <a:xfrm>
            <a:off x="357120" y="3214800"/>
            <a:ext cx="4286160" cy="32144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20:50:27Z</dcterms:created>
  <dc:creator>cempes</dc:creator>
  <dc:description/>
  <dc:language>en-US</dc:language>
  <cp:lastModifiedBy>LEGION</cp:lastModifiedBy>
  <dcterms:modified xsi:type="dcterms:W3CDTF">2015-01-28T10:12:31Z</dcterms:modified>
  <cp:revision>32</cp:revision>
  <dc:subject/>
  <dc:title>Законы и другие нормативно-правовые акты РФ по обеспечению безопасности</dc:title>
</cp:coreProperties>
</file>