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94C4-D47F-4993-AB62-822026250B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Calibri"/>
              </a:rPr>
              <a:t>Автор: Коробков А.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Calibri"/>
              </a:rPr>
              <a:t>МОУ ЖСОШ №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Calibri"/>
              </a:rPr>
              <a:t>2010 год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C00F-30FF-47E4-AB55-8C146C9261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B398-B1A4-4157-87E9-B6861CDF75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Пл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Конституци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Закон РФ «О безопасности» (1992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 защите населения и территорий от ЧС природного и техногенного характера» (1994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 пожарной безопасности» (1994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б обороне» (1996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 гражданской обороне» (1998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A5E6-DA70-4BBA-85C0-C1D0EDB0D0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Конституция РФ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– основной закон государства. Она представляет право человеку на обеспечение своей личной безопасности, безопасности семьи и имущества. Государство обязано принимать все необходимые меры для обеспечения этого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днако, с гарантией безопасности Конституция возлагает на граждан РФ и определенные обязанности по обеспечению безопасности самого государства и его граждан. К ним относится и долг по защите Отечества и несению военной служ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E98B-CBF2-4C50-B8D7-FDA6A8010A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Закон РФ «О безопасности»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закрепляет правовую основу обеспечения безопасности личности, общества и государства. В нем определены система безопасности и ее функции, разграничение полномочий органов власти в системе безопасности, силы и средства обеспечения безопасности, определены статус Совета Безопасности РФ, его состав и задачи, установлен порядок организации и финансирования органов обеспечения безопасности, порядок надзора и контроля за законностью их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AEED-ED6D-42EC-AAD2-E54BA37467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 защите населения и территорий от ЧС природного и техногенного характера»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определяет нормы в области защиты граждан РФ, иностранных граждан и лиц без гражданства от ЧС, и нормы социальной защиты пострадавших от Ч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763C-4B03-4ADB-9A9B-502B61B961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 пожарной безопасности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пределяет общие правовые, экономические и социальные основы обеспечения пожарной безопасности 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Законом предусмотрено обязательное обучение населения, в том числе и школьников, мерам пожарн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В законе определены права,  обязанности и ответственность  граждан РФ в области пожарн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1A0C-728F-49B5-AB2B-9B85F25B24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б обороне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пределяет основы и организацию обороны РФ, полномочия органов власти субъектов, организаций и должностных лиц, права и обязанности граждан в области обороны, силы и средства,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F4A7-D7EE-40E1-BCBB-5B927B4189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б обороне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тмечает, что граждане РФ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исполняют воинскую обязанность в соответствии с ФЗ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ринимают участие в мероприятиях по гражданской и территориальной оборо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огут создавать организации и общественные объединения, содействующие укреплению оборо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редоставляют в военное время для нужд обороны здания, сооружения, транспорт и иму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D148-A042-40AA-9CB3-C0416E1206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 гражданской обороне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пределяет задачи в области гражданской обороны (ГО) и правовые основы их осущест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0905-61B7-401E-B7CE-5522EEF587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0687-8A94-49B5-A846-5F007ED4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F2A-E67D-42C5-8636-305F748C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2E59-CE79-4A81-8E31-59ADE1AA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6B90-B11E-4BD0-984D-13DA8631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81DF-5B60-42AB-8F6B-56DA2B30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470C-501A-497C-9CFF-ED33E0B6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89D1-51D3-4AC8-88BA-BEA8AAAF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A664-3382-4896-A46B-84CD71DC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BECC-20E9-4D18-8C71-5B4B9FBE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164E-CE4B-4539-B0CA-A15DE80C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F11D-38BC-4ACF-A9FC-E8053070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5FCF-F82D-46B9-980C-43743FC5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DF5D-CFC7-4934-8CA7-260A54BC58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872320"/>
            <a:ext cx="370512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втор: Коробков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У ЖСОШ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Documents and Settings\AVK\Рабочий стол\Новая папка\47102.jpg"/>
          <p:cNvPicPr/>
          <p:nvPr/>
        </p:nvPicPr>
        <p:blipFill>
          <a:blip r:embed="rId1"/>
          <a:stretch/>
        </p:blipFill>
        <p:spPr>
          <a:xfrm>
            <a:off x="2357280" y="2286000"/>
            <a:ext cx="4786560" cy="3549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gerb"/>
          <p:cNvPicPr/>
          <p:nvPr/>
        </p:nvPicPr>
        <p:blipFill>
          <a:blip r:embed="rId1"/>
          <a:stretch/>
        </p:blipFill>
        <p:spPr>
          <a:xfrm>
            <a:off x="179280" y="765000"/>
            <a:ext cx="1047960" cy="1133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флаг"/>
          <p:cNvPicPr/>
          <p:nvPr/>
        </p:nvPicPr>
        <p:blipFill>
          <a:blip r:embed="rId2"/>
          <a:stretch/>
        </p:blipFill>
        <p:spPr>
          <a:xfrm>
            <a:off x="8101080" y="765000"/>
            <a:ext cx="1042920" cy="762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КАВ - ФОТО"/>
          <p:cNvPicPr/>
          <p:nvPr/>
        </p:nvPicPr>
        <p:blipFill>
          <a:blip r:embed="rId3"/>
          <a:stretch/>
        </p:blipFill>
        <p:spPr>
          <a:xfrm>
            <a:off x="4597560" y="765000"/>
            <a:ext cx="3314520" cy="4896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8"/>
          <p:cNvSpPr txBox="1"/>
          <p:nvPr/>
        </p:nvSpPr>
        <p:spPr>
          <a:xfrm>
            <a:off x="395280" y="1557360"/>
            <a:ext cx="46083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Спасиб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за 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90" name="WordArt 9"/>
          <p:cNvSpPr txBox="1"/>
          <p:nvPr/>
        </p:nvSpPr>
        <p:spPr>
          <a:xfrm>
            <a:off x="755640" y="4365720"/>
            <a:ext cx="3240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втор: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РОБКОВ А.В.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7164360" y="5805360"/>
            <a:ext cx="12286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010 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2" name="WordArt 11"/>
          <p:cNvSpPr txBox="1"/>
          <p:nvPr/>
        </p:nvSpPr>
        <p:spPr>
          <a:xfrm>
            <a:off x="179280" y="5445000"/>
            <a:ext cx="84981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У "Жиздринская средняя общеобразовательная школа №1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онституция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Закон РФ «О безопасности» (1992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 защите населения и территорий от ЧС природного и техногенного характера» (1994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 пожарной безопасности» (1994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б обороне» (1996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 гражданской обороне» (1998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:\Documents and Settings\AVK\Рабочий стол\Новая папка\Const.jpg"/>
          <p:cNvPicPr/>
          <p:nvPr/>
        </p:nvPicPr>
        <p:blipFill>
          <a:blip r:embed="rId1"/>
          <a:stretch/>
        </p:blipFill>
        <p:spPr>
          <a:xfrm>
            <a:off x="6357960" y="4286160"/>
            <a:ext cx="2246400" cy="22464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003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Конституция РФ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– основной закон государства. Она представляет право человеку на обеспечение своей личной безопасности, безопасности семьи и имущества. Государство обязано принимать все необходимые меры для обеспечения этого пр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днако, с гарантией безопасности Конституция возлагает на граждан РФ и определенные обязанности по обеспечению безопасности самого государства и его граждан. К ним относится и долг по защите Отечества и несению военной служ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:\Documents and Settings\AVK\Рабочий стол\Новая папка\52319018_0akonstituciya.jpg"/>
          <p:cNvPicPr/>
          <p:nvPr/>
        </p:nvPicPr>
        <p:blipFill>
          <a:blip r:embed="rId1"/>
          <a:stretch/>
        </p:blipFill>
        <p:spPr>
          <a:xfrm>
            <a:off x="5286240" y="1285920"/>
            <a:ext cx="3333960" cy="472428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507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Закон РФ «О безопасности»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закрепляет правовую основу обеспечения безопасности личности, общества и государства. В нем определены система безопасности и ее функции, разграничение полномочий органов власти в системе безопасности, силы и средства обеспечения безопасности, определены статус Совета Безопасности РФ, его состав и задачи, установлен порядок организации и финансирования органов обеспечения безопасности, порядок надзора и контроля за законностью их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:\Documents and Settings\AVK\Рабочий стол\Новая папка\58238.jpg"/>
          <p:cNvPicPr/>
          <p:nvPr/>
        </p:nvPicPr>
        <p:blipFill>
          <a:blip r:embed="rId1"/>
          <a:stretch/>
        </p:blipFill>
        <p:spPr>
          <a:xfrm>
            <a:off x="5214960" y="1143000"/>
            <a:ext cx="3718080" cy="54640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 защите населения и территорий от ЧС природного и техногенного характера»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определяет нормы в области защиты граждан РФ, иностранных граждан и лиц без гражданства от ЧС, и нормы социальной защиты пострадавших от Ч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C:\Documents and Settings\AVK\Рабочий стол\Новая папка\big_gosduma500.jpg"/>
          <p:cNvPicPr/>
          <p:nvPr/>
        </p:nvPicPr>
        <p:blipFill>
          <a:blip r:embed="rId1"/>
          <a:stretch/>
        </p:blipFill>
        <p:spPr>
          <a:xfrm>
            <a:off x="1928880" y="2428920"/>
            <a:ext cx="5429160" cy="40719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716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 пожарной безопасности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пределяет общие правовые, экономические и социальные основы обеспечения пожарной безопасности в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Законом предусмотрено обязательное обучение населения, в том числе и школьников, мерам пожарн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 законе определены права,  обязанности и ответственность  граждан РФ в области пожарн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:\Documents and Settings\AVK\Рабочий стол\Новая папка\2166100.jpg"/>
          <p:cNvPicPr/>
          <p:nvPr/>
        </p:nvPicPr>
        <p:blipFill>
          <a:blip r:embed="rId1"/>
          <a:stretch/>
        </p:blipFill>
        <p:spPr>
          <a:xfrm>
            <a:off x="5143680" y="1357200"/>
            <a:ext cx="3333600" cy="51246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2143080"/>
            <a:ext cx="48578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б обороне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пределяет основы и организацию обороны РФ, полномочия органов власти субъектов, организаций и должностных лиц, права и обязанности граждан в области обороны, силы и средства, ответств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C:\Documents and Settings\AVK\Рабочий стол\Новая папка\p907010.jpg"/>
          <p:cNvPicPr/>
          <p:nvPr/>
        </p:nvPicPr>
        <p:blipFill>
          <a:blip r:embed="rId1"/>
          <a:stretch/>
        </p:blipFill>
        <p:spPr>
          <a:xfrm>
            <a:off x="5118120" y="1428840"/>
            <a:ext cx="3414600" cy="4714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932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б обороне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тмечает, что граждане РФ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сполняют воинскую обязанность в соответствии с Ф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инимают участие в мероприятиях по гражданской и территориальной оборо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огут создавать организации и общественные объединения, содействующие укреплению оборо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едоставляют в военное время для нужд обороны здания, сооружения, транспорт и иму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C:\Documents and Settings\AVK\Рабочий стол\Новая папка\2275360.jpg"/>
          <p:cNvPicPr/>
          <p:nvPr/>
        </p:nvPicPr>
        <p:blipFill>
          <a:blip r:embed="rId1"/>
          <a:stretch/>
        </p:blipFill>
        <p:spPr>
          <a:xfrm>
            <a:off x="5357880" y="1214280"/>
            <a:ext cx="3333600" cy="53341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427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 гражданской обороне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пределяет задачи в области гражданской обороны (ГО) и правовые основы их осущест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:\Documents and Settings\AVK\Рабочий стол\Новая папка\p483125.jpg"/>
          <p:cNvPicPr/>
          <p:nvPr/>
        </p:nvPicPr>
        <p:blipFill>
          <a:blip r:embed="rId1"/>
          <a:stretch/>
        </p:blipFill>
        <p:spPr>
          <a:xfrm>
            <a:off x="5000760" y="1214280"/>
            <a:ext cx="3448080" cy="530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AVK\Рабочий стол\Новая папка\446994.jpg"/>
          <p:cNvPicPr/>
          <p:nvPr/>
        </p:nvPicPr>
        <p:blipFill>
          <a:blip r:embed="rId2"/>
          <a:stretch/>
        </p:blipFill>
        <p:spPr>
          <a:xfrm>
            <a:off x="357120" y="3214800"/>
            <a:ext cx="4286160" cy="32144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0:50:27Z</dcterms:created>
  <dc:creator>cempes</dc:creator>
  <dc:description/>
  <dc:language>en-US</dc:language>
  <cp:lastModifiedBy>LEGION</cp:lastModifiedBy>
  <dcterms:modified xsi:type="dcterms:W3CDTF">2015-01-28T10:12:31Z</dcterms:modified>
  <cp:revision>32</cp:revision>
  <dc:subject/>
  <dc:title>Законы и другие нормативно-правовые акты РФ по обеспечению безопасности</dc:title>
</cp:coreProperties>
</file>