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EA53-B5E4-48FE-B86B-C2D95C2A17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3. РЕАЛИЗАЦИЯ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реализации права. Формы реализаци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именение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тадии применения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авоприменительный акт: понятие, признаки,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иды актов применения пра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058B-FED7-4F6A-A500-1461814335E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именение прав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именение прав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деятельность компетентных государственных органов по реализации правовых норм в конкретных жизненных ситуациях путем вынесения индивидуальных конкретных правовых предписаний – актов применения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414E-2CAE-4F13-9210-636B8EBE385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ИМЕНЕН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властный характ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ряд стад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в процессуальной форме, (т.е. данная деятельность жестко регламентирована нормами пра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о с вынесением индивидуального юридического решения, акта применения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о на установление конкретных правовых последствий- субъективных прав и обязанностей, мер поощрения и наказания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DE67-6FF5-4AD6-8D76-C9CC54994AB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ЕНИЕ ПРАВА НЕОБХОДИМО, ЕС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ое право гражданина не может быть реализовано без государственно- властного в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необходимость в установлении юридически значимых обстоятель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субъектами права существует спор об их правах и обязанност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ривлечь правонарушителя к ответственности, т.е. реализовать санкцию правовой нор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необходимость принять решение о награждении отличившихся гражд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F603-CB52-4854-B2CF-D58B1D59602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тадии применения пра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фактической основы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юридической основы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я по дел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40EB-3960-4C0A-A302-AC5B5A31014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4. Правоприменительный акт: понятие, признаки, части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Акт применения права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–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й документ компетентного государственного органа, изданный на основе норм права и содержащий индивидуальное  государственно- властное предписание по конкретному де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9148-590D-4B55-A4F2-46DFE6C44EF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т применения права издаются в установленной законом форме и имеют следующие реквизи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у и место из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ование органа, издавшего ак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ого адреса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ись ответственного л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D3E7-C8DD-4D37-B4A7-B219D9D3783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иды актов применения пра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1. По субъектам, издающим а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представительных органов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исполнительных органов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правоохранительных органов(прокуратуры, судов и др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органов государственного контроля(налоговых, таможенных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7ED3-5C5C-4781-97EA-2F2CE586799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2. По фор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, приговоры, решения, приказ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3. По функц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егулятивные(приказ о повышении по службе) и охранительные( постановление о возбуждении уголовного де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4. По юридической приро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новные(выражают конечное решение юридического дела, например, приговор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помогательны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подготавливают издание основных, в частности, постановление о привлечении лица в качестве обвиняемог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7FEA-C45F-4F0F-BD1D-0C5F5341E1A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, какие формы реализации права являются активными, какие пассив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C82B-EA66-476E-8484-E6E30CA2659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ите форму реализации пра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ция предприятия предоставила слесарю И. очередной отпус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ушка подарила внучке на 18-летие золотое коль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итуриент А. был зачислен в число студентов в бюджетную групп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А. вынес приговор по уголовному де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ник Е. написал картину и продал ее художественному сал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р - рецидивист Н. бежал из колонии усиленного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9B72-A724-4EA2-B16A-1A20536DE91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реализации права. Формы реализаци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Реализация права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ктическое осуществление (воплощение) правовых предписаний в поведении субъ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Реализация прав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лощение предписаний правовых норм в реальной деятельности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Реализация прав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DFCE-8FBF-400D-A434-7E494DBFA4C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F16D-A09B-44BC-8DE2-31C9C317200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ая форма реализации имеет место в тех случаях, когда субъекты права реализуют правовые предписан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опираясь на правоприменительную деятельность государственных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2BA7-9BB5-46F9-A375-F3076D91EDF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Использование –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форма реализации права, осуществление субъектами права предоставленных им прав по своему усмотрению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уются управомочивающие нормы, в диспозициях которых предусмотрены субъективные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свободу выбора и может быть осуществлено путем собственных фактических действий, посредством совершения юридических действий, через предъявление требования к обязанному лицу и в форме притязания, т.е. обращения в компетентный государственный орган за защитой нарушенн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C62A-0346-49E2-AB6E-45C770F3698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Исполнение -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форма реализации права, исполнение субъектами права обязанностей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обязывающих норм, предусматривающих позитивные обяза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 активных действий в интересах управомоченной сторо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считается исполненной в случае, если она выполнена вовремя. В надлежащем месте и надлежащим обра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4B5E-528A-4744-992D-5A1ED6E041A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облюдение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орма реализации права,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ржание от совершения запрещен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уются запрещающие и охранительные нор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ребует совершения каких- либо специальных действий по воплощению требований норм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6A6E-2C43-4AE0-BFBE-363CAA211B1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 опосредованной  форме реализации права осуществление прав и обязанностей субъектов права происходит с помощью правоприменительной деятельности государственных органов и должностных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3820-64D0-4FDD-BD11-1D9374B25D0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27D-3BF8-47BE-B691-E9096E25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D69-6050-42F5-8DA5-74A4B864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25E0-A1E3-4FB9-B18D-4502018C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C490-2CF6-4DC3-87F4-B4A9A3A1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0993-4882-439B-B026-CFCFCA1F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D396-7999-4858-835B-5D256882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26B8-EC9A-4BED-AE37-225FE41A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5F13-3CE2-4234-A496-69BF119A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25E9-AF5F-46C2-A14D-17994A7B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5BB4-5DB3-4A20-9062-674454DA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72CC-8D95-4A55-81EA-C942DB4F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C44-9DAB-4492-86D6-AA55C779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9AA8-9231-4E8E-ABE5-7F196993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099B-3981-4723-BE24-7F3DDE1B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0D53-2BA8-45D5-8862-EA346685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773A-3752-4BE0-991F-07E3E5B0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F71B-C3D2-40F8-904A-65854A32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2633-DB15-4DCB-B197-A33D1288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F34-ACAD-457D-ACA7-C5503C5A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18B-51F3-41E8-AEA7-8C887897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225D-B84B-437E-B195-995A20BE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2E9D-A067-4276-B71E-77C953DF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51D-8B86-4308-8346-3AB4B77A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16B-EB76-481E-AE9B-2FA3DDFC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20CB-67FA-4991-BAE0-BDF56E0CD1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228B-E738-4C68-8A7A-BB5DF8DF9D1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Тема 13. РЕАЛИЗАЦИЯ ПРАВА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828036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Понятие реализации права. Формы реализации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Применение пр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Стадии применения пр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Правоприменительный акт: понятие, признаки, ч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Виды актов применения пра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2. Применение права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именение права 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– деятельность компетентных государственных органов по реализации правовых норм в конкретных жизненных ситуациях путем вынесения индивидуальных конкретных правовых предписаний – актов применения права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РИЗНАКИ ПРИМЕНЕНИЯ ПРАВА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14200" y="785880"/>
            <a:ext cx="8715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носит властный характер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имеет ряд стадий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осуществляется в процессуальной форме, (т.е. данная деятельность жестко регламентирована нормами права)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связано с вынесением индивидуального юридического решения, акта применения права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направлено на установление конкретных правовых последствий- субъективных прав и обязанностей, мер поощрения и наказания и т.п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3840" y="277560"/>
            <a:ext cx="8472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РИМЕНЕНИЕ ПРАВА НЕОБХОДИМО, ЕСЛИ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42560" y="1071720"/>
            <a:ext cx="8543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бъективное право гражданина не может быть реализовано без государственно- властного ве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ует необходимость в установлении юридически значимых обстоятельст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жду субъектами права существует спор об их правах и обязанностя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буется привлечь правонарушителя к ответственности, т.е. реализовать санкцию правовой норм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ует необходимость принять решение о награждении отличившихся гражд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3. Стадии применения права: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4304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становление фактической основы дел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становление юридической основы дел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нятие решения по делу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полнение реш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4200" y="277560"/>
            <a:ext cx="87868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4. Правоприменительный акт: понятие, признаки, части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2920" y="1357200"/>
            <a:ext cx="885816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ru-RU" sz="4200" spc="-1" strike="noStrike">
                <a:solidFill>
                  <a:srgbClr val="ff0000"/>
                </a:solidFill>
                <a:latin typeface="Tahoma"/>
              </a:rPr>
              <a:t>Акт применения права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фициальный документ компетентного государственного органа, изданный на основе норм права и содержащий индивидуальное  государственно- властное предписание по конкретному дел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29"/>
                </a:solidFill>
                <a:latin typeface="Arial"/>
              </a:rPr>
              <a:t>Акт применения права издаются в установленной законом форме и имеют следующие реквизиты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22147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у и место изда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именование органа, издавшего ак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кретного адреса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пись ответственного лиц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5. Виды актов применения права: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050"/>
                </a:solidFill>
                <a:uFillTx/>
                <a:latin typeface="Tahoma"/>
              </a:rPr>
              <a:t>1. По субъектам, издающим ак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представительных органов вла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исполнительных органов вла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правоохранительных органов(прокуратуры, судов и др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органов государственного контроля(налоговых, таможенных и др.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b050"/>
                </a:solidFill>
                <a:uFillTx/>
                <a:latin typeface="Arial"/>
              </a:rPr>
              <a:t>2. По форме:</a:t>
            </a:r>
            <a:endParaRPr b="0" lang="en-US" sz="2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Указы, приговоры, решения, приказы и др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b050"/>
                </a:solidFill>
                <a:uFillTx/>
                <a:latin typeface="Tahoma"/>
              </a:rPr>
              <a:t>3. По функция права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а регулятивные(приказ о повышении по службе) и охранительные( постановление о возбуждении уголовного дел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b050"/>
                </a:solidFill>
                <a:uFillTx/>
                <a:latin typeface="Tahoma"/>
              </a:rPr>
              <a:t>4. По юридической природе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а 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основные(выражают конечное решение юридического дела, например, приговор)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спомогательные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(подготавливают издание основных, в частности, постановление о привлечении лица в качестве обвиняемого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Определите, какие формы реализации права являются активными, какие пассивными.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9" name="Содержимое 3" descr=""/>
          <p:cNvPicPr/>
          <p:nvPr/>
        </p:nvPicPr>
        <p:blipFill>
          <a:blip r:embed="rId1"/>
          <a:stretch/>
        </p:blipFill>
        <p:spPr>
          <a:xfrm>
            <a:off x="500040" y="1542960"/>
            <a:ext cx="8229600" cy="533880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840" y="277920"/>
            <a:ext cx="8472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Определите форму реализации права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14200" y="928800"/>
            <a:ext cx="87868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дминистрация предприятия предоставила слесарю И. очередной отпус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бушка подарила внучке на 18-летие золотое кольц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битуриент А. был зачислен в число студентов в бюджетную групп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дья А. вынес приговор по уголовному дел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удожник Е. написал картину и продал ее художественному сало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р - рецидивист Н. бежал из колонии усиленного режи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bbd71"/>
                </a:solidFill>
                <a:latin typeface="Arial"/>
              </a:rPr>
              <a:t>1. Понятие реализации права. Формы реализации права.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7120" y="1599840"/>
            <a:ext cx="8607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Реализация права 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фактическое осуществление (воплощение) правовых предписаний в поведении субъек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Реализация права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площение предписаний правовых норм в реальной деятельности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Реализация права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Organization Chart 5"/>
          <p:cNvGrpSpPr/>
          <p:nvPr/>
        </p:nvGrpSpPr>
        <p:grpSpPr>
          <a:xfrm>
            <a:off x="250920" y="189000"/>
            <a:ext cx="8713080" cy="6407640"/>
            <a:chOff x="250920" y="189000"/>
            <a:chExt cx="8713080" cy="6407640"/>
          </a:xfrm>
        </p:grpSpPr>
        <p:cxnSp>
          <p:nvCxnSpPr>
            <p:cNvPr id="166" name="_s1028"/>
            <p:cNvCxnSpPr>
              <a:stCxn id="167" idx="0"/>
              <a:endCxn id="168" idx="1"/>
            </p:cNvCxnSpPr>
            <p:nvPr/>
          </p:nvCxnSpPr>
          <p:spPr>
            <a:xfrm flipV="1">
              <a:off x="7426440" y="2476800"/>
              <a:ext cx="3600" cy="4582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69" name="_s1029"/>
            <p:cNvCxnSpPr>
              <a:stCxn id="170" idx="0"/>
              <a:endCxn id="171" idx="3"/>
            </p:cNvCxnSpPr>
            <p:nvPr/>
          </p:nvCxnSpPr>
          <p:spPr>
            <a:xfrm rot="10800000">
              <a:off x="1787760" y="2476800"/>
              <a:ext cx="513000" cy="36622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2" name="_s1030"/>
            <p:cNvCxnSpPr>
              <a:stCxn id="173" idx="0"/>
              <a:endCxn id="171" idx="2"/>
            </p:cNvCxnSpPr>
            <p:nvPr/>
          </p:nvCxnSpPr>
          <p:spPr>
            <a:xfrm rot="10800000">
              <a:off x="1787760" y="2476800"/>
              <a:ext cx="513000" cy="22892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4" name="_s1031"/>
            <p:cNvCxnSpPr>
              <a:stCxn id="175" idx="0"/>
              <a:endCxn id="171" idx="1"/>
            </p:cNvCxnSpPr>
            <p:nvPr/>
          </p:nvCxnSpPr>
          <p:spPr>
            <a:xfrm rot="10800000">
              <a:off x="1787760" y="2476800"/>
              <a:ext cx="513000" cy="9158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6" name="_s1032"/>
            <p:cNvCxnSpPr>
              <a:stCxn id="168" idx="0"/>
              <a:endCxn id="177" idx="1"/>
            </p:cNvCxnSpPr>
            <p:nvPr/>
          </p:nvCxnSpPr>
          <p:spPr>
            <a:xfrm flipV="1" rot="16200000">
              <a:off x="5787000" y="-77400"/>
              <a:ext cx="458280" cy="2819880"/>
            </a:xfrm>
            <a:prstGeom prst="bentConnector3">
              <a:avLst>
                <a:gd name="adj1" fmla="val 26965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8" name="_s1033"/>
            <p:cNvCxnSpPr>
              <a:stCxn id="171" idx="0"/>
              <a:endCxn id="177" idx="0"/>
            </p:cNvCxnSpPr>
            <p:nvPr/>
          </p:nvCxnSpPr>
          <p:spPr>
            <a:xfrm flipH="1" flipV="1" rot="5400000">
              <a:off x="2968560" y="-77040"/>
              <a:ext cx="458280" cy="2819160"/>
            </a:xfrm>
            <a:prstGeom prst="bentConnector3">
              <a:avLst>
                <a:gd name="adj1" fmla="val 26965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7" name="_s1034"/>
            <p:cNvSpPr/>
            <p:nvPr/>
          </p:nvSpPr>
          <p:spPr>
            <a:xfrm>
              <a:off x="3069360" y="18900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f8a500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Реализация прав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_s1035"/>
            <p:cNvSpPr/>
            <p:nvPr/>
          </p:nvSpPr>
          <p:spPr>
            <a:xfrm>
              <a:off x="250920" y="156204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808000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непосредственна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_s1036"/>
            <p:cNvSpPr/>
            <p:nvPr/>
          </p:nvSpPr>
          <p:spPr>
            <a:xfrm>
              <a:off x="5888880" y="156204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808000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опосредованная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_s1037"/>
            <p:cNvSpPr/>
            <p:nvPr/>
          </p:nvSpPr>
          <p:spPr>
            <a:xfrm>
              <a:off x="2301120" y="2935080"/>
              <a:ext cx="29185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соблюд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_s1038"/>
            <p:cNvSpPr/>
            <p:nvPr/>
          </p:nvSpPr>
          <p:spPr>
            <a:xfrm>
              <a:off x="2301120" y="4308480"/>
              <a:ext cx="29185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исполн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_s1039"/>
            <p:cNvSpPr/>
            <p:nvPr/>
          </p:nvSpPr>
          <p:spPr>
            <a:xfrm>
              <a:off x="2301120" y="5681520"/>
              <a:ext cx="29185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использова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_s1040"/>
            <p:cNvSpPr/>
            <p:nvPr/>
          </p:nvSpPr>
          <p:spPr>
            <a:xfrm>
              <a:off x="5888880" y="293508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примен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SmartArt 9" descr=""/>
          <p:cNvPicPr/>
          <p:nvPr/>
        </p:nvPicPr>
        <p:blipFill>
          <a:blip r:embed="rId1"/>
          <a:stretch/>
        </p:blipFill>
        <p:spPr>
          <a:xfrm>
            <a:off x="128520" y="139680"/>
            <a:ext cx="8813880" cy="657864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64396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посредственная форма реализации имеет место в тех случаях, когда субъекты права реализуют правовые предписания </a:t>
            </a:r>
            <a:r>
              <a:rPr b="0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самостоятельно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, </a:t>
            </a:r>
            <a:r>
              <a:rPr b="0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не опираясь на правоприменительную деятельность государственных органо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спользование –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форма реализации права, осуществление субъектами права предоставленных им прав по своему усмотрению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14200" y="2143080"/>
            <a:ext cx="8715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ализуются управомочивающие нормы, в диспозициях которых предусмотрены субъективные пра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полагает свободу выбора и может быть осуществлено путем собственных фактических действий, посредством совершения юридических действий, через предъявление требования к обязанному лицу и в форме притязания, т.е. обращения в компетентный государственный орган за защитой нарушенн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полнение -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 форма реализации права, исполнение субъектами права обязанностей</a:t>
            </a:r>
            <a:br>
              <a:rPr sz="36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5840" y="2428920"/>
            <a:ext cx="85010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реализация обязывающих норм, предусматривающих позитивные обязанности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требует активных действий в интересах управомоченной стороны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обязанность считается исполненной в случае, если она выполнена вовремя. В надлежащем месте и надлежащим образом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блюдение -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форма реализации права,   </a:t>
            </a: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воздержание от совершения запрещенных действий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14200" y="2357280"/>
            <a:ext cx="87868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реализуются запрещающие и охранительные нормы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не требует совершения каких- либо специальных действий по воплощению требований норм прав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4200" y="277920"/>
            <a:ext cx="8715600" cy="62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</a:t>
            </a:r>
            <a:r>
              <a:rPr b="0" lang="ru-RU" sz="4200" spc="-1" strike="noStrike">
                <a:solidFill>
                  <a:srgbClr val="dbbd71"/>
                </a:solidFill>
                <a:latin typeface="Arial"/>
              </a:rPr>
              <a:t>ри  опосредованной  форме реализации права осуществление прав и обязанностей субъектов права происходит с помощью правоприменительной деятельности государственных органов и должностных лиц.</a:t>
            </a:r>
            <a:endParaRPr b="0" lang="en-US" sz="4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7:33:38Z</dcterms:created>
  <dc:creator>Кутузова</dc:creator>
  <dc:description/>
  <dc:language>en-US</dc:language>
  <cp:lastModifiedBy>LEGION</cp:lastModifiedBy>
  <dcterms:modified xsi:type="dcterms:W3CDTF">2015-01-28T10:13:17Z</dcterms:modified>
  <cp:revision>45</cp:revision>
  <dc:subject/>
  <dc:title>Слайд 1</dc:title>
</cp:coreProperties>
</file>