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9BFE-58E8-4A9C-914E-5B44923873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РЕАЛИЗАЦ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9E33-EFBF-4B33-95CC-DE03908975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менение пра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5438-075E-4336-A704-547401A38A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ИМЕН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властный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яд стад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вынесением индивидуального юридического решения, акта применен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B953-C743-46B7-945F-262F971750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ПРАВА НЕОБХОДИМ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в установлении юридически значимых обстоя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убъектами права существует спор об их правах и обязан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принять решение о награждении отличившихс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AADF-B187-4EE3-B20C-31CD212D73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акт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юрид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по дел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7381-05A2-49DA-A205-6D836FC407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Акт применения права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859-459E-42B9-A665-631EB6CE73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у и место и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ргана, издавшего ак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го адрес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ь ответственн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9EF6-68E8-4F50-9412-9D33982074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1. По субъектам, издающим а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исполн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авоохранительных органов(прокуратуры, судов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органов государственного контроля(налоговых, таможенных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F102-96EA-4AC8-A3EB-FB7F3624826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2.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, приговоры, решения, приказ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3. По функц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4. По юридической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(выражают конечное решение юридического дела, например, приговор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помогательн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229B-AC52-4EB3-9016-DF42E52CE1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, какие формы реализации права являются активными, какие пасс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9EFF-66D9-4835-9665-8051EE78DD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ите форму реализации пр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предприятия предоставила слесарю И. очередной отпу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подарила внучке на 18-летие золотое коль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туриент А. был зачислен в число студентов в бюджетн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А. вынес приговор по уголов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Е. написал картину и продал ее художественному сал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 - рецидивист Н. бежал из колонии усилен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C326-04FB-4FAF-B177-31F9F637ED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ическое осуществление (воплощение) правовых предписаний в поведении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лощение предписаний правовых норм в реальной деятель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BD8A-E163-4B27-88DA-2A7BB2F103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65D1-A59D-4717-ADED-D47D7306FC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опираясь на правоприменительную деятельность государстве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67B5-DD55-4DE6-A5B1-9729D18955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спользование 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3663-CA9E-4FED-9885-8EB8C44ABF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Исполнение 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исполнение субъектами права обязанностей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обязывающих норм, предусматривающих позитивные обяза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активных действий в интересах управомоченной ст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D29-21ED-44FF-B3DA-7D20C0A686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облюдение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реализации права,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ржание от совершения запрещен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запрещающие и охранительные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E7DF-7C95-4FB0-B057-BA03B4F340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EAF1-DF1C-4066-B977-2C853C7001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314-6511-4622-9ABA-3EB7BE5F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B5E-2E84-4194-B628-E1848AFF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EF5-F849-45AE-9B76-484AF45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042-AFBA-4175-B206-0F41BCB9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5397-3D68-4019-B613-87A59DBB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4CB-720A-4D41-B782-6D52C2BC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11F-7A89-47CD-B588-FF1B0A03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5CA-4482-4810-AD20-0EB48585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BB7E-4845-4EB9-891E-6FFDF0CC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3235-B21E-4C6C-A1AF-A14D0AF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ABB1-FF82-4F03-8E38-A72DE97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FEF-C68C-4A5F-9724-A72DE223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295D-A303-41C7-B155-1B242F3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421A-9960-43FD-A1F0-D4B5DBB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2B6A-1733-4EC6-AD61-89E3A2D8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77A-E8D4-4164-A1CB-297BDEC4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CF3D-8FF5-4035-8C54-A37DDED3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D49-161F-4E09-BB25-B9527579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5B3-BEAE-41CA-8F30-78D1C2D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F3E-526F-487D-A5BD-4FABC053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FF2-FEB9-4805-8590-699CDF4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D18-91DE-4954-BC3B-3443CA2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AD2-D9BD-4898-BAA2-C0CE9A1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9B0-C25A-482D-9A4C-3A6CA4F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BDB5-B354-42D2-A79F-B7F7C487EC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855-E2CC-422C-B349-4FB7FE1606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ема 13. РЕАЛИЗАЦИЯ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80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нятие реализации права. Формы реализаци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именение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тадии применения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авоприменительный акт: понятие, признаки,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Виды актов применения пра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2. Применение прав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менение права 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ЗНАКИ ПРИМЕНЕНИЯ ПРАВА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осит властный характер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меет ряд стадий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вязано с вынесением индивидуального юридического решения, акта применения прав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77560"/>
            <a:ext cx="8472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МЕНЕНИЕ ПРАВА НЕОБХОДИМО, ЕСЛ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2560" y="10717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в установлении юридически значимых обстоя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ду субъектами права существует спор об их правах и обязаннос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принять решение о награждении отличившихся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3. Стадии применения права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факт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юрид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ятие решения по дел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нение реш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27756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4. Правоприменительный акт: понятие, признаки, части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2920" y="1357200"/>
            <a:ext cx="88581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Акт применения права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у и место из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менование органа, издавшего а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го адрес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ь ответственн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5. Виды актов применения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Tahoma"/>
              </a:rPr>
              <a:t>1. По субъектам, издающим ак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едстав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исполн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авоохранительных органов(прокуратуры, судов и д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органов государственного контроля(налоговых, таможенных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2. По форме: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казы, приговоры, решения, приказы и др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3. По функция прав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4. По юридической природ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основные(выражают конечное решение юридического дела, например, приговор)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спомогательные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, какие формы реализации права являются активными, какие пассивными.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54296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 форму реализации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4200" y="928800"/>
            <a:ext cx="878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 предприятия предоставила слесарю И. очередной отпу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дарила внучке на 18-летие золотое коль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итуриент А. был зачислен в число студентов в бюджетную груп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 А. вынес приговор по уголовному д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удожник Е. написал картину и продал ее художественному са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р - рецидивист Н. бежал из колонии усиленн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bbd71"/>
                </a:solidFill>
                <a:latin typeface="Arial"/>
              </a:rPr>
              <a:t>1. Понятие реализации права. Формы реализации права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60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ическое осуществление (воплощение) правовых предписаний в поведении су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лощение предписаний правовых норм в реальн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Organization Chart 5"/>
          <p:cNvGrpSpPr/>
          <p:nvPr/>
        </p:nvGrpSpPr>
        <p:grpSpPr>
          <a:xfrm>
            <a:off x="250920" y="189000"/>
            <a:ext cx="8713080" cy="6407640"/>
            <a:chOff x="250920" y="189000"/>
            <a:chExt cx="8713080" cy="6407640"/>
          </a:xfrm>
        </p:grpSpPr>
        <p:cxnSp>
          <p:nvCxnSpPr>
            <p:cNvPr id="166" name="_s1028"/>
            <p:cNvCxnSpPr>
              <a:stCxn id="167" idx="0"/>
              <a:endCxn id="168" idx="1"/>
            </p:cNvCxnSpPr>
            <p:nvPr/>
          </p:nvCxnSpPr>
          <p:spPr>
            <a:xfrm flipV="1">
              <a:off x="7426440" y="2476800"/>
              <a:ext cx="3600" cy="458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71" idx="3"/>
            </p:cNvCxnSpPr>
            <p:nvPr/>
          </p:nvCxnSpPr>
          <p:spPr>
            <a:xfrm rot="10800000">
              <a:off x="1787760" y="2476800"/>
              <a:ext cx="513000" cy="3662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71" idx="2"/>
            </p:cNvCxnSpPr>
            <p:nvPr/>
          </p:nvCxnSpPr>
          <p:spPr>
            <a:xfrm rot="10800000">
              <a:off x="1787760" y="2476800"/>
              <a:ext cx="513000" cy="22892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1" idx="1"/>
            </p:cNvCxnSpPr>
            <p:nvPr/>
          </p:nvCxnSpPr>
          <p:spPr>
            <a:xfrm rot="10800000">
              <a:off x="1787760" y="2476800"/>
              <a:ext cx="513000" cy="915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6" name="_s1032"/>
            <p:cNvCxnSpPr>
              <a:stCxn id="168" idx="0"/>
              <a:endCxn id="177" idx="1"/>
            </p:cNvCxnSpPr>
            <p:nvPr/>
          </p:nvCxnSpPr>
          <p:spPr>
            <a:xfrm flipV="1" rot="16200000">
              <a:off x="5787000" y="-77400"/>
              <a:ext cx="458280" cy="281988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8" name="_s1033"/>
            <p:cNvCxnSpPr>
              <a:stCxn id="171" idx="0"/>
              <a:endCxn id="177" idx="0"/>
            </p:cNvCxnSpPr>
            <p:nvPr/>
          </p:nvCxnSpPr>
          <p:spPr>
            <a:xfrm flipH="1" flipV="1" rot="5400000">
              <a:off x="2968560" y="-77040"/>
              <a:ext cx="458280" cy="281916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7" name="_s1034"/>
            <p:cNvSpPr/>
            <p:nvPr/>
          </p:nvSpPr>
          <p:spPr>
            <a:xfrm>
              <a:off x="3069360" y="18900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8a5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ализация прав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25092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непосредстве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588888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посредова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2301120" y="29350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облюд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38"/>
            <p:cNvSpPr/>
            <p:nvPr/>
          </p:nvSpPr>
          <p:spPr>
            <a:xfrm>
              <a:off x="2301120" y="43084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9"/>
            <p:cNvSpPr/>
            <p:nvPr/>
          </p:nvSpPr>
          <p:spPr>
            <a:xfrm>
              <a:off x="2301120" y="568152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ьзов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>
              <a:off x="5888880" y="293508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име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SmartArt 9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813880" cy="6578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самостоятельно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,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не опираясь на правоприменительную деятельность государственных орган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спользование –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214308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нение -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форма реализации права, исполнение субъектами права обязанностей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242892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ация обязывающих норм, предусматривающих позитивные обязанн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бует активных действий в интересах управомоченной сторон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-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 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оздержание от совершения запрещенных действ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357280"/>
            <a:ext cx="8786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уются запрещающие и охранительные норм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0" lang="ru-RU" sz="4200" spc="-1" strike="noStrike">
                <a:solidFill>
                  <a:srgbClr val="dbbd71"/>
                </a:solidFill>
                <a:latin typeface="Arial"/>
              </a:rPr>
              <a:t>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7:33:38Z</dcterms:created>
  <dc:creator>Кутузова</dc:creator>
  <dc:description/>
  <dc:language>en-US</dc:language>
  <cp:lastModifiedBy>LEGION</cp:lastModifiedBy>
  <dcterms:modified xsi:type="dcterms:W3CDTF">2015-01-28T10:13:17Z</dcterms:modified>
  <cp:revision>45</cp:revision>
  <dc:subject/>
  <dc:title>Слайд 1</dc:title>
</cp:coreProperties>
</file>