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AF85-8B5F-4A95-B125-0FA543C8C65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3. РЕАЛИЗАЦИЯ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нятие реализации права. Формы реализаци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рименение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тадии применения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равоприменительный акт: понятие, признаки, ч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иды актов применения пра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1577-23C6-409A-9611-BEE93F46EF7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рименение права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именение прав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деятельность компетентных государственных органов по реализации правовых норм в конкретных жизненных ситуациях путем вынесения индивидуальных конкретных правовых предписаний – актов применения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CB8B-0170-4D44-84F1-B6F1A1F71FE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ПРИМЕНЕНИЯ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ит властный характе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ряд стад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ется в процессуальной форме, (т.е. данная деятельность жестко регламентирована нормами прав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ано с вынесением индивидуального юридического решения, акта применения пра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о на установление конкретных правовых последствий- субъективных прав и обязанностей, мер поощрения и наказания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C796-5EFB-409F-AD64-90BDE66B001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НЕНИЕ ПРАВА НЕОБХОДИМО, ЕС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ивное право гражданина не может быть реализовано без государственно- властного ве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необходимость в установлении юридически значимых обстоятель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субъектами права существует спор об их правах и обязанност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уется привлечь правонарушителя к ответственности, т.е. реализовать санкцию правовой нор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необходимость принять решение о награждении отличившихся гражд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F0FF-B450-49B3-8F45-5A41D16BC2C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тадии применения права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фактической основы де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юридической основы де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решения по дел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ение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3515-1861-42E5-B202-007C2445FC2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4. Правоприменительный акт: понятие, признаки, части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Акт применения права </a:t>
            </a: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–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ициальный документ компетентного государственного органа, изданный на основе норм права и содержащий индивидуальное  государственно- властное предписание по конкретному де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E415-5040-4A3F-9FA3-FBD1619845C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кт применения права издаются в установленной законом форме и имеют следующие реквизи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у и место изд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менование органа, издавшего ак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ретного адреса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пись ответственного ли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2615-9A66-4189-9D78-3D10AC1A161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иды актов применения права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b050"/>
                </a:solidFill>
                <a:uFillTx/>
                <a:latin typeface="Calibri"/>
              </a:rPr>
              <a:t>1. По субъектам, издающим ак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ы представительных органов вла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ы исполнительных органов вла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ы правоохранительных органов(прокуратуры, судов и др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ы органов государственного контроля(налоговых, таможенных и д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6FA8-2AF7-43C3-A9E5-341AEF745CD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b050"/>
                </a:solidFill>
                <a:uFillTx/>
                <a:latin typeface="Calibri"/>
              </a:rPr>
              <a:t>2. По форм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зы, приговоры, решения, приказы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b050"/>
                </a:solidFill>
                <a:uFillTx/>
                <a:latin typeface="Calibri"/>
              </a:rPr>
              <a:t>3. По функция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егулятивные(приказ о повышении по службе) и охранительные( постановление о возбуждении уголовного де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b050"/>
                </a:solidFill>
                <a:uFillTx/>
                <a:latin typeface="Calibri"/>
              </a:rPr>
              <a:t>4. По юридической природ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сновные(выражают конечное решение юридического дела, например, приговор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спомогательны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подготавливают издание основных, в частности, постановление о привлечении лица в качестве обвиняемог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85F1-D043-4081-8788-E1EF5E32B3C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е, какие формы реализации права являются активными, какие пассивны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C0D7-8B3B-47A2-9607-B7396F07CFC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пределите форму реализации прав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ция предприятия предоставила слесарю И. очередной отпус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бушка подарила внучке на 18-летие золотое кольц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итуриент А. был зачислен в число студентов в бюджетную групп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я А. вынес приговор по уголовному де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ник Е. написал картину и продал ее художественному сало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р - рецидивист Н. бежал из колонии усиленного режи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AFEB-6F76-4480-8D23-BC077613D23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нятие реализации права. Формы реализации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Реализация права 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фактическое осуществление (воплощение) правовых предписаний в поведении субъек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Реализация права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лощение предписаний правовых норм в реальной деятельности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Реализация права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2C57-2E59-44BF-AA81-ACA687948AE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995B-E767-41E6-8B4D-60970A90D71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средственная форма реализации имеет место в тех случаях, когда субъекты права реализуют правовые предписани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амостоятельн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 опираясь на правоприменительную деятельность государственных орга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7B9C-59F4-401E-B765-33F19A0B02E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Использование –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форма реализации права, осуществление субъектами права предоставленных им прав по своему усмотрению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уются управомочивающие нормы, в диспозициях которых предусмотрены субъективные пра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 свободу выбора и может быть осуществлено путем собственных фактических действий, посредством совершения юридических действий, через предъявление требования к обязанному лицу и в форме притязания, т.е. обращения в компетентный государственный орган за защитой нарушенного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988A-2DE7-44B4-91B1-F2B7B2F490A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Исполнение -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форма реализации права, исполнение субъектами права обязанностей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ация обязывающих норм, предусматривающих позитивные обяза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ует активных действий в интересах управомоченной сторо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нность считается исполненной в случае, если она выполнена вовремя. В надлежащем месте и надлежащим образ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95A4-1D99-492F-95C1-3585A463B5D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облюдение 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форма реализации права,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ржание от совершения запрещенны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уются запрещающие и охранительные нор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требует совершения каких- либо специальных действий по воплощению требований норм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A934-08CA-498C-9D94-5DFE9E578DD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 опосредованной  форме реализации права осуществление прав и обязанностей субъектов права происходит с помощью правоприменительной деятельности государственных органов и должностных л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4CD5-1E7E-4CF5-9B23-922950F4C87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CCFF-98A7-4298-BA66-0E78544A2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151D-CD26-48B2-A578-2B41658A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EB82-B7E1-4F4F-82F8-01DC0A4DA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6ADB-B1F8-41F7-8D61-417206CA0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BA7CC-2CB7-4AD9-89C8-2DE9993C9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3896-A898-4E4F-8EA3-BC11136E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F297-83CB-4A00-8BA5-BB0497C7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A5A4-68E9-4B2D-8AA9-A93BFB76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2FDD-700C-4CF7-A454-44299C5A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C017-71FA-475F-A862-45535E96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4AAE-7912-438B-A780-7E5F5C72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3785-74A8-495D-8A30-BBFDD302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F759F-343E-490C-97F7-181C6D83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9088-98FA-4C6E-877F-A0BB5DBA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04C1-827B-4626-AC0E-F5488DFD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E114-AA1E-44AB-A7EC-7BF6FAD31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6FB1-CD55-49EB-A753-CD6A23A66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6951-E4F0-4E71-BB68-D3512693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EBD6-8AE0-49D0-B7F5-70202530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9446-382E-4110-B245-020D3F3B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5D89-65E5-4894-99A0-A1151FAF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580B-0A44-4456-B2B5-E1EF7731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CFC9-D4D2-4B4D-AEEA-C78C26D0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55AF-F54D-42AD-A019-9D540A9A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A724-86C5-4278-ABFF-7C0404B2F4E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AB5C-B0BF-44D7-946A-7DC0A365B71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Тема 13. РЕАЛИЗАЦИЯ ПРАВА.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94920" y="1628280"/>
            <a:ext cx="828036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Понятие реализации права. Формы реализации пра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Применение пра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Стадии применения пра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Правоприменительный акт: понятие, признаки, ча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 Виды актов применения прав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72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2. Применение права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рименение права </a:t>
            </a: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– деятельность компетентных государственных органов по реализации правовых норм в конкретных жизненных ситуациях путем вынесения индивидуальных конкретных правовых предписаний – актов применения права.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ПРИЗНАКИ ПРИМЕНЕНИЯ ПРАВА: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14200" y="785880"/>
            <a:ext cx="8715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носит властный характер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имеет ряд стадий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осуществляется в процессуальной форме, (т.е. данная деятельность жестко регламентирована нормами права)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связано с вынесением индивидуального юридического решения, акта применения права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направлено на установление конкретных правовых последствий- субъективных прав и обязанностей, мер поощрения и наказания и т.п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3840" y="277560"/>
            <a:ext cx="8472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ПРИМЕНЕНИЕ ПРАВА НЕОБХОДИМО, ЕСЛИ: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42560" y="1071720"/>
            <a:ext cx="8543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бъективное право гражданина не может быть реализовано без государственно- властного вел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ществует необходимость в установлении юридически значимых обстоятельст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жду субъектами права существует спор об их правах и обязанностя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ебуется привлечь правонарушителя к ответственности, т.е. реализовать санкцию правовой норм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ществует необходимость принять решение о награждении отличившихся гражда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3. Стадии применения права:</a:t>
            </a:r>
            <a:br>
              <a:rPr sz="44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4304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установление фактической основы дела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установление юридической основы дела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инятие решения по делу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Исполнение решен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4200" y="277560"/>
            <a:ext cx="87868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4. Правоприменительный акт: понятие, признаки, части.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42920" y="1357200"/>
            <a:ext cx="885816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ru-RU" sz="4200" spc="-1" strike="noStrike">
                <a:solidFill>
                  <a:srgbClr val="ff0000"/>
                </a:solidFill>
                <a:latin typeface="Tahoma"/>
              </a:rPr>
              <a:t>Акт применения права </a:t>
            </a: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–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фициальный документ компетентного государственного органа, изданный на основе норм права и содержащий индивидуальное  государственно- властное предписание по конкретному делу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b829"/>
                </a:solidFill>
                <a:latin typeface="Arial"/>
              </a:rPr>
              <a:t>Акт применения права издаются в установленной законом форме и имеют следующие реквизиты: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221472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ту и место изда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именование органа, издавшего ак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кретного адресат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пись ответственного лиц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5. Виды актов применения права: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07136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050"/>
                </a:solidFill>
                <a:uFillTx/>
                <a:latin typeface="Tahoma"/>
              </a:rPr>
              <a:t>1. По субъектам, издающим акт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кты представительных органов вла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кты исполнительных органов вла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кты правоохранительных органов(прокуратуры, судов и др.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кты органов государственного контроля(налоговых, таможенных и др.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b050"/>
                </a:solidFill>
                <a:uFillTx/>
                <a:latin typeface="Arial"/>
              </a:rPr>
              <a:t>2. По форме:</a:t>
            </a:r>
            <a:endParaRPr b="0" lang="en-US" sz="2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1430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Указы, приговоры, решения, приказы и др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b050"/>
                </a:solidFill>
                <a:uFillTx/>
                <a:latin typeface="Tahoma"/>
              </a:rPr>
              <a:t>3. По функция права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На регулятивные(приказ о повышении по службе) и охранительные( постановление о возбуждении уголовного дела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b050"/>
                </a:solidFill>
                <a:uFillTx/>
                <a:latin typeface="Tahoma"/>
              </a:rPr>
              <a:t>4. По юридической природе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на </a:t>
            </a:r>
            <a:r>
              <a:rPr b="0" i="1" lang="ru-RU" sz="2600" spc="-1" strike="noStrike">
                <a:solidFill>
                  <a:srgbClr val="ffffff"/>
                </a:solidFill>
                <a:latin typeface="Tahoma"/>
              </a:rPr>
              <a:t>основные(выражают конечное решение юридического дела, например, приговор)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вспомогательные</a:t>
            </a:r>
            <a:r>
              <a:rPr b="0" i="1" lang="ru-RU" sz="2600" spc="-1" strike="noStrike">
                <a:solidFill>
                  <a:srgbClr val="ffffff"/>
                </a:solidFill>
                <a:latin typeface="Tahoma"/>
              </a:rPr>
              <a:t>(подготавливают издание основных, в частности, постановление о привлечении лица в качестве обвиняемого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Определите, какие формы реализации права являются активными, какие пассивными. 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19" name="Содержимое 3" descr=""/>
          <p:cNvPicPr/>
          <p:nvPr/>
        </p:nvPicPr>
        <p:blipFill>
          <a:blip r:embed="rId1"/>
          <a:stretch/>
        </p:blipFill>
        <p:spPr>
          <a:xfrm>
            <a:off x="500040" y="1542960"/>
            <a:ext cx="8229600" cy="533880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3840" y="277920"/>
            <a:ext cx="84726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Определите форму реализации права.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14200" y="928800"/>
            <a:ext cx="878688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дминистрация предприятия предоставила слесарю И. очередной отпус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абушка подарила внучке на 18-летие золотое кольц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битуриент А. был зачислен в число студентов в бюджетную групп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дья А. вынес приговор по уголовному дел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удожник Е. написал картину и продал ее художественному салон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р - рецидивист Н. бежал из колонии усиленного режим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bbd71"/>
                </a:solidFill>
                <a:latin typeface="Arial"/>
              </a:rPr>
              <a:t>1. Понятие реализации права. Формы реализации права.</a:t>
            </a:r>
            <a:endParaRPr b="0" lang="en-US" sz="3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57120" y="1599840"/>
            <a:ext cx="8607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Реализация права -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фактическое осуществление (воплощение) правовых предписаний в поведении субъек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Реализация права -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площение предписаний правовых норм в реальной деятельности люд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Реализация права 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Organization Chart 5"/>
          <p:cNvGrpSpPr/>
          <p:nvPr/>
        </p:nvGrpSpPr>
        <p:grpSpPr>
          <a:xfrm>
            <a:off x="250920" y="189000"/>
            <a:ext cx="8713080" cy="6407640"/>
            <a:chOff x="250920" y="189000"/>
            <a:chExt cx="8713080" cy="6407640"/>
          </a:xfrm>
        </p:grpSpPr>
        <p:cxnSp>
          <p:nvCxnSpPr>
            <p:cNvPr id="166" name="_s1028"/>
            <p:cNvCxnSpPr>
              <a:stCxn id="167" idx="0"/>
              <a:endCxn id="168" idx="1"/>
            </p:cNvCxnSpPr>
            <p:nvPr/>
          </p:nvCxnSpPr>
          <p:spPr>
            <a:xfrm flipV="1">
              <a:off x="7426440" y="2476800"/>
              <a:ext cx="3600" cy="45828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69" name="_s1029"/>
            <p:cNvCxnSpPr>
              <a:stCxn id="170" idx="0"/>
              <a:endCxn id="171" idx="3"/>
            </p:cNvCxnSpPr>
            <p:nvPr/>
          </p:nvCxnSpPr>
          <p:spPr>
            <a:xfrm rot="10800000">
              <a:off x="1787760" y="2476800"/>
              <a:ext cx="513000" cy="366228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72" name="_s1030"/>
            <p:cNvCxnSpPr>
              <a:stCxn id="173" idx="0"/>
              <a:endCxn id="171" idx="2"/>
            </p:cNvCxnSpPr>
            <p:nvPr/>
          </p:nvCxnSpPr>
          <p:spPr>
            <a:xfrm rot="10800000">
              <a:off x="1787760" y="2476800"/>
              <a:ext cx="513000" cy="22892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74" name="_s1031"/>
            <p:cNvCxnSpPr>
              <a:stCxn id="175" idx="0"/>
              <a:endCxn id="171" idx="1"/>
            </p:cNvCxnSpPr>
            <p:nvPr/>
          </p:nvCxnSpPr>
          <p:spPr>
            <a:xfrm rot="10800000">
              <a:off x="1787760" y="2476800"/>
              <a:ext cx="513000" cy="9158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76" name="_s1032"/>
            <p:cNvCxnSpPr>
              <a:stCxn id="168" idx="0"/>
              <a:endCxn id="177" idx="1"/>
            </p:cNvCxnSpPr>
            <p:nvPr/>
          </p:nvCxnSpPr>
          <p:spPr>
            <a:xfrm flipV="1" rot="16200000">
              <a:off x="5787000" y="-77400"/>
              <a:ext cx="458280" cy="2819880"/>
            </a:xfrm>
            <a:prstGeom prst="bentConnector3">
              <a:avLst>
                <a:gd name="adj1" fmla="val 26965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78" name="_s1033"/>
            <p:cNvCxnSpPr>
              <a:stCxn id="171" idx="0"/>
              <a:endCxn id="177" idx="0"/>
            </p:cNvCxnSpPr>
            <p:nvPr/>
          </p:nvCxnSpPr>
          <p:spPr>
            <a:xfrm flipH="1" flipV="1" rot="5400000">
              <a:off x="2968560" y="-77040"/>
              <a:ext cx="458280" cy="2819160"/>
            </a:xfrm>
            <a:prstGeom prst="bentConnector3">
              <a:avLst>
                <a:gd name="adj1" fmla="val 26965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77" name="_s1034"/>
            <p:cNvSpPr/>
            <p:nvPr/>
          </p:nvSpPr>
          <p:spPr>
            <a:xfrm>
              <a:off x="3069360" y="189000"/>
              <a:ext cx="3075120" cy="915120"/>
            </a:xfrm>
            <a:prstGeom prst="bevel">
              <a:avLst>
                <a:gd name="adj" fmla="val 12500"/>
              </a:avLst>
            </a:prstGeom>
            <a:solidFill>
              <a:srgbClr val="f8a500">
                <a:alpha val="50000"/>
              </a:srgbClr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Реализация права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_s1035"/>
            <p:cNvSpPr/>
            <p:nvPr/>
          </p:nvSpPr>
          <p:spPr>
            <a:xfrm>
              <a:off x="250920" y="1562040"/>
              <a:ext cx="3075120" cy="915120"/>
            </a:xfrm>
            <a:prstGeom prst="bevel">
              <a:avLst>
                <a:gd name="adj" fmla="val 12500"/>
              </a:avLst>
            </a:prstGeom>
            <a:solidFill>
              <a:srgbClr val="808000">
                <a:alpha val="50000"/>
              </a:srgbClr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непосредственная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_s1036"/>
            <p:cNvSpPr/>
            <p:nvPr/>
          </p:nvSpPr>
          <p:spPr>
            <a:xfrm>
              <a:off x="5888880" y="1562040"/>
              <a:ext cx="3075120" cy="915120"/>
            </a:xfrm>
            <a:prstGeom prst="bevel">
              <a:avLst>
                <a:gd name="adj" fmla="val 12500"/>
              </a:avLst>
            </a:prstGeom>
            <a:solidFill>
              <a:srgbClr val="808000">
                <a:alpha val="50000"/>
              </a:srgbClr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опосредованная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_s1037"/>
            <p:cNvSpPr/>
            <p:nvPr/>
          </p:nvSpPr>
          <p:spPr>
            <a:xfrm>
              <a:off x="2301120" y="2935080"/>
              <a:ext cx="2918520" cy="915120"/>
            </a:xfrm>
            <a:prstGeom prst="bevel">
              <a:avLst>
                <a:gd name="adj" fmla="val 12500"/>
              </a:avLst>
            </a:prstGeom>
            <a:solidFill>
              <a:srgbClr val="ffcc66">
                <a:alpha val="50000"/>
              </a:srgbClr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соблюдени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_s1038"/>
            <p:cNvSpPr/>
            <p:nvPr/>
          </p:nvSpPr>
          <p:spPr>
            <a:xfrm>
              <a:off x="2301120" y="4308480"/>
              <a:ext cx="2918520" cy="915120"/>
            </a:xfrm>
            <a:prstGeom prst="bevel">
              <a:avLst>
                <a:gd name="adj" fmla="val 12500"/>
              </a:avLst>
            </a:prstGeom>
            <a:solidFill>
              <a:srgbClr val="ffcc66">
                <a:alpha val="50000"/>
              </a:srgbClr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исполнени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_s1039"/>
            <p:cNvSpPr/>
            <p:nvPr/>
          </p:nvSpPr>
          <p:spPr>
            <a:xfrm>
              <a:off x="2301120" y="5681520"/>
              <a:ext cx="2918520" cy="915120"/>
            </a:xfrm>
            <a:prstGeom prst="bevel">
              <a:avLst>
                <a:gd name="adj" fmla="val 12500"/>
              </a:avLst>
            </a:prstGeom>
            <a:solidFill>
              <a:srgbClr val="ffcc66">
                <a:alpha val="50000"/>
              </a:srgbClr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использовани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_s1040"/>
            <p:cNvSpPr/>
            <p:nvPr/>
          </p:nvSpPr>
          <p:spPr>
            <a:xfrm>
              <a:off x="5888880" y="2935080"/>
              <a:ext cx="3075120" cy="915120"/>
            </a:xfrm>
            <a:prstGeom prst="bevel">
              <a:avLst>
                <a:gd name="adj" fmla="val 12500"/>
              </a:avLst>
            </a:prstGeom>
            <a:solidFill>
              <a:srgbClr val="ffcc66">
                <a:alpha val="50000"/>
              </a:srgbClr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применени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Рисунок SmartArt 9" descr=""/>
          <p:cNvPicPr/>
          <p:nvPr/>
        </p:nvPicPr>
        <p:blipFill>
          <a:blip r:embed="rId1"/>
          <a:stretch/>
        </p:blipFill>
        <p:spPr>
          <a:xfrm>
            <a:off x="128520" y="139680"/>
            <a:ext cx="8813880" cy="657864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8643960" cy="60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Непосредственная форма реализации имеет место в тех случаях, когда субъекты права реализуют правовые предписания </a:t>
            </a:r>
            <a:r>
              <a:rPr b="0" lang="ru-RU" sz="4000" spc="-1" strike="noStrike" u="sng">
                <a:solidFill>
                  <a:srgbClr val="dbbd71"/>
                </a:solidFill>
                <a:uFillTx/>
                <a:latin typeface="Arial"/>
              </a:rPr>
              <a:t>самостоятельно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, </a:t>
            </a:r>
            <a:r>
              <a:rPr b="0" lang="ru-RU" sz="4000" spc="-1" strike="noStrike" u="sng">
                <a:solidFill>
                  <a:srgbClr val="dbbd71"/>
                </a:solidFill>
                <a:uFillTx/>
                <a:latin typeface="Arial"/>
              </a:rPr>
              <a:t>не опираясь на правоприменительную деятельность государственных органов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0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Использование –</a:t>
            </a: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 форма реализации права, осуществление субъектами права предоставленных им прав по своему усмотрению.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14200" y="2143080"/>
            <a:ext cx="8715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ализуются управомочивающие нормы, в диспозициях которых предусмотрены субъективные прав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полагает свободу выбора и может быть осуществлено путем собственных фактических действий, посредством совершения юридических действий, через предъявление требования к обязанному лицу и в форме притязания, т.е. обращения в компетентный государственный орган за защитой нарушенного пра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864396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Исполнение -</a:t>
            </a: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 форма реализации права, исполнение субъектами права обязанностей</a:t>
            </a:r>
            <a:br>
              <a:rPr sz="3600"/>
            </a:b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85840" y="2428920"/>
            <a:ext cx="85010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реализация обязывающих норм, предусматривающих позитивные обязанности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требует активных действий в интересах управомоченной стороны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обязанность считается исполненной в случае, если она выполнена вовремя. В надлежащем месте и надлежащим образом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64396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облюдение -</a:t>
            </a: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 форма реализации права,   </a:t>
            </a:r>
            <a:br>
              <a:rPr sz="3200"/>
            </a:b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воздержание от совершения запрещенных действий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14200" y="2357280"/>
            <a:ext cx="878688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реализуются запрещающие и охранительные нормы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не требует совершения каких- либо специальных действий по воплощению требований норм права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4200" y="277920"/>
            <a:ext cx="8715600" cy="622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</a:t>
            </a:r>
            <a:r>
              <a:rPr b="0" lang="ru-RU" sz="4200" spc="-1" strike="noStrike">
                <a:solidFill>
                  <a:srgbClr val="dbbd71"/>
                </a:solidFill>
                <a:latin typeface="Arial"/>
              </a:rPr>
              <a:t>ри  опосредованной  форме реализации права осуществление прав и обязанностей субъектов права происходит с помощью правоприменительной деятельности государственных органов и должностных лиц.</a:t>
            </a:r>
            <a:endParaRPr b="0" lang="en-US" sz="4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07:33:38Z</dcterms:created>
  <dc:creator>Кутузова</dc:creator>
  <dc:description/>
  <dc:language>en-US</dc:language>
  <cp:lastModifiedBy>LEGION</cp:lastModifiedBy>
  <dcterms:modified xsi:type="dcterms:W3CDTF">2015-01-28T10:13:17Z</dcterms:modified>
  <cp:revision>45</cp:revision>
  <dc:subject/>
  <dc:title>Слайд 1</dc:title>
</cp:coreProperties>
</file>