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E5F5-18CB-46F6-B6A7-C9ADB03642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РЕАЛИЗАЦ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DF0-0295-484F-8F13-DE46F9107E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менение пра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E1EB-E559-4737-B4D2-B589DCB423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ИМЕН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властный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яд стад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вынесением индивидуального юридического решения, акта применен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452-EC65-418E-86C8-81081F8A67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ПРАВА НЕОБХОДИМ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в установлении юридически значимых обстоя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убъектами права существует спор об их правах и обязан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принять решение о награждении отличившихс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8693-631C-42DD-AF36-D3AA98CEAB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акт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юрид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по дел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BD5-11EE-44DF-8A7C-497495EBBB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Акт применения права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E1B1-FF01-4B7B-AF5C-1A95E0AD01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у и место и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ргана, издавшего ак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го адрес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ь ответственн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51B-7B88-4AEF-B9A1-A81004B374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1. По субъектам, издающим а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исполн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авоохранительных органов(прокуратуры, судов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органов государственного контроля(налоговых, таможенных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6939-AA66-415F-9669-42D390A126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2.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, приговоры, решения, приказ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3. По функц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4. По юридической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(выражают конечное решение юридического дела, например, приговор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помогательн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E8A1-5ABB-4052-945E-8622441980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, какие формы реализации права являются активными, какие пасс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335-E7E0-4B5C-A3D7-9EA51E94DEF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ите форму реализации пр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предприятия предоставила слесарю И. очередной отпу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подарила внучке на 18-летие золотое коль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туриент А. был зачислен в число студентов в бюджетн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А. вынес приговор по уголов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Е. написал картину и продал ее художественному сал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 - рецидивист Н. бежал из колонии усилен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D9D4-DCF8-40DF-8DE7-7C2E920A7F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ическое осуществление (воплощение) правовых предписаний в поведении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лощение предписаний правовых норм в реальной деятель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CC87-C1EE-4983-8D75-E519C9E72FF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798-88E4-42F1-9FA4-3B803E3431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опираясь на правоприменительную деятельность государстве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0C11-0FE6-4ACF-94C6-6629763B426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спользование 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AE6-6983-429A-B66E-0FE4190DA2A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сполнение 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исполнение субъектами права обязанностей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обязывающих норм, предусматривающих позитивные обяза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активных действий в интересах управомоченной ст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7E9F-9A5A-4A17-B778-2D16758125E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облюдение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реализации права,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ржание от совершения запрещен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запрещающие и охранительные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446C-E77B-4CDF-9FDC-311ABB7B4CA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BF3-BEDA-4EC3-911C-4C65B10B15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6EB-9501-4D95-8B6A-56FC46EA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CA6-5C66-40E8-8857-F5F191E7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3E2-6F5A-404A-BA5C-8C8B4C19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03B-7ABE-4B1B-BA4B-7D91258E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756D-62CE-4F3C-BC9E-E66890DA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05C-9E3B-4144-BB7B-1C216F66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D4B9-ABCB-4D54-8201-5FCF7DD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3FC5-F270-43EF-82D8-AC3D24E0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05A-2CA5-4A87-81A5-4579BD7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6F0D-9401-4066-B937-479DA2C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3840-1234-497C-B84C-8D72FC79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24B-2BB6-48A7-976C-954B61D7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C0B0-B35B-467A-AAC9-EA3A0CA6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3C42-5100-4BB9-9998-A427F549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EE56-31E0-4EDF-A162-C9264A7D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6E12-5FFC-465D-9709-50C4B1F9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6B4B-B654-4364-92D2-C4A51F3A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5B6-4C31-4B17-81D3-8101FEA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5D4-9EE8-4DBE-A90E-EBB9FED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18F-2D1D-4689-8E26-49EFF198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85A-1727-402F-8E4C-111F6884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8CC-3461-46EA-AA86-1B52B9B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AA1-7DF3-44CA-9DE6-6391D10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1B6-4038-4BA4-A7A3-8E8E5BEC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B2D6-BE01-4EA3-8A9E-CB7812A6E7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0D84-7A5B-4D2D-951D-5154E02AA2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ема 13. РЕАЛИЗАЦИЯ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нятие реализации права. Формы реализаци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менение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тадии применения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авоприменительный акт: понятие, признаки,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Виды актов применения пра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2. Применение прав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нение права 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ЗНАКИ ПРИМЕНЕНИЯ ПРАВА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осит властный характер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меет ряд стадий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вязано с вынесением индивидуального юридического решения, акта применения прав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472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МЕНЕНИЕ ПРАВА НЕОБХОДИМО, ЕСЛ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2560" y="10717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в установлении юридически значимы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 субъектами права существует спор об их правах и обязаннос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принять решение о награждении отличившихся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3. Стадии применения права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факт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юрид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ятие решения по дел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нение реш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4. Правоприменительный акт: понятие, признаки, части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2920" y="1357200"/>
            <a:ext cx="8858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Акт применения права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у и место из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менование органа, издавшего а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го адрес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ь ответственн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5. Виды актов применения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Tahoma"/>
              </a:rPr>
              <a:t>1. По субъектам, издающим ак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едстав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исполн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авоохранительных органов(прокуратуры, судов и д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органов государственного контроля(налоговых, таможенных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2. По форме: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казы, приговоры, решения, приказы и др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3. По функция прав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4. По юридической природ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сновные(выражают конечное решение юридического дела, например, приговор)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спомогательные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, какие формы реализации права являются активными, какие пассивными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 форму реализации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 предприятия предоставила слесарю И. очередной 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дарила внучке на 18-летие золотое коль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итуриент А. был зачислен в число студентов в бюджетную груп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 А. вынес приговор по уголовному д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удожник Е. написал картину и продал ее художественному са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р - рецидивист Н. бежал из колонии усиленн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bbd71"/>
                </a:solidFill>
                <a:latin typeface="Arial"/>
              </a:rPr>
              <a:t>1. Понятие реализации права. Формы реализации права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60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ическое осуществление (воплощение) правовых предписаний в поведении су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лощение предписаний правовых норм в реальн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Organization Chart 5"/>
          <p:cNvGrpSpPr/>
          <p:nvPr/>
        </p:nvGrpSpPr>
        <p:grpSpPr>
          <a:xfrm>
            <a:off x="250920" y="189000"/>
            <a:ext cx="8713080" cy="6407640"/>
            <a:chOff x="250920" y="189000"/>
            <a:chExt cx="8713080" cy="6407640"/>
          </a:xfrm>
        </p:grpSpPr>
        <p:cxnSp>
          <p:nvCxnSpPr>
            <p:cNvPr id="166" name="_s1028"/>
            <p:cNvCxnSpPr>
              <a:stCxn id="167" idx="0"/>
              <a:endCxn id="168" idx="1"/>
            </p:cNvCxnSpPr>
            <p:nvPr/>
          </p:nvCxnSpPr>
          <p:spPr>
            <a:xfrm flipV="1">
              <a:off x="7426440" y="2476800"/>
              <a:ext cx="3600" cy="458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71" idx="3"/>
            </p:cNvCxnSpPr>
            <p:nvPr/>
          </p:nvCxnSpPr>
          <p:spPr>
            <a:xfrm rot="10800000">
              <a:off x="1787760" y="2476800"/>
              <a:ext cx="513000" cy="3662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71" idx="2"/>
            </p:cNvCxnSpPr>
            <p:nvPr/>
          </p:nvCxnSpPr>
          <p:spPr>
            <a:xfrm rot="10800000">
              <a:off x="1787760" y="2476800"/>
              <a:ext cx="513000" cy="22892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1" idx="1"/>
            </p:cNvCxnSpPr>
            <p:nvPr/>
          </p:nvCxnSpPr>
          <p:spPr>
            <a:xfrm rot="10800000">
              <a:off x="1787760" y="2476800"/>
              <a:ext cx="513000" cy="915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6" name="_s1032"/>
            <p:cNvCxnSpPr>
              <a:stCxn id="168" idx="0"/>
              <a:endCxn id="177" idx="1"/>
            </p:cNvCxnSpPr>
            <p:nvPr/>
          </p:nvCxnSpPr>
          <p:spPr>
            <a:xfrm flipV="1" rot="16200000">
              <a:off x="5787000" y="-77400"/>
              <a:ext cx="458280" cy="281988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_s1033"/>
            <p:cNvCxnSpPr>
              <a:stCxn id="171" idx="0"/>
              <a:endCxn id="177" idx="0"/>
            </p:cNvCxnSpPr>
            <p:nvPr/>
          </p:nvCxnSpPr>
          <p:spPr>
            <a:xfrm flipH="1" flipV="1" rot="5400000">
              <a:off x="2968560" y="-77040"/>
              <a:ext cx="458280" cy="281916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7" name="_s1034"/>
            <p:cNvSpPr/>
            <p:nvPr/>
          </p:nvSpPr>
          <p:spPr>
            <a:xfrm>
              <a:off x="3069360" y="18900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8a5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ализация прав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25092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посредстве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88888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осредова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2301120" y="29350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блюд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8"/>
            <p:cNvSpPr/>
            <p:nvPr/>
          </p:nvSpPr>
          <p:spPr>
            <a:xfrm>
              <a:off x="2301120" y="43084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9"/>
            <p:cNvSpPr/>
            <p:nvPr/>
          </p:nvSpPr>
          <p:spPr>
            <a:xfrm>
              <a:off x="2301120" y="568152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ьзов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>
              <a:off x="5888880" y="293508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ме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SmartArt 9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813880" cy="6578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самостоятельно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не опираясь на правоприменительную деятельность государственных орган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спользование –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214308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нение -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форма реализации права, исполнение субъектами права обязанностей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242892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ация обязывающих норм, предусматривающих позитивные обязанн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бует активных действий в интересах управомоченной сторон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-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оздержание от совершения запрещенных действ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357280"/>
            <a:ext cx="8786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уются запрещающие и охранительные норм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0" lang="ru-RU" sz="4200" spc="-1" strike="noStrike">
                <a:solidFill>
                  <a:srgbClr val="dbbd71"/>
                </a:solidFill>
                <a:latin typeface="Arial"/>
              </a:rPr>
              <a:t>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7:33:38Z</dcterms:created>
  <dc:creator>Кутузова</dc:creator>
  <dc:description/>
  <dc:language>en-US</dc:language>
  <cp:lastModifiedBy>LEGION</cp:lastModifiedBy>
  <dcterms:modified xsi:type="dcterms:W3CDTF">2015-01-28T10:13:17Z</dcterms:modified>
  <cp:revision>45</cp:revision>
  <dc:subject/>
  <dc:title>Слайд 1</dc:title>
</cp:coreProperties>
</file>