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462-BE9A-4FC0-8F1D-A857239A39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0065-E3CD-4282-A421-D53C02EFEE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Никакая власть не должна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ревышать законы» (лат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57BD-C30F-4194-96F8-0BECC89A12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4357-24BC-438D-8548-A8B4017F32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онят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5A34-56B0-495C-A02F-802BDDA849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9EB-2DA9-43F5-A9DA-550AFF1A83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С-форм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Закон суров, но это закон» -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ласть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закон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1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435-41D7-4651-BFD5-2663DEAF48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FD57-0F0D-4816-A131-9F57408473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F7B-A7C1-4001-AE08-4815E22A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450-6A84-45AD-9A8D-A02A0E73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C1D-9E1A-40D5-9B96-529706B2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DBD-7C0C-46D4-8A0C-1C80DD1D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1AC-AADB-4A9F-BE7E-A0261A04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A71-04AC-47B4-8BEC-DBB2D318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46B-8454-43E7-8DA0-317C1A89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912-F4D2-483D-9BBE-30D62523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683-B31E-4C24-8DC2-405376D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543-F003-451F-84E9-41A2518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4D2-8504-41F4-A331-A73A142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CE1-E4B5-4F7C-9BC5-650144FB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21B-4886-48D8-8E71-947EF2E6E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LEGION</cp:lastModifiedBy>
  <dcterms:modified xsi:type="dcterms:W3CDTF">2015-01-28T10:51:33Z</dcterms:modified>
  <cp:revision>10</cp:revision>
  <dc:subject/>
  <dc:title>ПОПС-формула</dc:title>
</cp:coreProperties>
</file>