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009F-84DA-4187-B82C-99D48F395C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DC1-C290-45A6-BFD4-D0C16F05F6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Никакая власть не должна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превышать законы» (лат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1BF5-A811-4FA3-AD4F-6B9ECD9F92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3EED-3A24-4E2F-B7C2-46563142BF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онят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ADE2-BEED-41D2-A9D2-559399E6E1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E511-006C-40B9-8B07-67298208D0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С-форм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Закон суров, но это закон» -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ласть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закон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12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62F7-62ED-477F-9FCB-C9A4B85E41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39A1-9C75-4153-A40C-DE27192B83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E35-6B1D-46F9-A243-E891C3D8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0BB-B74E-4395-A959-5C8F0F01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3CA-EAF1-44EB-A063-F3F0559E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97B-5395-47D4-96A0-F175B798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967-195D-412D-A69C-79D6AA5C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56D-55F6-42B2-BEAC-6A06716C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002-F68C-413B-940A-E492460E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D4A-5CC3-419B-948F-46E1C56F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384-F595-4E2C-AADD-D85C15AF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4AF-5EBC-4903-B42E-66B39179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924-71F4-4D53-ADFD-A956750F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A37-A4F1-4235-A61D-28638627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1B6A-E4A4-4438-BDCE-08C693C582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Никакая власть не должн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евышать законы» (лат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сновные понятия тем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ОПС-формул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Закон суров, но это закон» 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ласть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кон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работу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05:17Z</dcterms:created>
  <dc:creator>Елена Владимировна</dc:creator>
  <dc:description/>
  <dc:language>en-US</dc:language>
  <cp:lastModifiedBy>LEGION</cp:lastModifiedBy>
  <dcterms:modified xsi:type="dcterms:W3CDTF">2015-01-28T10:51:33Z</dcterms:modified>
  <cp:revision>10</cp:revision>
  <dc:subject/>
  <dc:title>ПОПС-формула</dc:title>
</cp:coreProperties>
</file>