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4841-F7DF-41E5-A41C-B43A740259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5209-D761-409E-9AFD-936EA77B4D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Никакая власть не должна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превышать законы» (лат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E079-B161-45E5-A9EE-CC995E6722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D96A-D5A5-4B82-8383-4EA67056AA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онят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A429-9E49-4082-A237-60694B37B7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9906-F6BB-45F5-8F11-F59AA17F83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С-форм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imes New Roman"/>
              </a:rPr>
              <a:t>«Закон суров, но это закон» -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ласть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закон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12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AA3B-824F-4DFA-A9A4-C017C3E948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96C1-5693-4209-9B38-90E0B38A60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A4B-05E4-49DA-B46C-399DFEEF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FDC5-6B3B-4D67-A334-19D4ADEE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984-B87A-4F0B-ACE9-C2A2BA1C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894-96EF-4701-B6D2-C1A4D931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CB9-0A11-4C3D-9733-0D6F1B40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FDD-C3F2-4E52-A052-8BA78BBB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6F2-A6B8-412B-AD4F-99474FB5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FBE-CAED-4123-917C-395737F0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5D2-E55F-4B69-9517-79826350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7A8-7FAE-4F6E-8044-B7209827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A20-552F-4A7B-86D2-0C3DFE98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BAF-7A62-4D53-9E37-A3BBDC96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0B85-41E2-443D-8360-75302C6D26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LEGION</cp:lastModifiedBy>
  <dcterms:modified xsi:type="dcterms:W3CDTF">2015-01-28T10:51:33Z</dcterms:modified>
  <cp:revision>10</cp:revision>
  <dc:subject/>
  <dc:title>ПОПС-формула</dc:title>
</cp:coreProperties>
</file>