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56CE-D78F-4DA2-A66D-1F69E1B6CB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втор – Кригер Ю.Н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EDCC-18A9-4920-BCB7-42CA35DD65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момент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1C85-1B31-4D24-9FB0-4BE76578CA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ЗДАНИЕ УСЛОВИЙ ДЛЯ ПОСТЕПЕННОГО ВОЗРАСТАНИЯ СТЕПЕНИ ОТВЕТСТВЕННОСТИ ЧЕРЕЗ ВСЕ БОЛЬШЕЕ РАЗДЕЛЕНИЕ ЕЕ С ВЗРОСЛЫ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ЕДИНСТВЕННО ВОЗМОЖНЫЙ ПУТЬ НАУЧИТЬ РЕБЕНКА БЫТЬ ОТВЕТСТВЕННЫМ ЗА СВОИ ПОСТУПКИ И ЖИЗНЬ ПЕРЕД ДРУГИМИ И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089B-AC6B-47F0-BB8B-0BDCE76D37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06D3-2685-441A-9625-83E0C04475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B83B-ECDC-4A53-AE39-7A1D131F42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9ABD-E518-4AD3-BBCD-12500B08A8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ава и обязанности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Воспитан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A542-0197-4744-A2E6-3CAB86F64F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4E3C-3F00-444F-817B-C035D4A660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ьские права и обязанност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Забота о детях, их воспитание - равное право и обязанность родителей (ч.2 ст.38 Конституции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A97A-7766-4F09-8A19-5FF6AED705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Род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■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CCAC-0A6F-464E-96DB-82A437FAAD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070d"/>
                </a:solidFill>
                <a:latin typeface="Calibri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1200" spc="-1" strike="noStrike">
                <a:solidFill>
                  <a:srgbClr val="03070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F862-5BBD-4249-A7A0-ED441D5724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Де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8B8F-B277-4E93-ABB0-DA87AADF21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7E8F-9E8B-41DF-94F6-9C3BA3BBB6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7DB-4E66-4D57-9CFB-876F645DBD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179-57D7-4733-8057-C2BD9AF2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106-50AE-4C3E-83CF-BAA2ED37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61F-11CC-4F9A-B05E-6EA22AC2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6CF-FA5A-483D-BBCE-3F4B9F27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C1A4-BCE6-43B9-BC05-323ACACF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EEB2-EC18-4D9A-8DE7-12D4A3A1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7473-D850-4EF5-86B0-9A34CD84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1CD0-A132-4B42-B910-0C743040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E8B1-A8B7-44E3-A00D-6FB7CC5E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055E-62E3-48F0-963F-AAD8939C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57F2-B468-493E-BD13-76039EA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778-A0B9-40F3-8DD3-A1F015E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97BA-5922-4F2C-868D-201E1646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5C37-298E-4560-840C-7BD21B9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12CB-0BBE-4C16-B10E-B33DDA8C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5A24-FBA0-432F-90EE-1D19B101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FF5A-C82E-4AB5-8474-873F4EFD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D3D-41A2-48D1-8E06-AD880E2E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4FC-DC28-4494-91F8-3D97C5CA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08B-8E27-484C-A5D0-0D2D6D11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F91-862F-4E89-B7EF-E29F6D48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69C-74AA-4E35-8632-D2AEF36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8F2-C4AC-4735-9175-B22AFE0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2F7-C55E-4413-B715-1245790C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142F-81D3-4840-8BF6-4D97D4330C48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F0C2-4F96-4D70-A040-0BD0EAC1F2C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9379-07D2-461A-B0E0-7DF17842D67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C9A4-54B3-4C7A-801F-B74AC644908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9064800" cy="583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38760"/>
            <a:ext cx="640080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– Кригер Ю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71680" y="7858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192888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момент –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71680" y="3935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1"/>
          <p:cNvGrpSpPr/>
          <p:nvPr/>
        </p:nvGrpSpPr>
        <p:grpSpPr>
          <a:xfrm>
            <a:off x="347760" y="1547640"/>
            <a:ext cx="8583480" cy="3468960"/>
            <a:chOff x="347760" y="1547640"/>
            <a:chExt cx="8583480" cy="3468960"/>
          </a:xfrm>
        </p:grpSpPr>
        <p:pic>
          <p:nvPicPr>
            <p:cNvPr id="129" name="Rectangle 1" descr=""/>
            <p:cNvPicPr/>
            <p:nvPr/>
          </p:nvPicPr>
          <p:blipFill>
            <a:blip r:embed="rId1"/>
            <a:stretch/>
          </p:blipFill>
          <p:spPr>
            <a:xfrm>
              <a:off x="347760" y="1547640"/>
              <a:ext cx="858348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040" y="1656000"/>
              <a:ext cx="8215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ОЗДАНИЕ УСЛОВИЙ ДЛЯ ПОСТЕПЕННОГО ВОЗРАСТАНИЯ СТЕПЕНИ ОТВЕТСТВЕННОСТИ ЧЕРЕЗ ВСЕ БОЛЬШЕЕ РАЗДЕЛЕНИЕ ЕЕ С ВЗРОСЛЫМ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-ЕДИНСТВЕННО ВОЗМОЖНЫЙ ПУТЬ НАУЧИТЬ РЕБЕНКА БЫТЬ ОТВЕТСТВЕННЫМ ЗА СВОИ ПОСТУПКИ И ЖИЗНЬ ПЕРЕД ДРУГИМИ И САМИМ СОБ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0" y="-561960"/>
            <a:ext cx="392904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600" spc="-1" strike="noStrike">
                <a:solidFill>
                  <a:srgbClr val="333333"/>
                </a:solidFill>
                <a:latin typeface="Arial"/>
                <a:ea typeface="Times New Roman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428840" y="3128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7168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B_ne.gif"/>
          <p:cNvPicPr/>
          <p:nvPr/>
        </p:nvPicPr>
        <p:blipFill>
          <a:blip r:embed="rId1"/>
          <a:stretch/>
        </p:blipFill>
        <p:spPr>
          <a:xfrm>
            <a:off x="1285920" y="1143000"/>
            <a:ext cx="5715000" cy="53578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00040" y="285840"/>
            <a:ext cx="531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71680" y="1643040"/>
            <a:ext cx="56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ок вызвал подозр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71680" y="2071800"/>
            <a:ext cx="51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" descr="ФОТО:"/>
          <p:cNvPicPr/>
          <p:nvPr/>
        </p:nvPicPr>
        <p:blipFill>
          <a:blip r:embed="rId1"/>
          <a:stretch/>
        </p:blipFill>
        <p:spPr>
          <a:xfrm>
            <a:off x="4857840" y="185724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ава и обязанности родителей и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оспитание ответ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Если подросток попал в милици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ВАЯ КУЛЬТУ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37148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 flipV="1" rot="10800000">
            <a:off x="357120" y="21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ие права и обязанност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90440"/>
            <a:ext cx="916956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9"/>
          <p:cNvGrpSpPr/>
          <p:nvPr/>
        </p:nvGrpSpPr>
        <p:grpSpPr>
          <a:xfrm>
            <a:off x="6071760" y="2857680"/>
            <a:ext cx="2714040" cy="3726720"/>
            <a:chOff x="6071760" y="2857680"/>
            <a:chExt cx="2714040" cy="3726720"/>
          </a:xfrm>
        </p:grpSpPr>
        <p:pic>
          <p:nvPicPr>
            <p:cNvPr id="101" name="Object 4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2709720" cy="3310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02" name="Text Box 38"/>
            <p:cNvSpPr/>
            <p:nvPr/>
          </p:nvSpPr>
          <p:spPr>
            <a:xfrm flipH="1">
              <a:off x="6071400" y="6216120"/>
              <a:ext cx="27140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57120" y="922680"/>
            <a:ext cx="7500960" cy="1008720"/>
          </a:xfrm>
          <a:prstGeom prst="rect">
            <a:avLst/>
          </a:prstGeom>
          <a:solidFill>
            <a:srgbClr val="dfdae3"/>
          </a:soli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2357280"/>
            <a:ext cx="750096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 flipV="1" rot="10800000">
            <a:off x="357120" y="3761640"/>
            <a:ext cx="7500960" cy="39888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flipV="1" rot="10800000">
            <a:off x="357120" y="4642560"/>
            <a:ext cx="742968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85840" y="357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43466"/>
                </a:solidFill>
                <a:uFillTx/>
                <a:latin typeface="Times New Roman"/>
              </a:rPr>
              <a:t>Р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872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128592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117"/>
                </a:solidFill>
                <a:latin typeface="Times New Roman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4400" spc="-1" strike="noStrike">
                <a:solidFill>
                  <a:srgbClr val="141117"/>
                </a:solidFill>
                <a:latin typeface="Book Antiqu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00040" y="441000"/>
            <a:ext cx="7858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57120" y="2858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  </a:t>
            </a: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Де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14200" y="7873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82971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14200" y="15001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2971"/>
                </a:solidFill>
                <a:latin typeface="Times New Roman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9016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178596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57160" y="28288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786120" y="41583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8:21Z</dcterms:created>
  <dc:creator>Роман</dc:creator>
  <dc:description/>
  <dc:language>en-US</dc:language>
  <cp:lastModifiedBy>LEGION</cp:lastModifiedBy>
  <dcterms:modified xsi:type="dcterms:W3CDTF">2015-01-28T10:15:59Z</dcterms:modified>
  <cp:revision>9</cp:revision>
  <dc:subject/>
  <dc:title>    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 </dc:title>
</cp:coreProperties>
</file>