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1A06-7C87-41BF-BA9D-55CA328B9A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лема воспитания правовой культуры у детей. Права и обязанности родителей и подростка в семье и школе. Формирование правосознания и ответственности подростка за свои поступ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втор – Кригер Ю.Н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A8F7-1CDE-4E06-90D7-111E5EE666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сновная задача человека подросткового возрас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тобрать у родителей право ответственности за свою жизнь. Подросток как бы «отпочковывается», переживает свое «социальное рожд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торой момент –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дросток сам начинает строить свои отношения с миром по новым правилам и норма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ТЕ! -  </a:t>
            </a:r>
            <a:r>
              <a:rPr b="1" i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е участие в общем процессе, значимость и важность собственных действий – это то, что подросток, недополучая в семье, может легко реализовать, проводя время со своими прия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C2B5-EA17-411B-8CFE-A4FD822D13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      </a:t>
            </a:r>
            <a:r>
              <a:rPr b="1" lang="ru-RU" sz="6000" spc="-1" strike="noStrike">
                <a:solidFill>
                  <a:srgbClr val="333333"/>
                </a:solidFill>
                <a:latin typeface="Calibri"/>
                <a:ea typeface="Times New Roman"/>
              </a:rPr>
              <a:t>Вывод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СОЗДАНИЕ УСЛОВИЙ ДЛЯ ПОСТЕПЕННОГО ВОЗРАСТАНИЯ СТЕПЕНИ ОТВЕТСТВЕННОСТИ ЧЕРЕЗ ВСЕ БОЛЬШЕЕ РАЗДЕЛЕНИЕ ЕЕ С ВЗРОСЛЫМ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-ЕДИНСТВЕННО ВОЗМОЖНЫЙ ПУТЬ НАУЧИТЬ РЕБЕНКА БЫТЬ ОТВЕТСТВЕННЫМ ЗА СВОИ ПОСТУПКИ И ЖИЗНЬ ПЕРЕД ДРУГИМИ И САМИМ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ECBD-CCF7-4955-B0CB-325FF6B12E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      Начинать передавать ответственность никогда не рано. Выбирайте реальные для ребенка и действительно нужные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      Важно контролирующее внимание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      «Привлечение» к ответственности – штука бессмысленная, ответственность можно только постепенно переда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.      Ребенку необходимо ощущение, что он ценен сам по себе. Что его любят не за выполненные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.      Помогите ребенку сопоставить свои потребности с потребностями окружающих его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6.      Ни в коем случае не допускайте появления у ребенка угнетающего чувства в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.      Ребенку крайне необходима возможность самостоятельно принимать решения. Оставьте детали задания на его усмот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FA5C-126E-4F5F-8189-D57B718ED2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дросток попал в милици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096A-D35A-4A48-8EE2-72B80640D8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кументо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046F-C008-4F80-92AF-44B8F3E2B8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ава и обязанности родителей 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Воспитание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Если подросток попал в милици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523C-CD3B-4ADE-BA7E-4C93B964D3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ВАЯ КУЛЬТУ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истема ценностей, правовых идей, убеждений, навыков и стереотипов поведения, правовых традиций, принятых членами определенной общности (государственной, религиозной, этнической) и используемых для регулирования их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овой теории существует оценочный подход к зрелости П.к.: говорят о "высокой" и "низкой" П.к., о необходимости повышения П.к. общества и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64DF-C922-4C84-9473-B541C0AD3F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дительские права и обязанност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Забота о детях, их воспитание - равное право и обязанность родителей (ч.2 ст.38 Конституции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9229-C33A-4F2F-A838-2F42BDDF55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Родит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■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имеет право и обязан воспитывать своих детей, заботиться об их здоровье, физическом, психическом, духовном и нравственном развит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 обязаны обеспечить получение детьми основного общего образования, т.е. образования в объёме девяти классов общеобразователь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одителей возлагается также защита прав и интересо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 свободны в выборе средств и методов воспитания, однако пределы и цели их родительских прав ограничены целью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0021-1478-4AE4-A024-8F8EE71FCE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рава и обязанности детей в семье 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3070d"/>
                </a:solidFill>
                <a:latin typeface="Calibri"/>
              </a:rPr>
              <a:t>Правовое положение ребёнка в семье определяется с точки зрения интересов ребёнка (а не прав и обязанностей родителей</a:t>
            </a:r>
            <a:r>
              <a:rPr b="1" lang="en-US" sz="1200" spc="-1" strike="noStrike">
                <a:solidFill>
                  <a:srgbClr val="03070d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CFC6-CC5D-4DCF-A1B5-4C5F55DADA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Де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жить и воспитываться в семье; знать своих родителей (насколько это возможно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заботу и на воспитание своими родителями (а при их отсутствии – другими ответственными за это лиц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обеспечение своих интересов, всестороннее развитие и уважение человеческого достои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общение со своими родителями (независимо от того, проживают они совместно или нет) и другими родственник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защиту своих прав и интере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получение содерж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собственности на принадлежащее ему имуще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027C-29E9-4EEC-BC0B-3BBC3103D5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215968"/>
                </a:solidFill>
                <a:uFillTx/>
                <a:latin typeface="Times New Roman"/>
                <a:ea typeface="Calibri"/>
              </a:rPr>
              <a:t>Ответственность за неисполнение обязанностей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За неисполнение ряда семейно-правовых обязанностей наступает уголовная ответственность. Так, к уголовной ответственности могут быть привлечены родители, злостно уклоняющиеся от уплаты алиментов, а также взрослые дети за уклонение от содержания своих нетрудоспособных ро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EC9B-3916-4F4D-BCFA-D31E07FB7E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ЕМ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ое, что надо сделать, это разделить два смысла этого слова – ответственность в контексте уголовного кодекса и человеческая ответств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головном кодексе есть такие слова: «привлечение к уголовной ответственности», «наступление ответствен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а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сознанное и активное отношение и поведение, осознанная готовность взять на себя обязательства по соблюдению договоренностей, по изменению ситуации, по поддержанию безопасност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2A6B-E650-4053-B633-723FBF62C6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492D-FEA3-4D99-B387-6A0E8B5F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D47-F8EC-47B1-AD55-329A1493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247-E5EE-47B3-9E29-8C3F7AF6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D83F-224B-4F0A-A776-B884B313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AB7C-BDE4-46E2-97E1-5BBD0D03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743F-B998-42DF-91CA-3F858078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75D1-F137-4BD3-9B1D-6F54594C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AE21-CEE3-4318-A245-B5A8C72D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3537-0E37-47F1-AAD6-770775AB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DBFC-D470-414E-A25B-3F94F88E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7152-2628-4B01-9B2F-12806CFC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7BB8-CC12-4FB1-A3ED-2C700A45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2418-8ADC-44CC-B30F-60E04A17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2B5F-AA84-4C6A-AF9F-3BF9F7F6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3116-F2E1-489A-80A4-F61B8F3C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10A7-1802-406C-A398-8387C78F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3FDC-A2E6-44B7-8C77-FE007837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95A7-BFE0-43B9-91C3-E89CFDDE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A011-8516-4CB8-99E6-17C8CECF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4A9-EA45-4849-A3C4-37F0B16D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CEFD-51A9-4044-B908-8758AAFE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25E9-2043-4582-AB64-B49C03C2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EF6-8602-4236-82D3-7F1C713D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E77-EEEC-46E1-B789-5A6E003D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6CF9-19E7-40ED-8B9D-39D175A1A972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270D-EB15-4610-B4B6-94EB20A4B19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FF4B-FDEC-4B0E-A512-24D494F30979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0DBC-F370-4630-9D88-F53E355F41A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25360" y="212760"/>
            <a:ext cx="9064800" cy="58341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4838760"/>
            <a:ext cx="6400800" cy="16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р – Кригер Ю.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571680" y="78588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сновная задача человека подросткового возрас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тобрать у родителей право ответственности за свою жизнь. Подросток как бы «отпочковывается», переживает свое «социальное рождени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714240" y="1928880"/>
            <a:ext cx="721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торой момент –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дросток сам начинает строить свои отношения с миром по новым правилам и норма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571680" y="39355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ТЕ! -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е участие в общем процессе, значимость и важность собственных действий – это то, что подросток, недополучая в семье, может легко реализовать, проводя время со своими приятел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Rectangle 1"/>
          <p:cNvGrpSpPr/>
          <p:nvPr/>
        </p:nvGrpSpPr>
        <p:grpSpPr>
          <a:xfrm>
            <a:off x="347760" y="1547640"/>
            <a:ext cx="8583480" cy="3468960"/>
            <a:chOff x="347760" y="1547640"/>
            <a:chExt cx="8583480" cy="3468960"/>
          </a:xfrm>
        </p:grpSpPr>
        <p:pic>
          <p:nvPicPr>
            <p:cNvPr id="129" name="Rectangle 1" descr=""/>
            <p:cNvPicPr/>
            <p:nvPr/>
          </p:nvPicPr>
          <p:blipFill>
            <a:blip r:embed="rId1"/>
            <a:stretch/>
          </p:blipFill>
          <p:spPr>
            <a:xfrm>
              <a:off x="347760" y="1547640"/>
              <a:ext cx="8583480" cy="34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00040" y="1656000"/>
              <a:ext cx="82152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СОЗДАНИЕ УСЛОВИЙ ДЛЯ ПОСТЕПЕННОГО ВОЗРАСТАНИЯ СТЕПЕНИ ОТВЕТСТВЕННОСТИ ЧЕРЕЗ ВСЕ БОЛЬШЕЕ РАЗДЕЛЕНИЕ ЕЕ С ВЗРОСЛЫМ –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-ЕДИНСТВЕННО ВОЗМОЖНЫЙ ПУТЬ НАУЧИТЬ РЕБЕНКА БЫТЬ ОТВЕТСТВЕННЫМ ЗА СВОИ ПОСТУПКИ И ЖИЗНЬ ПЕРЕД ДРУГИМИ И САМИМ СОБОЙ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5"/>
          <p:cNvSpPr/>
          <p:nvPr/>
        </p:nvSpPr>
        <p:spPr>
          <a:xfrm>
            <a:off x="0" y="-561960"/>
            <a:ext cx="392904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      </a:t>
            </a:r>
            <a:r>
              <a:rPr b="1" lang="ru-RU" sz="6600" spc="-1" strike="noStrike">
                <a:solidFill>
                  <a:srgbClr val="333333"/>
                </a:solidFill>
                <a:latin typeface="Arial"/>
                <a:ea typeface="Times New Roman"/>
              </a:rPr>
              <a:t>Вывод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1428840" y="312840"/>
            <a:ext cx="5286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Памятка для род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      Начинать передавать ответственность никогда не рано. Выбирайте реальные для ребенка и действительно нужные зад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      Важно контролирующее внимание взросл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      «Привлечение» к ответственности – штука бессмысленная, ответственность можно только постепенно передав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.      Ребенку необходимо ощущение, что он ценен сам по себе. Что его любят не за выполненные зад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.      Помогите ребенку сопоставить свои потребности с потребностями окружающих его люд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6.      Ни в коем случае не допускайте появления у ребенка угнетающего чувства в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.      Ребенку крайне необходима возможность самостоятельно принимать решения. Оставьте детали задания на его усмот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571680" y="357120"/>
            <a:ext cx="77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подросток попал в милицию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2" descr="B_ne.gif"/>
          <p:cNvPicPr/>
          <p:nvPr/>
        </p:nvPicPr>
        <p:blipFill>
          <a:blip r:embed="rId1"/>
          <a:stretch/>
        </p:blipFill>
        <p:spPr>
          <a:xfrm>
            <a:off x="1285920" y="1143000"/>
            <a:ext cx="5715000" cy="53578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500040" y="285840"/>
            <a:ext cx="531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документов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571680" y="1643040"/>
            <a:ext cx="56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росток вызвал подозрен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571680" y="2071800"/>
            <a:ext cx="516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Рисунок 2" descr="ФОТО:"/>
          <p:cNvPicPr/>
          <p:nvPr/>
        </p:nvPicPr>
        <p:blipFill>
          <a:blip r:embed="rId1"/>
          <a:stretch/>
        </p:blipFill>
        <p:spPr>
          <a:xfrm>
            <a:off x="4857840" y="1857240"/>
            <a:ext cx="4286160" cy="42865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Права и обязанности родителей и де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Воспитание ответств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Если подросток попал в милицию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357120" y="42876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АВОВАЯ КУЛЬТУР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истема ценностей, правовых идей, убеждений, навыков и стереотипов поведения, правовых традиций, принятых членами определенной общности (государственной, религиозной, этнической) и используемых для регулирования их дея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2286000" y="3714840"/>
            <a:ext cx="642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авовой теории существует оценочный подход к зрелости П.к.: говорят о "высокой" и "низкой" П.к., о необходимости повышения П.к. общества и лич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 flipV="1" rot="10800000">
            <a:off x="357120" y="21312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одительские права и обязанности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1090440"/>
            <a:ext cx="9169560" cy="35179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39"/>
          <p:cNvGrpSpPr/>
          <p:nvPr/>
        </p:nvGrpSpPr>
        <p:grpSpPr>
          <a:xfrm>
            <a:off x="6071760" y="2857680"/>
            <a:ext cx="2714040" cy="3726720"/>
            <a:chOff x="6071760" y="2857680"/>
            <a:chExt cx="2714040" cy="3726720"/>
          </a:xfrm>
        </p:grpSpPr>
        <p:pic>
          <p:nvPicPr>
            <p:cNvPr id="101" name="Object 4" descr="Зеленый мрамор"/>
            <p:cNvPicPr/>
            <p:nvPr/>
          </p:nvPicPr>
          <p:blipFill>
            <a:blip r:embed="rId2"/>
            <a:stretch/>
          </p:blipFill>
          <p:spPr>
            <a:xfrm>
              <a:off x="6072120" y="2857680"/>
              <a:ext cx="2709720" cy="3310920"/>
            </a:xfrm>
            <a:prstGeom prst="rect">
              <a:avLst/>
            </a:prstGeom>
            <a:ln w="38160">
              <a:solidFill>
                <a:srgbClr val="0000ff"/>
              </a:solidFill>
              <a:miter/>
            </a:ln>
          </p:spPr>
        </p:pic>
        <p:sp>
          <p:nvSpPr>
            <p:cNvPr id="102" name="Text Box 38"/>
            <p:cNvSpPr/>
            <p:nvPr/>
          </p:nvSpPr>
          <p:spPr>
            <a:xfrm flipH="1">
              <a:off x="6071400" y="6216120"/>
              <a:ext cx="2714040" cy="368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Семь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357120" y="922680"/>
            <a:ext cx="7500960" cy="1008720"/>
          </a:xfrm>
          <a:prstGeom prst="rect">
            <a:avLst/>
          </a:prstGeom>
          <a:solidFill>
            <a:srgbClr val="dfdae3"/>
          </a:soli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право и обязан воспитывать своих детей, заботиться об их здоровье, физическом, психическом, духовном и нравственном развит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357120" y="2357280"/>
            <a:ext cx="7500960" cy="100872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обязаны обеспечить получение детьми основного общего образования, т.е. образования в объёме девяти классов общеобразовательной шк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 flipV="1" rot="10800000">
            <a:off x="357120" y="3761640"/>
            <a:ext cx="7500960" cy="39888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одителей возлагается также защита прав и интересов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 flipV="1" rot="10800000">
            <a:off x="357120" y="4642560"/>
            <a:ext cx="7429680" cy="100872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свободны в выборе средств и методов воспитания, однако пределы и цели их родительских прав ограничены целью воспит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285840" y="3571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43466"/>
                </a:solidFill>
                <a:uFillTx/>
                <a:latin typeface="Times New Roman"/>
              </a:rPr>
              <a:t>Роди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57120" y="28728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рава и обязанности детей в семье 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428760" y="1285920"/>
            <a:ext cx="807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1117"/>
                </a:solidFill>
                <a:latin typeface="Times New Roman"/>
              </a:rPr>
              <a:t>Правовое положение ребёнка в семье определяется с точки зрения интересов ребёнка (а не прав и обязанностей родителей</a:t>
            </a:r>
            <a:r>
              <a:rPr b="1" lang="en-US" sz="4400" spc="-1" strike="noStrike">
                <a:solidFill>
                  <a:srgbClr val="141117"/>
                </a:solidFill>
                <a:latin typeface="Book Antiqu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500040" y="441000"/>
            <a:ext cx="7858080" cy="61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жить и воспитываться в семье; знать своих родителей (насколько это возможно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заботу и на воспитание своими родителями (а при их отсутствии – другими ответственными за это лицам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обеспечение своих интересов, всестороннее развитие и уважение человеческого достоинств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общение со своими родителями (независимо от того, проживают они совместно или нет) и другими родственникам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защиту своих прав и интерес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получение содерж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собственности на принадлежащее ему имуще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357120" y="285840"/>
            <a:ext cx="46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43466"/>
                </a:solidFill>
                <a:uFillTx/>
                <a:latin typeface="Times New Roman"/>
              </a:rPr>
              <a:t>  </a:t>
            </a:r>
            <a:r>
              <a:rPr b="0" lang="ru-RU" sz="3200" spc="-1" strike="noStrike" u="sng">
                <a:solidFill>
                  <a:srgbClr val="543466"/>
                </a:solidFill>
                <a:uFillTx/>
                <a:latin typeface="Times New Roman"/>
              </a:rPr>
              <a:t>Дет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214200" y="7873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82971"/>
                </a:solidFill>
                <a:uFillTx/>
                <a:latin typeface="Times New Roman"/>
                <a:ea typeface="Calibri"/>
              </a:rPr>
              <a:t>Ответственность за неисполнение обязанностей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14200" y="1500120"/>
            <a:ext cx="8572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2971"/>
                </a:solidFill>
                <a:latin typeface="Times New Roman"/>
              </a:rPr>
              <a:t>За неисполнение ряда семейно-правовых обязанностей наступает уголовная ответственность. Так, к уголовной ответственности могут быть привлечены родители, злостно уклоняющиеся от уплаты алиментов, а также взрослые дети за уклонение от содержания своих нетрудоспособных родител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357120" y="290160"/>
            <a:ext cx="82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ЫВАЕМ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285840" y="1785960"/>
            <a:ext cx="65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вое, что надо сделать, это разделить два смысла этого слова – ответственность в контексте уголовного кодекса и человеческая ответствен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857160" y="282888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Уголовном кодексе есть такие слова: «привлечение к уголовной ответственности», «наступление ответственно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786120" y="415836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ческая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ственно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осознанное и активное отношение и поведение, осознанная готовность взять на себя обязательства по соблюдению договоренностей, по изменению ситуации, по поддержанию безопасности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2:58:21Z</dcterms:created>
  <dc:creator>Роман</dc:creator>
  <dc:description/>
  <dc:language>en-US</dc:language>
  <cp:lastModifiedBy>LEGION</cp:lastModifiedBy>
  <dcterms:modified xsi:type="dcterms:W3CDTF">2015-01-28T10:15:59Z</dcterms:modified>
  <cp:revision>9</cp:revision>
  <dc:subject/>
  <dc:title>    Проблема воспитания правовой культуры у детей. Права и обязанности родителей и подростка в семье и школе. Формирование правосознания и ответственности подростка за свои поступки. </dc:title>
</cp:coreProperties>
</file>