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CBB2-D3B9-4C09-A733-E21F9491A0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лема воспитания правовой культуры у детей. Права и обязанности родителей и подростка в семье и школе. Формирование правосознания и ответственности подростка за свои поступ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втор – Кригер Ю.Н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15BE-7CD4-4D56-A71E-BFAB58D596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сновная задача человека подросткового возраст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тобрать у родителей право ответственности за свою жизнь. Подросток как бы «отпочковывается», переживает свое «социальное рожд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торой момент –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дросток сам начинает строить свои отношения с миром по новым правилам и норма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ТЕ! -  </a:t>
            </a:r>
            <a:r>
              <a:rPr b="1" i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е участие в общем процессе, значимость и важность собственных действий – это то, что подросток, недополучая в семье, может легко реализовать, проводя время со своими прия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F8D9-A155-4EB4-9FE8-A95B802CE4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      </a:t>
            </a:r>
            <a:r>
              <a:rPr b="1" lang="ru-RU" sz="6000" spc="-1" strike="noStrike">
                <a:solidFill>
                  <a:srgbClr val="333333"/>
                </a:solidFill>
                <a:latin typeface="Calibri"/>
                <a:ea typeface="Times New Roman"/>
              </a:rPr>
              <a:t>Вывод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СОЗДАНИЕ УСЛОВИЙ ДЛЯ ПОСТЕПЕННОГО ВОЗРАСТАНИЯ СТЕПЕНИ ОТВЕТСТВЕННОСТИ ЧЕРЕЗ ВСЕ БОЛЬШЕЕ РАЗДЕЛЕНИЕ ЕЕ С ВЗРОСЛЫМ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-ЕДИНСТВЕННО ВОЗМОЖНЫЙ ПУТЬ НАУЧИТЬ РЕБЕНКА БЫТЬ ОТВЕТСТВЕННЫМ ЗА СВОИ ПОСТУПКИ И ЖИЗНЬ ПЕРЕД ДРУГИМИ И САМИМ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39A6-F9B1-41F8-A653-53B8021246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      Начинать передавать ответственность никогда не рано. Выбирайте реальные для ребенка и действительно нужные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      Важно контролирующее внимание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.      «Привлечение» к ответственности – штука бессмысленная, ответственность можно только постепенно переда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.      Ребенку необходимо ощущение, что он ценен сам по себе. Что его любят не за выполненные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.      Помогите ребенку сопоставить свои потребности с потребностями окружающих его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6.      Ни в коем случае не допускайте появления у ребенка угнетающего чувства в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.      Ребенку крайне необходима возможность самостоятельно принимать решения. Оставьте детали задания на его усмот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D727-E522-4BD9-A4B6-41D5F32F4A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дросток попал в милици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DDC5-CA25-434A-8B36-DC5E5F9346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кументо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3F57-EA01-46FD-8585-EAFE1017FA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ава и обязанности родителей 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Воспитание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Если подросток попал в милици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6630-2790-48C7-9496-8E19FFB0B8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ВАЯ КУЛЬТУ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истема ценностей, правовых идей, убеждений, навыков и стереотипов поведения, правовых традиций, принятых членами определенной общности (государственной, религиозной, этнической) и используемых для регулирования их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овой теории существует оценочный подход к зрелости П.к.: говорят о "высокой" и "низкой" П.к., о необходимости повышения П.к. общества и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57F4-5366-440C-9B24-8233F840A5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дительские права и обязанност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Забота о детях, их воспитание - равное право и обязанность родителей (ч.2 ст.38 Конституции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0941-49D1-47BC-8134-BD3E4AAA73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Родит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■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имеет право и обязан воспитывать своих детей, заботиться об их здоровье, физическом, психическом, духовном и нравственном развит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 обязаны обеспечить получение детьми основного общего образования, т.е. образования в объёме девяти классов общеобразователь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одителей возлагается также защита прав и интересо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 свободны в выборе средств и методов воспитания, однако пределы и цели их родительских прав ограничены целью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D580-8795-4378-BB39-D7A7DD325A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рава и обязанности детей в семье 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3070d"/>
                </a:solidFill>
                <a:latin typeface="Calibri"/>
              </a:rPr>
              <a:t>Правовое положение ребёнка в семье определяется с точки зрения интересов ребёнка (а не прав и обязанностей родителей</a:t>
            </a:r>
            <a:r>
              <a:rPr b="1" lang="en-US" sz="1200" spc="-1" strike="noStrike">
                <a:solidFill>
                  <a:srgbClr val="03070d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8665-E038-4D66-9A24-7FE4DFD998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Де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жить и воспитываться в семье; знать своих родителей (насколько это возможно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заботу и на воспитание своими родителями (а при их отсутствии – другими ответственными за это лицам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обеспечение своих интересов, всестороннее развитие и уважение человеческого достои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общение со своими родителями (независимо от того, проживают они совместно или нет) и другими родственник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защиту своих прав и интере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получение содерж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собственности на принадлежащее ему имуще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38B5-EFEE-453F-AC36-E85E647665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215968"/>
                </a:solidFill>
                <a:uFillTx/>
                <a:latin typeface="Times New Roman"/>
                <a:ea typeface="Calibri"/>
              </a:rPr>
              <a:t>Ответственность за неисполнение обязанностей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За неисполнение ряда семейно-правовых обязанностей наступает уголовная ответственность. Так, к уголовной ответственности могут быть привлечены родители, злостно уклоняющиеся от уплаты алиментов, а также взрослые дети за уклонение от содержания своих нетрудоспособных ро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04CA-3802-4E00-857C-4AD2DD9B8F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ЕМ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ое, что надо сделать, это разделить два смысла этого слова – ответственность в контексте уголовного кодекса и человеческая ответств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головном кодексе есть такие слова: «привлечение к уголовной ответственности», «наступление ответствен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а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осознанное и активное отношение и поведение, осознанная готовность взять на себя обязательства по соблюдению договоренностей, по изменению ситуации, по поддержанию безопасност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AF38-C9F6-47E8-A4E4-0F2F77A652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8136-C7D5-43B4-AE1D-14A17D51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E55-75AF-4F71-A182-EC98A6C0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7A8-D571-4E36-8EDF-E976D616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896-CEA2-4A21-8385-0ACDF8CD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4CB0-50B5-4D9C-954D-3BDAB06B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2818-92CF-469B-9D53-8CE6FB42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CA3C-D045-470C-93DC-2EFCA752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0B60-D775-4D4B-8372-D31020B6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B0E0-AB54-47D0-88CC-04C420A9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6431-E7E7-4B9F-9F9D-14365C9F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F604-DB69-44FC-927A-7FB2BC6B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466-6639-4819-9514-BDEC94B0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6078-2745-4405-A314-78B7B23E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A196-F302-4AFE-9A0A-3472860F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9649-FD30-412E-8B47-B1037487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9E1B-C382-44E7-AAF4-81C776E9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5D44-BBB1-414E-A8F3-DCD39C41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CC1-FDBC-4D87-BA89-4F2CF0E0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42D-293E-4040-8B31-5E3EEADC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DC9-9E16-47E9-97CC-A933F794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CBA-6B2D-4150-BC75-A62987D9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CF5F-B44F-419C-B67E-C70A8A8A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83DF-1BEE-414C-B3C6-B9D11CB1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53EF-7E50-4875-8E49-0245CDD4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C975-87B0-4538-B849-C4C72F91B7A6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A3D0-1E44-4852-AA30-A887D7B87E3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C1AD-7F6F-4FCE-BDB8-B556FEDAC615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EBAF-98C7-405F-961A-EC40297A69D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25360" y="212760"/>
            <a:ext cx="9064800" cy="58341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4838760"/>
            <a:ext cx="6400800" cy="16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р – Кригер Ю.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571680" y="78588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сновная задача человека подросткового возрас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тобрать у родителей право ответственности за свою жизнь. Подросток как бы «отпочковывается», переживает свое «социальное рождени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714240" y="1928880"/>
            <a:ext cx="721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торой момент –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дросток сам начинает строить свои отношения с миром по новым правилам и норма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571680" y="39355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ТЕ! -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е участие в общем процессе, значимость и важность собственных действий – это то, что подросток, недополучая в семье, может легко реализовать, проводя время со своими приятел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Rectangle 1"/>
          <p:cNvGrpSpPr/>
          <p:nvPr/>
        </p:nvGrpSpPr>
        <p:grpSpPr>
          <a:xfrm>
            <a:off x="347760" y="1547640"/>
            <a:ext cx="8583480" cy="3468960"/>
            <a:chOff x="347760" y="1547640"/>
            <a:chExt cx="8583480" cy="3468960"/>
          </a:xfrm>
        </p:grpSpPr>
        <p:pic>
          <p:nvPicPr>
            <p:cNvPr id="129" name="Rectangle 1" descr=""/>
            <p:cNvPicPr/>
            <p:nvPr/>
          </p:nvPicPr>
          <p:blipFill>
            <a:blip r:embed="rId1"/>
            <a:stretch/>
          </p:blipFill>
          <p:spPr>
            <a:xfrm>
              <a:off x="347760" y="1547640"/>
              <a:ext cx="8583480" cy="34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00040" y="1656000"/>
              <a:ext cx="82152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СОЗДАНИЕ УСЛОВИЙ ДЛЯ ПОСТЕПЕННОГО ВОЗРАСТАНИЯ СТЕПЕНИ ОТВЕТСТВЕННОСТИ ЧЕРЕЗ ВСЕ БОЛЬШЕЕ РАЗДЕЛЕНИЕ ЕЕ С ВЗРОСЛЫМ –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-ЕДИНСТВЕННО ВОЗМОЖНЫЙ ПУТЬ НАУЧИТЬ РЕБЕНКА БЫТЬ ОТВЕТСТВЕННЫМ ЗА СВОИ ПОСТУПКИ И ЖИЗНЬ ПЕРЕД ДРУГИМИ И САМИМ СОБОЙ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5"/>
          <p:cNvSpPr/>
          <p:nvPr/>
        </p:nvSpPr>
        <p:spPr>
          <a:xfrm>
            <a:off x="0" y="-561960"/>
            <a:ext cx="392904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      </a:t>
            </a:r>
            <a:r>
              <a:rPr b="1" lang="ru-RU" sz="6600" spc="-1" strike="noStrike">
                <a:solidFill>
                  <a:srgbClr val="333333"/>
                </a:solidFill>
                <a:latin typeface="Arial"/>
                <a:ea typeface="Times New Roman"/>
              </a:rPr>
              <a:t>Вывод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1428840" y="312840"/>
            <a:ext cx="5286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Памятка для род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      Начинать передавать ответственность никогда не рано. Выбирайте реальные для ребенка и действительно нужные зад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      Важно контролирующее внимание взросл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.      «Привлечение» к ответственности – штука бессмысленная, ответственность можно только постепенно передав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.      Ребенку необходимо ощущение, что он ценен сам по себе. Что его любят не за выполненные зад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.      Помогите ребенку сопоставить свои потребности с потребностями окружающих его люд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6.      Ни в коем случае не допускайте появления у ребенка угнетающего чувства в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.      Ребенку крайне необходима возможность самостоятельно принимать решения. Оставьте детали задания на его усмотр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571680" y="357120"/>
            <a:ext cx="77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подросток попал в милицию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2" descr="B_ne.gif"/>
          <p:cNvPicPr/>
          <p:nvPr/>
        </p:nvPicPr>
        <p:blipFill>
          <a:blip r:embed="rId1"/>
          <a:stretch/>
        </p:blipFill>
        <p:spPr>
          <a:xfrm>
            <a:off x="1285920" y="1143000"/>
            <a:ext cx="5715000" cy="53578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500040" y="285840"/>
            <a:ext cx="531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документов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571680" y="1643040"/>
            <a:ext cx="56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росток вызвал подозрен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571680" y="2071800"/>
            <a:ext cx="516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Рисунок 2" descr="ФОТО:"/>
          <p:cNvPicPr/>
          <p:nvPr/>
        </p:nvPicPr>
        <p:blipFill>
          <a:blip r:embed="rId1"/>
          <a:stretch/>
        </p:blipFill>
        <p:spPr>
          <a:xfrm>
            <a:off x="4857840" y="1857240"/>
            <a:ext cx="4286160" cy="42865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Права и обязанности родителей и де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Воспитание ответств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Если подросток попал в милицию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357120" y="42876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АВОВАЯ КУЛЬТУР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истема ценностей, правовых идей, убеждений, навыков и стереотипов поведения, правовых традиций, принятых членами определенной общности (государственной, религиозной, этнической) и используемых для регулирования их деяте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2286000" y="3714840"/>
            <a:ext cx="642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авовой теории существует оценочный подход к зрелости П.к.: говорят о "высокой" и "низкой" П.к., о необходимости повышения П.к. общества и лич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 flipV="1" rot="10800000">
            <a:off x="357120" y="21312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одительские права и обязанности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1090440"/>
            <a:ext cx="9169560" cy="351792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39"/>
          <p:cNvGrpSpPr/>
          <p:nvPr/>
        </p:nvGrpSpPr>
        <p:grpSpPr>
          <a:xfrm>
            <a:off x="6071760" y="2857680"/>
            <a:ext cx="2714040" cy="3726720"/>
            <a:chOff x="6071760" y="2857680"/>
            <a:chExt cx="2714040" cy="3726720"/>
          </a:xfrm>
        </p:grpSpPr>
        <p:pic>
          <p:nvPicPr>
            <p:cNvPr id="101" name="Object 4" descr="Зеленый мрамор"/>
            <p:cNvPicPr/>
            <p:nvPr/>
          </p:nvPicPr>
          <p:blipFill>
            <a:blip r:embed="rId2"/>
            <a:stretch/>
          </p:blipFill>
          <p:spPr>
            <a:xfrm>
              <a:off x="6072120" y="2857680"/>
              <a:ext cx="2709720" cy="3310920"/>
            </a:xfrm>
            <a:prstGeom prst="rect">
              <a:avLst/>
            </a:prstGeom>
            <a:ln w="38160">
              <a:solidFill>
                <a:srgbClr val="0000ff"/>
              </a:solidFill>
              <a:miter/>
            </a:ln>
          </p:spPr>
        </p:pic>
        <p:sp>
          <p:nvSpPr>
            <p:cNvPr id="102" name="Text Box 38"/>
            <p:cNvSpPr/>
            <p:nvPr/>
          </p:nvSpPr>
          <p:spPr>
            <a:xfrm flipH="1">
              <a:off x="6071400" y="6216120"/>
              <a:ext cx="2714040" cy="368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Семь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357120" y="922680"/>
            <a:ext cx="7500960" cy="1008720"/>
          </a:xfrm>
          <a:prstGeom prst="rect">
            <a:avLst/>
          </a:prstGeom>
          <a:solidFill>
            <a:srgbClr val="dfdae3"/>
          </a:soli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право и обязан воспитывать своих детей, заботиться об их здоровье, физическом, психическом, духовном и нравственном развит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357120" y="2357280"/>
            <a:ext cx="7500960" cy="100872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обязаны обеспечить получение детьми основного общего образования, т.е. образования в объёме девяти классов общеобразовательной шк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 flipV="1" rot="10800000">
            <a:off x="357120" y="3761640"/>
            <a:ext cx="7500960" cy="39888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одителей возлагается также защита прав и интересов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 flipV="1" rot="10800000">
            <a:off x="357120" y="4642560"/>
            <a:ext cx="7429680" cy="100872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свободны в выборе средств и методов воспитания, однако пределы и цели их родительских прав ограничены целью воспит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285840" y="3571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43466"/>
                </a:solidFill>
                <a:uFillTx/>
                <a:latin typeface="Times New Roman"/>
              </a:rPr>
              <a:t>Роди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57120" y="28728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рава и обязанности детей в семье 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428760" y="1285920"/>
            <a:ext cx="807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1117"/>
                </a:solidFill>
                <a:latin typeface="Times New Roman"/>
              </a:rPr>
              <a:t>Правовое положение ребёнка в семье определяется с точки зрения интересов ребёнка (а не прав и обязанностей родителей</a:t>
            </a:r>
            <a:r>
              <a:rPr b="1" lang="en-US" sz="4400" spc="-1" strike="noStrike">
                <a:solidFill>
                  <a:srgbClr val="141117"/>
                </a:solidFill>
                <a:latin typeface="Book Antiqu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500040" y="441000"/>
            <a:ext cx="7858080" cy="61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жить и воспитываться в семье; знать своих родителей (насколько это возможно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заботу и на воспитание своими родителями (а при их отсутствии – другими ответственными за это лицам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обеспечение своих интересов, всестороннее развитие и уважение человеческого достоинств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общение со своими родителями (независимо от того, проживают они совместно или нет) и другими родственникам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защиту своих прав и интерес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получение содерж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собственности на принадлежащее ему имуще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357120" y="285840"/>
            <a:ext cx="46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43466"/>
                </a:solidFill>
                <a:uFillTx/>
                <a:latin typeface="Times New Roman"/>
              </a:rPr>
              <a:t>  </a:t>
            </a:r>
            <a:r>
              <a:rPr b="0" lang="ru-RU" sz="3200" spc="-1" strike="noStrike" u="sng">
                <a:solidFill>
                  <a:srgbClr val="543466"/>
                </a:solidFill>
                <a:uFillTx/>
                <a:latin typeface="Times New Roman"/>
              </a:rPr>
              <a:t>Дет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214200" y="7873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82971"/>
                </a:solidFill>
                <a:uFillTx/>
                <a:latin typeface="Times New Roman"/>
                <a:ea typeface="Calibri"/>
              </a:rPr>
              <a:t>Ответственность за неисполнение обязанностей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14200" y="1500120"/>
            <a:ext cx="8572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2971"/>
                </a:solidFill>
                <a:latin typeface="Times New Roman"/>
              </a:rPr>
              <a:t>За неисполнение ряда семейно-правовых обязанностей наступает уголовная ответственность. Так, к уголовной ответственности могут быть привлечены родители, злостно уклоняющиеся от уплаты алиментов, а также взрослые дети за уклонение от содержания своих нетрудоспособных родител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357120" y="290160"/>
            <a:ext cx="82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ЫВАЕМ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285840" y="1785960"/>
            <a:ext cx="65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вое, что надо сделать, это разделить два смысла этого слова – ответственность в контексте уголовного кодекса и человеческая ответствен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857160" y="282888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Уголовном кодексе есть такие слова: «привлечение к уголовной ответственности», «наступление ответственно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786120" y="415836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ческая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ственност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осознанное и активное отношение и поведение, осознанная готовность взять на себя обязательства по соблюдению договоренностей, по изменению ситуации, по поддержанию безопасности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2:58:21Z</dcterms:created>
  <dc:creator>Роман</dc:creator>
  <dc:description/>
  <dc:language>en-US</dc:language>
  <cp:lastModifiedBy>LEGION</cp:lastModifiedBy>
  <dcterms:modified xsi:type="dcterms:W3CDTF">2015-01-28T10:15:59Z</dcterms:modified>
  <cp:revision>9</cp:revision>
  <dc:subject/>
  <dc:title>    Проблема воспитания правовой культуры у детей. Права и обязанности родителей и подростка в семье и школе. Формирование правосознания и ответственности подростка за свои поступки. </dc:title>
</cp:coreProperties>
</file>