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4FB-22DC-449A-A239-D6B4E8AF92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втор – Кригер Ю.Н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66BB-B108-463D-996E-4B2E7E0404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торой момент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3F4-058E-4934-B026-CAE039229B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0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ЗДАНИЕ УСЛОВИЙ ДЛЯ ПОСТЕПЕННОГО ВОЗРАСТАНИЯ СТЕПЕНИ ОТВЕТСТВЕННОСТИ ЧЕРЕЗ ВСЕ БОЛЬШЕЕ РАЗДЕЛЕНИЕ ЕЕ С ВЗРОСЛЫ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ЕДИНСТВЕННО ВОЗМОЖНЫЙ ПУТЬ НАУЧИТЬ РЕБЕНКА БЫТЬ ОТВЕТСТВЕННЫМ ЗА СВОИ ПОСТУПКИ И ЖИЗНЬ ПЕРЕД ДРУГИМИ И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D4B7-BCC9-4391-912D-28FD39E12E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9F78-9E94-4484-A902-9D9513E021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2E56-F60A-4B5C-B140-31EED2C00B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8C0E-F4EA-441A-AD3F-16256C580E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ава и обязанности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Воспитан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сли подросток попал в милици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5C8E-C29F-4C7E-B883-6E6E7C6949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АЯ КУЛЬТУ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0B9-2C47-4DA5-88FA-84B511DB91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дительские права и обязанност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Забота о детях, их воспитание - равное право и обязанность родителей (ч.2 ст.38 Конституции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2500-80F8-4E19-9734-5393F3DA70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Родит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■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3BB8-A72A-4C89-947E-F2DE048AE9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3070d"/>
                </a:solidFill>
                <a:latin typeface="Calibri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1200" spc="-1" strike="noStrike">
                <a:solidFill>
                  <a:srgbClr val="03070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84C1-E98F-4237-B0BB-D38F7AE2DB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984807"/>
                </a:solidFill>
                <a:uFillTx/>
                <a:latin typeface="Calibri"/>
              </a:rPr>
              <a:t>Де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BBFC-988F-4031-B5F8-B1DC00A76A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15968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E928-4345-401A-A06E-7656B0437B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3AAB-9E63-4496-9753-7E17CE714A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EB5-1EBA-4027-BECF-0AF2FA54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905-9ABC-4FA8-94A1-71A17D9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7FE-8F8C-4275-B7BD-1F96C7BB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AFC-7434-4D75-8870-6881C408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AD17-5B89-44D1-B1BE-20123751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22C3-CF79-44FA-81D0-72CDB890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270B-D245-4008-8728-DB5516B2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427-8895-4F1A-98EE-146B3CEF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2497-42E1-4761-99BC-D29691EF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205E-3A84-45A8-93B5-77C0AB7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B6EE-9709-4099-8A5B-9B695269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F4D-BF87-41CF-8B83-DFFDA66E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543D-FC00-40CD-8BF0-305BDA9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4A71-57D8-44CB-BF88-9FCE1F28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1C2A-0802-432C-9E44-1E7B4624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7EC0-3258-4522-8E23-5E93961A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12E8-F489-4382-8543-3FCAAD36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299-65B1-47ED-BC7D-7B16FBB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72F-6C03-4308-8460-0514CC6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86F-07E8-41AE-9890-C4CAD1EF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A14-EA08-465E-875F-E97B0ED9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2C8-EC7D-422C-8644-113E3C8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B98-B714-4DD3-81FA-D379A30B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1A4-5FE0-4483-B27D-F2D3AE1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16D5-DD63-4DC4-86AA-3D04E69BB911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2AB8-186A-4BC4-8243-A862494EB73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757D-E56B-498E-BC3C-7BE3B3EF0AD9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AAA-0201-4665-93AC-7A3534982E2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9064800" cy="5834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838760"/>
            <a:ext cx="640080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 – Кригер Ю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71680" y="78588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новная задача человека подросткового возрас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тобрать у родителей право ответственности за свою жизнь. Подросток как бы «отпочковывается», переживает свое «социальное рожден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1928880"/>
            <a:ext cx="721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момент –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дросток сам начинает строить свои отношения с миром по новым правилам и норм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571680" y="39355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ОМНИТЕ! -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ное участие в общем процессе, значимость и важность собственных действий – это то, что подросток, недополучая в семье, может легко реализовать, проводя время со своими прия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1"/>
          <p:cNvGrpSpPr/>
          <p:nvPr/>
        </p:nvGrpSpPr>
        <p:grpSpPr>
          <a:xfrm>
            <a:off x="347760" y="1547640"/>
            <a:ext cx="8583480" cy="3468960"/>
            <a:chOff x="347760" y="1547640"/>
            <a:chExt cx="8583480" cy="3468960"/>
          </a:xfrm>
        </p:grpSpPr>
        <p:pic>
          <p:nvPicPr>
            <p:cNvPr id="129" name="Rectangle 1" descr=""/>
            <p:cNvPicPr/>
            <p:nvPr/>
          </p:nvPicPr>
          <p:blipFill>
            <a:blip r:embed="rId1"/>
            <a:stretch/>
          </p:blipFill>
          <p:spPr>
            <a:xfrm>
              <a:off x="347760" y="1547640"/>
              <a:ext cx="8583480" cy="34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040" y="1656000"/>
              <a:ext cx="8215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СОЗДАНИЕ УСЛОВИЙ ДЛЯ ПОСТЕПЕННОГО ВОЗРАСТАНИЯ СТЕПЕНИ ОТВЕТСТВЕННОСТИ ЧЕРЕЗ ВСЕ БОЛЬШЕЕ РАЗДЕЛЕНИЕ ЕЕ С ВЗРОСЛЫМ –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-ЕДИНСТВЕННО ВОЗМОЖНЫЙ ПУТЬ НАУЧИТЬ РЕБЕНКА БЫТЬ ОТВЕТСТВЕННЫМ ЗА СВОИ ПОСТУПКИ И ЖИЗНЬ ПЕРЕД ДРУГИМИ И САМИМ СОБО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5"/>
          <p:cNvSpPr/>
          <p:nvPr/>
        </p:nvSpPr>
        <p:spPr>
          <a:xfrm>
            <a:off x="0" y="-561960"/>
            <a:ext cx="392904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</a:t>
            </a:r>
            <a:r>
              <a:rPr b="1" lang="ru-RU" sz="6600" spc="-1" strike="noStrike">
                <a:solidFill>
                  <a:srgbClr val="333333"/>
                </a:solidFill>
                <a:latin typeface="Arial"/>
                <a:ea typeface="Times New Roman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428840" y="3128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амятка для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      Начинать передавать ответственность никогда не рано. Выбирайте реальные для ребенка и действительно нуж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      Важно контролирующее внимание взросл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      «Привлечение» к ответственности – штука бессмысленная, ответственность можно только постепенно переда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      Ребенку необходимо ощущение, что он ценен сам по себе. Что его любят не за выполненны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5.      Помогите ребенку сопоставить свои потребности с потребностями окружающих его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6.      Ни в коем случае не допускайте появления у ребенка угнетающего чувства в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.      Ребенку крайне необходима возможность самостоятельно принимать решения. Оставьте детали задания на его усмот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7168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подросток попал в милицию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2" descr="B_ne.gif"/>
          <p:cNvPicPr/>
          <p:nvPr/>
        </p:nvPicPr>
        <p:blipFill>
          <a:blip r:embed="rId1"/>
          <a:stretch/>
        </p:blipFill>
        <p:spPr>
          <a:xfrm>
            <a:off x="1285920" y="1143000"/>
            <a:ext cx="5715000" cy="53578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00040" y="285840"/>
            <a:ext cx="531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кументов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571680" y="1643040"/>
            <a:ext cx="56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ок вызвал подозр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571680" y="2071800"/>
            <a:ext cx="51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■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тделении мили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" descr="ФОТО:"/>
          <p:cNvPicPr/>
          <p:nvPr/>
        </p:nvPicPr>
        <p:blipFill>
          <a:blip r:embed="rId1"/>
          <a:stretch/>
        </p:blipFill>
        <p:spPr>
          <a:xfrm>
            <a:off x="4857840" y="185724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ава и обязанности родителей и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Воспитание ответств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Если подросток попал в милицию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57120" y="4287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ВАЯ КУЛЬТУР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стема ценностей, правовых идей, убеждений, навыков и стереотипов поведения, правовых традиций, принятых членами определенной общности (государственной, религиозной, этнической) и используемых для регулирования их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3714840"/>
            <a:ext cx="642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вой теории существует оценочный подход к зрелости П.к.: говорят о "высокой" и "низкой" П.к., о необходимости повышения П.к. общества 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 flipV="1" rot="10800000">
            <a:off x="357120" y="21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ие права и обязанности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090440"/>
            <a:ext cx="916956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9"/>
          <p:cNvGrpSpPr/>
          <p:nvPr/>
        </p:nvGrpSpPr>
        <p:grpSpPr>
          <a:xfrm>
            <a:off x="6071760" y="2857680"/>
            <a:ext cx="2714040" cy="3726720"/>
            <a:chOff x="6071760" y="2857680"/>
            <a:chExt cx="2714040" cy="3726720"/>
          </a:xfrm>
        </p:grpSpPr>
        <p:pic>
          <p:nvPicPr>
            <p:cNvPr id="101" name="Object 4" descr="Зеленый мрамор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2709720" cy="331092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02" name="Text Box 38"/>
            <p:cNvSpPr/>
            <p:nvPr/>
          </p:nvSpPr>
          <p:spPr>
            <a:xfrm flipH="1">
              <a:off x="6071400" y="6216120"/>
              <a:ext cx="271404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57120" y="922680"/>
            <a:ext cx="7500960" cy="1008720"/>
          </a:xfrm>
          <a:prstGeom prst="rect">
            <a:avLst/>
          </a:prstGeom>
          <a:solidFill>
            <a:srgbClr val="dfdae3"/>
          </a:solidFill>
          <a:ln w="9360">
            <a:solidFill>
              <a:srgbClr val="435d99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аво и обязан воспитывать своих детей, заботиться об их здоровье, физическом, психическом, духовном и нравственном развит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2357280"/>
            <a:ext cx="750096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обязаны обеспечить получение детьми основного общего образования, т.е. образования в объёме девяти классов общеобразовате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 flipV="1" rot="10800000">
            <a:off x="357120" y="3761640"/>
            <a:ext cx="7500960" cy="39888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дителей возлагается также защита прав и интересов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 flipV="1" rot="10800000">
            <a:off x="357120" y="4642560"/>
            <a:ext cx="7429680" cy="1008720"/>
          </a:xfrm>
          <a:prstGeom prst="rect">
            <a:avLst/>
          </a:prstGeom>
          <a:solidFill>
            <a:srgbClr val="dfdae3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вободны в выборе средств и методов воспитания, однако пределы и цели их родительских прав ограничены целью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285840" y="357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43466"/>
                </a:solidFill>
                <a:uFillTx/>
                <a:latin typeface="Times New Roman"/>
              </a:rPr>
              <a:t>Р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57120" y="2872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а и обязанности детей в семье 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428760" y="128592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1117"/>
                </a:solidFill>
                <a:latin typeface="Times New Roman"/>
              </a:rPr>
              <a:t>Правовое положение ребёнка в семье определяется с точки зрения интересов ребёнка (а не прав и обязанностей родителей</a:t>
            </a:r>
            <a:r>
              <a:rPr b="1" lang="en-US" sz="4400" spc="-1" strike="noStrike">
                <a:solidFill>
                  <a:srgbClr val="141117"/>
                </a:solidFill>
                <a:latin typeface="Book Antiqu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500040" y="441000"/>
            <a:ext cx="785808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жить и воспитываться в семье; знать своих родителей (насколько это возможно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боту и на воспитание своими родителями (а при их отсутствии – другими ответственными за это лицам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еспечение своих интересов, всестороннее развитие и уважение человеческого достоин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общение со своими родителями (независимо от того, проживают они совместно или нет) и другими родственник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защиту своих прав и интерес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на получение содерж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 собственности на принадлежащее ему имуще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357120" y="285840"/>
            <a:ext cx="46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  </a:t>
            </a:r>
            <a:r>
              <a:rPr b="0" lang="ru-RU" sz="3200" spc="-1" strike="noStrike" u="sng">
                <a:solidFill>
                  <a:srgbClr val="543466"/>
                </a:solidFill>
                <a:uFillTx/>
                <a:latin typeface="Times New Roman"/>
              </a:rPr>
              <a:t>Дет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214200" y="7873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82971"/>
                </a:solidFill>
                <a:uFillTx/>
                <a:latin typeface="Times New Roman"/>
                <a:ea typeface="Calibri"/>
              </a:rPr>
              <a:t>Ответственность за неисполнение обязанностей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14200" y="150012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2971"/>
                </a:solidFill>
                <a:latin typeface="Times New Roman"/>
              </a:rPr>
              <a:t>За неисполнение ряда семейно-правовых обязанностей наступает уголовная ответственность. Так, к уголовной ответственности могут быть привлечены родители, злостно уклоняющиеся от уплаты алиментов, а также взрослые дети за уклонение от содержания своих нетрудоспособных родител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57120" y="290160"/>
            <a:ext cx="82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ЕМ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285840" y="178596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вое, что надо сделать, это разделить два смысла этого слова – ответственность в контексте уголовного кодекса и человеческая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857160" y="28288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Уголовном кодексе есть такие слова: «привлечение к уголовной ответственности», «наступление ответственност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786120" y="415836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ческая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сознанное и активное отношение и поведение, осознанная готовность взять на себя обязательства по соблюдению договоренностей, по изменению ситуации, по поддержанию безопасности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8:21Z</dcterms:created>
  <dc:creator>Роман</dc:creator>
  <dc:description/>
  <dc:language>en-US</dc:language>
  <cp:lastModifiedBy>LEGION</cp:lastModifiedBy>
  <dcterms:modified xsi:type="dcterms:W3CDTF">2015-01-28T10:15:59Z</dcterms:modified>
  <cp:revision>9</cp:revision>
  <dc:subject/>
  <dc:title>    Проблема воспитания правовой культуры у детей. Права и обязанности родителей и подростка в семье и школе. Формирование правосознания и ответственности подростка за свои поступки. </dc:title>
</cp:coreProperties>
</file>