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34.jpeg" ContentType="image/jpeg"/>
  <Override PartName="/ppt/media/image36.png" ContentType="image/png"/>
  <Override PartName="/ppt/media/image9.jpeg" ContentType="image/jpeg"/>
  <Override PartName="/ppt/media/image11.png" ContentType="image/png"/>
  <Override PartName="/ppt/media/image4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media/image61.jpeg" ContentType="image/jpeg"/>
  <Override PartName="/ppt/media/image55.jpeg" ContentType="image/jpeg"/>
  <Override PartName="/ppt/media/image23.png" ContentType="image/png"/>
  <Override PartName="/ppt/media/image22.png" ContentType="image/png"/>
  <Override PartName="/ppt/media/image7.png" ContentType="image/png"/>
  <Override PartName="/ppt/media/image19.png" ContentType="image/png"/>
  <Override PartName="/ppt/media/image21.png" ContentType="image/png"/>
  <Override PartName="/ppt/media/image51.jpeg" ContentType="image/jpeg"/>
  <Override PartName="/ppt/media/image28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5.png" ContentType="image/png"/>
  <Override PartName="/ppt/media/image43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7.jpeg" ContentType="image/jpeg"/>
  <Override PartName="/ppt/media/image20.png" ContentType="image/png"/>
  <Override PartName="/ppt/media/image39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7.jpeg" ContentType="image/jpe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95E0-FA79-4AE3-9DD7-A955A446ED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Человек и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4A2A-555B-4608-B5E7-E2DDAF4DCE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раждане Российской Федерации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F53E-1F76-47BD-9E21-69F3B5FCF8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порядок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стремится установить справедл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границы свободы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3A2C-AED1-4A82-AFE4-EEDBB7EF13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F535-A57E-45AE-93A7-085A32531F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АВЕДЛИВОСТЬ- это когда каждый получает то, на что имеет прав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вобода состоит в возмож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елать все, что не нарушает зак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причиняет вреда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одумай!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Тво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заканчивается там, гд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начинаетс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3934-E045-4C61-8343-95354FC2B5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лг и обяз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чем нуж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ая ар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тов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B7A1-F605-4D4E-A4FB-21287E6A34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                               ст. 59 Конституция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CA23-0C0D-4ED7-B05F-8B0E6F4C3BF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озможные внешние угро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регион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нутренние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59C4-C6D2-417C-84CE-31C975DB66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тать на воинский учет в год достижения 17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остоять на воинском учете по месту жительства в военном комиссариате (военкома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ходить обязательную подготовку к военной служ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военную службу призываются граждане РФ от 18 до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т, стоящие и обязанные состоять на военном уч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ок военной службы по призыву 12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8EB6-5FAF-4696-893A-B23E7344CE7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ть себя 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8A40-0B6A-4534-BFAC-92E393A8FE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 чем ты узнаеш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ие бывают социальные нормы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едует ли соблюдать дисциплину? Кто от этого выигрывает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 какие проступки ты уже сейчас несешь ответственност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ему служат правоохранительные орга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какие вопросы ответи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чему нужно соблюдат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ое поведение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тивоправ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то и как должен защищать Роди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2FAB-CCBA-4222-9753-6BF9D506C2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ногообразие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«Привычка свыше нам дан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ила этикета и хорошие ма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EF1C-A21A-4781-BFF2-884DCD9784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становленный порядок действий в тех или иных случа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Социальные нормы</a:t>
            </a:r>
            <a:r>
              <a:rPr b="0" lang="ru-RU" sz="1600" spc="-1" strike="noStrike">
                <a:solidFill>
                  <a:srgbClr val="4f81bd"/>
                </a:solidFill>
                <a:latin typeface="Calibri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направл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едписывающие                запреща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степени обязатель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нормы-правила                  нормы-ожи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форм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формальные               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AB59-BC6A-40A9-8ECE-EFA9BCF2A7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ривычка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ложившийся способ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поведения (стереотип) в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определенных 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ычай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традиционн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ившийся порядок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итуал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выработанный обыча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или установленный поряд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овершения чего-либ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ряд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овокупнос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Церемония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торжественны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B25B-EB75-4C27-8E4D-6446195490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Этикет </a:t>
            </a: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манерами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1CBA-BAEC-44D9-B16A-F33AFAFCF74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libri"/>
              </a:rPr>
              <a:t>Санкции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еры воздейств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именяемые к нарушител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ленных норм,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пособ о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ощрения,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F198-5CC3-46B5-BD5A-F352EF3E9E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то и как обеспечивает тво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де проходит граница тво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т прав без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2CE4-AA95-4B22-B505-B09CB7A5AC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сеобщая декларация прав человека, 1948 г.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Международные пакты о правах человека, 1966 г.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всеоб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тчужда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елимый характер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Конституции государст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закрепление прав на своей территории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ача им обязательно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9FDB-56D7-4F97-B8C7-5B7B2132F2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39C-0F32-482F-AC58-1082FBAF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24E-A7D5-4CF5-B90E-F7D5F5D5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7A1-DF23-4507-9668-53F67A7F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62A-63FF-4C10-BBF6-0A51DE06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AFD9-F5EF-4F89-8A4D-E74F481F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48FE-FC5E-483C-8E8A-3E515F39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4E0B-5CA0-4867-81C2-9713BCEC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0F7E-E05B-4A2D-99EA-2A915D46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DEB8-8A9D-4671-B18A-E6B639F9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86E2-F340-40CD-ABF3-D1C86858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A23E-BE17-494C-B8C3-83EEBCA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51E8-B2F8-4CC0-BFEA-1390E085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B9B3-B92B-4C59-87F1-5157927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D1D2-0E1F-4D76-B294-43C42D0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50FF-41BB-46F3-9A4E-2D25EECB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055A-4174-46A3-96D9-E924F3F6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C349-BC71-4F93-831C-DB59D7C7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325-8216-4678-BD3F-5F455D48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68E-D8BA-49A3-9389-7D6F41D4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52D-B05B-4638-A8A7-FC4C8B97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BCA-CD83-4DD7-B5A0-BFBA9842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EDC-9584-4D2B-89C6-59536005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2A1-5428-4FA0-97C2-F4062F3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D79-B70A-4C95-A319-17AD655B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221E-23F3-4F6C-9A02-40D48B53F49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8D61-D87C-409B-988E-AD8E47BD71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Глава </a:t>
            </a: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II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50920" y="270828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00"/>
                </a:solidFill>
                <a:latin typeface="Tahoma"/>
              </a:rPr>
              <a:t>Человек и зако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Граждане Российской Федерации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бязан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826920" y="2349360"/>
            <a:ext cx="1943280" cy="69876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СОБЛЮД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ОНСТИТУЦИЮ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ДРУГИЕ ЗАКОНЫ РФ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92360" y="5373720"/>
            <a:ext cx="2087640" cy="6271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ПЛАТИТЬ ЗАКОН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УСТАНОВЛ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НАЛОГИ И СБО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6227640" y="2349360"/>
            <a:ext cx="2303640" cy="6256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ЧЬ ПАМЯТ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ИСТОРИИ 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УЛЬ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900000" y="4076640"/>
            <a:ext cx="1871640" cy="7714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ЗАЩИЩ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ЕЧЕСТ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6443640" y="393372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Ж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НОСИТЬС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 ПРИРОД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ОГАТСТВА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3492360" y="2492280"/>
            <a:ext cx="2087640" cy="1992240"/>
          </a:xfrm>
          <a:prstGeom prst="rect">
            <a:avLst/>
          </a:prstGeom>
          <a:ln w="0">
            <a:noFill/>
          </a:ln>
        </p:spPr>
      </p:pic>
      <p:sp>
        <p:nvSpPr>
          <p:cNvPr id="222" name="Line 9"/>
          <p:cNvSpPr/>
          <p:nvPr/>
        </p:nvSpPr>
        <p:spPr>
          <a:xfrm flipH="1" flipV="1">
            <a:off x="2700360" y="314136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H="1">
            <a:off x="2700360" y="3716280"/>
            <a:ext cx="720720" cy="2890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1"/>
          <p:cNvSpPr/>
          <p:nvPr/>
        </p:nvSpPr>
        <p:spPr>
          <a:xfrm flipV="1">
            <a:off x="5651640" y="3068640"/>
            <a:ext cx="647640" cy="43344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5651640" y="371628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500720" y="4581360"/>
            <a:ext cx="0" cy="7192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Право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осударство гарантирует дать своим гражданам, а </a:t>
            </a: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обязанность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раждане гарантируют дать своему государ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язанность государства – гарантировать права конкретного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порядок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стремится установить справедл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границы свободы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1449720" cy="191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3"/>
          <a:stretch/>
        </p:blipFill>
        <p:spPr>
          <a:xfrm>
            <a:off x="2195640" y="1484280"/>
            <a:ext cx="1484280" cy="2160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4"/>
          <a:stretch/>
        </p:blipFill>
        <p:spPr>
          <a:xfrm>
            <a:off x="7751880" y="1413000"/>
            <a:ext cx="139212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"/>
          <p:cNvPicPr/>
          <p:nvPr/>
        </p:nvPicPr>
        <p:blipFill>
          <a:blip r:embed="rId5"/>
          <a:stretch/>
        </p:blipFill>
        <p:spPr>
          <a:xfrm>
            <a:off x="326880" y="3860640"/>
            <a:ext cx="1339920" cy="197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"/>
          <p:cNvPicPr/>
          <p:nvPr/>
        </p:nvPicPr>
        <p:blipFill>
          <a:blip r:embed="rId6"/>
          <a:stretch/>
        </p:blipFill>
        <p:spPr>
          <a:xfrm>
            <a:off x="2771640" y="2060640"/>
            <a:ext cx="1324080" cy="196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"/>
          <p:cNvPicPr/>
          <p:nvPr/>
        </p:nvPicPr>
        <p:blipFill>
          <a:blip r:embed="rId7"/>
          <a:stretch/>
        </p:blipFill>
        <p:spPr>
          <a:xfrm>
            <a:off x="3419640" y="2781360"/>
            <a:ext cx="1419120" cy="194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"/>
          <p:cNvPicPr/>
          <p:nvPr/>
        </p:nvPicPr>
        <p:blipFill>
          <a:blip r:embed="rId8"/>
          <a:stretch/>
        </p:blipFill>
        <p:spPr>
          <a:xfrm>
            <a:off x="3851280" y="3284640"/>
            <a:ext cx="1343160" cy="20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9"/>
          <a:stretch/>
        </p:blipFill>
        <p:spPr>
          <a:xfrm>
            <a:off x="7236000" y="2133720"/>
            <a:ext cx="13111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"/>
          <p:cNvPicPr/>
          <p:nvPr/>
        </p:nvPicPr>
        <p:blipFill>
          <a:blip r:embed="rId10"/>
          <a:stretch/>
        </p:blipFill>
        <p:spPr>
          <a:xfrm>
            <a:off x="6804000" y="2637000"/>
            <a:ext cx="1274760" cy="184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11"/>
          <a:stretch/>
        </p:blipFill>
        <p:spPr>
          <a:xfrm>
            <a:off x="6372360" y="3141720"/>
            <a:ext cx="1333440" cy="18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12"/>
          <a:stretch/>
        </p:blipFill>
        <p:spPr>
          <a:xfrm>
            <a:off x="5940360" y="3860640"/>
            <a:ext cx="1308240" cy="2086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"/>
          <p:cNvPicPr/>
          <p:nvPr/>
        </p:nvPicPr>
        <p:blipFill>
          <a:blip r:embed="rId13"/>
          <a:stretch/>
        </p:blipFill>
        <p:spPr>
          <a:xfrm>
            <a:off x="4284720" y="4005360"/>
            <a:ext cx="1382760" cy="201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14"/>
          <a:stretch/>
        </p:blipFill>
        <p:spPr>
          <a:xfrm>
            <a:off x="1332000" y="4653000"/>
            <a:ext cx="1438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ПРАВЕДЛИВОСТЬ- это когда каждый получает то, на что имеет право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Свобода состоит в возможности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делать все, что не нарушает зако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не причиняет вреда друг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Подумай!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Тво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заканчивается там, где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начинаетс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другого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929280" y="5346720"/>
            <a:ext cx="2214720" cy="151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0" y="5354640"/>
            <a:ext cx="22320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Долг и обяза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чем нуж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егулярная ар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Военная служ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отовить себ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 исполнению воинского дол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               ст. 59 Конституция Р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384360" cy="211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2585880" cy="1974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2146320" cy="2508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3672000" cy="2328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7020000" y="2565360"/>
            <a:ext cx="18558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52196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озможные внешние угроз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глоб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регион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ча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35280" y="3715920"/>
            <a:ext cx="370836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нутренние уг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71640" y="4221000"/>
            <a:ext cx="0" cy="107964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4356000" y="4221000"/>
            <a:ext cx="0" cy="158292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2813040" cy="1523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2702520" y="3213000"/>
            <a:ext cx="39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ервые полки регулярной Красной Арм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136960" cy="1603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118800" y="321300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гулярная армия Петра 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588000" y="1413000"/>
            <a:ext cx="2225880" cy="1670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4"/>
          <p:cNvSpPr/>
          <p:nvPr/>
        </p:nvSpPr>
        <p:spPr>
          <a:xfrm>
            <a:off x="6804000" y="3213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временная арм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Встать на воинский учет в год достижения 17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остоять на воинском учете по месту жительства в военном комиссариате (военкома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ходить обязательную подготовку к военной служ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На военную службу призываются граждане РФ от 18 до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лет, стоящие и обязанные состоять на военном уче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рок военной службы по призыву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7020000" y="4984920"/>
            <a:ext cx="1979640" cy="1714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4472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отовить себя к исполнению воинского дол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1704960" cy="2495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1976400" cy="148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2154240" cy="143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4"/>
          <a:stretch/>
        </p:blipFill>
        <p:spPr>
          <a:xfrm>
            <a:off x="6443640" y="4653000"/>
            <a:ext cx="2455920" cy="197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2471760" cy="1854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6"/>
          <a:stretch/>
        </p:blipFill>
        <p:spPr>
          <a:xfrm>
            <a:off x="6804000" y="2708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7"/>
          <a:stretch/>
        </p:blipFill>
        <p:spPr>
          <a:xfrm>
            <a:off x="1908000" y="529128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"/>
          <p:cNvPicPr/>
          <p:nvPr/>
        </p:nvPicPr>
        <p:blipFill>
          <a:blip r:embed="rId8"/>
          <a:stretch/>
        </p:blipFill>
        <p:spPr>
          <a:xfrm>
            <a:off x="4140360" y="529128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"/>
          <p:cNvPicPr/>
          <p:nvPr/>
        </p:nvPicPr>
        <p:blipFill>
          <a:blip r:embed="rId9"/>
          <a:stretch/>
        </p:blipFill>
        <p:spPr>
          <a:xfrm>
            <a:off x="7667640" y="692280"/>
            <a:ext cx="1182600" cy="1660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"/>
          <p:cNvPicPr/>
          <p:nvPr/>
        </p:nvPicPr>
        <p:blipFill>
          <a:blip r:embed="rId10"/>
          <a:stretch/>
        </p:blipFill>
        <p:spPr>
          <a:xfrm>
            <a:off x="2268360" y="3392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11"/>
          <a:stretch/>
        </p:blipFill>
        <p:spPr>
          <a:xfrm>
            <a:off x="2843280" y="1557360"/>
            <a:ext cx="2500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Arial"/>
              </a:rPr>
              <a:t>О чем ты узнаеш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Какие бывают социальные нормы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Следует ли соблюдать дисциплину? Кто от этого выигрывает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За какие проступки ты уже сейчас несешь ответственност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Чему служат правоохранительные орган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5075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Tahoma"/>
              </a:rPr>
              <a:t>На какие вопросы ответи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очему нужно соблюдать зако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акое поведение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ротивоправны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то и как должен защищать Родин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84360" y="5013360"/>
            <a:ext cx="2395440" cy="158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12000" y="2421000"/>
            <a:ext cx="2690640" cy="179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3"/>
          <a:stretch/>
        </p:blipFill>
        <p:spPr>
          <a:xfrm>
            <a:off x="6012000" y="4376880"/>
            <a:ext cx="26636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Многообразие прав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«Привычка свыше нам дана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ила этикета и хорошие ма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492360" y="400536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76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равило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– установленный порядок действий в тех или иных случая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Социальные нормы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направле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едписывающие                запрещающ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степени обяза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нормы-правила                  нормы-ожид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форм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формальные               неформаль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3348000" y="3141720"/>
            <a:ext cx="122400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572000" y="3141720"/>
            <a:ext cx="115236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6"/>
          <p:cNvSpPr/>
          <p:nvPr/>
        </p:nvSpPr>
        <p:spPr>
          <a:xfrm flipH="1">
            <a:off x="3348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4572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3635280" y="5661000"/>
            <a:ext cx="93672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572000" y="5661000"/>
            <a:ext cx="86364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ривычка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– сложившийся способ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поведения (стереотип) в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определенных ситуациях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4681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ычай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традиционно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ившийся порядок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ве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итуал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выработанный обыча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или установленный порядок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овершения чего-либ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ряд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совокупност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Церемония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торжественны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2000" cy="1270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1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0" y="1969920"/>
            <a:ext cx="2556000" cy="159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7380360" y="1557360"/>
            <a:ext cx="1441440" cy="21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1676520" cy="251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6"/>
          <a:stretch/>
        </p:blipFill>
        <p:spPr>
          <a:xfrm>
            <a:off x="7020000" y="533700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7"/>
          <a:stretch/>
        </p:blipFill>
        <p:spPr>
          <a:xfrm>
            <a:off x="6588000" y="378936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Этикет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67327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манерами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1906560" cy="1495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877080" y="4724280"/>
            <a:ext cx="2039760" cy="200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4"/>
          <a:stretch/>
        </p:blipFill>
        <p:spPr>
          <a:xfrm>
            <a:off x="1692360" y="2852640"/>
            <a:ext cx="1800000" cy="1681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5"/>
          <a:stretch/>
        </p:blipFill>
        <p:spPr>
          <a:xfrm>
            <a:off x="3564000" y="1628640"/>
            <a:ext cx="1773000" cy="133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1420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анкции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меры воздейств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именяемые к нарушител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ленных норм, прав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пособ одобр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ощрения, поддер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3059280" y="765000"/>
            <a:ext cx="151272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572000" y="765000"/>
            <a:ext cx="144000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838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а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то и как обеспечивает тво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де проходит граница твои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Нет прав без обяза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365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4"/>
          <p:cNvGrpSpPr/>
          <p:nvPr/>
        </p:nvGrpSpPr>
        <p:grpSpPr>
          <a:xfrm>
            <a:off x="324000" y="333360"/>
            <a:ext cx="8569080" cy="2448000"/>
            <a:chOff x="324000" y="333360"/>
            <a:chExt cx="8569080" cy="2448000"/>
          </a:xfrm>
        </p:grpSpPr>
        <p:sp>
          <p:nvSpPr>
            <p:cNvPr id="205" name="AutoShape 15"/>
            <p:cNvSpPr/>
            <p:nvPr/>
          </p:nvSpPr>
          <p:spPr>
            <a:xfrm>
              <a:off x="324000" y="333360"/>
              <a:ext cx="856908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3180240" y="333360"/>
              <a:ext cx="319176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ahoma"/>
                </a:rPr>
                <a:t>Права челове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658080" y="1085760"/>
              <a:ext cx="2353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граждан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3515760" y="1085760"/>
              <a:ext cx="252072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полит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9"/>
            <p:cNvSpPr/>
            <p:nvPr/>
          </p:nvSpPr>
          <p:spPr>
            <a:xfrm>
              <a:off x="6542280" y="1085760"/>
              <a:ext cx="2182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эконом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20"/>
            <p:cNvSpPr/>
            <p:nvPr/>
          </p:nvSpPr>
          <p:spPr>
            <a:xfrm>
              <a:off x="2005560" y="1839240"/>
              <a:ext cx="235044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социаль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5196240" y="1839240"/>
              <a:ext cx="235368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культур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2" name="Text Box 22"/>
          <p:cNvSpPr/>
          <p:nvPr/>
        </p:nvSpPr>
        <p:spPr>
          <a:xfrm>
            <a:off x="468360" y="2924280"/>
            <a:ext cx="849636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Всеобщая декларация прав человека, 1948 г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Международные пакты о правах человека, 1966 г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всеобщ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отчуждаем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делимый характер прав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онституции государст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закрепление прав на своей территории 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дача им обязательной си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24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1245960" cy="191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1290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9:55:56Z</dcterms:created>
  <dc:creator>Admin</dc:creator>
  <dc:description/>
  <dc:language>en-US</dc:language>
  <cp:lastModifiedBy>LEGION</cp:lastModifiedBy>
  <dcterms:modified xsi:type="dcterms:W3CDTF">2015-01-28T10:16:33Z</dcterms:modified>
  <cp:revision>10</cp:revision>
  <dc:subject/>
  <dc:title>Человек и закон</dc:title>
</cp:coreProperties>
</file>