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34.jpeg" ContentType="image/jpeg"/>
  <Override PartName="/ppt/media/image36.png" ContentType="image/png"/>
  <Override PartName="/ppt/media/image9.jpeg" ContentType="image/jpeg"/>
  <Override PartName="/ppt/media/image11.png" ContentType="image/png"/>
  <Override PartName="/ppt/media/image4.png" ContentType="image/png"/>
  <Override PartName="/ppt/media/image14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10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42.png" ContentType="image/png"/>
  <Override PartName="/ppt/media/image3.png" ContentType="image/png"/>
  <Override PartName="/ppt/media/image17.jpeg" ContentType="image/jpeg"/>
  <Override PartName="/ppt/media/image61.jpeg" ContentType="image/jpeg"/>
  <Override PartName="/ppt/media/image55.jpeg" ContentType="image/jpeg"/>
  <Override PartName="/ppt/media/image23.png" ContentType="image/png"/>
  <Override PartName="/ppt/media/image22.png" ContentType="image/png"/>
  <Override PartName="/ppt/media/image7.png" ContentType="image/png"/>
  <Override PartName="/ppt/media/image19.png" ContentType="image/png"/>
  <Override PartName="/ppt/media/image21.png" ContentType="image/png"/>
  <Override PartName="/ppt/media/image51.jpeg" ContentType="image/jpeg"/>
  <Override PartName="/ppt/media/image28.jpeg" ContentType="image/jpeg"/>
  <Override PartName="/ppt/media/image60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5.png" ContentType="image/png"/>
  <Override PartName="/ppt/media/image43.jpeg" ContentType="image/jpeg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37.jpeg" ContentType="image/jpeg"/>
  <Override PartName="/ppt/media/image20.png" ContentType="image/png"/>
  <Override PartName="/ppt/media/image39.png" ContentType="image/png"/>
  <Override PartName="/ppt/media/image40.jpeg" ContentType="image/jpeg"/>
  <Override PartName="/ppt/media/image44.png" ContentType="image/png"/>
  <Override PartName="/ppt/media/image41.png" ContentType="image/pn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6.jpeg" ContentType="image/jpeg"/>
  <Override PartName="/ppt/media/image53.png" ContentType="image/png"/>
  <Override PartName="/ppt/media/image58.jpeg" ContentType="image/jpeg"/>
  <Override PartName="/ppt/media/image57.jpeg" ContentType="image/jpeg"/>
  <Override PartName="/ppt/media/image59.jpeg" ContentType="image/jpeg"/>
  <Override PartName="/ppt/media/image6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CB03-2A99-4D76-8A72-056EDFF9580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Человек и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266B-CB47-4EAF-9199-863A9DF244C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Граждане Российской Федерации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бяз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5955-D0E1-421E-9F8F-C63868C37FA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600" spc="-1" strike="noStrike">
                <a:solidFill>
                  <a:srgbClr val="ff0000"/>
                </a:solidFill>
                <a:latin typeface="Arial Unicode MS"/>
                <a:ea typeface="Arial"/>
              </a:rPr>
              <a:t>7. Почему важно соблюдать закон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кон устанавливает порядок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кон стремится установить справедл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кон устанавливает границы свободы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BED5-733A-4F38-8B96-92B78D045E0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кон – нормативно-правовой акт, обладающий высшей юридической силой, принятый в строго определенном, особом порядке органом законодательной власти или референдумом и регулирующий наиболее важ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C0F0-5A66-4C00-9556-1C7F70B7105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АВЕДЛИВОСТЬ- это когда каждый получает то, на что имеет прав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вобода – отсутствие стеснения, неволи, возможность действовать по своему желанию.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вобода состоит в возможност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елать все, что не нарушает зако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причиняет вреда друг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Подумай!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Твоя своб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              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заканчивается там, гд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                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начинается своб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другог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4ADC-E6FE-4B85-8BB1-D7BB04FAD92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8. Защита От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лг и обяз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чем нуж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гулярная ар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ен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товить себ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 исполнению воинско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A030-08D0-4E91-80D8-70ECD61F043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«Защита Отечества является долгом и обязанностью гражданина Российской федерации»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          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                                         ст. 59 Конституция Р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BAE9-B572-4E3B-B6A6-BCF1CE7B86E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гулярные войска – войска постоянной армии, определенным образом организованные и упорядоченные, имеющие основательную подготов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Возможные внешние угроз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глоб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регион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Внутренние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ff6600"/>
                </a:solidFill>
                <a:latin typeface="Calibri"/>
              </a:rPr>
              <a:t>(создание незаконных вооруженных формирований, нелегальное распространение оружия и др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6901-4EE9-48C5-88A9-C549A4DD3F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Monotype Corsiva"/>
              </a:rPr>
              <a:t>Воинская обязанность гражданина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тать на воинский учет в год достижения 17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остоять на воинском учете по месту жительства в военном комиссариате (военкома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ходить обязательную подготовку к военной служ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военную службу призываются граждане РФ от 18 до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ет, стоящие и обязанные состоять на военном уч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лучив повестку из военкомата, пройти медицинское освидетельствование, заседание призывной комиссии, явиться для оправки в воинскую ч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рок военной службы по призыву 12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27B1-87C3-4485-8FDD-FC02A51BCCE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ить себя к исполнению воинско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C7EA-0357-496B-8A67-3BDF1B1E8A4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 чем ты узнаешь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кие бывают социальные нормы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ледует ли соблюдать дисциплину? Кто от этого выигрывает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За какие проступки ты уже сейчас несешь ответственность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Чему служат правоохранительные орга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 какие вопросы ответиш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чему нужно соблюдать зако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кое поведение назы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отивоправ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то и как должен защищать Роди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0E67-D210-453C-BE18-A1D30CF9A3B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5.Что значит жить по прави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ногообразие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«Привычка свыше нам дан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авила этикета и хорошие ман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3529-BC86-4F2D-822A-328652C0861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установленный порядок действий в тех или иных случа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Социальные нормы</a:t>
            </a:r>
            <a:r>
              <a:rPr b="0" lang="ru-RU" sz="1600" spc="-1" strike="noStrike">
                <a:solidFill>
                  <a:srgbClr val="4f81bd"/>
                </a:solidFill>
                <a:latin typeface="Calibri"/>
              </a:rPr>
              <a:t> - предписания, требования, пожелания и ожидания соответствующего (общественно одобряемого) пове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По направлен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редписывающие                запреща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По степени обязатель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нормы-правила                  нормы-ожи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По форм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формальные               не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9C1A-378F-4144-9D50-86B40BD8763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Привычка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– сложившийся способ 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поведения (стереотип) в 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определенных ситу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бычай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– традиционн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становившийся порядок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итуал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– выработанный обыча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или установленный порядо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овершения чего-либ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бряд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– совокупнос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традиционных действий, сопровождающих важные моменты жизни человека, установленных обычаем или ритуа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Церемония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– торжественны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официальный акт, при проведении которого установлен определенный порядок – церемониал (последовательность действий, имеющих символическое значе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5D0E-D62E-44C6-9439-85A04570A2F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Calibri"/>
              </a:rPr>
              <a:t>Этикет </a:t>
            </a:r>
            <a:r>
              <a:rPr b="0" lang="ru-RU" sz="1400" spc="-1" strike="noStrike">
                <a:solidFill>
                  <a:srgbClr val="ff6600"/>
                </a:solidFill>
                <a:latin typeface="Calibri"/>
              </a:rPr>
              <a:t>– принятая в определенных социальных кругах система правил поведения, составляющих единое цело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Внешние формы поведения человека, получающие положительную или отрицательную оценку окружающих, называются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манерами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2FA6-FF5F-495E-95F5-8593BEE995B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alibri"/>
              </a:rPr>
              <a:t>Санкции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меры воздейств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рименяемые к нарушител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становленных норм,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пособ одобр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оощрения, 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21A1-7F57-420B-ADB1-0F991590345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6.Права и обязанност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то и как обеспечивает тво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де проходит граница тво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ет прав без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1507-6264-4F1B-8676-B0AB3825683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Всеобщая декларация прав человека, 1948 г.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Международные пакты о правах человека, 1966 г.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всеоб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тчуждае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елимый характер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Конституции государств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закрепление прав на своей территории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дача им обязательно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24F6-A4EF-4039-808E-26DFA5B72B0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5419-7EF0-4BDE-8555-08383986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732-7A4A-419A-B3F4-2D050826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084E-1A5E-4E01-8D11-075016E0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E6C-D91F-4AED-8E01-0C4464E6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478A-A35B-4CA0-81C4-ED108877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43BA-77D3-41C9-B68C-62130378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E81F-4C72-4DB4-AF5D-1E99B60F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A05A-BCEA-40B5-95CA-1B2413E7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9D62-C2FD-49E7-B82D-E20794F4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4F04-DD35-43B9-9C50-D2684CB2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864D-F0CD-455F-BDF4-BD661C63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E928-5791-439F-8A96-08E78ABF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3742-3562-4D19-8D1C-24EFE382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CFEF-A635-4876-AC59-7B9D404F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E626-501D-41E5-95DF-88FE00F9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CDF6-94C3-4B86-8FCF-8A2A544D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9334-FFE6-4F66-899A-1C5F1233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6306-67B4-484E-B45C-63728928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7F8-00A0-4CCB-9E6B-3A158354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1A1D-EF82-4378-B0C1-730D66E2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39B6-E2FA-4363-81EC-C012980B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A13-2F3F-460B-A125-DD681D5F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CD6-EC9D-44B8-9E58-C0F16847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F41-A406-46DB-A972-AB0745DA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F950-35C2-442E-857D-CCAE49DBA91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672F-5DDB-4B5D-BD7D-05590705544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image" Target="../media/image36.png"/><Relationship Id="rId14" Type="http://schemas.openxmlformats.org/officeDocument/2006/relationships/image" Target="../media/image37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image" Target="../media/image60.jpeg"/><Relationship Id="rId11" Type="http://schemas.openxmlformats.org/officeDocument/2006/relationships/image" Target="../media/image6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Глава </a:t>
            </a: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II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50920" y="2708280"/>
            <a:ext cx="864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6600"/>
                </a:solidFill>
                <a:latin typeface="Tahoma"/>
              </a:rPr>
              <a:t>Человек и закон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Граждане Российской Федерации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обязан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826920" y="2349360"/>
            <a:ext cx="1943280" cy="69876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СОБЛЮДАТЬ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ОНСТИТУЦИЮ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ДРУГИЕ ЗАКОНЫ РФ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3492360" y="5373720"/>
            <a:ext cx="2087640" cy="62712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ПЛАТИТЬ ЗАКОННО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УСТАНОВЛЕН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НАЛОГИ И СБО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6227640" y="2349360"/>
            <a:ext cx="2303640" cy="62568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БЕРЕЧЬ ПАМЯТНИ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ИСТОРИИ 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УЛЬТУ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900000" y="4076640"/>
            <a:ext cx="1871640" cy="77148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ЗАЩИЩ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ОТЕЧЕСТВ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6443640" y="3933720"/>
            <a:ext cx="2232000" cy="86544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БЕРЕЖНО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ОТНОСИТЬС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 ПРИРОДНЫ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БОГАТСТВА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1"/>
          <a:stretch/>
        </p:blipFill>
        <p:spPr>
          <a:xfrm>
            <a:off x="3492360" y="2492280"/>
            <a:ext cx="2087640" cy="1992240"/>
          </a:xfrm>
          <a:prstGeom prst="rect">
            <a:avLst/>
          </a:prstGeom>
          <a:ln w="0">
            <a:noFill/>
          </a:ln>
        </p:spPr>
      </p:pic>
      <p:sp>
        <p:nvSpPr>
          <p:cNvPr id="222" name="Line 9"/>
          <p:cNvSpPr/>
          <p:nvPr/>
        </p:nvSpPr>
        <p:spPr>
          <a:xfrm flipH="1" flipV="1">
            <a:off x="2700360" y="3141360"/>
            <a:ext cx="720720" cy="36036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 flipH="1">
            <a:off x="2700360" y="3716280"/>
            <a:ext cx="720720" cy="28908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1"/>
          <p:cNvSpPr/>
          <p:nvPr/>
        </p:nvSpPr>
        <p:spPr>
          <a:xfrm flipV="1">
            <a:off x="5651640" y="3068640"/>
            <a:ext cx="647640" cy="43344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Line 12"/>
          <p:cNvSpPr/>
          <p:nvPr/>
        </p:nvSpPr>
        <p:spPr>
          <a:xfrm>
            <a:off x="5651640" y="3716280"/>
            <a:ext cx="720720" cy="36036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4500720" y="4581360"/>
            <a:ext cx="0" cy="71928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324000" y="260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Право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 - это то, что государство гарантирует дать своим гражданам, а </a:t>
            </a: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обязанность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 - это то, что граждане гарантируют дать своему государст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0" y="602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Обязанность государства – гарантировать права конкретного 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000" spc="-1" strike="noStrike">
                <a:solidFill>
                  <a:srgbClr val="ff0000"/>
                </a:solidFill>
                <a:latin typeface="Arial Unicode MS"/>
                <a:ea typeface="Arial"/>
              </a:rPr>
              <a:t>7. Почему важно соблюдать закон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кон устанавливает порядок в обще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кон стремится установить справедлив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кон устанавливает границы свободы пове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акон – нормативно-правовой акт, обладающий высшей юридической силой, принятый в строго определенном, особом порядке органом законодательной власти или референдумом и регулирующий наиболее важные общественные отношения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003640" y="1125360"/>
            <a:ext cx="1449720" cy="1913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"/>
          <p:cNvPicPr/>
          <p:nvPr/>
        </p:nvPicPr>
        <p:blipFill>
          <a:blip r:embed="rId3"/>
          <a:stretch/>
        </p:blipFill>
        <p:spPr>
          <a:xfrm>
            <a:off x="2195640" y="1484280"/>
            <a:ext cx="1484280" cy="2160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"/>
          <p:cNvPicPr/>
          <p:nvPr/>
        </p:nvPicPr>
        <p:blipFill>
          <a:blip r:embed="rId4"/>
          <a:stretch/>
        </p:blipFill>
        <p:spPr>
          <a:xfrm>
            <a:off x="7751880" y="1413000"/>
            <a:ext cx="1392120" cy="201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7" descr=""/>
          <p:cNvPicPr/>
          <p:nvPr/>
        </p:nvPicPr>
        <p:blipFill>
          <a:blip r:embed="rId5"/>
          <a:stretch/>
        </p:blipFill>
        <p:spPr>
          <a:xfrm>
            <a:off x="326880" y="3860640"/>
            <a:ext cx="1339920" cy="1970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9" descr=""/>
          <p:cNvPicPr/>
          <p:nvPr/>
        </p:nvPicPr>
        <p:blipFill>
          <a:blip r:embed="rId6"/>
          <a:stretch/>
        </p:blipFill>
        <p:spPr>
          <a:xfrm>
            <a:off x="2771640" y="2060640"/>
            <a:ext cx="1324080" cy="1966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8" descr=""/>
          <p:cNvPicPr/>
          <p:nvPr/>
        </p:nvPicPr>
        <p:blipFill>
          <a:blip r:embed="rId7"/>
          <a:stretch/>
        </p:blipFill>
        <p:spPr>
          <a:xfrm>
            <a:off x="3419640" y="2781360"/>
            <a:ext cx="1419120" cy="1949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6" descr=""/>
          <p:cNvPicPr/>
          <p:nvPr/>
        </p:nvPicPr>
        <p:blipFill>
          <a:blip r:embed="rId8"/>
          <a:stretch/>
        </p:blipFill>
        <p:spPr>
          <a:xfrm>
            <a:off x="3851280" y="3284640"/>
            <a:ext cx="1343160" cy="201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"/>
          <p:cNvPicPr/>
          <p:nvPr/>
        </p:nvPicPr>
        <p:blipFill>
          <a:blip r:embed="rId9"/>
          <a:stretch/>
        </p:blipFill>
        <p:spPr>
          <a:xfrm>
            <a:off x="7236000" y="2133720"/>
            <a:ext cx="1311120" cy="194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5" descr=""/>
          <p:cNvPicPr/>
          <p:nvPr/>
        </p:nvPicPr>
        <p:blipFill>
          <a:blip r:embed="rId10"/>
          <a:stretch/>
        </p:blipFill>
        <p:spPr>
          <a:xfrm>
            <a:off x="6804000" y="2637000"/>
            <a:ext cx="1274760" cy="1842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11"/>
          <a:stretch/>
        </p:blipFill>
        <p:spPr>
          <a:xfrm>
            <a:off x="6372360" y="3141720"/>
            <a:ext cx="1333440" cy="1836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"/>
          <p:cNvPicPr/>
          <p:nvPr/>
        </p:nvPicPr>
        <p:blipFill>
          <a:blip r:embed="rId12"/>
          <a:stretch/>
        </p:blipFill>
        <p:spPr>
          <a:xfrm>
            <a:off x="5940360" y="3860640"/>
            <a:ext cx="1308240" cy="2086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" descr=""/>
          <p:cNvPicPr/>
          <p:nvPr/>
        </p:nvPicPr>
        <p:blipFill>
          <a:blip r:embed="rId13"/>
          <a:stretch/>
        </p:blipFill>
        <p:spPr>
          <a:xfrm>
            <a:off x="4284720" y="4005360"/>
            <a:ext cx="1382760" cy="2016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"/>
          <p:cNvPicPr/>
          <p:nvPr/>
        </p:nvPicPr>
        <p:blipFill>
          <a:blip r:embed="rId14"/>
          <a:stretch/>
        </p:blipFill>
        <p:spPr>
          <a:xfrm>
            <a:off x="1332000" y="4653000"/>
            <a:ext cx="14382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СПРАВЕДЛИВОСТЬ- это когда каждый получает то, на что имеет право.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Свобода – отсутствие стеснения, неволи, возможность действовать по своему желанию.</a:t>
            </a: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Свобода состоит в возможности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делать все, что не нарушает закон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не причиняет вреда другом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Подумай! </a:t>
            </a: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Твоя своб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               </a:t>
            </a: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заканчивается там, где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                 </a:t>
            </a: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начинается своб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другого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929280" y="5346720"/>
            <a:ext cx="2214720" cy="1511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0" y="5354640"/>
            <a:ext cx="223200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8. Защита Отечест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Долг и обязан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чем нуж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регулярная ар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Военная служб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Готовить себ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к исполнению воинского дол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724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Monotype Corsiva"/>
              </a:rPr>
              <a:t>«Защита Отечества является долгом и обязанностью гражданина Российской федерации»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                               ст. 59 Конституция РФ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384360" cy="2114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2585880" cy="1974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2146320" cy="2508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3132000" y="4005360"/>
            <a:ext cx="3672000" cy="2328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7020000" y="2565360"/>
            <a:ext cx="18558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егулярные войска – войска постоянной армии, определенным образом организованные и упорядоченные, имеющие основательную подготовку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360" y="3715920"/>
            <a:ext cx="521964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Tahoma"/>
              </a:rPr>
              <a:t>Возможные внешние угроз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глобаль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региональ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                         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ча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435280" y="3715920"/>
            <a:ext cx="370836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Tahoma"/>
              </a:rPr>
              <a:t>Внутренние угро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6600"/>
                </a:solidFill>
                <a:latin typeface="Tahoma"/>
              </a:rPr>
              <a:t>(создание незаконных вооруженных формирований, нелегальное распространение оружия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1042920" y="4221000"/>
            <a:ext cx="0" cy="648000"/>
          </a:xfrm>
          <a:prstGeom prst="line">
            <a:avLst/>
          </a:prstGeom>
          <a:ln w="5724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2771640" y="4221000"/>
            <a:ext cx="0" cy="1079640"/>
          </a:xfrm>
          <a:prstGeom prst="line">
            <a:avLst/>
          </a:prstGeom>
          <a:ln w="5724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4356000" y="4221000"/>
            <a:ext cx="0" cy="1582920"/>
          </a:xfrm>
          <a:prstGeom prst="line">
            <a:avLst/>
          </a:prstGeom>
          <a:ln w="5724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1"/>
          <a:stretch/>
        </p:blipFill>
        <p:spPr>
          <a:xfrm>
            <a:off x="3276720" y="1413000"/>
            <a:ext cx="2813040" cy="15238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0"/>
          <p:cNvSpPr/>
          <p:nvPr/>
        </p:nvSpPr>
        <p:spPr>
          <a:xfrm>
            <a:off x="2702520" y="3213000"/>
            <a:ext cx="393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ервые полки регулярной Красной Арм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2136960" cy="1603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2"/>
          <p:cNvSpPr/>
          <p:nvPr/>
        </p:nvSpPr>
        <p:spPr>
          <a:xfrm>
            <a:off x="118800" y="3213000"/>
            <a:ext cx="251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гулярная армия Петра I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Picture 13" descr=""/>
          <p:cNvPicPr/>
          <p:nvPr/>
        </p:nvPicPr>
        <p:blipFill>
          <a:blip r:embed="rId3"/>
          <a:stretch/>
        </p:blipFill>
        <p:spPr>
          <a:xfrm>
            <a:off x="6588000" y="1413000"/>
            <a:ext cx="2225880" cy="16700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4"/>
          <p:cNvSpPr/>
          <p:nvPr/>
        </p:nvSpPr>
        <p:spPr>
          <a:xfrm>
            <a:off x="6804000" y="3213000"/>
            <a:ext cx="18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временная арм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2360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Monotype Corsiva"/>
              </a:rPr>
              <a:t>Воинская обязанность гражданина Российской федераци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Встать на воинский учет в год достижения 17 л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Состоять на воинском учете по месту жительства в военном комиссариате (военкомат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роходить обязательную подготовку к военной служ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На военную службу призываются граждане РФ от 18 до 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лет, стоящие и обязанные состоять на военном учет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олучив повестку из военкомата, пройти медицинское освидетельствование, заседание призывной комиссии, явиться для оправки в воинскую ча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Срок военной службы по призыву 12 месяц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7020000" y="4984920"/>
            <a:ext cx="1979640" cy="17143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4472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отовить себя к исполнению воинского долг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6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1704960" cy="2495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"/>
          <p:cNvPicPr/>
          <p:nvPr/>
        </p:nvPicPr>
        <p:blipFill>
          <a:blip r:embed="rId2"/>
          <a:stretch/>
        </p:blipFill>
        <p:spPr>
          <a:xfrm>
            <a:off x="5508720" y="1341360"/>
            <a:ext cx="1976400" cy="1482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2154240" cy="1434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4"/>
          <a:stretch/>
        </p:blipFill>
        <p:spPr>
          <a:xfrm>
            <a:off x="6443640" y="4653000"/>
            <a:ext cx="2455920" cy="197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5"/>
          <a:stretch/>
        </p:blipFill>
        <p:spPr>
          <a:xfrm>
            <a:off x="179280" y="1413000"/>
            <a:ext cx="2471760" cy="1854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"/>
          <p:cNvPicPr/>
          <p:nvPr/>
        </p:nvPicPr>
        <p:blipFill>
          <a:blip r:embed="rId6"/>
          <a:stretch/>
        </p:blipFill>
        <p:spPr>
          <a:xfrm>
            <a:off x="6804000" y="270828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"/>
          <p:cNvPicPr/>
          <p:nvPr/>
        </p:nvPicPr>
        <p:blipFill>
          <a:blip r:embed="rId7"/>
          <a:stretch/>
        </p:blipFill>
        <p:spPr>
          <a:xfrm>
            <a:off x="1908000" y="5291280"/>
            <a:ext cx="2087640" cy="1566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"/>
          <p:cNvPicPr/>
          <p:nvPr/>
        </p:nvPicPr>
        <p:blipFill>
          <a:blip r:embed="rId8"/>
          <a:stretch/>
        </p:blipFill>
        <p:spPr>
          <a:xfrm>
            <a:off x="4140360" y="5291280"/>
            <a:ext cx="2089080" cy="1566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7" descr=""/>
          <p:cNvPicPr/>
          <p:nvPr/>
        </p:nvPicPr>
        <p:blipFill>
          <a:blip r:embed="rId9"/>
          <a:stretch/>
        </p:blipFill>
        <p:spPr>
          <a:xfrm>
            <a:off x="7667640" y="692280"/>
            <a:ext cx="1182600" cy="1660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9" descr=""/>
          <p:cNvPicPr/>
          <p:nvPr/>
        </p:nvPicPr>
        <p:blipFill>
          <a:blip r:embed="rId10"/>
          <a:stretch/>
        </p:blipFill>
        <p:spPr>
          <a:xfrm>
            <a:off x="2268360" y="3392640"/>
            <a:ext cx="2303640" cy="1728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"/>
          <p:cNvPicPr/>
          <p:nvPr/>
        </p:nvPicPr>
        <p:blipFill>
          <a:blip r:embed="rId11"/>
          <a:stretch/>
        </p:blipFill>
        <p:spPr>
          <a:xfrm>
            <a:off x="2843280" y="1557360"/>
            <a:ext cx="25002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b325"/>
                </a:solidFill>
                <a:latin typeface="Arial"/>
              </a:rPr>
              <a:t>О чем ты узнаешь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Какие бывают социальные нормы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Следует ли соблюдать дисциплину? Кто от этого выигрывает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За какие проступки ты уже сейчас несешь ответственность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Чему служат правоохранительные органы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2491920"/>
            <a:ext cx="850752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b325"/>
                </a:solidFill>
                <a:latin typeface="Tahoma"/>
              </a:rPr>
              <a:t>На какие вопросы ответиш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Почему нужно соблюдать закон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Какое поведение называ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противоправны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Кто и как должен защищать Родин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84360" y="5013360"/>
            <a:ext cx="2395440" cy="1589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12000" y="2421000"/>
            <a:ext cx="2690640" cy="1795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3"/>
          <a:stretch/>
        </p:blipFill>
        <p:spPr>
          <a:xfrm>
            <a:off x="6012000" y="4376880"/>
            <a:ext cx="266364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95280" y="27756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5.Что значит жить по правила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Многообразие прави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«Привычка свыше нам дана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Правила этикета и хорошие ман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492360" y="4005360"/>
            <a:ext cx="2657520" cy="1923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4763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583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Правило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– установленный порядок действий в тех или иных случая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cc6600"/>
                </a:solidFill>
                <a:latin typeface="Tahoma"/>
              </a:rPr>
              <a:t>Социальные нормы</a:t>
            </a: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 - предписания, требования, пожелания и ожидания соответствующего (общественно одобряемого) пове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По направлен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редписывающие                запрещающ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По степени обязатель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нормы-правила                  нормы-ожид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По форм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  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формальные               неформаль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4"/>
          <p:cNvSpPr/>
          <p:nvPr/>
        </p:nvSpPr>
        <p:spPr>
          <a:xfrm flipH="1">
            <a:off x="3348000" y="3141720"/>
            <a:ext cx="1224000" cy="4316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4572000" y="3141720"/>
            <a:ext cx="1152360" cy="4316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6"/>
          <p:cNvSpPr/>
          <p:nvPr/>
        </p:nvSpPr>
        <p:spPr>
          <a:xfrm flipH="1">
            <a:off x="3348000" y="4365720"/>
            <a:ext cx="1224000" cy="5032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4572000" y="4365720"/>
            <a:ext cx="1224000" cy="5032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8"/>
          <p:cNvSpPr/>
          <p:nvPr/>
        </p:nvSpPr>
        <p:spPr>
          <a:xfrm flipH="1">
            <a:off x="3635280" y="5661000"/>
            <a:ext cx="936720" cy="5047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4572000" y="5661000"/>
            <a:ext cx="863640" cy="5047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Привычка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– сложившийся способ  </a:t>
            </a:r>
            <a:br>
              <a:rPr sz="2000"/>
            </a:b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    поведения (стереотип) в  </a:t>
            </a:r>
            <a:br>
              <a:rPr sz="2000"/>
            </a:b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    определенных ситуациях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195640" y="1052640"/>
            <a:ext cx="4681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Обычай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– традиционно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установившийся порядок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овед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Ритуал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– выработанный обычае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или установленный порядок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совершения чего-либ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Обряд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– совокупность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традиционных действий, сопровождающих важные моменты жизни человека, установленных обычаем или ритуал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Церемония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– торжественный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официальный акт, при проведении которого установлен определенный порядок – церемониал (последовательность действий, имеющих символическое значени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692000" cy="1270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1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3"/>
          <a:stretch/>
        </p:blipFill>
        <p:spPr>
          <a:xfrm>
            <a:off x="0" y="1969920"/>
            <a:ext cx="2556000" cy="1598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4"/>
          <a:stretch/>
        </p:blipFill>
        <p:spPr>
          <a:xfrm>
            <a:off x="7380360" y="1557360"/>
            <a:ext cx="1441440" cy="2158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5"/>
          <a:stretch/>
        </p:blipFill>
        <p:spPr>
          <a:xfrm>
            <a:off x="539640" y="4005360"/>
            <a:ext cx="1676520" cy="2519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6"/>
          <a:stretch/>
        </p:blipFill>
        <p:spPr>
          <a:xfrm>
            <a:off x="7020000" y="533700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7"/>
          <a:stretch/>
        </p:blipFill>
        <p:spPr>
          <a:xfrm>
            <a:off x="6588000" y="3789360"/>
            <a:ext cx="194472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628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Этикет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– принятая в определенных социальных кругах система правил поведения, составляющих единое цело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4581000"/>
            <a:ext cx="673272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Внешние формы поведения человека, получающие положительную или отрицательную оценку окружающих, называются </a:t>
            </a: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манерами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516720" y="1628640"/>
            <a:ext cx="2171520" cy="1447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1906560" cy="1495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6877080" y="4724280"/>
            <a:ext cx="2039760" cy="2003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4"/>
          <a:stretch/>
        </p:blipFill>
        <p:spPr>
          <a:xfrm>
            <a:off x="1692360" y="2852640"/>
            <a:ext cx="1800000" cy="1681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5"/>
          <a:stretch/>
        </p:blipFill>
        <p:spPr>
          <a:xfrm>
            <a:off x="3564000" y="1628640"/>
            <a:ext cx="1773000" cy="1330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6"/>
          <a:stretch/>
        </p:blipFill>
        <p:spPr>
          <a:xfrm>
            <a:off x="4932360" y="2708280"/>
            <a:ext cx="14209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Санкции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меры воздейств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рименяемые к нарушителя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установленных норм, прави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способ одобре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оощрения, поддерж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5"/>
          <p:cNvSpPr/>
          <p:nvPr/>
        </p:nvSpPr>
        <p:spPr>
          <a:xfrm flipH="1">
            <a:off x="3059280" y="765000"/>
            <a:ext cx="151272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4572000" y="765000"/>
            <a:ext cx="144000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3348000" y="2924280"/>
            <a:ext cx="2838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6.Права и обязанности гражда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Права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Кто и как обеспечивает твои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Где проходит граница твоих пр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Нет прав без обязан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6084720" y="4005360"/>
            <a:ext cx="23655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14"/>
          <p:cNvGrpSpPr/>
          <p:nvPr/>
        </p:nvGrpSpPr>
        <p:grpSpPr>
          <a:xfrm>
            <a:off x="324000" y="333360"/>
            <a:ext cx="8569080" cy="2448000"/>
            <a:chOff x="324000" y="333360"/>
            <a:chExt cx="8569080" cy="2448000"/>
          </a:xfrm>
        </p:grpSpPr>
        <p:sp>
          <p:nvSpPr>
            <p:cNvPr id="205" name="AutoShape 15"/>
            <p:cNvSpPr/>
            <p:nvPr/>
          </p:nvSpPr>
          <p:spPr>
            <a:xfrm>
              <a:off x="324000" y="333360"/>
              <a:ext cx="856908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Rectangle 16"/>
            <p:cNvSpPr/>
            <p:nvPr/>
          </p:nvSpPr>
          <p:spPr>
            <a:xfrm>
              <a:off x="3180240" y="333360"/>
              <a:ext cx="319176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Tahoma"/>
                </a:rPr>
                <a:t>Права человек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Rectangle 17"/>
            <p:cNvSpPr/>
            <p:nvPr/>
          </p:nvSpPr>
          <p:spPr>
            <a:xfrm>
              <a:off x="658080" y="1085760"/>
              <a:ext cx="235368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гражданск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Rectangle 18"/>
            <p:cNvSpPr/>
            <p:nvPr/>
          </p:nvSpPr>
          <p:spPr>
            <a:xfrm>
              <a:off x="3515760" y="1085760"/>
              <a:ext cx="252072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политическ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Rectangle 19"/>
            <p:cNvSpPr/>
            <p:nvPr/>
          </p:nvSpPr>
          <p:spPr>
            <a:xfrm>
              <a:off x="6542280" y="1085760"/>
              <a:ext cx="218268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экономическ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20"/>
            <p:cNvSpPr/>
            <p:nvPr/>
          </p:nvSpPr>
          <p:spPr>
            <a:xfrm>
              <a:off x="2005560" y="1839240"/>
              <a:ext cx="2350440" cy="56484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социальны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Rectangle 21"/>
            <p:cNvSpPr/>
            <p:nvPr/>
          </p:nvSpPr>
          <p:spPr>
            <a:xfrm>
              <a:off x="5196240" y="1839240"/>
              <a:ext cx="2353680" cy="56484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культурны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2" name="Text Box 22"/>
          <p:cNvSpPr/>
          <p:nvPr/>
        </p:nvSpPr>
        <p:spPr>
          <a:xfrm>
            <a:off x="468360" y="2924280"/>
            <a:ext cx="8496360" cy="38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Всеобщая декларация прав человека, 1948 г.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Международные пакты о правах человека, 1966 г.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всеобщ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отчуждаем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делимый характер прав 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Конституции государст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закрепление прав на своей территории 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дача им обязательной сил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24" descr=""/>
          <p:cNvPicPr/>
          <p:nvPr/>
        </p:nvPicPr>
        <p:blipFill>
          <a:blip r:embed="rId1"/>
          <a:stretch/>
        </p:blipFill>
        <p:spPr>
          <a:xfrm>
            <a:off x="7740720" y="4941720"/>
            <a:ext cx="1245960" cy="191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5" descr=""/>
          <p:cNvPicPr/>
          <p:nvPr/>
        </p:nvPicPr>
        <p:blipFill>
          <a:blip r:embed="rId2"/>
          <a:stretch/>
        </p:blipFill>
        <p:spPr>
          <a:xfrm>
            <a:off x="6227640" y="3933720"/>
            <a:ext cx="1290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09:55:56Z</dcterms:created>
  <dc:creator>Admin</dc:creator>
  <dc:description/>
  <dc:language>en-US</dc:language>
  <cp:lastModifiedBy>LEGION</cp:lastModifiedBy>
  <dcterms:modified xsi:type="dcterms:W3CDTF">2015-01-28T10:16:33Z</dcterms:modified>
  <cp:revision>10</cp:revision>
  <dc:subject/>
  <dc:title>Человек и закон</dc:title>
</cp:coreProperties>
</file>