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50E5-12E7-4D01-9D70-846012C9D2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оль права в жизни человека и общ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9854-E133-4F62-82EA-4BA0AA5084D5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ком виде они существу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897B-47FD-4694-8A17-3497949A112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7811-8538-4AED-8E31-79C7275F870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B956-70AF-4FF9-944A-8731D856845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тавьте нормативно-правовые акты по степени значимости, пронумеруйте их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акты министерств, ведомств,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76F2-4EB6-4C73-914E-C1323B1D475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1EFC-C899-4BDD-8BA0-BC1AE0D52C5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149-0952-42EA-9918-A1A83EDFEF3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2FD7-A179-47D0-AA42-099A7500CA8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поставьте между собой содержание двух колонок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органами власти и гражд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реступность и меру наказания за 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(уголовно)-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наследования, владения и распоряжения собственностью, заключения сделок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мужчиной и женщиной при вступлении в брак, разводе и в процессе семей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орядок отношений работодателей 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разрешения гражданских и уголовн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C741-BF62-47E9-A0FB-A020B2D37D7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делите приведенные понятия на четыре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2CB-17C5-4A1F-8032-18F5CBDB2D9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бросил окурок на пол в коридор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39E0-3AC5-4664-A3F5-984E14F25CD5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онимания необходимости получения правовых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умений высказывать свое мнение, анализировать ситу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ать в группе и уважать мнение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1DCE-D7CF-41CE-968F-3ACDDD15142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Крылов В. сегодня не поздоровался с учителе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ца 10 класса не уступила место в автобусе пожилому пассажи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а учащихся после «отбоя» в общежитии шумно играла в      « кошки – мыш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Рыбин изготовил нож с наборной ручко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DAAC-433E-448A-AF3B-CB3EBF8B476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анализируйте ситуацию с точки зрения морали и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F13F-3125-4CD4-A84F-DF0977D63A5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ыграйте ситуац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сле уроков ученик 8 класса Евгений К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дел не свое пальто, а понравившуюся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жаную куртку ученика 9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Администрация школы, где учится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одител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уд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классник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FBEC-45FE-407C-94DC-2A4A2A09E61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ниже приведенных признаков найдите общие для права и мора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 воздействует на поведение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мирает вместе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овлено экономическими интере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ает раньше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нение обеспечивается принуждением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ражает общественное м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C372-1D9C-4771-937C-AC48793AFB9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фр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меня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страны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0499-510D-4501-AD12-05BA665412B5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мните определ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EA1C-44C1-46C0-B7E6-456DC015006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системный характер, формально выражено в источниках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принципах справедливости и ценностях, уважаемых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D365-C040-46EE-B7F4-2BDDD4AD67A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существуе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х принципах право осн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создается и охраняется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характер носи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4192-8990-486A-8C87-6D1CB669F7D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ая ответственность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защита прав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Законод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Ис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.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4561-F610-4F7B-83D9-59143DE0265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92A-AE7B-4549-989A-8617AEF789DD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FAA8-A829-4386-8560-690AA64D0A7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чег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жна система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D895-84B2-4982-857F-6D9A0235A225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регуляции жизни людей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0FCF-33AA-49C9-AB52-8D053040137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устанавливает эти нор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1DCE-370C-4A74-B592-C78E27DA0D4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8C1-54A4-425F-9119-1D27FAF0452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686-660D-4C4E-8187-F8C17927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BEF-4C5D-4BC5-99BC-07670C4E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787-174E-485C-A560-ADFF0504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2B7-D6ED-49CE-A620-66C467F4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38EF-BAB3-4F0F-B303-793F8693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9A80-965B-47D3-9637-8E7615EF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C027-616A-43B2-8867-2342A49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6268-25E7-42C0-BC69-5708CCBD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4D34-9E57-49AC-8F46-0F3721C8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377C-5166-49E2-AFA6-EAE395A5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721B-6952-4380-9F02-D59B977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478-9C38-44AA-8896-7B1CEF85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9DC3-76F6-4E06-A67C-2B4B77E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7DE3-B3A9-45B4-B9CD-043BA2E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10FB-07DF-46D4-8988-455D959A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690B-E950-41CC-B85E-1B555B54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A902-82C2-449A-AFE3-A13017A8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D78-2D7F-4716-811D-E2EE89A0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937-EBD4-4B5A-B5C5-FE39DA23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EBD-1DAC-4F18-84B5-DAB0DCA4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432-E337-455D-8880-536BDEB7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CAD-525B-4A56-BEBF-AC0EBDE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633-545E-4528-AAF1-D2CAD501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101-A3BB-403E-B149-E230627F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271-728B-4469-8E83-A65C7F4E5D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44C8-DB5D-4975-A7E0-5646F043286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1428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рактику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56800" y="3071880"/>
            <a:ext cx="8286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Роль права в жизни человека и обществ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j0300840"/>
          <p:cNvPicPr/>
          <p:nvPr/>
        </p:nvPicPr>
        <p:blipFill>
          <a:blip r:embed="rId1"/>
          <a:stretch/>
        </p:blipFill>
        <p:spPr>
          <a:xfrm>
            <a:off x="7020000" y="4941720"/>
            <a:ext cx="1814400" cy="1528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143000" y="2858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униципальное общеобразовательное учреждение средняя общеобразовательная школа № 2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643200" y="550080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ыбинс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357800" y="4214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итель истории  и обществознани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ичугина  А.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В каком виде они существуют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В нормативно-правовых актах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3" descr="j0299125"/>
          <p:cNvPicPr/>
          <p:nvPr/>
        </p:nvPicPr>
        <p:blipFill>
          <a:blip r:embed="rId1"/>
          <a:stretch/>
        </p:blipFill>
        <p:spPr>
          <a:xfrm>
            <a:off x="4284720" y="4437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Право –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сставьте нормативно-правовые акты по степени значимости, пронумеруйте их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казы президента Росс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рмативные акты министерств, ведомств, органов местного самоуправ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едеральные зако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нституция РФ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становления правитель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7487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ВЛАС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чему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BD14844_"/>
          <p:cNvPicPr/>
          <p:nvPr/>
        </p:nvPicPr>
        <p:blipFill>
          <a:blip r:embed="rId1"/>
          <a:stretch/>
        </p:blipFill>
        <p:spPr>
          <a:xfrm>
            <a:off x="539640" y="249228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new-top_01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Закон и власть.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6" name="Organization Chart 3"/>
          <p:cNvGrpSpPr/>
          <p:nvPr/>
        </p:nvGrpSpPr>
        <p:grpSpPr>
          <a:xfrm>
            <a:off x="431640" y="2781360"/>
            <a:ext cx="8208360" cy="3815280"/>
            <a:chOff x="431640" y="2781360"/>
            <a:chExt cx="8208360" cy="3815280"/>
          </a:xfrm>
        </p:grpSpPr>
        <p:cxnSp>
          <p:nvCxnSpPr>
            <p:cNvPr id="167" name="_s1028"/>
            <p:cNvCxnSpPr>
              <a:stCxn id="168" idx="0"/>
              <a:endCxn id="169" idx="2"/>
            </p:cNvCxnSpPr>
            <p:nvPr/>
          </p:nvCxnSpPr>
          <p:spPr>
            <a:xfrm flipV="1" rot="16200000">
              <a:off x="5590440" y="325152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0" name="_s1029"/>
            <p:cNvCxnSpPr>
              <a:stCxn id="171" idx="0"/>
              <a:endCxn id="169" idx="2"/>
            </p:cNvCxnSpPr>
            <p:nvPr/>
          </p:nvCxnSpPr>
          <p:spPr>
            <a:xfrm flipV="1">
              <a:off x="4536000" y="4306680"/>
              <a:ext cx="3600" cy="763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69" idx="2"/>
            </p:cNvCxnSpPr>
            <p:nvPr/>
          </p:nvCxnSpPr>
          <p:spPr>
            <a:xfrm flipH="1" flipV="1" rot="5400000">
              <a:off x="2717640" y="325188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9" name="_s1031"/>
            <p:cNvSpPr/>
            <p:nvPr/>
          </p:nvSpPr>
          <p:spPr>
            <a:xfrm>
              <a:off x="3304440" y="27813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Когда надо принят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решение, я…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_s1032"/>
            <p:cNvSpPr/>
            <p:nvPr/>
          </p:nvSpPr>
          <p:spPr>
            <a:xfrm>
              <a:off x="4316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советуюс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с народом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1" name="_s1033"/>
            <p:cNvSpPr/>
            <p:nvPr/>
          </p:nvSpPr>
          <p:spPr>
            <a:xfrm>
              <a:off x="33044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риказы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8" name="_s1034"/>
            <p:cNvSpPr/>
            <p:nvPr/>
          </p:nvSpPr>
          <p:spPr>
            <a:xfrm>
              <a:off x="617760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овеле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поставьте между собой содержание двух колонок таблиц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9640" y="836640"/>
          <a:ext cx="8229600" cy="612612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именов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одерж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голо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органами власти и граждан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реступность и меру наказания за не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-(уголовно)- процессуаль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наследования, владения и распоряжения собственностью, заключения сделок и т.д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мужчиной и женщиной при вступлении в брак, разводе и в процессе семейной жиз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емей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орядок отношений работодателей и работник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разрешения гражданских и уголовных де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зделите приведенные понятия на четыре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9280" y="5084640"/>
          <a:ext cx="8785440" cy="1578240"/>
        </p:xfrm>
        <a:graphic>
          <a:graphicData uri="http://schemas.openxmlformats.org/drawingml/2006/table">
            <a:tbl>
              <a:tblPr/>
              <a:tblGrid>
                <a:gridCol w="2273400"/>
                <a:gridCol w="2057400"/>
                <a:gridCol w="2057400"/>
                <a:gridCol w="23972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авов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орально-нравствен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лигиоз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дновременно несколько сф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бросил окурок на пол в коридоре школ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понимания необходимости получения правовых знани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работка умений высказывать свое мнение, анализировать ситуац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умений работать в группе и уважать мнение других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к Крылов В. сегодня не поздоровался с учителем пра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ца 10 класса не уступила место в автобусе пожилому пассажир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Группа учащихся после «отбоя» в общежитии шумно играла в      « кошки – мышки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Рыбин изготовил нож с наборной ручкой.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анализируйте ситуацию с точки зрения морали и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ыграйте ситуацию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После уроков ученик 8 класса Евгений К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надел не свое пальто, а понравившуюся ему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кожаную куртку ученика 9 класс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1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Администрация школы, где учится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авонарушител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2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Родител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3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Судь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4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Одноклассник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з ниже приведенных признаков найдите общие для права и морали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Активно воздействует на поведение люд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тмирает вместе с государств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бусловлено экономическими интереса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озникает раньше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Исполнение обеспечивается принуждением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ыражает общественное мн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кончи фр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меня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страны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Запомните определение: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системный характер, формально выражено в источниках пра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новано на принципах справедливости и ценностях, уважаемых в обществ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вязано с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общеобязательный характе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В какой форме существуе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На каких принципах право основан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ем создается и охраняется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акой характер носи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ое государ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ерховенство зако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заимная ответственность личности и государ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удебная защита прав гражд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деление властей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1.Законода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2.Исполни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3.Судеб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Право – что это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Система норм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чего </a:t>
            </a: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нужна система норм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регуляции жизни людей в обществе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3" descr="new-top_05"/>
          <p:cNvPicPr/>
          <p:nvPr/>
        </p:nvPicPr>
        <p:blipFill>
          <a:blip r:embed="rId1"/>
          <a:stretch/>
        </p:blipFill>
        <p:spPr>
          <a:xfrm>
            <a:off x="3780000" y="4292640"/>
            <a:ext cx="5225760" cy="25653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Кто устанавливает эти нормы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68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68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07:47Z</dcterms:created>
  <dc:creator>Самойлов Н.Г.</dc:creator>
  <dc:description/>
  <dc:language>en-US</dc:language>
  <cp:lastModifiedBy>LEGION</cp:lastModifiedBy>
  <dcterms:modified xsi:type="dcterms:W3CDTF">2015-01-28T10:17:51Z</dcterms:modified>
  <cp:revision>71</cp:revision>
  <dc:subject/>
  <dc:title>Урок-практикум</dc:title>
</cp:coreProperties>
</file>