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6BA4-5C81-4065-BA52-E2A11B30C9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оль права в жизни человека и общ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E1CC-3533-4BBF-A3E6-4400393ADEA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ком виде они существу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E0DD-9F71-491B-875C-5972E3B79CBC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4F74-2E4A-476A-88AD-C583CBFED09F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–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истема общепринятых обязательных норм, регулирующих поведение людей, установленных и охраняемых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520A-FDE2-4E08-A3D0-084C83CD58E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тавьте нормативно-правовые акты по степени значимости, пронумеруйте их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акты министерств, ведомств, органов местного само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4971-8142-48C7-904B-CA49BD834E3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последовательности вы бы расположили эти два понятия, например, для обозначения темы ур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57D0-C822-4DF8-8F0C-5390CFACA93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9F80-E063-4DB8-8A0E-BB8F5F039B5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бы вы были правителями  государств с различными политическими режимами (авторитарный, тоталитарный, демократический), как бы вы продолжили фраз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8C73-4FF7-4030-9FB4-22A7098643F1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поставьте между собой содержание двух колонок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отношения между органами власти и гражд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ет преступность и меру наказания за 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(уголовно)-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порядок наследования, владения и распоряжения собственностью, заключения сделок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отношения между мужчиной и женщиной при вступлении в брак, разводе и в процессе семей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ет порядок отношений работодателей 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порядок разрешения гражданских и уголовн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C134-58A7-47C3-800F-7C9BBFC1ACE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делите приведенные понятия на четыре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, правопорядок, добро, грех, справедливость, молитва, договор, зло, собственность, свобода совести, доверие, благодарность, референдум, раскаяние, совесть, преступление ,стыд, любовь, причастие, дееспособность, суеверие, устав, свобода слова, пока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B96F-47FD-4BE3-99AF-CE84192722C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е, в какой ситуации нарушены нормы 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тель МХК подошла к сидящему в коридоре учащемуся и стала с ним разговаривать. Учащийся, продолжая сидеть, охотно отвечал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бросил окурок на пол в коридор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профессионального училища опоздал к началу практических занятий на 30 минут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0835-9731-4129-93C0-B8802C288A8D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онимания необходимости получения правовых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умений высказывать свое мнение, анализировать ситу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ать в группе и уважать мнение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овременного цивилизованного человека, подготовленного к жизни в условиях сегодняшней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9524-2C49-4A11-9015-29F4C2760827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е, в какой ситуации нарушены нормы 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Крылов В. сегодня не поздоровался с учителем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ца 10 класса не уступила место в автобусе пожилому пассажи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а учащихся после «отбоя» в общежитии шумно играла в      « кошки – мыш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Рыбин изготовил нож с наборной ручко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CD3F-8A3E-4C47-8E90-339CDCAA72E7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анализируйте ситуацию с точки зрения морали и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-летние подростки взяли чужой автомобиль, чтобы покататься и совершили наезд на стол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подал заявление о расторжении трудового договора, а через две недели директор завода сказал, что уволить Андрея не может, т.к. на его место не найден новый работник.»А если не выйдешь на работу – уволю за прогул!» - сказал дир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Сергеевич считает, что воспитать настоящего мужчину можно лишь очень строгими мерами, и поэтому часто применяет к сыну телесны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купил билет на поезд, зашел в вагон и  выяснил, что его место занято.Он обратился к проводнику за разъяснениями, а он сказал, что может предложить ему лишь худш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1D24-419F-45F0-8C7A-DE9FDB698A8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ыграйте ситуаци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сле уроков ученик 8 класса Евгений К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дел не свое пальто, а понравившуюся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жаную куртку ученика 9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Администрация школы, где учится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одители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уд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4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классники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86E8-9576-486F-B427-7AF21FF80EFB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ниже приведенных признаков найдите общие для права и морал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 воздействует на поведение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мирает вместе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овлено экономическими интере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ает раньше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нение обеспечивается принуждением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ражает общественное м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3D5F-C36F-4440-9235-D0CAE4CD70B1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фр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ажно для меня, потому что…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ажно для страны, потому что…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7C75-A679-41F3-A48A-E271A8574B1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омните определ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 – это система общепринятых, обязательных норм, регулирующих поведение людей, установленных и охраняемых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A459-0E29-43B2-80D7-86ED0CDAA6C0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системный характер, формально выражено в источниках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принципах справедливости и ценностях, уважаемых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о с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2328-388C-4DDB-A600-F1CC6E8DA3A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существует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х принципах право осн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создается и охраняется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характер носит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A4D4-506F-42E8-A78C-3D134FC969C3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ая ответственность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защита прав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Законод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Ис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.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3326-98D0-4969-9DF3-9182971B0A85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–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47E4-7014-45B2-B961-9B4D66F56534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2CD4-58F7-4453-8EC0-F86D03E5833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чег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жна система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9C9F-CF3A-422C-B13A-9B6B716B9557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регуляции жизни людей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19C9-5DBE-4769-A387-3C0670772A3F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устанавливает эти нор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4184-45AA-40F3-90C9-6876A53FA24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D6F3-02B1-4C4E-BD0A-2A92AB120267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9EC-5618-43BA-8AE7-731477F0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2C1-1FDC-4B74-AB25-1C8729BC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FAA-4C43-4484-B130-8D4CED52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B77-B876-437C-9718-2B133338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2CB4-DEA2-4E46-B172-5A696EE3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A9E8-BF8B-4ACE-9E44-0E82EC1A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A788-37B3-4AFE-9426-B6CD9C6D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8A23-F5AA-4CF0-96C9-589CBD9B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37C5-A437-4B7C-9BD5-49DB8872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2543-9F13-4067-B4A5-A458CA1D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A11E-971D-4B54-A153-CC9A6B2D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81C-B813-43CB-A454-EF9EA600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F579-E24D-4F11-B36E-B11A5FC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9884-8CA5-4F9E-9D59-CD4E1F0C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E07E-783B-45E9-83BF-CBB64E7B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E62A-F82F-48AE-B544-6D255CED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AF6E-1AE0-4CDE-9A18-79932D97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D90-1EA1-4079-BB9F-D949D260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8A7-B04C-4483-A620-CA798E58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27D-B8A0-4EA8-A11F-68E191EC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8FF-3C5C-45F4-AAB8-9748C1D4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9EC-016F-408A-B7DE-B00D84B5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09F-FA92-430A-945A-BE62E4F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FC7-9402-40A0-915A-D24CE756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7D8A-7014-4C10-9B79-6324D229D4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A5CF-27EB-4CAE-9529-EECCC5419BE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5880" y="1428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рактику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56800" y="3071880"/>
            <a:ext cx="8286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«Роль права в жизни человека и обществ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6" descr="j0300840"/>
          <p:cNvPicPr/>
          <p:nvPr/>
        </p:nvPicPr>
        <p:blipFill>
          <a:blip r:embed="rId1"/>
          <a:stretch/>
        </p:blipFill>
        <p:spPr>
          <a:xfrm>
            <a:off x="7020000" y="4941720"/>
            <a:ext cx="1814400" cy="1528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143000" y="2858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униципальное общеобразовательное учреждение средняя общеобразовательная школа № 2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643200" y="550080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ыбинс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357800" y="42148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читель истории  и обществознани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ичугина  А.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В каком виде они существуют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В нормативно-правовых актах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3" descr="j0299125"/>
          <p:cNvPicPr/>
          <p:nvPr/>
        </p:nvPicPr>
        <p:blipFill>
          <a:blip r:embed="rId1"/>
          <a:stretch/>
        </p:blipFill>
        <p:spPr>
          <a:xfrm>
            <a:off x="4284720" y="4437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Право –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это система общепринятых обязательных норм, регулирующих поведение людей, установленных и охраняемых государство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сставьте нормативно-правовые акты по степени значимости, пронумеруйте их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казы президента Росс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рмативные акты министерств, ведомств, органов местного самоуправ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едеральные зако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нституция РФ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становления правитель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7487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ВЛАС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какой последовательности вы бы расположили эти два понятия, например, для обозначения темы урок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чему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BD14844_"/>
          <p:cNvPicPr/>
          <p:nvPr/>
        </p:nvPicPr>
        <p:blipFill>
          <a:blip r:embed="rId1"/>
          <a:stretch/>
        </p:blipFill>
        <p:spPr>
          <a:xfrm>
            <a:off x="539640" y="249228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new-top_01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Закон и власть.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Если бы вы были правителями  государств с различными политическими режимами (авторитарный, тоталитарный, демократический), как бы вы продолжили фразу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6" name="Organization Chart 3"/>
          <p:cNvGrpSpPr/>
          <p:nvPr/>
        </p:nvGrpSpPr>
        <p:grpSpPr>
          <a:xfrm>
            <a:off x="431640" y="2781360"/>
            <a:ext cx="8208360" cy="3815280"/>
            <a:chOff x="431640" y="2781360"/>
            <a:chExt cx="8208360" cy="3815280"/>
          </a:xfrm>
        </p:grpSpPr>
        <p:cxnSp>
          <p:nvCxnSpPr>
            <p:cNvPr id="167" name="_s1028"/>
            <p:cNvCxnSpPr>
              <a:stCxn id="168" idx="0"/>
              <a:endCxn id="169" idx="2"/>
            </p:cNvCxnSpPr>
            <p:nvPr/>
          </p:nvCxnSpPr>
          <p:spPr>
            <a:xfrm flipV="1" rot="16200000">
              <a:off x="5590440" y="325152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0" name="_s1029"/>
            <p:cNvCxnSpPr>
              <a:stCxn id="171" idx="0"/>
              <a:endCxn id="169" idx="2"/>
            </p:cNvCxnSpPr>
            <p:nvPr/>
          </p:nvCxnSpPr>
          <p:spPr>
            <a:xfrm flipV="1">
              <a:off x="4536000" y="4306680"/>
              <a:ext cx="3600" cy="763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2" name="_s1030"/>
            <p:cNvCxnSpPr>
              <a:stCxn id="173" idx="0"/>
              <a:endCxn id="169" idx="2"/>
            </p:cNvCxnSpPr>
            <p:nvPr/>
          </p:nvCxnSpPr>
          <p:spPr>
            <a:xfrm flipH="1" flipV="1" rot="5400000">
              <a:off x="2717640" y="325188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9" name="_s1031"/>
            <p:cNvSpPr/>
            <p:nvPr/>
          </p:nvSpPr>
          <p:spPr>
            <a:xfrm>
              <a:off x="3304440" y="27813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Когда надо принять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решение, я…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_s1032"/>
            <p:cNvSpPr/>
            <p:nvPr/>
          </p:nvSpPr>
          <p:spPr>
            <a:xfrm>
              <a:off x="43164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советуюсь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с народом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1" name="_s1033"/>
            <p:cNvSpPr/>
            <p:nvPr/>
          </p:nvSpPr>
          <p:spPr>
            <a:xfrm>
              <a:off x="330444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приказываю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8" name="_s1034"/>
            <p:cNvSpPr/>
            <p:nvPr/>
          </p:nvSpPr>
          <p:spPr>
            <a:xfrm>
              <a:off x="617760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повелеваю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поставьте между собой содержание двух колонок таблиц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9640" y="836640"/>
          <a:ext cx="8229600" cy="612612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именование отрасли пр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одержание отрасли пр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голов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гулирует отношения между органами власти и граждан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станавливает преступность и меру наказания за не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ражданско-(уголовно)- процессуаль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ределяет порядок наследования, владения и распоряжения собственностью, заключения сделок и т.д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гулирует отношения между мужчиной и женщиной при вступлении в брак, разводе и в процессе семейной жиз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емей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станавливает порядок отношений работодателей и работник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ределяет порядок разрешения гражданских и уголовных де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зделите приведенные понятия на четыре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Закон, правопорядок, добро, грех, справедливость, молитва, договор, зло, собственность, свобода совести, доверие, благодарность, референдум, раскаяние, совесть, преступление ,стыд, любовь, причастие, дееспособность, суеверие, устав, свобода слова, покая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9280" y="5084640"/>
          <a:ext cx="8785440" cy="1578240"/>
        </p:xfrm>
        <a:graphic>
          <a:graphicData uri="http://schemas.openxmlformats.org/drawingml/2006/table">
            <a:tbl>
              <a:tblPr/>
              <a:tblGrid>
                <a:gridCol w="2273400"/>
                <a:gridCol w="2057400"/>
                <a:gridCol w="2057400"/>
                <a:gridCol w="23972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равов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орально-нравственн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лигиозн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дновременно несколько сф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пределите, в какой ситуации нарушены нормы пра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Преподаватель МХК подошла к сидящему в коридоре учащемуся и стала с ним разговаривать. Учащийся, продолжая сидеть, охотно отвечал на вопрос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бросил окурок на пол в коридоре школ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профессионального училища опоздал к началу практических занятий на 30 минут без уважительной причин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ормирование понимания необходимости получения правовых знани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тработка умений высказывать свое мнение, анализировать ситуацию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ормирование умений работать в группе и уважать мнение других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спитание современного цивилизованного человека, подготовленного к жизни в условиях сегодняшней Росс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пределите, в какой ситуации нарушены нормы пра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еник Крылов В. сегодня не поздоровался с учителем пра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еница 10 класса не уступила место в автобусе пожилому пассажир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Группа учащихся после «отбоя» в общежитии шумно играла в      « кошки – мышки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Рыбин изготовил нож с наборной ручкой.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анализируйте ситуацию с точки зрения морали и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5-летние подростки взяли чужой автомобиль, чтобы покататься и совершили наезд на стол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ндрей подал заявление о расторжении трудового договора, а через две недели директор завода сказал, что уволить Андрея не может, т.к. на его место не найден новый работник.»А если не выйдешь на работу – уволю за прогул!» - сказал директо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ладимир Сергеевич считает, что воспитать настоящего мужчину можно лишь очень строгими мерами, и поэтому часто применяет к сыну телесные наказ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ергей купил билет на поезд, зашел в вагон и  выяснил, что его место занято.Он обратился к проводнику за разъяснениями, а он сказал, что может предложить ему лишь худшее мест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быграйте ситуацию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После уроков ученик 8 класса Евгений К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надел не свое пальто, а понравившуюся ему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кожаную куртку ученика 9 класс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1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Администрация школы, где учится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авонарушител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2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Родители правонарушител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3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Судь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4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Одноклассники правонарушител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з ниже приведенных признаков найдите общие для права и морали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Активно воздействует на поведение люд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тмирает вместе с государств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бусловлено экономическими интереса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озникает раньше государ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Исполнение обеспечивается принуждением государ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ыражает общественное мн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акончи фр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Прав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ажно для меня, потому что…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Прав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ажно для страны, потому что…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Запомните определение: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Право – это система общепринятых, обязательных норм, регулирующих поведение людей, установленных и охраняемых государств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сит системный характер, формально выражено в источниках пра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сновано на принципах справедливости и ценностях, уважаемых в обществ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вязано с государств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сит общеобязательный характе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В какой форме существует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На каких принципах право основан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ем создается и охраняется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акой характер носит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вое государ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ерховенство зако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заимная ответственность личности и государ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удебная защита прав гражд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деление властей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1.Законодатель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2.Исполнитель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3.Судеб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Право – что это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Система норм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Для чего </a:t>
            </a:r>
            <a:br>
              <a:rPr sz="7200"/>
            </a:b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нужна система норм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Для регуляции жизни людей в обществе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3" descr="new-top_05"/>
          <p:cNvPicPr/>
          <p:nvPr/>
        </p:nvPicPr>
        <p:blipFill>
          <a:blip r:embed="rId1"/>
          <a:stretch/>
        </p:blipFill>
        <p:spPr>
          <a:xfrm>
            <a:off x="3780000" y="4292640"/>
            <a:ext cx="5225760" cy="25653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Кто устанавливает эти нормы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68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68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6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07:47Z</dcterms:created>
  <dc:creator>Самойлов Н.Г.</dc:creator>
  <dc:description/>
  <dc:language>en-US</dc:language>
  <cp:lastModifiedBy>LEGION</cp:lastModifiedBy>
  <dcterms:modified xsi:type="dcterms:W3CDTF">2015-01-28T10:17:51Z</dcterms:modified>
  <cp:revision>71</cp:revision>
  <dc:subject/>
  <dc:title>Урок-практикум</dc:title>
</cp:coreProperties>
</file>