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816B-2F21-4230-AEB8-74B1CA81C4C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оль права в жизни человека и обще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3E91-33B2-4301-AEF7-1E3A7355ADBA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каком виде они существу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780D-851A-48B8-9A02-DD293F93C289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ормативно-правовых ак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858E-AB0E-4B6B-AFBB-21999A4FE4EA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 –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истема общепринятых обязательных норм, регулирующих поведение людей, установленных и охраняемых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FF3B-8EED-4ADB-B461-43C244CB4142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ставьте нормативно-правовые акты по степени значимости, пронумеруйте их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 президента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е акты министерств, ведомств, органов местного само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 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19D4-F6D7-491D-9350-1D3703FB1164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Л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К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последовательности вы бы расположили эти два понятия, например, для обозначения темы уро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722A-1426-4602-8841-48ADD6073506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и вл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2640-8480-498A-87D7-2459C18441FB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бы вы были правителями  государств с различными политическими режимами (авторитарный, тоталитарный, демократический), как бы вы продолжили фраз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200D-B4F2-43B1-A97B-1575B779ED09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поставьте между собой содержание двух колонок табл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ование 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отношения между органами власти и гражда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ет преступность и меру наказания за 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(уголовно)- 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порядок наследования, владения и распоряжения собственностью, заключения сделок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отношения между мужчиной и женщиной при вступлении в брак, разводе и в процессе семейной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ет порядок отношений работодателей и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порядок разрешения гражданских и уголовных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C5C2-B984-472F-9CD8-6F5D94B53DD6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делите приведенные понятия на четыре групп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кон, правопорядок, добро, грех, справедливость, молитва, договор, зло, собственность, свобода совести, доверие, благодарность, референдум, раскаяние, совесть, преступление ,стыд, любовь, причастие, дееспособность, суеверие, устав, свобода слова, пока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41BA-1C50-4B2E-B9A5-6D551F93C208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ределите, в какой ситуации нарушены нормы прав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подаватель МХК подошла к сидящему в коридоре учащемуся и стала с ним разговаривать. Учащийся, продолжая сидеть, охотно отвечал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щийся бросил окурок на пол в коридоре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щийся профессионального училища опоздал к началу практических занятий на 30 минут без уважительной прич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11A9-3138-4760-8016-95296B087BE1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онимания необходимости получения правовых зн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ботка умений высказывать свое мнение, анализировать ситуа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умений работать в группе и уважать мнение друг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современного цивилизованного человека, подготовленного к жизни в условиях сегодняшней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3E00-3B06-4C39-A6CA-A18B4F6A6AAC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ределите, в какой ситуации нарушены нормы прав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ик Крылов В. сегодня не поздоровался с учителем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ица 10 класса не уступила место в автобусе пожилому пассажи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а учащихся после «отбоя» в общежитии шумно играла в      « кошки – мыш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щийся Рыбин изготовил нож с наборной ручко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9387-755A-4EDF-97BC-0541DAADCC13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анализируйте ситуацию с точки зрения морали и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-летние подростки взяли чужой автомобиль, чтобы покататься и совершили наезд на стол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подал заявление о расторжении трудового договора, а через две недели директор завода сказал, что уволить Андрея не может, т.к. на его место не найден новый работник.»А если не выйдешь на работу – уволю за прогул!» - сказал дирек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имир Сергеевич считает, что воспитать настоящего мужчину можно лишь очень строгими мерами, и поэтому часто применяет к сыну телесные на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купил билет на поезд, зашел в вагон и  выяснил, что его место занято.Он обратился к проводнику за разъяснениями, а он сказал, что может предложить ему лишь худше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6A1A-CBBD-4E61-AAB2-4DAFED4EDEEA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ыграйте ситуаци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сле уроков ученик 8 класса Евгений К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дел не свое пальто, а понравившуюся е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жаную куртку ученика 9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 групп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Администрация школы, где учится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 групп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одители правонаруш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 групп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уд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4 групп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Одноклассники правонаруш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ED86-EA35-4DDA-AE5D-1D07C7985BCE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ниже приведенных признаков найдите общие для права и морал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 воздействует на поведение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мирает вместе с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словлено экономическими интере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никает раньше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нение обеспечивается принуждением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ражает общественное м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CACC-2475-419E-BA31-1B61F64C3CC0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чи фраз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ажно для меня, потому что…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ажно для страны, потому что…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EAF7-F547-45A1-9A3B-3AF5D78ED3D8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помните определ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во – это система общепринятых, обязательных норм, регулирующих поведение людей, установленных и охраняемых государ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6049-4CBD-4EB7-ABBA-F738B70F333A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системный характер, формально выражено в источниках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о на принципах справедливости и ценностях, уважаемых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о с государ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общеобязатель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1455-0932-48E7-BC79-EEB9BEB4910B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форме существует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ких принципах право основа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м создается и охраняется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характер носит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1295-8FE3-4F7F-BC4D-09868B335AEE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овенств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ая ответственность личности 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защита прав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вла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.Законод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.Испол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.Судеб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16EE-7E76-4983-9B16-B3A4202A9DF1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 – что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E971-58EF-4B85-9104-0D7FBA024F9E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D660-4310-46E6-9E81-C938114F16EE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чего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ужна система нор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9AC1-538B-4F6B-8B97-48ADD7D4F14D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регуляции жизни людей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98F1-2689-4EC9-A538-758ACC262CCD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то устанавливает эти нор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F41B-6C1C-4F56-8023-82A2DD6ABEFB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CD6B-864D-4D96-99C8-B0B4D2A1A80D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2EDF-79AE-4269-8FF3-09A0BDAC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85FD-4FC2-4E93-ADBA-28FADFCB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0F5F-8B75-432A-94CE-0084FA5F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1F74-D719-4EBB-BA02-593DBD8F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DD37-C190-40E8-ABD1-3CEF288B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B578-6FA5-4D32-9FDD-DC6025AC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C043-448A-47D2-B87D-7FA9B67A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CDD9-18C1-4826-B1A1-5FB8201A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BEDA-7A75-4EF0-81A5-24CF333F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13F5-25FB-4FEA-9AF2-98B8F276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D85B-BC43-4724-A712-B150BC78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6C3-EDA4-49B0-937C-8D7422AD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C2B9-7D48-4709-B376-BBB4CA45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DADA-A563-4935-AA2E-683F39DB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D85A-F6B7-47D9-B977-6D508323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AF6B-ABFF-4D7D-A02C-97E38E8F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F964-E388-4C9A-8616-4621DC9B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79F-170F-4180-B243-3FEA7E57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4905-B0FC-4734-B786-080F5F6F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E753-A998-47E8-B2F2-C4B60D60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4F7-495F-459B-9649-2B1C5896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73AD-6930-4B8E-B8A5-150276F2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7AC5-2001-428F-8EB9-BB622EBD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1F82-D91D-4D5D-98E3-FAF23834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D238-05D7-4BAB-9E4F-53BCED29CF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3E3A-A5C1-44E7-A116-216F28391AFE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85880" y="14288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Урок-практикум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56800" y="3071880"/>
            <a:ext cx="8286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«Роль права в жизни человека и общества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6" descr="j0300840"/>
          <p:cNvPicPr/>
          <p:nvPr/>
        </p:nvPicPr>
        <p:blipFill>
          <a:blip r:embed="rId1"/>
          <a:stretch/>
        </p:blipFill>
        <p:spPr>
          <a:xfrm>
            <a:off x="7020000" y="4941720"/>
            <a:ext cx="1814400" cy="15289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1143000" y="2858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униципальное общеобразовательное учреждение средняя общеобразовательная школа № 20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643200" y="5500800"/>
            <a:ext cx="178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Рыбинск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2008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4357800" y="42148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учитель истории  и обществознания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ичугина  А.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В каком виде они существуют?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В нормативно-правовых актах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1" name="Picture 3" descr="j0299125"/>
          <p:cNvPicPr/>
          <p:nvPr/>
        </p:nvPicPr>
        <p:blipFill>
          <a:blip r:embed="rId1"/>
          <a:stretch/>
        </p:blipFill>
        <p:spPr>
          <a:xfrm>
            <a:off x="4284720" y="4437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68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68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6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6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0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Право –</a:t>
            </a:r>
            <a:br>
              <a:rPr sz="4800"/>
            </a:b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это система общепринятых обязательных норм, регулирующих поведение людей, установленных и охраняемых государством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асставьте нормативно-правовые акты по степени значимости, пронумеруйте их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казы президента Росси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ормативные акты министерств, ведомств, органов местного самоуправл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Федеральные закон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онституция РФ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становления правительств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7487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Verdana"/>
              </a:rPr>
              <a:t>ВЛАСТ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Verdana"/>
              </a:rPr>
              <a:t>ЗАКОН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какой последовательности вы бы расположили эти два понятия, например, для обозначения темы урок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чему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Picture 4" descr="BD14844_"/>
          <p:cNvPicPr/>
          <p:nvPr/>
        </p:nvPicPr>
        <p:blipFill>
          <a:blip r:embed="rId1"/>
          <a:stretch/>
        </p:blipFill>
        <p:spPr>
          <a:xfrm>
            <a:off x="539640" y="249228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new-top_01"/>
          <p:cNvPicPr/>
          <p:nvPr/>
        </p:nvPicPr>
        <p:blipFill>
          <a:blip r:embed="rId1"/>
          <a:stretch/>
        </p:blipFill>
        <p:spPr>
          <a:xfrm>
            <a:off x="0" y="0"/>
            <a:ext cx="9144000" cy="79660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Закон и власть.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Если бы вы были правителями  государств с различными политическими режимами (авторитарный, тоталитарный, демократический), как бы вы продолжили фразу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66" name="Organization Chart 3"/>
          <p:cNvGrpSpPr/>
          <p:nvPr/>
        </p:nvGrpSpPr>
        <p:grpSpPr>
          <a:xfrm>
            <a:off x="431640" y="2781360"/>
            <a:ext cx="8208360" cy="3815280"/>
            <a:chOff x="431640" y="2781360"/>
            <a:chExt cx="8208360" cy="3815280"/>
          </a:xfrm>
        </p:grpSpPr>
        <p:cxnSp>
          <p:nvCxnSpPr>
            <p:cNvPr id="167" name="_s1028"/>
            <p:cNvCxnSpPr>
              <a:stCxn id="168" idx="0"/>
              <a:endCxn id="169" idx="2"/>
            </p:cNvCxnSpPr>
            <p:nvPr/>
          </p:nvCxnSpPr>
          <p:spPr>
            <a:xfrm flipV="1" rot="16200000">
              <a:off x="5590440" y="3251520"/>
              <a:ext cx="763560" cy="2873520"/>
            </a:xfrm>
            <a:prstGeom prst="bentConnector3">
              <a:avLst>
                <a:gd name="adj1" fmla="val 12783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0" name="_s1029"/>
            <p:cNvCxnSpPr>
              <a:stCxn id="171" idx="0"/>
              <a:endCxn id="169" idx="2"/>
            </p:cNvCxnSpPr>
            <p:nvPr/>
          </p:nvCxnSpPr>
          <p:spPr>
            <a:xfrm flipV="1">
              <a:off x="4536000" y="4306680"/>
              <a:ext cx="3600" cy="7635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2" name="_s1030"/>
            <p:cNvCxnSpPr>
              <a:stCxn id="173" idx="0"/>
              <a:endCxn id="169" idx="2"/>
            </p:cNvCxnSpPr>
            <p:nvPr/>
          </p:nvCxnSpPr>
          <p:spPr>
            <a:xfrm flipH="1" flipV="1" rot="5400000">
              <a:off x="2717640" y="3251880"/>
              <a:ext cx="763560" cy="2873520"/>
            </a:xfrm>
            <a:prstGeom prst="bentConnector3">
              <a:avLst>
                <a:gd name="adj1" fmla="val 12783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69" name="_s1031"/>
            <p:cNvSpPr/>
            <p:nvPr/>
          </p:nvSpPr>
          <p:spPr>
            <a:xfrm>
              <a:off x="3304440" y="27813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«Когда надо принять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решение, я…»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3" name="_s1032"/>
            <p:cNvSpPr/>
            <p:nvPr/>
          </p:nvSpPr>
          <p:spPr>
            <a:xfrm>
              <a:off x="431640" y="507060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«…советуюсь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с народом.»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1" name="_s1033"/>
            <p:cNvSpPr/>
            <p:nvPr/>
          </p:nvSpPr>
          <p:spPr>
            <a:xfrm>
              <a:off x="3304440" y="507060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«…приказываю.»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8" name="_s1034"/>
            <p:cNvSpPr/>
            <p:nvPr/>
          </p:nvSpPr>
          <p:spPr>
            <a:xfrm>
              <a:off x="6177600" y="507060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«…повелеваю.»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опоставьте между собой содержание двух колонок таблицы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39640" y="836640"/>
          <a:ext cx="8229600" cy="6126120"/>
        </p:xfrm>
        <a:graphic>
          <a:graphicData uri="http://schemas.openxmlformats.org/drawingml/2006/table">
            <a:tbl>
              <a:tblPr/>
              <a:tblGrid>
                <a:gridCol w="2819520"/>
                <a:gridCol w="54100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Наименование отрасли пра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одержание отрасли пра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головн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Регулирует отношения между органами власти и гражданам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дминистративн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станавливает преступность и меру наказания за не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Гражданско-(уголовно)- процессуальн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пределяет порядок наследования, владения и распоряжения собственностью, заключения сделок и т.д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Трудов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Регулирует отношения между мужчиной и женщиной при вступлении в брак, разводе и в процессе семейной жизн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емейн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станавливает порядок отношений работодателей и работник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Гражданск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пределяет порядок разрешения гражданских и уголовных дел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азделите приведенные понятия на четыре групп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Закон, правопорядок, добро, грех, справедливость, молитва, договор, зло, собственность, свобода совести, доверие, благодарность, референдум, раскаяние, совесть, преступление ,стыд, любовь, причастие, дееспособность, суеверие, устав, свобода слова, покая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79280" y="5084640"/>
          <a:ext cx="8785440" cy="1578240"/>
        </p:xfrm>
        <a:graphic>
          <a:graphicData uri="http://schemas.openxmlformats.org/drawingml/2006/table">
            <a:tbl>
              <a:tblPr/>
              <a:tblGrid>
                <a:gridCol w="2273400"/>
                <a:gridCol w="2057400"/>
                <a:gridCol w="2057400"/>
                <a:gridCol w="23972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равовая сфе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Морально-нравственная сфе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Религиозная сфе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дновременно несколько сфе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пределите, в какой ситуации нарушены нормы прав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Преподаватель МХК подошла к сидящему в коридоре учащемуся и стала с ним разговаривать. Учащийся, продолжая сидеть, охотно отвечал на вопрос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чащийся бросил окурок на пол в коридоре школ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чащийся профессионального училища опоздал к началу практических занятий на 30 минут без уважительной причин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Формирование понимания необходимости получения правовых знаний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тработка умений высказывать свое мнение, анализировать ситуацию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Формирование умений работать в группе и уважать мнение других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спитание современного цивилизованного человека, подготовленного к жизни в условиях сегодняшней Росси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пределите, в какой ситуации нарушены нормы прав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ченик Крылов В. сегодня не поздоровался с учителем прав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ченица 10 класса не уступила место в автобусе пожилому пассажир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Группа учащихся после «отбоя» в общежитии шумно играла в      « кошки – мышки»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чащийся Рыбин изготовил нож с наборной ручкой.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анализируйте ситуацию с точки зрения морали и пра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15-летние подростки взяли чужой автомобиль, чтобы покататься и совершили наезд на столб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ндрей подал заявление о расторжении трудового договора, а через две недели директор завода сказал, что уволить Андрея не может, т.к. на его место не найден новый работник.»А если не выйдешь на работу – уволю за прогул!» - сказал директор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ладимир Сергеевич считает, что воспитать настоящего мужчину можно лишь очень строгими мерами, и поэтому часто применяет к сыну телесные наказа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ергей купил билет на поезд, зашел в вагон и  выяснил, что его место занято.Он обратился к проводнику за разъяснениями, а он сказал, что может предложить ему лишь худшее место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быграйте ситуацию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Verdana"/>
              </a:rPr>
              <a:t>После уроков ученик 8 класса Евгений К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Verdana"/>
              </a:rPr>
              <a:t>надел не свое пальто, а понравившуюся ему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Verdana"/>
              </a:rPr>
              <a:t>кожаную куртку ученика 9 класс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1 групп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- Администрация школы, где учится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авонарушител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2 групп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- Родители правонарушител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3 групп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- Судь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4 групп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- Одноклассники правонарушител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Из ниже приведенных признаков найдите общие для права и морали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Активно воздействует на поведение люде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Отмирает вместе с государств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Обусловлено экономическими интересам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Возникает раньше государств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Исполнение обеспечивается принуждением государств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Выражает общественное мн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Закончи фраз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«</a:t>
            </a:r>
            <a:r>
              <a:rPr b="1" i="1" lang="ru-RU" sz="3200" spc="-1" strike="noStrike">
                <a:solidFill>
                  <a:srgbClr val="ffffcc"/>
                </a:solidFill>
                <a:latin typeface="Verdana"/>
              </a:rPr>
              <a:t>Право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важно для меня, потому что…»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«</a:t>
            </a:r>
            <a:r>
              <a:rPr b="1" i="1" lang="ru-RU" sz="3200" spc="-1" strike="noStrike">
                <a:solidFill>
                  <a:srgbClr val="ffffcc"/>
                </a:solidFill>
                <a:latin typeface="Verdana"/>
              </a:rPr>
              <a:t>Право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важно для страны, потому что…»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Запомните определение: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Право – это система общепринятых, обязательных норм, регулирующих поведение людей, установленных и охраняемых государство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68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68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6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6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осит системный характер, формально выражено в источниках прав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сновано на принципах справедливости и ценностях, уважаемых в обществ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вязано с государство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осит общеобязательный характер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В какой форме существует право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На каких принципах право основано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ем создается и охраняется право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акой характер носит право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овое государст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ерховенство закон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заимная ответственность личности и государств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удебная защита прав гражда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деление властей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1.Законодательна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2.Исполнительна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3.Судебна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Право – что это?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2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Система норм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Для чего </a:t>
            </a:r>
            <a:br>
              <a:rPr sz="7200"/>
            </a:b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нужна система норм?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51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Для регуляции жизни людей в обществе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3" descr="new-top_05"/>
          <p:cNvPicPr/>
          <p:nvPr/>
        </p:nvPicPr>
        <p:blipFill>
          <a:blip r:embed="rId1"/>
          <a:stretch/>
        </p:blipFill>
        <p:spPr>
          <a:xfrm>
            <a:off x="3780000" y="4292640"/>
            <a:ext cx="5225760" cy="25653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02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Кто устанавливает эти нормы?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16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Государство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68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68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68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68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07:47Z</dcterms:created>
  <dc:creator>Самойлов Н.Г.</dc:creator>
  <dc:description/>
  <dc:language>en-US</dc:language>
  <cp:lastModifiedBy>LEGION</cp:lastModifiedBy>
  <dcterms:modified xsi:type="dcterms:W3CDTF">2015-01-28T10:17:51Z</dcterms:modified>
  <cp:revision>71</cp:revision>
  <dc:subject/>
  <dc:title>Урок-практикум</dc:title>
</cp:coreProperties>
</file>