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C88-D832-4745-B526-D274AD62F1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63CE-E234-4294-96FD-24BF220FBD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917E-33C3-44E8-8413-6776C9239B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E33F-39E8-4FBB-A429-0BDC4B176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620-1E2A-453F-AB12-74EDA2D5BA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B961-3757-4A59-859E-F5CDFAF2F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DE53-E2CC-439D-BAE7-A777FA4BE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709-54BB-4993-9F85-7F9331A7E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16A-49B1-462A-B53A-67B05A1420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D865-A42A-46B7-A6B3-BBE12364EF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394-8E14-45E9-8A60-76C9F6612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D57-2ABE-46F8-A7B4-4C0DAB27E9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BB96-29D1-4957-A64C-810FA6FF30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95CE-96CC-46BB-B726-EEF017ADE6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5a99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CF85-B59D-4D68-A8E5-4C24ED1D65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F31-87A8-4780-9764-01EBD7C8E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C4C-AD73-490A-B953-6F00398E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A5E-EFC0-4AE6-974B-2F59B8EA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7A8-5974-49AB-AAA3-1F806E1C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5C3-0832-4444-8BCE-0A621B76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06F3-A667-4EB5-A547-6B7582D6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D336-543F-439F-BAB8-742DF11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573-1B1F-41DA-BDBB-FBDCC210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FE7-2017-4388-B7AE-1F720DA5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8E0-7AC1-41B3-B4FA-438F0CF4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203-B126-436D-99FC-158E22E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AC4-5AB1-471E-BBEB-56728BF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DD9-1BA5-43C0-9982-CFEF401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724A-5E74-4B77-9DF3-C18FDC8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F9DB-D811-40FE-B69A-4B50190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C8D5-84B0-4504-BF58-9B9B93E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621-3A85-4663-8917-43549904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9185-6699-442F-9D3D-788AEA68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E0F-C3E2-4444-9B8C-7AAD6617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007-7F3F-48A4-A78F-20E07E12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95A-2B8D-4C30-8765-A44DF13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6D3-33F5-4A6A-B5D0-4E6BF1D8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F97-FE78-4FCD-B8F2-5D45DC9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5FF-B32C-4232-8B89-DD825DD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778-B68C-4A85-AC0F-FA0C98A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64FA-14CD-4DB9-B949-D23D190D3C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171-2348-4150-A3D5-F04E751D5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335-11D6-4642-B9CB-09393F5428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922-CAE0-4616-BB7B-B9C2B6E688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0:18:20Z</dcterms:modified>
  <cp:revision>25</cp:revision>
  <dc:subject/>
  <dc:title>Роль права в жизни общества</dc:title>
</cp:coreProperties>
</file>