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0133-8A52-45D5-9F1E-B3281646092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права в жизн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а учитель обществознания МОУ СОШ с. Варны Коребо О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D3C9-FC32-49E8-8B41-6FC13869D7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в себя экономическ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 и потреб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ных трудом человека бл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7096-0CF9-46C2-A93E-799E13BB63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социальн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довлетворение насущных потребностей человека (потребности работать, есть, пить, одеваться и т. п.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вышение благосостояния людей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аботоспособных и тех, кто не способен прокормиться своим трудом: детей, учащихся, пенсионеров, безработных, инвалидов, беженцев, переселенцев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4F92-30D7-4BC0-A36B-286426A01E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в себя духовн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у, культуру, образование, отправление религиозных культов, самопознание, нравственность, этикет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D85F-CD55-4207-B0BE-585E80F14E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права в различных сферах обществен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E588-B67A-4BB2-85FC-B4D877AC28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закреп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Что было бы, если бы права не было? Поясните ответ на  конкретных  приме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Как можно определить пра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Почему право регулирует не все вопросы общественной жизн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CDE9-D447-48A7-9B0C-B1F1C19C8A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§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я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DE3A-8D6C-466E-AA90-D952F156D3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изучения новой т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е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0251-9F4F-4ED9-802D-7D5C721DEC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юдям необходимы даже самые дурные законы, ибо, не будь их, люди пожрали бы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111B-EC5D-4364-BE35-C3257BB3BC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ь современного общества невозможно представить без права. Если отменить правовые нормы, то каждый из нас будет действовать так, как ему заблагорассудится, и жизнь станет подобной хору, в котором каждый участник поет свою песн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DB29-4F17-4043-A14E-43B171BA5B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система обязательных правил поведения, закрепленных в официальных документах, охраняемых силой государственного прин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регулирует многие вопросы нашей жизни. Однако не все в ней требует регулирования с помощью правовых но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вы считаете какие стороны нашей жизни не требуют правового регулиров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9642-378A-42FA-AC26-67EC42238E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, которое в нашей жизни занимает право, можно графически изобразить  следующим 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9B17-E94B-4654-B45C-5A537E33B8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играет в обществе главную роль потому, что регулирует самые важные общественные отношения. Оно представляет собой очень сильное оружие, ведь за правовыми нормами стоит государственное принуждение, т. е. возможность применения сан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DE43-3DFC-4DFE-9350-97A706A35F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5a99"/>
                </a:solidFill>
                <a:latin typeface="Calibri"/>
              </a:rPr>
              <a:t>Вспомните, какие четыре сферы общества вы зн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7A5D-243E-4969-96EA-9EF621B63D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то относится к политической сфере и какие вопросы здесь регулируются  с  помощью  права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программ развития обще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политических партий и других общественных объедине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государственных органов и определение их компетен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отношения между нациями, классами и другими общественными группами, существующими в государст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отношения с другими государствам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203B-8581-42F2-B102-85A7BD5247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E624-ABD3-4276-ABE9-D3A6E3F7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460B-6A91-4E78-BB95-F997FA1F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E29A-B7FF-42D9-A63C-E87DC7FB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0C01-3E17-4946-8BFC-4D4268E39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8801-49AC-4911-9861-4380D7633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AC38-7B44-4509-BCEC-DFAC9896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0399-4C71-4580-AD43-DE83562F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605F-C39D-4E03-A2D7-6A20DE9F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6D33-799D-48DF-9268-0BCA7B2B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5077-A148-4C80-AF15-D321828F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0B4C-9D9C-4BD2-AFD0-662A682B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2AC7-3EC6-4B03-8272-D628F7A5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A8D4-F157-4943-980F-79F33DA1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12C7-7164-4203-BBC0-A2DED625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ED4D-FA8E-4A34-942B-050E6764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8FE3-FADE-4231-84FD-894808DA3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7A87-38FD-4C84-B595-E3A7ADBF7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FFDB-B5B3-400D-8A58-27E4443F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770A-BF53-49F9-B623-F8B578E1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B2EA-1F23-4D3D-8097-F83E83A2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8A12-AAE2-443E-81BF-29095119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C941-0F1C-4213-A36A-A64CA74A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4D31-5FDA-49DE-B820-E302F823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7B6C-BD8A-4079-9626-6AC06CE2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F3A7-F860-4B37-B660-4032C7BA333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B7CD-0973-4653-978A-70A5717E78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0CC9-8433-487D-B073-E2623D24860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0FF9-E9D8-41A5-98E3-54A7F2E615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erhmedia.ru/docs/20070917125126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28440" y="766800"/>
            <a:ext cx="772164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Роль права в жизни обществ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28800" y="5301720"/>
            <a:ext cx="7929360" cy="11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ила учитель обществознания МОУ СОШ с. Варны Коребо О.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Картинка 9 из 460263"/>
          <p:cNvPicPr/>
          <p:nvPr/>
        </p:nvPicPr>
        <p:blipFill>
          <a:blip r:embed="rId1"/>
          <a:stretch/>
        </p:blipFill>
        <p:spPr>
          <a:xfrm>
            <a:off x="2928960" y="1604880"/>
            <a:ext cx="3720960" cy="37195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в себя экономическ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71360" y="1500120"/>
            <a:ext cx="4647960" cy="24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изводство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ределени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мен и потреб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ных трудом человека бла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http://news.rin.ru/pictures/26/111233.jpg"/>
          <p:cNvPicPr/>
          <p:nvPr/>
        </p:nvPicPr>
        <p:blipFill>
          <a:blip r:embed="rId1"/>
          <a:stretch/>
        </p:blipFill>
        <p:spPr>
          <a:xfrm>
            <a:off x="6000840" y="164304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Картинка 115 из 209508"/>
          <p:cNvPicPr/>
          <p:nvPr/>
        </p:nvPicPr>
        <p:blipFill>
          <a:blip r:embed="rId2"/>
          <a:stretch/>
        </p:blipFill>
        <p:spPr>
          <a:xfrm>
            <a:off x="5715000" y="3929040"/>
            <a:ext cx="2928960" cy="232740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5"/>
          <p:cNvSpPr/>
          <p:nvPr/>
        </p:nvSpPr>
        <p:spPr>
          <a:xfrm>
            <a:off x="1071720" y="40006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номика способна к саморегулированию, поэтому степень  участия права по сравнению с политической  сферой  гораздо  мен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6"/>
          <p:cNvSpPr/>
          <p:nvPr/>
        </p:nvSpPr>
        <p:spPr>
          <a:xfrm>
            <a:off x="1143000" y="60278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иведите примеры правового регулирования экономических вопро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Картинка 14 из 11212"/>
          <p:cNvPicPr/>
          <p:nvPr/>
        </p:nvPicPr>
        <p:blipFill>
          <a:blip r:embed="rId1"/>
          <a:srcRect l="0" t="31877" r="2500" b="0"/>
          <a:stretch/>
        </p:blipFill>
        <p:spPr>
          <a:xfrm>
            <a:off x="6000840" y="3786120"/>
            <a:ext cx="2786040" cy="25956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социальн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8440" y="1571400"/>
            <a:ext cx="55004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довлетворение насущных потребностей человека (потребности работать, есть, пить, одеваться и т. п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ышение благосостояния людей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работоспособных и тех, кто не способен прокормиться своим трудом: детей, учащихся, пенсионеров, безработных, инвалидов, беженцев, переселенцев и др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" descr="Картинка 10 из 11212"/>
          <p:cNvPicPr/>
          <p:nvPr/>
        </p:nvPicPr>
        <p:blipFill>
          <a:blip r:embed="rId2"/>
          <a:stretch/>
        </p:blipFill>
        <p:spPr>
          <a:xfrm>
            <a:off x="6072120" y="1500120"/>
            <a:ext cx="2643120" cy="217332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5"/>
          <p:cNvSpPr/>
          <p:nvPr/>
        </p:nvSpPr>
        <p:spPr>
          <a:xfrm>
            <a:off x="1071720" y="590400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раведливо ли с помощью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распределять созданные благ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в себя духовн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14240" y="1499760"/>
            <a:ext cx="51436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ку, культуру, образование, отправление религиозных культов, самопознание, нравственность, этикет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" descr="Картинка 3 из 1659"/>
          <p:cNvPicPr/>
          <p:nvPr/>
        </p:nvPicPr>
        <p:blipFill>
          <a:blip r:embed="rId1"/>
          <a:stretch/>
        </p:blipFill>
        <p:spPr>
          <a:xfrm>
            <a:off x="7423200" y="1214280"/>
            <a:ext cx="1720800" cy="2286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Картинка 37 из 1659"/>
          <p:cNvPicPr/>
          <p:nvPr/>
        </p:nvPicPr>
        <p:blipFill>
          <a:blip r:embed="rId2"/>
          <a:stretch/>
        </p:blipFill>
        <p:spPr>
          <a:xfrm>
            <a:off x="6286680" y="3643200"/>
            <a:ext cx="2473200" cy="1928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Картинка 5 из 300157"/>
          <p:cNvPicPr/>
          <p:nvPr/>
        </p:nvPicPr>
        <p:blipFill>
          <a:blip r:embed="rId3"/>
          <a:stretch/>
        </p:blipFill>
        <p:spPr>
          <a:xfrm>
            <a:off x="5857920" y="1143000"/>
            <a:ext cx="1466640" cy="235728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6"/>
          <p:cNvSpPr/>
          <p:nvPr/>
        </p:nvSpPr>
        <p:spPr>
          <a:xfrm>
            <a:off x="1083960" y="3429000"/>
            <a:ext cx="50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чем право вмешивается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уховную жизнь, ведь в этой сфе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зни все так индивидуаль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7"/>
          <p:cNvSpPr/>
          <p:nvPr/>
        </p:nvSpPr>
        <p:spPr>
          <a:xfrm>
            <a:off x="1143000" y="4714920"/>
            <a:ext cx="542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о устанавливает стандарты образования, определяет объемы финансирования образования, культуры, науки, порядок  регистрации  религиозных  объединений   и 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Роль права в различных сферах общественной жизни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0" name="Содержимое 3" descr=""/>
          <p:cNvPicPr/>
          <p:nvPr/>
        </p:nvPicPr>
        <p:blipFill>
          <a:blip r:embed="rId1"/>
          <a:stretch/>
        </p:blipFill>
        <p:spPr>
          <a:xfrm>
            <a:off x="1847880" y="1987560"/>
            <a:ext cx="6168960" cy="363852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ая соединительная линия 5"/>
          <p:cNvSpPr/>
          <p:nvPr/>
        </p:nvSpPr>
        <p:spPr>
          <a:xfrm flipH="1">
            <a:off x="3499920" y="1999440"/>
            <a:ext cx="4000680" cy="342900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http://im8-tub.yandex.net/i?id=66367062&amp;tov=8"/>
          <p:cNvPicPr/>
          <p:nvPr/>
        </p:nvPicPr>
        <p:blipFill>
          <a:blip r:embed="rId2"/>
          <a:stretch/>
        </p:blipFill>
        <p:spPr>
          <a:xfrm>
            <a:off x="1857240" y="2857680"/>
            <a:ext cx="1352520" cy="914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http://im7-tub.yandex.net/i?id=135305913&amp;tov=7"/>
          <p:cNvPicPr/>
          <p:nvPr/>
        </p:nvPicPr>
        <p:blipFill>
          <a:blip r:embed="rId3"/>
          <a:stretch/>
        </p:blipFill>
        <p:spPr>
          <a:xfrm>
            <a:off x="1857240" y="1928880"/>
            <a:ext cx="1314720" cy="981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http://im6-tub.yandex.net/i?id=32861835&amp;tov=6"/>
          <p:cNvPicPr/>
          <p:nvPr/>
        </p:nvPicPr>
        <p:blipFill>
          <a:blip r:embed="rId4"/>
          <a:stretch/>
        </p:blipFill>
        <p:spPr>
          <a:xfrm>
            <a:off x="1857240" y="371484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http://im0-tub.yandex.net/i?id=37677649&amp;tov=0"/>
          <p:cNvPicPr/>
          <p:nvPr/>
        </p:nvPicPr>
        <p:blipFill>
          <a:blip r:embed="rId5"/>
          <a:stretch/>
        </p:blipFill>
        <p:spPr>
          <a:xfrm>
            <a:off x="1857240" y="4714920"/>
            <a:ext cx="1333800" cy="9716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Вопросы для закрепления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 Что было бы, если бы права не было? Поясните ответ на  конкретных  пример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  Как можно определить прав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  Почему право регулирует не все вопросы общественной жизн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Домашнее задание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§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нятия тем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лан изучения новой темы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нятие пра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начение права в различных сферах жиз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Картинка 6 из 16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43200" y="3214800"/>
            <a:ext cx="3272040" cy="32716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пиграф уро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643200" y="1752480"/>
            <a:ext cx="50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Людям необходимы даже самые дурные законы, ибо, не будь их, люди пожрали бы друг друг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Картинка 3 из 393"/>
          <p:cNvPicPr/>
          <p:nvPr/>
        </p:nvPicPr>
        <p:blipFill>
          <a:blip r:embed="rId1"/>
          <a:stretch/>
        </p:blipFill>
        <p:spPr>
          <a:xfrm>
            <a:off x="1000080" y="142884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4"/>
          <p:cNvSpPr/>
          <p:nvPr/>
        </p:nvSpPr>
        <p:spPr>
          <a:xfrm>
            <a:off x="1576080" y="521496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пик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999000" y="557208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342/341 - 271/270 гг. до н.э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1086480" y="592920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евнегреческий филосо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000080" y="500040"/>
            <a:ext cx="485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изнь современного общества невозможно представить без права. Если отменить правовые нормы, то каждый из нас будет действовать так, как ему заблагорассудится, и жизнь станет подобной хору, в котором каждый участник поет свою песн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Картинка 20 из 16191"/>
          <p:cNvPicPr/>
          <p:nvPr/>
        </p:nvPicPr>
        <p:blipFill>
          <a:blip r:embed="rId1"/>
          <a:stretch/>
        </p:blipFill>
        <p:spPr>
          <a:xfrm>
            <a:off x="6215040" y="428760"/>
            <a:ext cx="2500200" cy="3510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Картинка 54 из 16191"/>
          <p:cNvPicPr/>
          <p:nvPr/>
        </p:nvPicPr>
        <p:blipFill>
          <a:blip r:embed="rId2"/>
          <a:stretch/>
        </p:blipFill>
        <p:spPr>
          <a:xfrm>
            <a:off x="6215040" y="4071960"/>
            <a:ext cx="2571840" cy="25718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3219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раво -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00080" y="1213920"/>
            <a:ext cx="79344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система обязательных правил поведения, закрепленных в официальных документах, охраняемых силой государственного принужд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 регулирует многие вопросы нашей жизни. Однако не все в ней требует регулирования с помощью правовых нор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вы считаете какие стороны нашей жизни не требуют правового регулировани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66320" y="428400"/>
            <a:ext cx="76201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сто, которое в нашей жизни занимает право, можно графически изобразить  следующим  образо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Схема 3" descr=""/>
          <p:cNvPicPr/>
          <p:nvPr/>
        </p:nvPicPr>
        <p:blipFill>
          <a:blip r:embed="rId1"/>
          <a:stretch/>
        </p:blipFill>
        <p:spPr>
          <a:xfrm>
            <a:off x="927000" y="2182680"/>
            <a:ext cx="7358040" cy="40356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Значение права в различных сферах жизни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752480"/>
            <a:ext cx="7720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 играет в обществе главную роль потому, что регулирует самые важные общественные отношения. Оно представляет собой очень сильное оружие, ведь за правовыми нормами стоит государственное принуждение, т. е. возможность применения санкц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c2b09"/>
                </a:solidFill>
                <a:latin typeface="Times New Roman"/>
              </a:rPr>
              <a:t>Вспомните, какие четыре сферы общества вы знаете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6" name="Содержимое 3" descr=""/>
          <p:cNvPicPr/>
          <p:nvPr/>
        </p:nvPicPr>
        <p:blipFill>
          <a:blip r:embed="rId1"/>
          <a:stretch/>
        </p:blipFill>
        <p:spPr>
          <a:xfrm>
            <a:off x="858960" y="1914480"/>
            <a:ext cx="7772400" cy="44132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4"/>
          <p:cNvSpPr/>
          <p:nvPr/>
        </p:nvSpPr>
        <p:spPr>
          <a:xfrm>
            <a:off x="1580400" y="207180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итическая сф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5508000" y="207180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кономическ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"/>
          <p:cNvSpPr/>
          <p:nvPr/>
        </p:nvSpPr>
        <p:spPr>
          <a:xfrm>
            <a:off x="1655640" y="5214960"/>
            <a:ext cx="21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циальн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5930280" y="550080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уховн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13880" y="380520"/>
            <a:ext cx="821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1304"/>
                </a:solidFill>
                <a:latin typeface="Times New Roman"/>
              </a:rPr>
              <a:t>Что относится к политической сфере и какие вопросы здесь регулируются  с  помощью  права?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28440" y="1643040"/>
            <a:ext cx="550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программ развития обществ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ятельность политических партий и других общественных объединени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государственных органов и определение их компетенци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между нациями, классами и другими общественными группами, существующими в государств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с другими государствами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6072120" y="5143680"/>
            <a:ext cx="307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о максим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улирует э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орону жиз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Картинка 195 из 174751"/>
          <p:cNvPicPr/>
          <p:nvPr/>
        </p:nvPicPr>
        <p:blipFill>
          <a:blip r:embed="rId1"/>
          <a:stretch/>
        </p:blipFill>
        <p:spPr>
          <a:xfrm>
            <a:off x="6286680" y="1500120"/>
            <a:ext cx="2571480" cy="1682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Картинка 200 из 174751"/>
          <p:cNvPicPr/>
          <p:nvPr/>
        </p:nvPicPr>
        <p:blipFill>
          <a:blip r:embed="rId2"/>
          <a:stretch/>
        </p:blipFill>
        <p:spPr>
          <a:xfrm>
            <a:off x="6286680" y="3286080"/>
            <a:ext cx="2558880" cy="17146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8T10:18:20Z</dcterms:modified>
  <cp:revision>25</cp:revision>
  <dc:subject/>
  <dc:title>Роль права в жизни общества</dc:title>
</cp:coreProperties>
</file>