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8C14-1CAE-4333-B3B5-D572D786DE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7AF5-AD93-456C-8477-88AD8C797E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3511-A0FC-4E5D-8413-AD97615070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5D94-3137-4F18-B6C0-3C8011B6C8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C7EE-8EF0-410A-AF0A-A387A70A2A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63ED-FA63-45BF-AAAD-480B05D9E5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D441-7892-4B34-A656-BD4DB055AA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4C77-86CF-4E2D-B237-B82D38F031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72F4-57C5-4F19-9981-FFF7A80768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040C-6331-4DDA-9B8D-AB3A1EAE14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20CB-07B5-41E3-9B31-DC4B1476B9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8568-0353-4169-8D09-1A49447945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09FB-2297-44E2-88A5-072EDEE7E6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4099-DD66-44CF-943B-B5F61371CC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5a99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2980-ADE6-45F1-8CFA-EFA09BCB97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EC1C-894A-45B3-971E-1D2A702E21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59C-D6A4-4DF4-B586-B65BA1D6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A38-9CFB-4226-B957-14733F18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D4E-94AC-4A7B-A278-D2ADBB62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EFF-E803-4334-8C14-7B6956FE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6C69-CC4B-418B-9485-EDBA7CE2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2079-FA4E-4CBC-AEA7-ECA7F1B0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EDA3-22AD-4859-9E8E-D6B8B26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FD62-B380-40D0-9586-3DB55AC3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085E-5D9C-4C4B-B9DB-DE2A8B16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C33F-32C3-4014-8E7D-4433219C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FC12-CFF0-48CC-AB80-F33F2812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08E-BE9E-4F2D-A620-94647CD9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967D-7009-4F47-9142-29E19D23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4AF6-0919-4BCD-875E-42AC40E7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D64A-BD26-4A7D-92FF-5C8934B1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25B7-E155-4649-A71C-A41B7939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7A80-3DE9-4F4B-9F89-E4032096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2D8-72EC-48FE-8B95-B7B929B5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DAA-6E62-4B98-A9B1-B665EC3D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663-69B1-47F4-8BE4-566C7CE0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6BD-8DBB-42F5-A44C-E722E416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1AA-D6DA-4B7A-833F-9AF96B4D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3A2-BDAB-4D22-92B0-D45D4916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DA9-3A76-448A-897E-9A31D68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18C7-63CD-43E1-8ABC-9C963107D2D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440E-7075-4F59-925E-0685F2DBCF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5668-A223-422A-8DC8-C215D4EFF1C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5037-D036-4D7F-8D84-C09126A03D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0:18:20Z</dcterms:modified>
  <cp:revision>25</cp:revision>
  <dc:subject/>
  <dc:title>Роль права в жизни общества</dc:title>
</cp:coreProperties>
</file>