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5020-32AA-4CB9-A19F-E3DFC9EBCA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мет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3f1f"/>
                </a:solidFill>
                <a:latin typeface="Calibri"/>
              </a:rPr>
              <a:t>Формирование правовой культуры: аспекты, проблемы, пут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BBE4-2312-4F4F-B40B-82541C392B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62D4-41FA-46B6-94F8-1250C8A28C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3849-809D-4D84-9250-45CFBD4B22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Сделать изучение Конституции Российской Федерации в школе постоянным и всеоб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. Рекомендов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образовательным учрежд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1ADF-CAEC-454C-AD9E-F2FD7DC169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реждениям высшего и дополнительного профессионального образ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BBA2-4EFC-4641-9D6C-62EAB26EE0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0B38-6217-4A1A-946B-A62C271F7D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FE1D-D7D5-4BEC-A11D-22CDC6FF24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libri"/>
              </a:rPr>
              <a:t>Правовое воспитание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E81E-A778-4ED8-AC0E-3FA8266ED3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4b25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714b25"/>
                </a:solidFill>
                <a:latin typeface="Calibri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F80F-D47E-4B7A-BBD0-FD7FC82CC8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ректор московского центра образования "Царицыно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фим Рачев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61B5-49AA-418E-A73A-B2FCD75508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чаль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рш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73B0-8988-4420-B48A-D18A635DF6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BE8-8EC7-481E-BE78-7AC8D526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7CC-0B6F-4733-B312-D42642B9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EE2-3F5D-4006-B990-E4B415B0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FB0-DD52-4FD5-AB0C-A683E0B3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D91-DD77-47EB-AF71-B8C08C80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4EE-CC62-41B2-964E-70ED2443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323-04FF-4DA4-B743-A9F5EDDC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726-2AD8-4D0D-8E66-DCBD941F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4A3-1DBF-427A-8D0B-35437F26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4CE-A2C6-4EB7-BEA3-E9926ECD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9C1-683B-4479-9458-E045DCA8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740-8FB8-43AA-B428-7AE1CA8E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0C1F-3283-4C48-9731-FFA5F9246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403280" y="45086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3f1f"/>
                </a:solidFill>
                <a:latin typeface="Arial"/>
              </a:rPr>
              <a:t>Формирование правовой культуры: аспекты, проблемы, пути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4"/>
          <p:cNvSpPr txBox="1"/>
          <p:nvPr/>
        </p:nvSpPr>
        <p:spPr>
          <a:xfrm>
            <a:off x="2195640" y="2133720"/>
            <a:ext cx="669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659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 право.</a:t>
            </a:r>
            <a:endParaRPr b="0" lang="en-US" sz="1800" spc="1" strike="noStrike">
              <a:ln w="9360">
                <a:solidFill>
                  <a:srgbClr val="8659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835280" y="1700280"/>
            <a:ext cx="730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835280" y="3429000"/>
            <a:ext cx="712944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660014ab71789b0df5d43a2d86040128"/>
          <p:cNvPicPr/>
          <p:nvPr/>
        </p:nvPicPr>
        <p:blipFill>
          <a:blip r:embed="rId2"/>
          <a:stretch/>
        </p:blipFill>
        <p:spPr>
          <a:xfrm>
            <a:off x="0" y="0"/>
            <a:ext cx="3419640" cy="218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7"/>
          <p:cNvPicPr/>
          <p:nvPr/>
        </p:nvPicPr>
        <p:blipFill>
          <a:blip r:embed="rId3"/>
          <a:stretch/>
        </p:blipFill>
        <p:spPr>
          <a:xfrm>
            <a:off x="5508720" y="4387680"/>
            <a:ext cx="3635280" cy="2470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324000" y="2421000"/>
            <a:ext cx="871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5"/>
          <p:cNvPicPr/>
          <p:nvPr/>
        </p:nvPicPr>
        <p:blipFill>
          <a:blip r:embed="rId1"/>
          <a:stretch/>
        </p:blipFill>
        <p:spPr>
          <a:xfrm>
            <a:off x="0" y="3522600"/>
            <a:ext cx="5003640" cy="333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12"/>
          <p:cNvPicPr/>
          <p:nvPr/>
        </p:nvPicPr>
        <p:blipFill>
          <a:blip r:embed="rId2"/>
          <a:stretch/>
        </p:blipFill>
        <p:spPr>
          <a:xfrm>
            <a:off x="4224240" y="3556080"/>
            <a:ext cx="4956120" cy="330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8"/>
          <p:cNvPicPr/>
          <p:nvPr/>
        </p:nvPicPr>
        <p:blipFill>
          <a:blip r:embed="rId3"/>
          <a:stretch/>
        </p:blipFill>
        <p:spPr>
          <a:xfrm>
            <a:off x="0" y="0"/>
            <a:ext cx="5364000" cy="357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6"/>
          <p:cNvPicPr/>
          <p:nvPr/>
        </p:nvPicPr>
        <p:blipFill>
          <a:blip r:embed="rId4"/>
          <a:stretch/>
        </p:blipFill>
        <p:spPr>
          <a:xfrm>
            <a:off x="3816360" y="0"/>
            <a:ext cx="536400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835280" y="1844640"/>
            <a:ext cx="712944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Сделать изучение Конституции Российской Федерации в школе постоянным и всеобщ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Рекомендоват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образовательным учреждения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763640" y="1628640"/>
            <a:ext cx="7380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реждениям высшего и дополнительного профессионального образ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835280" y="1989000"/>
            <a:ext cx="70578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7650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124000" y="765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правов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763640" y="1893960"/>
            <a:ext cx="727236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image005"/>
          <p:cNvPicPr/>
          <p:nvPr/>
        </p:nvPicPr>
        <p:blipFill>
          <a:blip r:embed="rId2"/>
          <a:stretch/>
        </p:blipFill>
        <p:spPr>
          <a:xfrm>
            <a:off x="5003640" y="2708280"/>
            <a:ext cx="1441440" cy="1512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136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0" y="3284640"/>
            <a:ext cx="914400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908000" y="2637000"/>
            <a:ext cx="69850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"/>
              </a:rPr>
              <a:t>Правовое воспит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ergey-Naryshkin-ne-podderzhal-pravoslavnye-popravki-v-Konstitutsiyu-Naryshkin"/>
          <p:cNvPicPr/>
          <p:nvPr/>
        </p:nvPicPr>
        <p:blipFill>
          <a:blip r:embed="rId1"/>
          <a:stretch/>
        </p:blipFill>
        <p:spPr>
          <a:xfrm>
            <a:off x="6012000" y="293760"/>
            <a:ext cx="3060720" cy="1982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4920" y="-27000"/>
            <a:ext cx="590544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227640" y="240660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кер Госдумы Сергей Нары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baburin4_200_auto"/>
          <p:cNvPicPr/>
          <p:nvPr/>
        </p:nvPicPr>
        <p:blipFill>
          <a:blip r:embed="rId2"/>
          <a:stretch/>
        </p:blipFill>
        <p:spPr>
          <a:xfrm>
            <a:off x="179280" y="4221000"/>
            <a:ext cx="2160720" cy="2117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0" y="3500280"/>
            <a:ext cx="23400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й Бабур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340000" y="3141720"/>
            <a:ext cx="673272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4b25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714b25"/>
                </a:solidFill>
                <a:latin typeface="Arial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005cx6p"/>
          <p:cNvPicPr/>
          <p:nvPr/>
        </p:nvPicPr>
        <p:blipFill>
          <a:blip r:embed="rId1"/>
          <a:stretch/>
        </p:blipFill>
        <p:spPr>
          <a:xfrm>
            <a:off x="5724360" y="189000"/>
            <a:ext cx="3241800" cy="2165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4360" y="404640"/>
            <a:ext cx="558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московского центра образования "Царицыно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фим Рачев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2565360"/>
            <a:ext cx="889308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184464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чаль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78136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0" y="436572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рш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8:47:14Z</dcterms:created>
  <dc:creator>user</dc:creator>
  <dc:description/>
  <dc:language>en-US</dc:language>
  <cp:lastModifiedBy>LEGION</cp:lastModifiedBy>
  <dcterms:modified xsi:type="dcterms:W3CDTF">2015-01-28T10:19:28Z</dcterms:modified>
  <cp:revision>12</cp:revision>
  <dc:subject/>
  <dc:title>Предмет право</dc:title>
</cp:coreProperties>
</file>