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CC3C-40E1-4BEC-AA15-4CFB9EA6E9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редмет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3f1f"/>
                </a:solidFill>
                <a:latin typeface="Calibri"/>
              </a:rPr>
              <a:t>Формирование правовой культуры: аспекты, проблемы, пути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BA02-37C6-42A3-8E11-F0CD095536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ИЧЕСКОЕ ПИСЬМ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 ПРЕПОДАВАНИИ ПРАВА В УСЛОВИЯХ ВВЕДЕНИЯ ФЕДЕРАЛЬНОГО КОМПОНЕНТА ГОСУДАРСТВЕННОГО СТАНДАРТА ОБЩЕ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…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тельные учреждения могут выделить правовое содержание для изучения в качестве самостоятельного предмета: либо по 1 часу в неделю в 10 и 11 классах, либо 2 часа в неделю в 10 или 11 класс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право выбирается для изучения на профильном уровне оно исключается из состава инвариантной части, на его изучение на профильном уровне в соответствии с Федеральным базисным учебным планом  выделяется 140 часов – по 2 часа в неделю в 10 и 11 классах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уемый оптимальный объем учебного времени, позволяющий реализовать практическую направленность курса – 3-4 часа в неделю как в 10, так и в 11 класс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02E8-D7E9-497C-AD31-2A5A561CA7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18-19 мая 2013 г. в Санкт-Петербурге в Президентской библиотеке имени Б.Н. Ельцина в рамках III Петербургского Международного Юридического Форума прошёл Всероссийский съезд учителей права и обществ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«Конституционно-правовые ценности формирования личности школьника», приуроченный к 20-летию Конституции Российской Федераци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5A89-BB10-4CC5-9405-FC1DEDD86F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b5229"/>
                </a:solidFill>
                <a:latin typeface="Calibri"/>
              </a:rPr>
              <a:t>ИЗ РЕЗОЛЮЦИИ ВСЕРОССИЙСКОГО СЪЕЗДА УЧИТЕ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b5229"/>
                </a:solidFill>
                <a:latin typeface="Calibri"/>
              </a:rPr>
              <a:t>ПРАВА И ОБЩЕСТВОЗН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Сделать изучение Конституции Российской Федерации в школе постоянным и всеобщ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ть единое образовательное пространство по вопросам правового обучения и воспитания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Создать Ассоциацию учителей права и обществознания в качестве отделения Ассоциации юристов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4. Рекомендовать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щеобразовательным учреждения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изучать учебный предмет «Право» в качестве отдельного учебного предмета за счет часов регионального компонента или компонента образовательного учреждения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9B1C-D42F-4E94-8A2A-7409DDB2D5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b5229"/>
                </a:solidFill>
                <a:latin typeface="Calibri"/>
              </a:rPr>
              <a:t>ИЗ РЕЗОЛЮЦИИ ВСЕРОССИЙСКОГО СЪЕЗДА УЧИТЕ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b5229"/>
                </a:solidFill>
                <a:latin typeface="Calibri"/>
              </a:rPr>
              <a:t>ПРАВА И ОБЩЕСТВОЗН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чреждениям высшего и дополнительного профессионального образова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разработать концепцию преподавания права в школе; учебно-методический комплекс по преподаванию права в школ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разработать и реализовать модули повышения квалификации для учителей права и обществознания по вопросам правовых знаний, в том числе на базе ведущих образовательных учреждений юридического профил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усилить обществоведческую подготовку учителей истории, разработав необходимые модули повышения квалифик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изучить опыт Российского государственного педагогического университета им. А.И. Герцена по подготовке и повышению квалификации учителей права и обществознания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6811-F575-427D-B607-4DF1B2EDF1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вое образование - неотъемлемая часть общей культуры гражданина, условие формирования правосо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Calibri"/>
              </a:rPr>
              <a:t>Правовое образование является залогом того, что право станет регулятором жизни индивида, а не препятствием на его пути реализации своих лич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овременных условиях именно правовое образование может стать важнейшим фактором развития личности, становления гражданского общества и демократического правового государства в современной России, граждане которого смогут жить в социально-правовом согласии друг с другом и с государст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7EF5-6284-478F-A832-F9751464AC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рмирование правов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1" lang="ru-RU" sz="1200" spc="-1" strike="noStrike">
                <a:solidFill>
                  <a:srgbClr val="3333cc"/>
                </a:solidFill>
                <a:latin typeface="Calibri"/>
              </a:rPr>
              <a:t>создание морально-правового климата в обществе, который гарантирует реальную свободу поведения личности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Calibri"/>
              </a:rPr>
              <a:t>                        </a:t>
            </a:r>
            <a:r>
              <a:rPr b="1" lang="ru-RU" sz="1800" spc="-1" strike="noStrike">
                <a:solidFill>
                  <a:srgbClr val="cc0000"/>
                </a:solidFill>
                <a:latin typeface="Calibri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Calibri"/>
              </a:rPr>
              <a:t>соединение с ответственностью перед обществом, обеспечивает её права, социальную защищённость, уважение её достоинства, то есть ставит человека в центр экономических, социальных, политических, культурных проце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8D08-0467-466E-9E50-1BECBD8109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Calibri"/>
              </a:rPr>
              <a:t>Правовое воспитание –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целенаправленное деятельность по передачи достижений (ценностей) в области права от одного поколения к друго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C397-AA8C-401B-BCA7-BF693F70F5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ложил ввести в школах новый предмет, условное название которого "Основы российской государственности и права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его мнению, знание Конституции нужно прививать с детства. Учебник по новой дисциплине Нарышкин предложил подготовить российской ассоциации юрис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нако председатель ГД уверен, что на этом останавливаться не стоит. Необходимо также и в вузах улучшить подготовку студентов на юридических факульте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14b25"/>
                </a:solidFill>
                <a:latin typeface="Calibri"/>
              </a:rPr>
              <a:t>- </a:t>
            </a:r>
            <a:r>
              <a:rPr b="1" lang="ru-RU" sz="1200" spc="-1" strike="noStrike">
                <a:solidFill>
                  <a:srgbClr val="714b25"/>
                </a:solidFill>
                <a:latin typeface="Calibri"/>
              </a:rPr>
              <a:t>Это чуть измененное название известной учебной дисциплины "Основы государственного права" или "Правоведение". Но дисциплина такая нужна, как ее не называй. Важно, чтобы ее преподавание заканчивалось не ЕГЭ, а нормальными экзаменами. У сегодняшних абитуриентов оставляет желать лучшего орфография и пунктуация, я уже не говорю о технических вопросах юриспруденции. Поэтому начинать надо с начала, а именно со школы. О каком государственном праве может идти речь, когда 35 процентов первокурсников не знает, кто такой Юрий Гагарин. Самое главное, такой предмет должен быть в школе, чтобы прививать уважение к зак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1CAA-BCF8-4530-9D51-3B4816F8C8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ректор московского центра образования "Царицыно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фим Рачевск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школе есть курс обществознания с 5 по 10 классы, в котором есть раздел "Основы государства и права". Курс это важный и нужный, поскольку мы ощущаем дефицит правовой культуры, в особенности культуры адвока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 за счет чего вводить новый предмет? Ведь увеличить нагрузку школьникам нельзя. Обрезать еще дисциплины в школе уже дальше некуда. Поэтому, можно в рамках обществознания решить эту проблему. Например, обучение в 9-м классе, когда дети уже получили паспорта, полностью посвятить основам российской государственности и права. А учителя обществознания, пройдя краткосрочные курсы, смогут без проблем преподавать такую дисципли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1A61-9264-4F49-8872-7B25AEA312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ИЧЕСКОЕ ПИСЬМ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 ПРЕПОДАВАНИИ ПРАВА В УСЛОВИЯХ ВВЕДЕНИЯ ФЕДЕРАЛЬНОГО КОМПОНЕНТА ГОСУДАРСТВЕННОГО СТАНДАРТА ОБЩЕ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чальная школ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 предусматривает включение содержательной линии права в содержание курса «Окружающий мир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ая школ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включает право для обязательного изучения в качестве модуля в рамках интегрированного учебного предмета «Обществоведение», на который из общего объема учебного времени отводится не менее 35 учебных часов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таршая школ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на базовом уровне Федеральным базисным учебным планом  предусмотрено изучение права в двух вариант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амках интегрированного курса «Обществоведение» (суммарный ресурс учебного времени на 2 года – 140 часов – 2 часа в неделю, из них на право – не менее 35 час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качестве самостоятельного предмета (из расчета 35 часов по 1 часу в неделю в 10 или 11 класс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6987-ECD0-4455-90CC-A43ADE97F7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480D-96DA-4B06-BD7F-DC40F9E3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BD5B-0D7D-4C20-B578-2114A544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5E00-0331-47A1-966F-FFD7A9CD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43C5-7D1E-4769-A2AD-B6074787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4176-6149-4F5A-811F-B7F236A2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CA66-0B12-40EB-8524-BBAA8B67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BF56-6DFB-4150-9594-34353463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1A6A-730F-4BFB-8E3D-1EE9A9A1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66AE-A302-465C-9C2B-5681026D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BBA8-EDCD-43FC-BDB2-C203772E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FC70-A004-4796-BFAD-0B8F7D5D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83F4-9D11-414B-919D-65F84D09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BDF6-A932-4ECC-A9BD-FA98D90400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3"/>
          <p:cNvSpPr/>
          <p:nvPr/>
        </p:nvSpPr>
        <p:spPr>
          <a:xfrm>
            <a:off x="1403280" y="450864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3f1f"/>
                </a:solidFill>
                <a:latin typeface="Arial"/>
              </a:rPr>
              <a:t>Формирование правовой культуры: аспекты, проблемы, пути реш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14"/>
          <p:cNvSpPr txBox="1"/>
          <p:nvPr/>
        </p:nvSpPr>
        <p:spPr>
          <a:xfrm>
            <a:off x="2195640" y="2133720"/>
            <a:ext cx="6696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65900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дмет право.</a:t>
            </a:r>
            <a:endParaRPr b="0" lang="en-US" sz="1800" spc="1" strike="noStrike">
              <a:ln w="9360">
                <a:solidFill>
                  <a:srgbClr val="865900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1835280" y="1700280"/>
            <a:ext cx="7308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ые учреждения могут выделить правовое содержание для изучения в качестве самостоятельного предмета: либо по 1 часу в неделю в 10 и 11 классах, либо 2 часа в неделю в 10 или 11 класс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835280" y="3429000"/>
            <a:ext cx="7129440" cy="28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право выбирается для изучения на профильном уровне оно исключается из состава инвариантной части, на его изучение на профильном уровне в соответствии с Федеральным базисным учебным планом  выделяется 140 часов – по 2 часа в неделю в 10 и 11 классах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мендуемый оптимальный объем учебного времени, позволяющий реализовать практическую направленность курса – 3-4 часа в неделю как в 10, так и в 11 класс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692360" y="549360"/>
            <a:ext cx="7451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ТОДИЧЕСКОЕ ПИСЬМ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 ПРЕПОДАВАНИИ ПРАВА В УСЛОВИЯХ ВВЕДЕНИЯ ФЕДЕРАЛЬНОГО КОМПОНЕНТА ГОСУДАРСТВЕННОГО СТАНДАРТА ОБЩЕГО ОБРАЗ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660014ab71789b0df5d43a2d86040128"/>
          <p:cNvPicPr/>
          <p:nvPr/>
        </p:nvPicPr>
        <p:blipFill>
          <a:blip r:embed="rId2"/>
          <a:stretch/>
        </p:blipFill>
        <p:spPr>
          <a:xfrm>
            <a:off x="0" y="0"/>
            <a:ext cx="3419640" cy="2189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7"/>
          <p:cNvPicPr/>
          <p:nvPr/>
        </p:nvPicPr>
        <p:blipFill>
          <a:blip r:embed="rId3"/>
          <a:stretch/>
        </p:blipFill>
        <p:spPr>
          <a:xfrm>
            <a:off x="5508720" y="4387680"/>
            <a:ext cx="3635280" cy="24703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"/>
          <p:cNvSpPr/>
          <p:nvPr/>
        </p:nvSpPr>
        <p:spPr>
          <a:xfrm>
            <a:off x="324000" y="2421000"/>
            <a:ext cx="8712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-19 мая 2013 г. в Санкт-Петербурге в Президентской библиотеке имени Б.Н. Ельцина в рамках III Петербургского Международного Юридического Форума прошёл Всероссийский съезд учителей права и обществ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онституционно-правовые ценности формирования личности школьника», приуроченный к 20-летию Конституции Российской Федераци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5"/>
          <p:cNvPicPr/>
          <p:nvPr/>
        </p:nvPicPr>
        <p:blipFill>
          <a:blip r:embed="rId1"/>
          <a:stretch/>
        </p:blipFill>
        <p:spPr>
          <a:xfrm>
            <a:off x="0" y="3522600"/>
            <a:ext cx="5003640" cy="3335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12"/>
          <p:cNvPicPr/>
          <p:nvPr/>
        </p:nvPicPr>
        <p:blipFill>
          <a:blip r:embed="rId2"/>
          <a:stretch/>
        </p:blipFill>
        <p:spPr>
          <a:xfrm>
            <a:off x="4224240" y="3556080"/>
            <a:ext cx="4956120" cy="3301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8"/>
          <p:cNvPicPr/>
          <p:nvPr/>
        </p:nvPicPr>
        <p:blipFill>
          <a:blip r:embed="rId3"/>
          <a:stretch/>
        </p:blipFill>
        <p:spPr>
          <a:xfrm>
            <a:off x="0" y="0"/>
            <a:ext cx="5364000" cy="3575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6"/>
          <p:cNvPicPr/>
          <p:nvPr/>
        </p:nvPicPr>
        <p:blipFill>
          <a:blip r:embed="rId4"/>
          <a:stretch/>
        </p:blipFill>
        <p:spPr>
          <a:xfrm>
            <a:off x="3816360" y="0"/>
            <a:ext cx="5364000" cy="357336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1835280" y="1844640"/>
            <a:ext cx="7129440" cy="43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Сделать изучение Конституции Российской Федерации в школе постоянным и всеобщ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ть единое образовательное пространство по вопросам правового обучения и воспита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Создать Ассоциацию учителей права и обществознания в качестве отделения Ассоциации юристов Росс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4. Рекомендовать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щеобразовательным учреждения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изучать учебный предмет «Право» в качестве отдельного учебного предмета за счет часов регионального компонента или компонента образовательного учреждения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050920" y="69228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b5229"/>
                </a:solidFill>
                <a:latin typeface="Arial"/>
              </a:rPr>
              <a:t>ИЗ РЕЗОЛЮЦИИ ВСЕРОССИЙСКОГО СЪЕЗДА УЧИ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b5229"/>
                </a:solidFill>
                <a:latin typeface="Arial"/>
              </a:rPr>
              <a:t>ПРАВА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1763640" y="1628640"/>
            <a:ext cx="738036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реждениям высшего и дополнительного профессионального образова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разработать концепцию преподавания права в школе; учебно-методический комплекс по преподаванию права в школ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разработать и реализовать модули повышения квалификации для учителей права и обществознания по вопросам правовых знаний, в том числе на базе ведущих образовательных учреждений юридического профил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усилить обществоведческую подготовку учителей истории, разработав необходимые модули повышения квалифик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изучить опыт Российского государственного педагогического университета им. А.И. Герцена по подготовке и повышению квалификации учителей права и обществозна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050920" y="69228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b5229"/>
                </a:solidFill>
                <a:latin typeface="Arial"/>
              </a:rPr>
              <a:t>ИЗ РЕЗОЛЮЦИИ ВСЕРОССИЙСКОГО СЪЕЗДА УЧИ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b5229"/>
                </a:solidFill>
                <a:latin typeface="Arial"/>
              </a:rPr>
              <a:t>ПРАВА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1835280" y="1989000"/>
            <a:ext cx="7057800" cy="43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вое образование - неотъемлемая часть общей культуры гражданина, условие формирования правосозн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Правовое образование является залогом того, что право станет регулятором жизни индивида, а не препятствием на его пути реализации своих личных за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овременных условиях именно правовое образование может стать важнейшим фактором развития личности, становления гражданского общества и демократического правового государства в современной России, граждане которого смогут жить в социально-правовом согласии друг с другом и с государ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3851280" y="76500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2124000" y="7650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ирование правовой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1763640" y="1893960"/>
            <a:ext cx="7272360" cy="40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создание морально-правового климата в обществе, который гарантирует реальную свободу поведения личности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                      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соединение с ответственностью перед обществом, обеспечивает её права, социальную защищённость, уважение её достоинства, то есть ставит человека в центр экономических, социальных, политических, культурных проце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image005"/>
          <p:cNvPicPr/>
          <p:nvPr/>
        </p:nvPicPr>
        <p:blipFill>
          <a:blip r:embed="rId2"/>
          <a:stretch/>
        </p:blipFill>
        <p:spPr>
          <a:xfrm>
            <a:off x="5003640" y="2708280"/>
            <a:ext cx="1441440" cy="15127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-100080"/>
            <a:ext cx="9180360" cy="695808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2"/>
          <a:stretch/>
        </p:blipFill>
        <p:spPr>
          <a:xfrm>
            <a:off x="0" y="1916280"/>
            <a:ext cx="9144000" cy="1366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3"/>
          <a:stretch/>
        </p:blipFill>
        <p:spPr>
          <a:xfrm>
            <a:off x="0" y="3284640"/>
            <a:ext cx="9144000" cy="180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"/>
          <p:cNvPicPr/>
          <p:nvPr/>
        </p:nvPicPr>
        <p:blipFill>
          <a:blip r:embed="rId4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1908000" y="2637000"/>
            <a:ext cx="69850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Arial"/>
              </a:rPr>
              <a:t>Правовое воспитание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целенаправленное деятельность по передачи достижений (ценностей) в области права от одного поколения к друго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Sergey-Naryshkin-ne-podderzhal-pravoslavnye-popravki-v-Konstitutsiyu-Naryshkin"/>
          <p:cNvPicPr/>
          <p:nvPr/>
        </p:nvPicPr>
        <p:blipFill>
          <a:blip r:embed="rId1"/>
          <a:stretch/>
        </p:blipFill>
        <p:spPr>
          <a:xfrm>
            <a:off x="6012000" y="293760"/>
            <a:ext cx="3060720" cy="19828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34920" y="-27000"/>
            <a:ext cx="5905440" cy="33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ложил ввести в школах новый предмет, условное название которого "Основы российской государственности и права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его мнению, знание Конституции нужно прививать с детства. Учебник по новой дисциплине Нарышкин предложил подготовить российской ассоциации юрис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нако председатель ГД уверен, что на этом останавливаться не стоит. Необходимо также и в вузах улучшить подготовку студентов на юридических факультет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227640" y="2406600"/>
            <a:ext cx="26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икер Госдумы Сергей Нарышк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baburin4_200_auto"/>
          <p:cNvPicPr/>
          <p:nvPr/>
        </p:nvPicPr>
        <p:blipFill>
          <a:blip r:embed="rId2"/>
          <a:stretch/>
        </p:blipFill>
        <p:spPr>
          <a:xfrm>
            <a:off x="179280" y="4221000"/>
            <a:ext cx="2160720" cy="2117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0" y="3500280"/>
            <a:ext cx="23400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гей Бабури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340000" y="3141720"/>
            <a:ext cx="6732720" cy="36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4b25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714b25"/>
                </a:solidFill>
                <a:latin typeface="Arial"/>
              </a:rPr>
              <a:t>Это чуть измененное название известной учебной дисциплины "Основы государственного права" или "Правоведение". Но дисциплина такая нужна, как ее не называй. Важно, чтобы ее преподавание заканчивалось не ЕГЭ, а нормальными экзаменами. У сегодняшних абитуриентов оставляет желать лучшего орфография и пунктуация, я уже не говорю о технических вопросах юриспруденции. Поэтому начинать надо с начала, а именно со школы. О каком государственном праве может идти речь, когда 35 процентов первокурсников не знает, кто такой Юрий Гагарин. Самое главное, такой предмет должен быть в школе, чтобы прививать уважение к зако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0005cx6p"/>
          <p:cNvPicPr/>
          <p:nvPr/>
        </p:nvPicPr>
        <p:blipFill>
          <a:blip r:embed="rId1"/>
          <a:stretch/>
        </p:blipFill>
        <p:spPr>
          <a:xfrm>
            <a:off x="5724360" y="189000"/>
            <a:ext cx="3241800" cy="2165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44360" y="404640"/>
            <a:ext cx="5580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ректор московского центра образования "Царицыно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фим Рачевск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50920" y="2565360"/>
            <a:ext cx="8893080" cy="38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школе есть курс обществознания с 5 по 10 классы, в котором есть раздел "Основы государства и права". Курс это важный и нужный, поскольку мы ощущаем дефицит правовой культуры, в особенности культуры адвокату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за счет чего вводить новый предмет? Ведь увеличить нагрузку школьникам нельзя. Обрезать еще дисциплины в школе уже дальше некуда. Поэтому, можно в рамках обществознания решить эту проблему. Например, обучение в 9-м классе, когда дети уже получили паспорта, полностью посвятить основам российской государственности и права. А учителя обществознания, пройдя краткосрочные курсы, смогут без проблем преподавать такую дисципл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1692360" y="549360"/>
            <a:ext cx="7451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ТОДИЧЕСКОЕ ПИСЬМ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 ПРЕПОДАВАНИИ ПРАВА В УСЛОВИЯХ ВВЕДЕНИЯ ФЕДЕРАЛЬНОГО КОМПОНЕНТА ГОСУДАРСТВЕННОГО СТАНДАРТА ОБЩЕГО ОБРАЗ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0" y="1844640"/>
            <a:ext cx="9144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чальная шко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 предусматривает включение содержательной линии права в содержание курса «Окружающий мир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0" y="2781360"/>
            <a:ext cx="9144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сновная шко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включает право для обязательного изучения в качестве модуля в рамках интегрированного учебного предмета «Обществоведение», на который из общего объема учебного времени отводится не менее 35 учебных час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0" y="4365720"/>
            <a:ext cx="91440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таршая шко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на базовом уровне Федеральным базисным учебным планом  предусмотрено изучение права в двух вариан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амках интегрированного курса «Обществоведение» (суммарный ресурс учебного времени на 2 года – 140 часов – 2 часа в неделю, из них на право – не менее 35 час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ачестве самостоятельного предмета (из расчета 35 часов по 1 часу в неделю в 10 или 11 классе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1T08:47:14Z</dcterms:created>
  <dc:creator>user</dc:creator>
  <dc:description/>
  <dc:language>en-US</dc:language>
  <cp:lastModifiedBy>LEGION</cp:lastModifiedBy>
  <dcterms:modified xsi:type="dcterms:W3CDTF">2015-01-28T10:19:28Z</dcterms:modified>
  <cp:revision>12</cp:revision>
  <dc:subject/>
  <dc:title>Предмет право</dc:title>
</cp:coreProperties>
</file>