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DB3A-D1F3-4243-9E64-CC7FD4B52A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редмет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3f1f"/>
                </a:solidFill>
                <a:latin typeface="Calibri"/>
              </a:rPr>
              <a:t>Формирование правовой культуры: аспекты, проблемы, пут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E836-5860-44DE-B17E-3438B343ED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ИЧЕСКОЕ 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…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ые учреждения могут выделить правовое содержание для изучения в качестве самостоятельного предмета: либо по 1 часу в неделю в 10 и 11 классах, либо 2 часа в неделю в 10 или 11 класс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право выбирается для изучения на профильном уровне оно исключается из состава инвариантной части, на его изучение на профильном уровне в соответствии с Федеральным базисным учебным планом  выделяется 140 часов – по 2 часа в неделю в 10 и 11 классах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ый оптимальный объем учебного времени, позволяющий реализовать практическую направленность курса – 3-4 часа в неделю как в 10, так и в 11 класс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88EA-318A-4307-A588-C7116DF486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18-19 мая 2013 г. в Санкт-Петербурге в Президентской библиотеке имени Б.Н. Ельцина в рамках III Петербургского Международного Юридического Форума прошёл Всероссийский съезд учителей права и общ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«Конституционно-правовые ценности формирования личности школьника», приуроченный к 20-летию Конституции Российской Федерац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8D66-7529-4D41-8921-4217987018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ИЗ РЕЗОЛЮЦИИ ВСЕРОССИЙСКОГО СЪЕЗДА УЧ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ПРАВА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Сделать изучение Конституции Российской Федерации в школе постоянным и всеобщ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ть единое образовательное пространство по вопросам правового обучения и воспитан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Создать Ассоциацию учителей права и обществознания в качестве отделения Ассоциации юристов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. Рекомендоват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образовательным учреждени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изучать учебный предмет «Право» в качестве отдельного учебного предмета за счет часов регионального компонента или компонента образовательного учреждения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1A29-EBA8-46FA-AC62-F210C4C840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ИЗ РЕЗОЛЮЦИИ ВСЕРОССИЙСКОГО СЪЕЗДА УЧ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ПРАВА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реждениям высшего и дополнительного профессионального образ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зработать концепцию преподавания права в школе; учебно-методический комплекс по преподаванию права в шко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зработать и реализовать модули повышения квалификации для учителей права и обществознания по вопросам правовых знаний, в том числе на базе ведущих образовательных учреждений юридического профи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усилить обществоведческую подготовку учителей истории, разработав необходимые модули повышения квалифик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изучить опыт Российского государственного педагогического университета им. А.И. Герцена по подготовке и повышению квалификации учителей права и обществознан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8474-B2B1-4993-835E-8F97AFD7A9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вое образование - неотъемлемая часть общей культуры гражданина, условие формирования правос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Правовое образование является залогом того, что право станет регулятором жизни индивида, а не препятствием на его пути реализации своих лич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овременных условиях именно правовое образование может стать важнейшим фактором развития личности, становления гражданского общества и демократического правового государства в современной России, граждане которого смогут жить в социально-правовом согласии друг с другом и с государ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158A-E12B-4FCC-A183-47A01649F7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создание морально-правового климата в обществе, который гарантирует реальную свободу поведения личност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Calibri"/>
              </a:rPr>
              <a:t>                        </a:t>
            </a: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соединение с ответственностью перед обществом, обеспечивает её права, социальную защищённость, уважение её достоинства, то есть ставит человека в центр экономических, социальных, политических, культурны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2338-9203-471B-8AA8-33EA87911B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Calibri"/>
              </a:rPr>
              <a:t>Правовое воспитание –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целенаправленное деятельность по передачи достижений (ценностей) в области права от одного поколения к друг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28C3-4850-4C50-8894-9654FD7B32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ложил ввести в школах новый предмет, условное название которого "Основы российской государственности и прав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его мнению, знание Конституции нужно прививать с детства. Учебник по новой дисциплине Нарышкин предложил подготовить российской ассоциации юрис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ко председатель ГД уверен, что на этом останавливаться не стоит. Необходимо также и в вузах улучшить подготовку студентов на юридических факульт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4b25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714b25"/>
                </a:solidFill>
                <a:latin typeface="Calibri"/>
              </a:rPr>
              <a:t>Это чуть измененное название известной учебной дисциплины "Основы государственного права" или "Правоведение". Но дисциплина такая нужна, как ее не называй. Важно, чтобы ее преподавание заканчивалось не ЕГЭ, а нормальными экзаменами. У сегодняшних абитуриентов оставляет желать лучшего орфография и пунктуация, я уже не говорю о технических вопросах юриспруденции. Поэтому начинать надо с начала, а именно со школы. О каком государственном праве может идти речь, когда 35 процентов первокурсников не знает, кто такой Юрий Гагарин. Самое главное, такой предмет должен быть в школе, чтобы прививать уважение к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A9F8-3C52-4033-8078-4B089DC298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ректор московского центра образования "Царицыно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фим Рачевск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школе есть курс обществознания с 5 по 10 классы, в котором есть раздел "Основы государства и права". Курс это важный и нужный, поскольку мы ощущаем дефицит правовой культуры, в особенности культуры адвок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за счет чего вводить новый предмет? Ведь увеличить нагрузку школьникам нельзя. Обрезать еще дисциплины в школе уже дальше некуда. Поэтому, можно в рамках обществознания решить эту проблему. Например, обучение в 9-м классе, когда дети уже получили паспорта, полностью посвятить основам российской государственности и права. А учителя обществознания, пройдя краткосрочные курсы, смогут без проблем преподавать такую дисципл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5094-C20E-47B1-B8C0-EE38E24635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ИЧЕСКОЕ 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чальн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 предусматривает включение содержательной линии права в содержание курса «Окружающий мир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включает право для обязательного изучения в качестве модуля в рамках интегрированного учебного предмета «Обществоведение», на который из общего объема учебного времени отводится не менее 35 учебных час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арш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на базовом уровне Федеральным базисным учебным планом  предусмотрено изучение права в двух вариант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мках интегрированного курса «Обществоведение» (суммарный ресурс учебного времени на 2 года – 140 часов – 2 часа в неделю, из них на право – не менее 35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качестве самостоятельного предмета (из расчета 35 часов по 1 часу в неделю в 10 или 11 класс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2FF2-AB0D-40E6-B09A-F1FB82A662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F18-2516-4612-8F39-3A9D4634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0A4-4305-40FC-A7B4-BB1806D3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7E84-5EE5-4122-91A1-1D80DA69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0D0-AD76-4402-9BC3-F7D50ED2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B0C3-663A-4C42-AF29-F3A5A3AA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77B-9480-4FEF-AE29-38C653FE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493-D56C-4C26-AB11-1C323271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0B1-E6C8-459D-98D5-4E279608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B54B-C341-466E-90CE-E3052403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ED6-19C8-4D58-9FD3-DDDC2CA1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454-ECC6-4CD0-A4A6-2CC244BF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D75-093B-4541-AD69-F5FA3C09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2D75-C73C-4881-B1DE-63EA084DEB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/>
          <p:cNvSpPr/>
          <p:nvPr/>
        </p:nvSpPr>
        <p:spPr>
          <a:xfrm>
            <a:off x="1403280" y="450864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3f1f"/>
                </a:solidFill>
                <a:latin typeface="Arial"/>
              </a:rPr>
              <a:t>Формирование правовой культуры: аспекты, проблемы, пути ре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14"/>
          <p:cNvSpPr txBox="1"/>
          <p:nvPr/>
        </p:nvSpPr>
        <p:spPr>
          <a:xfrm>
            <a:off x="2195640" y="2133720"/>
            <a:ext cx="6696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659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мет право.</a:t>
            </a:r>
            <a:endParaRPr b="0" lang="en-US" sz="1800" spc="1" strike="noStrike">
              <a:ln w="9360">
                <a:solidFill>
                  <a:srgbClr val="8659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835280" y="1700280"/>
            <a:ext cx="7308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е учреждения могут выделить правовое содержание для изучения в качестве самостоятельного предмета: либо по 1 часу в неделю в 10 и 11 классах, либо 2 часа в неделю в 10 или 11 класс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835280" y="3429000"/>
            <a:ext cx="712944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право выбирается для изучения на профильном уровне оно исключается из состава инвариантной части, на его изучение на профильном уровне в соответствии с Федеральным базисным учебным планом  выделяется 140 часов – по 2 часа в неделю в 10 и 11 классах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уемый оптимальный объем учебного времени, позволяющий реализовать практическую направленность курса – 3-4 часа в неделю как в 10, так и в 11 класс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692360" y="549360"/>
            <a:ext cx="7451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ТОДИЧЕСКОЕ ПИСЬМ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660014ab71789b0df5d43a2d86040128"/>
          <p:cNvPicPr/>
          <p:nvPr/>
        </p:nvPicPr>
        <p:blipFill>
          <a:blip r:embed="rId2"/>
          <a:stretch/>
        </p:blipFill>
        <p:spPr>
          <a:xfrm>
            <a:off x="0" y="0"/>
            <a:ext cx="3419640" cy="218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7"/>
          <p:cNvPicPr/>
          <p:nvPr/>
        </p:nvPicPr>
        <p:blipFill>
          <a:blip r:embed="rId3"/>
          <a:stretch/>
        </p:blipFill>
        <p:spPr>
          <a:xfrm>
            <a:off x="5508720" y="4387680"/>
            <a:ext cx="3635280" cy="2470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324000" y="2421000"/>
            <a:ext cx="871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-19 мая 2013 г. в Санкт-Петербурге в Президентской библиотеке имени Б.Н. Ельцина в рамках III Петербургского Международного Юридического Форума прошёл Всероссийский съезд учителей права и обществ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онституционно-правовые ценности формирования личности школьника», приуроченный к 20-летию Конституции Российской Федерац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5"/>
          <p:cNvPicPr/>
          <p:nvPr/>
        </p:nvPicPr>
        <p:blipFill>
          <a:blip r:embed="rId1"/>
          <a:stretch/>
        </p:blipFill>
        <p:spPr>
          <a:xfrm>
            <a:off x="0" y="3522600"/>
            <a:ext cx="5003640" cy="333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12"/>
          <p:cNvPicPr/>
          <p:nvPr/>
        </p:nvPicPr>
        <p:blipFill>
          <a:blip r:embed="rId2"/>
          <a:stretch/>
        </p:blipFill>
        <p:spPr>
          <a:xfrm>
            <a:off x="4224240" y="3556080"/>
            <a:ext cx="4956120" cy="3301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8"/>
          <p:cNvPicPr/>
          <p:nvPr/>
        </p:nvPicPr>
        <p:blipFill>
          <a:blip r:embed="rId3"/>
          <a:stretch/>
        </p:blipFill>
        <p:spPr>
          <a:xfrm>
            <a:off x="0" y="0"/>
            <a:ext cx="5364000" cy="3575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6"/>
          <p:cNvPicPr/>
          <p:nvPr/>
        </p:nvPicPr>
        <p:blipFill>
          <a:blip r:embed="rId4"/>
          <a:stretch/>
        </p:blipFill>
        <p:spPr>
          <a:xfrm>
            <a:off x="3816360" y="0"/>
            <a:ext cx="5364000" cy="357336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1835280" y="1844640"/>
            <a:ext cx="7129440" cy="43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Сделать изучение Конституции Российской Федерации в школе постоянным и всеобщ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единое образовательное пространство по вопросам правового обучения и воспит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оздать Ассоциацию учителей права и обществознания в качестве отделения Ассоциации юристов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4. Рекомендовать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еобразовательным учреждения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зучать учебный предмет «Право» в качестве отдельного учебного предмета за счет часов регионального компонента или компонента образовательного учреждения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050920" y="6922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ИЗ РЕЗОЛЮЦИИ ВСЕРОССИЙСКОГО СЪЕЗДА УЧ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ПРАВА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1763640" y="1628640"/>
            <a:ext cx="73803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реждениям высшего и дополнительного профессионального образ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зработать концепцию преподавания права в школе; учебно-методический комплекс по преподаванию права в школ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зработать и реализовать модули повышения квалификации для учителей права и обществознания по вопросам правовых знаний, в том числе на базе ведущих образовательных учреждений юридического профил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усилить обществоведческую подготовку учителей истории, разработав необходимые модули повышения квалифик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зучить опыт Российского государственного педагогического университета им. А.И. Герцена по подготовке и повышению квалификации учителей права и обществозн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050920" y="6922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ИЗ РЕЗОЛЮЦИИ ВСЕРОССИЙСКОГО СЪЕЗДА УЧ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ПРАВА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835280" y="1989000"/>
            <a:ext cx="705780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вое образование - неотъемлемая часть общей культуры гражданина, условие формирования правосозн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равовое образование является залогом того, что право станет регулятором жизни индивида, а не препятствием на его пути реализации своих личных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овременных условиях именно правовое образование может стать важнейшим фактором развития личности, становления гражданского общества и демократического правового государства в современной России, граждане которого смогут жить в социально-правовом согласии друг с другом и с государ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851280" y="76500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124000" y="765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е правов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763640" y="1893960"/>
            <a:ext cx="7272360" cy="40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оздание морально-правового климата в обществе, который гарантирует реальную свободу поведения личност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оединение с ответственностью перед обществом, обеспечивает её права, социальную защищённость, уважение её достоинства, то есть ставит человека в центр экономических, социальных, политических, культур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image005"/>
          <p:cNvPicPr/>
          <p:nvPr/>
        </p:nvPicPr>
        <p:blipFill>
          <a:blip r:embed="rId2"/>
          <a:stretch/>
        </p:blipFill>
        <p:spPr>
          <a:xfrm>
            <a:off x="5003640" y="2708280"/>
            <a:ext cx="1441440" cy="15127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80360" cy="695808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136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3"/>
          <a:stretch/>
        </p:blipFill>
        <p:spPr>
          <a:xfrm>
            <a:off x="0" y="3284640"/>
            <a:ext cx="9144000" cy="180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4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908000" y="2637000"/>
            <a:ext cx="69850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"/>
              </a:rPr>
              <a:t>Правовое воспитани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целенаправленное деятельность по передачи достижений (ценностей) в области права от одного поколения к друг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ergey-Naryshkin-ne-podderzhal-pravoslavnye-popravki-v-Konstitutsiyu-Naryshkin"/>
          <p:cNvPicPr/>
          <p:nvPr/>
        </p:nvPicPr>
        <p:blipFill>
          <a:blip r:embed="rId1"/>
          <a:stretch/>
        </p:blipFill>
        <p:spPr>
          <a:xfrm>
            <a:off x="6012000" y="293760"/>
            <a:ext cx="3060720" cy="19828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34920" y="-27000"/>
            <a:ext cx="5905440" cy="33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ожил ввести в школах новый предмет, условное название которого "Основы российской государственности и права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его мнению, знание Конституции нужно прививать с детства. Учебник по новой дисциплине Нарышкин предложил подготовить российской ассоциации юрис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ако председатель ГД уверен, что на этом останавливаться не стоит. Необходимо также и в вузах улучшить подготовку студентов на юридических факульте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227640" y="2406600"/>
            <a:ext cx="26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кер Госдумы Сергей Нарышк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baburin4_200_auto"/>
          <p:cNvPicPr/>
          <p:nvPr/>
        </p:nvPicPr>
        <p:blipFill>
          <a:blip r:embed="rId2"/>
          <a:stretch/>
        </p:blipFill>
        <p:spPr>
          <a:xfrm>
            <a:off x="179280" y="4221000"/>
            <a:ext cx="2160720" cy="2117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0" y="3500280"/>
            <a:ext cx="23400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гей Бабур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340000" y="3141720"/>
            <a:ext cx="6732720" cy="36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4b25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714b25"/>
                </a:solidFill>
                <a:latin typeface="Arial"/>
              </a:rPr>
              <a:t>Это чуть измененное название известной учебной дисциплины "Основы государственного права" или "Правоведение". Но дисциплина такая нужна, как ее не называй. Важно, чтобы ее преподавание заканчивалось не ЕГЭ, а нормальными экзаменами. У сегодняшних абитуриентов оставляет желать лучшего орфография и пунктуация, я уже не говорю о технических вопросах юриспруденции. Поэтому начинать надо с начала, а именно со школы. О каком государственном праве может идти речь, когда 35 процентов первокурсников не знает, кто такой Юрий Гагарин. Самое главное, такой предмет должен быть в школе, чтобы прививать уважение к зак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005cx6p"/>
          <p:cNvPicPr/>
          <p:nvPr/>
        </p:nvPicPr>
        <p:blipFill>
          <a:blip r:embed="rId1"/>
          <a:stretch/>
        </p:blipFill>
        <p:spPr>
          <a:xfrm>
            <a:off x="5724360" y="189000"/>
            <a:ext cx="3241800" cy="2165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44360" y="404640"/>
            <a:ext cx="558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ректор московского центра образования "Царицыно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фим Рачев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0920" y="2565360"/>
            <a:ext cx="8893080" cy="38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школе есть курс обществознания с 5 по 10 классы, в котором есть раздел "Основы государства и права". Курс это важный и нужный, поскольку мы ощущаем дефицит правовой культуры, в особенности культуры адвок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за счет чего вводить новый предмет? Ведь увеличить нагрузку школьникам нельзя. Обрезать еще дисциплины в школе уже дальше некуда. Поэтому, можно в рамках обществознания решить эту проблему. Например, обучение в 9-м классе, когда дети уже получили паспорта, полностью посвятить основам российской государственности и права. А учителя обществознания, пройдя краткосрочные курсы, смогут без проблем преподавать такую дисципл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692360" y="549360"/>
            <a:ext cx="7451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ТОДИЧЕСКОЕ ПИСЬМ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0" y="184464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чальн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предусматривает включение содержательной линии права в содержание курса «Окружающий ми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0" y="2781360"/>
            <a:ext cx="9144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н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включает право для обязательного изучения в качестве модуля в рамках интегрированного учебного предмета «Обществоведение», на который из общего объема учебного времени отводится не менее 35 учебных час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0" y="4365720"/>
            <a:ext cx="9144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арш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на базовом уровне Федеральным базисным учебным планом  предусмотрено изучение права в двух вариан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мках интегрированного курса «Обществоведение» (суммарный ресурс учебного времени на 2 года – 140 часов – 2 часа в неделю, из них на право – не менее 35 час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ачестве самостоятельного предмета (из расчета 35 часов по 1 часу в неделю в 10 или 11 класс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08:47:14Z</dcterms:created>
  <dc:creator>user</dc:creator>
  <dc:description/>
  <dc:language>en-US</dc:language>
  <cp:lastModifiedBy>LEGION</cp:lastModifiedBy>
  <dcterms:modified xsi:type="dcterms:W3CDTF">2015-01-28T10:19:28Z</dcterms:modified>
  <cp:revision>12</cp:revision>
  <dc:subject/>
  <dc:title>Предмет право</dc:title>
</cp:coreProperties>
</file>