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B326-337F-4DDF-9F56-30AA1B0BDC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мет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3f1f"/>
                </a:solidFill>
                <a:latin typeface="Calibri"/>
              </a:rPr>
              <a:t>Формирование правовой культуры: аспекты, проблемы, пут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E6A9-FEC0-499A-B456-8107EE6FD0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D2F0-D8A5-4878-AB16-1D5C519CFF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7AF2-0CCB-4A62-9744-1AD3DBE043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Сделать изучение Конституции Российской Федерации в школе постоянным и всеоб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. Рекомендов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образовательным учрежд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DB55-AD58-464F-93C1-14957132D5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реждениям высшего и дополнительного профессионального образ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BD0A-5348-4FB9-A22E-59E59B5528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3AA1-7BF2-47F9-9F27-DEB4F08941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2FEB-3BC6-4879-950E-3D38F5105F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libri"/>
              </a:rPr>
              <a:t>Правовое воспитание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6B02-F1D7-4BD1-8520-0F5DD1BD60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4b25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714b25"/>
                </a:solidFill>
                <a:latin typeface="Calibri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0D6C-2678-4FAF-849F-F745D45E02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ректор московского центра образования "Царицыно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фим Рачев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5768-0DB6-4C63-AC5C-662F269D0D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чаль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рш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6E48-2815-4703-8990-703932ED07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E71-44BB-400A-BB45-83D6E422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C11-43F4-4D34-B85E-F2FDFDEE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EBC-AAA1-4BD7-B909-CB913FA0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7CB-8D25-4EE0-B653-8CD7AF3A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CE2-9210-488F-A2A6-0DA7AE59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755-2A49-4B25-8C61-89FC0699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54D-0D80-4BFF-B83B-A69A21A0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966-121D-4154-9893-5F8E51DA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8D11-4768-486D-8F7A-B91AA6BB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870-B5CF-4E29-B3B5-E2040BB2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1DF-C624-4A2C-9D6A-1822365E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1B8-4EEB-495B-80A2-6196A62C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5A7D-83F1-4161-9EB1-769CA9944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403280" y="450864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3f1f"/>
                </a:solidFill>
                <a:latin typeface="Arial"/>
              </a:rPr>
              <a:t>Формирование правовой культуры: аспекты, проблемы, пути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4"/>
          <p:cNvSpPr txBox="1"/>
          <p:nvPr/>
        </p:nvSpPr>
        <p:spPr>
          <a:xfrm>
            <a:off x="2195640" y="2133720"/>
            <a:ext cx="669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659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мет право.</a:t>
            </a:r>
            <a:endParaRPr b="0" lang="en-US" sz="1800" spc="1" strike="noStrike">
              <a:ln w="9360">
                <a:solidFill>
                  <a:srgbClr val="8659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835280" y="1700280"/>
            <a:ext cx="730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835280" y="3429000"/>
            <a:ext cx="712944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660014ab71789b0df5d43a2d86040128"/>
          <p:cNvPicPr/>
          <p:nvPr/>
        </p:nvPicPr>
        <p:blipFill>
          <a:blip r:embed="rId2"/>
          <a:stretch/>
        </p:blipFill>
        <p:spPr>
          <a:xfrm>
            <a:off x="0" y="0"/>
            <a:ext cx="3419640" cy="218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7"/>
          <p:cNvPicPr/>
          <p:nvPr/>
        </p:nvPicPr>
        <p:blipFill>
          <a:blip r:embed="rId3"/>
          <a:stretch/>
        </p:blipFill>
        <p:spPr>
          <a:xfrm>
            <a:off x="5508720" y="4387680"/>
            <a:ext cx="3635280" cy="2470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324000" y="2421000"/>
            <a:ext cx="871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5"/>
          <p:cNvPicPr/>
          <p:nvPr/>
        </p:nvPicPr>
        <p:blipFill>
          <a:blip r:embed="rId1"/>
          <a:stretch/>
        </p:blipFill>
        <p:spPr>
          <a:xfrm>
            <a:off x="0" y="3522600"/>
            <a:ext cx="5003640" cy="333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12"/>
          <p:cNvPicPr/>
          <p:nvPr/>
        </p:nvPicPr>
        <p:blipFill>
          <a:blip r:embed="rId2"/>
          <a:stretch/>
        </p:blipFill>
        <p:spPr>
          <a:xfrm>
            <a:off x="4224240" y="3556080"/>
            <a:ext cx="4956120" cy="330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8"/>
          <p:cNvPicPr/>
          <p:nvPr/>
        </p:nvPicPr>
        <p:blipFill>
          <a:blip r:embed="rId3"/>
          <a:stretch/>
        </p:blipFill>
        <p:spPr>
          <a:xfrm>
            <a:off x="0" y="0"/>
            <a:ext cx="5364000" cy="357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6"/>
          <p:cNvPicPr/>
          <p:nvPr/>
        </p:nvPicPr>
        <p:blipFill>
          <a:blip r:embed="rId4"/>
          <a:stretch/>
        </p:blipFill>
        <p:spPr>
          <a:xfrm>
            <a:off x="3816360" y="0"/>
            <a:ext cx="5364000" cy="357336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1835280" y="1844640"/>
            <a:ext cx="7129440" cy="43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Сделать изучение Конституции Российской Федерации в школе постоянным и всеобщ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 Рекомендоват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образовательным учреждения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763640" y="1628640"/>
            <a:ext cx="73803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реждениям высшего и дополнительного профессионального образ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835280" y="1989000"/>
            <a:ext cx="705780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7650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124000" y="765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правов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763640" y="1893960"/>
            <a:ext cx="7272360" cy="40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image005"/>
          <p:cNvPicPr/>
          <p:nvPr/>
        </p:nvPicPr>
        <p:blipFill>
          <a:blip r:embed="rId2"/>
          <a:stretch/>
        </p:blipFill>
        <p:spPr>
          <a:xfrm>
            <a:off x="5003640" y="2708280"/>
            <a:ext cx="1441440" cy="1512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136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3"/>
          <a:stretch/>
        </p:blipFill>
        <p:spPr>
          <a:xfrm>
            <a:off x="0" y="3284640"/>
            <a:ext cx="914400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908000" y="2637000"/>
            <a:ext cx="69850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"/>
              </a:rPr>
              <a:t>Правовое воспит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ergey-Naryshkin-ne-podderzhal-pravoslavnye-popravki-v-Konstitutsiyu-Naryshkin"/>
          <p:cNvPicPr/>
          <p:nvPr/>
        </p:nvPicPr>
        <p:blipFill>
          <a:blip r:embed="rId1"/>
          <a:stretch/>
        </p:blipFill>
        <p:spPr>
          <a:xfrm>
            <a:off x="6012000" y="293760"/>
            <a:ext cx="3060720" cy="1982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4920" y="-27000"/>
            <a:ext cx="590544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227640" y="240660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кер Госдумы Сергей Нарышк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baburin4_200_auto"/>
          <p:cNvPicPr/>
          <p:nvPr/>
        </p:nvPicPr>
        <p:blipFill>
          <a:blip r:embed="rId2"/>
          <a:stretch/>
        </p:blipFill>
        <p:spPr>
          <a:xfrm>
            <a:off x="179280" y="4221000"/>
            <a:ext cx="2160720" cy="2117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0" y="3500280"/>
            <a:ext cx="23400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й Бабур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340000" y="3141720"/>
            <a:ext cx="6732720" cy="36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4b25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714b25"/>
                </a:solidFill>
                <a:latin typeface="Arial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005cx6p"/>
          <p:cNvPicPr/>
          <p:nvPr/>
        </p:nvPicPr>
        <p:blipFill>
          <a:blip r:embed="rId1"/>
          <a:stretch/>
        </p:blipFill>
        <p:spPr>
          <a:xfrm>
            <a:off x="5724360" y="189000"/>
            <a:ext cx="3241800" cy="2165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4360" y="404640"/>
            <a:ext cx="558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 московского центра образования "Царицыно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фим Рачев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2565360"/>
            <a:ext cx="889308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184464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чаль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78136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0" y="436572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рш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8:47:14Z</dcterms:created>
  <dc:creator>user</dc:creator>
  <dc:description/>
  <dc:language>en-US</dc:language>
  <cp:lastModifiedBy>LEGION</cp:lastModifiedBy>
  <dcterms:modified xsi:type="dcterms:W3CDTF">2015-01-28T10:19:28Z</dcterms:modified>
  <cp:revision>12</cp:revision>
  <dc:subject/>
  <dc:title>Предмет право</dc:title>
</cp:coreProperties>
</file>