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ACEA-A416-4A20-9D8C-122A53CEF7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Предмет пра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3f1f"/>
                </a:solidFill>
                <a:latin typeface="Calibri"/>
              </a:rPr>
              <a:t>Формирование правовой культуры: аспекты, проблемы, пути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D16B-FE15-4B32-AE8A-DE98021A3C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ИЧЕСКОЕ ПИСЬМ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 ПРЕПОДАВАНИИ ПРАВА В УСЛОВИЯХ ВВЕДЕНИЯ ФЕДЕРАЛЬНОГО КОМПОНЕНТА ГОСУДАРСТВЕННОГО СТАНДАРТА ОБЩЕ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…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зовательные учреждения могут выделить правовое содержание для изучения в качестве самостоятельного предмета: либо по 1 часу в неделю в 10 и 11 классах, либо 2 часа в неделю в 10 или 11 класс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право выбирается для изучения на профильном уровне оно исключается из состава инвариантной части, на его изучение на профильном уровне в соответствии с Федеральным базисным учебным планом  выделяется 140 часов – по 2 часа в неделю в 10 и 11 классах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комендуемый оптимальный объем учебного времени, позволяющий реализовать практическую направленность курса – 3-4 часа в неделю как в 10, так и в 11 класс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C290-6298-4458-B3DC-1838ECFF32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18-19 мая 2013 г. в Санкт-Петербурге в Президентской библиотеке имени Б.Н. Ельцина в рамках III Петербургского Международного Юридического Форума прошёл Всероссийский съезд учителей права и обществ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«Конституционно-правовые ценности формирования личности школьника», приуроченный к 20-летию Конституции Российской Федераци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7D8D-CA1D-4DBE-9A2E-ECEA799ED9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b5229"/>
                </a:solidFill>
                <a:latin typeface="Calibri"/>
              </a:rPr>
              <a:t>ИЗ РЕЗОЛЮЦИИ ВСЕРОССИЙСКОГО СЪЕЗДА УЧИТЕЛ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b5229"/>
                </a:solidFill>
                <a:latin typeface="Calibri"/>
              </a:rPr>
              <a:t>ПРАВА И ОБЩЕСТВОЗН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Сделать изучение Конституции Российской Федерации в школе постоянным и всеобщ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здать единое образовательное пространство по вопросам правового обучения и воспитания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Создать Ассоциацию учителей права и обществознания в качестве отделения Ассоциации юристов Росс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4. Рекомендовать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щеобразовательным учреждения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изучать учебный предмет «Право» в качестве отдельного учебного предмета за счет часов регионального компонента или компонента образовательного учреждения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DE5D-5B07-47E4-ADE3-618E2B6CA0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b5229"/>
                </a:solidFill>
                <a:latin typeface="Calibri"/>
              </a:rPr>
              <a:t>ИЗ РЕЗОЛЮЦИИ ВСЕРОССИЙСКОГО СЪЕЗДА УЧИТЕЛ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b5229"/>
                </a:solidFill>
                <a:latin typeface="Calibri"/>
              </a:rPr>
              <a:t>ПРАВА И ОБЩЕСТВОЗН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чреждениям высшего и дополнительного профессионального образова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разработать концепцию преподавания права в школе; учебно-методический комплекс по преподаванию права в школ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разработать и реализовать модули повышения квалификации для учителей права и обществознания по вопросам правовых знаний, в том числе на базе ведущих образовательных учреждений юридического профил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усилить обществоведческую подготовку учителей истории, разработав необходимые модули повышения квалифик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изучить опыт Российского государственного педагогического университета им. А.И. Герцена по подготовке и повышению квалификации учителей права и обществознания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A320-61CA-498F-9222-ADC7F18DAE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вое образование - неотъемлемая часть общей культуры гражданина, условие формирования правосозн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Calibri"/>
              </a:rPr>
              <a:t>Правовое образование является залогом того, что право станет регулятором жизни индивида, а не препятствием на его пути реализации своих личны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современных условиях именно правовое образование может стать важнейшим фактором развития личности, становления гражданского общества и демократического правового государства в современной России, граждане которого смогут жить в социально-правовом согласии друг с другом и с государст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3E8B-88A7-40AA-AC59-9902942970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рмирование правовой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1" lang="ru-RU" sz="1200" spc="-1" strike="noStrike">
                <a:solidFill>
                  <a:srgbClr val="3333cc"/>
                </a:solidFill>
                <a:latin typeface="Calibri"/>
              </a:rPr>
              <a:t>создание морально-правового климата в обществе, который гарантирует реальную свободу поведения личности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Calibri"/>
              </a:rPr>
              <a:t>                        </a:t>
            </a:r>
            <a:r>
              <a:rPr b="1" lang="ru-RU" sz="1800" spc="-1" strike="noStrike">
                <a:solidFill>
                  <a:srgbClr val="cc0000"/>
                </a:solidFill>
                <a:latin typeface="Calibri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Calibri"/>
              </a:rPr>
              <a:t>соединение с ответственностью перед обществом, обеспечивает её права, социальную защищённость, уважение её достоинства, то есть ставит человека в центр экономических, социальных, политических, культурных проце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C4FB-7187-478C-81E3-EFC5107C2C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33"/>
                </a:solidFill>
                <a:latin typeface="Calibri"/>
              </a:rPr>
              <a:t>Правовое воспитание –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целенаправленное деятельность по передачи достижений (ценностей) в области права от одного поколения к друго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C35D-BC8C-49A4-8056-405363921C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ложил ввести в школах новый предмет, условное название которого "Основы российской государственности и права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его мнению, знание Конституции нужно прививать с детства. Учебник по новой дисциплине Нарышкин предложил подготовить российской ассоциации юрис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нако председатель ГД уверен, что на этом останавливаться не стоит. Необходимо также и в вузах улучшить подготовку студентов на юридических факульте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14b25"/>
                </a:solidFill>
                <a:latin typeface="Calibri"/>
              </a:rPr>
              <a:t>- </a:t>
            </a:r>
            <a:r>
              <a:rPr b="1" lang="ru-RU" sz="1200" spc="-1" strike="noStrike">
                <a:solidFill>
                  <a:srgbClr val="714b25"/>
                </a:solidFill>
                <a:latin typeface="Calibri"/>
              </a:rPr>
              <a:t>Это чуть измененное название известной учебной дисциплины "Основы государственного права" или "Правоведение". Но дисциплина такая нужна, как ее не называй. Важно, чтобы ее преподавание заканчивалось не ЕГЭ, а нормальными экзаменами. У сегодняшних абитуриентов оставляет желать лучшего орфография и пунктуация, я уже не говорю о технических вопросах юриспруденции. Поэтому начинать надо с начала, а именно со школы. О каком государственном праве может идти речь, когда 35 процентов первокурсников не знает, кто такой Юрий Гагарин. Самое главное, такой предмет должен быть в школе, чтобы прививать уважение к зако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C04F-1B5F-4EB6-8EBB-D9F2890070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иректор московского центра образования "Царицыно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фим Рачевск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школе есть курс обществознания с 5 по 10 классы, в котором есть раздел "Основы государства и права". Курс это важный и нужный, поскольку мы ощущаем дефицит правовой культуры, в особенности культуры адвокату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 за счет чего вводить новый предмет? Ведь увеличить нагрузку школьникам нельзя. Обрезать еще дисциплины в школе уже дальше некуда. Поэтому, можно в рамках обществознания решить эту проблему. Например, обучение в 9-м классе, когда дети уже получили паспорта, полностью посвятить основам российской государственности и права. А учителя обществознания, пройдя краткосрочные курсы, смогут без проблем преподавать такую дисципли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C709-3774-489B-829F-58EAD3CF3E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ИЧЕСКОЕ ПИСЬМ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 ПРЕПОДАВАНИИ ПРАВА В УСЛОВИЯХ ВВЕДЕНИЯ ФЕДЕРАЛЬНОГО КОМПОНЕНТА ГОСУДАРСТВЕННОГО СТАНДАРТА ОБЩЕ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чальная школ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-  предусматривает включение содержательной линии права в содержание курса «Окружающий мир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ная школ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- включает право для обязательного изучения в качестве модуля в рамках интегрированного учебного предмета «Обществоведение», на который из общего объема учебного времени отводится не менее 35 учебных часов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таршая школ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- на базовом уровне Федеральным базисным учебным планом  предусмотрено изучение права в двух вариант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рамках интегрированного курса «Обществоведение» (суммарный ресурс учебного времени на 2 года – 140 часов – 2 часа в неделю, из них на право – не менее 35 час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качестве самостоятельного предмета (из расчета 35 часов по 1 часу в неделю в 10 или 11 классе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C496-1030-4311-A3DB-AA2905ACBC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BE01-E26F-4A73-BEB5-09640E0E1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CE86-B88C-477E-B85F-7D7E53C8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FEE2-E970-4000-82F9-163C95B56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736F-7685-464C-847D-8122EBED4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8CB0-8931-4BC9-8F3B-A985A2AD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4AD4-08D3-44A4-AAB8-3456EF47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6D00-DF09-45F0-8C8C-56572444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A2DB-2322-42F9-955A-76F5A292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FED5-9451-44D6-B67A-E39A6E5D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2036-CA8A-43BB-8DF8-C55663F3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D1CF-A2C2-4CAB-B1E6-14910538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D5B4-5133-42C1-A3C3-5EAADE08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59F2-ADA7-451E-9A6E-F0A69E299D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1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3"/>
          <p:cNvSpPr/>
          <p:nvPr/>
        </p:nvSpPr>
        <p:spPr>
          <a:xfrm>
            <a:off x="1403280" y="450864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f3f1f"/>
                </a:solidFill>
                <a:latin typeface="Arial"/>
              </a:rPr>
              <a:t>Формирование правовой культуры: аспекты, проблемы, пути реш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14"/>
          <p:cNvSpPr txBox="1"/>
          <p:nvPr/>
        </p:nvSpPr>
        <p:spPr>
          <a:xfrm>
            <a:off x="2195640" y="2133720"/>
            <a:ext cx="669600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65900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едмет право.</a:t>
            </a:r>
            <a:endParaRPr b="0" lang="en-US" sz="1800" spc="1" strike="noStrike">
              <a:ln w="9360">
                <a:solidFill>
                  <a:srgbClr val="865900"/>
                </a:solidFill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1835280" y="1700280"/>
            <a:ext cx="7308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тельные учреждения могут выделить правовое содержание для изучения в качестве самостоятельного предмета: либо по 1 часу в неделю в 10 и 11 классах, либо 2 часа в неделю в 10 или 11 класс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1835280" y="3429000"/>
            <a:ext cx="7129440" cy="28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право выбирается для изучения на профильном уровне оно исключается из состава инвариантной части, на его изучение на профильном уровне в соответствии с Федеральным базисным учебным планом  выделяется 140 часов – по 2 часа в неделю в 10 и 11 классах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комендуемый оптимальный объем учебного времени, позволяющий реализовать практическую направленность курса – 3-4 часа в неделю как в 10, так и в 11 класс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692360" y="549360"/>
            <a:ext cx="7451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ЕТОДИЧЕСКОЕ ПИСЬМ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 ПРЕПОДАВАНИИ ПРАВА В УСЛОВИЯХ ВВЕДЕНИЯ ФЕДЕРАЛЬНОГО КОМПОНЕНТА ГОСУДАРСТВЕННОГО СТАНДАРТА ОБЩЕГО ОБРАЗ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660014ab71789b0df5d43a2d86040128"/>
          <p:cNvPicPr/>
          <p:nvPr/>
        </p:nvPicPr>
        <p:blipFill>
          <a:blip r:embed="rId2"/>
          <a:stretch/>
        </p:blipFill>
        <p:spPr>
          <a:xfrm>
            <a:off x="0" y="0"/>
            <a:ext cx="3419640" cy="2189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7"/>
          <p:cNvPicPr/>
          <p:nvPr/>
        </p:nvPicPr>
        <p:blipFill>
          <a:blip r:embed="rId3"/>
          <a:stretch/>
        </p:blipFill>
        <p:spPr>
          <a:xfrm>
            <a:off x="5508720" y="4387680"/>
            <a:ext cx="3635280" cy="24703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0"/>
          <p:cNvSpPr/>
          <p:nvPr/>
        </p:nvSpPr>
        <p:spPr>
          <a:xfrm>
            <a:off x="324000" y="2421000"/>
            <a:ext cx="8712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-19 мая 2013 г. в Санкт-Петербурге в Президентской библиотеке имени Б.Н. Ельцина в рамках III Петербургского Международного Юридического Форума прошёл Всероссийский съезд учителей права и общество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Конституционно-правовые ценности формирования личности школьника», приуроченный к 20-летию Конституции Российской Федераци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7" descr="5"/>
          <p:cNvPicPr/>
          <p:nvPr/>
        </p:nvPicPr>
        <p:blipFill>
          <a:blip r:embed="rId1"/>
          <a:stretch/>
        </p:blipFill>
        <p:spPr>
          <a:xfrm>
            <a:off x="0" y="3522600"/>
            <a:ext cx="5003640" cy="3335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12"/>
          <p:cNvPicPr/>
          <p:nvPr/>
        </p:nvPicPr>
        <p:blipFill>
          <a:blip r:embed="rId2"/>
          <a:stretch/>
        </p:blipFill>
        <p:spPr>
          <a:xfrm>
            <a:off x="4224240" y="3556080"/>
            <a:ext cx="4956120" cy="3301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8"/>
          <p:cNvPicPr/>
          <p:nvPr/>
        </p:nvPicPr>
        <p:blipFill>
          <a:blip r:embed="rId3"/>
          <a:stretch/>
        </p:blipFill>
        <p:spPr>
          <a:xfrm>
            <a:off x="0" y="0"/>
            <a:ext cx="5364000" cy="3575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6"/>
          <p:cNvPicPr/>
          <p:nvPr/>
        </p:nvPicPr>
        <p:blipFill>
          <a:blip r:embed="rId4"/>
          <a:stretch/>
        </p:blipFill>
        <p:spPr>
          <a:xfrm>
            <a:off x="3816360" y="0"/>
            <a:ext cx="5364000" cy="357336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1835280" y="1844640"/>
            <a:ext cx="7129440" cy="43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Сделать изучение Конституции Российской Федерации в школе постоянным и всеобщи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здать единое образовательное пространство по вопросам правового обучения и воспита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Создать Ассоциацию учителей права и обществознания в качестве отделения Ассоциации юристов Росс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4. Рекомендовать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щеобразовательным учреждениям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изучать учебный предмет «Право» в качестве отдельного учебного предмета за счет часов регионального компонента или компонента образовательного учреждения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2050920" y="692280"/>
            <a:ext cx="68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b5229"/>
                </a:solidFill>
                <a:latin typeface="Arial"/>
              </a:rPr>
              <a:t>ИЗ РЕЗОЛЮЦИИ ВСЕРОССИЙСКОГО СЪЕЗДА УЧИТ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b5229"/>
                </a:solidFill>
                <a:latin typeface="Arial"/>
              </a:rPr>
              <a:t>ПРАВА И ОБЩЕСТВ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1763640" y="1628640"/>
            <a:ext cx="738036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реждениям высшего и дополнительного профессионального образова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разработать концепцию преподавания права в школе; учебно-методический комплекс по преподаванию права в школ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разработать и реализовать модули повышения квалификации для учителей права и обществознания по вопросам правовых знаний, в том числе на базе ведущих образовательных учреждений юридического профил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усилить обществоведческую подготовку учителей истории, разработав необходимые модули повышения квалификац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изучить опыт Российского государственного педагогического университета им. А.И. Герцена по подготовке и повышению квалификации учителей права и обществозна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2050920" y="692280"/>
            <a:ext cx="68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b5229"/>
                </a:solidFill>
                <a:latin typeface="Arial"/>
              </a:rPr>
              <a:t>ИЗ РЕЗОЛЮЦИИ ВСЕРОССИЙСКОГО СЪЕЗДА УЧИТ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b5229"/>
                </a:solidFill>
                <a:latin typeface="Arial"/>
              </a:rPr>
              <a:t>ПРАВА И ОБЩЕСТВ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1835280" y="1989000"/>
            <a:ext cx="7057800" cy="43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овое образование - неотъемлемая часть общей культуры гражданина, условие формирования правосозн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Правовое образование является залогом того, что право станет регулятором жизни индивида, а не препятствием на его пути реализации своих личных зада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современных условиях именно правовое образование может стать важнейшим фактором развития личности, становления гражданского общества и демократического правового государства в современной России, граждане которого смогут жить в социально-правовом согласии друг с другом и с государ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3851280" y="76500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8"/>
          <p:cNvSpPr/>
          <p:nvPr/>
        </p:nvSpPr>
        <p:spPr>
          <a:xfrm>
            <a:off x="2124000" y="76500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ирование правовой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1763640" y="1893960"/>
            <a:ext cx="7272360" cy="40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создание морально-правового климата в обществе, который гарантирует реальную свободу поведения личности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                      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соединение с ответственностью перед обществом, обеспечивает её права, социальную защищённость, уважение её достоинства, то есть ставит человека в центр экономических, социальных, политических, культурных проце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1" descr="image005"/>
          <p:cNvPicPr/>
          <p:nvPr/>
        </p:nvPicPr>
        <p:blipFill>
          <a:blip r:embed="rId2"/>
          <a:stretch/>
        </p:blipFill>
        <p:spPr>
          <a:xfrm>
            <a:off x="5003640" y="2708280"/>
            <a:ext cx="1441440" cy="151272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0" y="-100080"/>
            <a:ext cx="9180360" cy="695808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2"/>
          <a:stretch/>
        </p:blipFill>
        <p:spPr>
          <a:xfrm>
            <a:off x="0" y="1916280"/>
            <a:ext cx="9144000" cy="1366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"/>
          <p:cNvPicPr/>
          <p:nvPr/>
        </p:nvPicPr>
        <p:blipFill>
          <a:blip r:embed="rId3"/>
          <a:stretch/>
        </p:blipFill>
        <p:spPr>
          <a:xfrm>
            <a:off x="0" y="3284640"/>
            <a:ext cx="9144000" cy="1800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"/>
          <p:cNvPicPr/>
          <p:nvPr/>
        </p:nvPicPr>
        <p:blipFill>
          <a:blip r:embed="rId4"/>
          <a:stretch/>
        </p:blipFill>
        <p:spPr>
          <a:xfrm>
            <a:off x="0" y="5013360"/>
            <a:ext cx="9144000" cy="184464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1908000" y="2637000"/>
            <a:ext cx="69850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Arial"/>
              </a:rPr>
              <a:t>Правовое воспитание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целенаправленное деятельность по передачи достижений (ценностей) в области права от одного поколения к друго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Sergey-Naryshkin-ne-podderzhal-pravoslavnye-popravki-v-Konstitutsiyu-Naryshkin"/>
          <p:cNvPicPr/>
          <p:nvPr/>
        </p:nvPicPr>
        <p:blipFill>
          <a:blip r:embed="rId1"/>
          <a:stretch/>
        </p:blipFill>
        <p:spPr>
          <a:xfrm>
            <a:off x="6012000" y="293760"/>
            <a:ext cx="3060720" cy="19828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34920" y="-27000"/>
            <a:ext cx="5905440" cy="33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ложил ввести в школах новый предмет, условное название которого "Основы российской государственности и права"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его мнению, знание Конституции нужно прививать с детства. Учебник по новой дисциплине Нарышкин предложил подготовить российской ассоциации юрист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днако председатель ГД уверен, что на этом останавливаться не стоит. Необходимо также и в вузах улучшить подготовку студентов на юридических факультет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6227640" y="2406600"/>
            <a:ext cx="266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икер Госдумы Сергей Нарышк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baburin4_200_auto"/>
          <p:cNvPicPr/>
          <p:nvPr/>
        </p:nvPicPr>
        <p:blipFill>
          <a:blip r:embed="rId2"/>
          <a:stretch/>
        </p:blipFill>
        <p:spPr>
          <a:xfrm>
            <a:off x="179280" y="4221000"/>
            <a:ext cx="2160720" cy="21178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8"/>
          <p:cNvSpPr/>
          <p:nvPr/>
        </p:nvSpPr>
        <p:spPr>
          <a:xfrm>
            <a:off x="0" y="3500280"/>
            <a:ext cx="23400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ргей Бабури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340000" y="3141720"/>
            <a:ext cx="6732720" cy="36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4b25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714b25"/>
                </a:solidFill>
                <a:latin typeface="Arial"/>
              </a:rPr>
              <a:t>Это чуть измененное название известной учебной дисциплины "Основы государственного права" или "Правоведение". Но дисциплина такая нужна, как ее не называй. Важно, чтобы ее преподавание заканчивалось не ЕГЭ, а нормальными экзаменами. У сегодняшних абитуриентов оставляет желать лучшего орфография и пунктуация, я уже не говорю о технических вопросах юриспруденции. Поэтому начинать надо с начала, а именно со школы. О каком государственном праве может идти речь, когда 35 процентов первокурсников не знает, кто такой Юрий Гагарин. Самое главное, такой предмет должен быть в школе, чтобы прививать уважение к закон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0005cx6p"/>
          <p:cNvPicPr/>
          <p:nvPr/>
        </p:nvPicPr>
        <p:blipFill>
          <a:blip r:embed="rId1"/>
          <a:stretch/>
        </p:blipFill>
        <p:spPr>
          <a:xfrm>
            <a:off x="5724360" y="189000"/>
            <a:ext cx="3241800" cy="21654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144360" y="404640"/>
            <a:ext cx="5580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ректор московского центра образования "Царицыно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фим Рачевск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50920" y="2565360"/>
            <a:ext cx="8893080" cy="38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школе есть курс обществознания с 5 по 10 классы, в котором есть раздел "Основы государства и права". Курс это важный и нужный, поскольку мы ощущаем дефицит правовой культуры, в особенности культуры адвокату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 за счет чего вводить новый предмет? Ведь увеличить нагрузку школьникам нельзя. Обрезать еще дисциплины в школе уже дальше некуда. Поэтому, можно в рамках обществознания решить эту проблему. Например, обучение в 9-м классе, когда дети уже получили паспорта, полностью посвятить основам российской государственности и права. А учителя обществознания, пройдя краткосрочные курсы, смогут без проблем преподавать такую дисципл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0014-008-Tak-vygljadit-shablon-oformlenija-Kaktus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1692360" y="549360"/>
            <a:ext cx="7451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ЕТОДИЧЕСКОЕ ПИСЬМ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 ПРЕПОДАВАНИИ ПРАВА В УСЛОВИЯХ ВВЕДЕНИЯ ФЕДЕРАЛЬНОГО КОМПОНЕНТА ГОСУДАРСТВЕННОГО СТАНДАРТА ОБЩЕГО ОБРАЗ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0" y="1844640"/>
            <a:ext cx="9144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ачальная шко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 предусматривает включение содержательной линии права в содержание курса «Окружающий мир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0" y="2781360"/>
            <a:ext cx="91440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сновная шко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включает право для обязательного изучения в качестве модуля в рамках интегрированного учебного предмета «Обществоведение», на который из общего объема учебного времени отводится не менее 35 учебных часо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0" y="4365720"/>
            <a:ext cx="91440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таршая шко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на базовом уровне Федеральным базисным учебным планом  предусмотрено изучение права в двух вариант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амках интегрированного курса «Обществоведение» (суммарный ресурс учебного времени на 2 года – 140 часов – 2 часа в неделю, из них на право – не менее 35 час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качестве самостоятельного предмета (из расчета 35 часов по 1 часу в неделю в 10 или 11 классе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1T08:47:14Z</dcterms:created>
  <dc:creator>user</dc:creator>
  <dc:description/>
  <dc:language>en-US</dc:language>
  <cp:lastModifiedBy>LEGION</cp:lastModifiedBy>
  <dcterms:modified xsi:type="dcterms:W3CDTF">2015-01-28T10:19:28Z</dcterms:modified>
  <cp:revision>12</cp:revision>
  <dc:subject/>
  <dc:title>Предмет право</dc:title>
</cp:coreProperties>
</file>