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804C-EBFE-4D48-BEBA-52EDF925E9D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с приве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Муниципальное 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редняя обще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школа № 44  г.Яросла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4363-33D4-47F3-8AFE-C3402F8C687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 в процессе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изучения общеобразовательных предм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(5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знание (6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Ж(1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я (6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 (1-4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оведение (5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(5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(7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ение (1-4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офильное обучение(9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акультативные курсы по предм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Работа школьного научного общества «Искате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жегодная школьная научно-практическая конференция «Открыт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9D69-C417-4B59-93F1-A26FB6A434D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методов и форм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урочной и внеурочной деятельности при формировании гражданско-правовой культуры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ин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оли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б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ая презен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ый ст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южетно-роле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уссионный кл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ный журн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DED7-55A8-4D44-A761-1A5573D7B43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 в воспитательном процесс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 в 1-11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деля правовых знаний» (1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и Конвенции о правах ребенка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и Воинской Славы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ячник военно- патриотической работы «Слава защитникам Отечества!»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научно- практическая конференция «Открытие» (8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ячник безопасности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лимпийские игры знаний» (5-8 кл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298C-8515-4DBF-986E-50F67C437B8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н проведения Дней Конвенции в МОУ СОШ № 44 г. Ярославля с 30.10.07 по 12.12.0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задачи проведения Дней Конвен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 учащихся интереса к историческим события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 и гражданской активност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у учащихся чувства патриотизма, толерантности, уважения к прошлому страны, к памяти на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рганизационн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проведения Дней Конв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ормление стенда по Дням Конв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Дней Конвенции на МО классных руководителей 1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Рабо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 в 1-11 классах «Мы разные люди, но вместе живем на планете Земля», «Мои права и обязанности»(5-8 классы), «Конституция – главный закон жизни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научно-практическая конференция на тему «Смутное время и Ярославль»(8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медиапродуктов «Памяти достойны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36AA-5F7B-433B-8EC9-5056747552C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ниги Памяти «Ярославцы - герои Отечества» (5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мини-сочинений «Моя глава в Конституцию» (5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-викторина «Я, ты, он, она – вместе дружная семья» (1-4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по станциям «Наши права и обязанности» (5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по теме «Когда мы едины» (1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– масок «Жизнь с улыбкой» (5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лакатов «Права и свободы человека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Работа с педколлектив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едание МО классных руководителей 1-11 классов по теме «Работа педколлектива по гражданско-правовому воспитанию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Работа с родителям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родительские собрания в 1-11 классах (Конвенция о правах ребенка, о толерантности, о Конституции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ABF0-B862-4EF4-AF34-7AC1D1A9B22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та классных руководителей с классными коллективами по формированию гражданско-правовой культуры уча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став школ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правилами поведения учащих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ши права и обязан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сударственные праздники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сударственные символы РФ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 и правопоряд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олерантность и м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неклассные мероприятия и мероприятия по предм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урнир знатаков права»(8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сценировка суда над табаком»(6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ая Ассамблея сказочных героев» (3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экологической этики «Берегите землю» (2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 «Мы – будущие избиратели» (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Умники и умницы» (9-10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C149-6012-4494-804A-7DB58121CF3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вместные собрания родителей и учащихся («Мост доверия от сердца к сердцу» 8-9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Участие классов в общешкольных д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Индивидуальная работа с учащимися и семьями, находящимися в социально опасном поло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офилактическая работа с учащимися, направленная на предупреждение правонарушений,  употребления  П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Тематические беседы для учащихся с приглашением специалистов(юрист, врач, психолог,  школьный инспектор и др.)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9FC3-F11F-4E83-AB52-58F4EFFBBF2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дители - наши союз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ематические классные родительские 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ила безопасного поведения»(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узья разного происхождения» (2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бращение с деньгами» (3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вязчивые идеи» (5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к воспитывать ответственность в ребенке» (6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признание или чувство собственного достоинства» (7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углый стол» с родителями: «желаю» и «обязан» в педагогическом     союзе (8-9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ши» дети – подростки: какие они?» (10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школьные родительские 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частие родительской общественности в общешкольных и классных дел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ой турнир» (7 кла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игра «Мой взгляд» (8 класс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ая игра «Выборы в местную думу»(5 кла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ень открытых дверей для родителей (1-4; 5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вместные заседания общественного родительского комитета , администрации школы и совета школы для решения и обсуждения задач воспитания 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F539-4ABC-48A8-9A26-A9127EF087D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спитательно-образовательное пространство школы №44, способствующее формированию гражданско-прав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C578-3A42-4B2E-B125-16E48F7E52E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нализ деятельности педколлектива по гражданско-правовому образованию учащих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ение и анализ воспитательны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суждение вопросов гражданско-правового образования учащихся на педсоветах, МО классных руководителей, производственных и административных совещ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ониторинг воспитательного процесса по направлени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ученического колл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адаптированность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дез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ланирование дальнейшей работы по результатам монитор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862A-F110-4A7D-AA50-B188ED1AE4D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Calibri"/>
              </a:rPr>
              <a:t>(из опыта работы МОУ СОШ № 4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2B4C-C1FD-4113-91DD-BB5CFE360E7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1CBA-1E4C-4622-83A9-46E42E31B5E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правления работы в рамках гражданско-правов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 и семьями, находящимися в социально опасном поло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–психолого-педагогическая поддержка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и предупреждение аддиктивного поведения уча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8A9F-390E-4DCE-B92D-7EBD85014E1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очка отсчё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ское совещание «От гражданского образования к демократической школе или как нам воспитать гражданина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совет «Гражданско-правовое образование учащих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ждение 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задач воспит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иоритетных напра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рограммы гражданско-правового образования учащихся МОУ СОШ № 44 на 2006-2008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D568-B43A-4A2F-ADB3-0844CA46A69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рамма гражданско-правового образования учащихся МОУ СОШ № 44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 Ярославля на 2006-2008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спорт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овани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для разработк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разработк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и задач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ые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и основных мероприятий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емые конечные результат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исполнением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34FD-AD28-41BE-B6F8-461DC0E9A7C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и задач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ероприятий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переподготовка педагогических кад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реализации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B4A0-8483-457F-8C04-4087D0A10E9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ормативно-правовая ба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 «Об образ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ая декларац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 правах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ОН о правах человека, с рекомендациями ЮНЕСКО относительно перспектив развития образования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модернизации российского образования на период до 2010 года. (Приказ. Минобразования РФ от 11 февраля 2002 года №1756-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 государственного и регионального уровня по гражданско-правовому образов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88B2-CDF0-4416-9A80-DA0FBC8B8F3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аимодействие педагогов, родителей и учащихся в учебно-воспитательном проце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5C16-90C7-4180-924E-4C88D3F953E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1E7B-F9C2-40E6-A9D6-7FBBEC9D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C3F-2911-47C1-B54D-B218BCB6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4CD-65B4-4E79-B028-FDB0F118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BAAC-C63D-428A-8464-5879E9E8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6790-AC40-40A3-B13C-3ED5AAFB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205C-FB20-457D-BA60-CBA426CD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9217-35BE-4B5E-9FD5-CEB4D251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1752-8907-426D-A694-FCE61C8B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8DDD-27B7-4EF5-AAC6-9363558F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DCEB-039F-40A2-8380-E4AE222B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7D96-021B-4480-8DE4-C8CC3E3A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DB9-8EFC-4228-B2D7-5CD7C216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5DF3-ED4D-4511-8C11-B3F727EB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CB4B-C813-403D-BBDB-5755AD2E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3934-AB87-4A1B-8046-AA2F76D6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E7EF-04E6-4B1A-9592-B1F2BD76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A498-95DA-4345-941B-98FE3C18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54D-EE3B-45EE-B99E-24E9ED01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AA77-6370-489A-8489-646E20E3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19C-91E0-4B10-A53A-ED98749F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96BE-52DE-4515-AED9-30F80662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951-45C9-435B-8AB5-D5B077E4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F00-CBF2-42ED-B4D4-B779FDDE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3045-DA55-4C15-9B23-1643A8A3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F4ED-B491-498D-8CEA-7B06050D39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47AE-B16F-4170-B7FA-9E6AB3D5DBA4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ас приветству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Муниципальное 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средняя общеобразователь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школа № 44  г.Ярослав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8771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 в процессе обуч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рамках изучения общеобразовательных предмет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стория (5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ществознание (6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Ж(1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еография (6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кружающий мир (1-4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родоведение (5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Литература (5-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Химия (7-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Чтение (1-4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 Профильное обучение(9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. Факультативные курсы по предмета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. Работа школьного научного общества «Искател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5. Ежегодная школьная научно-практическая конференция «Открытие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Использование различных методов и форм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в урочной и внеурочной деятельности при формировании гражданско-правовой культуры учащихс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мина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ртфоли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бат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ьютерная презента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ловая иг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углый сто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южетно-ролевая иг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скуссионный клу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ный журна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рок-путешеств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 в воспитательном процессе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матические классные часы в 1-11 класс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Неделя правовых знаний» (1-11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ни Конвенции о правах ребенка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ни Воинской Славы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сячник военно- патриотической работы «Слава защитникам Отечества!»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ьная научно- практическая конференция «Открытие» (8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сячник безопасности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Олимпийские игры знаний» (5-8 кл.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лан проведения Дней Конвенции в МОУ СОШ № 44 г. Ярославля с 30.10.07 по 12.12.07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сновные задачи проведения Дней Конвенции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вышение у учащихся интереса к историческим событиям 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ормирование правовой культуры и гражданской активности учащих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оспитание у учащихся чувства патриотизма, толерантности, уважения к прошлому страны, к памяти народа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. Организационная работ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ставление плана проведения Дней Конвен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формление стенда по Дням Конвен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ведение итогов Дней Конвенции на МО классных руководителей 1-11 клас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. Работа с учащими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тические классные часы в 1-11 классах «Мы разные люди, но вместе живем на планете Земля», «Мои права и обязанности»(5-8 классы), «Конституция – главный закон жизни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Школьная научно-практическая конференция на тему «Смутное время и Ярославль»(8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медиапродуктов «Памяти достойны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езентация Книги Памяти «Ярославцы - герои Отечества» (5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мини-сочинений «Моя глава в Конституцию» (5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гра-викторина «Я, ты, он, она – вместе дружная семья» (1-4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гра по станциям «Наши права и обязанности» (5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рисунков по теме «Когда мы едины» (1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рисунков – масок «Жизнь с улыбкой» (5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плакатов «Права и свободы человека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. Работа с педколлективо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седание МО классных руководителей 1-11 классов по теме «Работа педколлектива по гражданско-правовому воспитанию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V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. Работа с родителям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тические родительские собрания в 1-11 классах (Конвенция о правах ребенка, о толерантности, о Конституции и др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абота классных руководителей с классными коллективами по формированию гражданско-правовой культуры учащих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ематические классные час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Устав школы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накомство с правилами поведения учащихся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Наши права и обязанност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Государственные праздники РФ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Государственные символы РФ»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Закон и правопорядок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Толерантность и мы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 Внеклассные мероприятия и мероприятия по предметам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Турнир знатаков права»(8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Инсценировка суда над табаком»(6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Правовая Ассамблея сказочных героев» (3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рок экологической этики «Берегите землю» (2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олевая игра «Мы – будущие избиратели» (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гра «Умники и умницы» (9-10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Совместные собрания родителей и учащихся («Мост доверия от сердца к сердцу» 8-9 кл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 Участие классов в общешкольных дела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 Индивидуальная работа с учащимися и семьями, находящимися в социально опасном положен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 Профилактическая работа с учащимися, направленная на предупреждение правонарушений,  употребления  ПА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. Тематические беседы для учащихся с приглашением специалистов(юрист, врач, психолог,  школьный инспектор и др.).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одители - наши союзник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Тематические классные родительские собр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Правила безопасного поведения»(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Друзья разного происхождения» (2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Обращение с деньгами» (3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Навязчивые идеи» (5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Как воспитывать ответственность в ребенке» (6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мопризнание или чувство собственного достоинства» (7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Круглый стол» с родителями: «желаю» и «обязан» в педагогическом     союзе (8-9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Наши» дети – подростки: какие они?» (10-1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Общешкольные родительские собр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Участие родительской общественности в общешкольных и классных делах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Правовой турнир» (7 класс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авовая игра «Мой взгляд» (8 класс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еловая игра «Выборы в местную думу»(5 класс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День открытых дверей для родителей (1-4; 5-1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Совместные заседания общественного родительского комитета , администрации школы и совета школы для решения и обсуждения задач воспитания и образова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оспитательно-образовательное пространство школы №44, способствующее формированию гражданско-правовой культуры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6118200" y="2819520"/>
            <a:ext cx="3025800" cy="6094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ДН, КДН Ленин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Киров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6553080" y="4724280"/>
            <a:ext cx="175284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ВФЭ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Хрулё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3200400" y="3429000"/>
            <a:ext cx="1905120" cy="129528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6705720" y="5562720"/>
            <a:ext cx="1981080" cy="8380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Защитник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4714920" y="5143680"/>
            <a:ext cx="2071800" cy="17143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родск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дико - психолого-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дагогические цент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228600" y="4724280"/>
            <a:ext cx="1752480" cy="129564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Киновидеоцентр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1600200" y="5562720"/>
            <a:ext cx="1371600" cy="12952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режд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10"/>
          <p:cNvSpPr/>
          <p:nvPr/>
        </p:nvSpPr>
        <p:spPr>
          <a:xfrm>
            <a:off x="304920" y="3886200"/>
            <a:ext cx="198108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блиотека - филиал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380880" y="2895480"/>
            <a:ext cx="2057400" cy="91440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. библиот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Н.А. Некрасо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457200" y="2057400"/>
            <a:ext cx="205740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Ц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ерспектива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3124080" y="5410080"/>
            <a:ext cx="1600200" cy="14479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. детска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блиот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И.А. Крылов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AutoShape 14"/>
          <p:cNvSpPr/>
          <p:nvPr/>
        </p:nvSpPr>
        <p:spPr>
          <a:xfrm>
            <a:off x="2819520" y="1905120"/>
            <a:ext cx="1904760" cy="91440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Д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нин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AutoShape 15"/>
          <p:cNvSpPr/>
          <p:nvPr/>
        </p:nvSpPr>
        <p:spPr>
          <a:xfrm>
            <a:off x="5029200" y="1828800"/>
            <a:ext cx="1219320" cy="8380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ОП №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6477120" y="1752480"/>
            <a:ext cx="2271600" cy="106704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Д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рославской област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4495680" y="4419720"/>
            <a:ext cx="15242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267080" y="44956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19"/>
          <p:cNvSpPr/>
          <p:nvPr/>
        </p:nvSpPr>
        <p:spPr>
          <a:xfrm flipH="1">
            <a:off x="3733560" y="457200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20"/>
          <p:cNvSpPr/>
          <p:nvPr/>
        </p:nvSpPr>
        <p:spPr>
          <a:xfrm flipH="1" flipV="1">
            <a:off x="2590560" y="342864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Line 21"/>
          <p:cNvSpPr/>
          <p:nvPr/>
        </p:nvSpPr>
        <p:spPr>
          <a:xfrm flipV="1">
            <a:off x="4724280" y="281952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22"/>
          <p:cNvSpPr/>
          <p:nvPr/>
        </p:nvSpPr>
        <p:spPr>
          <a:xfrm flipV="1">
            <a:off x="39625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23"/>
          <p:cNvSpPr/>
          <p:nvPr/>
        </p:nvSpPr>
        <p:spPr>
          <a:xfrm flipV="1">
            <a:off x="4724280" y="34290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24"/>
          <p:cNvSpPr/>
          <p:nvPr/>
        </p:nvSpPr>
        <p:spPr>
          <a:xfrm flipH="1" flipV="1">
            <a:off x="2514600" y="274284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25"/>
          <p:cNvSpPr/>
          <p:nvPr/>
        </p:nvSpPr>
        <p:spPr>
          <a:xfrm flipH="1">
            <a:off x="2437920" y="44956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26"/>
          <p:cNvSpPr/>
          <p:nvPr/>
        </p:nvSpPr>
        <p:spPr>
          <a:xfrm flipH="1">
            <a:off x="2057400" y="434340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27"/>
          <p:cNvSpPr/>
          <p:nvPr/>
        </p:nvSpPr>
        <p:spPr>
          <a:xfrm flipV="1">
            <a:off x="4495680" y="28195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28"/>
          <p:cNvSpPr/>
          <p:nvPr/>
        </p:nvSpPr>
        <p:spPr>
          <a:xfrm flipH="1">
            <a:off x="2361960" y="4114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AutoShape 29"/>
          <p:cNvSpPr/>
          <p:nvPr/>
        </p:nvSpPr>
        <p:spPr>
          <a:xfrm>
            <a:off x="5562720" y="3429000"/>
            <a:ext cx="3581280" cy="12952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сихолого-медико-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дагогической помощ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Ярославля («Лад», «Развитие» и др.)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4343400" y="4419720"/>
            <a:ext cx="22096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47242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7025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845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625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3625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19325"/>
                            </p:stCondLst>
                            <p:childTnLst>
                              <p:par>
                                <p:cTn id="96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20450"/>
                            </p:stCondLst>
                            <p:childTnLst>
                              <p:par>
                                <p:cTn id="96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9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24650"/>
                            </p:stCondLst>
                            <p:childTnLst>
                              <p:par>
                                <p:cTn id="9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27275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Анализ деятельности педколлектива по гражданско-правовому образованию учащих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ещение и анализ воспитательных мероприят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Обсуждение вопросов гражданско-правового образования учащихся на педсоветах, МО классных руководителей, производственных и административных совещания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 Мониторинг воспитательного процесса по направлениям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итие ученического коллекти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альная адаптированность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ьная дезадапта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ометр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. Планирование дальнейшей работы по результатам мониторинг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(из опыта работы МОУ СОШ № 4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ПАСИБО ЗА ВНИМАНИЕ 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ограммы воспитания, реализуемые в школ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доровьесберегающая программа «Мы выбираем жизнь!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«Ярославль тысячеликий» (к 1000-летию Ярославля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гражданско – правового образования «Я- гражданин России.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«Вместе дружная семья» (в рамках Года семьи 2008г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аправления работы в рамках гражданско-правового образова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 с учащимися и семьями, находящимися в социально опасном положе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дико–психолого-педагогическая поддержка семь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филактика и предупреждение аддиктивного поведения учащих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Точка отсчёт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ородское совещание «От гражданского образования к демократической школе или как нам воспитать гражданина?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дсовет «Гражданско-правовое образование учащихс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суждение тем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тановка задач воспитательного процесс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ределение приоритетных направл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нирование рабо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ление Программы гражданско-правового образования учащихся МОУ СОШ № 44 на 2006-2008 год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724280" y="44956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724280" y="25909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рограмма гражданско-правового образования учащихся МОУ СОШ № 44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г. Ярославля на 2006-2008 г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аспорт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именование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шение для разработк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казчик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разработк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и задач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тап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евые групп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направления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сполнители основных мероприятий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жидаемые конечные результат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нтроль за исполнением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одержание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ведение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цели и задач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тап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стема мероприятий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ебная деятель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оспитательная деятель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сихологическая служб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дготовка и переподготовка педагогических кадр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еханизм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ценка эффективности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ормативно-правовая баз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ституция Р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кон РФ «Об образовании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еобщая декларация прав челов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венция о правах ребен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венция ООН о правах человека, с рекомендациями ЮНЕСКО относительно перспектив развития образования в мир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цепция модернизации российского образования на период до 2010 года. (Приказ. Минобразования РФ от 11 февраля 2002 года №1756-р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кументы государственного и регионального уровня по гражданско-правовому образовани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заимодействие педагогов, родителей и учащихся в учебно-воспитательном процессе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762120" y="2286000"/>
            <a:ext cx="1752480" cy="14479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рган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ученическог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амоуправле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914400" y="3962520"/>
            <a:ext cx="1600200" cy="137160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одительск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ществен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2057400" y="5334120"/>
            <a:ext cx="2209680" cy="121896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лассных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уководител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4343400" y="5257800"/>
            <a:ext cx="2209680" cy="137160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Учителя-предметник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6629400" y="4876920"/>
            <a:ext cx="1523880" cy="121896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иблиотекар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кол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6172200" y="1905120"/>
            <a:ext cx="1676520" cy="129528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кольный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инспекто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2819520" y="1752480"/>
            <a:ext cx="2743200" cy="16765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едико-психологическ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лужб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(логопед, психолог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рач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2514600" y="4648320"/>
            <a:ext cx="1219320" cy="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11"/>
          <p:cNvSpPr/>
          <p:nvPr/>
        </p:nvSpPr>
        <p:spPr>
          <a:xfrm flipH="1">
            <a:off x="5029200" y="3124080"/>
            <a:ext cx="1447920" cy="7621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3200400" y="5029200"/>
            <a:ext cx="990720" cy="3049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2362320" y="3429000"/>
            <a:ext cx="1676160" cy="457200"/>
          </a:xfrm>
          <a:prstGeom prst="line">
            <a:avLst/>
          </a:prstGeom>
          <a:ln w="2844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4724280" y="4952880"/>
            <a:ext cx="1219320" cy="38124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4343400" y="3429000"/>
            <a:ext cx="0" cy="38088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Line 16"/>
          <p:cNvSpPr/>
          <p:nvPr/>
        </p:nvSpPr>
        <p:spPr>
          <a:xfrm flipH="1" flipV="1">
            <a:off x="5334120" y="4571640"/>
            <a:ext cx="1828800" cy="3049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Oval 17"/>
          <p:cNvSpPr/>
          <p:nvPr/>
        </p:nvSpPr>
        <p:spPr>
          <a:xfrm>
            <a:off x="3429000" y="3733920"/>
            <a:ext cx="1981080" cy="129528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дминистра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кол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5410080" y="4114440"/>
            <a:ext cx="1371600" cy="15228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Oval 19"/>
          <p:cNvSpPr/>
          <p:nvPr/>
        </p:nvSpPr>
        <p:spPr>
          <a:xfrm>
            <a:off x="6705720" y="3429000"/>
            <a:ext cx="1600200" cy="12193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едагог –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рганизато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9:33:24Z</dcterms:created>
  <dc:creator>Пользователь</dc:creator>
  <dc:description/>
  <dc:language>en-US</dc:language>
  <cp:lastModifiedBy>LEGION</cp:lastModifiedBy>
  <dcterms:modified xsi:type="dcterms:W3CDTF">2015-01-28T10:20:18Z</dcterms:modified>
  <cp:revision>29</cp:revision>
  <dc:subject/>
  <dc:title>Вас приветствует</dc:title>
</cp:coreProperties>
</file>