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79BF-D0BE-4B66-B65C-70BCEE14BB5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с привет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Муниципальное образовательное учре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средняя общеобразов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школа № 44  г.Ярослав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FD23-5F27-423E-A85C-B1BBF5AAE55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ирование гражданско-правовой культуры учащихся в процессе обу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изучения общеобразовательных предм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(5-11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знание (6-11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Ж(1-11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я (6-11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ий мир (1-4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оведение (5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(5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я (7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ение (1-4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офильное обучение(9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Факультативные курсы по предме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Работа школьного научного общества «Искател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Ежегодная школьная научно-практическая конференция «Открыт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EAED-B7D9-4B01-B851-209C4F01E17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ьзование различных методов и форм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урочной и внеурочной деятельности при формировании гражданско-правовой культуры уч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ин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ере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фоли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б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ая презен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овая иг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лый сто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южетно-ролевая иг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уссионный клу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ный журн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-путеше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682F-A683-448E-8130-3312A05AABA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Формирование гражданско-правовой культуры учащихся в воспитательном процесс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тические классные часы в 1-11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еделя правовых знаний» (1-11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и Конвенции о правах ребенка (1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и Воинской Славы (1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ячник военно- патриотической работы «Слава защитникам Отечества!» (1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ая научно- практическая конференция «Открытие» (8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ячник безопасности (1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лимпийские игры знаний» (5-8 кл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2079-3AC3-47DC-A53C-2C7EF4BEC18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лан проведения Дней Конвенции в МОУ СОШ № 44 г. Ярославля с 30.10.07 по 12.12.0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е задачи проведения Дней Конвен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у учащихся интереса к историческим событиям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правовой культуры и гражданской активности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у учащихся чувства патриотизма, толерантности, уважения к прошлому страны, к памяти на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Организационная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плана проведения Дней Конв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ормление стенда по Дням Конв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ние итогов Дней Конвенции на МО классных руководителей 1-11 клас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Работа с учащими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тические классные часы в 1-11 классах «Мы разные люди, но вместе живем на планете Земля», «Мои права и обязанности»(5-8 классы), «Конституция – главный закон жизни» (9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ая научно-практическая конференция на тему «Смутное время и Ярославль»(8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медиапродуктов «Памяти достойны» (9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FD69-80D6-4B54-B9D8-8C5ED1D0B7C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Книги Памяти «Ярославцы - герои Отечества» (5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мини-сочинений «Моя глава в Конституцию» (5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-викторина «Я, ты, он, она – вместе дружная семья» (1-4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 по станциям «Наши права и обязанности» (5-8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рисунков по теме «Когда мы едины» (1-8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рисунков – масок «Жизнь с улыбкой» (5-8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плакатов «Права и свободы человека» (9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Работа с педколлективо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седание МО классных руководителей 1-11 классов по теме «Работа педколлектива по гражданско-правовому воспитанию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Работа с родителям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тические родительские собрания в 1-11 классах (Конвенция о правах ребенка, о толерантности, о Конституции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8F41-6463-4A77-B7B9-0B234F5971B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бота классных руководителей с классными коллективами по формированию гражданско-правовой культуры учащих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тические классные ча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Устав школ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комство с правилами поведения учащихс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ши права и обязанно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осударственные праздники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осударственные символы РФ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кон и правопоряд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олерантность и м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неклассные мероприятия и мероприятия по предмет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урнир знатаков права»(8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сценировка суда над табаком»(6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авовая Ассамблея сказочных героев» (3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экологической этики «Берегите землю» (2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евая игра «Мы – будущие избиратели» (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 «Умники и умницы» (9-10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658A-9D04-447C-85BF-613602BF9A3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овместные собрания родителей и учащихся («Мост доверия от сердца к сердцу» 8-9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Участие классов в общешкольных дел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Индивидуальная работа с учащимися и семьями, находящимися в социально опасном полож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Профилактическая работа с учащимися, направленная на предупреждение правонарушений,  употребления  ПА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Тематические беседы для учащихся с приглашением специалистов(юрист, врач, психолог,  школьный инспектор и др.)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1941-0EE4-4518-BD21-2A63A851F6F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одители - наши союзн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Тематические классные родительские собр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авила безопасного поведения»(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рузья разного происхождения» (2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бращение с деньгами» (3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вязчивые идеи» (5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ак воспитывать ответственность в ребенке» (6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признание или чувство собственного достоинства» (7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руглый стол» с родителями: «желаю» и «обязан» в педагогическом     союзе (8-9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ши» дети – подростки: какие они?» (10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щешкольные родительские собр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Участие родительской общественности в общешкольных и классных дел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авовой турнир» (7 класс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игра «Мой взгляд» (8 класс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овая игра «Выборы в местную думу»(5 клас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День открытых дверей для родителей (1-4; 5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Совместные заседания общественного родительского комитета , администрации школы и совета школы для решения и обсуждения задач воспитания и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6024-C775-445F-82E3-5175138E251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спитательно-образовательное пространство школы №44, способствующее формированию гражданско-правов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C884-3AF7-4370-AFD4-9393AA7AEB3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нализ деятельности педколлектива по гражданско-правовому образованию учащих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ещение и анализ воспитательных меро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суждение вопросов гражданско-правового образования учащихся на педсоветах, МО классных руководителей, производственных и административных совеща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ониторинг воспитательного процесса по направления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ученического коллект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адаптированность уч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ая дезадап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мет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ланирование дальнейшей работы по результатам мониторин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58BA-C710-470C-A396-9F25614C33E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рмирование гражданско-правовой культуры учащих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66"/>
                </a:solidFill>
                <a:latin typeface="Calibri"/>
              </a:rPr>
              <a:t>(из опыта работы МОУ СОШ № 44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BFE3-F3C6-4492-B1BE-5189AB4D9CA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C31A-252D-48DD-BCAC-6B69CD20692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правления работы в рамках гражданско-правов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учащимися и семьями, находящимися в социально опасном полож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ко–психолого-педагогическая поддержка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и предупреждение аддиктивного поведения учащих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2DA0-C323-43B9-AAB8-159E59AC1F6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очка отсчё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ское совещание «От гражданского образования к демократической школе или как нам воспитать гражданина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совет «Гражданско-правовое образование учащихс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уждение т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ка задач воспитатель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приоритетных направ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Программы гражданско-правового образования учащихся МОУ СОШ № 44 на 2006-2008 г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9BCE-1EC7-44B1-B1E4-F8BFA4897D7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грамма гражданско-правового образования учащихся МОУ СОШ № 44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. Ярославля на 2006-2008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спорт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менование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для разработк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чик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разработк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и задач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реализаци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вые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реализаци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и основных мероприятий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идаемые конечные результаты реализаци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исполнением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4789-C73D-48CB-8712-77E1A609B92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держание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цели и задач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реализаци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мероприятий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тельн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и переподготовка педагогических кад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реализации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эффективности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414B-764A-45D1-9D4F-2DE54744F7C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ормативно-правовая баз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я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Ф «Об образован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общая декларация пра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нция о правах реб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нция ООН о правах человека, с рекомендациями ЮНЕСКО относительно перспектив развития образования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модернизации российского образования на период до 2010 года. (Приказ. Минобразования РФ от 11 февраля 2002 года №1756-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ы государственного и регионального уровня по гражданско-правовому образов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BE40-6595-4A5E-86FA-E863C7A83D7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заимодействие педагогов, родителей и учащихся в учебно-воспитательном процесс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8B12-6812-49D3-BEF4-D7926F8552A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47EB-C88E-4AF1-B3C2-9B9C34616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0A68-6876-4854-8F36-9A699F4D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B6E7-3CC0-4C64-8071-5F35AD10E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8A1A-4C04-4144-9FEF-EAEA1C7E2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896F-A3DB-48A3-8B6C-D52ABF5AF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B2B2-A4E0-428B-A420-B842393A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F2DF-8D5C-47E4-A8B2-7F9EE274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4104-D7EC-43D8-8E2C-7BDEF93D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0266-F3DE-4BB5-8369-9A36DAA3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8A52-667D-4839-9CA4-105E96AA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3F8D-2F75-4388-9873-DC56CCF2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D636-78D1-448F-B4C5-39FA094C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E17B-6F1D-4C5E-9CAE-669A2F6C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2426-9D6E-45E5-BEC4-91DEBF93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E0CB-8A60-4396-9638-49AD758A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18F1-7274-4FB1-825D-ACD09BAB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B784-CD4F-4688-A7C4-D7D672C27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439B-D4D2-4BCE-B644-2ED929B1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9B57-A74F-4E84-8AE2-E3885747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1EF3-F243-4136-BB0A-528A3EE4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4F98-A87C-4FA8-809D-339A5D38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F305-C744-4D96-8135-1C3898C9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7CC3-92E1-4E02-8BB5-057F58B7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72C6-A556-4640-A6A5-8929D331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2616-05A3-4742-908E-FDC343DAB1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6954-CC4C-4968-A45B-3F7940A8CAA9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Вас приветствуе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Муниципальное образовательное учрежд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средняя общеобразовательн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школа № 44  г.Ярославл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8771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Формирование гражданско-правовой культуры учащихся в процессе обуче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 рамках изучения общеобразовательных предмет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стория (5-11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бществознание (6-11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БЖ(1-11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еография (6-11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кружающий мир (1-4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иродоведение (5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Литература (5-11 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Химия (7-11 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Чтение (1-4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. Профильное обучение(9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3. Факультативные курсы по предмета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4. Работа школьного научного общества «Искатели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5. Ежегодная школьная научно-практическая конференция «Открытие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Использование различных методов и форм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 в урочной и внеурочной деятельности при формировании гражданско-правовой культуры учащихся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емина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ференц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ртфоли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ебат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мпьютерная презентац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еловая игр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руглый сто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южетно-ролевая игр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искуссионный клу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стный журна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рок-путешеств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Формирование гражданско-правовой культуры учащихся в воспитательном процессе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матические классные часы в 1-11 класс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Неделя правовых знаний» (1-11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ни Конвенции о правах ребенка (1-11 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ни Воинской Славы (1-11 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сячник военно- патриотической работы «Слава защитникам Отечества!» (1-11 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Школьная научно- практическая конференция «Открытие» (8-11 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сячник безопасности (1-11 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Олимпийские игры знаний» (5-8 кл.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План проведения Дней Конвенции в МОУ СОШ № 44 г. Ярославля с 30.10.07 по 12.12.07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722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сновные задачи проведения Дней Конвенции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вышение у учащихся интереса к историческим событиям 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Формирование правовой культуры и гражданской активности учащихс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оспитание у учащихся чувства патриотизма, толерантности, уважения к прошлому страны, к памяти народа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. Организационная работ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оставление плана проведения Дней Конвенци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формление стенда по Дням Конвенци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дведение итогов Дней Конвенции на МО классных руководителей 1-11 классов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. Работа с учащимис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Тематические классные часы в 1-11 классах «Мы разные люди, но вместе живем на планете Земля», «Мои права и обязанности»(5-8 классы), «Конституция – главный закон жизни» (9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Школьная научно-практическая конференция на тему «Смутное время и Ярославль»(8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нкурс медиапродуктов «Памяти достойны» (9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езентация Книги Памяти «Ярославцы - герои Отечества» (5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нкурс мини-сочинений «Моя глава в Конституцию» (5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гра-викторина «Я, ты, он, она – вместе дружная семья» (1-4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гра по станциям «Наши права и обязанности» (5-8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нкурс рисунков по теме «Когда мы едины» (1-8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нкурс рисунков – масок «Жизнь с улыбкой» (5-8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нкурс плакатов «Права и свободы человека» (9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. Работа с педколлективом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Заседание МО классных руководителей 1-11 классов по теме «Работа педколлектива по гражданско-правовому воспитанию»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V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. Работа с родителями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Тематические родительские собрания в 1-11 классах (Конвенция о правах ребенка, о толерантности, о Конституции и др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Работа классных руководителей с классными коллективами по формированию гражданско-правовой культуры учащихс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Тематические классные час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Устав школы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накомство с правилами поведения учащихся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Наши права и обязанности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Государственные праздники РФ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Государственные символы РФ»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Закон и правопорядок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Толерантность и мы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. Внеклассные мероприятия и мероприятия по предметам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Турнир знатаков права»(8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Инсценировка суда над табаком»(6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Правовая Ассамблея сказочных героев» (3 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рок экологической этики «Берегите землю» (2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олевая игра «Мы – будущие избиратели» (11 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гра «Умники и умницы» (9-10 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. Совместные собрания родителей и учащихся («Мост доверия от сердца к сердцу» 8-9 кл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. Участие классов в общешкольных делах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. Индивидуальная работа с учащимися и семьями, находящимися в социально опасном положен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. Профилактическая работа с учащимися, направленная на предупреждение правонарушений,  употребления  ПА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7. Тематические беседы для учащихся с приглашением специалистов(юрист, врач, психолог,  школьный инспектор и др.).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Родители - наши союзник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. Тематические классные родительские собра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Правила безопасного поведения»(1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Друзья разного происхождения» (2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Обращение с деньгами» (3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Навязчивые идеи» (5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Как воспитывать ответственность в ребенке» (6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амопризнание или чувство собственного достоинства» (7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Круглый стол» с родителями: «желаю» и «обязан» в педагогическом     союзе (8-9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Наши» дети – подростки: какие они?» (10-11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. Общешкольные родительские собра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. Участие родительской общественности в общешкольных и классных делах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Правовой турнир» (7 класс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авовая игра «Мой взгляд» (8 класс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еловая игра «Выборы в местную думу»(5 класс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 День открытых дверей для родителей (1-4; 5-11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5. Совместные заседания общественного родительского комитета , администрации школы и совета школы для решения и обсуждения задач воспитания и образовани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Воспитательно-образовательное пространство школы №44, способствующее формированию гражданско-правовой культуры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AutoShape 3"/>
          <p:cNvSpPr/>
          <p:nvPr/>
        </p:nvSpPr>
        <p:spPr>
          <a:xfrm>
            <a:off x="6118200" y="2819520"/>
            <a:ext cx="3025800" cy="60948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ДН, КДН Ленинского райо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Кировского райо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6553080" y="4724280"/>
            <a:ext cx="1752840" cy="76212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ВФЭ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м. Хрулё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3200400" y="3429000"/>
            <a:ext cx="1905120" cy="1295280"/>
          </a:xfrm>
          <a:prstGeom prst="irregularSeal2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кол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AutoShape 6"/>
          <p:cNvSpPr/>
          <p:nvPr/>
        </p:nvSpPr>
        <p:spPr>
          <a:xfrm>
            <a:off x="6705720" y="5562720"/>
            <a:ext cx="1981080" cy="83808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Защитник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7"/>
          <p:cNvSpPr/>
          <p:nvPr/>
        </p:nvSpPr>
        <p:spPr>
          <a:xfrm>
            <a:off x="4714920" y="5143680"/>
            <a:ext cx="2071800" cy="171432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ородск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дико - психолого-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дагогические цент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8"/>
          <p:cNvSpPr/>
          <p:nvPr/>
        </p:nvSpPr>
        <p:spPr>
          <a:xfrm>
            <a:off x="228600" y="4724280"/>
            <a:ext cx="1752480" cy="129564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Киновидеоцентр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AutoShape 9"/>
          <p:cNvSpPr/>
          <p:nvPr/>
        </p:nvSpPr>
        <p:spPr>
          <a:xfrm>
            <a:off x="1600200" y="5562720"/>
            <a:ext cx="1371600" cy="129528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режде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ульту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AutoShape 10"/>
          <p:cNvSpPr/>
          <p:nvPr/>
        </p:nvSpPr>
        <p:spPr>
          <a:xfrm>
            <a:off x="304920" y="3886200"/>
            <a:ext cx="1981080" cy="76212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иблиотека - филиал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380880" y="2895480"/>
            <a:ext cx="2057400" cy="91440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л. библиоте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м. Н.А. Некрасо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457200" y="2057400"/>
            <a:ext cx="2057400" cy="76212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АЦ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Перспектива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3124080" y="5410080"/>
            <a:ext cx="1600200" cy="144792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л. детска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иблиоте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м. И.А. Крылов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AutoShape 14"/>
          <p:cNvSpPr/>
          <p:nvPr/>
        </p:nvSpPr>
        <p:spPr>
          <a:xfrm>
            <a:off x="2819520" y="1905120"/>
            <a:ext cx="1904760" cy="91440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ДТ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енинского райо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AutoShape 15"/>
          <p:cNvSpPr/>
          <p:nvPr/>
        </p:nvSpPr>
        <p:spPr>
          <a:xfrm>
            <a:off x="5029200" y="1828800"/>
            <a:ext cx="1219320" cy="83808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ОП №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AutoShape 16"/>
          <p:cNvSpPr/>
          <p:nvPr/>
        </p:nvSpPr>
        <p:spPr>
          <a:xfrm>
            <a:off x="6477120" y="1752480"/>
            <a:ext cx="2271600" cy="106704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БД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рославской област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Line 17"/>
          <p:cNvSpPr/>
          <p:nvPr/>
        </p:nvSpPr>
        <p:spPr>
          <a:xfrm>
            <a:off x="4495680" y="4419720"/>
            <a:ext cx="15242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Line 18"/>
          <p:cNvSpPr/>
          <p:nvPr/>
        </p:nvSpPr>
        <p:spPr>
          <a:xfrm>
            <a:off x="4267080" y="44956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Line 19"/>
          <p:cNvSpPr/>
          <p:nvPr/>
        </p:nvSpPr>
        <p:spPr>
          <a:xfrm flipH="1">
            <a:off x="3733560" y="457200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Line 20"/>
          <p:cNvSpPr/>
          <p:nvPr/>
        </p:nvSpPr>
        <p:spPr>
          <a:xfrm flipH="1" flipV="1">
            <a:off x="2590560" y="3428640"/>
            <a:ext cx="9903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Line 21"/>
          <p:cNvSpPr/>
          <p:nvPr/>
        </p:nvSpPr>
        <p:spPr>
          <a:xfrm flipV="1">
            <a:off x="4724280" y="281952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Line 22"/>
          <p:cNvSpPr/>
          <p:nvPr/>
        </p:nvSpPr>
        <p:spPr>
          <a:xfrm flipV="1">
            <a:off x="39625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Line 23"/>
          <p:cNvSpPr/>
          <p:nvPr/>
        </p:nvSpPr>
        <p:spPr>
          <a:xfrm flipV="1">
            <a:off x="4724280" y="34290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Line 24"/>
          <p:cNvSpPr/>
          <p:nvPr/>
        </p:nvSpPr>
        <p:spPr>
          <a:xfrm flipH="1" flipV="1">
            <a:off x="2514600" y="2742840"/>
            <a:ext cx="1447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Line 25"/>
          <p:cNvSpPr/>
          <p:nvPr/>
        </p:nvSpPr>
        <p:spPr>
          <a:xfrm flipH="1">
            <a:off x="2437920" y="449568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26"/>
          <p:cNvSpPr/>
          <p:nvPr/>
        </p:nvSpPr>
        <p:spPr>
          <a:xfrm flipH="1">
            <a:off x="2057400" y="4343400"/>
            <a:ext cx="1371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Line 27"/>
          <p:cNvSpPr/>
          <p:nvPr/>
        </p:nvSpPr>
        <p:spPr>
          <a:xfrm flipV="1">
            <a:off x="4495680" y="281952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Line 28"/>
          <p:cNvSpPr/>
          <p:nvPr/>
        </p:nvSpPr>
        <p:spPr>
          <a:xfrm flipH="1">
            <a:off x="2361960" y="4114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AutoShape 29"/>
          <p:cNvSpPr/>
          <p:nvPr/>
        </p:nvSpPr>
        <p:spPr>
          <a:xfrm>
            <a:off x="5562720" y="3429000"/>
            <a:ext cx="3581280" cy="129528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ы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сихолого-медико-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дагогической помощ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.Ярославля («Лад», «Развитие» и др.)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30"/>
          <p:cNvSpPr/>
          <p:nvPr/>
        </p:nvSpPr>
        <p:spPr>
          <a:xfrm>
            <a:off x="4343400" y="4419720"/>
            <a:ext cx="22096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Line 31"/>
          <p:cNvSpPr/>
          <p:nvPr/>
        </p:nvSpPr>
        <p:spPr>
          <a:xfrm>
            <a:off x="4724280" y="3962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875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nodeType="afterEffect" fill="hold">
                            <p:stCondLst>
                              <p:cond delay="2075"/>
                            </p:stCondLst>
                            <p:childTnLst>
                              <p:par>
                                <p:cTn id="94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3575"/>
                            </p:stCondLst>
                            <p:childTnLst>
                              <p:par>
                                <p:cTn id="94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5825"/>
                            </p:stCondLst>
                            <p:childTnLst>
                              <p:par>
                                <p:cTn id="94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7025"/>
                            </p:stCondLst>
                            <p:childTnLst>
                              <p:par>
                                <p:cTn id="94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8450"/>
                            </p:stCondLst>
                            <p:childTnLst>
                              <p:par>
                                <p:cTn id="95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95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10625"/>
                            </p:stCondLst>
                            <p:childTnLst>
                              <p:par>
                                <p:cTn id="95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13625"/>
                            </p:stCondLst>
                            <p:childTnLst>
                              <p:par>
                                <p:cTn id="96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19325"/>
                            </p:stCondLst>
                            <p:childTnLst>
                              <p:par>
                                <p:cTn id="96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nodeType="afterEffect" fill="hold">
                            <p:stCondLst>
                              <p:cond delay="20450"/>
                            </p:stCondLst>
                            <p:childTnLst>
                              <p:par>
                                <p:cTn id="96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21200"/>
                            </p:stCondLst>
                            <p:childTnLst>
                              <p:par>
                                <p:cTn id="9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24650"/>
                            </p:stCondLst>
                            <p:childTnLst>
                              <p:par>
                                <p:cTn id="97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27275"/>
                            </p:stCondLst>
                            <p:childTnLst>
                              <p:par>
                                <p:cTn id="97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Анализ деятельности педколлектива по гражданско-правовому образованию учащихс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сещение и анализ воспитательных мероприят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. Обсуждение вопросов гражданско-правового образования учащихся на педсоветах, МО классных руководителей, производственных и административных совещания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. Мониторинг воспитательного процесса по направлениям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звитие ученического коллектив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циальная адаптированность учащих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Школьная дезадаптац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циометр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. Планирование дальнейшей работы по результатам мониторинг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Формирование гражданско-правовой культуры учащихся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(из опыта работы МОУ СОШ № 4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СПАСИБО ЗА ВНИМАНИЕ 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рограммы воспитания, реализуемые в школе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доровьесберегающая программа «Мы выбираем жизнь!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грамма «Ярославль тысячеликий» (к 1000-летию Ярославля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грамма гражданско – правового образования «Я- гражданин России.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грамма «Вместе дружная семья» (в рамках Года семьи 2008г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Направления работы в рамках гражданско-правового образовани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бота с учащимися и семьями, находящимися в социально опасном положен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дико–психолого-педагогическая поддержка семь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филактика и предупреждение аддиктивного поведения учащихс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Точка отсчёт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ородское совещание «От гражданского образования к демократической школе или как нам воспитать гражданина?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дсовет «Гражданско-правовое образование учащихся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суждение темы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становка задач воспитательного процесс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пределение приоритетных направле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анирование работ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ление Программы гражданско-правового образования учащихся МОУ СОШ № 44 на 2006-2008 год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4724280" y="449568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4724280" y="259092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Программа гражданско-правового образования учащихся МОУ СОШ № 44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г. Ярославля на 2006-2008 г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аспорт Программ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аименование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ешение для разработк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аказчик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сновные разработк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ь и задач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Этапы реализаци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евые групп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сновные направления реализаци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сполнители основных мероприятий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жидаемые конечные результаты реализаци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нтроль за исполнением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одержание Программ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ведение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сновные цели и задач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Этапы реализаци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истема мероприятий Программ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чебная деятельнос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оспитательная деятельнос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сихологическая служб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одготовка и переподготовка педагогических кадр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еханизм реализации Программ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ценка эффективности Программ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Нормативно-правовая баз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ституция Р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кон РФ «Об образовании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сеобщая декларация прав челове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венция о правах ребен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венция ООН о правах человека, с рекомендациями ЮНЕСКО относительно перспектив развития образования в мир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цепция модернизации российского образования на период до 2010 года. (Приказ. Минобразования РФ от 11 февраля 2002 года №1756-р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кументы государственного и регионального уровня по гражданско-правовому образовани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Взаимодействие педагогов, родителей и учащихся в учебно-воспитательном процессе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Oval 3"/>
          <p:cNvSpPr/>
          <p:nvPr/>
        </p:nvSpPr>
        <p:spPr>
          <a:xfrm>
            <a:off x="762120" y="2286000"/>
            <a:ext cx="1752480" cy="144792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рган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ученическог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амоуправле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4"/>
          <p:cNvSpPr/>
          <p:nvPr/>
        </p:nvSpPr>
        <p:spPr>
          <a:xfrm>
            <a:off x="914400" y="3962520"/>
            <a:ext cx="1600200" cy="137160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Родительска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бщественност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Oval 5"/>
          <p:cNvSpPr/>
          <p:nvPr/>
        </p:nvSpPr>
        <p:spPr>
          <a:xfrm>
            <a:off x="2057400" y="5334120"/>
            <a:ext cx="2209680" cy="121896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М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лассных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руководител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4343400" y="5257800"/>
            <a:ext cx="2209680" cy="137160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Учителя-предметник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Oval 7"/>
          <p:cNvSpPr/>
          <p:nvPr/>
        </p:nvSpPr>
        <p:spPr>
          <a:xfrm>
            <a:off x="6629400" y="4876920"/>
            <a:ext cx="1523880" cy="121896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Библиотекар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школ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Oval 8"/>
          <p:cNvSpPr/>
          <p:nvPr/>
        </p:nvSpPr>
        <p:spPr>
          <a:xfrm>
            <a:off x="6172200" y="1905120"/>
            <a:ext cx="1676520" cy="129528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Школьный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инспектор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9"/>
          <p:cNvSpPr/>
          <p:nvPr/>
        </p:nvSpPr>
        <p:spPr>
          <a:xfrm>
            <a:off x="2819520" y="1752480"/>
            <a:ext cx="2743200" cy="167652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Медико-психологическа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лужб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(логопед, психолог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врач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10"/>
          <p:cNvSpPr/>
          <p:nvPr/>
        </p:nvSpPr>
        <p:spPr>
          <a:xfrm>
            <a:off x="2514600" y="4648320"/>
            <a:ext cx="1219320" cy="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Line 11"/>
          <p:cNvSpPr/>
          <p:nvPr/>
        </p:nvSpPr>
        <p:spPr>
          <a:xfrm flipH="1">
            <a:off x="5029200" y="3124080"/>
            <a:ext cx="1447920" cy="76212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Line 12"/>
          <p:cNvSpPr/>
          <p:nvPr/>
        </p:nvSpPr>
        <p:spPr>
          <a:xfrm flipH="1">
            <a:off x="3200400" y="5029200"/>
            <a:ext cx="990720" cy="30492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Line 13"/>
          <p:cNvSpPr/>
          <p:nvPr/>
        </p:nvSpPr>
        <p:spPr>
          <a:xfrm>
            <a:off x="2362320" y="3429000"/>
            <a:ext cx="1676160" cy="457200"/>
          </a:xfrm>
          <a:prstGeom prst="line">
            <a:avLst/>
          </a:prstGeom>
          <a:ln w="2844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Line 14"/>
          <p:cNvSpPr/>
          <p:nvPr/>
        </p:nvSpPr>
        <p:spPr>
          <a:xfrm>
            <a:off x="4724280" y="4952880"/>
            <a:ext cx="1219320" cy="38124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4343400" y="3429000"/>
            <a:ext cx="0" cy="38088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Line 16"/>
          <p:cNvSpPr/>
          <p:nvPr/>
        </p:nvSpPr>
        <p:spPr>
          <a:xfrm flipH="1" flipV="1">
            <a:off x="5334120" y="4571640"/>
            <a:ext cx="1828800" cy="30492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Oval 17"/>
          <p:cNvSpPr/>
          <p:nvPr/>
        </p:nvSpPr>
        <p:spPr>
          <a:xfrm>
            <a:off x="3429000" y="3733920"/>
            <a:ext cx="1981080" cy="129528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дминистра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школ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5410080" y="4114440"/>
            <a:ext cx="1371600" cy="15228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Oval 19"/>
          <p:cNvSpPr/>
          <p:nvPr/>
        </p:nvSpPr>
        <p:spPr>
          <a:xfrm>
            <a:off x="6705720" y="3429000"/>
            <a:ext cx="1600200" cy="121932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едагог –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рганизатор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9:33:24Z</dcterms:created>
  <dc:creator>Пользователь</dc:creator>
  <dc:description/>
  <dc:language>en-US</dc:language>
  <cp:lastModifiedBy>LEGION</cp:lastModifiedBy>
  <dcterms:modified xsi:type="dcterms:W3CDTF">2015-01-28T10:20:18Z</dcterms:modified>
  <cp:revision>29</cp:revision>
  <dc:subject/>
  <dc:title>Вас приветствует</dc:title>
</cp:coreProperties>
</file>