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14B-201C-471D-BC36-C6432B3B81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с приве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кола № 44  г.Яросла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ABA7-B5B3-4524-8CB1-369B4C9ADAD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процессе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изучения общеобразовательных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(5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Ж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оведение (5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(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(7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фильное обучение(9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акультативные курсы по предм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абота школьного научного общества «Иска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жегодная школьная научно-практическая конференция «Открыт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FC4-9CDB-4BC2-8BF6-7DE26ECD40D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методов и форм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б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онный кл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жур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0044-9A91-422B-B842-7E2A500308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воспитательном процес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деля правовых знаний» 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Конвенции о правах ребенка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Воинской Славы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военно- патриотической работы «Слава защитникам Отечества!»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 практическая конференция «Открытие» (8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безопасности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импийские игры знаний» (5-8 кл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883E-EDB2-4AC5-A35C-B93EAB37EA4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роведения Дней Конвенции в МОУ СОШ № 44 г. Ярославля с 30.10.07 по 12.12.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дачи проведения Дней Конв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 учащихся интереса к историческим события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и гражданской актив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рганизацион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проведения Дней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стенда по Дням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Дней Конвенции на МО классных руководителей 1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едиапродуктов «Памяти достойны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CCCC-F61E-4432-8002-FC1F0FC9139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ниги Памяти «Ярославцы - герои Отечества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ини-сочинений «Моя глава в Конституцию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-викторина «Я, ты, он, она – вместе дружная семья» (1-4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по станциям «Наши права и обязанности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по теме «Когда мы едины» (1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– масок «Жизнь с улыбкой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ов «Права и свободы человека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педколлекти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родителя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DB6D-63A5-466D-B8B3-644A83C4AD8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став 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правилами поведения уча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 права и обяза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праздники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символы РФ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и правопоряд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лерантность и 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неклассные мероприятия и мероприятия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урнир знатаков права»(8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сценировка суда над табаком»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Ассамблея сказочных героев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экологической этики «Берегите землю» (2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 «Мы – будущие избиратели» (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Умники и умницы» (9-10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78E7-1969-4219-813F-BF8A2C84CE5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вместные собрания родителей и учащихся («Мост доверия от сердца к сердцу» 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частие классов в общешкольны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769A-E976-41AD-BA61-8929DF592D1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- наши союз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класс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ила безопасного поведения»(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зья разного происхождения» (2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ращение с деньгами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вязчивые идеи» (5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 воспитывать ответственность в ребенке» 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признание или чувство собственного достоинства» (7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углый стол» с родителями: «желаю» и «обязан» в педагогическом     союзе (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» дети – подростки: какие они?» (10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школь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частие родительской общественности в общешкольных и классных дел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ой турнир» (7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гра «Мой взгляд» (8 класс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 «Выборы в местную думу»(5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нь открытых дверей для родителей (1-4; 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43D1-A6C6-4B0D-AC6E-D6D40BA6352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6C85-F086-4748-B9D8-C14FA9589EA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ализ деятельности педколлектива по гражданско-правовому образованию учащих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и анализ воспитатель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ониторинг воспитательного процесса по направл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ченического колл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адаптированнос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дез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ланирование дальнейшей работы по результатам монитор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6C15-E226-4A3D-B7F4-DC0EFED9064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Calibri"/>
              </a:rPr>
              <a:t>(из опыта работы МОУ СОШ № 4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DAE8-5F18-4FDF-9E50-8C54B7F1E6D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1A43-6F01-4E63-AC73-C9A794425D4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 в рамках гражданско-правов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и семьями, находящимися в социально опасном по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–психолого-педагогическая поддержка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и предупреждение аддиктивного поведе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6DAB-C3BC-456C-A813-160924D14F2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чка отсчё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совет «Гражданско-правовое образование учащих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 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 воспит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иоритетных на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6F1F-AC33-4A18-8F96-4079F082E74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гражданско-правового образования учащихся МОУ СОШ № 4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я на 2006-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порт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для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 основных мероприяти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конечные результат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исполнением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200-F6EA-4DE0-8167-436D2F0234F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роприяти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ереподготовка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реализаци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6425-2D7E-4AF5-B6E2-7100EB2815F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4A53-151E-41D1-9DDE-04CE5A190B1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A703-01C1-46CB-8FFA-064275D18B5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FB0-FC35-4289-9BF7-BBA6EC53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EF0-9CE3-431C-AFD2-0F3FBA36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39E-F3AB-426E-B9AA-AECFB88C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B58-FDDB-41CE-B485-2E2307BD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54C8-64D1-46FD-B749-82DC3945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8D58-6B4F-48BB-B837-92BE6CCB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A64E-FEAB-412F-A662-8C3C0683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4B52-53BA-4414-A456-E71E2A5E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2971-9FF1-459B-A00E-07ADD849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120F-6745-4FC8-91AD-285147F6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FDD6-915C-47CE-9217-729C82D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AA9-8C87-46D2-BF11-FA112207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D74D-3C75-4088-85FA-21C99056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4C8C-3530-4238-A8A6-59724F0C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2F9B-1EDB-4817-99B2-0375F5BF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68F5-83DC-4326-83D4-53DF1C6C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D579-4B7E-4A5B-8B4B-10C3FBC3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16F-6354-4504-9359-774D76D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C4B-F228-478C-BB64-CE8E0EF6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13E-F1F3-4E78-A56C-D5AE336C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A40-C88F-4934-8153-5571E7FA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6CC-255C-4569-AD74-094E3B2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F34-97B8-477A-8A00-A68F6ED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CFF-BE80-4432-B4CB-51DD5F22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5FCA-6406-4259-9BE8-2DDB23D8F9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076C-1BE6-478C-B823-0FFEE494F91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ас приветству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едня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школа № 44  г.Ярослав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процессе обуч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мках изучения общеобразовательных предм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тория (5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ществознание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Ж(1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графия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ружающий мир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оведение (5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ература (5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имия (7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ение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офильное обучение(9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Факультативные курсы по предме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Работа школьного научного общества «Искател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Ежегодная школьная научно-практическая конференция «Открыт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спользование различных методов и форм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тфол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ная презен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о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лый 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южетно-роле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уссионный кл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ок-путешест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воспитательном процесс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деля правовых знаний» (1-11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Конвенции о правах ребенка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Воинской Славы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военно- патриотической работы «Слава защитникам Отечества!»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научно- практическая конференция «Открытие» (8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безопасности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лимпийские игры знаний» (5-8 кл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лан проведения Дней Конвенции в МОУ СОШ № 44 г. Ярославля с 30.10.07 по 12.12.07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е задачи проведения Дней Конвен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ышение у учащихся интереса к историческим событиям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правовой культуры и гражданской активности учащих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Организационная рабо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ление плана проведения Дней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ение стенда по Дням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ведение итогов Дней Конвенции на МО классных руководителей 1-11 клас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Работа с учащими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едиапродуктов «Памяти достойны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 Книги Памяти «Ярославцы - герои Отечества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ини-сочинений «Моя глава в Конституцию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-викторина «Я, ты, он, она – вместе дружная семья» (1-4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 по станциям «Наши права и обязанности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по теме «Когда мы едины» (1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– масок «Жизнь с улыбкой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плакатов «Права и свободы человека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педколлектив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родителя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тические классные час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Устав школ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комство с правилами поведения учащихс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и права и обязанно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праздники РФ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символы РФ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кон и правопорядо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олерантность и м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неклассные мероприятия и мероприятия по предмета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урнир знатаков права»(8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Инсценировка суда над табаком»(6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равовая Ассамблея сказочных героев» (3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ок экологической этики «Берегите землю» (2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левая игра «Мы – будущие избиратели» (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гра «Умники и умницы» (9-10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Совместные собрания родителей и учащихся («Мост доверия от сердца к сердцу» 8-9 кл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частие классов в общешкольных дел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одители - наши союз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Тематические класс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ила безопасного поведения»(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Друзья разного происхождения» (2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ращение с деньгами» (3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вязчивые идеи» (5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ак воспитывать ответственность в ребенке» (6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опризнание или чувство собственного достоинства» (7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руглый стол» с родителями: «желаю» и «обязан» в педагогическом     союзе (8-9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ши» дети – подростки: какие они?» (10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Общешколь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Участие родительской общественности в общешкольных и классных дел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овой турнир» (7 класс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овая игра «Мой взгляд» (8 класс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ловая игра «Выборы в местную думу»(5 клас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День открытых дверей для родителей (1-4; 5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118200" y="2819520"/>
            <a:ext cx="3025800" cy="609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ДН, КДН 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Киров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53080" y="4724280"/>
            <a:ext cx="175284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ВФЭ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Хрулё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0400" y="3429000"/>
            <a:ext cx="1905120" cy="12952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705720" y="5562720"/>
            <a:ext cx="198108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ащитни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714920" y="5143680"/>
            <a:ext cx="2071800" cy="17143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ко - психолог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и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28600" y="4724280"/>
            <a:ext cx="1752480" cy="12956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иновидеоцентр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600200" y="5562720"/>
            <a:ext cx="137160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04920" y="3886200"/>
            <a:ext cx="198108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 - филиал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80880" y="2895480"/>
            <a:ext cx="205740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Н.А. Некрас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457200" y="2057400"/>
            <a:ext cx="205740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124080" y="5410080"/>
            <a:ext cx="160020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дет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И.А. Крылов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819520" y="1905120"/>
            <a:ext cx="190476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Д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029200" y="1828800"/>
            <a:ext cx="121932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П №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477120" y="1752480"/>
            <a:ext cx="2271600" cy="10670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Д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ославской обла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95680" y="4419720"/>
            <a:ext cx="1524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26708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3733560" y="4572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0"/>
          <p:cNvSpPr/>
          <p:nvPr/>
        </p:nvSpPr>
        <p:spPr>
          <a:xfrm flipH="1" flipV="1">
            <a:off x="2590560" y="34286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7242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4724280" y="34290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2514600" y="27428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2437920" y="4495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400" y="4343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27"/>
          <p:cNvSpPr/>
          <p:nvPr/>
        </p:nvSpPr>
        <p:spPr>
          <a:xfrm flipV="1">
            <a:off x="449568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36196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5562720" y="3429000"/>
            <a:ext cx="358128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олого-медик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Ярославля («Лад», «Развитие» и др.)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4343400" y="4419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47242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7025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625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9325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7275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 деятельности педколлектива по гражданско-правовому образованию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ение и анализ воспитательных меропри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Мониторинг воспитательного процесса по направления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ученического коллекти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ая адаптированность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дез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омет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Планирование дальнейшей работы по результатам мониторин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(из опыта работы МОУ СОШ № 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ы воспитания, реализуемые в школ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оровьесберегающая программа «Мы выбираем жизнь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Ярославль тысячеликий» (к 1000-летию Ярослав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гражданско – правового образования «Я- гражданин Росси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Вместе дружная семья» (в рамках Года семьи 2008г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аправления работы в рамках гражданско-правово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 учащимися и семьями, находящимися в социально опасном полож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ико–психолого-педагогическая поддержка семь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илактика и предупреждение аддиктивного поведения учащих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очка отсчё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совет «Гражданско-правовое образование учащих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уждение тем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задач воспитательного 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приоритетных направл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724280" y="4495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259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грамма гражданско-правового образования учащихся МОУ СОШ № 44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г. Ярославля на 2006-2008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аспорт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именовани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шение для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азчик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полнители основных мероприятий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жидаемые конечные результат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исполнением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цели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мероприятий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б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спит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сихологическая служб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ка и переподготовка педагогических кад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ханизм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эффективност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 РФ «Об образован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щая декларация прав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 правах ребе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2120" y="2286000"/>
            <a:ext cx="1752480" cy="14479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еничес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914400" y="3962520"/>
            <a:ext cx="160020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ди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057400" y="5334120"/>
            <a:ext cx="22096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лассны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343400" y="5257800"/>
            <a:ext cx="220968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ителя-предметни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629400" y="4876920"/>
            <a:ext cx="15238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блиотекар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6172200" y="1905120"/>
            <a:ext cx="167652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ьны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нспек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2819520" y="1752480"/>
            <a:ext cx="2743200" cy="16765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дико-психологиче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луж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логопед, психолог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ач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029200" y="3124080"/>
            <a:ext cx="1447920" cy="7621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3200400" y="5029200"/>
            <a:ext cx="99072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62320" y="3429000"/>
            <a:ext cx="1676160" cy="457200"/>
          </a:xfrm>
          <a:prstGeom prst="line">
            <a:avLst/>
          </a:prstGeom>
          <a:ln w="2844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724280" y="4952880"/>
            <a:ext cx="1219320" cy="38124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6"/>
          <p:cNvSpPr/>
          <p:nvPr/>
        </p:nvSpPr>
        <p:spPr>
          <a:xfrm flipH="1" flipV="1">
            <a:off x="5334120" y="4571640"/>
            <a:ext cx="182880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29000" y="3733920"/>
            <a:ext cx="198108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410080" y="4114440"/>
            <a:ext cx="1371600" cy="1522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705720" y="3429000"/>
            <a:ext cx="1600200" cy="12193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едагог –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а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33:24Z</dcterms:created>
  <dc:creator>Пользователь</dc:creator>
  <dc:description/>
  <dc:language>en-US</dc:language>
  <cp:lastModifiedBy>LEGION</cp:lastModifiedBy>
  <dcterms:modified xsi:type="dcterms:W3CDTF">2015-01-28T10:20:18Z</dcterms:modified>
  <cp:revision>29</cp:revision>
  <dc:subject/>
  <dc:title>Вас приветствует</dc:title>
</cp:coreProperties>
</file>