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66D1A-9131-4B96-A216-D56529952BE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ас привет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Муниципальное образовательное учреж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Calibri"/>
              </a:rPr>
              <a:t>школа № 44  г.Ярослав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3FC-E3EE-4690-97F9-B0B05567756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процессе обуч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изучения общеобразовательных предме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(5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Ж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я (6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ий мир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оведение (5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 (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(7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ение (1-4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офильное обучение(9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акультативные курсы по предме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Работа школьного научного общества «Искател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Ежегодная школьная научно-практическая конференция «Открыти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B29F-7EAA-4DBE-A7E5-3D439728AD6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методов и форм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мин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е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тфоли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б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ая през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лый ст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южетно-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онный клу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ый журн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путеше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CE05-5716-46D6-9B0C-222C33717B3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 в воспитательном процесс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еделя правовых знаний» (1-11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Конвенции о правах ребенка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и Воинской Славы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военно- патриотической работы «Слава защитникам Отечества!»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 практическая конференция «Открытие» (8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ячник безопасности (1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лимпийские игры знаний» (5-8 кл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DE300-EC87-4E62-ABC7-E444E7A928C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лан проведения Дней Конвенции в МОУ СОШ № 44 г. Ярославля с 30.10.07 по 12.12.0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новные задачи проведения Дней Конвен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у учащихся интереса к историческим событиям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правовой культуры и гражданской активности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рганизационная раб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проведения Дней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формление стенда по Дням Конв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Дней Конвенции на МО классных руководителей 1-11 клас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Рабо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едиапродуктов «Памяти достойны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6B835-6D5E-426C-B13A-42491FDA47C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Книги Памяти «Ярославцы - герои Отечества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мини-сочинений «Моя глава в Конституцию» (5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-викторина «Я, ты, он, она – вместе дружная семья» (1-4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по станциям «Наши права и обязанности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по теме «Когда мы едины» (1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рисунков – масок «Жизнь с улыбкой» (5-8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с плакатов «Права и свободы человека» (9-11 классы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педколлективом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. Работа с родителями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5819-0100-4C31-BD0F-BF3EFF90D6B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тические классны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Устав 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 правилами поведения учащихс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 права и обязан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праздники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сударственные символы РФ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и правопоряд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олерантность и м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неклассные мероприятия и мероприятия по предмет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урнир знатаков права»(8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нсценировка суда над табаком»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Ассамблея сказочных героев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экологической этики «Берегите землю» (2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евая игра «Мы – будущие избиратели» (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а «Умники и умницы» (9-10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85A-4B07-4129-ABF7-58689260491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овместные собрания родителей и учащихся («Мост доверия от сердца к сердцу» 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Участие классов в общешкольных дел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909A-A63E-4732-96EC-3DBB66EECB8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Родители - наши союзн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Тематические класс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ила безопасного поведения»(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рузья разного происхождения» (2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ращение с деньгами» (3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вязчивые идеи» (5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ак воспитывать ответственность в ребенке» (6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признание или чувство собственного достоинства» (7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углый стол» с родителями: «желаю» и «обязан» в педагогическом     союзе (8-9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Наши» дети – подростки: какие они?» (10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щешкольные родительские 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частие родительской общественности в общешкольных и классных дел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ой турнир» (7 кла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игра «Мой взгляд» (8 класс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ая игра «Выборы в местную думу»(5 клас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День открытых дверей для родителей (1-4; 5-11 к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611D-1FA7-46B7-9F0E-66FACA68C0A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952A-E965-497B-967A-F2D094F6ABB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нализ деятельности педколлектива по гражданско-правовому образованию учащихс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ещение и анализ воспитательных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ониторинг воспитательного процесса по направления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ченического коллекти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адаптированнос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ая дезадап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мет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ланирование дальнейшей работы по результатам монитор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445E-6AB7-44AA-8F75-EBCED2E259A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ормирование гражданско-правовой культуры учащих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Calibri"/>
              </a:rPr>
              <a:t>(из опыта работы МОУ СОШ № 4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EBED-3D61-46A2-9613-40841725E42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3A01-21C8-4D9F-B3F9-4AF78B9C546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правления работы в рамках гражданско-правового 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ащимися и семьями, находящимися в социально опасном полож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ко–психолого-педагогическая поддержка семь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ка и предупреждение аддиктивного поведения учащих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670E8-DC25-427A-ADCD-5FD205EAE951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Точка отсчё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совет «Гражданско-правовое образование учащих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суждение т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 воспит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иоритетных направл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EF67-8F2F-4BA6-B960-BBC5C7DCF33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грамма гражданско-правового образования учащихся МОУ СОШ № 44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Ярославля на 2006-2008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спорт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именование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для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чик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разработк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ые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направления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и основных мероприяти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жидаемые конечные результат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исполнением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1757-5EE8-4E2B-8620-3463F7EE3B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ержание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и задач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реализации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ероприятий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служб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и переподготовка педагогических кад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реализаци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Програм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8460-3E7E-4EA6-9A92-45F4C7034D1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ормативно-правовая баз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ая декларац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80BA-209F-43BE-9641-3916A3194A5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A053-72F7-4964-88FE-ECEE53C0279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BFB-0AA6-4174-B9EC-4B4A429C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3C29-B2CC-481F-A800-083CD633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3703-3421-4EF6-8FA5-E999F3F23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12E-07B2-49E2-9BF0-5B404B362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2DC7-6687-4210-B433-76A3EC2D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EA17-A23D-4D3B-9388-82541292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DA7B6-2D66-47B5-AF2E-830AEA5D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96DA-C0D2-4732-A7DB-BCCCE2406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8939-FD96-4E8A-B780-D25B3EF32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6C54-AD42-442F-A425-8A8EB3C7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CAC0-A1C2-4228-8C2E-F9E84FAA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E6B0-0B31-4AF6-98CE-71387D4D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34CF9-8A93-4B88-8F28-B8939938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3288-A25B-4DB1-9D7F-B08D6461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B58C4-A7E6-4FCE-95BE-2173402E4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338C-5E31-4BCA-833C-DFCAEC7B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15DE-7662-44E8-BA99-E0CD8F7D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E7A-C729-408B-9E59-86AEAF1A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2895-7A49-4593-AFA9-40463014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5A1C-8317-4D1B-B50E-1BFBAB62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0613-8A71-4E33-882B-2D4A57D6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3E0-E485-420B-8006-7AE4A16D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D059-9465-4C8E-8285-7089E5A6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B250-E6BA-4F80-86C1-382413D6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55B6-F2EA-4BB7-BB1A-641F99A118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9DB44-0CF0-4CF0-AD05-180994D65B6F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Вас приветствуе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Муниципальное 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средняя общеобразовательна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школа № 44  г.Ярославля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87716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процессе обуч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мках изучения общеобразовательных предмет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тория (5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ществознание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Ж(1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графия (6-11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кружающий мир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родоведение (5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Литература (5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имия (7-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Чтение (1-4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Профильное обучение(9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 Факультативные курсы по предметам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. Работа школьного научного общества «Искател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5. Ежегодная школьная научно-практическая конференция «Открытие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Использование различных методов и форм</a:t>
            </a: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в урочной и внеурочной деятельности при формировании гражданско-правовой культуры учащихся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ина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ферен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ртфолио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ба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ная презен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о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руглый сто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южетно-ролевая игр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уссионный клу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стный журна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рок-путешест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 в воспитательном процессе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Неделя правовых знаний» (1-11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Конвенции о правах ребенка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ни Воинской Славы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военно- патриотической работы «Слава защитникам Отечества!»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научно- практическая конференция «Открытие» (8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сячник безопасности (1-11 кл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лимпийские игры знаний» (5-8 кл.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лан проведения Дней Конвенции в МОУ СОШ № 44 г. Ярославля с 30.10.07 по 12.12.07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сновные задачи проведения Дней Конвенци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ышение у учащихся интереса к историческим событиям 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Формирование правовой культуры и гражданской активности учащихс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оспитание у учащихся чувства патриотизма, толерантности, уважения к прошлому страны, к памяти народа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Организационная работ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оставление плана проведения Дней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формление стенда по Дням Конвен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дведение итогов Дней Конвенции на МО классных руководителей 1-11 клас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. Работа с учащимис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классные часы в 1-11 классах «Мы разные люди, но вместе живем на планете Земля», «Мои права и обязанности»(5-8 классы), «Конституция – главный закон жизни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кольная научно-практическая конференция на тему «Смутное время и Ярославль»(8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-77220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едиапродуктов «Памяти достойны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77220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1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езентация Книги Памяти «Ярославцы - герои Отечества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мини-сочинений «Моя глава в Конституцию» (5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-викторина «Я, ты, он, она – вместе дружная семья» (1-4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Игра по станциям «Наши права и обязанности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по теме «Когда мы едины» (1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рисунков – масок «Жизнь с улыбкой» (5-8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курс плакатов «Права и свободы человека» (9-11 классы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педколлективом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Заседание МО классных руководителей 1-11 классов по теме «Работа педколлектива по гражданско-правовому воспитанию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V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. Работа с родителя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Тематические родительские собрания в 1-11 классах (Конвенция о правах ребенка, о толерантности, о Конституции и др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1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абота классных руководителей с классными коллективами по формированию гражданско-правовой культуры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матические классные час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Устав школ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накомство с правилами поведения учащихся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Наши права и обязанности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праздники РФ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Государственные символы РФ»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Закон и правопорядок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олерантность и мы»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неклассные мероприятия и мероприятия по предметам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Турнир знатаков права»(8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Инсценировка суда над табаком»(6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«Правовая Ассамблея сказочных героев» (3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рок экологической этики «Берегите землю» (2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олевая игра «Мы – будущие избиратели» (11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гра «Умники и умницы» (9-10 кл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1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1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1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71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. Совместные собрания родителей и учащихся («Мост доверия от сердца к сердцу» 8-9 кл.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Участие классов в общешкольных дел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Индивидуальная работа с учащимися и семьями, находящимися в социально опасном положен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Профилактическая работа с учащимися, направленная на предупреждение правонарушений,  употребления  ПА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Тематические беседы для учащихся с приглашением специалистов(юрист, врач, психолог,  школьный инспектор и др.).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Родители - наши союзник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. Тематические класс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ила безопасного поведения»(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Друзья разного происхождения» (2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Обращение с деньгами» (3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вязчивые идеи» (5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ак воспитывать ответственность в ребенке» (6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амопризнание или чувство собственного достоинства» (7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Круглый стол» с родителями: «желаю» и «обязан» в педагогическом     союзе (8-9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Наши» дети – подростки: какие они?» (10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. Общешкольные родительские собр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. Участие родительской общественности в общешкольных и классных дела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«Правовой турнир» (7 класс)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авовая игра «Мой взгляд» (8 класс)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-572760">
              <a:lnSpc>
                <a:spcPct val="9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Деловая игра «Выборы в местную думу»(5 класс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. День открытых дверей для родителей (1-4; 5-11 кл.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. Совместные заседания общественного родительского комитета , администрации школы и совета школы для решения и обсуждения задач воспитания и образования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5727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nodeType="clickEffect" fill="hold">
                      <p:stCondLst>
                        <p:cond delay="indefinite"/>
                      </p:stCondLst>
                      <p:childTnLst>
                        <p:par>
                          <p:cTn id="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1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7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оспитательно-образовательное пространство школы №44, способствующее формированию гражданско-правовой культуры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AutoShape 3"/>
          <p:cNvSpPr/>
          <p:nvPr/>
        </p:nvSpPr>
        <p:spPr>
          <a:xfrm>
            <a:off x="6118200" y="2819520"/>
            <a:ext cx="3025800" cy="6094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ДН, КДН 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Киров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AutoShape 4"/>
          <p:cNvSpPr/>
          <p:nvPr/>
        </p:nvSpPr>
        <p:spPr>
          <a:xfrm>
            <a:off x="6553080" y="4724280"/>
            <a:ext cx="175284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ВФЭ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Хрулё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AutoShape 5"/>
          <p:cNvSpPr/>
          <p:nvPr/>
        </p:nvSpPr>
        <p:spPr>
          <a:xfrm>
            <a:off x="3200400" y="3429000"/>
            <a:ext cx="1905120" cy="1295280"/>
          </a:xfrm>
          <a:prstGeom prst="irregularSeal2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ко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AutoShape 6"/>
          <p:cNvSpPr/>
          <p:nvPr/>
        </p:nvSpPr>
        <p:spPr>
          <a:xfrm>
            <a:off x="6705720" y="5562720"/>
            <a:ext cx="198108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Защитник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AutoShape 7"/>
          <p:cNvSpPr/>
          <p:nvPr/>
        </p:nvSpPr>
        <p:spPr>
          <a:xfrm>
            <a:off x="4714920" y="5143680"/>
            <a:ext cx="2071800" cy="17143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ск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едико - психолог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ие цен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AutoShape 8"/>
          <p:cNvSpPr/>
          <p:nvPr/>
        </p:nvSpPr>
        <p:spPr>
          <a:xfrm>
            <a:off x="228600" y="4724280"/>
            <a:ext cx="1752480" cy="12956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Киновидеоцентр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AutoShape 9"/>
          <p:cNvSpPr/>
          <p:nvPr/>
        </p:nvSpPr>
        <p:spPr>
          <a:xfrm>
            <a:off x="1600200" y="5562720"/>
            <a:ext cx="137160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чрежден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ульту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AutoShape 10"/>
          <p:cNvSpPr/>
          <p:nvPr/>
        </p:nvSpPr>
        <p:spPr>
          <a:xfrm>
            <a:off x="304920" y="3886200"/>
            <a:ext cx="198108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 - филиал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AutoShape 11"/>
          <p:cNvSpPr/>
          <p:nvPr/>
        </p:nvSpPr>
        <p:spPr>
          <a:xfrm>
            <a:off x="380880" y="2895480"/>
            <a:ext cx="205740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Н.А. Некрасов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AutoShape 12"/>
          <p:cNvSpPr/>
          <p:nvPr/>
        </p:nvSpPr>
        <p:spPr>
          <a:xfrm>
            <a:off x="457200" y="2057400"/>
            <a:ext cx="2057400" cy="7621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Ц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Перспектива»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AutoShape 13"/>
          <p:cNvSpPr/>
          <p:nvPr/>
        </p:nvSpPr>
        <p:spPr>
          <a:xfrm>
            <a:off x="3124080" y="5410080"/>
            <a:ext cx="1600200" cy="144792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л. детска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блиоте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м. И.А. Крылова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AutoShape 14"/>
          <p:cNvSpPr/>
          <p:nvPr/>
        </p:nvSpPr>
        <p:spPr>
          <a:xfrm>
            <a:off x="2819520" y="1905120"/>
            <a:ext cx="1904760" cy="91440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ДТ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енинского райо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AutoShape 15"/>
          <p:cNvSpPr/>
          <p:nvPr/>
        </p:nvSpPr>
        <p:spPr>
          <a:xfrm>
            <a:off x="5029200" y="1828800"/>
            <a:ext cx="1219320" cy="8380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П №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AutoShape 16"/>
          <p:cNvSpPr/>
          <p:nvPr/>
        </p:nvSpPr>
        <p:spPr>
          <a:xfrm>
            <a:off x="6477120" y="1752480"/>
            <a:ext cx="2271600" cy="106704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БДД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Ярославской обла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Line 17"/>
          <p:cNvSpPr/>
          <p:nvPr/>
        </p:nvSpPr>
        <p:spPr>
          <a:xfrm>
            <a:off x="4495680" y="4419720"/>
            <a:ext cx="15242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Line 18"/>
          <p:cNvSpPr/>
          <p:nvPr/>
        </p:nvSpPr>
        <p:spPr>
          <a:xfrm>
            <a:off x="4267080" y="449568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19"/>
          <p:cNvSpPr/>
          <p:nvPr/>
        </p:nvSpPr>
        <p:spPr>
          <a:xfrm flipH="1">
            <a:off x="3733560" y="457200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Line 20"/>
          <p:cNvSpPr/>
          <p:nvPr/>
        </p:nvSpPr>
        <p:spPr>
          <a:xfrm flipH="1" flipV="1">
            <a:off x="2590560" y="3428640"/>
            <a:ext cx="9903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Line 21"/>
          <p:cNvSpPr/>
          <p:nvPr/>
        </p:nvSpPr>
        <p:spPr>
          <a:xfrm flipV="1">
            <a:off x="4724280" y="2819520"/>
            <a:ext cx="15242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Line 22"/>
          <p:cNvSpPr/>
          <p:nvPr/>
        </p:nvSpPr>
        <p:spPr>
          <a:xfrm flipV="1">
            <a:off x="396252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23"/>
          <p:cNvSpPr/>
          <p:nvPr/>
        </p:nvSpPr>
        <p:spPr>
          <a:xfrm flipV="1">
            <a:off x="4724280" y="34290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Line 24"/>
          <p:cNvSpPr/>
          <p:nvPr/>
        </p:nvSpPr>
        <p:spPr>
          <a:xfrm flipH="1" flipV="1">
            <a:off x="2514600" y="2742840"/>
            <a:ext cx="1447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25"/>
          <p:cNvSpPr/>
          <p:nvPr/>
        </p:nvSpPr>
        <p:spPr>
          <a:xfrm flipH="1">
            <a:off x="2437920" y="4495680"/>
            <a:ext cx="11430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Line 26"/>
          <p:cNvSpPr/>
          <p:nvPr/>
        </p:nvSpPr>
        <p:spPr>
          <a:xfrm flipH="1">
            <a:off x="2057400" y="4343400"/>
            <a:ext cx="1371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27"/>
          <p:cNvSpPr/>
          <p:nvPr/>
        </p:nvSpPr>
        <p:spPr>
          <a:xfrm flipV="1">
            <a:off x="4495680" y="281952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Line 28"/>
          <p:cNvSpPr/>
          <p:nvPr/>
        </p:nvSpPr>
        <p:spPr>
          <a:xfrm flipH="1">
            <a:off x="2361960" y="4114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AutoShape 29"/>
          <p:cNvSpPr/>
          <p:nvPr/>
        </p:nvSpPr>
        <p:spPr>
          <a:xfrm>
            <a:off x="5562720" y="3429000"/>
            <a:ext cx="3581280" cy="1295280"/>
          </a:xfrm>
          <a:prstGeom prst="flowChartMulti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ентр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сихолого-медико-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дагогической помощ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.Ярославля («Лад», «Развитие» и др.)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Line 30"/>
          <p:cNvSpPr/>
          <p:nvPr/>
        </p:nvSpPr>
        <p:spPr>
          <a:xfrm>
            <a:off x="4343400" y="4419720"/>
            <a:ext cx="22096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31"/>
          <p:cNvSpPr/>
          <p:nvPr/>
        </p:nvSpPr>
        <p:spPr>
          <a:xfrm>
            <a:off x="4724280" y="3962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indefinite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875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2075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nodeType="afterEffect" fill="hold">
                            <p:stCondLst>
                              <p:cond delay="3575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7025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95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4" nodeType="afterEffect" fill="hold">
                            <p:stCondLst>
                              <p:cond delay="8900"/>
                            </p:stCondLst>
                            <p:childTnLst>
                              <p:par>
                                <p:cTn id="95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0625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0" nodeType="afterEffect" fill="hold">
                            <p:stCondLst>
                              <p:cond delay="13625"/>
                            </p:stCondLst>
                            <p:childTnLst>
                              <p:par>
                                <p:cTn id="96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19325"/>
                            </p:stCondLst>
                            <p:childTnLst>
                              <p:par>
                                <p:cTn id="96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6" nodeType="afterEffect" fill="hold">
                            <p:stCondLst>
                              <p:cond delay="20450"/>
                            </p:stCondLst>
                            <p:childTnLst>
                              <p:par>
                                <p:cTn id="96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9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4650"/>
                            </p:stCondLst>
                            <p:childTnLst>
                              <p:par>
                                <p:cTn id="97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27275"/>
                            </p:stCondLst>
                            <p:childTnLst>
                              <p:par>
                                <p:cTn id="97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Анализ деятельности педколлектива по гражданско-правовому образованию учащихс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ещение и анализ воспитательных мероприят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суждение вопросов гражданско-правового образования учащихся на педсоветах, МО классных руководителей, производственных и административных совеща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. Мониторинг воспитательного процесса по направлениям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витие ученического коллектив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альная адаптированность учащих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ая дезадаптац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-5788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циометр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. Планирование дальнейшей работы по результатам мониторинг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78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nodeType="clickEffect" fill="hold">
                      <p:stCondLst>
                        <p:cond delay="indefinite"/>
                      </p:stCondLst>
                      <p:childTnLst>
                        <p:par>
                          <p:cTn id="1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nodeType="clickEffect" fill="hold">
                      <p:stCondLst>
                        <p:cond delay="indefinite"/>
                      </p:stCondLst>
                      <p:childTnLst>
                        <p:par>
                          <p:cTn id="1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Формирование гражданско-правовой культуры учащихс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ahoma"/>
              </a:rPr>
              <a:t>(из опыта работы МОУ СОШ № 4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ПАСИБО ЗА ВНИМАНИЕ 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Программы воспитания, реализуемые в школе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доровьесберегающая программа «Мы выбираем жизнь!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Ярославль тысячеликий» (к 1000-летию Ярославля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гражданско – правового образования «Я- гражданин России.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грамма «Вместе дружная семья» (в рамках Года семьи 2008г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аправления работы в рамках гражданско-правового образова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 учащимися и семьями, находящимися в социально опасном положен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дико–психолого-педагогическая поддержка семь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филактика и предупреждение аддиктивного поведения учащих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Точка отсчёт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совещание «От гражданского образования к демократической школе или как нам воспитать гражданина?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дсовет «Гражданско-правовое образование учащихся»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суждение тем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ановка задач воспитательного процесс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приоритетных направл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нирование работ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тавление Программы гражданско-правового образования учащихся МОУ СОШ № 44 на 2006-2008 год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724280" y="449568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4724280" y="2590920"/>
            <a:ext cx="228600" cy="4572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Программа гражданско-правового образования учащихся МОУ СОШ № 44 </a:t>
            </a:r>
            <a:br>
              <a:rPr sz="2400"/>
            </a:b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г. Ярославля на 2006-2008 г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Паспорт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именование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шение для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Заказчик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разработк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евые групп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направления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полнители основных мероприятий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жидаемые конечные результат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нтроль за исполнением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одержание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ведение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сновные цели и задач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Этапы реализации Программы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истема мероприятий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чеб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оспитательная деятельност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сихологическая служб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дготовка и переподготовка педагогических кадр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еханизм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ценка эффективности Программы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Нормативно-правовая база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ституция Р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кон РФ «Об образовании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сеобщая декларация прав челове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 правах ребе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венция ООН о правах человека, с рекомендациями ЮНЕСКО относительно перспектив развития образования в мир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пция модернизации российского образования на период до 2010 года. (Приказ. Минобразования РФ от 11 февраля 2002 года №1756-р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кументы государственного и регионального уровня по гражданско-правовому образованию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Взаимодействие педагогов, родителей и учащихся в учебно-воспитательном процессе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762120" y="2286000"/>
            <a:ext cx="1752480" cy="14479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еническог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амоуправле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4"/>
          <p:cNvSpPr/>
          <p:nvPr/>
        </p:nvSpPr>
        <p:spPr>
          <a:xfrm>
            <a:off x="914400" y="3962520"/>
            <a:ext cx="160020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одитель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бщественност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Oval 5"/>
          <p:cNvSpPr/>
          <p:nvPr/>
        </p:nvSpPr>
        <p:spPr>
          <a:xfrm>
            <a:off x="2057400" y="5334120"/>
            <a:ext cx="22096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лассных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уководител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6"/>
          <p:cNvSpPr/>
          <p:nvPr/>
        </p:nvSpPr>
        <p:spPr>
          <a:xfrm>
            <a:off x="4343400" y="5257800"/>
            <a:ext cx="2209680" cy="137160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чителя-предметник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Oval 7"/>
          <p:cNvSpPr/>
          <p:nvPr/>
        </p:nvSpPr>
        <p:spPr>
          <a:xfrm>
            <a:off x="6629400" y="4876920"/>
            <a:ext cx="1523880" cy="121896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блиотекарь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Oval 8"/>
          <p:cNvSpPr/>
          <p:nvPr/>
        </p:nvSpPr>
        <p:spPr>
          <a:xfrm>
            <a:off x="6172200" y="1905120"/>
            <a:ext cx="167652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Школьный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инспек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9"/>
          <p:cNvSpPr/>
          <p:nvPr/>
        </p:nvSpPr>
        <p:spPr>
          <a:xfrm>
            <a:off x="2819520" y="1752480"/>
            <a:ext cx="2743200" cy="16765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едико-психологическа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лужб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(логопед, психолог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рач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10"/>
          <p:cNvSpPr/>
          <p:nvPr/>
        </p:nvSpPr>
        <p:spPr>
          <a:xfrm>
            <a:off x="2514600" y="4648320"/>
            <a:ext cx="1219320" cy="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Line 11"/>
          <p:cNvSpPr/>
          <p:nvPr/>
        </p:nvSpPr>
        <p:spPr>
          <a:xfrm flipH="1">
            <a:off x="5029200" y="3124080"/>
            <a:ext cx="1447920" cy="7621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Line 12"/>
          <p:cNvSpPr/>
          <p:nvPr/>
        </p:nvSpPr>
        <p:spPr>
          <a:xfrm flipH="1">
            <a:off x="3200400" y="5029200"/>
            <a:ext cx="99072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362320" y="3429000"/>
            <a:ext cx="1676160" cy="457200"/>
          </a:xfrm>
          <a:prstGeom prst="line">
            <a:avLst/>
          </a:prstGeom>
          <a:ln w="2844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4724280" y="4952880"/>
            <a:ext cx="1219320" cy="38124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Line 15"/>
          <p:cNvSpPr/>
          <p:nvPr/>
        </p:nvSpPr>
        <p:spPr>
          <a:xfrm>
            <a:off x="4343400" y="3429000"/>
            <a:ext cx="0" cy="3808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Line 16"/>
          <p:cNvSpPr/>
          <p:nvPr/>
        </p:nvSpPr>
        <p:spPr>
          <a:xfrm flipH="1" flipV="1">
            <a:off x="5334120" y="4571640"/>
            <a:ext cx="1828800" cy="30492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Oval 17"/>
          <p:cNvSpPr/>
          <p:nvPr/>
        </p:nvSpPr>
        <p:spPr>
          <a:xfrm>
            <a:off x="3429000" y="3733920"/>
            <a:ext cx="1981080" cy="129528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Администрац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кол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5410080" y="4114440"/>
            <a:ext cx="1371600" cy="152280"/>
          </a:xfrm>
          <a:prstGeom prst="line">
            <a:avLst/>
          </a:prstGeom>
          <a:ln w="9360">
            <a:solidFill>
              <a:srgbClr val="fcc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Oval 19"/>
          <p:cNvSpPr/>
          <p:nvPr/>
        </p:nvSpPr>
        <p:spPr>
          <a:xfrm>
            <a:off x="6705720" y="3429000"/>
            <a:ext cx="1600200" cy="1219320"/>
          </a:xfrm>
          <a:prstGeom prst="ellipse">
            <a:avLst/>
          </a:prstGeom>
          <a:solidFill>
            <a:srgbClr val="fff1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Педагог –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организатор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9:33:24Z</dcterms:created>
  <dc:creator>Пользователь</dc:creator>
  <dc:description/>
  <dc:language>en-US</dc:language>
  <cp:lastModifiedBy>LEGION</cp:lastModifiedBy>
  <dcterms:modified xsi:type="dcterms:W3CDTF">2015-01-28T10:20:18Z</dcterms:modified>
  <cp:revision>29</cp:revision>
  <dc:subject/>
  <dc:title>Вас приветствует</dc:title>
</cp:coreProperties>
</file>