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24DD-D6B7-48C2-9203-737DFB2104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с приве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Муниципа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школа № 44  г.Яросла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FE7C-5FF2-45FF-99D0-2C0F67A3B85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процессе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изучения общеобразовательных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(5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Ж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оведение (5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(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(7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фильное обучение(9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акультативные курсы по предм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абота школьного научного общества «Иска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жегодная школьная научно-практическая конференция «Открыт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1ED7-6610-4EF6-902F-B8B98873E81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методов и форм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б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южетно-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онный кл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ый жур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00DC-E72A-4FC2-BE48-518C8989DFB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воспитательном процесс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деля правовых знаний» 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Конвенции о правах ребенка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Воинской Славы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военно- патриотической работы «Слава защитникам Отечества!»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 практическая конференция «Открытие» (8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безопасности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импийские игры знаний» (5-8 кл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C453-752F-4178-8A43-8AB9D6190B3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 проведения Дней Конвенции в МОУ СОШ № 44 г. Ярославля с 30.10.07 по 12.12.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дачи проведения Дней Конв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 учащихся интереса к историческим события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и гражданской актив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рганизацион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проведения Дней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стенда по Дням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Дней Конвенции на МО классных руководителей 1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едиапродуктов «Памяти достойны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A8A5-4CE3-40B1-B25F-8B423B978EC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ниги Памяти «Ярославцы - герои Отечества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ини-сочинений «Моя глава в Конституцию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-викторина «Я, ты, он, она – вместе дружная семья» (1-4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по станциям «Наши права и обязанности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по теме «Когда мы едины» (1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– масок «Жизнь с улыбкой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ов «Права и свободы человека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педколлекти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родителя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867B-2A52-4EC7-BFDE-1D148ACB328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став 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правилами поведения уча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 права и обяза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праздники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символы РФ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и правопоряд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лерантность и 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неклассные мероприятия и мероприятия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урнир знатаков права»(8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сценировка суда над табаком»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Ассамблея сказочных героев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экологической этики «Берегите землю» (2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 «Мы – будущие избиратели» (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Умники и умницы» (9-10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A19D-537B-4C9A-9246-4A923ADF7F5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вместные собрания родителей и учащихся («Мост доверия от сердца к сердцу» 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частие классов в общешкольны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16E4-39FF-43E2-9EE7-B2CA43D3F1A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 - наши союз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класс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ила безопасного поведения»(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зья разного происхождения» (2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ращение с деньгами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вязчивые идеи» (5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к воспитывать ответственность в ребенке» 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признание или чувство собственного достоинства» (7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углый стол» с родителями: «желаю» и «обязан» в педагогическом     союзе (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» дети – подростки: какие они?» (10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школь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частие родительской общественности в общешкольных и классных дел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ой турнир» (7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гра «Мой взгляд» (8 класс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 «Выборы в местную думу»(5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нь открытых дверей для родителей (1-4; 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39B8-3F26-4549-BC9B-BAFA0FC2B54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6608-001B-4846-9240-2A88C40201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ализ деятельности педколлектива по гражданско-правовому образованию учащих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и анализ воспитатель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ониторинг воспитательного процесса по направл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ченического колл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адаптированнос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дез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ланирование дальнейшей работы по результатам монитор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2593-A832-40F0-809B-2FBAC57CE63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Calibri"/>
              </a:rPr>
              <a:t>(из опыта работы МОУ СОШ № 4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412B-7289-41E3-91F6-424CFE58892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D8B9-3D11-40DC-BB2C-52334604ADA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 в рамках гражданско-правов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и семьями, находящимися в социально опасном по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–психолого-педагогическая поддержка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и предупреждение аддиктивного поведе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3FA3-F643-49A6-B685-504F553E6CC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чка отсчё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совет «Гражданско-правовое образование учащих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ение 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 воспит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иоритетных на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F8D4-0FF0-48DA-A259-CF993AB12B1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гражданско-правового образования учащихся МОУ СОШ № 44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Ярославля на 2006-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порт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для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 основных мероприяти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конечные результат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исполнением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F5E1-9A12-45DA-B76C-01A7C331B5A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роприяти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ереподготовка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реализаци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AEB8-2A56-4BB2-8B69-47EA0EACE76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ормативно-прав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2456-DEAE-43FB-86C0-3554FAC035A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47B0-FCB9-4544-B31E-9FE2D31D279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2E8-7665-4695-865E-FF1ACFE3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5DA-2E76-4DED-A8E7-AA879905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447-D9D8-48C3-AE4E-1F9E9195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42C-D00B-4E64-9535-EA924A52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8488-0047-4714-BC8F-80432797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4C7F-DE1F-40C5-B5ED-04F1A7D9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EA21-434E-4422-AE0B-EE53444C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B829-620A-4AE8-BD50-1E6DBA93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1AB3-DA6E-410E-8ACB-14B71C6B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D453-7ED7-4B38-9DA8-F0CCB806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FC1B-2844-4F07-A859-2722FBC6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646-52CC-431D-8336-A65A5451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3FB8-E865-4EDF-B3DB-9167509F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8B4B-B7CC-4992-A508-96106229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97D7-BA0A-4CB8-8288-315F04DB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D976-53E8-490C-9C2F-C91C1B26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CE9A-6DBC-4F24-BB76-1FD8FA3A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923-F9C8-42AF-B869-CA6795BF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5C3-768B-4F2B-8C26-8458DD32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884-D960-4E2B-B992-4E141C91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178-A770-46E1-893E-FC8467AB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5C2-2A40-4654-B594-DEFFDC80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978-8F88-4973-A204-20F7AE1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FF1-2AEB-414E-B6D0-B9EDD529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EED7-FE42-4638-B89E-9A0083075E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F9F7-540C-4EB3-89DE-2E62E767C08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ас приветству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Муниципальное 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редня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школа № 44  г.Ярослав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877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процессе обуч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амках изучения общеобразовательных предме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тория (5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ществознание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Ж(1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графия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кружающий мир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родоведение (5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итература (5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имия (7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тение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Профильное обучение(9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Факультативные курсы по предмет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 Работа школьного научного общества «Искател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 Ежегодная школьная научно-практическая конференция «Открытие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спользование различных методов и форм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тфоли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б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ная презен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о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глый 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южетно-роле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скуссионный кл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ный жур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ок-путешест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воспитательном процесс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деля правовых знаний» (1-11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Конвенции о правах ребенка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Воинской Славы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военно- патриотической работы «Слава защитникам Отечества!»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научно- практическая конференция «Открытие» (8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безопасности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лимпийские игры знаний» (5-8 кл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лан проведения Дней Конвенции в МОУ СОШ № 44 г. Ярославля с 30.10.07 по 12.12.07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сновные задачи проведения Дней Конвен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вышение у учащихся интереса к историческим событиям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ормирование правовой культуры и гражданской активности учащих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Организационная рабо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ление плана проведения Дней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формление стенда по Дням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ведение итогов Дней Конвенции на МО классных руководителей 1-11 клас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Работа с учащими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едиапродуктов «Памяти достойны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зентация Книги Памяти «Ярославцы - герои Отечества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ини-сочинений «Моя глава в Конституцию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-викторина «Я, ты, он, она – вместе дружная семья» (1-4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 по станциям «Наши права и обязанности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по теме «Когда мы едины» (1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– масок «Жизнь с улыбкой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плакатов «Права и свободы человека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педколлектив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родителя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матические классные час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Устав школ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накомство с правилами поведения учащихс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Наши права и обязаннос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праздники РФ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символы РФ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Закон и правопорядо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олерантность и м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Внеклассные мероприятия и мероприятия по предмета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урнир знатаков права»(8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Инсценировка суда над табаком»(6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равовая Ассамблея сказочных героев» (3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рок экологической этики «Берегите землю» (2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левая игра «Мы – будущие избиратели» (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гра «Умники и умницы» (9-10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Совместные собрания родителей и учащихся («Мост доверия от сердца к сердцу» 8-9 кл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частие классов в общешкольных дел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одители - наши союзн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Тематические класс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ила безопасного поведения»(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Друзья разного происхождения» (2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ращение с деньгами» (3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вязчивые идеи» (5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ак воспитывать ответственность в ребенке» (6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мопризнание или чувство собственного достоинства» (7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руглый стол» с родителями: «желаю» и «обязан» в педагогическом     союзе (8-9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ши» дети – подростки: какие они?» (10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Общешколь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Участие родительской общественности в общешкольных и классных дела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овой турнир» (7 класс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авовая игра «Мой взгляд» (8 класс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еловая игра «Выборы в местную думу»(5 класс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День открытых дверей для родителей (1-4; 5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6118200" y="2819520"/>
            <a:ext cx="3025800" cy="6094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ДН, КДН 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Киров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553080" y="4724280"/>
            <a:ext cx="175284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ВФЭ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Хрулё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200400" y="3429000"/>
            <a:ext cx="1905120" cy="12952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705720" y="5562720"/>
            <a:ext cx="198108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ащитник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714920" y="5143680"/>
            <a:ext cx="2071800" cy="17143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ск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дико - психолог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и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228600" y="4724280"/>
            <a:ext cx="1752480" cy="12956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Киновидеоцентр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600200" y="5562720"/>
            <a:ext cx="137160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04920" y="3886200"/>
            <a:ext cx="198108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 - филиал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80880" y="2895480"/>
            <a:ext cx="205740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Н.А. Некрасо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457200" y="2057400"/>
            <a:ext cx="205740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Ц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124080" y="5410080"/>
            <a:ext cx="1600200" cy="14479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дет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И.А. Крылов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2819520" y="1905120"/>
            <a:ext cx="190476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Д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5029200" y="1828800"/>
            <a:ext cx="121932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ОП №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6477120" y="1752480"/>
            <a:ext cx="2271600" cy="10670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Д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рославской обла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95680" y="4419720"/>
            <a:ext cx="1524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26708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9"/>
          <p:cNvSpPr/>
          <p:nvPr/>
        </p:nvSpPr>
        <p:spPr>
          <a:xfrm flipH="1">
            <a:off x="3733560" y="45720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0"/>
          <p:cNvSpPr/>
          <p:nvPr/>
        </p:nvSpPr>
        <p:spPr>
          <a:xfrm flipH="1" flipV="1">
            <a:off x="2590560" y="342864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4724280" y="28195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2"/>
          <p:cNvSpPr/>
          <p:nvPr/>
        </p:nvSpPr>
        <p:spPr>
          <a:xfrm flipV="1">
            <a:off x="39625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4724280" y="34290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2514600" y="27428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2437920" y="44956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2057400" y="4343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27"/>
          <p:cNvSpPr/>
          <p:nvPr/>
        </p:nvSpPr>
        <p:spPr>
          <a:xfrm flipV="1">
            <a:off x="4495680" y="28195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36196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5562720" y="3429000"/>
            <a:ext cx="358128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сихолого-медик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Ярославля («Лад», «Развитие» и др.)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4343400" y="4419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47242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7025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625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3625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9325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27275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Анализ деятельности педколлектива по гражданско-правовому образованию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щение и анализ воспитательных мероприя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Мониторинг воспитательного процесса по направления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ученического коллекти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ая адаптированность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дезадап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омет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Планирование дальнейшей работы по результатам мониторин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(из опыта работы МОУ СОШ № 4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граммы воспитания, реализуемые в школ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оровьесберегающая программа «Мы выбираем жизнь!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Ярославль тысячеликий» (к 1000-летию Ярослав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гражданско – правового образования «Я- гражданин России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Вместе дружная семья» (в рамках Года семьи 2008г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аправления работы в рамках гражданско-правового образ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 учащимися и семьями, находящимися в социально опасном полож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ико–психолого-педагогическая поддержка семь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илактика и предупреждение аддиктивного поведения учащих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Точка отсчё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совет «Гражданско-правовое образование учащихс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суждение тем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ка задач воспитательного проце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приоритетных направл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нировани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724280" y="4495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724280" y="2590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ограмма гражданско-правового образования учащихся МОУ СОШ № 44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г. Ярославля на 2006-2008 г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аспорт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именовани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шение для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азчик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направления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полнители основных мероприятий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жидаемые конечные результат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троль за исполнением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держание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цели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мероприятий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еб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спит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сихологическая служб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готовка и переподготовка педагогических кадр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ханизм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ценка эффективност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ормативно-правовая баз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я Р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 РФ «Об образовани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общая декларация прав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 правах ребе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62120" y="2286000"/>
            <a:ext cx="1752480" cy="14479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еничес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914400" y="3962520"/>
            <a:ext cx="160020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дитель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ществен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057400" y="5334120"/>
            <a:ext cx="22096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лассны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уководител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343400" y="5257800"/>
            <a:ext cx="220968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ителя-предметни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629400" y="4876920"/>
            <a:ext cx="15238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блиотекар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6172200" y="1905120"/>
            <a:ext cx="167652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ьный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нспек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2819520" y="1752480"/>
            <a:ext cx="2743200" cy="16765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едико-психологиче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лужб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(логопед, психолог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ач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5029200" y="3124080"/>
            <a:ext cx="1447920" cy="7621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3200400" y="5029200"/>
            <a:ext cx="99072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362320" y="3429000"/>
            <a:ext cx="1676160" cy="457200"/>
          </a:xfrm>
          <a:prstGeom prst="line">
            <a:avLst/>
          </a:prstGeom>
          <a:ln w="2844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724280" y="4952880"/>
            <a:ext cx="1219320" cy="38124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4343400" y="3429000"/>
            <a:ext cx="0" cy="3808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6"/>
          <p:cNvSpPr/>
          <p:nvPr/>
        </p:nvSpPr>
        <p:spPr>
          <a:xfrm flipH="1" flipV="1">
            <a:off x="5334120" y="4571640"/>
            <a:ext cx="182880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429000" y="3733920"/>
            <a:ext cx="198108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5410080" y="4114440"/>
            <a:ext cx="1371600" cy="1522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705720" y="3429000"/>
            <a:ext cx="1600200" cy="12193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едагог –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иза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33:24Z</dcterms:created>
  <dc:creator>Пользователь</dc:creator>
  <dc:description/>
  <dc:language>en-US</dc:language>
  <cp:lastModifiedBy>LEGION</cp:lastModifiedBy>
  <dcterms:modified xsi:type="dcterms:W3CDTF">2015-01-28T10:20:18Z</dcterms:modified>
  <cp:revision>29</cp:revision>
  <dc:subject/>
  <dc:title>Вас приветствует</dc:title>
</cp:coreProperties>
</file>