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B369-F658-4FED-8BDB-C259EA9DB4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41D-008A-4DF1-9C33-7F45DF720B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1BA-9FA4-42E4-9B54-66FD27260C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215B-2715-461D-8DDE-2B1EF401D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1BB1-996D-4B08-A08B-C5F023012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7B9-11BF-460C-BB25-9FE2E0247C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асштаб изменения величины спроса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9C3-59CF-477C-B782-739E0EF57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858-E4F9-49DE-9B76-0627FC6F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916-B993-4918-B9CA-8612F46C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4E7-870E-4146-B34A-6A395D4B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CCE-B4ED-45D5-8EBC-4EC63DC4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3EE-B6C8-4EC1-9BC7-1CD738C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510-5682-42CD-853A-6693E5E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5A5-A6DD-47EA-9870-2B135E0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AAD-E114-4FA7-874D-785DFF2C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F9A-116A-4E84-B004-B980AF9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91F-EF96-4ACC-BA23-3A5C235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5E2-FC26-4B4D-8FA2-2F6B3AD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67B-7B47-443B-B27A-D53F817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176-BB83-44E7-B74E-517F33137B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BC2-8A5C-4DDB-A6F8-AE1B39CCB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о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зависимость величины спроса на данном товарном рынке от цен, по которым товары могут быть предложены на продаж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685800" y="15238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количество товара, которое покупатели хотят и могут приобрести по данной 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6"/>
          <p:cNvCxnSpPr/>
          <p:nvPr/>
        </p:nvCxnSpPr>
        <p:spPr>
          <a:xfrm flipV="1">
            <a:off x="912960" y="2895120"/>
            <a:ext cx="2160" cy="2364480"/>
          </a:xfrm>
          <a:prstGeom prst="straightConnector1">
            <a:avLst/>
          </a:prstGeom>
          <a:ln cap="rnd" w="284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>
            <a:off x="914400" y="5257800"/>
            <a:ext cx="2820240" cy="2160"/>
          </a:xfrm>
          <a:prstGeom prst="straightConnector1">
            <a:avLst/>
          </a:prstGeom>
          <a:ln cap="rnd"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9"/>
          <p:cNvSpPr/>
          <p:nvPr/>
        </p:nvSpPr>
        <p:spPr>
          <a:xfrm>
            <a:off x="0" y="2666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228600" y="3124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990720" y="5638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личество 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2004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3"/>
          <p:cNvSpPr/>
          <p:nvPr/>
        </p:nvSpPr>
        <p:spPr>
          <a:xfrm rot="11094600">
            <a:off x="912600" y="21996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4"/>
          <p:cNvSpPr/>
          <p:nvPr/>
        </p:nvSpPr>
        <p:spPr>
          <a:xfrm>
            <a:off x="1371600" y="4191120"/>
            <a:ext cx="76320" cy="7596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5"/>
          <p:cNvSpPr/>
          <p:nvPr/>
        </p:nvSpPr>
        <p:spPr>
          <a:xfrm flipV="1">
            <a:off x="2362320" y="4724280"/>
            <a:ext cx="75960" cy="7632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57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808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3808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3808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1143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574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29718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6"/>
          <p:cNvSpPr/>
          <p:nvPr/>
        </p:nvSpPr>
        <p:spPr>
          <a:xfrm flipH="1">
            <a:off x="914040" y="4255920"/>
            <a:ext cx="46836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8"/>
          <p:cNvSpPr/>
          <p:nvPr/>
        </p:nvSpPr>
        <p:spPr>
          <a:xfrm>
            <a:off x="1436040" y="4255920"/>
            <a:ext cx="11160" cy="100188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0"/>
          <p:cNvSpPr/>
          <p:nvPr/>
        </p:nvSpPr>
        <p:spPr>
          <a:xfrm flipH="1">
            <a:off x="914400" y="4789440"/>
            <a:ext cx="1512720" cy="111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2"/>
          <p:cNvSpPr/>
          <p:nvPr/>
        </p:nvSpPr>
        <p:spPr>
          <a:xfrm flipH="1">
            <a:off x="2361960" y="4789440"/>
            <a:ext cx="11160" cy="46836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3"/>
          <p:cNvSpPr/>
          <p:nvPr/>
        </p:nvSpPr>
        <p:spPr>
          <a:xfrm>
            <a:off x="12952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4"/>
          <p:cNvSpPr/>
          <p:nvPr/>
        </p:nvSpPr>
        <p:spPr>
          <a:xfrm>
            <a:off x="2362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>
            <a:off x="3048120" y="2590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 = 1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57913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P= 10, Q =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9"/>
          <p:cNvSpPr/>
          <p:nvPr/>
        </p:nvSpPr>
        <p:spPr>
          <a:xfrm>
            <a:off x="396252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прос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4038480" y="3733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еличина спроса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и на граф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42"/>
          <p:cNvSpPr/>
          <p:nvPr/>
        </p:nvSpPr>
        <p:spPr>
          <a:xfrm rot="11094600">
            <a:off x="1250640" y="189468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  <a:lnTo>
                  <a:pt x="2617788" y="1381125"/>
                </a:lnTo>
                <a:cubicBezTo>
                  <a:pt x="2617788" y="920750"/>
                  <a:pt x="2617787" y="460375"/>
                  <a:pt x="2617787" y="0"/>
                </a:cubicBezTo>
                <a:close/>
              </a:path>
              <a:path fill="none" w="5235575" h="2762250">
                <a:moveTo>
                  <a:pt x="2617787" y="0"/>
                </a:moveTo>
                <a:cubicBezTo>
                  <a:pt x="4063551" y="0"/>
                  <a:pt x="5235575" y="618351"/>
                  <a:pt x="5235575" y="138112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43"/>
          <p:cNvSpPr/>
          <p:nvPr/>
        </p:nvSpPr>
        <p:spPr>
          <a:xfrm rot="11094600">
            <a:off x="793440" y="2656800"/>
            <a:ext cx="5235480" cy="2762280"/>
          </a:xfrm>
          <a:custGeom>
            <a:avLst/>
            <a:gdLst/>
            <a:ahLst/>
            <a:rect l="l" t="t" r="r" b="b"/>
            <a:pathLst>
              <a:path stroke="0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  <a:lnTo>
                  <a:pt x="2617788" y="1381125"/>
                </a:lnTo>
                <a:lnTo>
                  <a:pt x="3475109" y="76167"/>
                </a:lnTo>
                <a:close/>
              </a:path>
              <a:path fill="none" w="5235575" h="2762250">
                <a:moveTo>
                  <a:pt x="3475109" y="76167"/>
                </a:moveTo>
                <a:cubicBezTo>
                  <a:pt x="4252245" y="218282"/>
                  <a:pt x="4857597" y="544835"/>
                  <a:pt x="5109638" y="957901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5"/>
          <p:cNvCxnSpPr/>
          <p:nvPr/>
        </p:nvCxnSpPr>
        <p:spPr>
          <a:xfrm flipV="1">
            <a:off x="1141920" y="3580560"/>
            <a:ext cx="22932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Прямая со стрелкой 47"/>
          <p:cNvCxnSpPr/>
          <p:nvPr/>
        </p:nvCxnSpPr>
        <p:spPr>
          <a:xfrm flipV="1">
            <a:off x="1904040" y="4266720"/>
            <a:ext cx="153000" cy="153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2" name="Прямая со стрелкой 49"/>
          <p:cNvCxnSpPr/>
          <p:nvPr/>
        </p:nvCxnSpPr>
        <p:spPr>
          <a:xfrm flipH="1">
            <a:off x="1218600" y="4343040"/>
            <a:ext cx="153000" cy="153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Прямая со стрелкой 51"/>
          <p:cNvCxnSpPr/>
          <p:nvPr/>
        </p:nvCxnSpPr>
        <p:spPr>
          <a:xfrm flipH="1">
            <a:off x="1904400" y="4723920"/>
            <a:ext cx="153000" cy="2293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52"/>
          <p:cNvSpPr/>
          <p:nvPr/>
        </p:nvSpPr>
        <p:spPr>
          <a:xfrm>
            <a:off x="3581280" y="4800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3"/>
          <p:cNvSpPr/>
          <p:nvPr/>
        </p:nvSpPr>
        <p:spPr>
          <a:xfrm>
            <a:off x="3429000" y="4191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4"/>
          <p:cNvSpPr/>
          <p:nvPr/>
        </p:nvSpPr>
        <p:spPr>
          <a:xfrm>
            <a:off x="25909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4114800" y="4876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елич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4191120" y="54100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ru-RU" sz="1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 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ньшение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он спро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овышение цен ведет к снижению величины спроса, а снижение цен – к ее увели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а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33520" y="2133720"/>
            <a:ext cx="236196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ового покупате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352680" y="2133720"/>
            <a:ext cx="221004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заме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172200" y="2133720"/>
            <a:ext cx="2057400" cy="6426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фф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дох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БОН\Рабочий стол\Новая папка\женя\Картинки\стандартные-3\BS00615_.WMF"/>
          <p:cNvPicPr/>
          <p:nvPr/>
        </p:nvPicPr>
        <p:blipFill>
          <a:blip r:embed="rId1"/>
          <a:stretch/>
        </p:blipFill>
        <p:spPr>
          <a:xfrm>
            <a:off x="6400800" y="476712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БОН\Рабочий стол\Новая папка\женя\Картинки\стандартные-3\BS00608_.WMF"/>
          <p:cNvPicPr/>
          <p:nvPr/>
        </p:nvPicPr>
        <p:blipFill>
          <a:blip r:embed="rId2"/>
          <a:stretch/>
        </p:blipFill>
        <p:spPr>
          <a:xfrm>
            <a:off x="457200" y="4894200"/>
            <a:ext cx="1828800" cy="1963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БОН\Рабочий стол\Новая папка\женя\Картинки\стандартные-3\BS00652_.WMF"/>
          <p:cNvPicPr/>
          <p:nvPr/>
        </p:nvPicPr>
        <p:blipFill>
          <a:blip r:embed="rId3"/>
          <a:stretch/>
        </p:blipFill>
        <p:spPr>
          <a:xfrm>
            <a:off x="3581280" y="5241960"/>
            <a:ext cx="1676520" cy="1616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533520" y="3048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оятность того, что покупка произойдет, выше у товара с низкой ц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352680" y="312408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 цен на товар приведет к увеличению спроса на товар – замен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791320" y="320040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планировании расходов, если цена окажется ниже ожидаемой, высока вероятность, что «доход» тоже будет потра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80880" y="1447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лавный факто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от которого зависит спрос –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цена (ценовой факто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981080" y="1905120"/>
            <a:ext cx="3810240" cy="3682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ценовые факторы спро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" y="2362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предпочтений потребителей (мода, сезоны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720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е числа покупателей на рынке  (сезон отпусков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7200" y="3124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меры доходов потреб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57200" y="3581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товара заменителя – субститута, способного удовлетворить ту же потребность (сок, компо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33520" y="43434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личие взаимодополняющих товаров (автомобиль – бензин, электроигрушка – батарейки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33520" y="51055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зменения в полезности товара (ПК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33520" y="5486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инфляционные ожидания (покупки впр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БОН\Рабочий стол\Новая папка\женя\Картинки\стандартные-3\BS00645_.WMF"/>
          <p:cNvPicPr/>
          <p:nvPr/>
        </p:nvPicPr>
        <p:blipFill>
          <a:blip r:embed="rId1"/>
          <a:stretch/>
        </p:blipFill>
        <p:spPr>
          <a:xfrm>
            <a:off x="7020000" y="4362480"/>
            <a:ext cx="2124000" cy="2495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докс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кона спро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33520" y="1600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адокс состоит в том, что их объяснение так же укладывается в рамки закона спроса, а это значит, что обратная зависимость величины спроса  от динамики цены действительно является экономическим зак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28600" y="2743200"/>
            <a:ext cx="3048120" cy="33858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инамику величины спроса влияет не только реальное движение цены, но и ожидаемое покупателем, т. Е. не только реальная, но и ожидаемая цена. Социально – психологическое состояние становится экономическим фактором (в будущем еще дороже, надо брать сейча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505320" y="2743200"/>
            <a:ext cx="2743200" cy="366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2 парадо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цены может вызвать не увеличение спроса, как требует закон, а стимулировать падение. В движение величины спроса вмешивается фактор ожидаемой цены. Т.Е. раз этот товар снижается в цене, то потом его можно будет купить еще дешев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553080" y="2743200"/>
            <a:ext cx="2210040" cy="3660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3 парадокс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й спрос на традиционно дорогие товары. Выгода, которую получает покупатель – беспроигрышное помещение  сбережений, их цена имеет тенденцию к возрас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ластичность спрос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штаб изменения величины спроса (в %) при изменении цены на 1 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295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6765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057400" y="16765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057400" y="1752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1337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 . 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28600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0481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3962520" y="1905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18148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4343400" y="1676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4495680" y="220968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685800" y="2743200"/>
            <a:ext cx="8229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ластичность спроса;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старой цене;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количество товара по новой цене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арая цена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новая ц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1981080" y="3657600"/>
            <a:ext cx="251460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не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не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первой необход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малой сто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дн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6248520" y="3581280"/>
            <a:ext cx="2361960" cy="23151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Е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1 спрос эласт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эластичного спро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ы роско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вары с высокой це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 заменяемые това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20"/>
          <p:cNvCxnSpPr/>
          <p:nvPr/>
        </p:nvCxnSpPr>
        <p:spPr>
          <a:xfrm flipV="1">
            <a:off x="378360" y="4192200"/>
            <a:ext cx="39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Прямая со стрелкой 22"/>
          <p:cNvCxnSpPr/>
          <p:nvPr/>
        </p:nvCxnSpPr>
        <p:spPr>
          <a:xfrm>
            <a:off x="380880" y="5943600"/>
            <a:ext cx="1372320" cy="2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8" name="TextBox 23"/>
          <p:cNvSpPr/>
          <p:nvPr/>
        </p:nvSpPr>
        <p:spPr>
          <a:xfrm>
            <a:off x="0" y="4191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137160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6"/>
          <p:cNvSpPr/>
          <p:nvPr/>
        </p:nvSpPr>
        <p:spPr>
          <a:xfrm>
            <a:off x="685800" y="4419720"/>
            <a:ext cx="457200" cy="11430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7"/>
          <p:cNvCxnSpPr/>
          <p:nvPr/>
        </p:nvCxnSpPr>
        <p:spPr>
          <a:xfrm flipV="1">
            <a:off x="4800600" y="4190760"/>
            <a:ext cx="2160" cy="17532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>
            <a:off x="4802040" y="5942160"/>
            <a:ext cx="1372320" cy="36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43" name="Прямая соединительная линия 29"/>
          <p:cNvSpPr/>
          <p:nvPr/>
        </p:nvSpPr>
        <p:spPr>
          <a:xfrm>
            <a:off x="4952880" y="5105520"/>
            <a:ext cx="1219320" cy="685800"/>
          </a:xfrm>
          <a:prstGeom prst="line">
            <a:avLst/>
          </a:prstGeom>
          <a:ln cap="rnd"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6"/>
          <p:cNvSpPr/>
          <p:nvPr/>
        </p:nvSpPr>
        <p:spPr>
          <a:xfrm>
            <a:off x="4422240" y="4191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7"/>
          <p:cNvSpPr/>
          <p:nvPr/>
        </p:nvSpPr>
        <p:spPr>
          <a:xfrm>
            <a:off x="5793480" y="6019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10T09:38:02Z</dcterms:modified>
  <cp:revision>16</cp:revision>
  <dc:subject/>
  <dc:title>Спрос.</dc:title>
</cp:coreProperties>
</file>