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3CF7-329D-437B-B360-BE36400E01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ЦИАЛЬНЫЕ 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E00-2268-4390-AB80-B6B430616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Цель: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пособствовать формированию представлений учащихся о группе социальных прав человека и их направленности для жизни людей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мочь учащимся разобраться в своих правах закрепленных Конституцией РФ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пробудить интерес учащихся к решению проблем по социальным пра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спитывать толеран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ответственное отношение к поручен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F291-D888-46DE-AE0B-EBB88DBDAB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то вы понимаете под термином  «Социальное государств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BB46-FA2D-4C80-AD50-284CC50780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в каком государстве мы жив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675-F1D2-4398-AB66-D52C8C41FD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Назовите основные направления социальной политики наше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C8A5-69CD-4416-BEF6-878BC31D6F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Как решаются социальные проблемы в нашем государ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E1E0-1C58-4EED-97B0-54C32E486B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35B-3C30-42A9-A769-2C26D40B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3DC-6734-4B6A-A587-EBCF660A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402-7FA2-4B7A-8DD4-FC8B682D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2F3-79EC-47E1-92A4-ACBE9C29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5FC-27D6-4FCD-A48C-DCF760B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038-FF2C-45E2-A831-920D0399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368-06CE-4811-8EBA-5208AC5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941-FA59-4D3D-B804-1C5B02CE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70E-F6CD-4443-AE87-3ED938BA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E2C-D75B-4754-B3EB-FF7AC01A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6C0-AB38-402B-80AB-D5433B11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C8A-7632-437A-852F-BD649DB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493D-01C3-4CF1-AE1D-7116F5076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СОЦИАЛЬНЫЕ ПРАВА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9812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Цель: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пособствовать формированию представлений учащихся о группе социальных прав человека и их направленности для жизни людей в государ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7940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чь учащимся разобраться в своих правах закрепленных Конституцией РФ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пробудить интерес учащихся к решению проблем по социальным прав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итывать толерант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тветственное отношение к порученному д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05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то вы понимаете под термином  «Социальное государство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А в каком государстве мы жив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- Назовите основные направления социальной политики нашего государ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-Как решаются социальные проблемы в нашем государств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3:16:34Z</dcterms:created>
  <dc:creator>User</dc:creator>
  <dc:description/>
  <dc:language>en-US</dc:language>
  <cp:lastModifiedBy>LEGION</cp:lastModifiedBy>
  <dcterms:modified xsi:type="dcterms:W3CDTF">2015-01-28T11:27:29Z</dcterms:modified>
  <cp:revision>6</cp:revision>
  <dc:subject/>
  <dc:title>СОЦИАЛЬНЫЕ ПРАВА ЧЕЛОВЕКА</dc:title>
</cp:coreProperties>
</file>