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2EAF-619E-4B89-BD79-661269E6B2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ЦИАЛЬНЫЕ 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4847-CA76-4EB2-A3FD-71D792DA37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Цель: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мочь учащимся разобраться в своих правах закрепленных Конституцией РФ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пробудить интерес учащихся к решению проблем по социальным пра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спитывать толеран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ответственное отношение к поручен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C6E0-0D18-48DB-A9B2-11900CF17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то вы понимаете под термином  «Социальное государств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B1A5-9B7E-42D9-85C3-11850044AC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в каком государстве мы жив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BB95-00DE-491D-B540-DBA402D6C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Назовите основные направления социальной политики наше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9D40-A284-4D00-804D-D1B74FC14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Как решаются социальные проблемы в нашем государ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904-30E9-4084-9307-FFE77CECB4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093-BD38-44EC-BB2B-49F0337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AF4-711A-4A48-BAA9-4AE5182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596-73DD-4E5C-8120-31A425C3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77D-C9E5-48FF-AA27-CF48DD19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28F-A0A6-4EEC-A23B-52FA8F50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802-4AB4-4130-9831-A976AA94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0F9-53BC-4D1C-9DDE-13DF099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5B7-0343-4ABF-A820-697C3B6B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E19-66F6-4737-93E8-2E41A40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EA3-1301-454F-88B4-343C3E8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1FF-EAA6-4DB5-AD0A-FDE943D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22B-F5C1-4972-95FB-011B5E9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A87-65D2-40AE-9B20-EFA3B4DFE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СОЦИАЛЬНЫЕ ПРАВА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Цель: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7940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чь учащимся разобраться в своих правах закрепленных Конституцией РФ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пробудить интерес учащихся к решению проблем по социальным пра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итывать толера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тветственное отношение к порученному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05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вы понимаете под термином  «Социальное государство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А в каком государстве мы жив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- Назовите основные направления социальной политики нашего государ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-Как решаются социальные проблемы в нашем государств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3:16:34Z</dcterms:created>
  <dc:creator>User</dc:creator>
  <dc:description/>
  <dc:language>en-US</dc:language>
  <cp:lastModifiedBy>LEGION</cp:lastModifiedBy>
  <dcterms:modified xsi:type="dcterms:W3CDTF">2015-01-28T11:27:29Z</dcterms:modified>
  <cp:revision>6</cp:revision>
  <dc:subject/>
  <dc:title>СОЦИАЛЬНЫЕ ПРАВА ЧЕЛОВЕКА</dc:title>
</cp:coreProperties>
</file>