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24B8-7439-4AF3-9672-390267371C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Вильдянова Райхан Ариф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Учитель русского языка и литературы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ГОУ СОШ № 269 «Школа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CD5B-3ABF-4E92-A4E1-6C3D183E2A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тература к урок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Учебник «Обществознание. Права человека в свободной стране». 8-9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Программа и приме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EEC7-3DBE-4D51-ACC2-64B4081F39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12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A998-C9A2-4397-9499-B044CACCE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E80E-70F4-4AA1-8543-988C386CA6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1F69-D182-4A16-A1CB-9290678790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A772-7D95-4C6F-B820-019065DF98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BF33-8C57-4652-9A80-C13A018A1E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218F-6153-4D0B-B8F8-407A574EBF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CF9B-3356-49E6-B098-7B318556CE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C5C8-AD65-479B-A992-6DB216FC6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DB5-CD03-404A-8443-EFD689F6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4D8-7B5D-4559-8E7C-C7EF000C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287-5CEC-4EC9-B1EA-283F895E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DC9-0848-4955-84CA-1C935FD9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C3B-F816-4C63-8825-C4345732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237-16A3-4C10-9F51-376CA0F0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CF3-11C6-433E-8DD6-5A5D143A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357-4E69-42D7-A3F9-1BCC22B7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DBF-8E43-4329-ABE3-6C558527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795-068E-4125-91FF-11C3B49F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ED3-6F35-4B48-8587-498A86F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0AB-FCAA-41F0-BE4D-AB5CBB2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EFD6-6BDB-4833-94B7-3A8AA5CDB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Вильдянова Райхан Ариф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Учитель русского языка и литературы и обществ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ГОУ СОШ № 269 «Школа здоровь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 к урок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Учебник «Обществознание. Права человека в свободной стране». 8-9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Программа и примерное план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284280"/>
            <a:ext cx="8064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ев"/>
          <p:cNvPicPr/>
          <p:nvPr/>
        </p:nvPicPr>
        <p:blipFill>
          <a:blip r:embed="rId1"/>
          <a:stretch/>
        </p:blipFill>
        <p:spPr>
          <a:xfrm>
            <a:off x="900000" y="2205000"/>
            <a:ext cx="2880000" cy="17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рев"/>
          <p:cNvPicPr/>
          <p:nvPr/>
        </p:nvPicPr>
        <p:blipFill>
          <a:blip r:embed="rId2"/>
          <a:stretch/>
        </p:blipFill>
        <p:spPr>
          <a:xfrm>
            <a:off x="900000" y="4149720"/>
            <a:ext cx="288000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в"/>
          <p:cNvPicPr/>
          <p:nvPr/>
        </p:nvPicPr>
        <p:blipFill>
          <a:blip r:embed="rId3"/>
          <a:stretch/>
        </p:blipFill>
        <p:spPr>
          <a:xfrm>
            <a:off x="4932360" y="4149720"/>
            <a:ext cx="2952720" cy="172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рев"/>
          <p:cNvPicPr/>
          <p:nvPr/>
        </p:nvPicPr>
        <p:blipFill>
          <a:blip r:embed="rId4"/>
          <a:stretch/>
        </p:blipFill>
        <p:spPr>
          <a:xfrm>
            <a:off x="4932360" y="2205000"/>
            <a:ext cx="302436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Деятельность учащихс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луш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апись в тетради информацион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осмотр и обсуждение видео фрагментов фил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абота над творческим заданием: поиск социальной информации по заданной социальной теме с и её первичный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8:50:36Z</dcterms:created>
  <dc:creator>Нафися'па</dc:creator>
  <dc:description/>
  <dc:language>en-US</dc:language>
  <cp:lastModifiedBy>LEGION</cp:lastModifiedBy>
  <dcterms:modified xsi:type="dcterms:W3CDTF">2015-01-28T11:27:53Z</dcterms:modified>
  <cp:revision>9</cp:revision>
  <dc:subject/>
  <dc:title>Права человека в свободной стране. Обществознание.  8 класс</dc:title>
</cp:coreProperties>
</file>