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621-578B-4810-BA07-DA5B6D2AB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Вильдянова Райхан Ариф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Учитель русского языка и литературы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Calibri"/>
              </a:rPr>
              <a:t>ГОУ СОШ № 269 «Школа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3B9-6DA9-4A94-8323-5735FE0F1A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тература к урок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Учебник «Обществознание. Права человека в свободной стране». 8-9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И.Элиасберг. Программа и приме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D0F-B07B-4625-974A-780972EA9F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12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7F4-FA0A-46F9-BFF3-B5AB5C8A7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D6A-597D-4C21-8E6C-2AC94B3A7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66F-721E-4B16-A70A-93CCB7B56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7FDE-576E-47BA-98BD-FBE71509D0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E131-4E2E-4B9C-B19C-F8D190FE8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DF2-84B6-47E7-B21E-3C687BB898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B46-38A2-459E-96BC-9CE9FBDDF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12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03C2-1D30-462C-B527-9B2B8FF43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DF2-6FE3-4909-99B7-F75528E4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51F-254E-42E8-922A-5F2A537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17C-5E24-49ED-AF52-84FC1F41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F71-79D2-4BC4-8681-AE563783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6FF-AE4E-4254-A8EA-56EBC7A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DC6-4603-4F8F-92C4-E5E6F63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6AA-B0AE-4AE8-A54E-4D2FCA0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397-E27E-46B6-B7CF-709D7C7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BF8-D6C6-4555-950F-6DA8B346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968-57C5-4D8E-A0DF-59014153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230-BB6D-4FF9-8FDB-53552E3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362-E000-4D8A-B70A-646B9EB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A30-0EE9-44EB-BC62-B0FAB005B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Вильдянова Райхан Ариф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Учитель русского языка и литературы и обществ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Arial"/>
              </a:rPr>
              <a:t>ГОУ СОШ № 269 «Школа здоровь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 к урок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Учебник «Обществознание. Права человека в свободной стране». 8-9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И.Элиасберг. Программа и примерное 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Права человека в свободной стране. Обществознание.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806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Модуль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. «Человек и общество. Государство и право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Урок №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Гражданское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« Поэтом можешь ты не бы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Но гражданином быть обязан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.А.Некра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формирование представлений о месте гражданина России в существующей системе экономических и политических отношений , регулируемых п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воспитание гражданской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развитие критического мышления в процессе восприятия социаль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овладение умениями познавательной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Форма и структур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Форма:</a:t>
            </a: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 лекция с элементами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Структур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лекция: «Гражданское обще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просмотр видеоматериалов (фрагменты х/т ф. «Ревизор» 1952г. реж. В.Петров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обсуждение с творческим зада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спользуемые видео материалы Единой коллекции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идеофрагменты х/ф «Реви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ев"/>
          <p:cNvPicPr/>
          <p:nvPr/>
        </p:nvPicPr>
        <p:blipFill>
          <a:blip r:embed="rId1"/>
          <a:stretch/>
        </p:blipFill>
        <p:spPr>
          <a:xfrm>
            <a:off x="900000" y="2205000"/>
            <a:ext cx="2880000" cy="17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ев"/>
          <p:cNvPicPr/>
          <p:nvPr/>
        </p:nvPicPr>
        <p:blipFill>
          <a:blip r:embed="rId2"/>
          <a:stretch/>
        </p:blipFill>
        <p:spPr>
          <a:xfrm>
            <a:off x="900000" y="414972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в"/>
          <p:cNvPicPr/>
          <p:nvPr/>
        </p:nvPicPr>
        <p:blipFill>
          <a:blip r:embed="rId3"/>
          <a:stretch/>
        </p:blipFill>
        <p:spPr>
          <a:xfrm>
            <a:off x="4932360" y="4149720"/>
            <a:ext cx="2952720" cy="172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ев"/>
          <p:cNvPicPr/>
          <p:nvPr/>
        </p:nvPicPr>
        <p:blipFill>
          <a:blip r:embed="rId4"/>
          <a:stretch/>
        </p:blipFill>
        <p:spPr>
          <a:xfrm>
            <a:off x="4932360" y="2205000"/>
            <a:ext cx="3024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нформацион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Условия возникновения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Введение понятий «Гражданин», «Гражданское обществ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Основные черты гражданского об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Деятельность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луш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Запись в тетради информацио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Просмотр и обсуждение видео фрагментов фил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Работа над творческим заданием: поиск социальной информации по заданной социальной теме с и её первичны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Ожидаемый результ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Налич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представлений о месте гражданина России в существующей системе отно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Умение 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проектировать правомерные способы действий в различных жизненных ситуациях, давать правовую оценку поступкам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3333cc"/>
                </a:solidFill>
                <a:uFillTx/>
                <a:latin typeface="Times New Roman"/>
              </a:rPr>
              <a:t>Овладение</a:t>
            </a:r>
            <a:r>
              <a:rPr b="1" i="1" lang="ru-RU" sz="3000" spc="-1" strike="noStrike">
                <a:solidFill>
                  <a:srgbClr val="3333cc"/>
                </a:solidFill>
                <a:latin typeface="Times New Roman"/>
              </a:rPr>
              <a:t> знаниями о регулировании отношений между гражданами и государством в сфере охраны правопо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50:36Z</dcterms:created>
  <dc:creator>Нафися'па</dc:creator>
  <dc:description/>
  <dc:language>en-US</dc:language>
  <cp:lastModifiedBy>LEGION</cp:lastModifiedBy>
  <dcterms:modified xsi:type="dcterms:W3CDTF">2015-01-28T11:27:53Z</dcterms:modified>
  <cp:revision>9</cp:revision>
  <dc:subject/>
  <dc:title>Права человека в свободной стране. Обществознание.  8 класс</dc:title>
</cp:coreProperties>
</file>