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D208-AEEB-44EF-BEB6-1C0DB5A312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Вильдянова Райхан Ариф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Учитель русского языка и литературы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ГОУ СОШ № 269 «Школа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17E4-786B-46F3-9C18-9BB31C2FB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тература к урок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Учебник «Обществознание. Права человека в свободной стране». 8-9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Программа и приме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4BAB-85F1-44A8-825B-C40A53BDC1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12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0FC-0AE1-4256-9177-E25AF9FEE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152C-D511-4AB4-823D-4B2196154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142-D0A3-42FD-9CD4-3ACF0D08BB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E736-699D-433C-B210-847D7A42B1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D9D0-DF2F-4E4A-82B8-56B983CAC7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E9CC-B2E3-403A-A038-673318A36F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36B5-40D2-4871-AE68-984BC0E514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52C5-7220-44B5-A813-E0E3BAE94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294-A021-4FF3-AF5A-E86415F0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83A-A11D-4029-89B8-4150F8EC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56B-E866-4209-89E9-57B3E52D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617-F284-44FF-9C66-EC12822F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203-B076-4418-9A0B-66BBEFAB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830-7786-40EC-A809-8AA9DDD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876-BE81-4FB1-9AFD-B3BD169A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154-0D4A-4FA3-B842-B2616365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319-6536-4208-8423-B91F8E86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C86-B542-4F24-A9C1-21043D02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BDD-6355-4FAA-91F9-B0D5F31D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97D-2BF3-4EA7-9227-368D3439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767F-0D74-46FE-BB86-8C57CA9276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Вильдянова Райхан Ариф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Учитель русского языка и литературы и обществ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ГОУ СОШ № 269 «Школа здоровь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 к урок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Учебник «Обществознание. Права человека в свободной стране». 8-9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Программа и примерное пла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284280"/>
            <a:ext cx="8064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ев"/>
          <p:cNvPicPr/>
          <p:nvPr/>
        </p:nvPicPr>
        <p:blipFill>
          <a:blip r:embed="rId1"/>
          <a:stretch/>
        </p:blipFill>
        <p:spPr>
          <a:xfrm>
            <a:off x="900000" y="2205000"/>
            <a:ext cx="2880000" cy="17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рев"/>
          <p:cNvPicPr/>
          <p:nvPr/>
        </p:nvPicPr>
        <p:blipFill>
          <a:blip r:embed="rId2"/>
          <a:stretch/>
        </p:blipFill>
        <p:spPr>
          <a:xfrm>
            <a:off x="900000" y="4149720"/>
            <a:ext cx="288000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в"/>
          <p:cNvPicPr/>
          <p:nvPr/>
        </p:nvPicPr>
        <p:blipFill>
          <a:blip r:embed="rId3"/>
          <a:stretch/>
        </p:blipFill>
        <p:spPr>
          <a:xfrm>
            <a:off x="4932360" y="4149720"/>
            <a:ext cx="2952720" cy="172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рев"/>
          <p:cNvPicPr/>
          <p:nvPr/>
        </p:nvPicPr>
        <p:blipFill>
          <a:blip r:embed="rId4"/>
          <a:stretch/>
        </p:blipFill>
        <p:spPr>
          <a:xfrm>
            <a:off x="4932360" y="2205000"/>
            <a:ext cx="302436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Деятельность учащихс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луш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пись в тетради информацио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осмотр и обсуждение видео фрагментов фил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бота над творческим заданием: поиск социальной информации по заданной социальной теме с и её первичный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8:50:36Z</dcterms:created>
  <dc:creator>Нафися'па</dc:creator>
  <dc:description/>
  <dc:language>en-US</dc:language>
  <cp:lastModifiedBy>LEGION</cp:lastModifiedBy>
  <dcterms:modified xsi:type="dcterms:W3CDTF">2015-01-28T11:27:53Z</dcterms:modified>
  <cp:revision>9</cp:revision>
  <dc:subject/>
  <dc:title>Права человека в свободной стране. Обществознание.  8 класс</dc:title>
</cp:coreProperties>
</file>