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3B2C-F8BC-4349-BF08-102890E8A9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Calibri"/>
              </a:rPr>
              <a:t>Вильдянова Райхан Ариф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Calibri"/>
              </a:rPr>
              <a:t>Учитель русского языка и литературы и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Calibri"/>
              </a:rPr>
              <a:t>ГОУ СОШ № 269 «Школа здоров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4AF5-A0EF-4ED2-945D-5E69C2E115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итература к урок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И.Элиасберг. Учебник «Обществознание. Права человека в свободной стране». 8-9 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И.Элиасберг. Программа и примерное план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D5A5-DE67-48F3-9933-4A8C37A580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рава человека в свободной стране. Обществознание. </a:t>
            </a: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Модуль </a:t>
            </a:r>
            <a:r>
              <a:rPr b="1" i="1" lang="en-US" sz="12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. «Человек и общество. Государство и право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Урок №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Гражданское об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E4C0-285F-4CB2-8BBC-14C9BDD7B4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Эпиграф к уро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« Поэтом можешь ты не бы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Но гражданином быть обязан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Н.А.Некрас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AC3D-4832-4BF3-8F29-1B7985064E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Цели и задач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Цель:</a:t>
            </a: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формирование представлений о месте гражданина России в существующей системе экономических и политических отношений , регулируемых пра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воспитание гражданской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развитие критического мышления в процессе восприятия социаль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овладение умениями познавательной и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0B84-11EA-425A-8DAD-14C540EB91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Форма и структура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Форма:</a:t>
            </a: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 лекция с элементами бес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Структур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лекция: «Гражданское обществ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просмотр видеоматериалов (фрагменты х/т ф. «Ревизор» 1952г. реж. В.Петров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обсуждение с творческим задани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домашнее задание</a:t>
            </a:r>
            <a:r>
              <a:rPr b="0" lang="ru-RU" sz="1200" spc="-1" strike="noStrike">
                <a:solidFill>
                  <a:srgbClr val="3333c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1289-CB8F-4E1E-91EB-E8B796B31D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Используемые видео материалы Единой коллекции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Видеофрагменты х/ф «Ревиз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3A12-D179-4DA7-B714-2BD4DDB136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Информационный матери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Условия возникновения гражданск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Введение понятий «Гражданин», «Гражданское обществ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Основные черты гражданск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B511-E48A-4144-92A9-E5EB56B3F6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A7A4-CD8D-457A-BD6D-C6D993913A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жидаемый результа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Наличие</a:t>
            </a: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 представлений о месте гражданина России в существующей системе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Умение </a:t>
            </a: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проектировать правомерные способы действий в различных жизненных ситуациях, давать правовую оценку поступкам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Овладение</a:t>
            </a: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 знаниями о регулировании отношений между гражданами и государством в сфере охраны правопоря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0D5E-0EC4-4DC7-95C7-216B2A9745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1C55-ACF6-4ED6-A0CF-5E6D6EEF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C345-DFD8-473C-93FE-037CDF11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3C0-2740-4C3A-A7EF-4EBCEA45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C91-CBF4-4343-B667-DCC45EDC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2ED-1AC8-4850-B85B-61141FFA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CE6E-25CA-4005-BE36-0FFE69BA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9D5B-13AD-4207-82B2-4435623A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709-3ADA-4647-9D99-A661F5BC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DCB-FB05-4923-B37E-07DFB939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FCFA-E101-4F9D-AFFB-C00009F5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189-375F-4CD3-B954-6507934F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A9FC-C28A-4DBA-A2A7-E892FAA0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CE7B-B92C-4E20-B92D-CE36C8FB0C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Arial"/>
              </a:rPr>
              <a:t>Вильдянова Райхан Арифов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Arial"/>
              </a:rPr>
              <a:t>Учитель русского языка и литературы и обществозн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Arial"/>
              </a:rPr>
              <a:t>ГОУ СОШ № 269 «Школа здоровь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 к уроку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И.Элиасберг. Учебник «Обществознание. Права человека в свободной стране». 8-9 к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И.Элиасберг. Программа и примерное план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Права человека в свободной стране. Обществознание. 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8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640" y="3284280"/>
            <a:ext cx="80647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Модуль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. «Человек и общество. Государство и право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Урок №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Гражданское общест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Эпиграф к уро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« Поэтом можешь ты не бы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Но гражданином быть обязан!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Н.А.Некрас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Цели и задачи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Цель: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формирование представлений о месте гражданина России в существующей системе экономических и политических отношений , регулируемых пра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воспитание гражданской ответств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развитие критического мышления в процессе восприятия социальной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овладение умениями познавательной и практиче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Форма и структура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cc"/>
                </a:solidFill>
                <a:uFillTx/>
                <a:latin typeface="Times New Roman"/>
              </a:rPr>
              <a:t>Форма:</a:t>
            </a: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 лекция с элементами бес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cc"/>
                </a:solidFill>
                <a:uFillTx/>
                <a:latin typeface="Times New Roman"/>
              </a:rPr>
              <a:t>Структур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лекция: «Гражданское общество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просмотр видеоматериалов (фрагменты х/т ф. «Ревизор» 1952г. реж. В.Петров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обсуждение с творческим задани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домашнее задание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Используемые видео материалы Единой коллекции ресур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Видеофрагменты х/ф «Ревиз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рев"/>
          <p:cNvPicPr/>
          <p:nvPr/>
        </p:nvPicPr>
        <p:blipFill>
          <a:blip r:embed="rId1"/>
          <a:stretch/>
        </p:blipFill>
        <p:spPr>
          <a:xfrm>
            <a:off x="900000" y="2205000"/>
            <a:ext cx="2880000" cy="176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рев"/>
          <p:cNvPicPr/>
          <p:nvPr/>
        </p:nvPicPr>
        <p:blipFill>
          <a:blip r:embed="rId2"/>
          <a:stretch/>
        </p:blipFill>
        <p:spPr>
          <a:xfrm>
            <a:off x="900000" y="4149720"/>
            <a:ext cx="2880000" cy="172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рев"/>
          <p:cNvPicPr/>
          <p:nvPr/>
        </p:nvPicPr>
        <p:blipFill>
          <a:blip r:embed="rId3"/>
          <a:stretch/>
        </p:blipFill>
        <p:spPr>
          <a:xfrm>
            <a:off x="4932360" y="4149720"/>
            <a:ext cx="2952720" cy="172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рев"/>
          <p:cNvPicPr/>
          <p:nvPr/>
        </p:nvPicPr>
        <p:blipFill>
          <a:blip r:embed="rId4"/>
          <a:stretch/>
        </p:blipFill>
        <p:spPr>
          <a:xfrm>
            <a:off x="4932360" y="2205000"/>
            <a:ext cx="3024360" cy="18003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Информационный матери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Условия возникновения гражданского об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Введение понятий «Гражданин», «Гражданское общество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Основные черты гражданского об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Деятельность учащихся 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Слуш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Запись в тетради информационн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Просмотр и обсуждение видео фрагментов фил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Работа над творческим заданием: поиск социальной информации по заданной социальной теме с и её первичный анал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Ожидаемый результа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3333cc"/>
                </a:solidFill>
                <a:uFillTx/>
                <a:latin typeface="Times New Roman"/>
              </a:rPr>
              <a:t>Наличие</a:t>
            </a:r>
            <a:r>
              <a:rPr b="1" i="1" lang="ru-RU" sz="3000" spc="-1" strike="noStrike">
                <a:solidFill>
                  <a:srgbClr val="3333cc"/>
                </a:solidFill>
                <a:latin typeface="Times New Roman"/>
              </a:rPr>
              <a:t> представлений о месте гражданина России в существующей системе отнош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3333cc"/>
                </a:solidFill>
                <a:uFillTx/>
                <a:latin typeface="Times New Roman"/>
              </a:rPr>
              <a:t>Умение </a:t>
            </a:r>
            <a:r>
              <a:rPr b="1" i="1" lang="ru-RU" sz="3000" spc="-1" strike="noStrike">
                <a:solidFill>
                  <a:srgbClr val="3333cc"/>
                </a:solidFill>
                <a:latin typeface="Times New Roman"/>
              </a:rPr>
              <a:t>проектировать правомерные способы действий в различных жизненных ситуациях, давать правовую оценку поступкам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3333cc"/>
                </a:solidFill>
                <a:uFillTx/>
                <a:latin typeface="Times New Roman"/>
              </a:rPr>
              <a:t>Овладение</a:t>
            </a:r>
            <a:r>
              <a:rPr b="1" i="1" lang="ru-RU" sz="3000" spc="-1" strike="noStrike">
                <a:solidFill>
                  <a:srgbClr val="3333cc"/>
                </a:solidFill>
                <a:latin typeface="Times New Roman"/>
              </a:rPr>
              <a:t> знаниями о регулировании отношений между гражданами и государством в сфере охраны правопоряд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8:50:36Z</dcterms:created>
  <dc:creator>Нафися'па</dc:creator>
  <dc:description/>
  <dc:language>en-US</dc:language>
  <cp:lastModifiedBy>LEGION</cp:lastModifiedBy>
  <dcterms:modified xsi:type="dcterms:W3CDTF">2015-01-28T11:27:53Z</dcterms:modified>
  <cp:revision>9</cp:revision>
  <dc:subject/>
  <dc:title>Права человека в свободной стране. Обществознание.  8 класс</dc:title>
</cp:coreProperties>
</file>