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5A5E-D3B2-4EFC-8DA5-947EF274FF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сновы законодательства РФ об охране здоровья граждан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презент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EEDB-6129-48CB-ADE6-8B8824D069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Частная система здравоохран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частной системе здравоохранения относ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бно-профилактические и аптечные учреждения, имущество которых находится в частной собственности, а также лица, занимающиеся частной медицинской практикой и частной фармацевтической деятель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3978-F0AB-47BA-9F03-D62D1C2683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АЗДЕЛ I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ПРАВА ГРАЖДАН В ОБЛАСТИ ОХРАНЫ ЗДОРОВ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ждане РФ обладают неотъемлемым правом на охрану здоров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то право обеспечивается охраной окружающей природной среды, созданием благоприятных условий труда, быта, отдыха, воспитания и обучения граждан, производством и реализацией доброкачественных продуктов питания, а также предоставлением населению доступной медико-социальн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6459-98FF-40AB-964A-53263DE650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обеспечивает гражданам охрану здоровья независимо от пола, расы, национальности, языка, социального происхождения, должностного положения, места жительства, отношения к религии, убеждений, принадлежности к общественным объединениям, а также других обстоя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гарантирует гражданам защиту от любых форм дискриминации, обусловленной наличием у них каких-либо заболе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38E9-8FCB-46A3-AAB5-8B9148EFA5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 граждан на медико-социальную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болевании, утрате трудоспособности и в иных случаях граждане имеют право на медико-социальную помощь, которая включает профилактическую, лечебно-диагностическую, реабилитационную, протезно-ортопедическую и зубопротезную помощь, а также меры социального характера по уходу за больными, нетрудоспособными и инвалидами, включая выплату пособия по временной нетрудоспосо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-социальная помощь оказывается медицинскими, социальными работниками и иными специалистами в учреждениях государственной, муниципальной и частной систем здравоохранения, а также в учреждениях системы социальной защиты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имеют право на бесплатную медицинскую помощь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0ECA-4C39-4AC4-A18E-F6384F81E16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 ПРАВА ОТДЕЛЬНЫХ ГРУПП НАСЕЛЕНИЯ В ОБЛА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РАНЫ ЗДОРОВ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гражданин имеет право по медицинским показаниям на бесплатные консультации по вопросам планирования семьи, наличия социально значимых заболеваний и заболеваний, представляющих опасность для окружающих, по медико-психологическим аспектам семейно-брачных отношений, а также на медико-генетические, другие консультации и обследования в учреждениях государственной или муниципальной системы здравоохранения с целью предупреждения возможных наследственных заболеваний у потом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41AD-9A43-46F5-A089-E80CFB4065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ава беременных женщин и матере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обеспечивает беременным женщинам право на работу в условиях, отвечающих их физиологическим особенностям и состоянию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щины во время беременности и в связи с рождением ребенка, а также во время ухода за больными детьми в возрасте до 15 лет имеют право на получение пособия и оплачиваемого отпуска в установленном законом поряд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81DE-5E8D-451A-A097-79516728009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а несовершеннолетни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ансерное наблюдение и лечение в детской и подростковой службах в порядке, устанавливаемом Министерством здравоохранения РФ, министерствами здравоохранения республик в составе РФ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-социальную помощь и питание на льготных условиях, устанавливаемых Правительством РФ, за счет средств бюджетов всех уровн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-гигиеническое образование, на обучение и труд в условиях, отвечающих их физиологическим особенностям и состоянию здоровья и исключающих воздействие на них неблагоприятных фактор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латную медицинскую консультацию за счет средств бюджетов всех уровней при определении профессиональной пригод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необходимой информации о состоянии здоровья в доступной для них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0809-69C5-4E82-B260-75132E32BE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военнослужа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ослужащие имеют право на медицинское освидетельствование для определения годности к военной службе и досрочное увольнение с военной службы на основании заключения военно-врачебной коми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ослужащие, граждане, подлежащие призыву на военную службу и поступающие на военную службу по контракту, имеют право на получение медицинской помощи в учреждениях государственной или муниципальной системы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37F0-494B-4358-9305-1BCA9AFD6DE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граждан пожил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пожилого возраста имеют право на медико-социальную помощь на дому, в учреждениях государственной или муниципальной системы здравоохранения, а также в учреждениях системы социальной защиты населения и на лекарственное обеспечение, в том числе на льготных условиях. Медико-социальная помощь гражданам пожилого возраста направлена на лечение имеющихся у них заболеваний и уход, поддержание их активного образа жизни и социальную защиту в случае болезни и неспособности удовлетворять свои основные жизненные потреб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пожилого возраста на основании медицинского заключения имеют право на санаторно-курортное лечение и реабилитацию бесплатно или на льготных условиях за счет средств социального страхования, органов социальной защиты населения и за счет средств предприятий, учреждений и организаций при их согла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7278-5A0B-4256-84CC-E740404B4A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инвал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алиды, в том числе дети-инвалиды и инвалиды с детства, имеют право на медико-социальную помощь, реабилитацию, обеспечение лекарствами, протезами, протезно-ортопедическими изделиями, средствами передвижения на льготных условиях, а также на профессиональную подготовку и переподготов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рудоспособные инвалиды имеют право на бесплатную медико-социальную помощь в учреждениях государственной или муниципальной системы здравоохранения, на уход на дому, а в случае неспособности удовлетворять основные жизненные потребности - на содержание в учреждениях системы социальной защиты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A344-A962-44D5-8953-5EA814035B0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AF36-0ED4-46F2-B290-298986303C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АЗДЕЛ V ПРАВА ГРАЖДАН ПРИ ОКАЗАНИИ МЕДИКО-СОЦИАЛЬНОЙ ПОМОЩ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важительное и гуманное отношение со стороны медицинского и обслуживающего персон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следование, лечение и содержание в условиях, соответствующих санитарно-гигиеническим требован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дение по его просьбе консилиума и консультаций других специалис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медицинских и иных услуг в рамках программ добровольного медицинского страх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нарушения прав пациента он может обращаться с жалобой непосредственно к руководителю или иному должностному лицу лечебно-профилактического учреждения, в котором ему оказывается медицинская помощь, в соответствующие профессиональные медицинские ассоциации и лицензионные комиссии либо в с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E26A-EF19-4952-A923-ED3A82C8710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аво граждан на информацию о состоянии здоровья</a:t>
            </a:r>
            <a:br>
              <a:rPr sz="1000"/>
            </a:br>
            <a:br>
              <a:rPr sz="16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гражданин имеет право в доступной для него форме получить имеющуюся информацию о состоянии своего здоровья, включая сведения о результатах обследования, наличии заболевания, его диагнозе и прогнозе, методах лечения, связанном с ними риске, возможных вариантах медицинского вмешательства, их последствиях и результатах проведенного ле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24EC-70EC-4887-B3F9-DF3DBD3B652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АЗДЕЛ VII ГАРАНТИИ ОСУЩЕСТВЛЕНИЯ МЕДИКО-СОЦИАЛЬНОЙ ПОМОЩИ ГРАЖДАН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наиболее распространенных болезней, а также травм, отравлений и других неотложных состоя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санитарно-гигиенических и противоэпидемических мероприятий, медицинской профилактики важнейших заболев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-гигиеническое образ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мер по охране семьи, материнства, отцовства и детства, других мероприятий, связанных с оказанием медико-санитарной помощи гражданам по месту жи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8065-747A-4474-9E2E-95CD0BA2EE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ор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рая медицинская помощь оказывается гражданам при состояниях, требующих срочного медицинского вмешательства (при несчастных случаях, травмах, отравлениях и других состояниях и заболеваниях), осуществляется безотлагательно лечебно-профилактическими учреждениями независимо от территориальной, ведомственной подчиненности и формы собственности, медицинскими работниками, а также лицами, обязанными ее оказывать в виде первой помощи по закону или по специальному прави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9DC5-0A6D-4564-90D5-B8763EBE1E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медицинская помощь оказывается гражданам при заболеваниях, требующих специальных методов диагностики, лечения и использования сложных медицинских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медицинская помощь оказывается за счет средств бюджетов всех уровней, целевых фондов, предназначенных для охраны здоровья граждан, личных средств граждан и других источников, не запрещенных законодательством РФ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1B2B-2CD4-4016-965E-E5960278E2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Что такое охрана здоров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азовите основные задачи законодательства РФ об охране здоровья гражд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азовите три уровня на которых осуществляется здравоохранение 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Что относится к Государственной системе здравоохранения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Что относится к Муниципальной системе здравоохранения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Что относится к Частной системе здравоохранения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Каким неотъемлемым правом обладают граждане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еречислите основные группы населения, которые обладают правами в области охраны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Назовите три основных права па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Перечислите три гарантированных вида осуществления медико-социальн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0A6B-BDE5-4F67-8033-EC7431302E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I ОБЩИЕ ПОЛОЖЕНИЯ</a:t>
            </a:r>
            <a:br>
              <a:rPr sz="12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храна здоровья гражд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рана здоровья гражд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совокупность мер политического, экономического, правового, социального, культурного, научного, медицинского, санитарно-гигиенического и противоэпидемического характера, направленных на сохранение и укрепление физического и психического здоровья каждого человека, поддержание его долголетней активной жизни, предоставление ему медицинской помощи в случае утраты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89B1-C68E-4AA7-8E61-2DE898DAFE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сновные принципы охраны здоровья граждан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прав человека и гражданина в области охраны здоровья и обеспечение связанных с этими правами государственных гарант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 профилактических мер в области охраны здоровья гражда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 медико-социальной помощ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защищенность граждан в случае утраты здоровь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органов государственной власти и управления, предприятий, учреждений и организаций независимо от формы собственности, должностных лиц за обеспечение прав граждан в области охраны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2723-C89E-4583-8D02-1092A77EDD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законодательства РФ об охране здоровья гражд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ответственности и компетенции РФ, республик в составе РФ, автономной области, автономных округов, краев, областей, городов Москвы и Санкт-Петербурга по вопросам охраны здоровья граждан в соответствии с Федеративным договором, а также определение ответственности и компетенции органов местного самоуправления по вопросам охраны здоровья гражда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вое регу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бласти охраны здоровья граждан деятельности предприятий, учреждений и организаций независимо от формы собственности, а также государственной, муниципальной и частной систем здравоохра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ение прав гражд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тдельных групп населения в области охраны здоровья и установление гарантий их соблю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ение профессиональных пра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бязанностей и ответственности медицинских и фармацевтических работников, установление гарантий их социальной защ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9C94-3E3E-491C-92AA-308FD73087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II ОРГАНИЗАЦИЯ ОХРАНЫ ЗДОРОВЬЯ ГРАЖДАН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бюджетов всех уровн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, направляемые на обязательное и добровольное медицинское страхование в соответствии с Законом РФ "О медицинском страховании граждан в РФ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целевых фондов, предназначенных для охраны здоровья граж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государственных и муниципальных предприятий, организаций и других хозяйствующих субъектов, общественных объедин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ценных бум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банков и других кредит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возмездные и (или) благотворительные взносы и пожертв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источники, не запрещенные законодатель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5A03-4590-4E27-8C9A-B588C94448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дравоохранение в РФ осуществляется на трех уровня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ниципаль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971F-6CAF-4720-BE4B-4A1807EEA5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Государственная система здравоохран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государственной системе здравоохранения относ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нистерство здравоохранения РФ, органы управления здравоохранением субъектов в составе РФ, Российская академия медицинских наук, Государственный комитет санитарно-эпидемиологического надзора РФ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8DC9-C045-4019-AD32-BD941777A2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ниципальная система здравоохра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муниципальной системе здравоохранения относ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униципальные органы управления здравоохранением и находящиеся в муниципальной собственности лечебно-профилактические и научно-исследовательские учреждения, фармацевтические предприятия и организации, аптечные учреждения, учреждения судебно-медицинской экспертизы, образовательные учреж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12CF-9A9E-477C-AA45-0F7A383B9F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485E-2F8E-4D7E-921B-FDA7E3F3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03C-ECCB-410C-8B68-0158FF78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FD05-7A02-4A67-9F21-AB6E02B7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ECCA-3D59-42EA-8EFA-9510810C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5F9C-3ED8-4B00-BCA1-41321240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D45D-D7C4-4393-9915-988DC5BB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D45-BEAB-4065-B714-63746C03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D4E5-9626-406D-9613-E6255622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C2A5-2D5E-47A4-ABB8-154C2A51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F70E-CBF9-4635-830A-D752530E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ADC4-FF33-488B-B939-DE2394FC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434-4603-442D-9EDE-C450147E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2099-47BC-4397-A11F-B83DFDC2700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«Основы законодательства РФ об охране здоровья гражданин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Тема презентаци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Частная система здравоохранен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 частной системе здравоохранения относя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лечебно-профилактические и аптечные учреждения, имущество которых находится в частной собственности, а также лица, занимающиеся частной медицинской практикой и частной фармацевтической деятельн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4704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ДЕЛ I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II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ПРАВА ГРАЖДАН В ОБЛАСТИ ОХРАНЫ ЗДОРОВЬ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раждане РФ обладают неотъемлемым правом на охрану здоровь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Это право обеспечивается охраной окружающей природной среды, созданием благоприятных условий труда, быта, отдыха, воспитания и обучения граждан, производством и реализацией доброкачественных продуктов питания, а также предоставлением населению доступной медико-социальной помощ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58000" y="1412280"/>
            <a:ext cx="49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аво граждан РФ на охрану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обеспечивает гражданам охрану здоровья независимо от пола, расы, национальности, языка, социального происхождения, должностного положения, места жительства, отношения к религии, убеждений, принадлежности к общественным объединениям, а также других обстоятель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гарантирует гражданам защиту от любых форм дискриминации, обусловленной наличием у них каких-либо заболеван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о граждан на медико-социальную помощ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заболевании, утрате трудоспособности и в иных случаях граждане имеют право на медико-социальную помощь, которая включает профилактическую, лечебно-диагностическую, реабилитационную, протезно-ортопедическую и зубопротезную помощь, а также меры социального характера по уходу за больными, нетрудоспособными и инвалидами, включая выплату пособия по временной нетрудоспособ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дико-социальная помощь оказывается медицинскими, социальными работниками и иными специалистами в учреждениях государственной, муниципальной и частной систем здравоохранения, а также в учреждениях системы социальной защиты насе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е имеют право на бесплатную медицинскую помощь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ДЕЛ 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V ПРАВА ОТДЕЛЬНЫХ ГРУПП НАСЕЛЕНИЯ В ОБЛАСТ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ОХРАНЫ ЗДОРОВЬ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ждый гражданин имеет право по медицинским показаниям на бесплатные консультации по вопросам планирования семьи, наличия социально значимых заболеваний и заболеваний, представляющих опасность для окружающих, по медико-психологическим аспектам семейно-брачных отношений, а также на медико-генетические, другие консультации и обследования в учреждениях государственной или муниципальной системы здравоохранения с целью предупреждения возможных наследственных заболеваний у потом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016280" y="1264680"/>
            <a:ext cx="25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ва семь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беременных женщин и матерей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обеспечивает беременным женщинам право на работу в условиях, отвечающих их физиологическим особенностям и состоянию здоровь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нщины во время беременности и в связи с рождением ребенка, а также во время ухода за больными детьми в возрасте до 15 лет имеют право на получение пособия и оплачиваемого отпуска в установленном законом поряд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рава несовершеннолетних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спансерное наблюдение и лечение в детской и подростковой службах в порядке, устанавливаемом Министерством здравоохранения РФ, министерствами здравоохранения республик в составе РФ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дико-социальную помощь и питание на льготных условиях, устанавливаемых Правительством РФ, за счет средств бюджетов всех уровней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нитарно-гигиеническое образование, на обучение и труд в условиях, отвечающих их физиологическим особенностям и состоянию здоровья и исключающих воздействие на них неблагоприятных факторов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сплатную медицинскую консультацию за счет средств бюджетов всех уровней при определении профессиональной пригодност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чение необходимой информации о состоянии здоровья в доступной для них форм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военнослужащих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803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еннослужащие имеют право на медицинское освидетельствование для определения годности к военной службе и досрочное увольнение с военной службы на основании заключения военно-врачебн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мисс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еннослужащие, граждане, подлежащие призыву на военную службу и поступающие на военную службу по контракту, имеют право на получение медицинской помощи в учреждениях государственной или муниципальной системы здравоохран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граждан пожилого возраста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е пожилого возраста имеют право на медико-социальную помощь на дому, в учреждениях государственной или муниципальной системы здравоохранения, а также в учреждениях системы социальной защиты населения и на лекарственное обеспечение, в том числе на льготных условиях. Медико-социальная помощь гражданам пожилого возраста направлена на лечение имеющихся у них заболеваний и уход, поддержание их активного образа жизни и социальную защиту в случае болезни и неспособности удовлетворять свои основные жизненные потреб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е пожилого возраста на основании медицинского заключения имеют право на санаторно-курортное лечение и реабилитацию бесплатно или на льготных условиях за счет средств социального страхования, органов социальной защиты населения и за счет средств предприятий, учреждений и организаций при их соглас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инвалидов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Инвалиды, в том числе дети-инвалиды и инвалиды с детства, имеют право на медико-социальную помощь, реабилитацию, обеспечение лекарствами, протезами, протезно-ортопедическими изделиями, средствами передвижения на льготных условиях, а также на профессиональную подготовку и переподготовку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Нетрудоспособные инвалиды имеют право на бесплатную медико-социальную помощь в учреждениях государственной или муниципальной системы здравоохранения, на уход на дому, а в случае неспособности удовлетворять основные жизненные потребности - на содержание в учреждениях системы социальной защиты населения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7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8680" y="907200"/>
            <a:ext cx="38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I ОБЩИЕ ПОЛ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94320" y="1412280"/>
            <a:ext cx="744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II ОРГАНИЗАЦИЯ ОХРАНЫ ЗДОРОВЬЯ ГРАЖДАН В Р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0" y="1915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I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ПРАВА ГРАЖДАН В ОБЛАСТИ ОХРАНЫ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2349000"/>
            <a:ext cx="88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V ПРАВА ОТДЕЛЬНЫХ ГРУПП НАСЕЛЕНИЯ В ОБЛАСТИ ОХРАНЫ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0" y="3068280"/>
            <a:ext cx="87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V ПРАВА ГРАЖДАН ПРИ ОКАЗАНИИ МЕДИКО-СОЦИАЛЬНОЙ ПОМОЩ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37159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VI МЕДИЦИНСКАЯ ДЕЯТЕЛЬНОСТЬ ПО ПЛАНИРОВАНИЮ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ЕМЬИ И РЕГУЛИРОВАНИЮ РЕПРОДУКТИВНОЙ ФУНКЦИИ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443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VII ГАРАНТИИ ОСУЩЕСТВЛЕНИЯ МЕДИКО-СОЦИАЛЬНОЙ ПОМОЩИ ГРАЖДАНА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85680" y="5157000"/>
            <a:ext cx="51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МЕДИЦИНСКАЯ ЭКСПЕРТИ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46080" y="5589000"/>
            <a:ext cx="75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X ПРАВА И СОЦИАЛЬНАЯ ЗАЩИТА МЕДИЦИНСКИХ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АРМАЦЕВТИЧЕСКИХ РАБОТНИК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435880" cy="13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ЗДЕЛ V ПРАВА ГРАЖДАН ПРИ ОКАЗАНИИ МЕДИКО-СОЦИАЛЬНОЙ ПОМОЩ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уважительное и гуманное отношение со стороны медицинского и обслуживающего персонал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обследование, лечение и содержание в условиях, соответствующих санитарно-гигиеническим требованиям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проведение по его просьбе консилиума и консультаций других специалистов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получение медицинских и иных услуг в рамках программ добровольного медицинского страхования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случае нарушения прав пациента он может обращаться с жалобой непосредственно к руководителю или иному должностному лицу лечебно-профилактического учреждения, в котором ему оказывается медицинская помощь, в соответствующие профессиональные медицинские ассоциации и лицензионные комиссии либо в суд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64200" y="1131840"/>
            <a:ext cx="278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ава пациент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Право граждан на информацию о состоянии здоровья</a:t>
            </a:r>
            <a:br>
              <a:rPr sz="2000"/>
            </a:b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гражданин имеет право в доступной для него форме получить имеющуюся информацию о состоянии своего здоровья, включая сведения о результатах обследования, наличии заболевания, его диагнозе и прогнозе, методах лечения, связанном с ними риске, возможных вариантах медицинского вмешательства, их последствиях и результатах проведенного леч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ЗДЕЛ VII ГАРАНТИИ ОСУЩЕСТВЛЕНИЯ МЕДИКО-СОЦИАЛЬНОЙ ПОМОЩИ ГРАЖДАНАМ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746000"/>
            <a:ext cx="867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чение наиболее распространенных болезней, а также травм, отравлений и других неотложных состоя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дение санитарно-гигиенических и противоэпидемических мероприятий, медицинской профилактики важнейших заболева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нитарно-гигиеническое образов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дение мер по охране семьи, материнства, отцовства и детства, других мероприятий, связанных с оказанием медико-санитарной помощи гражданам по месту житель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59560" y="1006920"/>
            <a:ext cx="66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рвичная медико-санитарная помощ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Скорая медицинская помощ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Скорая медицинская помощь оказывается гражданам при состояниях, требующих срочного медицинского вмешательства (при несчастных случаях, травмах, отравлениях и других состояниях и заболеваниях), осуществляется безотлагательно лечебно-профилактическими учреждениями независимо от территориальной, ведомственной подчиненности и формы собственности, медицинскими работниками, а также лицами, обязанными ее оказывать в виде первой помощи по закону или по специальному правилу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Специализированная медицинская помощ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ециализированная медицинская помощь оказывается гражданам при заболеваниях, требующих специальных методов диагностики, лечения и использования сложных медицинских технолог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ециализированная медицинская помощь оказывается за счет средств бюджетов всех уровней, целевых фондов, предназначенных для охраны здоровья граждан, личных средств граждан и других источников, не запрещенных законодательством РФ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613080" y="-360"/>
            <a:ext cx="2881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Arial"/>
              </a:rPr>
              <a:t>Тест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Что такое охрана здоровь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Назовите основные задачи законодательства РФ об охране здоровья гражд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Назовите три уровня на которых осуществляется здравоохранение в РФ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Что относится к Государственной системе здравоохранения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Что относится к Муниципальной системе здравоохранения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Что относится к Частной системе здравоохранения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 Каким неотъемлемым правом обладают граждане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 Перечислите основные группы населения, которые обладают правами в области охраны здоровь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. Назовите три основных права паци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. Перечислите три гарантированных вида осуществления медико-социальной помощ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ДЕЛ I ОБЩИЕ ПОЛОЖЕНИЯ</a:t>
            </a:r>
            <a:br>
              <a:rPr sz="2400"/>
            </a:b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Охрана здоровья граждан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77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храна здоровья гражда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это совокупность мер политического, экономического, правового, социального, культурного, научного, медицинского, санитарно-гигиенического и противоэпидемического характера, направленных на сохранение и укрепление физического и психического здоровья каждого человека, поддержание его долголетней активной жизни, предоставление ему медицинской помощи в случае утраты здоров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Основные принципы охраны здоровья граждан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блюдение прав человека и гражданина в области охраны здоровья и обеспечение связанных с этими правами государственных гарантий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оритет профилактических мер в области охраны здоровья граждан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ступность медико-социальной помощ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циальная защищенность граждан в случае утраты здоровь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тственность органов государственной власти и управления, предприятий, учреждений и организаций независимо от формы собственности, должностных лиц за обеспечение прав граждан в области охраны здоров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Задачи законодательства РФ об охране здоровья граждан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ение ответственности и компетенции РФ, республик в составе РФ, автономной области, автономных округов, краев, областей, городов Москвы и Санкт-Петербурга по вопросам охраны здоровья граждан в соответствии с Федеративным договором, а также определение ответственности и компетенции органов местного самоуправления по вопросам охраны здоровья граждан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авовое регулирован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области охраны здоровья граждан деятельности предприятий, учреждений и организаций независимо от формы собственности, а также государственной, муниципальной и частной систем здравоохран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ределение прав гражда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отдельных групп населения в области охраны здоровья и установление гарантий их соблюд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ределение профессиональных пра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обязанностей и ответственности медицинских и фармацевтических работников, установление гарантий их социальной защи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ЗДЕЛ II ОРГАНИЗАЦИЯ ОХРАНЫ ЗДОРОВЬЯ ГРАЖДАН В РФ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бюджетов всех уровн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, направляемые на обязательное и добровольное медицинское страхование в соответствии с Законом РФ "О медицинском страховании граждан в РФ"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целевых фондов, предназначенных для охраны здоровья граждан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государственных и муниципальных предприятий, организаций и других хозяйствующих субъектов, общественных объединен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ходы от ценных бумаг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едиты банков и других кредитор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звозмездные и (или) благотворительные взносы и пожертвов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ые источники, не запрещенные законодательством РФ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70440" y="981000"/>
            <a:ext cx="55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инансирование охраны здоровья гражд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209160" y="1484280"/>
            <a:ext cx="79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точниками финансирования охраны здоровья граждан являются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Здравоохранение в РФ осуществляется на трех уровнях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осударственны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униципальны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астны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50752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Государственная система здравоохранен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 государственной системе здравоохранения относя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Министерство здравоохранения РФ, органы управления здравоохранением субъектов в составе РФ, Российская академия медицинских наук, Государственный комитет санитарно-эпидемиологического надзора Р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Муниципальная система здравоохране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 муниципальной системе здравоохранения относятс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униципальные органы управления здравоохранением и находящиеся в муниципальной собственности лечебно-профилактические и научно-исследовательские учреждения, фармацевтические предприятия и организации, аптечные учреждения, учреждения судебно-медицинской экспертизы, образовательные учрежд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6:39:45Z</dcterms:created>
  <dc:creator>Рома</dc:creator>
  <dc:description/>
  <dc:language>en-US</dc:language>
  <cp:lastModifiedBy>LEGION</cp:lastModifiedBy>
  <dcterms:modified xsi:type="dcterms:W3CDTF">2015-01-28T11:29:53Z</dcterms:modified>
  <cp:revision>7</cp:revision>
  <dc:subject/>
  <dc:title>«Основы законодательства РФ об охране здоровья гражданина»</dc:title>
</cp:coreProperties>
</file>