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D042-5EFC-4A2B-BAD4-A02DB667F4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ы законодательства РФ об охране здоровья граждан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0F6C-C621-46A4-8B16-D3636CA817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Част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част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C77F-6D17-4D08-AB7F-FB6B4F3925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I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ПРАВА ГРАЖДАН В ОБЛАСТИ 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 РФ обладают неотъемлемым правом на охрану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FA8A-38D3-4F32-86A4-28C77A29B3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C3AF-B3EC-43D9-A177-AC710D76D9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граждан на медико-социаль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имеют право на бесплатную медицинскую помощь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678C-7F5F-4FDE-908B-497C538552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ПРАВА ОТДЕЛЬНЫХ ГРУПП НАСЕЛЕНИЯ В ОБ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BAE6-5F13-41A9-84FD-ECD96A63DB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ава беременных женщин и матер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7377-44D4-4989-B7D6-99EE42CED7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еобходимой информации о состоянии здоровья в доступной для них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4C7C-DB8A-4C8A-AC65-F5CED0459E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военнослужа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 коми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3266-194C-4A1B-AC42-0B53B57F81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граждан пожил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4D4B-4324-4452-8834-4CD8E53BB7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инвал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061D-F2CF-429B-9911-8F31E3A2AA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C2F2-888A-4C19-A36E-5BDC190480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 ПРАВА ГРАЖДАН ПРИ ОКАЗАНИИ МЕДИКО-СОЦИАЛЬНОЙ ПОМО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ение по его просьбе консилиума и консультаций других специали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6F58-6D89-4B4D-B2C9-9BA670917C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аво граждан на информацию о состоянии здоровья</a:t>
            </a:r>
            <a:br>
              <a:rPr sz="1000"/>
            </a:br>
            <a:br>
              <a:rPr sz="16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1E08-842A-447B-B89C-B565B60775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II ГАРАНТИИ ОСУЩЕСТВЛЕНИЯ МЕДИКО-СОЦИАЛЬНОЙ ПОМОЩИ ГРАЖДА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CFD5-E254-462C-9A90-EDB83A2CF1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25BF-2905-476F-A499-B02856D643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C812-119C-47F3-B7C5-8B41F81193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Что такое охрана здоров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азовите три основных права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FD41-31FF-476B-9024-78B2D5F4C9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 ОБЩИЕ ПОЛОЖЕНИЯ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3F5E-4FAD-4617-995F-743BCF21F0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сновные принципы охраны здоровья граждан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 профилактических мер в области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медико-социальной помо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защищенность граждан в случае утраты здоров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B647-214D-44EF-B223-D53154C7B2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законодательства РФ об охране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регу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ав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офессиональных пр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8E2C-53F9-4D7D-A9B6-A1F60EB676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I ОРГАНИЗАЦИЯ ОХРАНЫ ЗДОРОВЬЯ ГРАЖДАН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бюджетов всех уров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целевых фондов, предназначенных для охраны здоровья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 и других креди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озмездные и (или) благотворительные взносы и пожертв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источники, не запрещенные законода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8152-3857-41D8-92FA-4DC6B07144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дравоохранение в РФ осуществляется на трех уровн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C0AF-6026-42E7-A911-7E9931C750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Государствен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государствен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43A6-7453-40EA-8AF9-63FD4EAF6D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ниципальная система здравоохра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муниципаль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B0A0-6CF6-441F-987F-470057C679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4EE-AEF8-4666-9AF3-DD243EF2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180-26F5-4FA4-90DD-942D6449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025-F1FC-4B06-8AB4-6330289C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3AB-E8E3-42BB-A750-F38F4B49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8BF-9B66-419D-98B1-CBD65CB9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D7E-5FF2-46FB-A0C2-534F8A85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8D8-AA3E-49BF-8093-3F36DDA2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C05-FF1D-470E-BD7C-9B64BC0C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696-208E-40FE-912A-9D8A8402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BF9-58A0-4C22-B977-0D74D2EA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564-4753-4912-8D2C-FA8C112B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8DF-83A1-4771-80B5-A8091481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C1A2-7515-4C14-855F-2D4CAEF8B3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Основы законодательства РФ об охране здоровья гражданин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ема презентац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аст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част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470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аждане РФ обладают неотъемлемым правом на охрану здоровь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58000" y="14122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 граждан РФ на охрану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о граждан на медико-социальную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имеют право на бесплатную медицинскую помощь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V ПРАВА ОТДЕЛЬНЫХ ГРУПП НАСЕЛЕНИЯ В ОБЛАСТ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016280" y="126468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беременных женщин и матере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а несовершеннолетни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необходимой информации о состоянии здоровья в доступной для них фор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военнослужащих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и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граждан пожилого возраст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инвалид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8680" y="90720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 ОБЩИЕ 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94320" y="141228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1915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2349000"/>
            <a:ext cx="88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V ПРАВА ОТДЕЛЬНЫХ ГРУПП НАСЕЛЕНИЯ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068280"/>
            <a:ext cx="87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3715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 МЕДИЦИНСКАЯ ДЕЯТЕЛЬНОСТЬ ПО ПЛАНИРОВАНИ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МЬИ И РЕГУЛИРОВАНИЮ РЕПРОДУКТИВНОЙ ФУНК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44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85680" y="5157000"/>
            <a:ext cx="51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МЕДИЦИНСКАЯ ЭКСПЕРТИ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6080" y="558900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X ПРАВА И СОЦИАЛЬНАЯ ЗАЩИТА МЕДИЦИН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РМАЦЕВТИЧЕСКИХ РАБОТНИ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роведение по его просьбе консилиума и консультаций других специалистов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64200" y="1131840"/>
            <a:ext cx="278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 пациент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раво граждан на информацию о состоянии здоровья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74600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9560" y="10069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ичная медико-санитарная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кор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пециализированн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613080" y="-360"/>
            <a:ext cx="288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Тес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Что такое охрана здоровь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Назовите три основных права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 ОБЩИЕ ПОЛОЖЕНИЯ</a:t>
            </a:r>
            <a:br>
              <a:rPr sz="2400"/>
            </a:b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Охрана здоровья граждан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храна здоровья гражд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Основные принципы охраны здоровья гражда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ритет профилактических мер в области охраны здоровья граждан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упность медико-социальной помощ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ая защищенность граждан в случае утраты здоровь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Задачи законодательства РФ об охране здоровья граждан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овое регу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ав гражд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офессиональных пра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бюджетов всех уровн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целевых фондов, предназначенных для охраны здоровья гражд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ходы от ценных бума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едиты банков и других кредито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звозмездные и (или) благотворительные взносы и пожертв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ые источники, не запрещенные законодательством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70440" y="981000"/>
            <a:ext cx="55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инансирование охраны здоровья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09160" y="1484280"/>
            <a:ext cx="79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чниками финансирования охраны здоровья граждан являютс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Здравоохранение в РФ осуществляется на трех уровнях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осударствен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униципаль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астн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5075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Государствен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государствен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униципальная система здравоохране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 муниципальной системе здравоохранения относя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39:45Z</dcterms:created>
  <dc:creator>Рома</dc:creator>
  <dc:description/>
  <dc:language>en-US</dc:language>
  <cp:lastModifiedBy>LEGION</cp:lastModifiedBy>
  <dcterms:modified xsi:type="dcterms:W3CDTF">2015-01-28T11:29:53Z</dcterms:modified>
  <cp:revision>7</cp:revision>
  <dc:subject/>
  <dc:title>«Основы законодательства РФ об охране здоровья гражданина»</dc:title>
</cp:coreProperties>
</file>