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9A78-7937-4CE3-A0AF-CDC9044635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ы законодательства РФ об охране здоровья граждан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FAF9-119C-49D3-BD6F-F399B616FD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Част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част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52D6-B55A-4D08-B719-A415D2F016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I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ПРАВА ГРАЖДАН В ОБЛАСТИ 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 РФ обладают неотъемлемым правом на охрану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C740-B273-497C-B318-4A64475E59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3B73-3069-4768-AC28-D58415CE5F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граждан на медико-социаль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имеют право на бесплатную медицинскую помощь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C6DD-70BF-4095-ABE0-224984C7B5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ПРАВА ОТДЕЛЬНЫХ ГРУПП НАСЕЛЕНИЯ В ОБ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5FAA-F72A-4AC0-86D1-0C74BE8B44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ава беременных женщин и матер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1745-B25B-4EE3-90DB-6BEDC19A08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еобходимой информации о состоянии здоровья в доступной для них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5178-698D-4436-B087-2618C95673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военнослужа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 коми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A7AE-D1A6-4D55-BD68-61A6F7D0A0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граждан пожил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F5AE-F46A-47B7-8393-6F1B9A737F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инвал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BD3F-BCF8-4A11-B9DC-117B2BDBD2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51D1-D223-4D74-9EE1-56BA87B713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 ПРАВА ГРАЖДАН ПРИ ОКАЗАНИИ МЕДИКО-СОЦИАЛЬНОЙ ПОМ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ение по его просьбе консилиума и консультаций других специали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3BB8-958E-46D9-9CDE-F3BC45CDBD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аво граждан на информацию о состоянии здоровья</a:t>
            </a:r>
            <a:br>
              <a:rPr sz="1000"/>
            </a:br>
            <a:br>
              <a:rPr sz="16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BB76-3FBB-42D2-B482-93C91A3429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II ГАРАНТИИ ОСУЩЕСТВЛЕНИЯ МЕДИКО-СОЦИАЛЬНОЙ ПОМОЩИ ГРАЖДА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8FDF-A168-4BA0-AA07-79AB1AD90A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FC78-3189-4985-B79E-6E515A709A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DA24-440F-4648-A36E-2C04B705BE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Что такое охрана здоров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азовите три основных права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9DCF-CFCA-4003-93ED-681ADDE348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 ОБЩИЕ ПОЛОЖЕНИЯ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3509-1518-4648-B43F-BF59FF2283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сновные принципы охраны здоровья граждан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 профилактических мер в области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медико-социальной помо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защищенность граждан в случае утраты здоров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1CBD-921F-41A5-9136-2EEC5A866E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законодательства РФ об охране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регу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ав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офессиональных пр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6F48-3D7C-48FE-B02F-0BC0044AC9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I ОРГАНИЗАЦИЯ ОХРАНЫ ЗДОРОВЬЯ ГРАЖДАН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бюджетов всех уров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целевых фондов, предназначенных для охраны здоровья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 и других креди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озмездные и (или) благотворительные взносы и пожертв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источники, не запрещенные законода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19EF-FBF4-4AA5-9D9A-343A4ED2B4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дравоохранение в РФ осуществляется на трех уровн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7430-FCBB-42A1-9473-845A0DCAA1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Государствен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государствен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F9E7-6DAE-4400-857B-D8CF469B4E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ниципальная система здравоохра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муниципаль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503C-CC69-4B23-890F-CD7FD3DB8B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390-CE26-4280-BECA-F07E99E0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0D5-10F1-4854-8172-17F2B6DD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D98-9FA8-4DE2-B47E-C4A67211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4A7-670F-4326-ACA3-90FE7D60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59E-946E-4D20-AC87-7732B82A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FBD-7D7A-48C3-AF23-8401FE38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FDE-6AC7-4D69-9CAD-8E44DB11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A47-0D22-4B94-AB40-112BFD1E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EA4-7EE1-4C77-9065-48620A65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734-F100-4E19-A4F8-7663E1E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868-04AE-474E-84A7-F51B7445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7F4-DDDB-4A2B-BB7C-F88383AB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B065-5E54-4E46-8532-A9ECC6241F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Основы законодательства РФ об охране здоровья гражданин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ема презентац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т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част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470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аждане РФ обладают неотъемлемым правом на охрану здоровь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58000" y="14122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 граждан РФ на охрану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о граждан на медико-социальную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имеют право на бесплатную медицинскую помощь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V ПРАВА ОТДЕЛЬНЫХ ГРУПП НАСЕЛЕНИЯ В ОБЛАСТ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016280" y="126468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беременных женщин и матере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а несовершеннолетни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необходимой информации о состоянии здоровья в доступной для них фор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военнослужащих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и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граждан пожилого возраст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инвалид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8680" y="90720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 ОБЩИЕ 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94320" y="141228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1915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2349000"/>
            <a:ext cx="88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V ПРАВА ОТДЕЛЬНЫХ ГРУПП НАСЕЛЕНИЯ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068280"/>
            <a:ext cx="87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3715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 МЕДИЦИНСКАЯ ДЕЯТЕЛЬНОСТЬ ПО ПЛАНИРОВАНИ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МЬИ И РЕГУЛИРОВАНИЮ РЕПРОДУКТИВНОЙ ФУНК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44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85680" y="5157000"/>
            <a:ext cx="51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МЕДИЦИНСКАЯ ЭКСПЕРТИ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6080" y="558900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X ПРАВА И СОЦИАЛЬНАЯ ЗАЩИТА МЕДИЦИН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РМАЦЕВТИЧЕСКИХ РАБОТНИ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роведение по его просьбе консилиума и консультаций других специалистов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64200" y="1131840"/>
            <a:ext cx="278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 пациен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раво граждан на информацию о состоянии здоровья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74600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9560" y="10069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ичная медико-санитарная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кор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пециализированн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613080" y="-360"/>
            <a:ext cx="288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Что такое охрана здоровь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Назовите три основных права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 ОБЩИЕ ПОЛОЖЕНИЯ</a:t>
            </a:r>
            <a:br>
              <a:rPr sz="2400"/>
            </a:b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Охрана здоровья граждан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храна здоровья гражд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Основные принципы охраны здоровья гражда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ритет профилактических мер в области охраны здоровья граждан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упность медико-социальной помощ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ая защищенность граждан в случае утраты здоровь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Задачи законодательства РФ об охране здоровья граждан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овое регу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ав гражд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офессиональных пра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бюджетов всех уровн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целевых фондов, предназначенных для охраны здоровья гражд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ходы от ценных бума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едиты банков и других кредито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звозмездные и (или) благотворительные взносы и пожертв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ые источники, не запрещенные законодательством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70440" y="98100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инансирование охраны здоровья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09160" y="1484280"/>
            <a:ext cx="79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чниками финансирования охраны здоровья граждан являютс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Здравоохранение в РФ осуществляется на трех уровнях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сударствен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униципаль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астн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5075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Государствен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государствен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ниципальная система здравоохране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 муниципальной системе здравоохранения относя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39:45Z</dcterms:created>
  <dc:creator>Рома</dc:creator>
  <dc:description/>
  <dc:language>en-US</dc:language>
  <cp:lastModifiedBy>LEGION</cp:lastModifiedBy>
  <dcterms:modified xsi:type="dcterms:W3CDTF">2015-01-28T11:29:53Z</dcterms:modified>
  <cp:revision>7</cp:revision>
  <dc:subject/>
  <dc:title>«Основы законодательства РФ об охране здоровья гражданина»</dc:title>
</cp:coreProperties>
</file>