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782400" cy="991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4192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41920" y="9419760"/>
            <a:ext cx="293832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375AE-2417-49AE-8CC6-5F760520580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ль юр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84888-35BC-4CCA-A202-72459E7F5A5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нская конвенция о применении международных договор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07BFE-9083-4355-86AC-41607B39167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Arial"/>
              </a:rPr>
              <a:t>Природа Конвенции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D1E2C-E3F2-41DA-95A6-7DD48DFD0A2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законодательств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213E5-08C4-46C0-B6CC-84F3DD0A1A8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едеральное законодательство о применении Конв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E7DBA-C3D0-4346-A410-721058D25D6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екомендации Комитета Министров СЕ о применении Конвенци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1CA16-9AF0-44F3-BEDD-D76F51D0106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C79AF-A94B-4769-9127-D19D32EB5E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8B1C-CBF9-425C-906B-59FD6642A68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начал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оинструктировал нижестоящие суды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ять международное пра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о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дал разъяснений 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F0435-227B-43BA-B36F-E1B20B9B94C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6964-A7E3-4194-B829-01A93C5C03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продолж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6D724-DCC9-4928-92A8-0CE005DBB77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Интервью Председателя Свердловского областного суд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SimSun"/>
              </a:rPr>
              <a:t>Из интернет пресс-конференции «Судья должен знать все»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70F91-C1E1-4F11-B496-A306CF3C401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оконча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DC4FB-9E53-4BA6-BA84-F9DB6C4DEDA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D9C6E-9141-4669-BC63-D819170B27C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67EE-5F04-487B-854D-690D2651B09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ституцион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23E77-C760-4BA6-B0D3-4F1B161CDE3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ховный су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42640-5789-4012-8D7E-C2898FA4179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рбитражные су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5FC85-A415-4992-9B02-BFD685CE074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и областные суды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6FE83-62DB-47A9-AA5E-592A458926E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BABF4-0397-4F6E-90A5-C6166BFB3192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4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1E19-C5AD-4E4D-9DFA-7E299396DC7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 (С. Беляев, Президент ОО «Сутяжник»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Никто не знал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где применять Конвенцию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к применять Конвенц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4B913-577D-46D3-A9F3-C1647CF67F7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82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3906B-CBCA-41BC-9408-C123BF3C178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Самообразов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одача ис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ый иск содержал параграф со ссылкой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обоснование по делу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аждое выступление в суде содержало ссылку на Конвенцию и положения Еврос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82EEB-E2DE-4B49-A72C-6C0ED7D559C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SimSun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71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  <a:ea typeface="SimSun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SimSun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BA00-AF1B-4DF4-873C-C99E98A6CC9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НИГА «Применение Конвенции в судах России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Применение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.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/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Книга распространяется бесплат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FB10E-1F48-45C2-AF6C-4AAA19A5C983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стория политического вступления России в Совет Европ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205FC-FC48-4847-9579-5FD16D803D31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следствия политического присоедин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32C63-B2A6-443E-979F-22C498ADAC8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ричина большого количества жалоб против Росс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3F8B4-400E-40AF-93F8-5B6269506ED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18643-A052-4DA2-9FD7-EA893CB561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лавная идея международного пра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DC0CB-F06A-4A44-82E3-321ACC6B84F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911160" y="744480"/>
            <a:ext cx="4959360" cy="371952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77880" y="4711680"/>
            <a:ext cx="54259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применять Конвенцию, нужно знать, чт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41920" y="9420120"/>
            <a:ext cx="29383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76CCE-EE46-46A3-BBF7-13D0F2FADA14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0BAC-F575-46C3-A167-DB9E84388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6AD6B-ED64-4AC1-9407-4988E9AB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5E71-EF7A-4311-9AD5-2A23C01BB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B56B-AEBE-4484-81A1-0C00B0F94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0F13-84A4-4636-9C63-FAFF640E7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AA342-2514-42D3-AE30-C6E888D05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CA6DE-0281-44FC-8B52-3244CD16A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D46B5-EAE7-4228-88EB-6FDB2B8B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19207-8D7A-4D7A-9D2B-5A0EAFAF9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8266-595A-4499-83E4-EC221A467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298B9-722D-4CDD-9E16-FD488B3E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1BD-74B2-4192-B225-FABDD4411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D5D11-5CFD-42E5-A03B-3D494B0FB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7F65D-429B-4F4E-BCF7-CAD94499E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AD69C-128B-473F-8AD3-CE16B6BA1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58C97-555E-4A2D-B4CD-C8E247811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01960-BA9C-4B5D-9299-19A484C5B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675C-140A-4A36-A925-C629F52CF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9F255-9774-401F-A1C4-02384AEB74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D078-ED54-4316-A273-EB0970A3D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EFE68-71A6-4EC0-A4DF-7589BFCB8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BD44-600E-4CAD-977B-164B57E2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3D6AE-F931-4CEE-9725-37A259715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2CCA3-23FE-4F99-8F01-4D08C4504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70604-F1B6-4D8B-8F1C-19B3E17E5A76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599F8-10CF-4A88-8818-D3A537A42123}" type="slidenum"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Применение Европейской конвенции о защите прав человека и основных свобод в правовой системе России</a:t>
            </a:r>
            <a:r>
              <a:rPr b="1" lang="en-GB" sz="2800" spc="-1" strike="noStrike">
                <a:solidFill>
                  <a:srgbClr val="330033"/>
                </a:solidFill>
                <a:latin typeface="Arial"/>
              </a:rPr>
              <a:t>: </a:t>
            </a:r>
            <a:r>
              <a:rPr b="1" lang="ru-RU" sz="2800" spc="-1" strike="noStrike">
                <a:solidFill>
                  <a:srgbClr val="330033"/>
                </a:solidFill>
                <a:latin typeface="Arial"/>
              </a:rPr>
              <a:t>роль юристов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нтон Бурков, к.ю.н., ОО «Сутяжник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3544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Венская конвенция о применении международных договоров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ункт «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 ч. 3 ст. 31 Венской конвенции о праве международных догов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при толковании международного договора наряду с его контекстом должна учитываться последующая практика применения договора…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 есть применять Конвенцию, значит делать это так, как это делает единственный международный орган, специально созданный для применения и толкования Конвенции – Европейский суд по правам чело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Природа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то значит выражение «Конвенция - живой организм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едседатель Евросуда: «Во время совещания мы очень редко когда обращаемся к тексту Конвенции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возможно выяснить, что имеется ввиду под тем или иным словом текста Конвенции без обращения к практике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Статус Конвенции в Российском законодательстве 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. 4 ст. 15 Конституции РФ и ст. 5 ФЗ «О международных договорах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…международные договоры Российской Федерации являются составной частью ее правовой системы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международным договором РФ установлены иные правила, чем предусмотренные законом, то применяются правила международного договора»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(приоритет над законом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ажданского процессуального кодек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4356000" y="4076640"/>
            <a:ext cx="432000" cy="574560"/>
          </a:xfrm>
          <a:prstGeom prst="downArrow">
            <a:avLst>
              <a:gd name="adj1" fmla="val 50000"/>
              <a:gd name="adj2" fmla="val 3325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330033"/>
                </a:solidFill>
                <a:latin typeface="Times New Roman"/>
              </a:rPr>
              <a:t>Федеральное законодательство о применении Конвенции</a:t>
            </a:r>
            <a:endParaRPr b="0" lang="en-US" sz="3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3 ФКЗ «О судебной системе»: «российские суды обязаны применять международные договоры России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т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ФЗ «О ратификации Конвенции»: «Российская Федерация в соответствии со статьей 46 Конвенции признает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в силу самого факт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и без специального соглашения юрисдикцию Европейского Суда по правам человека обязательной по вопросам толкования и применения Конвенции и Протоколов к ней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Рекомендации Комитета Министров СЕ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Необходимое условие эффективной защиты прав человека в Европе с помощью Конвенции состоит в том, что государства применяют Конвенцию в своих правовых системах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как она понимается в практике Европейского суд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(пункт 3 Рекомендации Комитета Министров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ec(2004)5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Законодатель и Конституционный суд о применении Конвенции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актика Конституционного суда говорит об обязанности применять Конвенцию, как она понимается в практике Европейского суда по правам чело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4 февраля 1992 г. № 2-П - «суды обязаны также оценивать подлежащий применению закон с точки зрения его соответствия принципам и нормам международного прав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абз 8 п. 6 постановления Конституционного Суда РФ от 2 февраля 1996 г. № 4-П - обязательство придать решениям международных органов, включая Европейский суд по правам человека, непосредственное действие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0033"/>
                </a:solidFill>
                <a:latin typeface="Times New Roman"/>
              </a:rPr>
              <a:t>Конституционный суд о применении Конвенции (продолжение)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5 января 2001 г. N 1-П - «Российская Федерация признала юрисдикцию Европейского Суда по правам человека и обязалась привести правоприменительную, в том числе судебную, практику в полное соответствие с обязательствами Российской Федерации, вытекающими из участия в Конвенции и Протоколах к ней.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тановление Конституционного Суда РФ от 2 февраля 2007 г. – «... как и Конвенция о защите прав человека и основных свобод, решения Европейского Суда по правам человека... являются составной частью российской правовой системы, а потому должны учитываться федеральным законодателем при регулировании общественных отношений и правоприменительными органами при применении соответствующих норм права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начало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«О некоторых вопросах применения судами Конституции Российской Федерации при осуществлении правосудия» от 31 октября 1995 г. № 8 пункт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оинструктировал нижестоящие суды </a:t>
            </a: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применять международное право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о не дал разъяснений о </a:t>
            </a: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порядке применения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положений международного права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ПВС «О применении судами общей юрисдикции общепризнанных принципов и норм международного права и международных договоров Российской Федерации» № 5 от 10 октября 2003 г.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вторяет конституционное указание применять Конвенцию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ъясняет как это делать – с учетом постановлений Европейского су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правильное применение может привести к отмене судебного решения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кий обзор судебной практики Евросуда по ст. 3, 5, 6 и 13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продолже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пункт «в» п. 4 ППВС «О судебном решении» № 23 от 19 декабря 2003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обходимость указывать в мотивировочной части решения примененный судом материальный или процессуальный закон, в частности Конвенцию, принимая во внимание постановления Европейского Суда по правам человека, в которых дано толкование положений Конвенции, подлежащих применению в данном деле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Интервью Председателя Свердловского областного суда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Нет, мы не проводим каких-либо тренингов по Конвенции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Какие тренинги необходимы, чтобы соблюдать требования ст. 6 Конвенции!? Все, что необходимо – это следовать национальному законодательству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(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 интернет пресс-конференции «Судья должен знать все»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ерховного суда РФ 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(окончание)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ПВС «О судебной практике по делам о защите чести и достоинства граждан, а также деловой репутации граждан и юридических лиц» № 3 от 24 февраля 2005 г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разъяснения о порядке применения ст. 10 Конвенции «Свобода выражения мнения»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остановления Пленума ВАС о применении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издавал каких-либо постановлений по вопросам применения Конвенции, НО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меется Информационное письмо Высшего арбитражного Суда РФ от 20 декабря 1999 г. № С1-7/СМП-1341 «Об основных положениях, применяемых Европейским судом по правам человека при защите имущественных прав и права на правосудие»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о было подписано 1,5 года спустя после ратификации Конвенц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Документ содержит краткое изложение основных положений, применяемых Евросудом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нем отсутствуют ссылки на конкретные судебные решения Евросуд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	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рактика применения Конвенции российскими судам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Конституцион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о сентября 2004 год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характер применения Конвенции – как правило, цитирование статей, то есть не применение постановлений Евро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нтябрь 2004 года имелось только 12 (!) постановлений, в которых Суд обращался к прецедентам Евросуда, из общего числа постановлений (54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следние изменения с 2004 года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С стал обращаться к решения Евросуда (более 50 %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х качество улучшилос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ялись решения Евросуда не только вынесенные против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ерховный суд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оворит одно (ППВС) – делает другое (практик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 2004 г. исследовано 3911 судебных решений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пособ приме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ько в 8 применялась Конвенц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0 решений содержат ссылки на постановления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ак правило, только указывается номер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лучшем случае, ВС пересказывает содержание стать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худшем ВС указывает, что то или иное действие не противоречит Конвенции в цел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сле 2003 года (принятие ППВС № 5) ситуация не изменилас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рбитражные су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следовано 38 068 судебных постановлени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23 постановлениях содержатся ссылки на статьи Конвенции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и в одном постановлении не содержится какой-либо ссылки на прецедентное право Европейского суд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правило, указывался только номер статьи Конвен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лучшем случае суды переписывали статью Конвенц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худшем случае суды указывали, что то или иное действие не противоречит Конвенции в цел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Районные и областные суды</a:t>
            </a: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йонные суды применяли прецеденты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собственной инициативе суд не применяет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тойкое нежелание судей применять Конвенц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ращения районных судов к судебной практике Евросуда были вызваны представлением сторонами исчерпывающих обоснова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избежать упоминания Конвенции в судебных решениях даже в тех случаях, когда положения Конвенции были в пользу лица, выигрывшего де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удьи стараются вынести решение по делу на основании только российского законодательства или только Конвенции без обращения к анализу прецедентного права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венция применялась теми судьями, которые регулярно сталкивались с аргументами сторон, основанных на положениях Конвен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Выводы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ение Конвенции судами не удовлетворительн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сбаланс между положениями законодательства и последующей судебной практи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нициатива по применению Конвенции остается за адвокатами (юристами) участвующими в процессах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 rot="5400000">
            <a:off x="3914640" y="3438360"/>
            <a:ext cx="1439640" cy="846000"/>
          </a:xfrm>
          <a:custGeom>
            <a:avLst/>
            <a:gdLst>
              <a:gd name="textAreaLeft" fmla="*/ 225000 w 1439640"/>
              <a:gd name="textAreaRight" fmla="*/ 1260000 w 1439640"/>
              <a:gd name="textAreaTop" fmla="*/ 211320 h 846000"/>
              <a:gd name="textAreaBottom" fmla="*/ 634680 h 84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Препятствия для применения Конвенции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отсутствие достаточных знаний норм международного права и прецедентов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отсутствие понимания судьями особой природы международного прецед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отсуствие официальног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а решений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отказ суда применять норму Конвенции или прецедентную норму из постановления Евросуда на том основании, что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опрос надлежащим образом урегулирован российским законодательств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5. предвзятое рассмотрение дела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есть «желание» рассмотреть дело в пользу государственного органа, судья целенаправленно не заметит ссылки сторон по делу на Конвенцию и судебную практику Евросу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81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6. Решение, основанное на статье Конвенции может привести к далеко идущим последствиям для государственного орга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рименение Конвенции в судах России: общие наблюдения</a:t>
            </a:r>
            <a:endParaRPr b="0" lang="en-US" sz="3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1996 г. ни мы, ни кто-либо другой в России не имели представления о том, как применять Конвенцию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.”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(С. Беляев, Президент ОО «Сутяжник»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кто не знал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где применять Конвенцию</a:t>
            </a: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SimSu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 применять Конвенцию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План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Политическое вступление России в Совет Европы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Качество применение Конвенции в российской паравовой систем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татус Конвенции в российском прав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менение Конвенции российскими судами как способ исчерпания внутренних средств правовой защиты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Роль адвокатов (юристов) в применении Конвенции в судах Росси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чины не применения Конвенции в судах Росс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9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принимаемые меры для применения Конвен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Стратегическая кампания по применению Конвенц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амообразов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дача иск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ый иск содержал параграф со ссылкой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обоснование по делу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ждое выступление в суде содержало ссылку на Конвенцию и положения Евросуд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Другие методы стратегической кампан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ение тому, что мы изучили на тренингах и на собственной практи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специальных тренинг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университета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 (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к правило частных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  <a:ea typeface="SimSun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ублик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атей в газетах и юридических журнала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ни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абота с пресс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релиз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есс-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руглые стол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ферен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учающий сайт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“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учаем Европейскую Конвенцию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SimSu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3600" indent="-536400">
              <a:lnSpc>
                <a:spcPct val="80000"/>
              </a:lnSpc>
              <a:spcBef>
                <a:spcPts val="476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www.sutyajnik.ru/rus/echr/schoo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577800" indent="-577800">
              <a:lnSpc>
                <a:spcPct val="80000"/>
              </a:lnSpc>
              <a:spcBef>
                <a:spcPts val="4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ача жалоб в Европейский су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КНИГА «Применение Конвенции в судах России»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00720" y="1844280"/>
            <a:ext cx="44640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Применение 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Европейской конвенции о защите прав человека в судах России / Под ред. А. Л. Буркова. ― Екатеринбург: Изд-во Урал. ун-та, 2006. ― 264 с. (Междунар. Защита прав человека; Вып. 6)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www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sutyajnik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rus</a:t>
            </a:r>
            <a:r>
              <a:rPr b="0" lang="ru-RU" sz="2500" spc="-1" strike="noStrike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2500" spc="-1" strike="noStrike">
                <a:solidFill>
                  <a:srgbClr val="000000"/>
                </a:solidFill>
                <a:latin typeface="Arial"/>
                <a:ea typeface="SimSun"/>
              </a:rPr>
              <a:t>librar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Arial"/>
              </a:rPr>
              <a:t>Книга распространяется бесплатно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Picture 5" descr="cover"/>
          <p:cNvPicPr/>
          <p:nvPr/>
        </p:nvPicPr>
        <p:blipFill>
          <a:blip r:embed="rId1">
            <a:alphaModFix amt="89000"/>
          </a:blip>
          <a:stretch/>
        </p:blipFill>
        <p:spPr>
          <a:xfrm>
            <a:off x="971640" y="1773360"/>
            <a:ext cx="3300480" cy="46288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История политического вступления России в Совет Европы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914040" y="1599840"/>
            <a:ext cx="380988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овет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858920" y="1989000"/>
            <a:ext cx="38098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оссия (МИ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826920" y="4292280"/>
            <a:ext cx="7772400" cy="218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динаковое заключе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правовой порядок Российской Федерации не соответствует стандартам Совета Европ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40"/>
          <p:cNvSpPr/>
          <p:nvPr/>
        </p:nvSpPr>
        <p:spPr>
          <a:xfrm rot="20031000">
            <a:off x="2842920" y="2708280"/>
            <a:ext cx="752400" cy="1407960"/>
          </a:xfrm>
          <a:prstGeom prst="downArrow">
            <a:avLst>
              <a:gd name="adj1" fmla="val 50000"/>
              <a:gd name="adj2" fmla="val 46782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41"/>
          <p:cNvSpPr/>
          <p:nvPr/>
        </p:nvSpPr>
        <p:spPr>
          <a:xfrm rot="1561800">
            <a:off x="5724000" y="2565360"/>
            <a:ext cx="708120" cy="1584360"/>
          </a:xfrm>
          <a:prstGeom prst="downArrow">
            <a:avLst>
              <a:gd name="adj1" fmla="val 50000"/>
              <a:gd name="adj2" fmla="val 55935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2"/>
          <p:cNvSpPr/>
          <p:nvPr/>
        </p:nvSpPr>
        <p:spPr>
          <a:xfrm>
            <a:off x="4500720" y="4724280"/>
            <a:ext cx="485640" cy="505080"/>
          </a:xfrm>
          <a:prstGeom prst="downArrow">
            <a:avLst>
              <a:gd name="adj1" fmla="val 50000"/>
              <a:gd name="adj2" fmla="val 26001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0033"/>
                </a:solidFill>
                <a:latin typeface="Times New Roman"/>
              </a:rPr>
              <a:t>Последствия политического присоединения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редсказания ученых:</a:t>
            </a:r>
            <a:r>
              <a:rPr b="0" i="1" lang="ru-RU" sz="2100" spc="-1" strike="noStrike">
                <a:solidFill>
                  <a:srgbClr val="000000"/>
                </a:solidFill>
                <a:latin typeface="Arial"/>
              </a:rPr>
              <a:t> «учитывая отсутствие у Российской Федерации опыта защиты прав человека на национальном уровне, в России может быть совершено много нарушений европейских стандартов прав человека, и они не будут устранены в рамках национальной правовой системы»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(Марк Джанис, 1996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Действительность спустя 10 лет после присоединения</a:t>
            </a:r>
            <a:r>
              <a:rPr b="1" lang="en-GB" sz="21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Россия лидирует по числу жалоб в Европейском суде по правам человека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ожидают своего рассмотрения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19000 (21.2 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России из общего числа -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89600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Для сравнения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только </a:t>
            </a:r>
            <a:r>
              <a:rPr b="0" lang="en-GB" sz="2100" spc="-1" strike="noStrike">
                <a:solidFill>
                  <a:srgbClr val="000000"/>
                </a:solidFill>
                <a:latin typeface="Arial"/>
              </a:rPr>
              <a:t>2350 (2.6%) 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жалоб против Великобритании ждет своего рассмотрения в Европейском суде по правам человека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0033"/>
                </a:solidFill>
                <a:latin typeface="Times New Roman"/>
              </a:rPr>
              <a:t>Причина большого количества жалоб против России</a:t>
            </a:r>
            <a:endParaRPr b="0" lang="en-US" sz="3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сутствие опыта защиты прав челове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 применение гарантий Конвенции в национальных судах и как следствие не исчерпание внутренних средств правовой защит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0033"/>
                </a:solidFill>
                <a:latin typeface="Times New Roman"/>
              </a:rPr>
              <a:t>Понимание защиты, предоставляемой Конвенцией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Статья 1. Обязательство соблюдать права человека: «Высокие Договаривающиеся Государства обеспечивают каждому находящемуся под их юрисдикцией права и свободы, определеные в разделе 1 Конвенции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нимание Совета Европы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, закрепленные в Конвенции защищаются в первую очередь в России (субсидиарный характер защиты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ссийское понимание: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о «писать в Страсбург»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жаловаться в международный орган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или </a:t>
            </a:r>
            <a:r>
              <a:rPr b="0" i="1" lang="ru-RU" sz="2200" spc="-1" strike="noStrike">
                <a:solidFill>
                  <a:srgbClr val="000000"/>
                </a:solidFill>
                <a:latin typeface="Arial"/>
              </a:rPr>
              <a:t>права защищаются в Страсбурге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AutoShape 5"/>
          <p:cNvSpPr/>
          <p:nvPr/>
        </p:nvSpPr>
        <p:spPr>
          <a:xfrm>
            <a:off x="4140360" y="3141720"/>
            <a:ext cx="936360" cy="718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330033"/>
                </a:solidFill>
                <a:latin typeface="Times New Roman"/>
              </a:rPr>
              <a:t>Главная идея международного права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щита прав человека состоит в том, чтобы «принести права человека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ДОМО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сто защиты не Франция, а Россия (основа этой идеи закреплена в ее статье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нвенции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"/>
          <p:cNvSpPr/>
          <p:nvPr/>
        </p:nvSpPr>
        <p:spPr>
          <a:xfrm rot="5400000">
            <a:off x="4248000" y="2889360"/>
            <a:ext cx="1152360" cy="1368360"/>
          </a:xfrm>
          <a:custGeom>
            <a:avLst/>
            <a:gdLst>
              <a:gd name="textAreaLeft" fmla="*/ 180000 w 1152360"/>
              <a:gd name="textAreaRight" fmla="*/ 1008360 w 1152360"/>
              <a:gd name="textAreaTop" fmla="*/ 342000 h 1368360"/>
              <a:gd name="textAreaBottom" fmla="*/ 1026360 h 1368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cc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330033"/>
                </a:solidFill>
                <a:latin typeface="Times New Roman"/>
              </a:rPr>
              <a:t>Чтобы применять Конвенцию, нужно знать, что</a:t>
            </a:r>
            <a:endParaRPr b="0" lang="en-US" sz="3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нвенция не «панацея от всех бед» (ст. 1 Конвенции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яется Конвенция главным образом в российских судах, а не в Европейском суде по правам человека (ст. 1 Конвенции, Рекомендациях Комитета Министров ЕС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нить Конвенцию значит применить статью Конвенции как она понимается в постановлениях Европейского суда по правам человека (практика Евросуда, Рекомендации Комитета Министров ЕС, российское прав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35268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15:48:41Z</dcterms:created>
  <dc:creator>ab636</dc:creator>
  <dc:description/>
  <dc:language>en-US</dc:language>
  <cp:lastModifiedBy>LEGION</cp:lastModifiedBy>
  <dcterms:modified xsi:type="dcterms:W3CDTF">2015-01-28T11:33:16Z</dcterms:modified>
  <cp:revision>166</cp:revision>
  <dc:subject/>
  <dc:title>Применение Европейской конвенции о защите прав человека и основных свобод в правовой системе России: роль юристов</dc:title>
</cp:coreProperties>
</file>