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BC5A-7DE0-4B3A-8CAE-57A96B9B8A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менение Европейской конвенции о защите прав человека и основных свобод в правовой системе России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ль юр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он Бурков, к.ю.н., ОО «Сутяж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3B74-DD64-45F1-A698-A23A369A4B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ская конвенция о применении международных дого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нкт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ч. 3 ст. 31 Венской конвенции о праве международных догово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 толковании международного договора наряду с его контекстом должна учитываться последующая практика применения договора…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о есть применять Конвенцию, значит делать это так, как это делает единственный международный орган, специально созданный для применения и толкования Конвенции – Европейский суд по правам челове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4C0D-624B-448A-BE81-D36FAEBF5E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ирода Конвен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значит выражение «Конвенция - живой организм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едатель Евросуда: «Во время совещания мы очень редко когда обращаемся к тексту Конвен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зможно выяснить, что имеется ввиду под тем или иным словом текста Конвенции без обращения к практике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9C4A-2461-4A25-8897-0C788007B8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ус Конвенции в Российском законодательст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. 4 ст. 15 Конституции РФ и ст. 5 ФЗ «О международных договор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…международные договоры Российской Федерации являются составной частью ее правовой системы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международным договором РФ установлены иные правила, чем предусмотренные законом, то применяются правила международного договора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риоритет над закон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ражданского процессуального кодек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43AF-2F1E-44D2-AA8F-873B23CCD0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едеральное законодательство о применении Конв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3 ФКЗ «О судебной системе»: «российские суды обязаны применять международные договоры Ро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З «О ратификации Конвенции»: «Российская Федерация в соответствии со статьей 46 Конвенции призна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силу самого фак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и без специального соглашения юрисдикцию Европейского Суда по правам человека обязательной по вопросам толкования и применения Конвенции и Протоколов к ней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CC89-4D6C-4CE2-A773-C55AEDA5F1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комендации Комитета Министров СЕ о применении Конв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обходимое условие эффективной защиты прав человека в Европе с помощью Конвенции состоит в том, что государства применяют Конвенцию в своих правовых система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к она понимается в практике Европейского су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ункт 3 Рекомендации Комитета Министров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(2004)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3643-1872-49BB-B31F-495C8FEC56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одатель и Конституционный суд о применении Конв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ка Конституционного суда говорит об обязанности применять Конвенцию, как она понимается в практике Европейского суда по правам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4 февраля 1992 г. № 2-П - «суды обязаны также оценивать подлежащий применению закон с точки зрения его соответствия принципам и нормам международного пра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бз 8 п. 6 постановления Конституционного Суда РФ от 2 февраля 1996 г. № 4-П - обязательство придать решениям международных органов, включая Европейский суд по правам человека, непосредственное действ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0429-3EFD-43D2-8C26-44769E3863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ституционный суд о применении Конвенции 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5 января 2001 г. N 1-П - «Российская Федерация признала юрисдикцию Европейского Суда по правам человека и обязалась привести правоприменительную, в том числе судебную, практику в полное соответствие с обязательствами Российской Федерации, вытекающими из участия в Конвенции и Протоколах к ней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 февраля 2007 г. – «... как и Конвенция о защите прав человека и основных свобод, решения Европейского Суда по правам человека... являются составной частью российской правовой системы, а потому должны учитываться федеральным законодателем при регулировании общественных отношений и правоприменительными органами при применении соответствующих норм прав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956C-79A3-4B6D-A4D1-C8EA1FC5EE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ча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В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«О некоторых вопросах применения судами Конституции Российской Федерации при осуществлении правосудия» от 31 октября 1995 г. № 8 пунк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роинструктировал нижестоящие суды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рименять международное пра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н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ал разъяснений 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рядке примен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ложений международного прав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FB43-40A7-48E5-947D-5D8C1C1361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ПВС «О применении судами общей юрисдикции общепризнанных принципов и норм международного права и международных договоров Российской Федерации» № 5 от 10 октября 2003 г.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торяет конституционное указание применять Конвен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ъясняет как это делать – с учетом постановлений Европейского с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равильное применение может привести к отмене судебного реш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кий обзор судебной практики Евросуда по ст. 3, 5, 6 и 13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5382-C8EC-417F-8CE5-32CFF67DE6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пункт «в» п. 4 ППВС «О судебном решении» № 23 от 19 декабря 2003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указывать в мотивировочной части решения примененный судом материальный или процессуальный закон, в частности Конвенцию, принимая во внимание постановления Европейского Суда по правам человека, в которых дано толкование положений Конвенции, подлежащих применению в данном де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323E-FABF-4882-9749-4570E1B3DF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Интервью Председателя Свердловского областного с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т, мы не проводим каких-либо тренингов по Конвенции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акие тренинги необходимы, чтобы соблюдать требования ст. 6 Конвенции!? Все, что необходимо – это следовать национальному законодательству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SimSun"/>
              </a:rPr>
              <a:t>Из интернет пресс-конференции «Судья должен знать все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89CC-235C-4F71-9020-1F6B953A79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конч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ВС «О судебной практике по делам о защите чести и достоинства граждан, а также деловой репутации граждан и юридических лиц» № 3 от 24 февраля 2005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ъяснения о порядке применения ст. 10 Конвенции «Свобода выражения мнения»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D99D-F0A0-40C5-9208-7662DE247C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АС о применении Конвен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здавал каких-либо постановлений по вопросам применения Конвенции, 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ся Информационное письмо Высшего арбитражного Суда РФ от 20 декабря 1999 г. № С1-7/СМП-1341 «Об основных положениях, применяемых Европейским судом по правам человека при защите имущественных прав и права на правосудие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о было подписано 1,5 года спустя после ратификации Конвен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умент содержит краткое изложение основных положений, применяемых Евросуд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м отсутствуют ссылки на конкретные судебные решения Евросу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2C02-99D5-4BC1-BC60-2EEF1E5DF2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ка применения Конвенции российскими су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4F12-FBE5-44FA-BAF4-E5E52573E2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онный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сентября 2004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 применения Конвенции – как правило, цитирование статей, то есть не применение постановлений Евро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сентябрь 2004 года имелось только 12 (!) постановлений, в которых Суд обращался к прецедентам Евросуда, из общего числа постановлений (5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ние изменения с 2004 год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С стал обращаться к решения Евросуда (более 50 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х качество улучшило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ялись решения Евросуда не только вынесенные проти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B023-92DD-45E9-8A3C-04801B2B45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ховный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 одно (ППВС) – делает другое (практ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 2004 г. исследовано 3911 судебных реш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 при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в 8 применялась Конвен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 решений содержат ссылки на постановл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только указывается номер стать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учшем случае, ВС пересказывает содержание стать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удшем ВС указывает, что то или иное действие не противоречит Конвенции в це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 2003 года (принятие ППВС № 5) ситуация не изменила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94CB-CF33-45A0-8638-743C8FCEA2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ые 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следовано 38 068 судебных постановле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3 постановлениях содержатся ссылки на статьи Конвен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 в одном постановлении не содержится какой-либо ссылки на прецедентное право Европейского су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указывался только номер статьи Конв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учшем случае суды переписывали статью Конв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удшем случае суды указывали, что то или иное действие не противоречит Конвенции в цел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048D-6DF2-4AE7-AA6A-A978A9AD35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онные и областные суд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онные суды применяли прецеденты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обственной инициативе суд не применяет Конв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йкое нежелание судей применять Конвен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я районных судов к судебной практике Евросуда были вызваны представлением сторонами исчерпывающих обосн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ьи стараются избежать упоминания Конвенции в судебных решениях даже в тех случаях, когда положения Конвенции были в пользу лица, выигрывшего де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ьи стараются вынести решение по делу на основании только российского законодательства или только Конвенции без обращения к анализу прецедентного права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применялась теми судьями, которые регулярно сталкивались с аргументами сторон, основанных на положениях Конв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7B3E-E23E-4947-98AB-F7E9C7F549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Конвенции судами не удовлетворите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баланс между положениями законодательства и последующей судебной практи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 по применению Конвенции остается за адвокатами (юристами) участвующими в процесса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6FD9-F955-45CF-B2BF-47AAEA87AE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репятствия для применения Конвен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тсутствие достаточных знаний норм международного права и прецедентов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тсутствие понимания судьями особой природы международного преце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тсуствие официальн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а решений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тказ суда применять норму Конвенции или прецедентную норму из постановления Евросуда на том основании, ч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 надлежащим образом урегулирован российским законодательст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едвзятое рассмотрение дел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есть «желание» рассмотреть дело в пользу государственного органа, судья целенаправленно не заметит ссылки сторон по делу на Конвенцию и судебную практику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Решение, основанное на статье Конвенции может привести к далеко идущим последствиям для государственного 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0100-2647-41ED-9D42-534FCD39F8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ение Конвенции в судах России: общие наблю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В 1996 г. ни мы, ни кто-либо другой в России не имели представления о том, как применять Конвенцию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.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 (С. Беляев, Президент ОО «Сутяжник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Никто не зна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где применять Конвенцию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к применять Конвен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02F4-C68C-49C5-AD2B-324518458D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Политическое вступление России в Совет Европ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Качество применение Конвенции в российской паравовой систе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тус Конвенции в российском пра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ение Конвенции российскими судами как способ исчерпания внутренних средств правовой защи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Роль адвокатов (юристов) в применении Конвенции в судах Росс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чины не применения Конвенции в судах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ринимаемые меры для применения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48CC-ED5B-4417-9A0A-5EF000F81E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атегическая кампания по применению Конвен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Само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одача 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ждый иск содержал параграф со ссылкой на Конвенцию и полож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ждое обоснование по делу содержало ссылку на Конвенцию и полож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ждое выступление в суде содержало ссылку на Конвенцию и полож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7826-B4A2-492D-99BF-F0AAAEBDA2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ругие методы стратегической камп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Обучение тому, что мы изучили на тренингах и на собственной прак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На специальных тренинг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В университета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ак правило частны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Публ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Статей в газетах и юридических журна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н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Работа с пресс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Пресс-рели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Пресс-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руглые ст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Обучающий сай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Изучаем Европейскую Конвенцию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SimSun"/>
              </a:rPr>
              <a:t>www.sutyajnik.ru/rus/echr/schoo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Подача жалоб в Европейский с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9DD7-D8D1-44F5-BAC8-CD5CE89468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ГА «Применение Конвенции в судах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римен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Европейской конвенции о защите прав человека в судах России / Под ред. А. Л. Буркова. ― Екатеринбург: Изд-во Урал. ун-та, 2006. ― 264 с. (Междунар. Защита прав человека; Вып. 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www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sutyajni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/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ru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/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нига распространяется бесплат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5109-6B9D-4A01-9D7C-E5C748E8C0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рия политического вступления России в Совет Европ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Евро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ссия (МИ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аковое заключение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авовой порядок Российской Федерации не соответствует стандартам Совета Евро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224A-C30E-4D92-A70E-ED2A66A4D7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следствия политического присо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казания ученых: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«учитывая отсутствие у Российской Федерации опыта защиты прав человека на национальном уровне, в России может быть совершено много нарушений европейских стандартов прав человека, и они не будут устранены в рамках национальной правовой системы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арк Джанис, 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йствительность спустя 10 лет после присоединения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 лидирует по числу жалоб в Европейском суде по правам человека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ют своего рассмотрения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000 (21.2 %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 против России из общего числа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960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равнения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50 (2.6%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 против Великобритании ждет своего рассмотрения в Европейском суде по правам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DD5F-5038-44AA-8FE6-827ED131B2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чина большого количества жалоб проти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опыта защиты прав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именение гарантий Конвенции в национальных судах и как следствие не исчерпание внутренних средств правовой защ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F877-6EC4-40A1-AD0C-9EDF983A98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имание защиты, предоставляемой Конвен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тья 1. Обязательство соблюдать права человека: «Высокие Договаривающиеся Государства обеспечивают каждому находящемуся под их юрисдикцией права и свободы, определеные в разделе 1 Конвенц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имание Совета Европы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, закрепленные в Конвенции защищаются в первую очередь в России (субсидиарный характер защит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ссийское понимание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о «писать в Страсбург»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жаловаться в международный орга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 защищаются в Страсбург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1564-E523-4C78-BB89-7BDD43B1AA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я идея международн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прав человека состоит в том, чтобы «принести права человек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ОМ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защиты не Франция, а Россия (основа этой идеи закреплена в ее статье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72B8-1195-4137-AF36-EBE9245B64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применять Конвенцию, нужно знать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не «панацея от всех бед» (ст. 1 Конвен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яется Конвенция главным образом в российских судах, а не в Европейском суде по правам человека (ст. 1 Конвенции, Рекомендациях Комитета Министров Е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ить Конвенцию значит применить статью Конвенции как она понимается в постановлениях Европейского суда по правам человека (практика Евросуда, Рекомендации Комитета Министров ЕС, российск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4AC0-6C36-423F-98C5-8C8F5869EE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EF84-E034-462D-BA82-01A2A3E5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AE18-8E6A-4350-A339-79FBCE86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2390-82BC-41A0-A898-A49A8D14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E3CA-9A77-4616-BD7C-EDAC1EF2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093B-16FD-4151-B7B5-1113235E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AA1E-D526-4AF4-AE3E-18631061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8041-D763-4DAE-866E-AF0B7090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4154-F8A8-4746-A424-B3479670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1796-3B39-47DA-9489-4E3E3B51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FA39-1770-4DCC-80BC-676482D2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3280-AA28-44AF-A871-FA2CF003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D304-5118-4078-9303-EA9D2C42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AB03-153F-4B40-901A-75525D9E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3AB9-2D76-4F8D-AFF4-0BDC9271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7E9E-5B05-4BDA-836A-77D7D029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2705-C45F-4F2E-940A-4DDFC5B4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3006-0CF0-4321-825D-B66073D5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BA10-DF43-4CC2-97AF-DC39F848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417E-94DD-4E92-91B1-57740901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7ABF-9154-401E-895B-EAEFE029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C69-1BA3-40DC-A348-9C93D6EA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F49F-88C2-4F94-8EAC-1ECA6DC5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C2B5-7BEC-47DA-AF8C-EB4DABD7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ABAA-1DE9-4F68-BE02-95749ECA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B292-0BE3-49BA-8B34-436700854F3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5FCA-E644-4349-9901-5782B4F8BCF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менение Европейской конвенции о защите прав человека и основных свобод в правовой системе России</a:t>
            </a:r>
            <a:r>
              <a:rPr b="1" lang="en-GB" sz="2800" spc="-1" strike="noStrike">
                <a:solidFill>
                  <a:srgbClr val="330033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роль юристов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он Бурков, к.ю.н., ОО «Сутяж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Венская конвенция о применении международных договоров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нкт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ч. 3 ст. 31 Венской конвенции о праве международных догов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и толковании международного договора наряду с его контекстом должна учитываться последующая практика применения договора…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есть применять Конвенцию, значит делать это так, как это делает единственный международный орган, специально созданный для применения и толкования Конвенции – Европейский суд по правам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Природа Конвенции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значит выражение «Конвенция - живой организм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седатель Евросуда: «Во время совещания мы очень редко когда обращаемся к тексту Конвенци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возможно выяснить, что имеется ввиду под тем или иным словом текста Конвенции без обращения к практике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татус Конвенции в Российском законодательстве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 4 ст. 15 Конституции РФ и ст. 5 ФЗ «О международных договор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…международные договоры Российской Федерации являются составной частью ее правовой системы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международным договором РФ установлены иные правила, чем предусмотренные законом, то применяются правила международного договора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риоритет над закон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жданского процессуального код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4356000" y="4076640"/>
            <a:ext cx="432000" cy="57456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Федеральное законодательство о применении Конвенции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3 ФКЗ «О судебной системе»: «российские суды обязаны применять международные договоры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З «О ратификации Конвенции»: «Российская Федерация в соответствии со статьей 46 Конвенции призна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силу самого фак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и без специального соглашения юрисдикцию Европейского Суда по правам человека обязательной по вопросам толкования и применения Конвенции и Протоколов к ней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Рекомендации Комитета Министров СЕ о применении Конвен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обходимое условие эффективной защиты прав человека в Европе с помощью Конвенции состоит в том, что государства применяют Конвенцию в своих правовых системах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она понимается в практике Европейского су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ункт 3 Рекомендации Комитета Министров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(2004)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Законодатель и Конституционный суд о применении Конвен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ка Конституционного суда говорит об обязанности применять Конвенцию, как она понимается в практике Европейского суда по правам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4 февраля 1992 г. № 2-П - «суды обязаны также оценивать подлежащий применению закон с точки зрения его соответствия принципам и нормам международного пра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бз 8 п. 6 постановления Конституционного Суда РФ от 2 февраля 1996 г. № 4-П - обязательство придать решениям международных органов, включая Европейский суд по правам человека, непосредственное действ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Конституционный суд о применении Конвенции (продолжение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5 января 2001 г. N 1-П - «Российская Федерация признала юрисдикцию Европейского Суда по правам человека и обязалась привести правоприменительную, в том числе судебную, практику в полное соответствие с обязательствами Российской Федерации, вытекающими из участия в Конвенции и Протоколах к ней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 февраля 2007 г. – «... как и Конвенция о защите прав человека и основных свобод, решения Европейского Суда по правам человека... являются составной частью российской правовой системы, а потому должны учитываться федеральным законодателем при регулировании общественных отношений и правоприменительными органами при применении соответствующих норм прав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начало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ПВС«О некоторых вопросах применения судами Конституции Российской Федерации при осуществлении правосудия» от 31 октября 1995 г. № 8 пунк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инструктировал нижестоящие суды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рименять международное пра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 не дал разъяснений о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орядке примен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ложений международного прав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ПВС «О применении судами общей юрисдикции общепризнанных принципов и норм международного права и международных договоров Российской Федерации» № 5 от 10 октября 2003 г.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торяет конституционное указание применять Конвен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ъясняет как это делать – с учетом постановлений Европейского с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равильное применение может привести к отмене судебного реш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кий обзор судебной практики Евросуда по ст. 3, 5, 6 и 13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пункт «в» п. 4 ППВС «О судебном решении» № 23 от 19 декабря 2003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обходимость указывать в мотивировочной части решения примененный судом материальный или процессуальный закон, в частности Конвенцию, принимая во внимание постановления Европейского Суда по правам человека, в которых дано толкование положений Конвенции, подлежащих применению в данном дел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вью Председателя Свердловского областного суд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т, мы не проводим каких-либо тренингов по Конвенции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ие тренинги необходимы, чтобы соблюдать требования ст. 6 Конвенции!? Все, что необходимо – это следовать национальному законодательству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интернет пресс-конференции «Судья должен знать все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оконча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ПВС «О судебной практике по делам о защите чести и достоинства граждан, а также деловой репутации граждан и юридических лиц» № 3 от 24 февраля 2005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ъяснения о порядке применения ст. 10 Конвенции «Свобода выражения мнения»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АС о применении Конвенц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здавал каких-либо постановлений по вопросам применения Конвенции, 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ся Информационное письмо Высшего арбитражного Суда РФ от 20 декабря 1999 г. № С1-7/СМП-1341 «Об основных положениях, применяемых Европейским судом по правам человека при защите имущественных прав и права на правосудие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о было подписано 1,5 года спустя после ратификации Конвен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умент содержит краткое изложение основных положений, применяемых Евросуд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м отсутствуют ссылки на конкретные судебные решения Евросу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ка применения Конвенции российскими суд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нституционный су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сентября 2004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 применения Конвенции – как правило, цитирование статей, то есть не применение постановлений Евро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сентябрь 2004 года имелось только 12 (!) постановлений, в которых Суд обращался к прецедентам Евросуда, из общего числа постановлений (5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ние изменения с 2004 год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С стал обращаться к решения Евросуда (более 50 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х качество улучшило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ялись решения Евросуда не только вынесенные проти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ерховный су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орит одно (ППВС) – делает другое (практ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 2004 г. исследовано 3911 судебных реш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 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в 8 применялась Конвен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решений содержат ссылки на постановления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равило, только указывается номер стат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лучшем случае, ВС пересказывает содержание стат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удшем ВС указывает, что то или иное действие не противоречит Конвенции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2003 года (принятие ППВС № 5) ситуация не изменила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рбитражные су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о 38 068 судебных постановл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3 постановлениях содержатся ссылки на статьи Конвен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в одном постановлении не содержится какой-либо ссылки на прецедентное право Европейского 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указывался только номер статьи Конв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учшем случае суды переписывали статью Конвен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удшем случае суды указывали, что то или иное действие не противоречит Конвенции в цел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йонные и областные суды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йонные суды применяли прецеденты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обственной инициативе суд не применяет Конв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йкое нежелание судей применять Конвенц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щения районных судов к судебной практике Евросуда были вызваны представлением сторонами исчерпывающих обоснов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дьи стараются избежать упоминания Конвенции в судебных решениях даже в тех случаях, когда положения Конвенции были в пользу лица, выигрывшего д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дьи стараются вынести решение по делу на основании только российского законодательства или только Конвенции без обращения к анализу прецедентного права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венция применялась теми судьями, которые регулярно сталкивались с аргументами сторон, основанных на положениях Конв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Конвенции судами не удовлетвор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баланс между положениями законодательства и последующей судебной практи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ициатива по применению Конвенции остается за адвокатами (юристами) участвующими в 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 rot="5400000">
            <a:off x="3914640" y="3438360"/>
            <a:ext cx="1439640" cy="84600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211320 h 846000"/>
              <a:gd name="textAreaBottom" fmla="*/ 634680 h 84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епятствия для применения Конвенц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тсутствие достаточных знаний норм международного права и прецедентов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тсутствие понимания судьями особой природы международного преце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тсуствие официальн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а решений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тказ суда применять норму Конвенции или прецедентную норму из постановления Евросуда на том основании, ч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 надлежащим образом урегулирован российским законодательст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едвзятое рассмотрение дел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есть «желание» рассмотреть дело в пользу государственного органа, судья целенаправленно не заметит ссылки сторон по делу на Конвенцию и судебную практику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Решение, основанное на статье Конвенции может привести к далеко идущим последствиям для государственного 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нение Конвенции в судах России: общие наблюд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96 г. ни мы, ни кто-либо другой в России не имели представления о том, как применять Конвенцию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.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. Беляев, Президент ОО «Сутяжник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то не знал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де применять Конвенцию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применять Конвенц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л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Политическое вступление России в Совет Европ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Качество применение Конвенции в российской паравовой систе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тус Конвенции в российском пра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ение Конвенции российскими судами как способ исчерпания внутренних средств правовой защи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Роль адвокатов (юристов) в применении Конвенции в судах Росс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чины не применения Конвенции в судах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ринимаемые меры для применения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ратегическая кампания по применению Конвенц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ача ис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ый иск содержал параграф со ссылкой на Конвенцию и положения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е обоснование по делу содержало ссылку на Конвенцию и положения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е выступление в суде содержало ссылку на Конвенцию и положения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ругие методы стратегической кампан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3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тому, что мы изучили на тренингах и на собственной прак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пециальных тренинг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университета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правило частны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бл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тей в газетах и юридических журна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н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с пресс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сс-рели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сс-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углые ст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ющий сай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аем Европейскую Конвенцию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www.sutyajnik.ru/rus/echr/schoo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ача жалоб в Европейский с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КНИГА «Применение Конвенции в судах России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00720" y="1844280"/>
            <a:ext cx="44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рименение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Европейской конвенции о защите прав человека в судах России / Под ред. А. Л. Буркова. ― Екатеринбург: Изд-во Урал. ун-та, 2006. ― 264 с. (Междунар. Защита прав человека; Вып. 6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www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sutyajnik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ru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rus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libra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Книга распространяется бесплат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cover"/>
          <p:cNvPicPr/>
          <p:nvPr/>
        </p:nvPicPr>
        <p:blipFill>
          <a:blip r:embed="rId1">
            <a:alphaModFix amt="89000"/>
          </a:blip>
          <a:stretch/>
        </p:blipFill>
        <p:spPr>
          <a:xfrm>
            <a:off x="971640" y="1773360"/>
            <a:ext cx="3300480" cy="462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История политического вступления России в Совет Европ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04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858920" y="1989000"/>
            <a:ext cx="38098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я (МИ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4292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аковое заключени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вовой порядок Российской Федерации не соответствует стандартам Совета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0"/>
          <p:cNvSpPr/>
          <p:nvPr/>
        </p:nvSpPr>
        <p:spPr>
          <a:xfrm rot="20031000">
            <a:off x="2842920" y="2708280"/>
            <a:ext cx="752400" cy="1407960"/>
          </a:xfrm>
          <a:prstGeom prst="downArrow">
            <a:avLst>
              <a:gd name="adj1" fmla="val 50000"/>
              <a:gd name="adj2" fmla="val 4678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1"/>
          <p:cNvSpPr/>
          <p:nvPr/>
        </p:nvSpPr>
        <p:spPr>
          <a:xfrm rot="1561800">
            <a:off x="5724000" y="2565360"/>
            <a:ext cx="708120" cy="1584360"/>
          </a:xfrm>
          <a:prstGeom prst="downArrow">
            <a:avLst>
              <a:gd name="adj1" fmla="val 50000"/>
              <a:gd name="adj2" fmla="val 5593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2"/>
          <p:cNvSpPr/>
          <p:nvPr/>
        </p:nvSpPr>
        <p:spPr>
          <a:xfrm>
            <a:off x="4500720" y="4724280"/>
            <a:ext cx="485640" cy="505080"/>
          </a:xfrm>
          <a:prstGeom prst="downArrow">
            <a:avLst>
              <a:gd name="adj1" fmla="val 50000"/>
              <a:gd name="adj2" fmla="val 26001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Последствия политического присоединения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едсказания ученых: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«учитывая отсутствие у Российской Федерации опыта защиты прав человека на национальном уровне, в России может быть совершено много нарушений европейских стандартов прав человека, и они не будут устранены в рамках национальной правовой системы»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(Марк Джанис, 1996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ействительность спустя 10 лет после присоединения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оссия лидирует по числу жалоб в Европейском суде по правам человека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жидают своего рассмотрения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19000 (21.2 %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алоб против России из общего числа -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89600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алоб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сравнения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2350 (2.6%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алоб против Великобритании ждет своего рассмотрения в Европейском суде по правам челове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Причина большого количества жалоб против Росс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опыта защиты прав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именение гарантий Конвенции в национальных судах и как следствие не исчерпание внутренних средств правовой защ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Понимание защиты, предоставляемой Конвенцией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тья 1. Обязательство соблюдать права человека: «Высокие Договаривающиеся Государства обеспечивают каждому находящемуся под их юрисдикцией права и свободы, определеные в разделе 1 Конвенц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имание Совета Европы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, закрепленные в Конвенции защищаются в первую очередь в России (субсидиарный характер защит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ссийское понимание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о «писать в Страсбург»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жаловаться в международный орга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 защищаются в Страсбург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140360" y="3141720"/>
            <a:ext cx="936360" cy="71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Главная идея международного пра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щита прав человека состоит в том, чтобы «принести права человек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М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защиты не Франция, а Россия (основа этой идеи закреплена в ее статье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вен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 rot="5400000">
            <a:off x="4248000" y="2889360"/>
            <a:ext cx="1152360" cy="136836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342000 h 1368360"/>
              <a:gd name="textAreaBottom" fmla="*/ 1026360 h 1368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Чтобы применять Конвенцию, нужно знать, что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нция не «панацея от всех бед» (ст. 1 Конвен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ется Конвенция главным образом в российских судах, а не в Европейском суде по правам человека (ст. 1 Конвенции, Рекомендациях Комитета Министров Е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ить Конвенцию значит применить статью Конвенции как она понимается в постановлениях Европейского суда по правам человека (практика Евросуда, Рекомендации Комитета Министров ЕС, российск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15:48:41Z</dcterms:created>
  <dc:creator>ab636</dc:creator>
  <dc:description/>
  <dc:language>en-US</dc:language>
  <cp:lastModifiedBy>LEGION</cp:lastModifiedBy>
  <dcterms:modified xsi:type="dcterms:W3CDTF">2015-01-28T11:33:16Z</dcterms:modified>
  <cp:revision>166</cp:revision>
  <dc:subject/>
  <dc:title>Применение Европейской конвенции о защите прав человека и основных свобод в правовой системе России: роль юристов</dc:title>
</cp:coreProperties>
</file>