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37CC-ED8B-4480-B518-C413E75E35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ль юр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CDE2-CB4D-4624-BF11-54546E9C8A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ая конвенция о применении международн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6F58-8EF3-4984-BD7B-86918002B6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ирода Конвен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C4BE-5019-4F0E-BEC9-60219425B4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законодатель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3CA2-CB25-482B-A54F-7E3732305E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деральное законодательство о применении Кон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71C8-EBF0-41C9-9EA3-06D1C0B0D7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омендации Комитета Министров СЕ о применении Конв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8E5B-B5D8-4AAE-9377-1B907109B1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E9E3-03A2-47F3-B710-FDF0DA0003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D9A3-2BDB-4E26-9CCF-D8CEF94005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ча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оинструктировал нижестоящие суд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ять международное пра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ал разъяснений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FD31-E38B-40B4-B03D-5D6F8C4600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EE45-22E6-410C-AFDD-C97FA58F26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727F-F637-4818-A000-DD3894B7E6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Интервью Председателя Свердловского областного с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SimSun"/>
              </a:rPr>
              <a:t>Из интернет пресс-конференции «Судья должен знать все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0FCD-1FEA-4799-B393-A24F820F32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конч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02DE-5942-4A31-B2E7-4642781F33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3BB2-72D9-4C53-9404-2FE0825A6F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70A4-4E60-4DC5-8C40-21149FEDA0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он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A9A4-F527-4241-9D29-6306B1121E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3D77-4677-4329-9955-485C2FD18B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е 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E20F-8982-4D34-9C0A-AB04FF76C3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и областные су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B3D3-1A7A-4160-A59C-241BEDA33C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1F02-A635-40DC-BC95-B327FB07F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610F-64B2-4C9E-930A-A40689D133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 (С. Беляев, Президент ОО «Сутяжник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икто не зна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где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к применять Конвен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63E4-347D-4A85-A136-BDB57C4F44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9454-EF4B-493C-A2D4-F8E57508D3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Сам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одача 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ый иск содержал параграф со ссылкой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обоснование по делу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выступление в суде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DB08-966E-493F-B86F-F00A7C5D5B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SimSun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0227-433A-4015-83F3-7F9BA29B97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«Применение Конвенции в судах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нига распространяется беспла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9BE3-40C9-4D98-8391-E7433CF9A8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ого вступления России в Совет Евро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179A-BAB1-4536-931B-3F412540E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следствия политического присо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A2B6-A2A8-4A65-9FA4-600394DBFA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чина большого количества жалоб проти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A09D-8BE1-4173-ACF0-1FF5CE6E0A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D46C-6319-4C5C-BE9F-44C0456B11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идея международн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C230-BA24-4827-92B0-CF946D8EA7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применять Конвенцию, нужно знать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0906-9A6F-4D2A-AA4A-FEF04E38E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AD0-9049-4CD3-8B73-4BF2F391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9F4-2B6B-4930-9BC5-9376E42F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BE1-2F25-49CE-863F-E58A78E2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7FB-3C7F-403F-8F59-0C4F7C33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3731-EEAF-4CDF-9593-53EF9BD1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BAB3-DCB8-47A1-8641-E9EA80B8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8B54-E087-4A59-A1E3-9D10C04F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DC1A-57A5-4BCC-A60A-A418D1DF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E662-EB65-4070-994D-C0D3120E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FF0E-1B90-4DDE-8D3E-25C8313D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D0B5-A1A6-402C-BA7F-5CD41699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3C2-45CE-4CDA-A6B9-F636CAA2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A97C-1346-47AF-AF45-F0EE8D51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3B53-6F25-47D4-92A4-A85CE8AE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E30F-47D2-49CC-BE00-5AB6811A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067E-DA48-41E0-AA4D-E487D0A6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B2A5-B8F5-4E3B-AFF5-4FEEB654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5605-B0C2-4979-A53C-B602C0C1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A4E-9199-42A2-9932-889605ED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B9BA-8AF6-467D-85E1-5EF7446F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401-1FBF-4E49-8F4D-3CE2467C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5A2-4F30-4D99-A5BC-CDB3EC8B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C52-900F-41A7-9EC7-53933325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92F-3B99-4D3F-99D2-B5C4E6BD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6352-50D1-43DE-9956-3620D1B55E6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168D-D856-4228-A4B4-6161D08F6B9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2800" spc="-1" strike="noStrike">
                <a:solidFill>
                  <a:srgbClr val="330033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роль юрист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Венская конвенция о применении международных договоров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Природа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тус Конвенции в Российском законодательстве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4356000" y="4076640"/>
            <a:ext cx="432000" cy="57456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Федеральное законодательство о применении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Рекомендации Комитета Министров СЕ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начало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инструктировал нижестоящие суды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именять международное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 не дал разъяснений о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вью Председателя Свердловского областного суд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интернет пресс-конференции «Судья должен знать все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оконча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ституцион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ерхов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рбитражные су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йонные и областные суды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5400000">
            <a:off x="3914640" y="3438360"/>
            <a:ext cx="1439640" cy="84600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211320 h 846000"/>
              <a:gd name="textAreaBottom" fmla="*/ 634680 h 84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. Беляев, Президент ОО «Сутяжник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то не зна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применять Конвенцию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применять Конвенц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л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ача и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ый иск содержал параграф со ссылкой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обоснование по делу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выступление в суде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НИГА «Применение Конвенции в судах России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00720" y="184428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нига распространяется бесплат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cover"/>
          <p:cNvPicPr/>
          <p:nvPr/>
        </p:nvPicPr>
        <p:blipFill>
          <a:blip r:embed="rId1">
            <a:alphaModFix amt="89000"/>
          </a:blip>
          <a:stretch/>
        </p:blipFill>
        <p:spPr>
          <a:xfrm>
            <a:off x="971640" y="1773360"/>
            <a:ext cx="3300480" cy="46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История политического вступления России в Совет Европ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58920" y="1989000"/>
            <a:ext cx="38098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4292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0"/>
          <p:cNvSpPr/>
          <p:nvPr/>
        </p:nvSpPr>
        <p:spPr>
          <a:xfrm rot="20031000">
            <a:off x="2842920" y="2708280"/>
            <a:ext cx="752400" cy="1407960"/>
          </a:xfrm>
          <a:prstGeom prst="downArrow">
            <a:avLst>
              <a:gd name="adj1" fmla="val 50000"/>
              <a:gd name="adj2" fmla="val 4678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1"/>
          <p:cNvSpPr/>
          <p:nvPr/>
        </p:nvSpPr>
        <p:spPr>
          <a:xfrm rot="1561800">
            <a:off x="5724000" y="2565360"/>
            <a:ext cx="708120" cy="1584360"/>
          </a:xfrm>
          <a:prstGeom prst="downArrow">
            <a:avLst>
              <a:gd name="adj1" fmla="val 50000"/>
              <a:gd name="adj2" fmla="val 5593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2"/>
          <p:cNvSpPr/>
          <p:nvPr/>
        </p:nvSpPr>
        <p:spPr>
          <a:xfrm>
            <a:off x="4500720" y="472428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Последствия политического присоедине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Причина большого количества жалоб против Росс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140360" y="3141720"/>
            <a:ext cx="93636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Главная идея международного пра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 rot="5400000">
            <a:off x="4248000" y="2889360"/>
            <a:ext cx="1152360" cy="1368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342000 h 1368360"/>
              <a:gd name="textAreaBottom" fmla="*/ 1026360 h 13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Чтобы применять Конвенцию, нужно знать, что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15:48:41Z</dcterms:created>
  <dc:creator>ab636</dc:creator>
  <dc:description/>
  <dc:language>en-US</dc:language>
  <cp:lastModifiedBy>LEGION</cp:lastModifiedBy>
  <dcterms:modified xsi:type="dcterms:W3CDTF">2015-01-28T11:33:16Z</dcterms:modified>
  <cp:revision>166</cp:revision>
  <dc:subject/>
  <dc:title>Применение Европейской конвенции о защите прав человека и основных свобод в правовой системе России: роль юристов</dc:title>
</cp:coreProperties>
</file>