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wmf" ContentType="image/x-wmf"/>
  <Override PartName="/ppt/media/image6.jpeg" ContentType="image/jpeg"/>
  <Override PartName="/ppt/media/image19.wmf" ContentType="image/x-wmf"/>
  <Override PartName="/ppt/media/image25.jpeg" ContentType="image/jpeg"/>
  <Override PartName="/ppt/media/image4.jpeg" ContentType="image/jpeg"/>
  <Override PartName="/ppt/media/image10.wmf" ContentType="image/x-wmf"/>
  <Override PartName="/ppt/media/image31.jpeg" ContentType="image/jpeg"/>
  <Override PartName="/ppt/media/image7.jpeg" ContentType="image/jpeg"/>
  <Override PartName="/ppt/media/image28.jpeg" ContentType="image/jpeg"/>
  <Override PartName="/ppt/media/image9.wmf" ContentType="image/x-wmf"/>
  <Override PartName="/ppt/media/image26.png" ContentType="image/png"/>
  <Override PartName="/ppt/media/image11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30.wmf" ContentType="image/x-wmf"/>
  <Override PartName="/ppt/media/image13.wmf" ContentType="image/x-wmf"/>
  <Override PartName="/ppt/media/image27.jpeg" ContentType="image/jpeg"/>
  <Override PartName="/ppt/media/image12.wmf" ContentType="image/x-wmf"/>
  <Override PartName="/ppt/media/image3.jpeg" ContentType="image/jpeg"/>
  <Override PartName="/ppt/media/image24.jpeg" ContentType="image/jpeg"/>
  <Override PartName="/ppt/media/image23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8794-B322-4AEC-A495-6B78848E71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839D-1F69-400E-BB9D-F6E1A69CFC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7ad1b"/>
                </a:solidFill>
                <a:latin typeface="Forte"/>
              </a:rPr>
              <a:t>Анализ данных социологического исследования</a:t>
            </a:r>
            <a:br>
              <a:rPr sz="1200"/>
            </a:br>
            <a:r>
              <a:rPr b="1" i="1" lang="ru-RU" sz="1200" spc="-1" strike="noStrike">
                <a:solidFill>
                  <a:srgbClr val="17ad1b"/>
                </a:solidFill>
                <a:latin typeface="Forte"/>
              </a:rPr>
              <a:t>«Права человека»</a:t>
            </a:r>
            <a:br>
              <a:rPr sz="1200"/>
            </a:br>
            <a:r>
              <a:rPr b="1" i="1" lang="ru-RU" sz="1600" spc="-1" strike="noStrike">
                <a:solidFill>
                  <a:srgbClr val="17ad1b"/>
                </a:solidFill>
                <a:latin typeface="Forte"/>
              </a:rPr>
              <a:t> </a:t>
            </a:r>
            <a:r>
              <a:rPr b="1" i="1" lang="ru-RU" sz="1100" spc="-1" strike="noStrike">
                <a:solidFill>
                  <a:srgbClr val="281bcb"/>
                </a:solidFill>
                <a:latin typeface="Forte"/>
              </a:rPr>
              <a:t>Таймановой Татьяны </a:t>
            </a:r>
            <a:br>
              <a:rPr sz="1100"/>
            </a:br>
            <a:r>
              <a:rPr b="1" i="1" lang="ru-RU" sz="1100" spc="-1" strike="noStrike">
                <a:solidFill>
                  <a:srgbClr val="281bcb"/>
                </a:solidFill>
                <a:latin typeface="Forte"/>
              </a:rPr>
              <a:t>( гр. 104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61D3-29A5-4245-9D5F-690D6F34F7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1. Чувствуете ли Вы себя защищенными в нашей стране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AD2A-8CD1-4727-A149-A48B059B8E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5. Соблюдаются ли Ваши прав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по месту работы ( учебы )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2BD7-4541-4EA7-B283-7AA568D0AD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cc00"/>
                </a:solidFill>
                <a:uFillTx/>
                <a:latin typeface="Arial"/>
              </a:rPr>
              <a:t>Принципы формирования правов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ава и свободы личности являются естественными, а не дарованными государством и принадлежат каждому от рож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человека регулируются только законом, никакой подзаконный акт не может их ограничит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законом все рав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ава и свободы должны быть едины на всей территории стра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е права граждан не должны противоречить правам лич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должны соблюдаться в любой ситуации, в том числе во время войны или чрезвычайного по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прос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ожно ли говорить о существовании правового государства в Росс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0BC6-8B1F-46ED-8F07-19996B2A40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ующее сегодня Российское законодательство предоставляет гражданину широкий спектр пра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нституции РФ записано, ч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рава и свободы человека и гражданина являются непосредственно действующими»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 может осуществлять свои права, защищать их, обратившись в суд и ссылаясь на Конститу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0810-C4C5-4F72-BC56-BEE935925B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2. </a:t>
            </a: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е документы по правам человек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3300"/>
                </a:solidFill>
                <a:latin typeface="Arial"/>
              </a:rPr>
              <a:t>«…всеобщее уважение прав человека является общей заботой всех правительств и всех народ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Arial"/>
              </a:rPr>
              <a:t>(Из послания Генерального секретаря О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Arial"/>
              </a:rPr>
              <a:t>Бутрос Бутрос Га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AA18-D2A4-4491-8E90-B1F0A2DF36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й Билль о правах человека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общая декларация прав человека (1948)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 декабр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ень прав человека. В этот день Генеральная Ассамблея ООН приняла единогласно Всеобщую декларацию прав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й пакт о гражданских и  политических  правах (196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й пакт об  экономических,  социальных и культурных правах (196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ативный протокол к Международному пакту о гражданских и  политических правах (196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Факультативный протокол к Международному пакту о гражданских и  политических правах (1991), цель – отмена смертной ка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D83A-1CEE-482C-9B6B-E5F8A557C8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Международные документы по правам человека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ная задач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ют ли права человека в Конституции РФ международным стандартам о вопросах защиты пра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обод человека? Ответ аргументируй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вывод можно сделать, сравнивая эти два докумен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онституции РФ отражены права и свободы, провозглашенные в Декларации. Это связано с тем, что в СССР данный документ был ратифицирован, поэтому эти положения страна обязана соблюд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F486-41EB-4BC7-8E23-9FDB880E44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Arial"/>
              </a:rPr>
              <a:t>Права человека в нашей стра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декабря 1965 г. –  День рождения правозащитного дви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отстоять права личности, защитить ее достоинство, сформировать отвращение ко лжи и любым видам насил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3D47-359A-4823-9992-535E184366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СТРАСБУРГСКИЙ 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D50D-1F13-4454-A7F5-FBFA46CD40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9999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Социально-экономические, политические и личные права и своб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Международные документы по правам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99"/>
                </a:solidFill>
                <a:latin typeface="Arial"/>
              </a:rPr>
              <a:t>Страсбургский су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2C03-F490-4F4F-861B-8510FE4139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ТОР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3 сентября 1953 г.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Европейская конвенция о защите прав человека и основных своб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оздала особый механизм защиты прав и своб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9cc00"/>
                </a:solidFill>
                <a:latin typeface="Arial"/>
              </a:rPr>
              <a:t>Он включает в себ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ейскую Комиссию по правам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ейский Суд по правам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Комитет министров Сове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вропы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0481-2DEA-4EF5-B0A9-585795D76A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Местонахождение Европейского Суда по правам человека. - Дворец прав человека в Страсбурге (Франция), где находится и сам Совет Европ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883F-539E-4904-9204-9C95EADDAA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cc00"/>
                </a:solidFill>
                <a:uFillTx/>
                <a:latin typeface="Arial"/>
              </a:rPr>
              <a:t>Согласно первоначальной сис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Жалобы сначала рассматривает Европейская Комиссия по правам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Она же передает дело в Европейский Суд по правам человека для принятия окончательного, имеющего обязательную силу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Если дело не передавалось в Суд, оно решалось Комитетом минист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 1 октября 1994 г. заявителям было предоставлено право самим передавать свои дела в Суд по жалобам, признанным Комиссией приемлем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543D-4C34-4A65-90DF-12E9A73812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cc00"/>
                </a:solidFill>
                <a:latin typeface="Arial"/>
              </a:rPr>
              <a:t>Условия, при которых жалоба может быть приня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о-перв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предметом жалобы могут быть только права, гарантируемые Конвенцией или ее Протокол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о-втор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ба может исходить только от самого потерпевш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третьи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ба должна быть подана не позднее чем через шесть месяцев после окончательного рассмотрения вопроса компетентным государственным орган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четвертых,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жаловаться можно только на те нарушения, которые имели место после даты ратификации Конвен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cc00"/>
                </a:solidFill>
                <a:latin typeface="Arial"/>
              </a:rPr>
              <a:t>В-пятых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, заявителем должны быть исчерпаны все внутригосударственные средства защиты своего права, и прежде всего судебные средства такой защи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Деятельность всех  органов государственной власти, не должна противоречить положениям Конв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9258-B45C-468D-8F5A-4E0ECB6204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Начав свою деятельность в 1959 г., Европейский Суд к концу 1998 г. рассмотрел более тысячи дел, подавляющее большинство из которых по жалобам граждан.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Все лица, находящимся под  юрисдикцией Европейской конвенции ,могут обращаться в Европейский Суд, если они считают свои права нарушенными, что подтверждается статьей 46 (ч. 3) Конституции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личество дел из России постоянно растет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1 году – 2490 жалоб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2-м – 4716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3-м – 6602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4-м – 7855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 2005-м – 10 00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«Россия, как и год назад, рекордсмен по количеству поступивших к нам исков. По данным на сентябрь 2006 года, к нам поступило 18500 дел из России, и это 20,8 процента всех поступивших исков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председатель Европейского су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по правам челове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cc00"/>
                </a:solidFill>
                <a:latin typeface="Arial"/>
              </a:rPr>
              <a:t>Люциус Вильдхабе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6348-BFB9-4C38-9EE5-8D0D6A770D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ейский Суд по правам человека состоит из судей, число которых соответствует числу подписавших Конвенцию государств. Судьи пользуются полной независимостью при исполнении своих обязанностей и не представляют интересы государства, его выдвинувшего. - - Первые выборы в новый Суд, в связи с принятием Протокола № 11 к Европейской конвенции о правах человека, состоялись в январе 1998 года и избранные судьи приступили к исполнению своих обязанностей 3 ноября 1998 г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едателем Суда является Луциус Вильдхабер (Швейцар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одня Россию представля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дья  Анатолий Ковлер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87C4-7CA3-4F59-8B79-4B622B02B8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писку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ропейски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до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ужн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у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egistra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pean Court of Human Righ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cil of Europ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-67075 STRASBOURG CEDEX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CE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РАН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фициальный адрес Европейского Суда по правам челове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ropean Court of Human Righ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cil of Europ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 - 67075 Strasbourg-Cede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l: 33 (0)3 88 41 20 18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x: 33 (0)3 88 41 27 3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: www.echr.coe.i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0E4D-3E8D-474D-AC08-DAF6115558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CAB1-59F4-493C-A61C-6FB03D4728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Нормы оценки: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10-11 верных ответов – «5»</a:t>
            </a:r>
            <a:br>
              <a:rPr sz="1200"/>
            </a:b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8-9 – «4»; 6-7 – «3»; менее 5 – «2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85E4-BC5F-4DBB-A26F-2D71D066D8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9DFB-2ACE-43C8-836F-634ECE9479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1. Социально-экономические, политические и личные права и свобод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ru-RU" sz="14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естественных правах разработал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жон Лок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английский философ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ые права по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 рождения и неотъемле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AD4C-85DB-4B0B-A781-F76877BFD8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ые пра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уг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жизн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свобо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соб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имуще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ос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вои действ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вой труд и его    результа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равенство (пра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а охрану своей собственности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воей жизни, свободы, имущ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восстание против тиранической власти, посягающей на естественные права и своб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4526-F8F4-48CE-B8E7-44F89B39B0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9E9C-0FB9-462E-A15B-7956A5966B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164E-908C-496F-B3CC-AB5DB43CED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bbe0e3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E427-5408-4535-9ACC-C22EEB0DFA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Заполните таблицу</a:t>
            </a: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Ознакомьтесь со статьями Конституции РФ. Охарактеризуйте гарантии прав и свобод человека и гражданин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F48B-AF0E-408C-8A64-02F6D25F27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BF77-FA01-43A7-A539-2BF211A2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059B-294E-4243-BA07-37DE07C6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6DFF-ECD5-4584-B8D4-403D0BD4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204-2A1E-4E4A-944D-6BCB0B46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FB01-5F89-4D57-81A1-B8796ED1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EAAB-F84E-4AB7-8D00-523DE234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E20D-7DC8-49E4-944E-4E69AD8E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6BEE-D765-46A6-8910-18B70634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3683-9BA6-4AFC-88DA-DD45AF2D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0DAD-E02B-40AA-8E4B-6A866580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AF1D-406F-4765-B413-CEFCEE97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4648-3C9C-42FD-AD1C-131BF19F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AF61-B74D-469A-9952-4FCE7E02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AA8C-439D-4E8A-973F-5FE2AED5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BC95-9172-4738-96D5-81D9AA5B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7EBA-A9DF-4C68-B61F-D8A2D888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02D6-99B3-464F-9C4B-5F0F61A9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CFB91-5763-4967-AF62-00FF1F1C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68A28-1623-48DA-882B-07EF6C67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00850-B47F-4C4F-AB36-25047CE8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6A626-DAA6-407F-9177-2F8D4A57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BB82A-030F-429F-8BF1-C29146A6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D62D-22E9-4D1A-9CC5-765EFC71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1A4E7-3759-479A-9B02-7DE07DD2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080DA-AF64-48CF-B4DF-373655BC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BD88D-60AF-422F-9ACB-CBC11BE2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01E12-92D3-4583-9EB1-349068AA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25795-4024-4D28-9747-A88AA07F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05A42-F895-426E-96BC-8361FA37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8328D-99EA-4988-9211-9003FC89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9A7BA-0F4C-4038-AD9C-E5B3FF15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A5631-ACFA-4C63-A2A6-DC8C2A5B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B99E1-FEC0-4E86-9098-53F6B852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597A-3C63-4CEF-8BBF-63DAA969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8733E-CA60-4FD1-A496-DBF52CFA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B35B5-54AA-498E-9796-D03D4972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A676F-E0EE-43D2-A1CA-C9621A20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EFC25-C32C-46B9-908A-A4B6D3BA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2EDAF-3316-4B17-8587-60F98A75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A11B9-9955-4A9A-9AF7-33489FD2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AEDDC-F26F-449F-A1D6-EE460A92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5ED79-AD0C-4D88-88F4-3E0941CB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1FD7D-DB5A-4FE7-9960-17C7E475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B76D-9CBC-430B-9CDB-A98C8339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6D8-EB3E-4D56-BA64-5BA6EBB6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3E5-C005-469E-8FA1-D56ADAC0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31E-6074-43C3-BD23-43B75311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B36-C9D2-4BAA-B1DB-C00CAA38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CD05-9215-4F30-9974-6FE22FAF87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3ADE-1E42-4CB8-B293-F7C239435DB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A213-3B5F-4E00-8894-58C4C97DE6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7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993C-D6AF-4E8B-8055-1C61DE4279D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270000"/>
            <a:ext cx="8362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58" name="Picture 5" descr="45337734670b92"/>
          <p:cNvPicPr/>
          <p:nvPr/>
        </p:nvPicPr>
        <p:blipFill>
          <a:blip r:embed="rId1"/>
          <a:stretch/>
        </p:blipFill>
        <p:spPr>
          <a:xfrm>
            <a:off x="468360" y="2495520"/>
            <a:ext cx="5392800" cy="34718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pic>
        <p:nvPicPr>
          <p:cNvPr id="259" name="Picture 6" descr="L13_p1"/>
          <p:cNvPicPr/>
          <p:nvPr/>
        </p:nvPicPr>
        <p:blipFill>
          <a:blip r:embed="rId2"/>
          <a:stretch/>
        </p:blipFill>
        <p:spPr>
          <a:xfrm>
            <a:off x="4211640" y="3965400"/>
            <a:ext cx="4557600" cy="250056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Анализ данных социологического исследования</a:t>
            </a:r>
            <a:br>
              <a:rPr sz="5400"/>
            </a:br>
            <a:r>
              <a:rPr b="1" i="1" lang="ru-RU" sz="5400" spc="-1" strike="noStrike">
                <a:solidFill>
                  <a:srgbClr val="17ad1b"/>
                </a:solidFill>
                <a:latin typeface="Forte"/>
              </a:rPr>
              <a:t>«Права человека»</a:t>
            </a:r>
            <a:br>
              <a:rPr sz="5400"/>
            </a:br>
            <a:r>
              <a:rPr b="1" i="1" lang="ru-RU" sz="6600" spc="-1" strike="noStrike">
                <a:solidFill>
                  <a:srgbClr val="17ad1b"/>
                </a:solidFill>
                <a:latin typeface="Forte"/>
              </a:rPr>
              <a:t> </a:t>
            </a: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Таймановой Татьяны </a:t>
            </a:r>
            <a:br>
              <a:rPr sz="4800"/>
            </a:br>
            <a:r>
              <a:rPr b="1" i="1" lang="ru-RU" sz="4800" spc="-1" strike="noStrike">
                <a:solidFill>
                  <a:srgbClr val="281bcb"/>
                </a:solidFill>
                <a:latin typeface="Forte"/>
              </a:rPr>
              <a:t>( гр. 104 )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. Чувствуете ли Вы себя защищенными в нашей стране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9" name="Picture 9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1860480" cy="2087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"/>
          <p:cNvPicPr/>
          <p:nvPr/>
        </p:nvPicPr>
        <p:blipFill>
          <a:blip r:embed="rId2"/>
          <a:stretch/>
        </p:blipFill>
        <p:spPr>
          <a:xfrm>
            <a:off x="2195640" y="1197000"/>
            <a:ext cx="1941480" cy="2077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"/>
          <p:cNvPicPr/>
          <p:nvPr/>
        </p:nvPicPr>
        <p:blipFill>
          <a:blip r:embed="rId3"/>
          <a:stretch/>
        </p:blipFill>
        <p:spPr>
          <a:xfrm>
            <a:off x="5076720" y="1268280"/>
            <a:ext cx="1765440" cy="2016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2" descr=""/>
          <p:cNvPicPr/>
          <p:nvPr/>
        </p:nvPicPr>
        <p:blipFill>
          <a:blip r:embed="rId4"/>
          <a:stretch/>
        </p:blipFill>
        <p:spPr>
          <a:xfrm>
            <a:off x="6877080" y="1268280"/>
            <a:ext cx="1798560" cy="206856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3"/>
          <p:cNvSpPr/>
          <p:nvPr/>
        </p:nvSpPr>
        <p:spPr>
          <a:xfrm>
            <a:off x="4932360" y="18900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. Нарушались ли Ваши пра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14" descr=""/>
          <p:cNvPicPr/>
          <p:nvPr/>
        </p:nvPicPr>
        <p:blipFill>
          <a:blip r:embed="rId5"/>
          <a:stretch/>
        </p:blipFill>
        <p:spPr>
          <a:xfrm>
            <a:off x="2195640" y="443700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5" descr=""/>
          <p:cNvPicPr/>
          <p:nvPr/>
        </p:nvPicPr>
        <p:blipFill>
          <a:blip r:embed="rId6"/>
          <a:stretch/>
        </p:blipFill>
        <p:spPr>
          <a:xfrm>
            <a:off x="250920" y="4437000"/>
            <a:ext cx="1871640" cy="21448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6"/>
          <p:cNvSpPr/>
          <p:nvPr/>
        </p:nvSpPr>
        <p:spPr>
          <a:xfrm>
            <a:off x="611280" y="342900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3. Если нарушалис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о как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18" descr=""/>
          <p:cNvPicPr/>
          <p:nvPr/>
        </p:nvPicPr>
        <p:blipFill>
          <a:blip r:embed="rId7"/>
          <a:stretch/>
        </p:blipFill>
        <p:spPr>
          <a:xfrm>
            <a:off x="4932360" y="4437000"/>
            <a:ext cx="1725480" cy="20448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9" descr=""/>
          <p:cNvPicPr/>
          <p:nvPr/>
        </p:nvPicPr>
        <p:blipFill>
          <a:blip r:embed="rId8"/>
          <a:stretch/>
        </p:blipFill>
        <p:spPr>
          <a:xfrm>
            <a:off x="6877080" y="44370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0"/>
          <p:cNvSpPr/>
          <p:nvPr/>
        </p:nvSpPr>
        <p:spPr>
          <a:xfrm>
            <a:off x="4932360" y="35002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. Наиболее важными правами Вы считает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 flipV="1" rot="10800000">
            <a:off x="1831680" y="723960"/>
            <a:ext cx="3244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43214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5. Соблюдаются ли Ваши прав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 месту работы ( учебы )?</a:t>
            </a:r>
            <a:br>
              <a:rPr sz="2000"/>
            </a:b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3" name="Picture 10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"/>
          <p:cNvPicPr/>
          <p:nvPr/>
        </p:nvPicPr>
        <p:blipFill>
          <a:blip r:embed="rId2"/>
          <a:stretch/>
        </p:blipFill>
        <p:spPr>
          <a:xfrm>
            <a:off x="2484360" y="1268280"/>
            <a:ext cx="1685880" cy="21304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2"/>
          <p:cNvSpPr/>
          <p:nvPr/>
        </p:nvSpPr>
        <p:spPr>
          <a:xfrm>
            <a:off x="442764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. Соблюдаются ли Ваш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 права Вашего ребенка ) в семь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13" descr=""/>
          <p:cNvPicPr/>
          <p:nvPr/>
        </p:nvPicPr>
        <p:blipFill>
          <a:blip r:embed="rId3"/>
          <a:stretch/>
        </p:blipFill>
        <p:spPr>
          <a:xfrm>
            <a:off x="5003640" y="1268280"/>
            <a:ext cx="1824120" cy="21891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4" descr=""/>
          <p:cNvPicPr/>
          <p:nvPr/>
        </p:nvPicPr>
        <p:blipFill>
          <a:blip r:embed="rId4"/>
          <a:stretch/>
        </p:blipFill>
        <p:spPr>
          <a:xfrm>
            <a:off x="6948360" y="1268280"/>
            <a:ext cx="1906560" cy="21528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5"/>
          <p:cNvSpPr/>
          <p:nvPr/>
        </p:nvSpPr>
        <p:spPr>
          <a:xfrm>
            <a:off x="2340000" y="350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. Что, по-вашему, влияет на соблю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 человека в любой стран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16" descr=""/>
          <p:cNvPicPr/>
          <p:nvPr/>
        </p:nvPicPr>
        <p:blipFill>
          <a:blip r:embed="rId5"/>
          <a:stretch/>
        </p:blipFill>
        <p:spPr>
          <a:xfrm>
            <a:off x="3132000" y="4508640"/>
            <a:ext cx="3111480" cy="218916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c00"/>
                </a:solidFill>
                <a:uFillTx/>
                <a:latin typeface="Arial"/>
              </a:rPr>
              <a:t>Принципы формирования правового государств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личности являются естественными, а не дарованными государством и принадлежат каждому от рожд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человека регулируются только законом, никакой подзаконный акт не может их ограничить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законом все рав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рава и свободы должны быть едины на всей территории страны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ллективные права граждан не должны противоречить правам лич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а и свободы должны соблюдаться в любой ситуации, в том числе во время войны или чрезвычайного поло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прос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ожно ли говорить о существовании правового государства в Росси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a5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йствующее сегодня Российское законодательство предоставляет гражданину широкий спектр пра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онституции РФ записано, чт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«права и свободы человека и гражданина являются непосредственно действующими»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жданин может осуществлять свои права, защищать их, обратившись в суд и ссылаясь на Конститу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7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7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7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2. </a:t>
            </a: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66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897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«…всеобщее уважение прав человека является общей заботой всех правительств и всех народов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(Из послания Генерального секретаря О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Бутрос Бутрос Гал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6" descr="http://www.wex-bb.de/gebeugterParagraf1.jpg"/>
          <p:cNvPicPr/>
          <p:nvPr/>
        </p:nvPicPr>
        <p:blipFill>
          <a:blip r:embed="rId1"/>
          <a:stretch/>
        </p:blipFill>
        <p:spPr>
          <a:xfrm>
            <a:off x="5578560" y="1628640"/>
            <a:ext cx="3165480" cy="45640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Международный Билль о правах человека: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общая декларация прав человека (1948)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 декабр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ень прав человека. В этот день Генеральная Ассамблея ООН приняла единогласно Всеобщую декларацию прав челове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 гражданских и  политических 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дународный пакт об  экономических,  социальных и культурных правах (1966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культативный протокол к Международному пакту о гражданских и  политических правах (1966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торой Факультативный протокол к Международному пакту о гражданских и  политических правах (1991), цель – отмена смертной ка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Международные документы по правам человека</a:t>
            </a:r>
            <a:r>
              <a:rPr b="0" lang="ru-RU" sz="4000" spc="-1" strike="noStrike">
                <a:solidFill>
                  <a:srgbClr val="008000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ная задача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ветствуют ли права человека в Конституции РФ международным стандартам о вопросах защиты пра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свобод человека? Ответ аргументируй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й вывод можно сделать, сравнивая эти два докумен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Конституции РФ отражены права и свободы, провозглашенные в Декларации. Это связано с тем, что в СССР данный документ был ратифицирован, поэтому эти положения страна обязана соблюда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Права человека в нашей стране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64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декабря 1965 г. –  День рождения правозащитного дви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: отстоять права личности, защитить ее достоинство, сформировать отвращение ко лжи и любым видам насил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7" descr="saharov"/>
          <p:cNvPicPr/>
          <p:nvPr/>
        </p:nvPicPr>
        <p:blipFill>
          <a:blip r:embed="rId1"/>
          <a:stretch/>
        </p:blipFill>
        <p:spPr>
          <a:xfrm>
            <a:off x="2411280" y="2637000"/>
            <a:ext cx="2097360" cy="2736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360" name="Picture 6" descr="portr2"/>
          <p:cNvPicPr/>
          <p:nvPr/>
        </p:nvPicPr>
        <p:blipFill>
          <a:blip r:embed="rId2"/>
          <a:stretch/>
        </p:blipFill>
        <p:spPr>
          <a:xfrm>
            <a:off x="395280" y="1916280"/>
            <a:ext cx="2085840" cy="2808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361" name="Text Box 8"/>
          <p:cNvSpPr/>
          <p:nvPr/>
        </p:nvSpPr>
        <p:spPr>
          <a:xfrm>
            <a:off x="250920" y="570852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Андрей Дмитриевич Саха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2"/>
          <p:cNvSpPr txBox="1"/>
          <p:nvPr/>
        </p:nvSpPr>
        <p:spPr>
          <a:xfrm>
            <a:off x="1258920" y="260280"/>
            <a:ext cx="640872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РАСБУРГСКИЙ  СУ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4" name="Picture 3" descr="palais_hommes"/>
          <p:cNvPicPr/>
          <p:nvPr/>
        </p:nvPicPr>
        <p:blipFill>
          <a:blip r:embed="rId1"/>
          <a:stretch/>
        </p:blipFill>
        <p:spPr>
          <a:xfrm>
            <a:off x="0" y="3068640"/>
            <a:ext cx="6300720" cy="3789360"/>
          </a:xfrm>
          <a:prstGeom prst="rect">
            <a:avLst/>
          </a:prstGeom>
          <a:ln w="0">
            <a:noFill/>
          </a:ln>
        </p:spPr>
      </p:pic>
      <p:pic>
        <p:nvPicPr>
          <p:cNvPr id="365" name="aria__angel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6478920" y="4219920"/>
            <a:ext cx="266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у выполни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уденты 104 груп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гаков Денис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рбаев Дени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Международные документы по правам челове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2" name="Picture 6" descr="http://www.info-wr.de/unterricht/weg/kunst/f13.jpg"/>
          <p:cNvPicPr/>
          <p:nvPr/>
        </p:nvPicPr>
        <p:blipFill>
          <a:blip r:embed="rId1"/>
          <a:stretch/>
        </p:blipFill>
        <p:spPr>
          <a:xfrm>
            <a:off x="539640" y="4149720"/>
            <a:ext cx="2087640" cy="2087640"/>
          </a:xfrm>
          <a:prstGeom prst="rect">
            <a:avLst/>
          </a:prstGeom>
          <a:ln w="38160">
            <a:solidFill>
              <a:srgbClr val="f8a500"/>
            </a:solidFill>
            <a:miter/>
          </a:ln>
        </p:spPr>
      </p:pic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59280" y="1557000"/>
            <a:ext cx="5760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оциально-экономические, политические и личные права и своб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Международные документы по правам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Страсбургский су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475164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 Black"/>
              </a:rPr>
              <a:t>ИСТОРИЯ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784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3 сентября 1953 г.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Европейская конвенция о защите прав человека и основных свобо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оздала особый механизм защиты прав и своб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Он включает в себ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ую Комиссию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ейский Суд по правам чело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омитет министров Сов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Европ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4" descr="logocoe64"/>
          <p:cNvPicPr/>
          <p:nvPr/>
        </p:nvPicPr>
        <p:blipFill>
          <a:blip r:embed="rId1"/>
          <a:stretch/>
        </p:blipFill>
        <p:spPr>
          <a:xfrm>
            <a:off x="6948360" y="5516640"/>
            <a:ext cx="1908360" cy="1100160"/>
          </a:xfrm>
          <a:prstGeom prst="rect">
            <a:avLst/>
          </a:prstGeom>
          <a:ln w="0">
            <a:noFill/>
          </a:ln>
        </p:spPr>
      </p:pic>
      <p:sp>
        <p:nvSpPr>
          <p:cNvPr id="37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836640"/>
            <a:ext cx="42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Местонахождение Европейского Суда по правам человека. - Дворец прав человека в Страсбурге (Франция), где находится и сам Совет Европы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3" descr="Entrance of the ECHR building"/>
          <p:cNvPicPr/>
          <p:nvPr/>
        </p:nvPicPr>
        <p:blipFill>
          <a:blip r:embed="rId1"/>
          <a:stretch/>
        </p:blipFill>
        <p:spPr>
          <a:xfrm>
            <a:off x="4932360" y="2492280"/>
            <a:ext cx="4000680" cy="417672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1547640" y="33336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Согласно первоначальной систем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Жалобы сначала рассматривает Европейская Комиссия по правам чело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на же передает дело в Европейский Суд по правам человека для принятия окончательного, имеющего обязательную силу 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Если дело не передавалось в Суд, оно решалось Комитетом минис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 1 октября 1994 г. заявителям было предоставлено право самим передавать свои дела в Суд по жалобам, признанным Комиссией приемлем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4" descr="echr_eng_fr"/>
          <p:cNvPicPr/>
          <p:nvPr/>
        </p:nvPicPr>
        <p:blipFill>
          <a:blip r:embed="rId1"/>
          <a:stretch/>
        </p:blipFill>
        <p:spPr>
          <a:xfrm>
            <a:off x="826920" y="5589720"/>
            <a:ext cx="7620120" cy="93960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Arial Black"/>
              </a:rPr>
              <a:t>Условия, при которых жалоба может быть принята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перв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предметом жалобы могут быть только права, гарантируемые Конвенцией или ее Протокол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о-втор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может исходить только от самого потерпевше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третьи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ба должна быть подана не позднее чем через шесть месяцев после окончательного рассмотрения вопроса компетентным государственным орган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четвертых,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жаловаться можно только на те нарушения, которые имели место после даты ратификации Конвен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В-пятых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, заявителем должны быть исчерпаны все внутригосударственные средства защиты своего права, и прежде всего судебные средства такой защиты.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Деятельность всех  органов государственной власти, не должна противоречить положениям Конв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77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5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77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6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8" dur="77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77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77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6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8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77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9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1" dur="77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77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7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1" dur="77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572000" y="20970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дел из России постоянно растет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1 году – 2490 жалоб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2-м – 4716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3-м – 6602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4-м – 7855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2005-м – 10 009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«Россия, как и год назад, рекордсмен по количеству поступивших к нам исков. По данным на сентябрь 2006 года, к нам поступило 18500 дел из России, и это 20,8 процента всех поступивших иск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редседатель Европейского с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по правам челове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Люциус Вильдхаб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0"/>
            <a:ext cx="471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Начав свою деятельность в 1959 г., Европейский Суд к концу 1998 г. рассмотрел более тысячи дел, подавляющее большинство из которых по жалобам граждан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се лица, находящимся под  юрисдикцией Европейской конвенции ,могут обращаться в Европейский Суд, если они считают свои права нарушенными, что подтверждается статьей 46 (ч. 3) Конституции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etter"/>
          <p:cNvSpPr/>
          <p:nvPr/>
        </p:nvSpPr>
        <p:spPr>
          <a:xfrm>
            <a:off x="5940360" y="476280"/>
            <a:ext cx="2266920" cy="1133280"/>
          </a:xfrm>
          <a:custGeom>
            <a:avLst/>
            <a:gdLst>
              <a:gd name="textAreaLeft" fmla="*/ 556560 w 2266920"/>
              <a:gd name="textAreaRight" fmla="*/ 1837080 w 2266920"/>
              <a:gd name="textAreaTop" fmla="*/ 483480 h 1133280"/>
              <a:gd name="textAreaBottom" fmla="*/ 964440 h 113328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6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2303280" cy="1987560"/>
          </a:xfrm>
          <a:prstGeom prst="rect">
            <a:avLst/>
          </a:prstGeom>
          <a:ln w="0">
            <a:noFill/>
          </a:ln>
        </p:spPr>
      </p:pic>
      <p:sp>
        <p:nvSpPr>
          <p:cNvPr id="3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composition"/>
          <p:cNvPicPr/>
          <p:nvPr/>
        </p:nvPicPr>
        <p:blipFill>
          <a:blip r:embed="rId1"/>
          <a:stretch/>
        </p:blipFill>
        <p:spPr>
          <a:xfrm>
            <a:off x="-539640" y="-5821200"/>
            <a:ext cx="2857320" cy="197136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"/>
          <p:cNvSpPr/>
          <p:nvPr/>
        </p:nvSpPr>
        <p:spPr>
          <a:xfrm>
            <a:off x="318240" y="12223080"/>
            <a:ext cx="543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Место судьи от Боснии и Герцеговины в настоящее время вакантно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-411336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Picture 5" descr="composition"/>
          <p:cNvPicPr/>
          <p:nvPr/>
        </p:nvPicPr>
        <p:blipFill>
          <a:blip r:embed="rId2"/>
          <a:stretch/>
        </p:blipFill>
        <p:spPr>
          <a:xfrm>
            <a:off x="179280" y="189000"/>
            <a:ext cx="3492720" cy="2349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392" name="Picture 6" descr="http://www.coe.int/t/e/human_rights/execution/default-9.jpg"/>
          <p:cNvPicPr/>
          <p:nvPr/>
        </p:nvPicPr>
        <p:blipFill>
          <a:blip r:embed="rId3"/>
          <a:stretch/>
        </p:blipFill>
        <p:spPr>
          <a:xfrm>
            <a:off x="5508720" y="4508640"/>
            <a:ext cx="3492360" cy="2133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393" name="Rectangle 7"/>
          <p:cNvSpPr/>
          <p:nvPr/>
        </p:nvSpPr>
        <p:spPr>
          <a:xfrm>
            <a:off x="250920" y="4611240"/>
            <a:ext cx="54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дседателем Суда является Луциус Вильдхабер (Швейцари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годня Россию представля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дья  Анатолий Ковлер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3851280" y="239760"/>
            <a:ext cx="529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ропейский Суд по правам человека состоит из судей, число которых соответствует числу подписавших Конвенцию государств. Судьи пользуются полной независимостью при исполнении своих обязанностей и не представляют интересы государства, его выдвинувшего. - - Первые выборы в новый Суд, в связи с принятием Протокола № 11 к Европейской конвенции о правах человека, состоялись в январе 1998 года и избранные судьи приступили к исполнению своих обязанностей 3 ноября 1998 г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0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644040" y="403560"/>
            <a:ext cx="7438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ски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о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ужн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ст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рес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gistra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-67075 STRASBOURG CEDEX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E 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2376720" y="3337200"/>
            <a:ext cx="4210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ropean Court of Human Righ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cil of Europ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 - 67075 Strasbourg-Cede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: 33 (0)3 88 41 20 18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x: 33 (0)3 88 41 27 30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: www.echr.coe.i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607320" y="2923200"/>
            <a:ext cx="81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фициальный адрес Европейского Суда по правам челове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6372360" y="4467240"/>
            <a:ext cx="2771640" cy="239076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2"/>
          <p:cNvSpPr txBox="1"/>
          <p:nvPr/>
        </p:nvSpPr>
        <p:spPr>
          <a:xfrm>
            <a:off x="468360" y="2565360"/>
            <a:ext cx="813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Нормы оценки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10-11 верных ответов – «5»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 Black"/>
              </a:rPr>
              <a:t>8-9 – «4»; 6-7 – «3»; менее 5 – «2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68360" y="2997360"/>
          <a:ext cx="8229600" cy="2736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в;  2. г;  3. в;  4. б;  5. 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3, 6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4,7;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в; 8. б; 9. г; 10. б; 11. б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б; 2. в; 3. б; 4. а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1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, 5, 8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а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б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г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;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a500"/>
                </a:solidFill>
                <a:latin typeface="Arial"/>
              </a:rPr>
              <a:t>1. Социально-экономические, политические и личные права и свободы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66" name="Organization Chart 4"/>
          <p:cNvGrpSpPr/>
          <p:nvPr/>
        </p:nvGrpSpPr>
        <p:grpSpPr>
          <a:xfrm>
            <a:off x="457200" y="1600200"/>
            <a:ext cx="8229240" cy="4529880"/>
            <a:chOff x="457200" y="1600200"/>
            <a:chExt cx="8229240" cy="4529880"/>
          </a:xfrm>
        </p:grpSpPr>
        <p:cxnSp>
          <p:nvCxnSpPr>
            <p:cNvPr id="267" name="_s1028"/>
            <p:cNvCxnSpPr>
              <a:stCxn id="268" idx="0"/>
              <a:endCxn id="269" idx="2"/>
            </p:cNvCxnSpPr>
            <p:nvPr/>
          </p:nvCxnSpPr>
          <p:spPr>
            <a:xfrm flipV="1" rot="16200000">
              <a:off x="5225760" y="2756520"/>
              <a:ext cx="906840" cy="22161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1029"/>
            <p:cNvCxnSpPr>
              <a:stCxn id="271" idx="0"/>
              <a:endCxn id="269" idx="2"/>
            </p:cNvCxnSpPr>
            <p:nvPr/>
          </p:nvCxnSpPr>
          <p:spPr>
            <a:xfrm flipH="1" flipV="1" rot="5400000">
              <a:off x="3011400" y="2757600"/>
              <a:ext cx="906840" cy="2214360"/>
            </a:xfrm>
            <a:prstGeom prst="bentConnector3">
              <a:avLst>
                <a:gd name="adj1" fmla="val 126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9" name="_s1030"/>
            <p:cNvSpPr/>
            <p:nvPr/>
          </p:nvSpPr>
          <p:spPr>
            <a:xfrm>
              <a:off x="2673000" y="1600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63300"/>
                  </a:solidFill>
                  <a:latin typeface="Tahoma"/>
                </a:rPr>
                <a:t>Различие понятий «права человека» и «свободы человек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_s1031"/>
            <p:cNvSpPr/>
            <p:nvPr/>
          </p:nvSpPr>
          <p:spPr>
            <a:xfrm>
              <a:off x="45720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Права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храняемые и обеспечиваемые государством возможности что-то делать, осуществлять; то, что разрешено законом и соответствует природе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1032"/>
            <p:cNvSpPr/>
            <p:nvPr/>
          </p:nvSpPr>
          <p:spPr>
            <a:xfrm>
              <a:off x="4888440" y="4318200"/>
              <a:ext cx="3798000" cy="181188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Свободы челове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3300"/>
                  </a:solidFill>
                  <a:latin typeface="Tahoma"/>
                </a:rPr>
                <a:t>Это отсутствие каких-либо ограничений в деятельности или поведен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140360" y="2349000"/>
            <a:ext cx="468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ние о естественных правах разработал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жон Локк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английский философ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тественные права появляютс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 рождения и неотъемлем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6" descr="lokk"/>
          <p:cNvPicPr/>
          <p:nvPr/>
        </p:nvPicPr>
        <p:blipFill>
          <a:blip r:embed="rId1"/>
          <a:stretch/>
        </p:blipFill>
        <p:spPr>
          <a:xfrm>
            <a:off x="755640" y="2708280"/>
            <a:ext cx="3127320" cy="3481560"/>
          </a:xfrm>
          <a:prstGeom prst="rect">
            <a:avLst/>
          </a:prstGeom>
          <a:ln w="57240">
            <a:solidFill>
              <a:srgbClr val="f8a500"/>
            </a:solidFill>
            <a:miter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3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3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3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79280" y="1700280"/>
          <a:ext cx="8785440" cy="5051520"/>
        </p:xfrm>
        <a:graphic>
          <a:graphicData uri="http://schemas.openxmlformats.org/drawingml/2006/table">
            <a:tbl>
              <a:tblPr/>
              <a:tblGrid>
                <a:gridCol w="4321440"/>
                <a:gridCol w="4464000"/>
              </a:tblGrid>
              <a:tr h="5749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стественные прав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руг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5600">
                <a:tc>
                  <a:txBody>
                    <a:bodyPr lIns="90000" rIns="90000" anchor="t">
                      <a:noAutofit/>
                    </a:bodyPr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жизн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свободу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собственность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имущество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личность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свои действия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4928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свой труд и его    результат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равенство (прав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на охрану своей собственности: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своей жизни, свободы, имущества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7128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 восстание против тиранической власти, посягающей на естественные права и свободы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281" name="Organization Chart 6"/>
          <p:cNvGrpSpPr/>
          <p:nvPr/>
        </p:nvGrpSpPr>
        <p:grpSpPr>
          <a:xfrm>
            <a:off x="179280" y="1844640"/>
            <a:ext cx="8713080" cy="4607280"/>
            <a:chOff x="179280" y="1844640"/>
            <a:chExt cx="8713080" cy="4607280"/>
          </a:xfrm>
        </p:grpSpPr>
        <p:cxnSp>
          <p:nvCxnSpPr>
            <p:cNvPr id="282" name="_s2052"/>
            <p:cNvCxnSpPr>
              <a:stCxn id="283" idx="0"/>
              <a:endCxn id="284" idx="2"/>
            </p:cNvCxnSpPr>
            <p:nvPr/>
          </p:nvCxnSpPr>
          <p:spPr>
            <a:xfrm flipV="1" rot="16200000">
              <a:off x="5769360" y="2453040"/>
              <a:ext cx="921960" cy="338904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5" name="_s2053"/>
            <p:cNvCxnSpPr>
              <a:stCxn id="286" idx="0"/>
              <a:endCxn id="284" idx="2"/>
            </p:cNvCxnSpPr>
            <p:nvPr/>
          </p:nvCxnSpPr>
          <p:spPr>
            <a:xfrm flipV="1" rot="16200000">
              <a:off x="4639680" y="3582720"/>
              <a:ext cx="921960" cy="11296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7" name="_s2054"/>
            <p:cNvCxnSpPr>
              <a:stCxn id="288" idx="0"/>
              <a:endCxn id="284" idx="2"/>
            </p:cNvCxnSpPr>
            <p:nvPr/>
          </p:nvCxnSpPr>
          <p:spPr>
            <a:xfrm flipH="1" flipV="1" rot="5400000">
              <a:off x="3511440" y="3583800"/>
              <a:ext cx="921960" cy="112788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9" name="_s2055"/>
            <p:cNvCxnSpPr>
              <a:stCxn id="290" idx="0"/>
              <a:endCxn id="284" idx="2"/>
            </p:cNvCxnSpPr>
            <p:nvPr/>
          </p:nvCxnSpPr>
          <p:spPr>
            <a:xfrm flipH="1" flipV="1" rot="5400000">
              <a:off x="2380680" y="2453040"/>
              <a:ext cx="921960" cy="3389400"/>
            </a:xfrm>
            <a:prstGeom prst="bentConnector3">
              <a:avLst>
                <a:gd name="adj1" fmla="val 127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84" name="_s2056"/>
            <p:cNvSpPr/>
            <p:nvPr/>
          </p:nvSpPr>
          <p:spPr>
            <a:xfrm>
              <a:off x="3567960" y="184464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Права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ahoma"/>
                </a:rPr>
                <a:t>человека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_s2057"/>
            <p:cNvSpPr/>
            <p:nvPr/>
          </p:nvSpPr>
          <p:spPr>
            <a:xfrm>
              <a:off x="179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Гражданск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</a:rPr>
                <a:t>(личные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_s2058"/>
            <p:cNvSpPr/>
            <p:nvPr/>
          </p:nvSpPr>
          <p:spPr>
            <a:xfrm>
              <a:off x="2438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Полит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_s2059"/>
            <p:cNvSpPr/>
            <p:nvPr/>
          </p:nvSpPr>
          <p:spPr>
            <a:xfrm>
              <a:off x="4697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imes New Roman"/>
                </a:rPr>
                <a:t>Эконом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_s2060"/>
            <p:cNvSpPr/>
            <p:nvPr/>
          </p:nvSpPr>
          <p:spPr>
            <a:xfrm>
              <a:off x="6956280" y="4609080"/>
              <a:ext cx="1936080" cy="18428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6600"/>
                  </a:solidFill>
                  <a:latin typeface="Tahoma"/>
                </a:rPr>
                <a:t>Социальны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Organization Chart 20"/>
          <p:cNvGrpSpPr/>
          <p:nvPr/>
        </p:nvGrpSpPr>
        <p:grpSpPr>
          <a:xfrm>
            <a:off x="179280" y="243000"/>
            <a:ext cx="8712720" cy="6354000"/>
            <a:chOff x="179280" y="243000"/>
            <a:chExt cx="8712720" cy="6354000"/>
          </a:xfrm>
        </p:grpSpPr>
        <p:cxnSp>
          <p:nvCxnSpPr>
            <p:cNvPr id="295" name="_s3076"/>
            <p:cNvCxnSpPr>
              <a:stCxn id="296" idx="0"/>
              <a:endCxn id="297" idx="2"/>
            </p:cNvCxnSpPr>
            <p:nvPr/>
          </p:nvCxnSpPr>
          <p:spPr>
            <a:xfrm flipV="1">
              <a:off x="688140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98" name="_s3077"/>
            <p:cNvCxnSpPr>
              <a:stCxn id="299" idx="1"/>
              <a:endCxn id="300" idx="2"/>
            </p:cNvCxnSpPr>
            <p:nvPr/>
          </p:nvCxnSpPr>
          <p:spPr>
            <a:xfrm rot="10800000">
              <a:off x="2189160" y="4863240"/>
              <a:ext cx="670680" cy="1155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1" name="_s3078"/>
            <p:cNvCxnSpPr>
              <a:stCxn id="300" idx="0"/>
              <a:endCxn id="302" idx="2"/>
            </p:cNvCxnSpPr>
            <p:nvPr/>
          </p:nvCxnSpPr>
          <p:spPr>
            <a:xfrm flipV="1">
              <a:off x="2189880" y="3130560"/>
              <a:ext cx="5760" cy="578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3" name="_s3079"/>
            <p:cNvCxnSpPr>
              <a:stCxn id="297" idx="0"/>
              <a:endCxn id="304" idx="2"/>
            </p:cNvCxnSpPr>
            <p:nvPr/>
          </p:nvCxnSpPr>
          <p:spPr>
            <a:xfrm flipV="1" rot="16200000">
              <a:off x="5419800" y="513720"/>
              <a:ext cx="578160" cy="234576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05" name="_s3080"/>
            <p:cNvCxnSpPr>
              <a:stCxn id="302" idx="0"/>
              <a:endCxn id="304" idx="2"/>
            </p:cNvCxnSpPr>
            <p:nvPr/>
          </p:nvCxnSpPr>
          <p:spPr>
            <a:xfrm flipH="1" flipV="1" rot="5400000">
              <a:off x="3073680" y="513360"/>
              <a:ext cx="578160" cy="2346840"/>
            </a:xfrm>
            <a:prstGeom prst="bentConnector3">
              <a:avLst>
                <a:gd name="adj1" fmla="val 214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04" name="_s3081"/>
            <p:cNvSpPr/>
            <p:nvPr/>
          </p:nvSpPr>
          <p:spPr>
            <a:xfrm>
              <a:off x="2525400" y="24300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ahoma"/>
                </a:rPr>
                <a:t>Права человека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_s3082"/>
            <p:cNvSpPr/>
            <p:nvPr/>
          </p:nvSpPr>
          <p:spPr>
            <a:xfrm>
              <a:off x="17928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Личные: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обеспечивают само</a:t>
              </a:r>
              <a:r>
                <a:rPr b="1" lang="en-US" sz="3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существован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человека и защиту от государственного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произвол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_s3083"/>
            <p:cNvSpPr/>
            <p:nvPr/>
          </p:nvSpPr>
          <p:spPr>
            <a:xfrm>
              <a:off x="4870800" y="197568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Политически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участие граждан  в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олитической жизни стран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_s3084"/>
            <p:cNvSpPr/>
            <p:nvPr/>
          </p:nvSpPr>
          <p:spPr>
            <a:xfrm>
              <a:off x="17928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Экономически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свободное распоряжение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предметами потребления и основным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факторами хозяйственной деятельност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_s3085"/>
            <p:cNvSpPr/>
            <p:nvPr/>
          </p:nvSpPr>
          <p:spPr>
            <a:xfrm>
              <a:off x="2860200" y="544176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Культурные: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духовно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развитие и самореализаци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_s3086"/>
            <p:cNvSpPr/>
            <p:nvPr/>
          </p:nvSpPr>
          <p:spPr>
            <a:xfrm>
              <a:off x="4870800" y="3708720"/>
              <a:ext cx="4021200" cy="115524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Социальные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обеспечивают благосостояние 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достойный уровень жизн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8a500"/>
                </a:solidFill>
                <a:latin typeface="Arial"/>
              </a:rPr>
              <a:t>Социально-экономические, политические и личные права и свободы</a:t>
            </a:r>
            <a:br>
              <a:rPr sz="28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08" name="Picture 3" descr="ch1"/>
          <p:cNvPicPr/>
          <p:nvPr/>
        </p:nvPicPr>
        <p:blipFill>
          <a:blip r:embed="rId1"/>
          <a:stretch/>
        </p:blipFill>
        <p:spPr>
          <a:xfrm>
            <a:off x="395280" y="981000"/>
            <a:ext cx="3005280" cy="3743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09" name="Picture 4" descr="ch3"/>
          <p:cNvPicPr/>
          <p:nvPr/>
        </p:nvPicPr>
        <p:blipFill>
          <a:blip r:embed="rId2"/>
          <a:stretch/>
        </p:blipFill>
        <p:spPr>
          <a:xfrm>
            <a:off x="1476360" y="3213000"/>
            <a:ext cx="2744640" cy="34434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10" name="Picture 5" descr="ch4"/>
          <p:cNvPicPr/>
          <p:nvPr/>
        </p:nvPicPr>
        <p:blipFill>
          <a:blip r:embed="rId3"/>
          <a:stretch/>
        </p:blipFill>
        <p:spPr>
          <a:xfrm>
            <a:off x="5796000" y="907920"/>
            <a:ext cx="2755800" cy="3457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311" name="Picture 6" descr="ch7"/>
          <p:cNvPicPr/>
          <p:nvPr/>
        </p:nvPicPr>
        <p:blipFill>
          <a:blip r:embed="rId4"/>
          <a:stretch/>
        </p:blipFill>
        <p:spPr>
          <a:xfrm>
            <a:off x="4932360" y="3284640"/>
            <a:ext cx="2924280" cy="33591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полните таблицу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знакомьтесь со статьями Конституции РФ. Охарактеризуйте гарантии прав и свобод человека и гражданина.</a:t>
            </a: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250920" y="1600200"/>
          <a:ext cx="8713800" cy="5000760"/>
        </p:xfrm>
        <a:graphic>
          <a:graphicData uri="http://schemas.openxmlformats.org/drawingml/2006/table">
            <a:tbl>
              <a:tblPr/>
              <a:tblGrid>
                <a:gridCol w="1743120"/>
                <a:gridCol w="1742760"/>
                <a:gridCol w="1741680"/>
                <a:gridCol w="1743120"/>
                <a:gridCol w="1743120"/>
              </a:tblGrid>
              <a:tr h="1040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ва и свободы граждан РФ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язан-ности граждан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ст. 15, 44, 57, 58, 59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4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чные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19-25, 27, 28, 45-54, 59, 60-6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ит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29-3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аль-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38-43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ономи-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гл.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ст. 34-37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16:16:12Z</dcterms:created>
  <dc:creator>User</dc:creator>
  <dc:description/>
  <dc:language>en-US</dc:language>
  <cp:lastModifiedBy>LEGION</cp:lastModifiedBy>
  <dcterms:modified xsi:type="dcterms:W3CDTF">2015-01-28T11:34:36Z</dcterms:modified>
  <cp:revision>20</cp:revision>
  <dc:subject/>
  <dc:title>Международные документы по правам человека</dc:title>
</cp:coreProperties>
</file>