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wmf" ContentType="image/x-wmf"/>
  <Override PartName="/ppt/media/image6.jpeg" ContentType="image/jpeg"/>
  <Override PartName="/ppt/media/image19.wmf" ContentType="image/x-wmf"/>
  <Override PartName="/ppt/media/image25.jpeg" ContentType="image/jpeg"/>
  <Override PartName="/ppt/media/image4.jpeg" ContentType="image/jpeg"/>
  <Override PartName="/ppt/media/image10.wmf" ContentType="image/x-wmf"/>
  <Override PartName="/ppt/media/image31.jpeg" ContentType="image/jpeg"/>
  <Override PartName="/ppt/media/image7.jpeg" ContentType="image/jpeg"/>
  <Override PartName="/ppt/media/image28.jpeg" ContentType="image/jpeg"/>
  <Override PartName="/ppt/media/image9.wmf" ContentType="image/x-wmf"/>
  <Override PartName="/ppt/media/image26.png" ContentType="image/png"/>
  <Override PartName="/ppt/media/image11.wmf" ContentType="image/x-wmf"/>
  <Override PartName="/ppt/media/image29.jpeg" ContentType="image/jpeg"/>
  <Override PartName="/ppt/media/image5.png" ContentType="image/png"/>
  <Override PartName="/ppt/media/image8.jpeg" ContentType="image/jpeg"/>
  <Override PartName="/ppt/media/image30.wmf" ContentType="image/x-wmf"/>
  <Override PartName="/ppt/media/image13.wmf" ContentType="image/x-wmf"/>
  <Override PartName="/ppt/media/image27.jpeg" ContentType="image/jpeg"/>
  <Override PartName="/ppt/media/image12.wmf" ContentType="image/x-wmf"/>
  <Override PartName="/ppt/media/image3.jpeg" ContentType="image/jpeg"/>
  <Override PartName="/ppt/media/image24.jpeg" ContentType="image/jpeg"/>
  <Override PartName="/ppt/media/image23.jpeg" ContentType="image/jpeg"/>
  <Override PartName="/ppt/media/image1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32.jpeg" ContentType="image/jpeg"/>
  <Override PartName="/ppt/media/image2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CE91-2374-4623-B43A-4C00D824C1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200" spc="-1" strike="noStrike">
                <a:solidFill>
                  <a:srgbClr val="ffcc00"/>
                </a:solidFill>
                <a:latin typeface="Arial"/>
              </a:rPr>
              <a:t>Международные документы по правам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6B6D-855D-4476-8FEE-DB0C7F2115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7ad1b"/>
                </a:solidFill>
                <a:latin typeface="Forte"/>
              </a:rPr>
              <a:t>Анализ данных социологического исследования</a:t>
            </a:r>
            <a:br>
              <a:rPr sz="1200"/>
            </a:br>
            <a:r>
              <a:rPr b="1" i="1" lang="ru-RU" sz="1200" spc="-1" strike="noStrike">
                <a:solidFill>
                  <a:srgbClr val="17ad1b"/>
                </a:solidFill>
                <a:latin typeface="Forte"/>
              </a:rPr>
              <a:t>«Права человека»</a:t>
            </a:r>
            <a:br>
              <a:rPr sz="1200"/>
            </a:br>
            <a:r>
              <a:rPr b="1" i="1" lang="ru-RU" sz="1600" spc="-1" strike="noStrike">
                <a:solidFill>
                  <a:srgbClr val="17ad1b"/>
                </a:solidFill>
                <a:latin typeface="Forte"/>
              </a:rPr>
              <a:t> </a:t>
            </a:r>
            <a:r>
              <a:rPr b="1" i="1" lang="ru-RU" sz="1100" spc="-1" strike="noStrike">
                <a:solidFill>
                  <a:srgbClr val="281bcb"/>
                </a:solidFill>
                <a:latin typeface="Forte"/>
              </a:rPr>
              <a:t>Таймановой Татьяны </a:t>
            </a:r>
            <a:br>
              <a:rPr sz="1100"/>
            </a:br>
            <a:r>
              <a:rPr b="1" i="1" lang="ru-RU" sz="1100" spc="-1" strike="noStrike">
                <a:solidFill>
                  <a:srgbClr val="281bcb"/>
                </a:solidFill>
                <a:latin typeface="Forte"/>
              </a:rPr>
              <a:t>( гр. 104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1EA5-232B-44FB-BFC1-DBDED8D0E6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1. Чувствуете ли Вы себя защищенными в нашей стране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FE6B-11D8-49A8-957C-A2B88D4DDF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5. Соблюдаются ли Ваши права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по месту работы ( учебы )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6B1B-FB34-4266-83A0-32649861AC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cc00"/>
                </a:solidFill>
                <a:uFillTx/>
                <a:latin typeface="Arial"/>
              </a:rPr>
              <a:t>Принципы формирования правового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ава и свободы личности являются естественными, а не дарованными государством и принадлежат каждому от рож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человека регулируются только законом, никакой подзаконный акт не может их ограничить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 законом все равн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ава и свободы должны быть едины на всей территории стран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ые права граждан не должны противоречить правам лич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свободы должны соблюдаться в любой ситуации, в том числе во время войны или чрезвычайного по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прос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ожно ли говорить о существовании правового государства в Росс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8437-BBFD-49B1-881E-CA99AE53C87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Arial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ующее сегодня Российское законодательство предоставляет гражданину широкий спектр пра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нституции РФ записано, чт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права и свободы человека и гражданина являются непосредственно действующими»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ин может осуществлять свои права, защищать их, обратившись в суд и ссылаясь на Конституц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92DA-9030-4303-A166-DF11582093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2. </a:t>
            </a: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Международные документы по правам человек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3300"/>
                </a:solidFill>
                <a:latin typeface="Arial"/>
              </a:rPr>
              <a:t>«…всеобщее уважение прав человека является общей заботой всех правительств и всех народов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Arial"/>
              </a:rPr>
              <a:t>(Из послания Генерального секретаря О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Arial"/>
              </a:rPr>
              <a:t>Бутрос Бутрос Га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75E2-B375-4AC0-AA5E-AAFDA6D5A3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Международный Билль о правах человека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общая декларация прав человека (1948) -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0 декабр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день прав человека. В этот день Генеральная Ассамблея ООН приняла единогласно Всеобщую декларацию прав челов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й пакт о гражданских и  политических  правах (196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й пакт об  экономических,  социальных и культурных правах (196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ультативный протокол к Международному пакту о гражданских и  политических правах (196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ой Факультативный протокол к Международному пакту о гражданских и  политических правах (1991), цель – отмена смертной ка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469B-CD75-4C7A-94DF-D4BC436DD6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Международные документы по правам человека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ная задача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уют ли права человека в Конституции РФ международным стандартам о вопросах защиты пра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вобод человека? Ответ аргументируй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вывод можно сделать, сравнивая эти два документ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Конституции РФ отражены права и свободы, провозглашенные в Декларации. Это связано с тем, что в СССР данный документ был ратифицирован, поэтому эти положения страна обязана соблюда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F24F-6EB1-4323-8B3D-460323A825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Arial"/>
              </a:rPr>
              <a:t>Права человека в нашей стран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декабря 1965 г. –  День рождения правозащитного дви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отстоять права личности, защитить ее достоинство, сформировать отвращение ко лжи и любым видам насил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CEED-F5B4-49C4-ADFA-CBBD1641B9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СТРАСБУРГСКИЙ  С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A8C9-7279-4198-9808-09D96E5230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"/>
              </a:rPr>
              <a:t>Международные документы по правам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99"/>
                </a:solidFill>
                <a:latin typeface="Arial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99"/>
                </a:solidFill>
                <a:latin typeface="Arial"/>
              </a:rPr>
              <a:t>Социально-экономические, политические и личные права и своб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99"/>
                </a:solidFill>
                <a:latin typeface="Arial"/>
              </a:rPr>
              <a:t>Международные документы по правам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99"/>
                </a:solidFill>
                <a:latin typeface="Arial"/>
              </a:rPr>
              <a:t>Страсбургский су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E06D-6A51-40B5-A9B8-B41FA3B3549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СТОРИЯ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3 сентября 1953 г.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Европейская конвенция о защите прав человека и основных своб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создала особый механизм защиты прав и своб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Arial"/>
              </a:rPr>
              <a:t>Он включает в себ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Европейскую Комиссию по правам челов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Европейский Суд по правам челов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Комитет министров Сове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Европы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4567-B22D-4A5B-A68F-BA9E115979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Местонахождение Европейского Суда по правам человека. - Дворец прав человека в Страсбурге (Франция), где находится и сам Совет Европы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2884-66FB-485D-A5BE-6508D1D061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cc00"/>
                </a:solidFill>
                <a:uFillTx/>
                <a:latin typeface="Arial"/>
              </a:rPr>
              <a:t>Согласно первоначальной систе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Жалобы сначала рассматривает Европейская Комиссия по правам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Она же передает дело в Европейский Суд по правам человека для принятия окончательного, имеющего обязательную силу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Если дело не передавалось в Суд, оно решалось Комитетом минист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С 1 октября 1994 г. заявителям было предоставлено право самим передавать свои дела в Суд по жалобам, признанным Комиссией приемлем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DDD3-6CD8-410B-B5B4-612A18E924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cc00"/>
                </a:solidFill>
                <a:latin typeface="Arial"/>
              </a:rPr>
              <a:t>Условия, при которых жалоба может быть приня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Во-первых,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предметом жалобы могут быть только права, гарантируемые Конвенцией или ее Протокол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Во-вторых,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жалоба может исходить только от самого потерпевше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В-третьих,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жалоба должна быть подана не позднее чем через шесть месяцев после окончательного рассмотрения вопроса компетентным государственным орган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В-четвертых,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жаловаться можно только на те нарушения, которые имели место после даты ратификации Конвен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В-пятых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, заявителем должны быть исчерпаны все внутригосударственные средства защиты своего права, и прежде всего судебные средства такой защи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Деятельность всех  органов государственной власти, не должна противоречить положениям Конвен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6F40-A61F-4B0A-92F4-6B33AFA7EB1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Начав свою деятельность в 1959 г., Европейский Суд к концу 1998 г. рассмотрел более тысячи дел, подавляющее большинство из которых по жалобам граждан.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Все лица, находящимся под  юрисдикцией Европейской конвенции ,могут обращаться в Европейский Суд, если они считают свои права нарушенными, что подтверждается статьей 46 (ч. 3) Конституции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оличество дел из России постоянно растет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2001 году – 2490 жалоб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2002-м – 4716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2003-м – 6602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2004-м – 7855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2005-м – 10 009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«Россия, как и год назад, рекордсмен по количеству поступивших к нам исков. По данным на сентябрь 2006 года, к нам поступило 18500 дел из России, и это 20,8 процента всех поступивших исков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председатель Европейского су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по правам человек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Люциус Вильдхабер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3F6B-71AF-44FC-A215-140039D1DC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ропейский Суд по правам человека состоит из судей, число которых соответствует числу подписавших Конвенцию государств. Судьи пользуются полной независимостью при исполнении своих обязанностей и не представляют интересы государства, его выдвинувшего. - - Первые выборы в новый Суд, в связи с принятием Протокола № 11 к Европейской конвенции о правах человека, состоялись в январе 1998 года и избранные судьи приступили к исполнению своих обязанностей 3 ноября 1998 г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седателем Суда является Луциус Вильдхабер (Швейцар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годня Россию представля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удья  Анатолий Ковлер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DBD8-0A7F-4D9D-819A-8A2378621E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писку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вропейским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удом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ужн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ст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у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Registra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ropean Court of Human Right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ncil of Europ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-67075 STRASBOURG CEDEX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NCE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РАН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фициальный адрес Европейского Суда по правам челове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ropean Court of Human Right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ncil of Europ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 - 67075 Strasbourg-Cede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l: 33 (0)3 88 41 20 18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x: 33 (0)3 88 41 27 30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et: www.echr.coe.in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6146-EE04-42A1-92C5-2CE2DC24B0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A7DC-FC7E-4BEE-A093-1E3F3E511B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Нормы оценки: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10-11 верных ответов – «5»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8-9 – «4»; 6-7 – «3»; менее 5 – «2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9388-95C0-46D4-94C8-0A48E59669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646D-C607-4E9D-824F-87F740370F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1. Социально-экономические, политические и личные права и свобод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i="1" lang="ru-RU" sz="1400" spc="-1" strike="noStrike">
                <a:solidFill>
                  <a:srgbClr val="bbe0e3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е о естественных правах разработал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жон Лок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английский философ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ые права появляю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 рождения и неотъемлем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1BBA-C8C6-41D1-8CEB-5698DA8F67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200" spc="-1" strike="noStrike">
                <a:solidFill>
                  <a:srgbClr val="bbe0e3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тественные пра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руг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жизн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а свобод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а собствен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имуществ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личнос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вои действ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вой труд и его    результа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а равенство (пра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а охрану своей собственност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воей жизни, свободы, имуще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восстание против тиранической власти, посягающей на естественные права и свобо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C782-C6DD-4F96-B425-4496DCDB83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200" spc="-1" strike="noStrike">
                <a:solidFill>
                  <a:srgbClr val="bbe0e3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5FE1-6238-480B-8E76-21A8F2D9ABC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21C4-5976-4488-B612-EDF9FEA62A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bbe0e3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0F8B-8DE9-4C92-862F-DD217D3AC7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Arial"/>
              </a:rPr>
              <a:t>Заполните таблицу</a:t>
            </a:r>
            <a:r>
              <a:rPr b="0" lang="ru-RU" sz="12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1" lang="ru-RU" sz="1200" spc="-1" strike="noStrike">
                <a:solidFill>
                  <a:srgbClr val="ffcc00"/>
                </a:solidFill>
                <a:latin typeface="Arial"/>
              </a:rPr>
              <a:t>Ознакомьтесь со статьями Конституции РФ. Охарактеризуйте гарантии прав и свобод человека и гражданин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E732-14C2-4F7E-8F55-6A4E16E346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468F-E5EC-45A7-B723-2083F0B8C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AE2E-9DC8-42E8-A6A6-FE007A2C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2E8A-8B3B-4542-A4B9-194B53B73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0F5F-6121-4D53-BA30-B825797CF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03E2-8F08-4ED7-8847-6F8FC85AF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3FCC-8C24-4230-AB59-A5A2E4FD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1EC9-D7B2-408B-BDC2-B5B86812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643E-96B1-4725-924C-A08433B3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034B-F521-431A-A3EC-4FF726A9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5DF4-23FB-4A29-9497-4B3B3A63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FEA9-79E1-4911-A00F-236D1EA0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DF4D-1293-4642-AE8E-B46E4A5D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9C04-C972-4373-9482-E647754B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6047-FDA1-4C37-8F3D-7F27BDD2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C718-2108-497F-A5C6-4CD2FA5A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55C8-12CB-4234-B9C8-CB38297A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0BA4-8B3C-40C0-8FF6-61C7E190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2EF6A-1D68-47CF-8100-0AA0CA481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B909E-6095-428C-A3B2-F89A1015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95454-B88F-4C12-B4B6-A900E332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7CD9A-FFF2-4F85-A6B3-228DA3B4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F7771-5FAB-4A60-B2B9-B233DC4D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97D9-9CB8-4293-A88F-A1B55B8B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50029-5AB9-460A-8DA0-D39DABDC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5E81C-3039-444F-B138-8D7E32D2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4DFDC-50FB-4499-B720-2AC7F29C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60E19-9A98-4A91-A364-D4127784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65553-B25B-4783-9A68-61EF0D12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3CE64-97BC-41F0-AB5D-3CE7123F9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84AC0-4851-493A-B90E-75592760D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804BD-8825-42BA-A045-39A2E5F0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8AD02-4329-48DA-B6D1-7E0CE244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0867A-BD54-4643-BDAD-AA06C537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6A1A-F5DC-470F-9EA8-BD32B2C5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46091-0BAF-42F0-B068-3B16AF2C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73CEB-F526-4863-95B3-D5C2A2EC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B6AF7-8614-4616-B689-462AB436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9B5A9-AAE3-413E-8223-EC2A91B4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C0913-982D-4D6D-9D9F-F3EBB2E2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D8B91-38DA-42C6-8CE9-A864F3EF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BC452-CB44-41DB-9096-83D56094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C7D95-E39E-49B5-8B4C-82B7042B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1C227-1857-41D4-B7D8-8E9DD7790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02BB-09C3-46AC-A05D-99026CFF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824F-DCD9-41A0-A75D-6ABAF323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F649-3ACC-4C17-9546-9E9D3757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F723-E0FE-49FF-9040-10A2CE77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C960-6165-4603-AE45-503B6554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FB22-40CE-4538-B3B2-621B273DFC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9E7E-1059-4150-858C-5F33E074395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2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B3A7-7FDC-4A2C-BF26-1371A404FE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75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575F-4DD9-45FC-90E9-D1B8C9F71D1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4000" y="270000"/>
            <a:ext cx="8362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cc00"/>
                </a:solidFill>
                <a:latin typeface="Arial"/>
              </a:rPr>
              <a:t>Международные документы по правам человек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58" name="Picture 5" descr="45337734670b92"/>
          <p:cNvPicPr/>
          <p:nvPr/>
        </p:nvPicPr>
        <p:blipFill>
          <a:blip r:embed="rId1"/>
          <a:stretch/>
        </p:blipFill>
        <p:spPr>
          <a:xfrm>
            <a:off x="468360" y="2495520"/>
            <a:ext cx="5392800" cy="3471840"/>
          </a:xfrm>
          <a:prstGeom prst="rect">
            <a:avLst/>
          </a:prstGeom>
          <a:ln w="38160">
            <a:solidFill>
              <a:srgbClr val="f8a500"/>
            </a:solidFill>
            <a:miter/>
          </a:ln>
        </p:spPr>
      </p:pic>
      <p:pic>
        <p:nvPicPr>
          <p:cNvPr id="259" name="Picture 6" descr="L13_p1"/>
          <p:cNvPicPr/>
          <p:nvPr/>
        </p:nvPicPr>
        <p:blipFill>
          <a:blip r:embed="rId2"/>
          <a:stretch/>
        </p:blipFill>
        <p:spPr>
          <a:xfrm>
            <a:off x="4211640" y="3965400"/>
            <a:ext cx="4557600" cy="2500560"/>
          </a:xfrm>
          <a:prstGeom prst="rect">
            <a:avLst/>
          </a:prstGeom>
          <a:ln w="38160">
            <a:solidFill>
              <a:srgbClr val="f8a500"/>
            </a:solidFill>
            <a:miter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17ad1b"/>
                </a:solidFill>
                <a:latin typeface="Forte"/>
              </a:rPr>
              <a:t>Анализ данных социологического исследования</a:t>
            </a:r>
            <a:br>
              <a:rPr sz="5400"/>
            </a:br>
            <a:r>
              <a:rPr b="1" i="1" lang="ru-RU" sz="5400" spc="-1" strike="noStrike">
                <a:solidFill>
                  <a:srgbClr val="17ad1b"/>
                </a:solidFill>
                <a:latin typeface="Forte"/>
              </a:rPr>
              <a:t>«Права человека»</a:t>
            </a:r>
            <a:br>
              <a:rPr sz="5400"/>
            </a:br>
            <a:r>
              <a:rPr b="1" i="1" lang="ru-RU" sz="6600" spc="-1" strike="noStrike">
                <a:solidFill>
                  <a:srgbClr val="17ad1b"/>
                </a:solidFill>
                <a:latin typeface="Forte"/>
              </a:rPr>
              <a:t> </a:t>
            </a:r>
            <a:r>
              <a:rPr b="1" i="1" lang="ru-RU" sz="4800" spc="-1" strike="noStrike">
                <a:solidFill>
                  <a:srgbClr val="281bcb"/>
                </a:solidFill>
                <a:latin typeface="Forte"/>
              </a:rPr>
              <a:t>Таймановой Татьяны </a:t>
            </a:r>
            <a:br>
              <a:rPr sz="4800"/>
            </a:br>
            <a:r>
              <a:rPr b="1" i="1" lang="ru-RU" sz="4800" spc="-1" strike="noStrike">
                <a:solidFill>
                  <a:srgbClr val="281bcb"/>
                </a:solidFill>
                <a:latin typeface="Forte"/>
              </a:rPr>
              <a:t>( гр. 104 )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1. Чувствуете ли Вы себя защищенными в нашей стране?</a:t>
            </a:r>
            <a:br>
              <a:rPr sz="2000"/>
            </a:b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19" name="Picture 9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1860480" cy="20876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0" descr=""/>
          <p:cNvPicPr/>
          <p:nvPr/>
        </p:nvPicPr>
        <p:blipFill>
          <a:blip r:embed="rId2"/>
          <a:stretch/>
        </p:blipFill>
        <p:spPr>
          <a:xfrm>
            <a:off x="2195640" y="1197000"/>
            <a:ext cx="1941480" cy="2077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"/>
          <p:cNvPicPr/>
          <p:nvPr/>
        </p:nvPicPr>
        <p:blipFill>
          <a:blip r:embed="rId3"/>
          <a:stretch/>
        </p:blipFill>
        <p:spPr>
          <a:xfrm>
            <a:off x="5076720" y="1268280"/>
            <a:ext cx="1765440" cy="20163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2" descr=""/>
          <p:cNvPicPr/>
          <p:nvPr/>
        </p:nvPicPr>
        <p:blipFill>
          <a:blip r:embed="rId4"/>
          <a:stretch/>
        </p:blipFill>
        <p:spPr>
          <a:xfrm>
            <a:off x="6877080" y="1268280"/>
            <a:ext cx="1798560" cy="206856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13"/>
          <p:cNvSpPr/>
          <p:nvPr/>
        </p:nvSpPr>
        <p:spPr>
          <a:xfrm>
            <a:off x="4932360" y="18900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2. Нарушались ли Ваши прав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Picture 14" descr=""/>
          <p:cNvPicPr/>
          <p:nvPr/>
        </p:nvPicPr>
        <p:blipFill>
          <a:blip r:embed="rId5"/>
          <a:stretch/>
        </p:blipFill>
        <p:spPr>
          <a:xfrm>
            <a:off x="2195640" y="4437000"/>
            <a:ext cx="1800000" cy="20876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5" descr=""/>
          <p:cNvPicPr/>
          <p:nvPr/>
        </p:nvPicPr>
        <p:blipFill>
          <a:blip r:embed="rId6"/>
          <a:stretch/>
        </p:blipFill>
        <p:spPr>
          <a:xfrm>
            <a:off x="250920" y="4437000"/>
            <a:ext cx="1871640" cy="214488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16"/>
          <p:cNvSpPr/>
          <p:nvPr/>
        </p:nvSpPr>
        <p:spPr>
          <a:xfrm>
            <a:off x="611280" y="3429000"/>
            <a:ext cx="30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3. Если нарушалис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о каки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18" descr=""/>
          <p:cNvPicPr/>
          <p:nvPr/>
        </p:nvPicPr>
        <p:blipFill>
          <a:blip r:embed="rId7"/>
          <a:stretch/>
        </p:blipFill>
        <p:spPr>
          <a:xfrm>
            <a:off x="4932360" y="4437000"/>
            <a:ext cx="1725480" cy="20448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9" descr=""/>
          <p:cNvPicPr/>
          <p:nvPr/>
        </p:nvPicPr>
        <p:blipFill>
          <a:blip r:embed="rId8"/>
          <a:stretch/>
        </p:blipFill>
        <p:spPr>
          <a:xfrm>
            <a:off x="6877080" y="443700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20"/>
          <p:cNvSpPr/>
          <p:nvPr/>
        </p:nvSpPr>
        <p:spPr>
          <a:xfrm>
            <a:off x="4932360" y="3500280"/>
            <a:ext cx="32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. Наиболее важными правами Вы считает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 flipV="1" rot="10800000">
            <a:off x="1831680" y="723960"/>
            <a:ext cx="324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43214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5. Соблюдаются ли Ваши прав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по месту работы ( учебы )?</a:t>
            </a:r>
            <a:br>
              <a:rPr sz="2000"/>
            </a:b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33" name="Picture 10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1824120" cy="21891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"/>
          <p:cNvPicPr/>
          <p:nvPr/>
        </p:nvPicPr>
        <p:blipFill>
          <a:blip r:embed="rId2"/>
          <a:stretch/>
        </p:blipFill>
        <p:spPr>
          <a:xfrm>
            <a:off x="2484360" y="1268280"/>
            <a:ext cx="1685880" cy="213048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12"/>
          <p:cNvSpPr/>
          <p:nvPr/>
        </p:nvSpPr>
        <p:spPr>
          <a:xfrm>
            <a:off x="442764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. Соблюдаются ли Ваши пр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 права Вашего ребенка ) в семь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13" descr=""/>
          <p:cNvPicPr/>
          <p:nvPr/>
        </p:nvPicPr>
        <p:blipFill>
          <a:blip r:embed="rId3"/>
          <a:stretch/>
        </p:blipFill>
        <p:spPr>
          <a:xfrm>
            <a:off x="5003640" y="1268280"/>
            <a:ext cx="1824120" cy="21891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4" descr=""/>
          <p:cNvPicPr/>
          <p:nvPr/>
        </p:nvPicPr>
        <p:blipFill>
          <a:blip r:embed="rId4"/>
          <a:stretch/>
        </p:blipFill>
        <p:spPr>
          <a:xfrm>
            <a:off x="6948360" y="1268280"/>
            <a:ext cx="1906560" cy="215280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15"/>
          <p:cNvSpPr/>
          <p:nvPr/>
        </p:nvSpPr>
        <p:spPr>
          <a:xfrm>
            <a:off x="2340000" y="3500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. Что, по-вашему, влияет на соблю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 человека в любой стран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16" descr=""/>
          <p:cNvPicPr/>
          <p:nvPr/>
        </p:nvPicPr>
        <p:blipFill>
          <a:blip r:embed="rId5"/>
          <a:stretch/>
        </p:blipFill>
        <p:spPr>
          <a:xfrm>
            <a:off x="3132000" y="4508640"/>
            <a:ext cx="3111480" cy="218916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cc00"/>
                </a:solidFill>
                <a:uFillTx/>
                <a:latin typeface="Arial"/>
              </a:rPr>
              <a:t>Принципы формирования правового государства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права и свободы личности являются естественными, а не дарованными государством и принадлежат каждому от рожд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а человека регулируются только законом, никакой подзаконный акт не может их ограничить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 законом все равны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права и свободы должны быть едины на всей территории страны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ллективные права граждан не должны противоречить правам лич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а и свободы должны соблюдаться в любой ситуации, в том числе во время войны или чрезвычайного полож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прос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Можно ли говорить о существовании правового государства в Росси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a5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йствующее сегодня Российское законодательство предоставляет гражданину широкий спектр пра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онституции РФ записано, что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«права и свободы человека и гражданина являются непосредственно действующими»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ажданин может осуществлять свои права, защищать их, обратившись в суд и ссылаясь на Конституц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7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7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30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7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8000"/>
                </a:solidFill>
                <a:latin typeface="Arial Black"/>
              </a:rPr>
              <a:t>2. </a:t>
            </a:r>
            <a:r>
              <a:rPr b="0" lang="ru-RU" sz="3600" spc="-1" strike="noStrike">
                <a:solidFill>
                  <a:srgbClr val="008000"/>
                </a:solidFill>
                <a:latin typeface="Arial Black"/>
              </a:rPr>
              <a:t>Международные документы по правам человека</a:t>
            </a:r>
            <a:r>
              <a:rPr b="0" lang="ru-RU" sz="4000" spc="-1" strike="noStrike">
                <a:solidFill>
                  <a:srgbClr val="006600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4897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«…всеобщее уважение прав человека является общей заботой всех правительств и всех народов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(Из послания Генерального секретаря О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Бутрос Бутрос Гал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6" descr="http://www.wex-bb.de/gebeugterParagraf1.jpg"/>
          <p:cNvPicPr/>
          <p:nvPr/>
        </p:nvPicPr>
        <p:blipFill>
          <a:blip r:embed="rId1"/>
          <a:stretch/>
        </p:blipFill>
        <p:spPr>
          <a:xfrm>
            <a:off x="5578560" y="1628640"/>
            <a:ext cx="3165480" cy="456408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35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200" spc="-1" strike="noStrike">
                <a:solidFill>
                  <a:srgbClr val="008000"/>
                </a:solidFill>
                <a:latin typeface="Arial Black"/>
              </a:rPr>
              <a:t>Международный Билль о правах человека: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92444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общая декларация прав человека (1948) -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0 декабр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день прав человека. В этот день Генеральная Ассамблея ООН приняла единогласно Всеобщую декларацию прав челове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ждународный пакт о гражданских и  политических  правах (1966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ждународный пакт об  экономических,  социальных и культурных правах (1966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акультативный протокол к Международному пакту о гражданских и  политических правах (1966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торой Факультативный протокол к Международному пакту о гражданских и  политических правах (1991), цель – отмена смертной ка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8000"/>
                </a:solidFill>
                <a:latin typeface="Arial Black"/>
              </a:rPr>
              <a:t>Международные документы по правам человека</a:t>
            </a:r>
            <a:r>
              <a:rPr b="0" lang="ru-RU" sz="4000" spc="-1" strike="noStrike">
                <a:solidFill>
                  <a:srgbClr val="008000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ная задача: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ответствуют ли права человека в Конституции РФ международным стандартам о вопросах защиты пра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свобод человека? Ответ аргументируйт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й вывод можно сделать, сравнивая эти два докумен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Конституции РФ отражены права и свободы, провозглашенные в Декларации. Это связано с тем, что в СССР данный документ был ратифицирован, поэтому эти положения страна обязана соблюда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Права человека в нашей стране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00720" y="1599840"/>
            <a:ext cx="46432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 декабря 1965 г. –  День рождения правозащитного движ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ль: отстоять права личности, защитить ее достоинство, сформировать отвращение ко лжи и любым видам насил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7" descr="saharov"/>
          <p:cNvPicPr/>
          <p:nvPr/>
        </p:nvPicPr>
        <p:blipFill>
          <a:blip r:embed="rId1"/>
          <a:stretch/>
        </p:blipFill>
        <p:spPr>
          <a:xfrm>
            <a:off x="2411280" y="2637000"/>
            <a:ext cx="2097360" cy="273672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360" name="Picture 6" descr="portr2"/>
          <p:cNvPicPr/>
          <p:nvPr/>
        </p:nvPicPr>
        <p:blipFill>
          <a:blip r:embed="rId2"/>
          <a:stretch/>
        </p:blipFill>
        <p:spPr>
          <a:xfrm>
            <a:off x="395280" y="1916280"/>
            <a:ext cx="2085840" cy="28080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361" name="Text Box 8"/>
          <p:cNvSpPr/>
          <p:nvPr/>
        </p:nvSpPr>
        <p:spPr>
          <a:xfrm>
            <a:off x="250920" y="5708520"/>
            <a:ext cx="47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Андрей Дмитриевич Саха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0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3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WordArt 2"/>
          <p:cNvSpPr txBox="1"/>
          <p:nvPr/>
        </p:nvSpPr>
        <p:spPr>
          <a:xfrm>
            <a:off x="1258920" y="260280"/>
            <a:ext cx="640872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РАСБУРГСКИЙ  СУД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4" name="Picture 3" descr="palais_hommes"/>
          <p:cNvPicPr/>
          <p:nvPr/>
        </p:nvPicPr>
        <p:blipFill>
          <a:blip r:embed="rId1"/>
          <a:stretch/>
        </p:blipFill>
        <p:spPr>
          <a:xfrm>
            <a:off x="0" y="3068640"/>
            <a:ext cx="6300720" cy="3789360"/>
          </a:xfrm>
          <a:prstGeom prst="rect">
            <a:avLst/>
          </a:prstGeom>
          <a:ln w="0">
            <a:noFill/>
          </a:ln>
        </p:spPr>
      </p:pic>
      <p:pic>
        <p:nvPicPr>
          <p:cNvPr id="365" name="aria__angel.mp3" descr=""/>
          <p:cNvPicPr/>
          <p:nvPr/>
        </p:nvPicPr>
        <p:blipFill>
          <a:blip r:embed="rId2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5"/>
          <p:cNvSpPr/>
          <p:nvPr/>
        </p:nvSpPr>
        <p:spPr>
          <a:xfrm>
            <a:off x="6478920" y="4219920"/>
            <a:ext cx="266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боту выполни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уденты 104 групп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гаков Денис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рбаев Дени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5" dur="1" fill="hold"/>
                                        <p:tgtEl>
                                          <p:spTgt spid="3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9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3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Международные документы по правам человек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62" name="Picture 6" descr="http://www.info-wr.de/unterricht/weg/kunst/f13.jpg"/>
          <p:cNvPicPr/>
          <p:nvPr/>
        </p:nvPicPr>
        <p:blipFill>
          <a:blip r:embed="rId1"/>
          <a:stretch/>
        </p:blipFill>
        <p:spPr>
          <a:xfrm>
            <a:off x="539640" y="4149720"/>
            <a:ext cx="2087640" cy="2087640"/>
          </a:xfrm>
          <a:prstGeom prst="rect">
            <a:avLst/>
          </a:prstGeom>
          <a:ln w="38160">
            <a:solidFill>
              <a:srgbClr val="f8a500"/>
            </a:solidFill>
            <a:miter/>
          </a:ln>
        </p:spPr>
      </p:pic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59280" y="1557000"/>
            <a:ext cx="5760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66"/>
                </a:solidFill>
                <a:latin typeface="Tahoma"/>
              </a:rPr>
              <a:t>План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Социально-экономические, политические и личные права и своб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Международные документы по правам челове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Страсбургский су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475164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 Black"/>
              </a:rPr>
              <a:t>ИСТОРИЯ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0920" y="1197000"/>
            <a:ext cx="7848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3 сентября 1953 г.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Европейская конвенция о защите прав человека и основных свобод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создала особый механизм защиты прав и своб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Он включает в себ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Европейскую Комиссию по правам челове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Европейский Суд по правам челове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Комитет министров Сове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Европы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4" descr="logocoe64"/>
          <p:cNvPicPr/>
          <p:nvPr/>
        </p:nvPicPr>
        <p:blipFill>
          <a:blip r:embed="rId1"/>
          <a:stretch/>
        </p:blipFill>
        <p:spPr>
          <a:xfrm>
            <a:off x="6948360" y="5516640"/>
            <a:ext cx="1908360" cy="1100160"/>
          </a:xfrm>
          <a:prstGeom prst="rect">
            <a:avLst/>
          </a:prstGeom>
          <a:ln w="0">
            <a:noFill/>
          </a:ln>
        </p:spPr>
      </p:pic>
      <p:sp>
        <p:nvSpPr>
          <p:cNvPr id="37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836640"/>
            <a:ext cx="424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Местонахождение Европейского Суда по правам человека. - Дворец прав человека в Страсбурге (Франция), где находится и сам Совет Европы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3" descr="Entrance of the ECHR building"/>
          <p:cNvPicPr/>
          <p:nvPr/>
        </p:nvPicPr>
        <p:blipFill>
          <a:blip r:embed="rId1"/>
          <a:stretch/>
        </p:blipFill>
        <p:spPr>
          <a:xfrm>
            <a:off x="4932360" y="2492280"/>
            <a:ext cx="4000680" cy="417672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0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2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1547640" y="33336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Согласно первоначальной систем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684360" y="1197000"/>
            <a:ext cx="79912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Жалобы сначала рассматривает Европейская Комиссия по правам чело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Она же передает дело в Европейский Суд по правам человека для принятия окончательного, имеющего обязательную силу реш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Если дело не передавалось в Суд, оно решалось Комитетом минист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 1 октября 1994 г. заявителям было предоставлено право самим передавать свои дела в Суд по жалобам, признанным Комиссией приемлемы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4" descr="echr_eng_fr"/>
          <p:cNvPicPr/>
          <p:nvPr/>
        </p:nvPicPr>
        <p:blipFill>
          <a:blip r:embed="rId1"/>
          <a:stretch/>
        </p:blipFill>
        <p:spPr>
          <a:xfrm>
            <a:off x="826920" y="5589720"/>
            <a:ext cx="7620120" cy="93960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Arial Black"/>
              </a:rPr>
              <a:t>Условия, при которых жалоба может быть принята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о-первы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предметом жалобы могут быть только права, гарантируемые Конвенцией или ее Протокол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о-вторы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жалоба может исходить только от самого потерпевшег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-третьи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жалоба должна быть подана не позднее чем через шесть месяцев после окончательного рассмотрения вопроса компетентным государственным орган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-четверты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жаловаться можно только на те нарушения, которые имели место после даты ратификации Конвен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-пятых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, заявителем должны быть исчерпаны все внутригосударственные средства защиты своего права, и прежде всего судебные средства такой защиты.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еятельность всех  органов государственной власти, не должна противоречить положениям Конвен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77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4" dur="77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6" dur="77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8" dur="77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77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5" dur="77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7" dur="77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9" dur="77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77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6" dur="77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8" dur="77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0" dur="77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77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7" dur="77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9" dur="77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1" dur="77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77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8" dur="77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0" dur="77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2" dur="77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77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8" dur="77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0" dur="77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2" dur="77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4572000" y="209700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ичество дел из России постоянно растет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1 году – 2490 жалоб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2-м – 4716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3-м – 6602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4-м – 7855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5-м – 10 009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«Россия, как и год назад, рекордсмен по количеству поступивших к нам исков. По данным на сентябрь 2006 года, к нам поступило 18500 дел из России, и это 20,8 процента всех поступивших исков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председатель Европейского с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по правам челове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Люциус Вильдхабе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0" y="0"/>
            <a:ext cx="4716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Начав свою деятельность в 1959 г., Европейский Суд к концу 1998 г. рассмотрел более тысячи дел, подавляющее большинство из которых по жалобам граждан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Все лица, находящимся под  юрисдикцией Европейской конвенции ,могут обращаться в Европейский Суд, если они считают свои права нарушенными, что подтверждается статьей 46 (ч. 3) Конституции Российской Федер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etter"/>
          <p:cNvSpPr/>
          <p:nvPr/>
        </p:nvSpPr>
        <p:spPr>
          <a:xfrm>
            <a:off x="5940360" y="476280"/>
            <a:ext cx="2266920" cy="1133280"/>
          </a:xfrm>
          <a:custGeom>
            <a:avLst/>
            <a:gdLst>
              <a:gd name="textAreaLeft" fmla="*/ 556560 w 2266920"/>
              <a:gd name="textAreaRight" fmla="*/ 1837080 w 2266920"/>
              <a:gd name="textAreaTop" fmla="*/ 483480 h 1133280"/>
              <a:gd name="textAreaBottom" fmla="*/ 964440 h 1133280"/>
            </a:gdLst>
            <a:ahLst/>
            <a:rect l="textAreaLeft" t="textAreaTop" r="textAreaRight" b="textAreaBottom"/>
            <a:pathLst>
              <a:path w="21600" h="21600">
                <a:moveTo>
                  <a:pt x="14" y="0"/>
                </a:moveTo>
                <a:lnTo>
                  <a:pt x="21600" y="0"/>
                </a:lnTo>
                <a:lnTo>
                  <a:pt x="21600" y="21628"/>
                </a:lnTo>
                <a:lnTo>
                  <a:pt x="14" y="21628"/>
                </a:lnTo>
                <a:lnTo>
                  <a:pt x="14" y="0"/>
                </a:lnTo>
                <a:close/>
              </a:path>
              <a:path w="21600" h="21600">
                <a:moveTo>
                  <a:pt x="18476" y="2035"/>
                </a:moveTo>
                <a:lnTo>
                  <a:pt x="20539" y="2035"/>
                </a:lnTo>
                <a:lnTo>
                  <a:pt x="20539" y="6559"/>
                </a:lnTo>
                <a:lnTo>
                  <a:pt x="18476" y="6559"/>
                </a:lnTo>
                <a:lnTo>
                  <a:pt x="18476" y="2035"/>
                </a:lnTo>
                <a:close/>
              </a:path>
              <a:path w="21600" h="21600">
                <a:moveTo>
                  <a:pt x="884" y="2092"/>
                </a:moveTo>
                <a:lnTo>
                  <a:pt x="7425" y="2092"/>
                </a:lnTo>
                <a:lnTo>
                  <a:pt x="7425" y="2770"/>
                </a:lnTo>
                <a:lnTo>
                  <a:pt x="884" y="2770"/>
                </a:lnTo>
                <a:lnTo>
                  <a:pt x="884" y="2092"/>
                </a:lnTo>
                <a:close/>
              </a:path>
              <a:path w="21600" h="21600">
                <a:moveTo>
                  <a:pt x="884" y="3109"/>
                </a:moveTo>
                <a:lnTo>
                  <a:pt x="7425" y="3109"/>
                </a:lnTo>
                <a:lnTo>
                  <a:pt x="7425" y="3788"/>
                </a:lnTo>
                <a:lnTo>
                  <a:pt x="884" y="3788"/>
                </a:lnTo>
                <a:lnTo>
                  <a:pt x="884" y="3109"/>
                </a:lnTo>
                <a:close/>
              </a:path>
              <a:path w="21600" h="21600">
                <a:moveTo>
                  <a:pt x="884" y="4127"/>
                </a:moveTo>
                <a:lnTo>
                  <a:pt x="7425" y="4127"/>
                </a:lnTo>
                <a:lnTo>
                  <a:pt x="7425" y="4806"/>
                </a:lnTo>
                <a:lnTo>
                  <a:pt x="884" y="4806"/>
                </a:lnTo>
                <a:lnTo>
                  <a:pt x="884" y="4127"/>
                </a:lnTo>
                <a:close/>
              </a:path>
              <a:path w="21600" h="21600">
                <a:moveTo>
                  <a:pt x="5127" y="5145"/>
                </a:moveTo>
                <a:lnTo>
                  <a:pt x="7425" y="5145"/>
                </a:lnTo>
                <a:lnTo>
                  <a:pt x="7425" y="5824"/>
                </a:lnTo>
                <a:lnTo>
                  <a:pt x="5127" y="5824"/>
                </a:lnTo>
                <a:lnTo>
                  <a:pt x="5127" y="514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Picture 6" descr=""/>
          <p:cNvPicPr/>
          <p:nvPr/>
        </p:nvPicPr>
        <p:blipFill>
          <a:blip r:embed="rId1"/>
          <a:stretch/>
        </p:blipFill>
        <p:spPr>
          <a:xfrm>
            <a:off x="611280" y="4292640"/>
            <a:ext cx="2303280" cy="1987560"/>
          </a:xfrm>
          <a:prstGeom prst="rect">
            <a:avLst/>
          </a:prstGeom>
          <a:ln w="0">
            <a:noFill/>
          </a:ln>
        </p:spPr>
      </p:pic>
      <p:sp>
        <p:nvSpPr>
          <p:cNvPr id="38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composition"/>
          <p:cNvPicPr/>
          <p:nvPr/>
        </p:nvPicPr>
        <p:blipFill>
          <a:blip r:embed="rId1"/>
          <a:stretch/>
        </p:blipFill>
        <p:spPr>
          <a:xfrm>
            <a:off x="-539640" y="-5821200"/>
            <a:ext cx="2857320" cy="197136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3"/>
          <p:cNvSpPr/>
          <p:nvPr/>
        </p:nvSpPr>
        <p:spPr>
          <a:xfrm>
            <a:off x="318240" y="12223080"/>
            <a:ext cx="543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Место судьи от Боснии и Герцеговины в настоящее время вакантно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-411336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Picture 5" descr="composition"/>
          <p:cNvPicPr/>
          <p:nvPr/>
        </p:nvPicPr>
        <p:blipFill>
          <a:blip r:embed="rId2"/>
          <a:stretch/>
        </p:blipFill>
        <p:spPr>
          <a:xfrm>
            <a:off x="179280" y="189000"/>
            <a:ext cx="3492720" cy="2349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392" name="Picture 6" descr="http://www.coe.int/t/e/human_rights/execution/default-9.jpg"/>
          <p:cNvPicPr/>
          <p:nvPr/>
        </p:nvPicPr>
        <p:blipFill>
          <a:blip r:embed="rId3"/>
          <a:stretch/>
        </p:blipFill>
        <p:spPr>
          <a:xfrm>
            <a:off x="5508720" y="4508640"/>
            <a:ext cx="3492360" cy="2133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393" name="Rectangle 7"/>
          <p:cNvSpPr/>
          <p:nvPr/>
        </p:nvSpPr>
        <p:spPr>
          <a:xfrm>
            <a:off x="250920" y="4611240"/>
            <a:ext cx="54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дседателем Суда является Луциус Вильдхабер (Швейцария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годня Россию представля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дья  Анатолий Ковлер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3851280" y="239760"/>
            <a:ext cx="529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ропейский Суд по правам человека состоит из судей, число которых соответствует числу подписавших Конвенцию государств. Судьи пользуются полной независимостью при исполнении своих обязанностей и не представляют интересы государства, его выдвинувшего. - - Первые выборы в новый Суд, в связи с принятием Протокола № 11 к Европейской конвенции о правах человека, состоялись в январе 1998 года и избранные судьи приступили к исполнению своих обязанностей 3 ноября 1998 го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0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4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644040" y="403560"/>
            <a:ext cx="7438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писк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опейским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дом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ужн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сти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дрес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Registra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ropean Court of Human Right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cil of Europ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-67075 STRASBOURG CEDEX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ANCE -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РАН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2376720" y="3337200"/>
            <a:ext cx="4210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ropean Court of Human Right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cil of Europ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 - 67075 Strasbourg-Cede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: 33 (0)3 88 41 20 18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x: 33 (0)3 88 41 27 30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et: www.echr.coe.i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607320" y="2923200"/>
            <a:ext cx="81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фициальный адрес Европейского Суда по правам человек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Picture 5" descr=""/>
          <p:cNvPicPr/>
          <p:nvPr/>
        </p:nvPicPr>
        <p:blipFill>
          <a:blip r:embed="rId1"/>
          <a:stretch/>
        </p:blipFill>
        <p:spPr>
          <a:xfrm>
            <a:off x="6372360" y="4467240"/>
            <a:ext cx="2771640" cy="239076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2"/>
          <p:cNvSpPr txBox="1"/>
          <p:nvPr/>
        </p:nvSpPr>
        <p:spPr>
          <a:xfrm>
            <a:off x="468360" y="2565360"/>
            <a:ext cx="8136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Нормы оценки: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10-11 верных ответов – «5»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8-9 – «4»; 6-7 – «3»; менее 5 – «2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468360" y="2997360"/>
          <a:ext cx="8229600" cy="2736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в;  2. г;  3. в;  4. б;  5. 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3, 6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4,7;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в; 8. б; 9. г; 10. б; 11. б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б; 2. в; 3. б; 4. а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1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2, 5, 8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а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б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a500"/>
                </a:solidFill>
                <a:latin typeface="Arial"/>
              </a:rPr>
              <a:t>1. Социально-экономические, политические и личные права и свободы.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266" name="Organization Chart 4"/>
          <p:cNvGrpSpPr/>
          <p:nvPr/>
        </p:nvGrpSpPr>
        <p:grpSpPr>
          <a:xfrm>
            <a:off x="457200" y="1600200"/>
            <a:ext cx="8229240" cy="4529880"/>
            <a:chOff x="457200" y="1600200"/>
            <a:chExt cx="8229240" cy="4529880"/>
          </a:xfrm>
        </p:grpSpPr>
        <p:cxnSp>
          <p:nvCxnSpPr>
            <p:cNvPr id="267" name="_s1028"/>
            <p:cNvCxnSpPr>
              <a:stCxn id="268" idx="0"/>
              <a:endCxn id="269" idx="2"/>
            </p:cNvCxnSpPr>
            <p:nvPr/>
          </p:nvCxnSpPr>
          <p:spPr>
            <a:xfrm flipV="1" rot="16200000">
              <a:off x="5225760" y="2756520"/>
              <a:ext cx="906840" cy="2216160"/>
            </a:xfrm>
            <a:prstGeom prst="bentConnector3">
              <a:avLst>
                <a:gd name="adj1" fmla="val 126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0" name="_s1029"/>
            <p:cNvCxnSpPr>
              <a:stCxn id="271" idx="0"/>
              <a:endCxn id="269" idx="2"/>
            </p:cNvCxnSpPr>
            <p:nvPr/>
          </p:nvCxnSpPr>
          <p:spPr>
            <a:xfrm flipH="1" flipV="1" rot="5400000">
              <a:off x="3011400" y="2757600"/>
              <a:ext cx="906840" cy="2214360"/>
            </a:xfrm>
            <a:prstGeom prst="bentConnector3">
              <a:avLst>
                <a:gd name="adj1" fmla="val 126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9" name="_s1030"/>
            <p:cNvSpPr/>
            <p:nvPr/>
          </p:nvSpPr>
          <p:spPr>
            <a:xfrm>
              <a:off x="2673000" y="1600200"/>
              <a:ext cx="3798000" cy="18118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663300"/>
                  </a:solidFill>
                  <a:latin typeface="Tahoma"/>
                </a:rPr>
                <a:t>Различие понятий «права человека» и «свободы человека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_s1031"/>
            <p:cNvSpPr/>
            <p:nvPr/>
          </p:nvSpPr>
          <p:spPr>
            <a:xfrm>
              <a:off x="457200" y="4318200"/>
              <a:ext cx="3798000" cy="18118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Права челове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Это охраняемые и обеспечиваемые государством возможности что-то делать, осуществлять; то, что разрешено законом и соответствует природе челове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_s1032"/>
            <p:cNvSpPr/>
            <p:nvPr/>
          </p:nvSpPr>
          <p:spPr>
            <a:xfrm>
              <a:off x="4888440" y="4318200"/>
              <a:ext cx="3798000" cy="18118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Свободы челове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Это отсутствие каких-либо ограничений в деятельности или поведени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140360" y="2349000"/>
            <a:ext cx="468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ние о естественных правах разработал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жон Локк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английский философ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тественные права появляются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 рождения и неотъемлем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5" name="Picture 6" descr="lokk"/>
          <p:cNvPicPr/>
          <p:nvPr/>
        </p:nvPicPr>
        <p:blipFill>
          <a:blip r:embed="rId1"/>
          <a:stretch/>
        </p:blipFill>
        <p:spPr>
          <a:xfrm>
            <a:off x="755640" y="2708280"/>
            <a:ext cx="3127320" cy="3481560"/>
          </a:xfrm>
          <a:prstGeom prst="rect">
            <a:avLst/>
          </a:prstGeom>
          <a:ln w="57240">
            <a:solidFill>
              <a:srgbClr val="f8a500"/>
            </a:solidFill>
            <a:miter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3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3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3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79280" y="1700280"/>
          <a:ext cx="8785440" cy="5051520"/>
        </p:xfrm>
        <a:graphic>
          <a:graphicData uri="http://schemas.openxmlformats.org/drawingml/2006/table">
            <a:tbl>
              <a:tblPr/>
              <a:tblGrid>
                <a:gridCol w="4321440"/>
                <a:gridCol w="4464000"/>
              </a:tblGrid>
              <a:tr h="5749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стественные прав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новны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руг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85600">
                <a:tc>
                  <a:txBody>
                    <a:bodyPr lIns="90000" rIns="90000" anchor="t">
                      <a:noAutofit/>
                    </a:bodyPr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жизнь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на свободу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на собственность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имущество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личность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свои действия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свой труд и его    результат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7128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на равенство (прав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7128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на охрану своей собственности: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своей жизни, свободы, имущества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7128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восстание против тиранической власти, посягающей на естественные права и свободы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281" name="Organization Chart 6"/>
          <p:cNvGrpSpPr/>
          <p:nvPr/>
        </p:nvGrpSpPr>
        <p:grpSpPr>
          <a:xfrm>
            <a:off x="179280" y="1844640"/>
            <a:ext cx="8713080" cy="4607280"/>
            <a:chOff x="179280" y="1844640"/>
            <a:chExt cx="8713080" cy="4607280"/>
          </a:xfrm>
        </p:grpSpPr>
        <p:cxnSp>
          <p:nvCxnSpPr>
            <p:cNvPr id="282" name="_s2052"/>
            <p:cNvCxnSpPr>
              <a:stCxn id="283" idx="0"/>
              <a:endCxn id="284" idx="2"/>
            </p:cNvCxnSpPr>
            <p:nvPr/>
          </p:nvCxnSpPr>
          <p:spPr>
            <a:xfrm flipV="1" rot="16200000">
              <a:off x="5769360" y="2453040"/>
              <a:ext cx="921960" cy="338904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5" name="_s2053"/>
            <p:cNvCxnSpPr>
              <a:stCxn id="286" idx="0"/>
              <a:endCxn id="284" idx="2"/>
            </p:cNvCxnSpPr>
            <p:nvPr/>
          </p:nvCxnSpPr>
          <p:spPr>
            <a:xfrm flipV="1" rot="16200000">
              <a:off x="4639680" y="3582720"/>
              <a:ext cx="921960" cy="112968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7" name="_s2054"/>
            <p:cNvCxnSpPr>
              <a:stCxn id="288" idx="0"/>
              <a:endCxn id="284" idx="2"/>
            </p:cNvCxnSpPr>
            <p:nvPr/>
          </p:nvCxnSpPr>
          <p:spPr>
            <a:xfrm flipH="1" flipV="1" rot="5400000">
              <a:off x="3511440" y="3583800"/>
              <a:ext cx="921960" cy="112788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9" name="_s2055"/>
            <p:cNvCxnSpPr>
              <a:stCxn id="290" idx="0"/>
              <a:endCxn id="284" idx="2"/>
            </p:cNvCxnSpPr>
            <p:nvPr/>
          </p:nvCxnSpPr>
          <p:spPr>
            <a:xfrm flipH="1" flipV="1" rot="5400000">
              <a:off x="2380680" y="2453040"/>
              <a:ext cx="921960" cy="338940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84" name="_s2056"/>
            <p:cNvSpPr/>
            <p:nvPr/>
          </p:nvSpPr>
          <p:spPr>
            <a:xfrm>
              <a:off x="3567960" y="184464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ahoma"/>
                </a:rPr>
                <a:t>Права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ahoma"/>
                </a:rPr>
                <a:t>человека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_s2057"/>
            <p:cNvSpPr/>
            <p:nvPr/>
          </p:nvSpPr>
          <p:spPr>
            <a:xfrm>
              <a:off x="179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</a:rPr>
                <a:t>Граждански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</a:rPr>
                <a:t>(личные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_s2058"/>
            <p:cNvSpPr/>
            <p:nvPr/>
          </p:nvSpPr>
          <p:spPr>
            <a:xfrm>
              <a:off x="2438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00"/>
                  </a:solidFill>
                  <a:latin typeface="Times New Roman"/>
                </a:rPr>
                <a:t>Политические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_s2059"/>
            <p:cNvSpPr/>
            <p:nvPr/>
          </p:nvSpPr>
          <p:spPr>
            <a:xfrm>
              <a:off x="4697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00"/>
                  </a:solidFill>
                  <a:latin typeface="Times New Roman"/>
                </a:rPr>
                <a:t>Экономические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_s2060"/>
            <p:cNvSpPr/>
            <p:nvPr/>
          </p:nvSpPr>
          <p:spPr>
            <a:xfrm>
              <a:off x="6956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00"/>
                  </a:solidFill>
                  <a:latin typeface="Tahoma"/>
                </a:rPr>
                <a:t>Социальные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Organization Chart 20"/>
          <p:cNvGrpSpPr/>
          <p:nvPr/>
        </p:nvGrpSpPr>
        <p:grpSpPr>
          <a:xfrm>
            <a:off x="179280" y="243000"/>
            <a:ext cx="8712720" cy="6354000"/>
            <a:chOff x="179280" y="243000"/>
            <a:chExt cx="8712720" cy="6354000"/>
          </a:xfrm>
        </p:grpSpPr>
        <p:cxnSp>
          <p:nvCxnSpPr>
            <p:cNvPr id="295" name="_s3076"/>
            <p:cNvCxnSpPr>
              <a:stCxn id="296" idx="0"/>
              <a:endCxn id="297" idx="2"/>
            </p:cNvCxnSpPr>
            <p:nvPr/>
          </p:nvCxnSpPr>
          <p:spPr>
            <a:xfrm flipV="1">
              <a:off x="6881400" y="3130560"/>
              <a:ext cx="5760" cy="578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8" name="_s3077"/>
            <p:cNvCxnSpPr>
              <a:stCxn id="299" idx="1"/>
              <a:endCxn id="300" idx="2"/>
            </p:cNvCxnSpPr>
            <p:nvPr/>
          </p:nvCxnSpPr>
          <p:spPr>
            <a:xfrm rot="10800000">
              <a:off x="2189160" y="4863240"/>
              <a:ext cx="670680" cy="1155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1" name="_s3078"/>
            <p:cNvCxnSpPr>
              <a:stCxn id="300" idx="0"/>
              <a:endCxn id="302" idx="2"/>
            </p:cNvCxnSpPr>
            <p:nvPr/>
          </p:nvCxnSpPr>
          <p:spPr>
            <a:xfrm flipV="1">
              <a:off x="2189880" y="3130560"/>
              <a:ext cx="5760" cy="578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3" name="_s3079"/>
            <p:cNvCxnSpPr>
              <a:stCxn id="297" idx="0"/>
              <a:endCxn id="304" idx="2"/>
            </p:cNvCxnSpPr>
            <p:nvPr/>
          </p:nvCxnSpPr>
          <p:spPr>
            <a:xfrm flipV="1" rot="16200000">
              <a:off x="5419800" y="513720"/>
              <a:ext cx="578160" cy="2345760"/>
            </a:xfrm>
            <a:prstGeom prst="bentConnector3">
              <a:avLst>
                <a:gd name="adj1" fmla="val 214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5" name="_s3080"/>
            <p:cNvCxnSpPr>
              <a:stCxn id="302" idx="0"/>
              <a:endCxn id="304" idx="2"/>
            </p:cNvCxnSpPr>
            <p:nvPr/>
          </p:nvCxnSpPr>
          <p:spPr>
            <a:xfrm flipH="1" flipV="1" rot="5400000">
              <a:off x="3073680" y="513360"/>
              <a:ext cx="578160" cy="2346840"/>
            </a:xfrm>
            <a:prstGeom prst="bentConnector3">
              <a:avLst>
                <a:gd name="adj1" fmla="val 214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04" name="_s3081"/>
            <p:cNvSpPr/>
            <p:nvPr/>
          </p:nvSpPr>
          <p:spPr>
            <a:xfrm>
              <a:off x="2525400" y="24300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Tahoma"/>
                </a:rPr>
                <a:t>Права человека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_s3082"/>
            <p:cNvSpPr/>
            <p:nvPr/>
          </p:nvSpPr>
          <p:spPr>
            <a:xfrm>
              <a:off x="179280" y="197568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Личные: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обеспечивают само</a:t>
              </a:r>
              <a:r>
                <a:rPr b="1" lang="en-US" sz="3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существовани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человека и защиту от государственного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произвола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_s3083"/>
            <p:cNvSpPr/>
            <p:nvPr/>
          </p:nvSpPr>
          <p:spPr>
            <a:xfrm>
              <a:off x="4870800" y="197568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Политические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участие граждан  в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политической жизни стран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_s3084"/>
            <p:cNvSpPr/>
            <p:nvPr/>
          </p:nvSpPr>
          <p:spPr>
            <a:xfrm>
              <a:off x="179280" y="370872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Экономические: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свободное распоряжение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предметами потребления и основным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факторами хозяйственной деятельност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_s3085"/>
            <p:cNvSpPr/>
            <p:nvPr/>
          </p:nvSpPr>
          <p:spPr>
            <a:xfrm>
              <a:off x="2860200" y="544176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Культурные: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духовно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развитие и самореализацию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_s3086"/>
            <p:cNvSpPr/>
            <p:nvPr/>
          </p:nvSpPr>
          <p:spPr>
            <a:xfrm>
              <a:off x="4870800" y="370872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Социальные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благосостояние и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достойный уровень жизн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08" name="Picture 3" descr="ch1"/>
          <p:cNvPicPr/>
          <p:nvPr/>
        </p:nvPicPr>
        <p:blipFill>
          <a:blip r:embed="rId1"/>
          <a:stretch/>
        </p:blipFill>
        <p:spPr>
          <a:xfrm>
            <a:off x="395280" y="981000"/>
            <a:ext cx="3005280" cy="3743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309" name="Picture 4" descr="ch3"/>
          <p:cNvPicPr/>
          <p:nvPr/>
        </p:nvPicPr>
        <p:blipFill>
          <a:blip r:embed="rId2"/>
          <a:stretch/>
        </p:blipFill>
        <p:spPr>
          <a:xfrm>
            <a:off x="1476360" y="3213000"/>
            <a:ext cx="2744640" cy="34434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310" name="Picture 5" descr="ch4"/>
          <p:cNvPicPr/>
          <p:nvPr/>
        </p:nvPicPr>
        <p:blipFill>
          <a:blip r:embed="rId3"/>
          <a:stretch/>
        </p:blipFill>
        <p:spPr>
          <a:xfrm>
            <a:off x="5796000" y="907920"/>
            <a:ext cx="2755800" cy="34578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311" name="Picture 6" descr="ch7"/>
          <p:cNvPicPr/>
          <p:nvPr/>
        </p:nvPicPr>
        <p:blipFill>
          <a:blip r:embed="rId4"/>
          <a:stretch/>
        </p:blipFill>
        <p:spPr>
          <a:xfrm>
            <a:off x="4932360" y="3284640"/>
            <a:ext cx="2924280" cy="33591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Заполните таблицу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Ознакомьтесь со статьями Конституции РФ. Охарактеризуйте гарантии прав и свобод человека и гражданина.</a:t>
            </a: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250920" y="1600200"/>
          <a:ext cx="8713800" cy="5000760"/>
        </p:xfrm>
        <a:graphic>
          <a:graphicData uri="http://schemas.openxmlformats.org/drawingml/2006/table">
            <a:tbl>
              <a:tblPr/>
              <a:tblGrid>
                <a:gridCol w="1743120"/>
                <a:gridCol w="1742760"/>
                <a:gridCol w="1741680"/>
                <a:gridCol w="1743120"/>
                <a:gridCol w="1743120"/>
              </a:tblGrid>
              <a:tr h="104040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ава и свободы граждан РФ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язан-ности граждан Р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ст. 15, 44, 57, 58, 59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4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чные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ст. 19-25, 27, 28, 45-54, 59, 60-63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лити-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ст. 29-33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циаль-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ст. 38-43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кономи-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ст. 34-37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16:16:12Z</dcterms:created>
  <dc:creator>User</dc:creator>
  <dc:description/>
  <dc:language>en-US</dc:language>
  <cp:lastModifiedBy>LEGION</cp:lastModifiedBy>
  <dcterms:modified xsi:type="dcterms:W3CDTF">2015-01-28T11:34:36Z</dcterms:modified>
  <cp:revision>20</cp:revision>
  <dc:subject/>
  <dc:title>Международные документы по правам человека</dc:title>
</cp:coreProperties>
</file>