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6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5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CCB62-8F97-4A68-9D38-CCD4A0C1CC1B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Труд –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право ил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обязанность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Подготовили презентацию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ХТАБИЕВА АЛЬБИН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РОКОВ РУСТ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8233B-58DF-43C7-BE81-14F6162DE635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«РАБОТНИК»ОБЯЗА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СОБЛЮДАТЬ ТРУДОВУЮ ДИСЦИПЛИНУ,ПРАВИЛА ВНУТРЕННЕГО ТРУДОВОГО РАСПОРЯДК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СВОЕВРЕМЕННО И  ТОЧНО ИСПОЛНЯТЬ РАСПОРЯЖЕНИЯ  И ПРИКАЗЫ РАБОТОДАТЕЛ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СОБЛЮДАТЬ ТРЕБОВАНИЯ ОХРАНЫ ТРУ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ПРОХОДИТЬ ОБЯЗАТЕЛЬНЫЕ ПРЕДВАРИТЕЛЬНЫЕ И ПЕРИОДИЧЕСКИЕ МЕДИЦИНСКИЕ ОСМОТРЫ И ДР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.                               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486B8-BF34-4F63-97B4-D42B17E95198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РАБОТОДАТЕЛЬ»ОБЯЗАН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СОБЛЮДАТЬ УСЛОВИЯ ТРУДОВОГО ДОГОВОР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ПРЕДОСТАВЛЯТЬ РАБОТУ,ОБУСЛОВЛЕННУЮ ТРУДОВЫМ ДОГОВОР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ОБЕСПЕЧИВАТЬ ОБЯЗАТЕЛЬНОЕ СОЦИАЛЬНОЕ СТРАХОВАНИЕ В ПОРЯДКЕ ПРЕДУСМОТРЕННЫМ ФЕДЕРАЛЬНЫМ ЗАКОНОДАТЕЛЬСТВ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ВЫПЛАЧИВАТЬ В ПОЛНОМ РАЗМЕРЕ ЗАРАБОТНУЮ ПЛАТУ В СРОКИ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12CAD-A60B-4738-9D03-FAD2F33EC79E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Труд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деятельность человека,  направленная на достижение определённых целей, на сохранение, видоизменение, приспособление среды обитания для удовлетворение своих потребностей, на производство товаров и услу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0E824-BB9F-4A81-ACAA-D16C59653D46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Т Р У Д - эт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редство для развития творческого потенциала человека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 достижения жизненных благ, карьеры, социального статус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4562F-087C-4498-966F-E9BFC958E30D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Т Р У Д - эт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требность и способ самореализ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, предоставленное мне обществ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язанность, возлагаемая на меня государством, семьё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7687D-5D51-4810-95CB-84B0AE47BD2E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Всеобщая декларация прав человека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.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23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ый человек имеет право 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на    труд, на свободный выбор работы, на справедливые и благоприятные условия труда и на защиту от безработиц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на равную оплату за равный труд, без какой - либо дискримин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создавать профсоюзы и входить в профсоюзы для защиты своих интерес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D0765-17CF-4F12-A3E2-BAAF32225957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татья 37. Конституции РФ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определяет основные принципы использования труда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уд в нашей стране свободен, это означает, что каждый гражданин вправе по своему усмотрению распоряжаться своими способностями к труду, выбирать себе род занятий и профессию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удительный труд запрещён, и из этого правила нет никаких исключен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29C0A-AC3D-4199-96D6-37A905834EA0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Основные принципы использования труда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ый человек имеет право на труд в условиях, отвечающих требованиям безопасности и гигиен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уд каждого должен быть соответствующим образом вознаграждён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уд должен быть оплачен не ниже минимального размера оплаты тру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5E5CF-7CAD-49A5-B4E2-7FCE2C51747C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Основные принципы использования труда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ый человек имеет право на защиту от безработиц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 каждым человеком признаётся право на трудовые споры: индивидуальные и коллективные, включая право на забастовк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ый имеет право на отд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B7224-40D2-45DE-9884-054903601B98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Трудовой договор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BFD3B-9DA9-41D1-9B04-3F67EC38B5F7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5130-1CE1-4B61-A828-20796522B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5000" y="396648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B015-23B2-40F2-AD85-A7308DCCE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0634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668D-CE16-4BD3-8416-7A7DA49BA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0964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52428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9500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50964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52428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C31C-8EE3-420F-BD45-E3F8F50C1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F3E30-6CE7-4E06-82BF-753369459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41595-6A4A-4FD3-8871-16854C210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CF842-8D85-455A-8256-7E7844934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9505D-FA64-4706-9FD1-AE911247A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79382-5A5C-4997-AD6F-E6446506A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95000" y="277920"/>
            <a:ext cx="89154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5BE2E-4C03-421A-A82C-16DFF4BBC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8572E-ED6A-4101-A147-BCB8AA816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845C-4412-4A84-BE08-D59A3517F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0634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76566-9D91-4E8D-86DC-31052FEE7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57EED-1042-4481-840E-FF76910E1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95000" y="396648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B5008-4228-4078-8B38-0EC5A5508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50634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8936F-95FD-4486-9137-45A7ABC35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50964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52428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9500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50964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52428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08146-CAC9-4ABA-A6E3-7BA508D76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F3A2-9EFE-44D9-BABF-BBE5E45F4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FDA7-E7DA-43CF-8AB1-5CEE24370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D99F-0887-4B2B-9406-FC48F3C6E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95000" y="277920"/>
            <a:ext cx="89154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458F-3825-4877-AD36-AD60BF00C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9C4B-569D-4907-AB14-CD92E9EBD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634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57A1-7149-4985-9259-77B1F1E67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BFF2-32D3-46DC-85EF-CFF4859EE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910440" cy="6851520"/>
            <a:chOff x="1440" y="0"/>
            <a:chExt cx="9910440" cy="6851520"/>
          </a:xfrm>
        </p:grpSpPr>
        <p:sp>
          <p:nvSpPr>
            <p:cNvPr id="1" name="Freeform 3"/>
            <p:cNvSpPr/>
            <p:nvPr/>
          </p:nvSpPr>
          <p:spPr>
            <a:xfrm>
              <a:off x="8675280" y="4168800"/>
              <a:ext cx="12366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9262080" y="6022800"/>
              <a:ext cx="64980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767520" y="6689880"/>
              <a:ext cx="1443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95000" y="0"/>
              <a:ext cx="8766360" cy="6851520"/>
              <a:chOff x="495000" y="0"/>
              <a:chExt cx="87663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795560" y="0"/>
                <a:ext cx="1285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3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5316840" y="0"/>
                <a:ext cx="29880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3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774040" y="0"/>
                <a:ext cx="57924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3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6320880" y="0"/>
                <a:ext cx="73404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3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785280" y="0"/>
                <a:ext cx="9590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3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7301160" y="0"/>
                <a:ext cx="118620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3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775640" y="0"/>
                <a:ext cx="148572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3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4124880" y="0"/>
                <a:ext cx="2577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3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382200" y="0"/>
                <a:ext cx="5158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3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695680" y="0"/>
                <a:ext cx="73116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3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939320" y="0"/>
                <a:ext cx="98892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3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208520" y="0"/>
                <a:ext cx="12672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3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95000" y="0"/>
                <a:ext cx="144432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3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720" y="4605480"/>
              <a:ext cx="104220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720" y="6175440"/>
              <a:ext cx="39204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213040" y="0"/>
              <a:ext cx="169200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668440" y="0"/>
              <a:ext cx="12366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203400" y="0"/>
              <a:ext cx="701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720" y="0"/>
              <a:ext cx="14756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720" y="0"/>
              <a:ext cx="10108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720" y="0"/>
              <a:ext cx="464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9021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6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9021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6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9021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6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901800" cy="2493720"/>
              <a:chOff x="1440" y="622440"/>
              <a:chExt cx="990180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90180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63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90180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63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90180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63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90180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63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90180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63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9021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6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9021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63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95360" y="624348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7098840" y="624348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399A7-249A-4FD2-A397-77740077E19F}" type="slidenum">
              <a:rPr b="0" lang="ru-RU" sz="11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spcBef>
                <a:spcPts val="825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  <a:p>
            <a:pPr lvl="1" marL="777960" indent="-298440">
              <a:spcBef>
                <a:spcPts val="825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  <a:p>
            <a:pPr lvl="2" marL="1197000" indent="-238320">
              <a:spcBef>
                <a:spcPts val="825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  <a:p>
            <a:pPr lvl="3" marL="1674720" indent="-237960">
              <a:spcBef>
                <a:spcPts val="825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  <a:p>
            <a:pPr lvl="4" marL="2154240" indent="-237960">
              <a:spcBef>
                <a:spcPts val="825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  <a:p>
            <a:pPr lvl="5" marL="2154240" indent="-237960">
              <a:spcBef>
                <a:spcPts val="825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  <a:p>
            <a:pPr lvl="6" marL="2154240" indent="-237960">
              <a:spcBef>
                <a:spcPts val="825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910440" cy="6851520"/>
            <a:chOff x="0" y="0"/>
            <a:chExt cx="9910440" cy="6851520"/>
          </a:xfrm>
        </p:grpSpPr>
        <p:sp>
          <p:nvSpPr>
            <p:cNvPr id="79" name="Freeform 3"/>
            <p:cNvSpPr/>
            <p:nvPr/>
          </p:nvSpPr>
          <p:spPr>
            <a:xfrm>
              <a:off x="8673840" y="4168800"/>
              <a:ext cx="12366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9260640" y="6022800"/>
              <a:ext cx="64980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766080" y="6689880"/>
              <a:ext cx="1443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93560" y="0"/>
              <a:ext cx="8766360" cy="6851520"/>
              <a:chOff x="493560" y="0"/>
              <a:chExt cx="876636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794120" y="0"/>
                <a:ext cx="1285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3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5315400" y="0"/>
                <a:ext cx="29880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3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772600" y="0"/>
                <a:ext cx="57924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3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6319440" y="0"/>
                <a:ext cx="73404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3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783840" y="0"/>
                <a:ext cx="9590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3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7299720" y="0"/>
                <a:ext cx="118620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3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774200" y="0"/>
                <a:ext cx="148572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3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4123440" y="0"/>
                <a:ext cx="2577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3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380760" y="0"/>
                <a:ext cx="5158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3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694240" y="0"/>
                <a:ext cx="73116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3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937880" y="0"/>
                <a:ext cx="98892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3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207080" y="0"/>
                <a:ext cx="12672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3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93560" y="0"/>
                <a:ext cx="144432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3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8280" y="4605480"/>
              <a:ext cx="104220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8280" y="6175440"/>
              <a:ext cx="39204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8211600" y="0"/>
              <a:ext cx="169200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667000" y="0"/>
              <a:ext cx="12366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9201960" y="0"/>
              <a:ext cx="701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8280" y="0"/>
              <a:ext cx="14756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8280" y="0"/>
              <a:ext cx="10108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8280" y="0"/>
              <a:ext cx="464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9021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6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9021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6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9021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6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901800" cy="2493720"/>
              <a:chOff x="0" y="622440"/>
              <a:chExt cx="990180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90180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63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90180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63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90180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63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90180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63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90180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63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9021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6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9021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63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spcBef>
                <a:spcPts val="825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  <a:p>
            <a:pPr lvl="1" marL="777960" indent="-298440">
              <a:spcBef>
                <a:spcPts val="825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  <a:p>
            <a:pPr lvl="2" marL="1197000" indent="-238320">
              <a:spcBef>
                <a:spcPts val="825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  <a:p>
            <a:pPr lvl="3" marL="1674720" indent="-237960">
              <a:spcBef>
                <a:spcPts val="825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  <a:p>
            <a:pPr lvl="4" marL="2154240" indent="-237960">
              <a:spcBef>
                <a:spcPts val="825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  <a:p>
            <a:pPr lvl="5" marL="2154240" indent="-237960">
              <a:spcBef>
                <a:spcPts val="825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  <a:p>
            <a:pPr lvl="6" marL="2154240" indent="-237960">
              <a:spcBef>
                <a:spcPts val="825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95360" y="624348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7098840" y="624348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CAAA8-4FD4-4138-9013-6016CAC01562}" type="slidenum">
              <a:rPr b="0" lang="ru-RU" sz="11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3"/>
          <p:cNvSpPr/>
          <p:nvPr/>
        </p:nvSpPr>
        <p:spPr>
          <a:xfrm>
            <a:off x="1130400" y="-322200"/>
            <a:ext cx="7800840" cy="780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70000"/>
              </a:lnSpc>
              <a:spcBef>
                <a:spcPts val="39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3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70000"/>
              </a:lnSpc>
              <a:spcBef>
                <a:spcPts val="43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900" spc="-1" strike="noStrike">
                <a:solidFill>
                  <a:srgbClr val="ff0000"/>
                </a:solidFill>
                <a:latin typeface="Verdana"/>
              </a:rPr>
              <a:t>Труд – </a:t>
            </a:r>
            <a:endParaRPr b="0" lang="en-US" sz="69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70000"/>
              </a:lnSpc>
              <a:spcBef>
                <a:spcPts val="43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900" spc="-1" strike="noStrike">
                <a:solidFill>
                  <a:srgbClr val="ff0000"/>
                </a:solidFill>
                <a:latin typeface="Verdana"/>
              </a:rPr>
              <a:t>право или</a:t>
            </a:r>
            <a:endParaRPr b="0" lang="en-US" sz="69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70000"/>
              </a:lnSpc>
              <a:spcBef>
                <a:spcPts val="43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9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ru-RU" sz="6900" spc="-1" strike="noStrike">
                <a:solidFill>
                  <a:srgbClr val="ff0000"/>
                </a:solidFill>
                <a:latin typeface="Verdana"/>
              </a:rPr>
              <a:t>обязанность?</a:t>
            </a:r>
            <a:endParaRPr b="0" lang="en-US" sz="69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00"/>
                </a:solidFill>
                <a:latin typeface="Verdana"/>
              </a:rPr>
              <a:t>Подготовили презентацию: 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Verdana"/>
              </a:rPr>
              <a:t>         </a:t>
            </a:r>
            <a:r>
              <a:rPr b="0" lang="ru-RU" sz="2500" spc="-1" strike="noStrike">
                <a:solidFill>
                  <a:srgbClr val="ffffff"/>
                </a:solidFill>
                <a:latin typeface="Verdana"/>
              </a:rPr>
              <a:t>ТОХТАБИЕВА АЛЬБИНА,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500" spc="-1" strike="noStrike">
                <a:solidFill>
                  <a:srgbClr val="ffffff"/>
                </a:solidFill>
                <a:latin typeface="Verdana"/>
              </a:rPr>
              <a:t>ВОРОКОВ РУСТАМ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38472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500" spc="-1" strike="noStrike">
                <a:solidFill>
                  <a:srgbClr val="ccecff"/>
                </a:solidFill>
                <a:latin typeface="Arial"/>
              </a:rPr>
              <a:t>«РАБОТНИК»ОБЯЗАН</a:t>
            </a:r>
            <a:r>
              <a:rPr b="0" lang="ru-RU" sz="4500" spc="-1" strike="noStrike">
                <a:solidFill>
                  <a:srgbClr val="ccecff"/>
                </a:solidFill>
                <a:latin typeface="Arial"/>
              </a:rPr>
              <a:t>:</a:t>
            </a:r>
            <a:endParaRPr b="0" lang="en-US" sz="45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000" y="1285920"/>
            <a:ext cx="8915400" cy="4844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 fontScale="93000"/>
          </a:bodyPr>
          <a:p>
            <a:pPr marL="444240" indent="-444240"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44240" indent="-444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1. СОБЛЮДАТЬ ТРУДОВУЮ ДИСЦИПЛИНУ,ПРАВИЛА ВНУТРЕННЕГО ТРУДОВОГО РАСПОРЯДКА;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44240" indent="-444240"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44240" indent="-444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2. СВОЕВРЕМЕННО И  ТОЧНО ИСПОЛНЯТЬ РАСПОРЯЖЕНИЯ  И ПРИКАЗЫ РАБОТОДАТЕЛЯ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44240" indent="-444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44240" indent="-444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3. СОБЛЮДАТЬ ТРЕБОВАНИЯ ОХРАНЫ ТРУДА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44240" indent="-444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44240" indent="-444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4. ПРОХОДИТЬ ОБЯЗАТЕЛЬНЫЕ ПРЕДВАРИТЕЛЬНЫЕ И ПЕРИОДИЧЕСКИЕ МЕДИЦИНСКИЕ ОСМОТРЫ И ДР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.                                   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Місце для нижнього колонтитула 3"/>
          <p:cNvSpPr/>
          <p:nvPr/>
        </p:nvSpPr>
        <p:spPr>
          <a:xfrm>
            <a:off x="338472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ccecff"/>
                </a:solidFill>
                <a:latin typeface="Arial"/>
              </a:rPr>
              <a:t>«</a:t>
            </a:r>
            <a:r>
              <a:rPr b="0" i="1" lang="ru-RU" sz="4500" spc="-1" strike="noStrike">
                <a:solidFill>
                  <a:srgbClr val="ccecff"/>
                </a:solidFill>
                <a:latin typeface="Arial"/>
              </a:rPr>
              <a:t>РАБОТОДАТЕЛЬ»ОБЯЗАН:</a:t>
            </a:r>
            <a:endParaRPr b="0" lang="en-US" sz="45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64760" y="1285560"/>
            <a:ext cx="8915400" cy="4816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 fontScale="94000"/>
          </a:bodyPr>
          <a:p>
            <a:pPr marL="505800" indent="-505800"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05800" indent="-50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1. СОБЛЮДАТЬ УСЛОВИЯ ТРУДОВОГО ДОГОВОРА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05800" indent="-505800"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05800" indent="-50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2. ПРЕДОСТАВЛЯТЬ РАБОТУ,ОБУСЛОВЛЕННУЮ ТРУДОВЫМ ДОГОВОРОМ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05800" indent="-50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05800" indent="-50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3. ОБЕСПЕЧИВАТЬ ОБЯЗАТЕЛЬНОЕ СОЦИАЛЬНОЕ СТРАХОВАНИЕ В ПОРЯДКЕ ПРЕДУСМОТРЕННЫМ ФЕДЕРАЛЬНЫМ ЗАКОНОДАТЕЛЬСТВОМ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05800" indent="-50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05800" indent="-50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4. ВЫПЛАЧИВАТЬ В ПОЛНОМ РАЗМЕРЕ ЗАРАБОТНУЮ ПЛАТУ В СРОКИ И ДР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Місце для нижнього колонтитула 3"/>
          <p:cNvSpPr/>
          <p:nvPr/>
        </p:nvSpPr>
        <p:spPr>
          <a:xfrm>
            <a:off x="338472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2520" y="356760"/>
            <a:ext cx="9144000" cy="62866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 anchorCtr="1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ccecff"/>
                </a:solidFill>
                <a:latin typeface="Arial"/>
              </a:rPr>
              <a:t>Труд</a:t>
            </a:r>
            <a:r>
              <a:rPr b="0" lang="ru-RU" sz="4100" spc="-1" strike="noStrike">
                <a:solidFill>
                  <a:srgbClr val="ccecff"/>
                </a:solidFill>
                <a:latin typeface="Arial"/>
              </a:rPr>
              <a:t> – </a:t>
            </a:r>
            <a:r>
              <a:rPr b="0" lang="ru-RU" sz="3700" spc="-1" strike="noStrike">
                <a:solidFill>
                  <a:srgbClr val="ccecff"/>
                </a:solidFill>
                <a:latin typeface="Arial"/>
              </a:rPr>
              <a:t>это деятельность человека,  направленная на достижение определённых целей, на сохранение, видоизменение, приспособление среды обитания для удовлетворение своих потребностей, на производство товаров и услуг.</a:t>
            </a:r>
            <a:endParaRPr b="0" lang="en-US" sz="37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38472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600" spc="-1" strike="noStrike">
                <a:solidFill>
                  <a:srgbClr val="ccecff"/>
                </a:solidFill>
                <a:latin typeface="Arial"/>
              </a:rPr>
              <a:t>Т Р У Д - это</a:t>
            </a:r>
            <a:endParaRPr b="0" lang="en-US" sz="5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9240" y="1143000"/>
            <a:ext cx="4660920" cy="521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58920" indent="-358920">
              <a:lnSpc>
                <a:spcPct val="100000"/>
              </a:lnSpc>
              <a:spcBef>
                <a:spcPts val="726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средство для развития творческого потенциала челов</a:t>
            </a:r>
            <a:r>
              <a:rPr b="0" lang="ru-RU" sz="2900" spc="-1" strike="noStrike">
                <a:solidFill>
                  <a:srgbClr val="ffffff"/>
                </a:solidFill>
                <a:latin typeface="Verdana"/>
              </a:rPr>
              <a:t>ека;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5892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58920" indent="-35892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способ достижения жизненных благ, карьеры, социального статуса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5892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5892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9" name="Picture 31" descr="j0195384"/>
          <p:cNvPicPr/>
          <p:nvPr/>
        </p:nvPicPr>
        <p:blipFill>
          <a:blip r:embed="rId1"/>
          <a:stretch/>
        </p:blipFill>
        <p:spPr>
          <a:xfrm>
            <a:off x="5452920" y="2927520"/>
            <a:ext cx="3738600" cy="3073320"/>
          </a:xfrm>
          <a:prstGeom prst="rect">
            <a:avLst/>
          </a:prstGeom>
          <a:ln w="0">
            <a:noFill/>
          </a:ln>
        </p:spPr>
      </p:pic>
      <p:sp>
        <p:nvSpPr>
          <p:cNvPr id="170" name="Місце для нижнього колонтитула 1"/>
          <p:cNvSpPr/>
          <p:nvPr/>
        </p:nvSpPr>
        <p:spPr>
          <a:xfrm>
            <a:off x="338472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600" spc="-1" strike="noStrike">
                <a:solidFill>
                  <a:srgbClr val="ccecff"/>
                </a:solidFill>
                <a:latin typeface="Arial"/>
              </a:rPr>
              <a:t>Т Р У Д - это</a:t>
            </a:r>
            <a:endParaRPr b="0" lang="en-US" sz="5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9240" y="1499760"/>
            <a:ext cx="4560840" cy="46306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 fontScale="94000"/>
          </a:bodyPr>
          <a:p>
            <a:pPr marL="337320" indent="-337320">
              <a:lnSpc>
                <a:spcPct val="100000"/>
              </a:lnSpc>
              <a:spcBef>
                <a:spcPts val="726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потребность и способ самореализации;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3732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37320" indent="-337320">
              <a:spcBef>
                <a:spcPts val="726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Verdana"/>
              </a:rPr>
              <a:t>право, предоставленное мне обществом;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3732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37320" indent="-337320">
              <a:lnSpc>
                <a:spcPct val="100000"/>
              </a:lnSpc>
              <a:spcBef>
                <a:spcPts val="726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обязанность, возлагаемая на меня государством, семьёй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3732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3732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3732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3732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3" name="Picture 8" descr="j0291984"/>
          <p:cNvPicPr/>
          <p:nvPr/>
        </p:nvPicPr>
        <p:blipFill>
          <a:blip r:embed="rId1"/>
          <a:stretch/>
        </p:blipFill>
        <p:spPr>
          <a:xfrm>
            <a:off x="6310440" y="3857760"/>
            <a:ext cx="3363840" cy="30002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8" descr="j0240695"/>
          <p:cNvPicPr/>
          <p:nvPr/>
        </p:nvPicPr>
        <p:blipFill>
          <a:blip r:embed="rId2"/>
          <a:stretch/>
        </p:blipFill>
        <p:spPr>
          <a:xfrm>
            <a:off x="6595920" y="1428840"/>
            <a:ext cx="2619360" cy="2417760"/>
          </a:xfrm>
          <a:prstGeom prst="rect">
            <a:avLst/>
          </a:prstGeom>
          <a:ln w="0">
            <a:noFill/>
          </a:ln>
        </p:spPr>
      </p:pic>
      <p:sp>
        <p:nvSpPr>
          <p:cNvPr id="175" name="Місце для нижнього колонтитула 1"/>
          <p:cNvSpPr/>
          <p:nvPr/>
        </p:nvSpPr>
        <p:spPr>
          <a:xfrm>
            <a:off x="338472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-360" y="277920"/>
            <a:ext cx="8915400" cy="17222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100" spc="-1" strike="noStrike">
                <a:solidFill>
                  <a:srgbClr val="ccecff"/>
                </a:solidFill>
                <a:latin typeface="Arial"/>
              </a:rPr>
              <a:t>Всеобщая декларация прав человека</a:t>
            </a:r>
            <a:r>
              <a:rPr b="1" lang="ru-RU" sz="4100" spc="-1" strike="noStrike">
                <a:solidFill>
                  <a:srgbClr val="ccecff"/>
                </a:solidFill>
                <a:latin typeface="Arial"/>
              </a:rPr>
              <a:t>. </a:t>
            </a:r>
            <a:r>
              <a:rPr b="0" lang="ru-RU" sz="4100" spc="-1" strike="noStrike">
                <a:solidFill>
                  <a:srgbClr val="ccecff"/>
                </a:solidFill>
                <a:latin typeface="Arial"/>
              </a:rPr>
              <a:t>Ст.</a:t>
            </a:r>
            <a:r>
              <a:rPr b="0" i="1" lang="ru-RU" sz="4100" spc="-1" strike="noStrike">
                <a:solidFill>
                  <a:srgbClr val="ccecff"/>
                </a:solidFill>
                <a:latin typeface="Arial"/>
              </a:rPr>
              <a:t> 23</a:t>
            </a:r>
            <a:br>
              <a:rPr sz="4100"/>
            </a:br>
            <a:endParaRPr b="0" lang="en-US" sz="41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-360" y="171432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 fontScale="99000"/>
          </a:bodyPr>
          <a:p>
            <a:pPr marL="63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Каждый человек имеет право :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3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3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1) на    труд, на свободный выбор работы, на справедливые и благоприятные условия труда и на защиту от безработицы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3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3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2) на равную оплату за равный труд, без какой - либо дискриминации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3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3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3) создавать профсоюзы и входить в профсоюзы для защиты своих интересов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31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38472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ccecff"/>
                </a:solidFill>
                <a:latin typeface="Arial"/>
              </a:rPr>
              <a:t>Статья 37. Конституции РФ </a:t>
            </a:r>
            <a:r>
              <a:rPr b="0" i="1" lang="ru-RU" sz="3700" spc="-1" strike="noStrike">
                <a:solidFill>
                  <a:srgbClr val="ccecff"/>
                </a:solidFill>
                <a:latin typeface="Arial"/>
              </a:rPr>
              <a:t>определяет основные принципы использования труда:</a:t>
            </a:r>
            <a:endParaRPr b="0" lang="en-US" sz="37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507600" y="2000160"/>
            <a:ext cx="8915400" cy="4857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труд в нашей стране свободен, это означает, что каждый гражданин вправе по своему усмотрению распоряжаться своими способностями к труду, выбирать себе род занятий и профессию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58920" indent="-35892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58920" indent="-35892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ринудительный труд запрещён, и из этого правила нет никаких исключений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58920" indent="-35892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58920" indent="-358920" algn="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  <a:p>
            <a:pPr marL="358920" indent="-358920">
              <a:spcBef>
                <a:spcPts val="825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38472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100" spc="-1" strike="noStrike">
                <a:solidFill>
                  <a:srgbClr val="ccecff"/>
                </a:solidFill>
                <a:latin typeface="Arial"/>
              </a:rPr>
              <a:t>Основные принципы использования труда:</a:t>
            </a:r>
            <a:endParaRPr b="0" lang="en-US" sz="41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spcBef>
                <a:spcPts val="726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Verdana"/>
              </a:rPr>
              <a:t>каждый человек имеет право на труд в условиях, отвечающих требованиям безопасности и гигиены;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58920" indent="-358920">
              <a:spcBef>
                <a:spcPts val="726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58920" indent="-358920">
              <a:spcBef>
                <a:spcPts val="726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Verdana"/>
              </a:rPr>
              <a:t>труд каждого должен быть соответствующим образом вознаграждён;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58920" indent="-358920">
              <a:spcBef>
                <a:spcPts val="726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58920" indent="-358920">
              <a:spcBef>
                <a:spcPts val="726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900" spc="-1" strike="noStrike">
                <a:solidFill>
                  <a:srgbClr val="ffffff"/>
                </a:solidFill>
                <a:latin typeface="Verdana"/>
              </a:rPr>
              <a:t>труд должен быть оплачен не ниже минимального размера оплаты труда;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38472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100" spc="-1" strike="noStrike">
                <a:solidFill>
                  <a:srgbClr val="ccecff"/>
                </a:solidFill>
                <a:latin typeface="Arial"/>
              </a:rPr>
              <a:t>Основные принципы использования труда:</a:t>
            </a:r>
            <a:endParaRPr b="0" lang="en-US" sz="41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spcBef>
                <a:spcPts val="726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Verdana"/>
              </a:rPr>
              <a:t>каждый человек имеет право на защиту от безработицы;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58920" indent="-358920">
              <a:spcBef>
                <a:spcPts val="726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58920" indent="-358920">
              <a:spcBef>
                <a:spcPts val="726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Verdana"/>
              </a:rPr>
              <a:t>за каждым человеком признаётся право на трудовые споры: индивидуальные и коллективные, включая право на забастовку;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58920" indent="-358920">
              <a:spcBef>
                <a:spcPts val="726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58920" indent="-358920">
              <a:spcBef>
                <a:spcPts val="726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Verdana"/>
              </a:rPr>
              <a:t>каждый имеет право на отдых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58920" indent="-358920">
              <a:spcBef>
                <a:spcPts val="726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38472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500" spc="-1" strike="noStrike">
                <a:solidFill>
                  <a:srgbClr val="ccecff"/>
                </a:solidFill>
                <a:latin typeface="Arial"/>
              </a:rPr>
              <a:t>Трудовой договор</a:t>
            </a:r>
            <a:br>
              <a:rPr sz="4500"/>
            </a:br>
            <a:endParaRPr b="0" lang="en-US" sz="45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9" name="Содержимое 3" descr="15.jpg"/>
          <p:cNvPicPr/>
          <p:nvPr/>
        </p:nvPicPr>
        <p:blipFill>
          <a:blip r:embed="rId1"/>
          <a:stretch/>
        </p:blipFill>
        <p:spPr>
          <a:xfrm>
            <a:off x="2322360" y="1000080"/>
            <a:ext cx="5262840" cy="5572080"/>
          </a:xfrm>
          <a:prstGeom prst="rect">
            <a:avLst/>
          </a:prstGeom>
          <a:ln w="0">
            <a:noFill/>
          </a:ln>
        </p:spPr>
      </p:pic>
      <p:sp>
        <p:nvSpPr>
          <p:cNvPr id="190" name="Місце для нижнього колонтитула 2"/>
          <p:cNvSpPr/>
          <p:nvPr/>
        </p:nvSpPr>
        <p:spPr>
          <a:xfrm>
            <a:off x="338472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0T10:21:22Z</dcterms:created>
  <dc:creator>Галина Ивановна</dc:creator>
  <dc:description/>
  <dc:language>en-US</dc:language>
  <cp:lastModifiedBy>LEGION</cp:lastModifiedBy>
  <dcterms:modified xsi:type="dcterms:W3CDTF">2015-01-28T11:35:01Z</dcterms:modified>
  <cp:revision>30</cp:revision>
  <dc:subject/>
  <dc:title>Труд – право или обязанность</dc:title>
</cp:coreProperties>
</file>