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56B1-3468-4740-9F00-B4350CB8F66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руд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о 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бязанно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готовили презентаци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ХТАБИЕВА АЛЬБ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ОКОВ РУ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9022-2877-405D-AEE7-5AAC48E0987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РАБОТНИК»ОБЯЗ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ТРУДОВУЮ ДИСЦИПЛИНУ,ПРАВИЛА ВНУТРЕННЕГО ТРУДОВОГО РАСПОРЯД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ОЕВРЕМЕННО И  ТОЧНО ИСПОЛНЯТЬ РАСПОРЯЖЕНИЯ  И ПРИКАЗЫ РАБОТОД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АТЬ ТРЕБОВАНИЯ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C880-82C9-4494-AC4D-965BA9C81FE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ТОДАТЕЛЬ»ОБЯЗ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УСЛОВИЯ ТРУДОВОГО ДОГОВ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ЕДОСТАВЛЯТЬ РАБОТУ,ОБУСЛОВЛЕННУЮ ТРУДОВЫМ ДОГОВО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ПЛАЧИВАТЬ В ПОЛНОМ РАЗМЕРЕ ЗАРАБОТНУЮ ПЛАТУ В СРО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BF9B-9CB0-4DB4-B793-6773F1FF085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уд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2DEB-1D33-45A1-91D4-4A1043BA576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о для развития творческого потенциала челове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остижения жизненных благ, карьеры, социального стат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C65B-26C7-4FDB-99FB-B842F5C99F9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способ саморе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, предоставленное мне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, возлагаемая на меня государством, семьё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35B1-CAB8-45FA-8F42-CE8B72C08BE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2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равную оплату за равный труд, без какой - либо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оздавать профсоюзы и входить в профсоюзы для защиты своих интере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95C-BBF3-446E-AA6A-9731EAFB745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я 37. Конституции РФ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еделяет 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ый труд запрещён, и из этого правила нет никаких исклю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12BF-2900-4B5F-B179-2CCBAEA2462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каждого должен быть соответствующим образом вознаграждё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олжен быть оплачен не ниже минимального размера оплат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2AF1-68A9-41FF-A876-8921CA4D13D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на отд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6283-7CAA-49FB-B306-246A2B8073B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7E0B-C658-4601-92BE-896078A7C29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DBD-E649-4052-9A9B-C30595C3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3E2-423F-4AD2-A026-70210F7A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799-D372-43B1-86BC-9A05CA8B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5FC-3DC7-422F-941B-A1176E31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E384-927E-4E06-ABC1-E337C91E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2943-AD2C-4D45-A954-83A91476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F8B3-795C-4B5D-B1F0-8758EF54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1480-C851-4C05-B974-4BA70386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FC9A-4A91-42C0-8727-E0C897FA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28C5-61A4-4B72-B8AA-9CAFF279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A960-896A-4E42-BC46-D719DDDF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15A-8011-44DF-B579-2CEEA615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BEEF-B618-4345-B085-44E6ED5E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5A41-9EAA-4FC2-9C95-20A75BD4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9294-4716-4CFE-AF92-EEB3DCE8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E511-0F18-4A99-A245-C156C1B1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5CB6-4785-471E-9EE9-BB47CC47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013-9692-4C27-B24A-B909163E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A64-729E-4438-A9F2-8D317BE3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B69-015E-4ED8-9018-B0D3E1F1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09E-6519-434A-8F43-1411CB65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235-2829-4077-8768-27EE2024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E8E-DAD7-4C6B-9600-104D3D86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DAF-EF43-46FB-8B28-A6692C7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Freeform 3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79556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3168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69568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085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78C8-9295-47A8-9414-EF0283E246AC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Freeform 3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79412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3154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69424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070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22DF-8543-4DD0-8B1D-A42FC509E0C8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130400" y="-322200"/>
            <a:ext cx="7800840" cy="78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7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Труд – 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право или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обязанность?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</a:rPr>
              <a:t>Подготовили презентацию: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ТОХТАБИЕВА АЛЬБИНА,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ОРОКОВ РУСТ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«РАБОТНИК»ОБЯЗАН</a:t>
            </a: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000" y="1285920"/>
            <a:ext cx="8915400" cy="484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ТРУДОВУЮ ДИСЦИПЛИНУ,ПРАВИЛА ВНУТРЕННЕГО ТРУДОВОГО РАСПОРЯДК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СВОЕВРЕМЕННО И  ТОЧНО ИСПОЛНЯТЬ РАСПОРЯЖЕНИЯ  И ПРИКАЗЫ РАБОТОДАТЕЛ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ОБЛЮДАТЬ ТРЕБОВАНИЯ ОХРАНЫ ТРУД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РАБОТОДАТЕЛЬ»ОБЯЗАН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760" y="1285560"/>
            <a:ext cx="8915400" cy="4816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505800" indent="-5058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УСЛОВИЯ ТРУДОВОГО ДОГОВО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ПРЕДОСТАВЛЯТЬ РАБОТУ,ОБУСЛОВЛЕННУЮ ТРУДОВЫМ ДОГОВОР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ВЫПЛАЧИВАТЬ В ПОЛНОМ РАЗМЕРЕ ЗАРАБОТНУЮ ПЛАТУ В СРОКИ И Д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252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Труд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9240" y="1143000"/>
            <a:ext cx="4660920" cy="521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едство для развития творческого потенциала челов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к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 достижения жизненных благ, карьеры, социаль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31" descr="j0195384"/>
          <p:cNvPicPr/>
          <p:nvPr/>
        </p:nvPicPr>
        <p:blipFill>
          <a:blip r:embed="rId1"/>
          <a:stretch/>
        </p:blipFill>
        <p:spPr>
          <a:xfrm>
            <a:off x="5452920" y="2927520"/>
            <a:ext cx="3738600" cy="3073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499760"/>
            <a:ext cx="4560840" cy="4630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требность и способ самореализации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о, предоставленное мне обществом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бязанность, возлагаемая на меня государством, семьёй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j0291984"/>
          <p:cNvPicPr/>
          <p:nvPr/>
        </p:nvPicPr>
        <p:blipFill>
          <a:blip r:embed="rId1"/>
          <a:stretch/>
        </p:blipFill>
        <p:spPr>
          <a:xfrm>
            <a:off x="631044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40695"/>
          <p:cNvPicPr/>
          <p:nvPr/>
        </p:nvPicPr>
        <p:blipFill>
          <a:blip r:embed="rId2"/>
          <a:stretch/>
        </p:blipFill>
        <p:spPr>
          <a:xfrm>
            <a:off x="6595920" y="1428840"/>
            <a:ext cx="2619360" cy="24177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1722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cecff"/>
                </a:solidFill>
                <a:latin typeface="Arial"/>
              </a:rPr>
              <a:t>Всеобщая декларация прав человека</a:t>
            </a: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Ст.</a:t>
            </a: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 23</a:t>
            </a:r>
            <a:br>
              <a:rPr sz="4100"/>
            </a:b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1432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еловек имеет право 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на равную оплату за равный труд, без какой - либо дискримин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оздавать профсоюзы и входить в профсоюзы для защиты своих интере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Статья 37. Конституции РФ </a:t>
            </a:r>
            <a:r>
              <a:rPr b="0" i="1" lang="ru-RU" sz="3700" spc="-1" strike="noStrike">
                <a:solidFill>
                  <a:srgbClr val="ccecff"/>
                </a:solidFill>
                <a:latin typeface="Arial"/>
              </a:rPr>
              <a:t>определяет основные принципы использования труда: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00" y="2000160"/>
            <a:ext cx="8915400" cy="48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удительный труд запрещён, и из этого правила нет никаких исключен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каждого должен быть соответствующим образом вознаграждён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должен быть оплачен не ниже минимального размера оплаты труд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защиту от безработиц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имеет право на отдых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Трудовой договор</a:t>
            </a:r>
            <a:br>
              <a:rPr sz="4500"/>
            </a:b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Содержимое 3" descr="15.jpg"/>
          <p:cNvPicPr/>
          <p:nvPr/>
        </p:nvPicPr>
        <p:blipFill>
          <a:blip r:embed="rId1"/>
          <a:stretch/>
        </p:blipFill>
        <p:spPr>
          <a:xfrm>
            <a:off x="2322360" y="1000080"/>
            <a:ext cx="5262840" cy="5572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0:21:22Z</dcterms:created>
  <dc:creator>Галина Ивановна</dc:creator>
  <dc:description/>
  <dc:language>en-US</dc:language>
  <cp:lastModifiedBy>LEGION</cp:lastModifiedBy>
  <dcterms:modified xsi:type="dcterms:W3CDTF">2015-01-28T11:35:01Z</dcterms:modified>
  <cp:revision>30</cp:revision>
  <dc:subject/>
  <dc:title>Труд – право или обязанность</dc:title>
</cp:coreProperties>
</file>