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A6C0-DF63-4D86-8852-23BACFEB1B0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Труд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аво 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бязаннос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готовили презентацию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ХТАБИЕВА АЛЬБИ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РОКОВ РУ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0A1B-8B28-4E36-BA58-E2A45C8EB77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РАБОТНИК»ОБЯЗ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ТРУДОВУЮ ДИСЦИПЛИНУ,ПРАВИЛА ВНУТРЕННЕГО ТРУДОВОГО РАСПОРЯД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ВОЕВРЕМЕННО И  ТОЧНО ИСПОЛНЯТЬ РАСПОРЯЖЕНИЯ  И ПРИКАЗЫ РАБОТОД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БЛЮДАТЬ ТРЕБОВАНИЯ ОХРАН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1C90-E48B-49F8-B5ED-1A8C01819E7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ТОДАТЕЛЬ»ОБЯЗ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БЛЮДАТЬ УСЛОВИЯ ТРУДОВОГО ДОГОВ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ЕДОСТАВЛЯТЬ РАБОТУ,ОБУСЛОВЛЕННУЮ ТРУДОВЫМ ДОГОВОР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ЫПЛАЧИВАТЬ В ПОЛНОМ РАЗМЕРЕ ЗАРАБОТНУЮ ПЛАТУ В СРО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F012-F606-4447-A09B-6D139C241BA2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руд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C045-0997-49A5-8945-F488EFA28A2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о для развития творческого потенциала челове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достижения жизненных благ, карьеры, социального стат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B0B4-6E5E-4A47-85FC-2EE9A20BEB9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Т Р У Д - э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и способ саморе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, предоставленное мне об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, возлагаемая на меня государством, семьё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97E5-B355-4F01-89B1-AA5DBBD4B11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2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 равную оплату за равный труд, без какой - либо дискримин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оздавать профсоюзы и входить в профсоюзы для защиты своих интере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EBDF-87FC-4DAB-A175-D748A04E4D3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тья 37. Конституции РФ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пределяет 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удительный труд запрещён, и из этого правила нет никаких исклю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43AE-13AB-4308-8782-79E0C00C663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каждого должен быть соответствующим образом вознаграждё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 должен быть оплачен не ниже минимального размера оплаты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22BA-C5C6-45D6-B9EC-BAAE07DA479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сновные принципы использования тру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имеет право на защиту от безработ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на отд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E183-D3F6-444A-A4D1-B6E75631AD9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довой договор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1598-2F60-4E60-9247-18AA032C7C6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FA8B-326E-4C2E-AB1D-64A2D607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149-E830-414F-B62D-4D03FB41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521-BAF9-442C-A987-2B727626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2CC-FC90-45B8-9FF1-12BFACB6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8A49-A75B-4276-8F95-C2807CFC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578E-67E7-4A47-AB42-9F5F610A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79D7-A6C3-4EE7-9FF9-F6545DBC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8697-5B31-4270-87EB-015FCBF3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C3A9-5FAA-454D-B4D7-B52BBABA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B156-A075-411A-B352-1D95485C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1DA5-C6BC-4D90-9ADB-8B9AC0A9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E65-B61F-40DC-BFF6-5283D95D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EB4F-32A6-47D7-A823-5640AE81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A16D-A442-403D-997A-C6A2DB11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6A33-2F3A-4163-B39D-DF0C5ABD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6BD7-C096-452D-B261-EF8668E4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5BF6-FAF3-4470-B1A2-0BFE13A69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5DD-F020-4803-9892-3B1A71AF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762-2F59-4F66-9C3C-B0118D85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8636-88B2-4927-A9F2-35D818F9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6A0-241B-4B80-94B4-1D86D314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E6B-B2D5-4D01-B28F-BA39CBE0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552-4C72-4434-AA35-C4DA2FF4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939-B08D-4A4B-BB60-5C5113EA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910440" cy="6851520"/>
            <a:chOff x="1440" y="0"/>
            <a:chExt cx="9910440" cy="6851520"/>
          </a:xfrm>
        </p:grpSpPr>
        <p:sp>
          <p:nvSpPr>
            <p:cNvPr id="1" name="Freeform 3"/>
            <p:cNvSpPr/>
            <p:nvPr/>
          </p:nvSpPr>
          <p:spPr>
            <a:xfrm>
              <a:off x="867528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926208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76752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95000" y="0"/>
              <a:ext cx="8766360" cy="6851520"/>
              <a:chOff x="495000" y="0"/>
              <a:chExt cx="87663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79556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31684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77404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32088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78528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730116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77564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12488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38220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69568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93932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20852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9500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72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72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21304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66844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20340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72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72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72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901800" cy="2493720"/>
              <a:chOff x="1440" y="622440"/>
              <a:chExt cx="990180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83B9-F108-4863-8C86-094542C7D0D6}" type="slidenum">
              <a:rPr b="0" lang="ru-RU" sz="11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910440" cy="6851520"/>
            <a:chOff x="0" y="0"/>
            <a:chExt cx="9910440" cy="6851520"/>
          </a:xfrm>
        </p:grpSpPr>
        <p:sp>
          <p:nvSpPr>
            <p:cNvPr id="79" name="Freeform 3"/>
            <p:cNvSpPr/>
            <p:nvPr/>
          </p:nvSpPr>
          <p:spPr>
            <a:xfrm>
              <a:off x="8673840" y="4168800"/>
              <a:ext cx="12366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9260640" y="6022800"/>
              <a:ext cx="64980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766080" y="6689880"/>
              <a:ext cx="1443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93560" y="0"/>
              <a:ext cx="8766360" cy="6851520"/>
              <a:chOff x="493560" y="0"/>
              <a:chExt cx="876636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794120" y="0"/>
                <a:ext cx="1285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5315400" y="0"/>
                <a:ext cx="29880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772600" y="0"/>
                <a:ext cx="57924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6319440" y="0"/>
                <a:ext cx="73404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783840" y="0"/>
                <a:ext cx="9590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7299720" y="0"/>
                <a:ext cx="118620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774200" y="0"/>
                <a:ext cx="148572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4123440" y="0"/>
                <a:ext cx="2577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380760" y="0"/>
                <a:ext cx="5158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694240" y="0"/>
                <a:ext cx="73116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937880" y="0"/>
                <a:ext cx="98892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207080" y="0"/>
                <a:ext cx="12672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93560" y="0"/>
                <a:ext cx="144432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8280" y="4605480"/>
              <a:ext cx="104220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8280" y="6175440"/>
              <a:ext cx="39204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8211600" y="0"/>
              <a:ext cx="16920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667000" y="0"/>
              <a:ext cx="12366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9201960" y="0"/>
              <a:ext cx="701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8280" y="0"/>
              <a:ext cx="14756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8280" y="0"/>
              <a:ext cx="10108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8280" y="0"/>
              <a:ext cx="464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9021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901800" cy="2493720"/>
              <a:chOff x="0" y="622440"/>
              <a:chExt cx="990180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90180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63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9021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2" marL="1197000" indent="-238320">
              <a:spcBef>
                <a:spcPts val="825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3" marL="1674720" indent="-237960">
              <a:spcBef>
                <a:spcPts val="825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4" marL="2154240" indent="-237960">
              <a:spcBef>
                <a:spcPts val="825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5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lvl="6" marL="2154240" indent="-237960">
              <a:spcBef>
                <a:spcPts val="8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6B00-9797-4782-88F8-B8703B5A6B17}" type="slidenum">
              <a:rPr b="0" lang="ru-RU" sz="11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1130400" y="-322200"/>
            <a:ext cx="7800840" cy="78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70000"/>
              </a:lnSpc>
              <a:spcBef>
                <a:spcPts val="3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3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Труд – 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право или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70000"/>
              </a:lnSpc>
              <a:spcBef>
                <a:spcPts val="4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6900" spc="-1" strike="noStrike">
                <a:solidFill>
                  <a:srgbClr val="ff0000"/>
                </a:solidFill>
                <a:latin typeface="Verdana"/>
              </a:rPr>
              <a:t>обязанность?</a:t>
            </a:r>
            <a:endParaRPr b="0" lang="en-US" sz="6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00"/>
                </a:solidFill>
                <a:latin typeface="Verdana"/>
              </a:rPr>
              <a:t>Подготовили презентацию: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ТОХТАБИЕВА АЛЬБИНА,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Verdana"/>
              </a:rPr>
              <a:t>ВОРОКОВ РУСТАМ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«РАБОТНИК»ОБЯЗАН</a:t>
            </a: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000" y="1285920"/>
            <a:ext cx="8915400" cy="4844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3000"/>
          </a:bodyPr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ТРУДОВУЮ ДИСЦИПЛИНУ,ПРАВИЛА ВНУТРЕННЕГО ТРУДОВОГО РАСПОРЯДКА;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СВОЕВРЕМЕННО И  ТОЧНО ИСПОЛНЯТЬ РАСПОРЯЖЕНИЯ  И ПРИКАЗЫ РАБОТОДАТЕЛ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СОБЛЮДАТЬ ТРЕБОВАНИЯ ОХРАНЫ ТРУД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44240" indent="-444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ПРОХОДИТЬ ОБЯЗАТЕЛЬНЫЕ ПРЕДВАРИТЕЛЬНЫЕ И ПЕРИОДИЧЕСКИЕ МЕДИЦИНСКИЕ ОСМОТРЫ И ДР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.                          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РАБОТОДАТЕЛЬ»ОБЯЗАН:</a:t>
            </a: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760" y="1285560"/>
            <a:ext cx="8915400" cy="4816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505800" indent="-50580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. СОБЛЮДАТЬ УСЛОВИЯ ТРУДОВОГО ДОГОВОР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. ПРЕДОСТАВЛЯТЬ РАБОТУ,ОБУСЛОВЛЕННУЮ ТРУДОВЫМ ДОГОВОР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. ОБЕСПЕЧИВАТЬ ОБЯЗАТЕЛЬНОЕ СОЦИАЛЬНОЕ СТРАХОВАНИЕ В ПОРЯДКЕ ПРЕДУСМОТРЕННЫМ ФЕДЕРАЛЬНЫМ ЗАКОНОДАТЕЛЬСТВО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05800" indent="-50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4. ВЫПЛАЧИВАТЬ В ПОЛНОМ РАЗМЕРЕ ЗАРАБОТНУЮ ПЛАТУ В СРОКИ И ДР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3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2520" y="3567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Труд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это деятельность человека,  направленная на достижение определённых целей, на сохранение, видоизменение, приспособление среды обитания для удовлетворение своих потребностей, на производство товаров и услуг.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9240" y="1143000"/>
            <a:ext cx="4660920" cy="521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редство для развития творческого потенциала челов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ек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пособ достижения жизненных благ, карьеры, социального статус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31" descr="j0195384"/>
          <p:cNvPicPr/>
          <p:nvPr/>
        </p:nvPicPr>
        <p:blipFill>
          <a:blip r:embed="rId1"/>
          <a:stretch/>
        </p:blipFill>
        <p:spPr>
          <a:xfrm>
            <a:off x="5452920" y="2927520"/>
            <a:ext cx="3738600" cy="30733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ccecff"/>
                </a:solidFill>
                <a:latin typeface="Arial"/>
              </a:rPr>
              <a:t>Т Р У Д - это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499760"/>
            <a:ext cx="4560840" cy="4630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требность и способ самореализации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право, предоставленное мне обществом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-337320">
              <a:lnSpc>
                <a:spcPct val="100000"/>
              </a:lnSpc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бязанность, возлагаемая на меня государством, семьёй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373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8" descr="j0291984"/>
          <p:cNvPicPr/>
          <p:nvPr/>
        </p:nvPicPr>
        <p:blipFill>
          <a:blip r:embed="rId1"/>
          <a:stretch/>
        </p:blipFill>
        <p:spPr>
          <a:xfrm>
            <a:off x="6310440" y="3857760"/>
            <a:ext cx="3363840" cy="3000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j0240695"/>
          <p:cNvPicPr/>
          <p:nvPr/>
        </p:nvPicPr>
        <p:blipFill>
          <a:blip r:embed="rId2"/>
          <a:stretch/>
        </p:blipFill>
        <p:spPr>
          <a:xfrm>
            <a:off x="6595920" y="1428840"/>
            <a:ext cx="2619360" cy="24177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915400" cy="1722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cecff"/>
                </a:solidFill>
                <a:latin typeface="Arial"/>
              </a:rPr>
              <a:t>Всеобщая декларация прав человека</a:t>
            </a:r>
            <a:r>
              <a:rPr b="1" lang="ru-RU" sz="4100" spc="-1" strike="noStrike">
                <a:solidFill>
                  <a:srgbClr val="ccecff"/>
                </a:solidFill>
                <a:latin typeface="Arial"/>
              </a:rPr>
              <a:t>. </a:t>
            </a:r>
            <a:r>
              <a:rPr b="0" lang="ru-RU" sz="4100" spc="-1" strike="noStrike">
                <a:solidFill>
                  <a:srgbClr val="ccecff"/>
                </a:solidFill>
                <a:latin typeface="Arial"/>
              </a:rPr>
              <a:t>Ст.</a:t>
            </a: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 23</a:t>
            </a:r>
            <a:br>
              <a:rPr sz="4100"/>
            </a:b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171432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еловек имеет право 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) на    труд, на свободный выбор работы, на справедливые и благоприятные условия труда и на защиту от безработиц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) на равную оплату за равный труд, без какой - либо дискриминац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) создавать профсоюзы и входить в профсоюзы для защиты своих интересов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3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cecff"/>
                </a:solidFill>
                <a:latin typeface="Arial"/>
              </a:rPr>
              <a:t>Статья 37. Конституции РФ </a:t>
            </a:r>
            <a:r>
              <a:rPr b="0" i="1" lang="ru-RU" sz="3700" spc="-1" strike="noStrike">
                <a:solidFill>
                  <a:srgbClr val="ccecff"/>
                </a:solidFill>
                <a:latin typeface="Arial"/>
              </a:rPr>
              <a:t>определяет основные принципы использования труда:</a:t>
            </a:r>
            <a:endParaRPr b="0" lang="en-US" sz="3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07600" y="2000160"/>
            <a:ext cx="8915400" cy="48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руд в нашей стране свободен, это означает, что каждый гражданин вправе по своему усмотрению распоряжаться своими способностями к труду, выбирать себе род занятий и професси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нудительный труд запрещён, и из этого правила нет никаких исключений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8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труд в условиях, отвечающих требованиям безопасности и гигиен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каждого должен быть соответствующим образом вознаграждён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труд должен быть оплачен не ниже минимального размера оплаты труда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ccecff"/>
                </a:solidFill>
                <a:latin typeface="Arial"/>
              </a:rPr>
              <a:t>Основные принципы использования труда:</a:t>
            </a:r>
            <a:endParaRPr b="0" lang="en-US" sz="41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человек имеет право на защиту от безработицы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за каждым человеком признаётся право на трудовые споры: индивидуальные и коллективные, включая право на забастовку;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Verdana"/>
              </a:rPr>
              <a:t>каждый имеет право на отдых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58920" indent="-35892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ecff"/>
                </a:solidFill>
                <a:latin typeface="Arial"/>
              </a:rPr>
              <a:t>Трудовой договор</a:t>
            </a:r>
            <a:br>
              <a:rPr sz="4500"/>
            </a:br>
            <a:endParaRPr b="0" lang="en-US" sz="45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Содержимое 3" descr="15.jpg"/>
          <p:cNvPicPr/>
          <p:nvPr/>
        </p:nvPicPr>
        <p:blipFill>
          <a:blip r:embed="rId1"/>
          <a:stretch/>
        </p:blipFill>
        <p:spPr>
          <a:xfrm>
            <a:off x="2322360" y="1000080"/>
            <a:ext cx="5262840" cy="5572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2"/>
          <p:cNvSpPr/>
          <p:nvPr/>
        </p:nvSpPr>
        <p:spPr>
          <a:xfrm>
            <a:off x="338472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0:21:22Z</dcterms:created>
  <dc:creator>Галина Ивановна</dc:creator>
  <dc:description/>
  <dc:language>en-US</dc:language>
  <cp:lastModifiedBy>LEGION</cp:lastModifiedBy>
  <dcterms:modified xsi:type="dcterms:W3CDTF">2015-01-28T11:35:01Z</dcterms:modified>
  <cp:revision>30</cp:revision>
  <dc:subject/>
  <dc:title>Труд – право или обязанность</dc:title>
</cp:coreProperties>
</file>