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0ADC-4E5E-46D0-98B3-0F67F8D0A81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Труд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аво 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бязанно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готовили презентаци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ХТАБИЕВА АЛЬБ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ОКОВ РУ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14C8-F6A2-44E3-8A5D-73F1A7DB401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РАБОТНИК»ОБЯЗ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ТРУДОВУЮ ДИСЦИПЛИНУ,ПРАВИЛА ВНУТРЕННЕГО ТРУДОВОГО РАСПОРЯД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ОЕВРЕМЕННО И  ТОЧНО ИСПОЛНЯТЬ РАСПОРЯЖЕНИЯ  И ПРИКАЗЫ РАБОТОД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АТЬ ТРЕБОВАНИЯ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A54C-73A6-4826-A13B-7C2E0EA9FD9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ТОДАТЕЛЬ»ОБЯЗ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УСЛОВИЯ ТРУДОВОГО ДОГОВ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ЕДОСТАВЛЯТЬ РАБОТУ,ОБУСЛОВЛЕННУЮ ТРУДОВЫМ ДОГОВО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ПЛАЧИВАТЬ В ПОЛНОМ РАЗМЕРЕ ЗАРАБОТНУЮ ПЛАТУ В СРО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675-51B9-4D07-9739-4924D08CEFB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уд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540E-D5AD-49BB-82F4-BDF416416FD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о для развития творческого потенциала челове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остижения жизненных благ, карьеры, социального стат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D2DD-6FBD-459F-9400-93F5A52DA94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способ саморе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, предоставленное мне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, возлагаемая на меня государством, семьё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2917-53CE-4639-8B06-0D1591BD2F1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2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равную оплату за равный труд, без какой - либо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оздавать профсоюзы и входить в профсоюзы для защиты своих интере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FBE6-EFB6-408B-93F1-9D34C7E2050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ья 37. Конституции РФ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ределяет 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ый труд запрещён, и из этого правила нет никаких исклю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5BB4-0A58-44F6-8C6D-5FABA625790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каждого должен быть соответствующим образом вознаграждё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олжен быть оплачен не ниже минимального размера оплат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9E57-7252-41E8-872B-314F7BFF737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на отд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EC0D-5F16-4F72-945D-C1C9E9CB0C1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0387-4B33-463D-B379-9986E7D923D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EC1-5193-44F3-B4FE-55059E37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5B3-3552-41E9-A67E-B5A8D93C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57B-A8CE-4771-B1BC-DC0E448C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9AD-FCFC-40D4-8BF2-C0819BFA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8D6D-602F-4614-A3FD-9D6A8EAE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9047-8B54-45B3-909A-ED7276A1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CADF-E9CD-4E04-BFEC-BEEA40FF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3141-9E8C-40DC-8B67-0A5B4193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3DD7-35A4-47A6-B532-270F45E3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DE03-E657-4A27-B2F4-6BED5BEA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F3E2-7B3C-4973-BEFC-A1A4DE0E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BBE-6A43-40D6-91A3-CCC0EE22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22A9-11D4-4AC5-9384-FC4BEF8E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02ED-C84F-46E9-AA7F-3164CECE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7315-9FB3-4BE5-9E1A-44D3308B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BDAA-5CC7-4DFB-B2DB-E3AA63E9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F9CA-AFB8-4024-8E9D-569C4512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EC4-0804-4115-B9CB-5E48E7C8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C02-DD63-4035-B9FA-E689400A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DA0-5616-47F1-AC9A-29CD7941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9DA-4CCD-4757-80F2-8DF43871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FEB-3096-4A65-92E4-C8B5B551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EFF-8F45-4DA6-9E42-A6DC4DA2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29A-FBC0-4535-A261-35D067CA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Freeform 3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79556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3168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69568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2085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B5F6-7160-461D-BD30-A537CAD2A8E3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Freeform 3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79412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3154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69424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2070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8863-44F3-4FDB-9150-49C0547D6ED7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130400" y="-322200"/>
            <a:ext cx="7800840" cy="78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70000"/>
              </a:lnSpc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Труд – 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право или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обязанность?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Verdana"/>
              </a:rPr>
              <a:t>Подготовили презентацию: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ТОХТАБИЕВА АЛЬБИНА,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ОРОКОВ РУСТ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«РАБОТНИК»ОБЯЗАН</a:t>
            </a: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000" y="1285920"/>
            <a:ext cx="8915400" cy="484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3000"/>
          </a:bodyPr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ТРУДОВУЮ ДИСЦИПЛИНУ,ПРАВИЛА ВНУТРЕННЕГО ТРУДОВОГО РАСПОРЯДК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СВОЕВРЕМЕННО И  ТОЧНО ИСПОЛНЯТЬ РАСПОРЯЖЕНИЯ  И ПРИКАЗЫ РАБОТОДАТЕЛ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СОБЛЮДАТЬ ТРЕБОВАНИЯ ОХРАНЫ ТРУД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РАБОТОДАТЕЛЬ»ОБЯЗАН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760" y="1285560"/>
            <a:ext cx="8915400" cy="4816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505800" indent="-5058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УСЛОВИЯ ТРУДОВОГО ДОГОВОР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ПРЕДОСТАВЛЯТЬ РАБОТУ,ОБУСЛОВЛЕННУЮ ТРУДОВЫМ ДОГОВОР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ВЫПЛАЧИВАТЬ В ПОЛНОМ РАЗМЕРЕ ЗАРАБОТНУЮ ПЛАТУ В СРОКИ И Д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252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Труд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9240" y="1143000"/>
            <a:ext cx="4660920" cy="521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редство для развития творческого потенциала челов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к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 достижения жизненных благ, карьеры, социаль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31" descr="j0195384"/>
          <p:cNvPicPr/>
          <p:nvPr/>
        </p:nvPicPr>
        <p:blipFill>
          <a:blip r:embed="rId1"/>
          <a:stretch/>
        </p:blipFill>
        <p:spPr>
          <a:xfrm>
            <a:off x="5452920" y="2927520"/>
            <a:ext cx="3738600" cy="3073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499760"/>
            <a:ext cx="4560840" cy="4630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требность и способ самореализации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о, предоставленное мне обществом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бязанность, возлагаемая на меня государством, семьёй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8" descr="j0291984"/>
          <p:cNvPicPr/>
          <p:nvPr/>
        </p:nvPicPr>
        <p:blipFill>
          <a:blip r:embed="rId1"/>
          <a:stretch/>
        </p:blipFill>
        <p:spPr>
          <a:xfrm>
            <a:off x="6310440" y="385776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240695"/>
          <p:cNvPicPr/>
          <p:nvPr/>
        </p:nvPicPr>
        <p:blipFill>
          <a:blip r:embed="rId2"/>
          <a:stretch/>
        </p:blipFill>
        <p:spPr>
          <a:xfrm>
            <a:off x="6595920" y="1428840"/>
            <a:ext cx="2619360" cy="24177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1722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cecff"/>
                </a:solidFill>
                <a:latin typeface="Arial"/>
              </a:rPr>
              <a:t>Всеобщая декларация прав человека</a:t>
            </a: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. 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Ст.</a:t>
            </a: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 23</a:t>
            </a:r>
            <a:br>
              <a:rPr sz="4100"/>
            </a:b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1432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еловек имеет право 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на равную оплату за равный труд, без какой - либо дискримина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создавать профсоюзы и входить в профсоюзы для защиты своих интере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Статья 37. Конституции РФ </a:t>
            </a:r>
            <a:r>
              <a:rPr b="0" i="1" lang="ru-RU" sz="3700" spc="-1" strike="noStrike">
                <a:solidFill>
                  <a:srgbClr val="ccecff"/>
                </a:solidFill>
                <a:latin typeface="Arial"/>
              </a:rPr>
              <a:t>определяет основные принципы использования труда: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600" y="2000160"/>
            <a:ext cx="8915400" cy="48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удительный труд запрещён, и из этого правила нет никаких исключен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каждого должен быть соответствующим образом вознаграждён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должен быть оплачен не ниже минимального размера оплаты труд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защиту от безработиц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имеет право на отдых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Трудовой договор</a:t>
            </a:r>
            <a:br>
              <a:rPr sz="4500"/>
            </a:b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Содержимое 3" descr="15.jpg"/>
          <p:cNvPicPr/>
          <p:nvPr/>
        </p:nvPicPr>
        <p:blipFill>
          <a:blip r:embed="rId1"/>
          <a:stretch/>
        </p:blipFill>
        <p:spPr>
          <a:xfrm>
            <a:off x="2322360" y="1000080"/>
            <a:ext cx="5262840" cy="5572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0:21:22Z</dcterms:created>
  <dc:creator>Галина Ивановна</dc:creator>
  <dc:description/>
  <dc:language>en-US</dc:language>
  <cp:lastModifiedBy>LEGION</cp:lastModifiedBy>
  <dcterms:modified xsi:type="dcterms:W3CDTF">2015-01-28T11:35:01Z</dcterms:modified>
  <cp:revision>30</cp:revision>
  <dc:subject/>
  <dc:title>Труд – право или обязанность</dc:title>
</cp:coreProperties>
</file>