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6FD8-9984-4290-B6E2-67AEBF1628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DA29-EB37-4CBE-A868-B03D3F1825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F65A-B4CA-4B24-B9BF-21E4AF5EF5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C6F2-06A0-4699-B29D-1544532EB2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DE6D-2814-4117-9587-6040878FC22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CE4A-D0F2-4A94-B454-58E1D02624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EB74-3BFD-46F3-8767-E19092EFB3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A10-D361-4FCD-9ECC-97648C5AB4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BFD0-7F6A-43AD-896B-F3894A143B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C90E-DC68-478F-B710-0E900070D6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481-9B21-4FA4-9D55-AA24121CEDA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85C4-E713-4FF9-8852-8E196032625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1500-F73A-403F-A5D9-20820CCF4B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D8B8-DAA8-4537-B8F1-58A08A1FDF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D05A-67CF-431F-A1A6-70C848B6F1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2CE2-F4B8-4705-B62E-62AA0940DB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5136-303C-48F3-9984-A935F6AA4F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52A5-37D6-4989-A0FF-AC1439ED6DF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BE90-D1CF-41D8-9158-E1A3C84299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5813-16FD-48EF-B050-6A09D1470E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2D8C-20C8-4956-B729-733CE5D087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3967-BE5C-4CBF-A3CF-EF4B7C1E5F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C39B-90A1-4A59-BE6E-F6EAE7D421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E614-7325-4258-B14A-0B6CEFAB6A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9075-50C5-4A8E-8F89-4E19AE301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D8E5-C7DC-4866-87F4-87BE01B2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5F847-ED43-428E-A334-5A3724DE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35D7D-7493-4AB1-B899-1BCFDC316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91890-4687-47CE-9022-9CC361395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4B8C6-523A-4126-B3E4-134165B40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92A0F-A255-4303-8A64-14284ADC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189AD-900B-41D5-B56F-E93E3982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5D98-01DE-43C2-B80B-9F4D4A35E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1A49A-D727-4E28-A848-5656B5240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C76A-0071-48AE-9436-94A8F332C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22F3-AC24-4426-BC4E-27A98F5A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E9FA6-90E4-4016-8885-7E7FE860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B3E81-034A-4CED-B4BC-4C16B6A67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9869B-463D-4E88-91E3-5D642ACF5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013FF-51F1-4FE0-810C-D0D6D53CC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B96D0-D939-4898-BC88-05057957D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45CD-02F3-482B-B35D-1A1B0BFF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2F7D-7AE4-4145-A3F4-FE36C0D0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E5E9-BB6A-4855-9C27-FB661147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74AA-D3BB-4EA6-A5DC-CD66BA51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239A-FA21-4E7B-8336-4E06F43CF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17D2-55DA-4FE7-8A3F-7D53734D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5D97-E953-4D3B-95EB-D9D5B3D55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C7FE-CA91-4A40-959B-F1D0213F80EA}" type="datetime">
              <a:rPr b="0" lang="ru-RU" sz="1200" spc="-1" strike="noStrike">
                <a:solidFill>
                  <a:srgbClr val="045c75"/>
                </a:solidFill>
                <a:latin typeface="Constantia"/>
              </a:rPr>
              <a:t>29.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81C9-5F92-4300-92B4-C92899AF150B}"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61B1-A94F-4C4D-9F0C-A1EAB0CD8A79}" type="datetime">
              <a:rPr b="0" lang="ru-RU" sz="1200" spc="-1" strike="noStrike">
                <a:solidFill>
                  <a:srgbClr val="045c75"/>
                </a:solidFill>
                <a:latin typeface="Constantia"/>
              </a:rPr>
              <a:t>29.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E923-4423-45D3-8B8B-B71897CA169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