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AC6D-BEDF-4F28-9232-28FB379D53B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25F0-4379-4060-B924-EC36C783E5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234F-2E9D-4482-A336-E56DA16D04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EBCB-11C3-488B-BAE0-AC53506CB7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8BE2-B44D-4351-A0D6-1400A5C323C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8CA1-D5B5-466D-AC6A-761267CB496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3F7D-07E3-4CD6-8968-6B2B511C961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9184-52D5-467C-ADCE-22A57557333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9B3C-E664-4413-A3D7-D4FD972C364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4DED-1C61-4B9E-8CCA-B7D3DFD6DE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142D-56B2-4C0F-B714-0B8D37B5C73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A447-0D4E-4D28-8E37-4348760608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18B3-D4FA-4B3A-9141-BA65FAF611E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8786-D25C-4D36-923A-A987B682A7F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B523-C871-4697-9599-AC2214FF2A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653D-6CE9-4C82-8E34-977D776DA5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F4C5-FFEF-42EC-A3B3-2ACE953927C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3611-E2DB-4CF3-8541-2FCDB7FB743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7818-EEA9-45FC-8B9C-95CB48F56C0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0BF1-7A7F-4EFC-B0DF-04DBDEB3C80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B43D-2AE4-4079-99B4-23EAA25E85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A75D-376A-4FA0-B500-91847377F18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84DE-7DF7-49E0-B221-BCE378FFB6C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42A2-798E-412F-8DA7-BB4B12D63E9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B17D3-8F11-4643-911A-1C046CA82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F04CE-E2F5-460F-8DF5-350B68655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E0164-DEBE-4ECC-B4C4-4C00CC0DA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D8DE3-5DA1-4633-B9A2-403046B66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6D1B4-FB5B-4BC0-A237-EA1C7EB14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B6D94-0DD6-4503-8153-66D7367A2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8D49E-8D61-477D-98B2-1C4E18333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32275-9C54-4ADA-8361-B4E08D6D8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198AD-AB15-4581-B05B-627DEDADD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130BB-3454-44A2-B130-C9A4EDAAF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626C0-7564-4323-9CF3-B7505C19F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9435-6A92-4678-AD13-B4F685C3F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CCF20-1A1A-4D21-8F17-AA0724D37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686A1-E87C-4DB7-8CFA-C577E0A67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9FAEE-D3D8-4E39-9FFE-AC1CC5496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9607C-026E-4B90-A65C-F4FD83F98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19156-617C-4731-8506-9D221A0D6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D7AC8-D2E0-4399-99B5-336A9824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0C39-F4D9-48A1-8CE3-4F266E56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06FD-E47F-43BA-8C3E-3405220A0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31AAE-7CE9-41E1-8E74-2E0C96340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4A06-22DC-4977-98A5-B751BE734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613D0-36E0-48E2-A582-9DDED71C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7422-D829-494D-8518-DD3C5C652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D8A9-B869-4BE2-94DB-7343AEA87716}" type="datetime">
              <a:rPr b="0" lang="ru-RU" sz="1200" spc="-1" strike="noStrike">
                <a:solidFill>
                  <a:srgbClr val="045c75"/>
                </a:solidFill>
                <a:latin typeface="Constantia"/>
              </a:rPr>
              <a:t>31.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C29F-79FF-488D-9E3F-7196535D5831}"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05BD-C66B-4D02-838C-29E9BECE023D}" type="datetime">
              <a:rPr b="0" lang="ru-RU" sz="1200" spc="-1" strike="noStrike">
                <a:solidFill>
                  <a:srgbClr val="045c75"/>
                </a:solidFill>
                <a:latin typeface="Constantia"/>
              </a:rPr>
              <a:t>31.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BCDA-E5A2-4A27-92AA-31D64B7238CF}"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