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A944-27D4-40E3-B03A-768EAA7246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83DD-BD70-4DA6-B51F-C2EC3A0013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4E9B-AB6E-400A-86DF-FCB2C5D086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87AA-E27F-4EFA-8A5B-DC3A53A5AB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69CD-F992-4712-B341-C0424282F2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93CE-1F37-4744-BE25-180E2D29C6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6B82-035E-4D44-8D83-78514DCDED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83F7-F263-4434-9D8D-BE743B398D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74A1-451E-4954-A456-7F664595F0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E70F-2CCA-4C9F-B478-164C17BD9F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849-E644-4ACB-8100-BAE0B14D10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7DF1-EBD3-4B73-B52E-36BBBE3984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81E1-0300-403A-97AC-1C6AFF3D65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DDC4-38FF-4EBD-A6F5-C486138D5F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D8C1-8A26-4082-BF3C-C81604A16D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3CC2-5AB6-4ABB-AA5C-F09E95A156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0BDA-0967-4753-832E-494708CC39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0B27-F28A-4474-9298-AAA5B09153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5A69-0F29-4427-9178-52BEC43FF2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A1AE-6CD7-4959-8016-0670EB042D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8BF5-6802-42C5-9455-3654310820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CD20-27DC-473B-B4C1-A779FC0060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2EB6-1948-445F-9964-E1D3B847193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D5EC-B3D2-4E0D-A403-79849D3ED8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D1DA2-39DE-44B7-B4E7-BE4A78EC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E898-848C-436C-B8F7-8C54C3E0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28766-66BB-4657-8BCA-BF50C6AE9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6E056-6117-434C-B31B-0AED9B748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4162F-1503-43A7-BC76-E54A5D355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E0629-CB0D-4F19-BE87-2908B9B82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ABB63-4E30-46FE-AC90-D7BAEEE50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C0FA9-3646-46C7-A07C-02B579322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0378B-7698-4E9A-A13D-BC5446F86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0B5DD-544A-422A-90C0-4ABD96F96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A897D-E3A3-470B-9DC9-D1855B069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F021-E3FF-4F83-BFD3-C3687602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B8F97-7725-470C-9091-82B9A7FA4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FC9B-0392-4DDE-A825-958561FE9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B720-9538-4B2A-BC74-AECEF4671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27B5B-8429-40F9-ACE1-6A0C7602F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7EB2D-9C28-4079-AC70-7FDEC44D3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8851-8E55-4613-AB61-2058935D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4851-8158-4C5D-BF45-033C953A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43AD7-01A9-4F34-9363-051CEDAA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DEE5-FEC1-42FA-B546-CF14CC7B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EEC6-5A35-4F14-98F5-880DAA3C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5923-60D9-4AC4-9EA2-025DC0D7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10CC-1D07-4DF5-B797-C4C631FAD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12D0-26E2-4BA4-91D1-6740A2232F7A}" type="datetime">
              <a:rPr b="0" lang="ru-RU" sz="1200" spc="-1" strike="noStrike">
                <a:solidFill>
                  <a:srgbClr val="045c75"/>
                </a:solidFill>
                <a:latin typeface="Constantia"/>
              </a:rPr>
              <a:t>31.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E410-B2E7-4053-BD46-F5D401D481A4}"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AD0D-6215-4C36-9733-01A956B74AA5}" type="datetime">
              <a:rPr b="0" lang="ru-RU" sz="1200" spc="-1" strike="noStrike">
                <a:solidFill>
                  <a:srgbClr val="045c75"/>
                </a:solidFill>
                <a:latin typeface="Constantia"/>
              </a:rPr>
              <a:t>31.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D068-DDD6-444D-AA56-8BC9EDA37136}"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