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2BC64-FFBE-443D-B841-F74B2ED873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9893c"/>
                </a:solidFill>
                <a:latin typeface="Calibri"/>
              </a:rPr>
              <a:t>Тема урока: </a:t>
            </a:r>
            <a:br>
              <a:rPr sz="1200"/>
            </a:br>
            <a:r>
              <a:rPr b="1" i="1" lang="ru-RU" sz="1200" spc="-1" strike="noStrike">
                <a:solidFill>
                  <a:srgbClr val="19893c"/>
                </a:solidFill>
                <a:latin typeface="Calibri"/>
              </a:rPr>
              <a:t>«Право на образов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9893c"/>
                </a:solidFill>
                <a:latin typeface="Calibri"/>
              </a:rPr>
              <a:t>Домой: </a:t>
            </a:r>
            <a:r>
              <a:rPr b="1" lang="en-US" sz="1600" spc="-1" strike="noStrike">
                <a:solidFill>
                  <a:srgbClr val="19893c"/>
                </a:solidFill>
                <a:latin typeface="Calibri"/>
                <a:ea typeface="Arial"/>
              </a:rPr>
              <a:t>§</a:t>
            </a:r>
            <a:r>
              <a:rPr b="1" lang="ru-RU" sz="1600" spc="-1" strike="noStrike">
                <a:solidFill>
                  <a:srgbClr val="19893c"/>
                </a:solidFill>
                <a:latin typeface="Calibri"/>
                <a:ea typeface="Arial"/>
              </a:rPr>
              <a:t> 4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D0C7-48AA-48FC-9222-215B025859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 u="sng">
                <a:solidFill>
                  <a:srgbClr val="006600"/>
                </a:solidFill>
                <a:uFillTx/>
                <a:latin typeface="Calibri"/>
              </a:rPr>
              <a:t>Общеобразовательные учреждени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учреждения началь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начальная 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реждения основного общего образов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школ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c00000"/>
                </a:solidFill>
                <a:latin typeface="Calibri"/>
              </a:rPr>
              <a:t>национальная </a:t>
            </a: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гимнази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лицей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учебно-воспитательный комплек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c00000"/>
                </a:solidFill>
                <a:uFillTx/>
                <a:latin typeface="Calibri"/>
              </a:rPr>
              <a:t>Экстерна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EE74-EF5C-40D5-916E-B664198F2E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(полного) обще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школа с углубленным изучением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иль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0DDA-C569-460E-AD0E-3A13A30044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ое общее образование обязательно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00F5-146B-40ED-95B3-C5F93D741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России устанавливаются следующие уровни профессионального  образов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чальн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н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ысше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;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слевузовское профессиональ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1CFDD-4802-471D-9F82-02E029C4FF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Учреждения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начальн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офессиональны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ческий лиц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средн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коллед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технику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856F-18D4-4350-B9B2-D7428D0FB5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высше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акаде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федеральный университ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реждения послевузовского профессиональн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институт повышения квалификации по отрас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9981-9C15-4BE9-A3B3-A5E855B37E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d5008"/>
                </a:solidFill>
                <a:latin typeface="Calibri"/>
              </a:rPr>
              <a:t>Нормативная осн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 продекларировано в статье 26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сеобщей декларации прав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реплено в статьях 13 и 14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ждународного пакта об экономических, социальных и культурных пра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татьях 28 и 29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венции о правах ребё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статье 2 Первого протокола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Европейской Конвенции о защите прав человека и основных своб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Закреплено в статье 43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нституции Росс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D534-A987-432B-BC5C-CBBFBF1497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 типы учреж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22218-4A22-4DF1-A028-1CC9D657A2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гласно ст. 43 Конституции РФ, каждый имеет право на образов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00"/>
            </a:b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    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A982-3947-41A4-96B7-E04FC42E64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86D3-DCDA-48B9-A95F-9EE56F5BF2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оспита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5C04-219A-41EF-8978-531514B72A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00"/>
                </a:solidFill>
                <a:latin typeface="Calibri"/>
              </a:rPr>
              <a:t>Формы получения образов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чно-заочной (вечерней)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заоч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в форме семейного образования (с 1992г.), самообразования,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экстерн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ние годы интенсивно развивается </a:t>
            </a:r>
            <a:r>
              <a:rPr b="1" lang="ru-RU" sz="1200" spc="-1" strike="noStrike" u="sng">
                <a:solidFill>
                  <a:srgbClr val="006600"/>
                </a:solidFill>
                <a:uFillTx/>
                <a:latin typeface="Calibri"/>
              </a:rPr>
              <a:t>дистанционное образование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ускается сочетание различных форм получения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FAB3-86AF-43E5-92FF-81F758C8DD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Типы образовательных учреждений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 u="sng">
                <a:solidFill>
                  <a:srgbClr val="0d5008"/>
                </a:solidFill>
                <a:uFillTx/>
                <a:latin typeface="Calibri"/>
              </a:rPr>
              <a:t>Дошкольные учре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пред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яс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детский с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4AEB-8FA1-4E6A-B7E4-B215628296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Общее образование</a:t>
            </a:r>
            <a:br>
              <a:rPr sz="2000"/>
            </a:br>
            <a:r>
              <a:rPr b="1" i="1" lang="ru-RU" sz="2000" spc="-1" strike="noStrike">
                <a:solidFill>
                  <a:srgbClr val="0d5008"/>
                </a:solidFill>
                <a:latin typeface="Calibri"/>
              </a:rPr>
              <a:t> включает в себя три ступен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чальное образование —  с 1 по 4 класс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основное  общее образование —  с 5 по 9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среднее (полное) общее образование —10 и 11 классы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продолжительность обучения в средней школе составляет 11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A5A9-8025-4755-9124-978A6ED57A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6B7-791E-4EFB-9A8D-EEFED179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6ED-4851-43C7-BEDB-1ABEC79B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6B6-C1E5-4041-A9D2-B131F7A8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6B1-2A70-469B-BE54-0FAE7333A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BBA-B597-4416-84C4-C735E73A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2FC7-83D5-4E1A-A6C0-3D75346B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58B6-E022-4860-9DC7-C8A0DA06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DCE6-54BC-4193-BE75-7048D6B11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B55-CE3D-4E2A-B982-5106A5DA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8991-D4B1-4093-9928-2FA9BBC1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45EA-EA4C-451F-88F4-579D1200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D60-923F-4BAA-B83B-B4B4F4C7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fabc"/>
            </a:gs>
            <a:gs pos="100000">
              <a:srgbClr val="c0e89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48B5-1BD1-4685-AABF-22B62AD2C3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9360">
            <a:solidFill>
              <a:srgbClr val="0d5008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893c"/>
                </a:solidFill>
                <a:latin typeface="Arial"/>
              </a:rPr>
              <a:t>Тема урока: </a:t>
            </a:r>
            <a:br>
              <a:rPr sz="4400"/>
            </a:br>
            <a:r>
              <a:rPr b="1" i="1" lang="ru-RU" sz="4400" spc="-1" strike="noStrike">
                <a:solidFill>
                  <a:srgbClr val="19893c"/>
                </a:solidFill>
                <a:latin typeface="Arial"/>
              </a:rPr>
              <a:t>«Право на образова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437000"/>
            <a:ext cx="6369120" cy="935280"/>
          </a:xfrm>
          <a:prstGeom prst="rect">
            <a:avLst/>
          </a:prstGeom>
          <a:gradFill rotWithShape="0">
            <a:gsLst>
              <a:gs pos="0">
                <a:srgbClr val="efefaf"/>
              </a:gs>
              <a:gs pos="100000">
                <a:srgbClr val="a3ffa3"/>
              </a:gs>
            </a:gsLst>
            <a:lin ang="5400000"/>
          </a:gradFill>
          <a:ln w="9360">
            <a:solidFill>
              <a:srgbClr val="0d5008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9893c"/>
                </a:solidFill>
                <a:latin typeface="Arial"/>
              </a:rPr>
              <a:t>Домой: </a:t>
            </a:r>
            <a:r>
              <a:rPr b="1" lang="en-US" sz="4000" spc="-1" strike="noStrike">
                <a:solidFill>
                  <a:srgbClr val="19893c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19893c"/>
                </a:solidFill>
                <a:latin typeface="Arial"/>
                <a:ea typeface="Arial"/>
              </a:rPr>
              <a:t> 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276720" y="5445000"/>
            <a:ext cx="31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. Л.Н. Боголюб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i"/>
          <p:cNvPicPr/>
          <p:nvPr/>
        </p:nvPicPr>
        <p:blipFill>
          <a:blip r:embed="rId1"/>
          <a:stretch/>
        </p:blipFill>
        <p:spPr>
          <a:xfrm>
            <a:off x="5724360" y="404640"/>
            <a:ext cx="2376720" cy="17290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pic>
        <p:nvPicPr>
          <p:cNvPr id="52" name="Picture 11" descr="33 Турнир иени Лосоносова"/>
          <p:cNvPicPr/>
          <p:nvPr/>
        </p:nvPicPr>
        <p:blipFill>
          <a:blip r:embed="rId2"/>
          <a:stretch/>
        </p:blipFill>
        <p:spPr>
          <a:xfrm>
            <a:off x="971640" y="333360"/>
            <a:ext cx="2087640" cy="1916280"/>
          </a:xfrm>
          <a:prstGeom prst="rect">
            <a:avLst/>
          </a:prstGeom>
          <a:ln w="9360">
            <a:solidFill>
              <a:srgbClr val="0d5008"/>
            </a:solidFill>
            <a:miter/>
          </a:ln>
        </p:spPr>
      </p:pic>
      <p:sp>
        <p:nvSpPr>
          <p:cNvPr id="53" name="Text Box 12"/>
          <p:cNvSpPr/>
          <p:nvPr/>
        </p:nvSpPr>
        <p:spPr>
          <a:xfrm>
            <a:off x="2571840" y="602136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d5008"/>
                </a:solidFill>
                <a:latin typeface="Arial"/>
              </a:rPr>
              <a:t>Учитель: Руденко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бщеобразовате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Arial"/>
              </a:rPr>
              <a:t>учреждения началь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чреждения основ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национальная </a:t>
            </a: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гимна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лиц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учебно-воспитательный 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00000"/>
                </a:solidFill>
                <a:uFillTx/>
                <a:latin typeface="Arial"/>
              </a:rPr>
              <a:t>Экстер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2" descr="начальная школа.jpg"/>
          <p:cNvPicPr/>
          <p:nvPr/>
        </p:nvPicPr>
        <p:blipFill>
          <a:blip r:embed="rId1"/>
          <a:stretch/>
        </p:blipFill>
        <p:spPr>
          <a:xfrm>
            <a:off x="5867280" y="3573360"/>
            <a:ext cx="3025800" cy="29448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(полного) обще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школа с углубленным изучением предме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ильная 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2" descr="шк. с у.jpg"/>
          <p:cNvPicPr/>
          <p:nvPr/>
        </p:nvPicPr>
        <p:blipFill>
          <a:blip r:embed="rId1"/>
          <a:stretch/>
        </p:blipFill>
        <p:spPr>
          <a:xfrm>
            <a:off x="4859280" y="2205000"/>
            <a:ext cx="3889440" cy="29131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Школа с угл.jpg"/>
          <p:cNvPicPr/>
          <p:nvPr/>
        </p:nvPicPr>
        <p:blipFill>
          <a:blip r:embed="rId2"/>
          <a:stretch/>
        </p:blipFill>
        <p:spPr>
          <a:xfrm>
            <a:off x="468360" y="3789360"/>
            <a:ext cx="4279680" cy="2543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сновное общее образование обязательн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708360" y="1599840"/>
            <a:ext cx="51847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дители или лица, их заменяющие, обеспечивают получение детьми основного обще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устанавливает федеральные государственные образовательные стандарты, поддерживает различные формы образования и само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4" descr="школа.jpg"/>
          <p:cNvPicPr/>
          <p:nvPr/>
        </p:nvPicPr>
        <p:blipFill>
          <a:blip r:embed="rId1"/>
          <a:stretch/>
        </p:blipFill>
        <p:spPr>
          <a:xfrm>
            <a:off x="395280" y="2133720"/>
            <a:ext cx="3240000" cy="3743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gradFill rotWithShape="0">
            <a:gsLst>
              <a:gs pos="0">
                <a:srgbClr val="f9fabc"/>
              </a:gs>
              <a:gs pos="100000">
                <a:srgbClr val="ccffcc"/>
              </a:gs>
            </a:gsLst>
            <a:lin ang="5400000"/>
          </a:gradFill>
          <a:ln w="9360">
            <a:solidFill>
              <a:srgbClr val="5600a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России устанавливаются следующие уровни профессионального  образ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6840" y="1700280"/>
            <a:ext cx="814716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чальн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редн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сше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;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левузовское профессионально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Учреждения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начальн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фессиональны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ческий лиц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средн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коллед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техн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4" descr="профлбразование.jpg"/>
          <p:cNvPicPr/>
          <p:nvPr/>
        </p:nvPicPr>
        <p:blipFill>
          <a:blip r:embed="rId1"/>
          <a:stretch/>
        </p:blipFill>
        <p:spPr>
          <a:xfrm>
            <a:off x="1604880" y="1230480"/>
            <a:ext cx="5934240" cy="3939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Содержимое 2" descr="ПТУ.jpg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высше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академ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федеральный универс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реждения послевузовского профессиона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институт повышения квалификации по отрасл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Содержимое 2" descr="Лекция.jpg"/>
          <p:cNvPicPr/>
          <p:nvPr/>
        </p:nvPicPr>
        <p:blipFill>
          <a:blip r:embed="rId1"/>
          <a:stretch/>
        </p:blipFill>
        <p:spPr>
          <a:xfrm>
            <a:off x="539640" y="404640"/>
            <a:ext cx="7993080" cy="5904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Содержимое 2" descr="Об образовании.jpg"/>
          <p:cNvPicPr/>
          <p:nvPr/>
        </p:nvPicPr>
        <p:blipFill>
          <a:blip r:embed="rId1"/>
          <a:stretch/>
        </p:blipFill>
        <p:spPr>
          <a:xfrm>
            <a:off x="1047600" y="874800"/>
            <a:ext cx="7048800" cy="46512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d5008"/>
                </a:solidFill>
                <a:latin typeface="Arial"/>
              </a:rPr>
              <a:t>Нормативная осно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о на образование продекларировано в статье 26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сеобщей декларации прав челове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закреплено в статьях 13 и 14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ждународного пакта об экономических, социальных и культурных права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татьях 28 и 29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венции о правах ребёнк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 статье 2 Первого протокола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Европейской Конвенции о защите прав человека и основных свобод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креплено в статье 43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ституции Росс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31-3"/>
          <p:cNvPicPr/>
          <p:nvPr/>
        </p:nvPicPr>
        <p:blipFill>
          <a:blip r:embed="rId1"/>
          <a:stretch/>
        </p:blipFill>
        <p:spPr>
          <a:xfrm>
            <a:off x="395280" y="620640"/>
            <a:ext cx="8280360" cy="58327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2" descr="послевузовское образование.jpg"/>
          <p:cNvPicPr/>
          <p:nvPr/>
        </p:nvPicPr>
        <p:blipFill>
          <a:blip r:embed="rId1"/>
          <a:stretch/>
        </p:blipFill>
        <p:spPr>
          <a:xfrm>
            <a:off x="826920" y="907920"/>
            <a:ext cx="7705800" cy="46087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Содержимое 4" descr="Гранты на обрахование.jpg"/>
          <p:cNvPicPr/>
          <p:nvPr/>
        </p:nvPicPr>
        <p:blipFill>
          <a:blip r:embed="rId1"/>
          <a:stretch/>
        </p:blipFill>
        <p:spPr>
          <a:xfrm>
            <a:off x="914400" y="274680"/>
            <a:ext cx="7315200" cy="58514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гие типы учрежд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ополнительного образования взросл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(коррекционные) учреждения для обучающихся, воспитанников с ограниченными возможностям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рекционная школа по ви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реждения для детей-сирот и детей, оставшихся без попечения родителей (законных представителе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кола-интер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тский дом семейного тип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ая шк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детский корп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ебно-производственный межшкольный комби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31-2"/>
          <p:cNvPicPr/>
          <p:nvPr/>
        </p:nvPicPr>
        <p:blipFill>
          <a:blip r:embed="rId1"/>
          <a:stretch/>
        </p:blipFill>
        <p:spPr>
          <a:xfrm>
            <a:off x="611280" y="620640"/>
            <a:ext cx="8064360" cy="554508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2" descr=""/>
          <p:cNvPicPr/>
          <p:nvPr/>
        </p:nvPicPr>
        <p:blipFill>
          <a:blip r:embed="rId1"/>
          <a:stretch/>
        </p:blipFill>
        <p:spPr>
          <a:xfrm>
            <a:off x="633240" y="2487600"/>
            <a:ext cx="7877520" cy="14018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гласно ст. 43 Конституции РФ, каждый имеет право на образова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411280" y="1557360"/>
            <a:ext cx="67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понятием «каждый» подразумевается любой человек, независимо от пола, расы, национальности, языка, происхождения, места жительства, отношения к религии, убеждений, принадлежности к общественным организациям, возраста, состояния здоровья, социального, имущественного и должностного положения, наличия суд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арантируются общедоступность и бесплатность дошкольного, основного общего и среднего профессионального образования в государственных или муниципальных образовательных учреждениях и на предприятия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ый вправе на конкурсной основе бесплатно получить высшее образование в государственном или муниципальном образовательном учреждении и на предприятии. Основное общее образование обязательно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064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     </a:t>
            </a: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3" descr="Конституция РФ.jpg"/>
          <p:cNvPicPr/>
          <p:nvPr/>
        </p:nvPicPr>
        <p:blipFill>
          <a:blip r:embed="rId1"/>
          <a:stretch/>
        </p:blipFill>
        <p:spPr>
          <a:xfrm>
            <a:off x="324000" y="2060640"/>
            <a:ext cx="1944360" cy="3375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771640" y="836280"/>
            <a:ext cx="590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образованием подразумевается процесс развития и саморазвития личности, связанный с овладением социально значимым опытом человечества, воплощенным в знаниях, умениях, творческой деятельности и эмоционально-ценностном отношении к миру; необходимое условие сохранения и развития материальной и духовной культуры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гласно преамбуле Закона РФ от 10 июля 1992 г. «Об образовании», образование представляет собой целенаправленный процесс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3" descr="З Об образовании.jpg"/>
          <p:cNvPicPr/>
          <p:nvPr/>
        </p:nvPicPr>
        <p:blipFill>
          <a:blip r:embed="rId1"/>
          <a:stretch/>
        </p:blipFill>
        <p:spPr>
          <a:xfrm>
            <a:off x="179280" y="1125360"/>
            <a:ext cx="2376720" cy="42469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оспита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создание условий для развития и саморазвития человека, освоения им социального опыта, культуры, ценностей и норм общества. В воспитании взаимодействуют личность, семья, социальные институ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учение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— процесс передачи и усвоения знаний, умений, навыков деятельности, основное средство подготовки человека к жизни и тру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Формы получения образ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йской Федерации с учётом потребностей и возможностей личности образовательные программы осваиваются в следующих формах: в образовательном учреждении — в форме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очно-заочной (вечерней)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заочн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в форме семейного образования (с 1992г.), самообразования,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экстерн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оследние годы интенсивно развивается </a:t>
            </a:r>
            <a:r>
              <a:rPr b="1" lang="ru-RU" sz="3200" spc="-1" strike="noStrike" u="sng">
                <a:solidFill>
                  <a:srgbClr val="006600"/>
                </a:solidFill>
                <a:uFillTx/>
                <a:latin typeface="Arial"/>
              </a:rPr>
              <a:t>дистанционное образование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пускается сочетание различных форм получения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Содержимое 2" descr="образование.png"/>
          <p:cNvPicPr/>
          <p:nvPr/>
        </p:nvPicPr>
        <p:blipFill>
          <a:blip r:embed="rId1"/>
          <a:stretch/>
        </p:blipFill>
        <p:spPr>
          <a:xfrm>
            <a:off x="0" y="476280"/>
            <a:ext cx="3816360" cy="5564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Саморазвитие личности.jpg"/>
          <p:cNvPicPr/>
          <p:nvPr/>
        </p:nvPicPr>
        <p:blipFill>
          <a:blip r:embed="rId2"/>
          <a:stretch/>
        </p:blipFill>
        <p:spPr>
          <a:xfrm>
            <a:off x="3924360" y="476280"/>
            <a:ext cx="4680000" cy="5832360"/>
          </a:xfrm>
          <a:prstGeom prst="rect">
            <a:avLst/>
          </a:prstGeom>
          <a:ln w="9360">
            <a:solidFill>
              <a:srgbClr val="19893c"/>
            </a:solidFill>
            <a:miter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Типы образовательных учреждений в Российской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d5008"/>
                </a:solidFill>
                <a:uFillTx/>
                <a:latin typeface="Arial"/>
              </a:rPr>
              <a:t>Дошкольные учреж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едшко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я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етский с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Детский сад.jpg"/>
          <p:cNvPicPr/>
          <p:nvPr/>
        </p:nvPicPr>
        <p:blipFill>
          <a:blip r:embed="rId1"/>
          <a:stretch/>
        </p:blipFill>
        <p:spPr>
          <a:xfrm>
            <a:off x="3635280" y="2205000"/>
            <a:ext cx="4969080" cy="3888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Общее образование</a:t>
            </a:r>
            <a:br>
              <a:rPr sz="4000"/>
            </a:br>
            <a:r>
              <a:rPr b="1" i="1" lang="ru-RU" sz="4000" spc="-1" strike="noStrike">
                <a:solidFill>
                  <a:srgbClr val="0d5008"/>
                </a:solidFill>
                <a:latin typeface="Arial"/>
              </a:rPr>
              <a:t> включает в себя три ступен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чальное образование —  с 1 по 4 клас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основное  общее образование —  с 5 по 9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18576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"/>
              <a:tabLst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среднее (полное) общее образование —10 и 11 класс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йчас продолжительность обучения в средней школе составляет 11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5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ятельность современных общеобразовательных учреждений регулируется Типовым положением об общеобразовательном учреждении, принятом постановлением Правительства России от 19 марта 2001 г., и Типовым положением о вечернем (сменном) общеобразовательном учреждении, положением об общеобразовательном учреждении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6:14:59Z</dcterms:created>
  <dc:creator>www.PHILka.RU</dc:creator>
  <dc:description/>
  <dc:language>en-US</dc:language>
  <cp:lastModifiedBy>LEGION</cp:lastModifiedBy>
  <dcterms:modified xsi:type="dcterms:W3CDTF">2015-01-28T11:40:35Z</dcterms:modified>
  <cp:revision>29</cp:revision>
  <dc:subject/>
  <dc:title>Тема урока: «Право на образование»</dc:title>
</cp:coreProperties>
</file>