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20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23BFA-3D8F-4CAF-8344-C80DE0C388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9893c"/>
                </a:solidFill>
                <a:latin typeface="Calibri"/>
              </a:rPr>
              <a:t>Тема урока: </a:t>
            </a:r>
            <a:br>
              <a:rPr sz="1200"/>
            </a:br>
            <a:r>
              <a:rPr b="1" i="1" lang="ru-RU" sz="1200" spc="-1" strike="noStrike">
                <a:solidFill>
                  <a:srgbClr val="19893c"/>
                </a:solidFill>
                <a:latin typeface="Calibri"/>
              </a:rPr>
              <a:t>«Право на образовани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9893c"/>
                </a:solidFill>
                <a:latin typeface="Calibri"/>
              </a:rPr>
              <a:t>Домой: </a:t>
            </a:r>
            <a:r>
              <a:rPr b="1" lang="en-US" sz="1600" spc="-1" strike="noStrike">
                <a:solidFill>
                  <a:srgbClr val="19893c"/>
                </a:solidFill>
                <a:latin typeface="Calibri"/>
                <a:ea typeface="Arial"/>
              </a:rPr>
              <a:t>§</a:t>
            </a:r>
            <a:r>
              <a:rPr b="1" lang="ru-RU" sz="1600" spc="-1" strike="noStrike">
                <a:solidFill>
                  <a:srgbClr val="19893c"/>
                </a:solidFill>
                <a:latin typeface="Calibri"/>
                <a:ea typeface="Arial"/>
              </a:rPr>
              <a:t> 47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81A24-B3EA-43AF-AFD9-2B9201A809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11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 u="sng">
                <a:solidFill>
                  <a:srgbClr val="006600"/>
                </a:solidFill>
                <a:uFillTx/>
                <a:latin typeface="Calibri"/>
              </a:rPr>
              <a:t>Общеобразовательные учреждения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d0d0d"/>
                </a:solidFill>
                <a:latin typeface="Calibri"/>
              </a:rPr>
              <a:t>учреждения начального общего образов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38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c00000"/>
                </a:solidFill>
                <a:uFillTx/>
                <a:latin typeface="Calibri"/>
              </a:rPr>
              <a:t>начальная школ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чреждения основного общего образов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38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c00000"/>
                </a:solidFill>
                <a:uFillTx/>
                <a:latin typeface="Calibri"/>
              </a:rPr>
              <a:t>школ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38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c00000"/>
                </a:solidFill>
                <a:uFillTx/>
                <a:latin typeface="Calibri"/>
              </a:rPr>
              <a:t>гимназия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38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c00000"/>
                </a:solidFill>
                <a:latin typeface="Calibri"/>
              </a:rPr>
              <a:t>национальная </a:t>
            </a:r>
            <a:r>
              <a:rPr b="0" lang="ru-RU" sz="1700" spc="-1" strike="noStrike" u="sng">
                <a:solidFill>
                  <a:srgbClr val="c00000"/>
                </a:solidFill>
                <a:uFillTx/>
                <a:latin typeface="Calibri"/>
              </a:rPr>
              <a:t>гимназия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38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c00000"/>
                </a:solidFill>
                <a:uFillTx/>
                <a:latin typeface="Calibri"/>
              </a:rPr>
              <a:t>лицей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38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c00000"/>
                </a:solidFill>
                <a:uFillTx/>
                <a:latin typeface="Calibri"/>
              </a:rPr>
              <a:t>учебно-воспитательный комплекс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38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c00000"/>
                </a:solidFill>
                <a:uFillTx/>
                <a:latin typeface="Calibri"/>
              </a:rPr>
              <a:t>Экстернат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46A6D-2077-4F41-848A-C70D59251B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реждения среднего (полного) общего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школа с углубленным изучением предме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профильная шко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CB8E0-8DF6-4829-B77B-83B1A1BDF1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сновное общее образование обязательно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дители или лица, их заменяющие, обеспечивают получение детьми основного общего образ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я устанавливает федеральные государственные образовательные стандарты, поддерживает различные формы образования и самообраз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E0C30-079F-4F71-9A55-308F6E5789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России устанавливаются следующие уровни профессионального  образов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чальное профессионально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ние;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реднее профессионально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сшее профессионально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ние;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слевузовское профессионально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6C36E-C51C-4E70-B118-86A7D1802F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6600"/>
                </a:solidFill>
                <a:uFillTx/>
                <a:latin typeface="Calibri"/>
              </a:rPr>
              <a:t>Учреждения профессионального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реждения начального профессионального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ПТ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профессиональный лиц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технический лиц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реждения среднего профессионального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коллед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технику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6BDE5-6966-4F1D-B0BA-9A711E4CEA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реждения высшего профессионального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академ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институ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университ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федеральный университ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реждения послевузовского профессионального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институт повышения квалификации по отрасл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A48BF-F9D1-4837-8FF3-93BBBDF364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d5008"/>
                </a:solidFill>
                <a:latin typeface="Calibri"/>
              </a:rPr>
              <a:t>Нормативная осно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образование продекларировано в статье 26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сеобщей декларации прав челове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закреплено в статьях 13 и 14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Международного пакта об экономических, социальных и культурных права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статьях 28 и 29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онвенции о правах ребён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в статье 2 Первого протокола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Европейской Конвенции о защите прав человека и основных свобод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Закреплено в статье 43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онституции Росс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BF2E2-F448-4CFE-97E2-DE182540DB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ругие типы учрежд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реждения дополнительного образования дет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реждения дополнительного образования взрослы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пециальные (коррекционные) учреждения для обучающихся, воспитанников с ограниченными возможностями здоровь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ррекционная школа по вид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реждения для детей-сирот и детей, оставшихся без попечения родителей (законных представителей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школа-интерна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етский д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етский дом семейного тип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детская шко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детский корпу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ебно-производственный межшкольный комбина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9A0E6-1960-4C06-AF2F-BA7273FD5C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гласно ст. 43 Конституции РФ, каждый имеет право на образован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д понятием «каждый» подразумевается любой человек, независимо от пола, расы, национальности, языка, происхождения, места жительства, отношения к религии, убеждений, принадлежности к общественным организациям, возраста, состояния здоровья, социального, имущественного и должностного положения, наличия судим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арантируются общедоступность и бесплатность дошкольного, основного общего и среднего профессионального образования в государственных или муниципальных образовательных учреждениях и на предприятия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ждый вправе на конкурсной основе бесплатно получить высшее образование в государственном или муниципальном образовательном учреждении и на предприятии. Основное общее образование обязательно.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     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2F792-7EA1-407C-942B-69E0414398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д образованием подразумевается процесс развития и саморазвития личности, связанный с овладением социально значимым опытом человечества, воплощенным в знаниях, умениях, творческой деятельности и эмоционально-ценностном отношении к миру; необходимое условие сохранения и развития материальной и духовной культуры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гласно преамбуле Закона РФ от 10 июля 1992 г. «Об образовании», образование представляет собой целенаправленный процесс обучения и воспит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798B3-E9BC-47A0-A7D8-964A385527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оспитание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— создание условий для развития и саморазвития человека, освоения им социального опыта, культуры, ценностей и норм общества. В воспитании взаимодействуют личность, семья, социальные институт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бучение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— процесс передачи и усвоения знаний, умений, навыков деятельности, основное средство подготовки человека к жизни и тру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04629-FAA1-410E-B841-C07B46FA68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00"/>
                </a:solidFill>
                <a:latin typeface="Calibri"/>
              </a:rPr>
              <a:t>Формы получения образова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оссийской Федерации с учётом потребностей и возможностей личности образовательные программы осваиваются в следующих формах: в образовательном учреждении — в форме </a:t>
            </a:r>
            <a:r>
              <a:rPr b="1" lang="ru-RU" sz="1200" spc="-1" strike="noStrike" u="sng">
                <a:solidFill>
                  <a:srgbClr val="006600"/>
                </a:solidFill>
                <a:uFillTx/>
                <a:latin typeface="Calibri"/>
              </a:rPr>
              <a:t>очн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очно-заочной (вечерней), </a:t>
            </a:r>
            <a:r>
              <a:rPr b="1" lang="ru-RU" sz="1200" spc="-1" strike="noStrike" u="sng">
                <a:solidFill>
                  <a:srgbClr val="006600"/>
                </a:solidFill>
                <a:uFillTx/>
                <a:latin typeface="Calibri"/>
              </a:rPr>
              <a:t>заочн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в форме семейного образования (с 1992г.), самообразования, </a:t>
            </a:r>
            <a:r>
              <a:rPr b="1" lang="ru-RU" sz="1200" spc="-1" strike="noStrike" u="sng">
                <a:solidFill>
                  <a:srgbClr val="006600"/>
                </a:solidFill>
                <a:uFillTx/>
                <a:latin typeface="Calibri"/>
              </a:rPr>
              <a:t>экстерна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оследние годы интенсивно развивается </a:t>
            </a:r>
            <a:r>
              <a:rPr b="1" lang="ru-RU" sz="1200" spc="-1" strike="noStrike" u="sng">
                <a:solidFill>
                  <a:srgbClr val="006600"/>
                </a:solidFill>
                <a:uFillTx/>
                <a:latin typeface="Calibri"/>
              </a:rPr>
              <a:t>дистанционное образование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пускается сочетание различных форм получения обра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C8C23-A75B-4134-B0E7-EBC64E6711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Типы образовательных учреждений в 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 u="sng">
                <a:solidFill>
                  <a:srgbClr val="0d5008"/>
                </a:solidFill>
                <a:uFillTx/>
                <a:latin typeface="Calibri"/>
              </a:rPr>
              <a:t>Дошкольные учре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предшко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яс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детский с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D2AD0-45FA-40C8-9DA3-9427167B85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d5008"/>
                </a:solidFill>
                <a:latin typeface="Calibri"/>
              </a:rPr>
              <a:t>Общее образование</a:t>
            </a:r>
            <a:br>
              <a:rPr sz="2000"/>
            </a:br>
            <a:r>
              <a:rPr b="1" i="1" lang="ru-RU" sz="2000" spc="-1" strike="noStrike">
                <a:solidFill>
                  <a:srgbClr val="0d5008"/>
                </a:solidFill>
                <a:latin typeface="Calibri"/>
              </a:rPr>
              <a:t> включает в себя три ступени: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начальное образование —  с 1 по 4 класс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основное  общее образование —  с 5 по 9 клас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среднее (полное) общее образование —10 и 11 классы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йчас продолжительность обучения в средней школе составляет 11 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современных общеобразовательных учреждений регулируется Типовым положением об общеобразовательном учреждении, принятом постановлением Правительства России от 19 марта 2001 г., и Типовым положением о вечернем (сменном) общеобразовательном учреждении, положением об общеобразовательном учреждении.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F7F34-BB36-47B4-A47E-4B16C5F7FC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66EF-A672-456A-836B-BB8066C74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2CFB-1865-4CB4-AC21-7084A371F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6C72-A5BF-42C2-9BCA-B1C9EAD8A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A1DE-26E2-4BCD-BFD6-9824ADADD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4054-3500-48A8-BE00-8CB04EA6F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8ADD-85CA-4E8B-B04E-29C153E4A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8710-8B26-4F29-AA64-263E5C5CB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B548-A625-460B-BBE9-8684D03F9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FD67-D87D-43F5-A8D5-60A3BA390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D741-5289-48BB-A1C3-B3BEF50A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4985-8713-4028-AB98-89BC784BC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5BC8-1329-4C5F-AB4B-053B85B25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abc"/>
            </a:gs>
            <a:gs pos="100000">
              <a:srgbClr val="c0e89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CC526-6E30-473A-9DE5-EA06C1A372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2565360"/>
            <a:ext cx="7772400" cy="1470240"/>
          </a:xfrm>
          <a:prstGeom prst="rect">
            <a:avLst/>
          </a:prstGeom>
          <a:noFill/>
          <a:ln w="9360">
            <a:solidFill>
              <a:srgbClr val="0d500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9893c"/>
                </a:solidFill>
                <a:latin typeface="Arial"/>
              </a:rPr>
              <a:t>Тема урока: </a:t>
            </a:r>
            <a:br>
              <a:rPr sz="4400"/>
            </a:br>
            <a:r>
              <a:rPr b="1" i="1" lang="ru-RU" sz="4400" spc="-1" strike="noStrike">
                <a:solidFill>
                  <a:srgbClr val="19893c"/>
                </a:solidFill>
                <a:latin typeface="Arial"/>
              </a:rPr>
              <a:t>«Право на образовани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76360" y="4437000"/>
            <a:ext cx="6369120" cy="935280"/>
          </a:xfrm>
          <a:prstGeom prst="rect">
            <a:avLst/>
          </a:prstGeom>
          <a:gradFill rotWithShape="0">
            <a:gsLst>
              <a:gs pos="0">
                <a:srgbClr val="efefaf"/>
              </a:gs>
              <a:gs pos="100000">
                <a:srgbClr val="a3ffa3"/>
              </a:gs>
            </a:gsLst>
            <a:lin ang="5400000"/>
          </a:gradFill>
          <a:ln w="9360">
            <a:solidFill>
              <a:srgbClr val="0d5008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9893c"/>
                </a:solidFill>
                <a:latin typeface="Arial"/>
              </a:rPr>
              <a:t>Домой: </a:t>
            </a:r>
            <a:r>
              <a:rPr b="1" lang="en-US" sz="4000" spc="-1" strike="noStrike">
                <a:solidFill>
                  <a:srgbClr val="19893c"/>
                </a:solidFill>
                <a:latin typeface="Arial"/>
                <a:ea typeface="Arial"/>
              </a:rPr>
              <a:t>§</a:t>
            </a:r>
            <a:r>
              <a:rPr b="1" lang="ru-RU" sz="4000" spc="-1" strike="noStrike">
                <a:solidFill>
                  <a:srgbClr val="19893c"/>
                </a:solidFill>
                <a:latin typeface="Arial"/>
                <a:ea typeface="Arial"/>
              </a:rPr>
              <a:t> 4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3276720" y="5445000"/>
            <a:ext cx="31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. Л.Н. Боголюб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" descr="i"/>
          <p:cNvPicPr/>
          <p:nvPr/>
        </p:nvPicPr>
        <p:blipFill>
          <a:blip r:embed="rId1"/>
          <a:stretch/>
        </p:blipFill>
        <p:spPr>
          <a:xfrm>
            <a:off x="5724360" y="404640"/>
            <a:ext cx="2376720" cy="1729080"/>
          </a:xfrm>
          <a:prstGeom prst="rect">
            <a:avLst/>
          </a:prstGeom>
          <a:ln w="9360">
            <a:solidFill>
              <a:srgbClr val="0d5008"/>
            </a:solidFill>
            <a:miter/>
          </a:ln>
        </p:spPr>
      </p:pic>
      <p:pic>
        <p:nvPicPr>
          <p:cNvPr id="52" name="Picture 11" descr="33 Турнир иени Лосоносова"/>
          <p:cNvPicPr/>
          <p:nvPr/>
        </p:nvPicPr>
        <p:blipFill>
          <a:blip r:embed="rId2"/>
          <a:stretch/>
        </p:blipFill>
        <p:spPr>
          <a:xfrm>
            <a:off x="971640" y="333360"/>
            <a:ext cx="2087640" cy="1916280"/>
          </a:xfrm>
          <a:prstGeom prst="rect">
            <a:avLst/>
          </a:prstGeom>
          <a:ln w="9360">
            <a:solidFill>
              <a:srgbClr val="0d5008"/>
            </a:solidFill>
            <a:miter/>
          </a:ln>
        </p:spPr>
      </p:pic>
      <p:sp>
        <p:nvSpPr>
          <p:cNvPr id="53" name="Text Box 12"/>
          <p:cNvSpPr/>
          <p:nvPr/>
        </p:nvSpPr>
        <p:spPr>
          <a:xfrm>
            <a:off x="2571840" y="602136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d5008"/>
                </a:solidFill>
                <a:latin typeface="Arial"/>
              </a:rPr>
              <a:t>Учитель: Руденко Н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6600"/>
                </a:solidFill>
                <a:uFillTx/>
                <a:latin typeface="Arial"/>
              </a:rPr>
              <a:t>Общеобразовательные учреж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d0d0d"/>
                </a:solidFill>
                <a:latin typeface="Arial"/>
              </a:rPr>
              <a:t>учреждения начального общего обра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начальная шк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реждения основного общего обра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шк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гимназ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национальная </a:t>
            </a:r>
            <a:r>
              <a:rPr b="0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гимназ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лиц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учебно-воспитательный комплек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Экстерн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2" descr="начальная школа.jpg"/>
          <p:cNvPicPr/>
          <p:nvPr/>
        </p:nvPicPr>
        <p:blipFill>
          <a:blip r:embed="rId1"/>
          <a:stretch/>
        </p:blipFill>
        <p:spPr>
          <a:xfrm>
            <a:off x="5867280" y="3573360"/>
            <a:ext cx="3025800" cy="294480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реждения среднего (полного) общего 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школа с углубленным изучением предме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профильная шк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Рисунок 2" descr="шк. с у.jpg"/>
          <p:cNvPicPr/>
          <p:nvPr/>
        </p:nvPicPr>
        <p:blipFill>
          <a:blip r:embed="rId1"/>
          <a:stretch/>
        </p:blipFill>
        <p:spPr>
          <a:xfrm>
            <a:off x="4859280" y="2205000"/>
            <a:ext cx="3889440" cy="291312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3" descr="Школа с угл.jpg"/>
          <p:cNvPicPr/>
          <p:nvPr/>
        </p:nvPicPr>
        <p:blipFill>
          <a:blip r:embed="rId2"/>
          <a:stretch/>
        </p:blipFill>
        <p:spPr>
          <a:xfrm>
            <a:off x="468360" y="3789360"/>
            <a:ext cx="4279680" cy="254304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сновное общее образование обязательно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708360" y="1599840"/>
            <a:ext cx="51847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дители или лица, их заменяющие, обеспечивают получение детьми основного общего образов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ссия устанавливает федеральные государственные образовательные стандарты, поддерживает различные формы образования и самообразов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Рисунок 4" descr="школа.jpg"/>
          <p:cNvPicPr/>
          <p:nvPr/>
        </p:nvPicPr>
        <p:blipFill>
          <a:blip r:embed="rId1"/>
          <a:stretch/>
        </p:blipFill>
        <p:spPr>
          <a:xfrm>
            <a:off x="395280" y="2133720"/>
            <a:ext cx="3240000" cy="374328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gradFill rotWithShape="0">
            <a:gsLst>
              <a:gs pos="0">
                <a:srgbClr val="f9fabc"/>
              </a:gs>
              <a:gs pos="100000">
                <a:srgbClr val="ccffcc"/>
              </a:gs>
            </a:gsLst>
            <a:lin ang="5400000"/>
          </a:gradFill>
          <a:ln w="9360">
            <a:solidFill>
              <a:srgbClr val="5600a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России устанавливаются следующие уровни профессионального  образов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6840" y="1700280"/>
            <a:ext cx="814716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чальное профессиональное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ование;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реднее профессиональное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ова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сшее профессиональное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ование;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слевузовское профессиональное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о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6600"/>
                </a:solidFill>
                <a:uFillTx/>
                <a:latin typeface="Arial"/>
              </a:rPr>
              <a:t>Учреждения профессионального 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реждения начального профессионального 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П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профессиональный лиц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технический лиц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реждения среднего профессионального 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коллед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технику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Содержимое 4" descr="профлбразование.jpg"/>
          <p:cNvPicPr/>
          <p:nvPr/>
        </p:nvPicPr>
        <p:blipFill>
          <a:blip r:embed="rId1"/>
          <a:stretch/>
        </p:blipFill>
        <p:spPr>
          <a:xfrm>
            <a:off x="1604880" y="1230480"/>
            <a:ext cx="5934240" cy="393984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Содержимое 2" descr="ПТУ.jpg"/>
          <p:cNvPicPr/>
          <p:nvPr/>
        </p:nvPicPr>
        <p:blipFill>
          <a:blip r:embed="rId1"/>
          <a:stretch/>
        </p:blipFill>
        <p:spPr>
          <a:xfrm>
            <a:off x="1523880" y="91440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реждения высшего профессионального 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академ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инстит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университ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федеральный университ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реждения послевузовского профессионального 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институт повышения квалификации по отрасл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Содержимое 2" descr="Лекция.jpg"/>
          <p:cNvPicPr/>
          <p:nvPr/>
        </p:nvPicPr>
        <p:blipFill>
          <a:blip r:embed="rId1"/>
          <a:stretch/>
        </p:blipFill>
        <p:spPr>
          <a:xfrm>
            <a:off x="539640" y="404640"/>
            <a:ext cx="7993080" cy="590400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Содержимое 2" descr="Об образовании.jpg"/>
          <p:cNvPicPr/>
          <p:nvPr/>
        </p:nvPicPr>
        <p:blipFill>
          <a:blip r:embed="rId1"/>
          <a:stretch/>
        </p:blipFill>
        <p:spPr>
          <a:xfrm>
            <a:off x="1047600" y="874800"/>
            <a:ext cx="7048800" cy="465120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d5008"/>
                </a:solidFill>
                <a:latin typeface="Arial"/>
              </a:rPr>
              <a:t>Нормативная основ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во на образование продекларировано в статье 26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сеобщей декларации прав челове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закреплено в статьях 13 и 14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Международного пакта об экономических, социальных и культурных права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статьях 28 и 29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Конвенции о правах ребён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в статье 2 Первого протокола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Европейской Конвенции о защите прав человека и основных свобод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Закреплено в статье 43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Конституции Росс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31-3"/>
          <p:cNvPicPr/>
          <p:nvPr/>
        </p:nvPicPr>
        <p:blipFill>
          <a:blip r:embed="rId1"/>
          <a:stretch/>
        </p:blipFill>
        <p:spPr>
          <a:xfrm>
            <a:off x="395280" y="620640"/>
            <a:ext cx="8280360" cy="583272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Содержимое 2" descr="послевузовское образование.jpg"/>
          <p:cNvPicPr/>
          <p:nvPr/>
        </p:nvPicPr>
        <p:blipFill>
          <a:blip r:embed="rId1"/>
          <a:stretch/>
        </p:blipFill>
        <p:spPr>
          <a:xfrm>
            <a:off x="826920" y="907920"/>
            <a:ext cx="7705800" cy="460872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Содержимое 4" descr="Гранты на обрахование.jpg"/>
          <p:cNvPicPr/>
          <p:nvPr/>
        </p:nvPicPr>
        <p:blipFill>
          <a:blip r:embed="rId1"/>
          <a:stretch/>
        </p:blipFill>
        <p:spPr>
          <a:xfrm>
            <a:off x="914400" y="274680"/>
            <a:ext cx="7315200" cy="585144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ругие типы учрежд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реждения дополнительного образования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реждения дополнительного образования взросл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ециальные (коррекционные) учреждения для обучающихся, воспитанников с ограниченными возможностями здоровь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ррекционная школа по вид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реждения для детей-сирот и детей, оставшихся без попечения родителей (законных представителей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кола-интерн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тский д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тский дом семейного тип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детская шко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детский корпу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ебно-производственный межшкольный комбин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31-2"/>
          <p:cNvPicPr/>
          <p:nvPr/>
        </p:nvPicPr>
        <p:blipFill>
          <a:blip r:embed="rId1"/>
          <a:stretch/>
        </p:blipFill>
        <p:spPr>
          <a:xfrm>
            <a:off x="611280" y="620640"/>
            <a:ext cx="8064360" cy="554508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Прямоугольник 2" descr=""/>
          <p:cNvPicPr/>
          <p:nvPr/>
        </p:nvPicPr>
        <p:blipFill>
          <a:blip r:embed="rId1"/>
          <a:stretch/>
        </p:blipFill>
        <p:spPr>
          <a:xfrm>
            <a:off x="633240" y="2487600"/>
            <a:ext cx="7877520" cy="140184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гласно ст. 43 Конституции РФ, каждый имеет право на образова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411280" y="1557360"/>
            <a:ext cx="673272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2606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 понятием «каждый» подразумевается любой человек, независимо от пола, расы, национальности, языка, происхождения, места жительства, отношения к религии, убеждений, принадлежности к общественным организациям, возраста, состояния здоровья, социального, имущественного и должностного положения, наличия судим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606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арантируются общедоступность и бесплатность дошкольного, основного общего и среднего профессионального образования в государственных или муниципальных образовательных учреждениях и на предприятия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6064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ждый вправе на конкурсной основе бесплатно получить высшее образование в государственном или муниципальном образовательном учреждении и на предприятии. Основное общее образование обязательно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6064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     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3" descr="Конституция РФ.jpg"/>
          <p:cNvPicPr/>
          <p:nvPr/>
        </p:nvPicPr>
        <p:blipFill>
          <a:blip r:embed="rId1"/>
          <a:stretch/>
        </p:blipFill>
        <p:spPr>
          <a:xfrm>
            <a:off x="324000" y="2060640"/>
            <a:ext cx="1944360" cy="337500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2771640" y="836280"/>
            <a:ext cx="5904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 образованием подразумевается процесс развития и саморазвития личности, связанный с овладением социально значимым опытом человечества, воплощенным в знаниях, умениях, творческой деятельности и эмоционально-ценностном отношении к миру; необходимое условие сохранения и развития материальной и духовной культуры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гласно преамбуле Закона РФ от 10 июля 1992 г. «Об образовании», образование представляет собой целенаправленный процесс обучения и воспит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3" descr="З Об образовании.jpg"/>
          <p:cNvPicPr/>
          <p:nvPr/>
        </p:nvPicPr>
        <p:blipFill>
          <a:blip r:embed="rId1"/>
          <a:stretch/>
        </p:blipFill>
        <p:spPr>
          <a:xfrm>
            <a:off x="179280" y="1125360"/>
            <a:ext cx="2376720" cy="424692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Воспитани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— создание условий для развития и саморазвития человека, освоения им социального опыта, культуры, ценностей и норм общества. В воспитании взаимодействуют личность, семья, социальные институт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Обучени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— процесс передачи и усвоения знаний, умений, навыков деятельности, основное средство подготовки человека к жизни и тру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Формы получения образ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оссийской Федерации с учётом потребностей и возможностей личности образовательные программы осваиваются в следующих формах: в образовательном учреждении — в форме </a:t>
            </a:r>
            <a:r>
              <a:rPr b="1" lang="ru-RU" sz="3200" spc="-1" strike="noStrike" u="sng">
                <a:solidFill>
                  <a:srgbClr val="006600"/>
                </a:solidFill>
                <a:uFillTx/>
                <a:latin typeface="Arial"/>
              </a:rPr>
              <a:t>очно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очно-заочной (вечерней), </a:t>
            </a:r>
            <a:r>
              <a:rPr b="1" lang="ru-RU" sz="3200" spc="-1" strike="noStrike" u="sng">
                <a:solidFill>
                  <a:srgbClr val="006600"/>
                </a:solidFill>
                <a:uFillTx/>
                <a:latin typeface="Arial"/>
              </a:rPr>
              <a:t>заочно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 в форме семейного образования (с 1992г.), самообразования, </a:t>
            </a:r>
            <a:r>
              <a:rPr b="1" lang="ru-RU" sz="3200" spc="-1" strike="noStrike" u="sng">
                <a:solidFill>
                  <a:srgbClr val="006600"/>
                </a:solidFill>
                <a:uFillTx/>
                <a:latin typeface="Arial"/>
              </a:rPr>
              <a:t>экстерна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последние годы интенсивно развивается </a:t>
            </a:r>
            <a:r>
              <a:rPr b="1" lang="ru-RU" sz="3200" spc="-1" strike="noStrike" u="sng">
                <a:solidFill>
                  <a:srgbClr val="006600"/>
                </a:solidFill>
                <a:uFillTx/>
                <a:latin typeface="Arial"/>
              </a:rPr>
              <a:t>дистанционное образование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пускается сочетание различных форм получения образо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Содержимое 2" descr="образование.png"/>
          <p:cNvPicPr/>
          <p:nvPr/>
        </p:nvPicPr>
        <p:blipFill>
          <a:blip r:embed="rId1"/>
          <a:stretch/>
        </p:blipFill>
        <p:spPr>
          <a:xfrm>
            <a:off x="0" y="476280"/>
            <a:ext cx="3816360" cy="556416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3" descr="Саморазвитие личности.jpg"/>
          <p:cNvPicPr/>
          <p:nvPr/>
        </p:nvPicPr>
        <p:blipFill>
          <a:blip r:embed="rId2"/>
          <a:stretch/>
        </p:blipFill>
        <p:spPr>
          <a:xfrm>
            <a:off x="3924360" y="476280"/>
            <a:ext cx="4680000" cy="5832360"/>
          </a:xfrm>
          <a:prstGeom prst="rect">
            <a:avLst/>
          </a:prstGeom>
          <a:ln w="9360">
            <a:solidFill>
              <a:srgbClr val="19893c"/>
            </a:solidFill>
            <a:miter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Типы образовательных учреждений в Российской Федер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 u="sng">
                <a:solidFill>
                  <a:srgbClr val="0d5008"/>
                </a:solidFill>
                <a:uFillTx/>
                <a:latin typeface="Arial"/>
              </a:rPr>
              <a:t>Дошкольные учреж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предшк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яс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детский с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2" descr="Детский сад.jpg"/>
          <p:cNvPicPr/>
          <p:nvPr/>
        </p:nvPicPr>
        <p:blipFill>
          <a:blip r:embed="rId1"/>
          <a:stretch/>
        </p:blipFill>
        <p:spPr>
          <a:xfrm>
            <a:off x="3635280" y="2205000"/>
            <a:ext cx="4969080" cy="388800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d5008"/>
                </a:solidFill>
                <a:latin typeface="Arial"/>
              </a:rPr>
              <a:t>Общее образование</a:t>
            </a:r>
            <a:br>
              <a:rPr sz="4000"/>
            </a:br>
            <a:r>
              <a:rPr b="1" i="1" lang="ru-RU" sz="4000" spc="-1" strike="noStrike">
                <a:solidFill>
                  <a:srgbClr val="0d5008"/>
                </a:solidFill>
                <a:latin typeface="Arial"/>
              </a:rPr>
              <a:t> включает в себя три ступени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8576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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начальное образование —  с 1 по 4 класс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576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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основное  общее образование —  с 5 по 9 клас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576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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среднее (полное) общее образование —10 и 11 классы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йчас продолжительность обучения в средней школе составляет 11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ятельность современных общеобразовательных учреждений регулируется Типовым положением об общеобразовательном учреждении, принятом постановлением Правительства России от 19 марта 2001 г., и Типовым положением о вечернем (сменном) общеобразовательном учреждении, положением об общеобразовательном учреждении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6:14:59Z</dcterms:created>
  <dc:creator>www.PHILka.RU</dc:creator>
  <dc:description/>
  <dc:language>en-US</dc:language>
  <cp:lastModifiedBy>LEGION</cp:lastModifiedBy>
  <dcterms:modified xsi:type="dcterms:W3CDTF">2015-01-28T11:40:35Z</dcterms:modified>
  <cp:revision>29</cp:revision>
  <dc:subject/>
  <dc:title>Тема урока: «Право на образование»</dc:title>
</cp:coreProperties>
</file>