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EF0A-47BB-4D82-BA10-6D8658DD3D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893c"/>
                </a:solidFill>
                <a:latin typeface="Calibri"/>
              </a:rPr>
              <a:t>Тема урока: </a:t>
            </a:r>
            <a:br>
              <a:rPr sz="1200"/>
            </a:br>
            <a:r>
              <a:rPr b="1" i="1" lang="ru-RU" sz="1200" spc="-1" strike="noStrike">
                <a:solidFill>
                  <a:srgbClr val="19893c"/>
                </a:solidFill>
                <a:latin typeface="Calibri"/>
              </a:rPr>
              <a:t>«Право на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893c"/>
                </a:solidFill>
                <a:latin typeface="Calibri"/>
              </a:rPr>
              <a:t>Домой: </a:t>
            </a:r>
            <a:r>
              <a:rPr b="1" lang="en-US" sz="1600" spc="-1" strike="noStrike">
                <a:solidFill>
                  <a:srgbClr val="19893c"/>
                </a:solidFill>
                <a:latin typeface="Calibri"/>
                <a:ea typeface="Arial"/>
              </a:rPr>
              <a:t>§</a:t>
            </a:r>
            <a:r>
              <a:rPr b="1" lang="ru-RU" sz="1600" spc="-1" strike="noStrike">
                <a:solidFill>
                  <a:srgbClr val="19893c"/>
                </a:solidFill>
                <a:latin typeface="Calibri"/>
                <a:ea typeface="Arial"/>
              </a:rPr>
              <a:t> 4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F39F-9E4B-4077-9B3E-BC3A7065C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6600"/>
                </a:solidFill>
                <a:uFillTx/>
                <a:latin typeface="Calibri"/>
              </a:rPr>
              <a:t>Общеобразовательные учрежд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учреждения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реждения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ациональная </a:t>
            </a: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лиц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учебно-воспитательный комп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Экстерн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8AD9-B810-4B55-A72F-C96A78D80D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(полного)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школа с углубленным изучением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и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BB95-3CB3-4DF5-921F-0404B5E4F7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общее образование обяза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9457-7476-4DB2-8EF1-89B0A9A9B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оссии устанавливаются следующие уровни профессионального  образ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н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вузовск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9A2D-E4C1-4EE5-AF33-8751CAE3A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Учреждени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начальн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ессиональны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чески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лле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4451-E58F-418D-BD43-DD51F90ED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высш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федеральный 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послевузовск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 повышения квалификации по отрас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AD75-99FB-402D-BCC8-8F393CD2E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5008"/>
                </a:solidFill>
                <a:latin typeface="Calibri"/>
              </a:rPr>
              <a:t>Нормативная ос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 продекларировано в статье 26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общей декларации прав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реплено в статьях 13 и 14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ого пакта об экономических, социальных и культурных пра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атьях 28 и 29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венции о правах ребё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статье 2 Первого протокол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вропейской Конвенции о защите прав человека и основных своб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еплено в статье 4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и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295C-C407-44AB-BF4D-69171D8DD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типы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0460-7B6E-467F-B10A-AA562EB58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ст. 43 Конституции РФ, каждый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   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72F9-03A8-46CB-A1DA-9AD756528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E0B2-5A44-4768-ACAC-45A7E80D4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6D9-8233-446B-8E06-D3714112F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Формы получения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чно-заочной (вечерней)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за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в форме семейного образования (с 1992г.), самообразования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экстер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интенсивно развивается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дистанционное образов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ется сочетание различных форм получения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1DB0-163A-4C1B-ADAB-4CBCC0467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Типы образовательных учреждений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 u="sng">
                <a:solidFill>
                  <a:srgbClr val="0d5008"/>
                </a:solidFill>
                <a:uFillTx/>
                <a:latin typeface="Calibri"/>
              </a:rPr>
              <a:t>Дошкольные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ед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4B9A-B1D0-430C-991B-06391524E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Общее образование</a:t>
            </a:r>
            <a:br>
              <a:rPr sz="2000"/>
            </a:b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 включает в себя три ступен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чальное образование —  с 1 по 4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основное  общее образование —  с 5 по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реднее (полное) общее образование —10 и 11 класс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одолжительность обучения в средней школе составляет 11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76DD-D8F3-44F9-A2D1-293CF61D0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9AC-C782-4F92-B7E5-DA65BF38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BA7-7809-4D52-A132-F588C072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734-2587-4AE0-909C-11E13A8F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EEB-4E15-4859-84C9-FE391E27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1A3-A4A7-4772-AC0E-A3E90E03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B7B-43F7-40A4-983F-FA54A22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79B-3DF7-40F4-A938-5738B331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306-3A5D-407F-87DB-1477F625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45C-E672-498A-ADD8-ABDC6462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5CD-9EF7-4269-80E4-F36A9070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CB8-7674-4349-ABFF-BA54B5E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72B-8009-4DC2-9A96-E0A64CF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abc"/>
            </a:gs>
            <a:gs pos="100000">
              <a:srgbClr val="c0e8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F9D6-8852-4119-ABBA-A4FA6CE35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9360">
            <a:solidFill>
              <a:srgbClr val="0d500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893c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19893c"/>
                </a:solidFill>
                <a:latin typeface="Arial"/>
              </a:rPr>
              <a:t>«Право на 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437000"/>
            <a:ext cx="6369120" cy="935280"/>
          </a:xfrm>
          <a:prstGeom prst="rect">
            <a:avLst/>
          </a:prstGeom>
          <a:gradFill rotWithShape="0">
            <a:gsLst>
              <a:gs pos="0">
                <a:srgbClr val="efefaf"/>
              </a:gs>
              <a:gs pos="100000">
                <a:srgbClr val="a3ffa3"/>
              </a:gs>
            </a:gsLst>
            <a:lin ang="5400000"/>
          </a:gradFill>
          <a:ln w="9360">
            <a:solidFill>
              <a:srgbClr val="0d500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893c"/>
                </a:solidFill>
                <a:latin typeface="Arial"/>
              </a:rPr>
              <a:t>Домой: </a:t>
            </a:r>
            <a:r>
              <a:rPr b="1" lang="en-US" sz="4000" spc="-1" strike="noStrike">
                <a:solidFill>
                  <a:srgbClr val="19893c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19893c"/>
                </a:solidFill>
                <a:latin typeface="Arial"/>
                <a:ea typeface="Arial"/>
              </a:rPr>
              <a:t>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76720" y="5445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. Л.Н. Боголюб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i"/>
          <p:cNvPicPr/>
          <p:nvPr/>
        </p:nvPicPr>
        <p:blipFill>
          <a:blip r:embed="rId1"/>
          <a:stretch/>
        </p:blipFill>
        <p:spPr>
          <a:xfrm>
            <a:off x="5724360" y="404640"/>
            <a:ext cx="2376720" cy="17290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pic>
        <p:nvPicPr>
          <p:cNvPr id="52" name="Picture 11" descr="33 Турнир иени Лосоносова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9162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2571840" y="6021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5008"/>
                </a:solidFill>
                <a:latin typeface="Arial"/>
              </a:rPr>
              <a:t>Учитель: Руденко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бще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чреждения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ждения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циональная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чебно-воспит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Экс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начальная школа.jpg"/>
          <p:cNvPicPr/>
          <p:nvPr/>
        </p:nvPicPr>
        <p:blipFill>
          <a:blip r:embed="rId1"/>
          <a:stretch/>
        </p:blipFill>
        <p:spPr>
          <a:xfrm>
            <a:off x="5867280" y="3573360"/>
            <a:ext cx="3025800" cy="29448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кола с углубленным изучение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и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шк. с у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Школа с угл.jpg"/>
          <p:cNvPicPr/>
          <p:nvPr/>
        </p:nvPicPr>
        <p:blipFill>
          <a:blip r:embed="rId2"/>
          <a:stretch/>
        </p:blipFill>
        <p:spPr>
          <a:xfrm>
            <a:off x="468360" y="3789360"/>
            <a:ext cx="42796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школа.jpg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f9fab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5600a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устанавливаются следующие уровни профессионального 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700280"/>
            <a:ext cx="8147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вузовск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Учреждения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началь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чески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профлбразование.jpg"/>
          <p:cNvPicPr/>
          <p:nvPr/>
        </p:nvPicPr>
        <p:blipFill>
          <a:blip r:embed="rId1"/>
          <a:stretch/>
        </p:blipFill>
        <p:spPr>
          <a:xfrm>
            <a:off x="1604880" y="1230480"/>
            <a:ext cx="5934240" cy="3939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ПТУ.jpg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едеральны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послевузовск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 повышения квалификации по отрас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2" descr="Лекция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Об образовании.jpg"/>
          <p:cNvPicPr/>
          <p:nvPr/>
        </p:nvPicPr>
        <p:blipFill>
          <a:blip r:embed="rId1"/>
          <a:stretch/>
        </p:blipFill>
        <p:spPr>
          <a:xfrm>
            <a:off x="1047600" y="874800"/>
            <a:ext cx="7048800" cy="46512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008"/>
                </a:solidFill>
                <a:latin typeface="Arial"/>
              </a:rPr>
              <a:t>Нормативная осн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бразование продекларировано в статье 26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общей декларации прав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реплено в статьях 13 и 14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го пакта об экономических, социальных и культурных 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тьях 28 и 29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венции о правах ребё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татье 2 Первого протокол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ейской Конвенции о защите прав человека и основных своб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реплено в статье 43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и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31-3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послевузовское образование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Гранты на обрахование.jpg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типы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1-2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877520" cy="140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ст. 43 Конституции РФ, каждый имеет право на 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 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Конституция РФ.jpg"/>
          <p:cNvPicPr/>
          <p:nvPr/>
        </p:nvPicPr>
        <p:blipFill>
          <a:blip r:embed="rId1"/>
          <a:stretch/>
        </p:blipFill>
        <p:spPr>
          <a:xfrm>
            <a:off x="324000" y="2060640"/>
            <a:ext cx="1944360" cy="3375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836280"/>
            <a:ext cx="59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З Об образовании.jpg"/>
          <p:cNvPicPr/>
          <p:nvPr/>
        </p:nvPicPr>
        <p:blipFill>
          <a:blip r:embed="rId1"/>
          <a:stretch/>
        </p:blipFill>
        <p:spPr>
          <a:xfrm>
            <a:off x="179280" y="1125360"/>
            <a:ext cx="2376720" cy="42469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Формы получения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чно-заочной (вечерней)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за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в форме семейного образования (с 1992г.), самообразования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экстер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интенсивно развивается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станционное образова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сочетание различных форм получе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образование.png"/>
          <p:cNvPicPr/>
          <p:nvPr/>
        </p:nvPicPr>
        <p:blipFill>
          <a:blip r:embed="rId1"/>
          <a:stretch/>
        </p:blipFill>
        <p:spPr>
          <a:xfrm>
            <a:off x="0" y="476280"/>
            <a:ext cx="381636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Саморазвитие личности.jpg"/>
          <p:cNvPicPr/>
          <p:nvPr/>
        </p:nvPicPr>
        <p:blipFill>
          <a:blip r:embed="rId2"/>
          <a:stretch/>
        </p:blipFill>
        <p:spPr>
          <a:xfrm>
            <a:off x="3924360" y="476280"/>
            <a:ext cx="4680000" cy="5832360"/>
          </a:xfrm>
          <a:prstGeom prst="rect">
            <a:avLst/>
          </a:prstGeom>
          <a:ln w="9360">
            <a:solidFill>
              <a:srgbClr val="19893c"/>
            </a:solidFill>
            <a:miter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Типы образовательных учреждений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d5008"/>
                </a:solidFill>
                <a:uFillTx/>
                <a:latin typeface="Arial"/>
              </a:rPr>
              <a:t>Дошко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д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я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Детский сад.jpg"/>
          <p:cNvPicPr/>
          <p:nvPr/>
        </p:nvPicPr>
        <p:blipFill>
          <a:blip r:embed="rId1"/>
          <a:stretch/>
        </p:blipFill>
        <p:spPr>
          <a:xfrm>
            <a:off x="3635280" y="2205000"/>
            <a:ext cx="4969080" cy="388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Общее образование</a:t>
            </a:r>
            <a:br>
              <a:rPr sz="4000"/>
            </a:b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 включает в себя три ступе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чальное образование —  с 1 по 4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ое  общее образование —  с 5 по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нее (полное) общее образование —10 и 11 кла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должительность обучения в средней школе составляет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14:59Z</dcterms:created>
  <dc:creator>www.PHILka.RU</dc:creator>
  <dc:description/>
  <dc:language>en-US</dc:language>
  <cp:lastModifiedBy>LEGION</cp:lastModifiedBy>
  <dcterms:modified xsi:type="dcterms:W3CDTF">2015-01-28T11:40:35Z</dcterms:modified>
  <cp:revision>29</cp:revision>
  <dc:subject/>
  <dc:title>Тема урока: «Право на образование»</dc:title>
</cp:coreProperties>
</file>