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9073-3E92-4E56-BAD6-527C99DF15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893c"/>
                </a:solidFill>
                <a:latin typeface="Calibri"/>
              </a:rPr>
              <a:t>Тема урока: </a:t>
            </a:r>
            <a:br>
              <a:rPr sz="1200"/>
            </a:br>
            <a:r>
              <a:rPr b="1" i="1" lang="ru-RU" sz="1200" spc="-1" strike="noStrike">
                <a:solidFill>
                  <a:srgbClr val="19893c"/>
                </a:solidFill>
                <a:latin typeface="Calibri"/>
              </a:rPr>
              <a:t>«Право на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893c"/>
                </a:solidFill>
                <a:latin typeface="Calibri"/>
              </a:rPr>
              <a:t>Домой: </a:t>
            </a:r>
            <a:r>
              <a:rPr b="1" lang="en-US" sz="1600" spc="-1" strike="noStrike">
                <a:solidFill>
                  <a:srgbClr val="19893c"/>
                </a:solidFill>
                <a:latin typeface="Calibri"/>
                <a:ea typeface="Arial"/>
              </a:rPr>
              <a:t>§</a:t>
            </a:r>
            <a:r>
              <a:rPr b="1" lang="ru-RU" sz="1600" spc="-1" strike="noStrike">
                <a:solidFill>
                  <a:srgbClr val="19893c"/>
                </a:solidFill>
                <a:latin typeface="Calibri"/>
                <a:ea typeface="Arial"/>
              </a:rPr>
              <a:t> 4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5298-4FE5-4598-9F35-CF019D7523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6600"/>
                </a:solidFill>
                <a:uFillTx/>
                <a:latin typeface="Calibri"/>
              </a:rPr>
              <a:t>Общеобразовательные учрежде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учреждения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начальная 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реждения основ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</a:rPr>
              <a:t>национальная </a:t>
            </a: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лиц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учебно-воспитательный комплек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Экстерна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771D-82A7-49B5-8C1E-6F6D5B995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(полного)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школа с углубленным изучением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и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877C-885D-4511-86F2-CEED84358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е общее образование обязатель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B613-3031-4B77-B8F6-3B23C8F6CB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оссии устанавливаются следующие уровни профессионального  образ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н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вузовск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D21F-AC4D-4857-A338-8F9057BFD7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Учреждения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начальн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ессиональны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чески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олле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767F-4116-4165-8C14-B5D01A1004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высш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акаде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федеральный 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послевузовск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 повышения квалификации по отрас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3209-479E-41A7-9559-CCDB13525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5008"/>
                </a:solidFill>
                <a:latin typeface="Calibri"/>
              </a:rPr>
              <a:t>Нормативная осн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 продекларировано в статье 26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общей декларации прав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креплено в статьях 13 и 14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ого пакта об экономических, социальных и культурных пра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татьях 28 и 29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венции о правах ребё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статье 2 Первого протокола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вропейской Конвенции о защите прав человека и основных своб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еплено в статье 4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итуции Рос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0E47-1D88-4EBB-B538-85CAB2EA47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типы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8F58-82E3-40DA-A3E0-292411891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но ст. 43 Конституции РФ, каждый имеет право на образ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   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7958-1992-4E06-A8A6-522CFC1E3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B01C-D848-4CA0-8AD6-915C638AD4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8303-D178-4220-B768-71C2F1BF2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Формы получения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чно-заочной (вечерней)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за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в форме семейного образования (с 1992г.), самообразования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экстер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интенсивно развивается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дистанционное образовани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ется сочетание различных форм получения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3735-2991-4E34-8B0A-B97E9A8D3F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Типы образовательных учреждений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 u="sng">
                <a:solidFill>
                  <a:srgbClr val="0d5008"/>
                </a:solidFill>
                <a:uFillTx/>
                <a:latin typeface="Calibri"/>
              </a:rPr>
              <a:t>Дошкольные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ед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я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FBF0-BF44-48C0-BEC1-257E46F583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Общее образование</a:t>
            </a:r>
            <a:br>
              <a:rPr sz="2000"/>
            </a:b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 включает в себя три ступен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чальное образование —  с 1 по 4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основное  общее образование —  с 5 по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реднее (полное) общее образование —10 и 11 класс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продолжительность обучения в средней школе составляет 11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A615-48B8-4AE6-81AA-CCD9194E5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1D6-90A6-4601-A7DD-57FBDFB5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47A-B6BA-4FFE-9B5E-91CB5FE8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6D7-8F84-44FC-8562-C587026E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9BB-0582-4AAB-9134-EE7CC234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9B3-3E25-4BC4-A6A9-290F685A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430-25A3-46BB-B479-E7B63FFD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4DD-4E20-49EB-AB8B-DFCDAB93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35E-5A89-4001-A6EC-6A486EBC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B5D-7631-4E4B-9CD9-BEA75AE9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7DC-AB20-4BB5-8CD9-3AF25DF3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DB0-27E6-4E2C-8B5D-732E54C5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D15-EF48-4F52-A84A-A3813B1A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abc"/>
            </a:gs>
            <a:gs pos="100000">
              <a:srgbClr val="c0e8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DCF2-7AD8-4EE4-BFF4-A0712D1D4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9360">
            <a:solidFill>
              <a:srgbClr val="0d500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893c"/>
                </a:solidFill>
                <a:latin typeface="Arial"/>
              </a:rPr>
              <a:t>Тема урока: </a:t>
            </a:r>
            <a:br>
              <a:rPr sz="4400"/>
            </a:br>
            <a:r>
              <a:rPr b="1" i="1" lang="ru-RU" sz="4400" spc="-1" strike="noStrike">
                <a:solidFill>
                  <a:srgbClr val="19893c"/>
                </a:solidFill>
                <a:latin typeface="Arial"/>
              </a:rPr>
              <a:t>«Право на образова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4437000"/>
            <a:ext cx="6369120" cy="935280"/>
          </a:xfrm>
          <a:prstGeom prst="rect">
            <a:avLst/>
          </a:prstGeom>
          <a:gradFill rotWithShape="0">
            <a:gsLst>
              <a:gs pos="0">
                <a:srgbClr val="efefaf"/>
              </a:gs>
              <a:gs pos="100000">
                <a:srgbClr val="a3ffa3"/>
              </a:gs>
            </a:gsLst>
            <a:lin ang="5400000"/>
          </a:gradFill>
          <a:ln w="9360">
            <a:solidFill>
              <a:srgbClr val="0d500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893c"/>
                </a:solidFill>
                <a:latin typeface="Arial"/>
              </a:rPr>
              <a:t>Домой: </a:t>
            </a:r>
            <a:r>
              <a:rPr b="1" lang="en-US" sz="4000" spc="-1" strike="noStrike">
                <a:solidFill>
                  <a:srgbClr val="19893c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19893c"/>
                </a:solidFill>
                <a:latin typeface="Arial"/>
                <a:ea typeface="Arial"/>
              </a:rPr>
              <a:t>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276720" y="5445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. Л.Н. Боголюб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i"/>
          <p:cNvPicPr/>
          <p:nvPr/>
        </p:nvPicPr>
        <p:blipFill>
          <a:blip r:embed="rId1"/>
          <a:stretch/>
        </p:blipFill>
        <p:spPr>
          <a:xfrm>
            <a:off x="5724360" y="404640"/>
            <a:ext cx="2376720" cy="17290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pic>
        <p:nvPicPr>
          <p:cNvPr id="52" name="Picture 11" descr="33 Турнир иени Лосоносова"/>
          <p:cNvPicPr/>
          <p:nvPr/>
        </p:nvPicPr>
        <p:blipFill>
          <a:blip r:embed="rId2"/>
          <a:stretch/>
        </p:blipFill>
        <p:spPr>
          <a:xfrm>
            <a:off x="971640" y="333360"/>
            <a:ext cx="2087640" cy="19162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sp>
        <p:nvSpPr>
          <p:cNvPr id="53" name="Text Box 12"/>
          <p:cNvSpPr/>
          <p:nvPr/>
        </p:nvSpPr>
        <p:spPr>
          <a:xfrm>
            <a:off x="2571840" y="602136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5008"/>
                </a:solidFill>
                <a:latin typeface="Arial"/>
              </a:rPr>
              <a:t>Учитель: Руденко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бщеобразовате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учреждения началь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реждения основ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ациональная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л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чебно-воспитательны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Экстер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начальная школа.jpg"/>
          <p:cNvPicPr/>
          <p:nvPr/>
        </p:nvPicPr>
        <p:blipFill>
          <a:blip r:embed="rId1"/>
          <a:stretch/>
        </p:blipFill>
        <p:spPr>
          <a:xfrm>
            <a:off x="5867280" y="3573360"/>
            <a:ext cx="3025800" cy="29448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(полного)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школа с углубленным изучением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и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шк. с у.jpg"/>
          <p:cNvPicPr/>
          <p:nvPr/>
        </p:nvPicPr>
        <p:blipFill>
          <a:blip r:embed="rId1"/>
          <a:stretch/>
        </p:blipFill>
        <p:spPr>
          <a:xfrm>
            <a:off x="4859280" y="2205000"/>
            <a:ext cx="3889440" cy="29131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Школа с угл.jpg"/>
          <p:cNvPicPr/>
          <p:nvPr/>
        </p:nvPicPr>
        <p:blipFill>
          <a:blip r:embed="rId2"/>
          <a:stretch/>
        </p:blipFill>
        <p:spPr>
          <a:xfrm>
            <a:off x="468360" y="3789360"/>
            <a:ext cx="4279680" cy="2543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ое общее образование обяз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708360" y="1599840"/>
            <a:ext cx="5184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школа.jpg"/>
          <p:cNvPicPr/>
          <p:nvPr/>
        </p:nvPicPr>
        <p:blipFill>
          <a:blip r:embed="rId1"/>
          <a:stretch/>
        </p:blipFill>
        <p:spPr>
          <a:xfrm>
            <a:off x="395280" y="2133720"/>
            <a:ext cx="3240000" cy="3743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f9fabc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5600a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оссии устанавливаются следующие уровни профессионального  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700280"/>
            <a:ext cx="8147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ьн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ш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вузовск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Учреждения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начальн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ессиональны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чески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4" descr="профлбразование.jpg"/>
          <p:cNvPicPr/>
          <p:nvPr/>
        </p:nvPicPr>
        <p:blipFill>
          <a:blip r:embed="rId1"/>
          <a:stretch/>
        </p:blipFill>
        <p:spPr>
          <a:xfrm>
            <a:off x="1604880" y="1230480"/>
            <a:ext cx="5934240" cy="3939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2" descr="ПТУ.jpg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высш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каде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федеральный 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послевузовск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 повышения квалификации по отрас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2" descr="Лекция.jpg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2" descr="Об образовании.jpg"/>
          <p:cNvPicPr/>
          <p:nvPr/>
        </p:nvPicPr>
        <p:blipFill>
          <a:blip r:embed="rId1"/>
          <a:stretch/>
        </p:blipFill>
        <p:spPr>
          <a:xfrm>
            <a:off x="1047600" y="874800"/>
            <a:ext cx="7048800" cy="46512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5008"/>
                </a:solidFill>
                <a:latin typeface="Arial"/>
              </a:rPr>
              <a:t>Нормативная осн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бразование продекларировано в статье 26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общей декларации прав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креплено в статьях 13 и 14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ого пакта об экономических, социальных и культурных прав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татьях 28 и 29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венции о правах ребё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статье 2 Первого протокола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вропейской Конвенции о защите прав человека и основных свобо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реплено в статье 43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ституции Ро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31-3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2" descr="послевузовское образование.jpg"/>
          <p:cNvPicPr/>
          <p:nvPr/>
        </p:nvPicPr>
        <p:blipFill>
          <a:blip r:embed="rId1"/>
          <a:stretch/>
        </p:blipFill>
        <p:spPr>
          <a:xfrm>
            <a:off x="826920" y="907920"/>
            <a:ext cx="7705800" cy="4608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4" descr="Гранты на обрахование.jpg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типы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31-2"/>
          <p:cNvPicPr/>
          <p:nvPr/>
        </p:nvPicPr>
        <p:blipFill>
          <a:blip r:embed="rId1"/>
          <a:stretch/>
        </p:blipFill>
        <p:spPr>
          <a:xfrm>
            <a:off x="611280" y="620640"/>
            <a:ext cx="8064360" cy="5545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2" descr=""/>
          <p:cNvPicPr/>
          <p:nvPr/>
        </p:nvPicPr>
        <p:blipFill>
          <a:blip r:embed="rId1"/>
          <a:stretch/>
        </p:blipFill>
        <p:spPr>
          <a:xfrm>
            <a:off x="633240" y="2487600"/>
            <a:ext cx="7877520" cy="140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о ст. 43 Конституции РФ, каждый имеет право на образ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11280" y="1557360"/>
            <a:ext cx="67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   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Конституция РФ.jpg"/>
          <p:cNvPicPr/>
          <p:nvPr/>
        </p:nvPicPr>
        <p:blipFill>
          <a:blip r:embed="rId1"/>
          <a:stretch/>
        </p:blipFill>
        <p:spPr>
          <a:xfrm>
            <a:off x="324000" y="2060640"/>
            <a:ext cx="1944360" cy="3375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836280"/>
            <a:ext cx="590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З Об образовании.jpg"/>
          <p:cNvPicPr/>
          <p:nvPr/>
        </p:nvPicPr>
        <p:blipFill>
          <a:blip r:embed="rId1"/>
          <a:stretch/>
        </p:blipFill>
        <p:spPr>
          <a:xfrm>
            <a:off x="179280" y="1125360"/>
            <a:ext cx="2376720" cy="42469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спит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уч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Формы получения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чно-заочной (вечерней)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за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в форме семейного образования (с 1992г.), самообразования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экстер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ние годы интенсивно развивается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дистанционное образова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кается сочетание различных форм получения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2" descr="образование.png"/>
          <p:cNvPicPr/>
          <p:nvPr/>
        </p:nvPicPr>
        <p:blipFill>
          <a:blip r:embed="rId1"/>
          <a:stretch/>
        </p:blipFill>
        <p:spPr>
          <a:xfrm>
            <a:off x="0" y="476280"/>
            <a:ext cx="3816360" cy="5564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Саморазвитие личности.jpg"/>
          <p:cNvPicPr/>
          <p:nvPr/>
        </p:nvPicPr>
        <p:blipFill>
          <a:blip r:embed="rId2"/>
          <a:stretch/>
        </p:blipFill>
        <p:spPr>
          <a:xfrm>
            <a:off x="3924360" y="476280"/>
            <a:ext cx="4680000" cy="5832360"/>
          </a:xfrm>
          <a:prstGeom prst="rect">
            <a:avLst/>
          </a:prstGeom>
          <a:ln w="9360">
            <a:solidFill>
              <a:srgbClr val="19893c"/>
            </a:solidFill>
            <a:miter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Типы образовательных учреждений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d5008"/>
                </a:solidFill>
                <a:uFillTx/>
                <a:latin typeface="Arial"/>
              </a:rPr>
              <a:t>Дошко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ед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я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ет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Детский сад.jpg"/>
          <p:cNvPicPr/>
          <p:nvPr/>
        </p:nvPicPr>
        <p:blipFill>
          <a:blip r:embed="rId1"/>
          <a:stretch/>
        </p:blipFill>
        <p:spPr>
          <a:xfrm>
            <a:off x="3635280" y="2205000"/>
            <a:ext cx="4969080" cy="388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Общее образование</a:t>
            </a:r>
            <a:br>
              <a:rPr sz="4000"/>
            </a:b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 включает в себя три ступен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чальное образование —  с 1 по 4 клас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сновное  общее образование —  с 5 по 9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еднее (полное) общее образование —10 и 11 класс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должительность обучения в средней школе составляет 11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6:14:59Z</dcterms:created>
  <dc:creator>www.PHILka.RU</dc:creator>
  <dc:description/>
  <dc:language>en-US</dc:language>
  <cp:lastModifiedBy>LEGION</cp:lastModifiedBy>
  <dcterms:modified xsi:type="dcterms:W3CDTF">2015-01-28T11:40:35Z</dcterms:modified>
  <cp:revision>29</cp:revision>
  <dc:subject/>
  <dc:title>Тема урока: «Право на образование»</dc:title>
</cp:coreProperties>
</file>