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22.jpeg" ContentType="image/jpeg"/>
  <Override PartName="/ppt/media/image12.jpeg" ContentType="image/jpeg"/>
  <Override PartName="/ppt/media/image6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2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8.png" ContentType="image/png"/>
  <Override PartName="/ppt/media/image28.jpeg" ContentType="image/jpeg"/>
  <Override PartName="/ppt/media/image17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15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5E150-0217-427B-91ED-EC2189881B9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5_&#1080;&#1102;&#1085;&#1103;" TargetMode="External"/><Relationship Id="rId2" Type="http://schemas.openxmlformats.org/officeDocument/2006/relationships/hyperlink" Target="http://ru.wikipedia.org/wiki/1939" TargetMode="External"/><Relationship Id="rId3" Type="http://schemas.openxmlformats.org/officeDocument/2006/relationships/hyperlink" Target="http://ru.wikipedia.org/wiki/&#1055;&#1103;&#1090;&#1080;&#1075;&#1086;&#1088;&#1089;&#1082;" TargetMode="External"/><Relationship Id="rId4" Type="http://schemas.openxmlformats.org/officeDocument/2006/relationships/hyperlink" Target="http://ru.wikipedia.org/wiki/&#1057;&#1090;&#1072;&#1074;&#1088;&#1086;&#1087;&#1086;&#1083;&#1100;&#1089;&#1082;&#1080;&#1081;_&#1082;&#1088;&#1072;&#1081;" TargetMode="External"/><Relationship Id="rId5" Type="http://schemas.openxmlformats.org/officeDocument/2006/relationships/hyperlink" Target="http://ru.wikipedia.org/wiki/&#1056;&#1057;&#1060;&#1057;&#1056;" TargetMode="External"/><Relationship Id="rId6" Type="http://schemas.openxmlformats.org/officeDocument/2006/relationships/hyperlink" Target="http://ru.wikipedia.org/wiki/&#1057;&#1057;&#1057;&#1056;" TargetMode="External"/><Relationship Id="rId7" Type="http://schemas.openxmlformats.org/officeDocument/2006/relationships/hyperlink" Target="http://ru.wikipedia.org/wiki/&#1059;&#1087;&#1086;&#1083;&#1085;&#1086;&#1084;&#1086;&#1095;&#1077;&#1085;&#1085;&#1099;&#1081;_&#1087;&#1086;_&#1087;&#1088;&#1072;&#1074;&#1072;&#1084;_&#1095;&#1077;&#1083;&#1086;&#1074;&#1077;&#1082;&#1072;_&#1074;_&#1056;&#1086;&#1089;&#1089;&#1080;&#1081;&#1089;&#1082;&#1086;&#1081;_&#1060;&#1077;&#1076;&#1077;&#1088;&#1072;&#1094;&#1080;&#1080;" TargetMode="External"/><Relationship Id="rId8" Type="http://schemas.openxmlformats.org/officeDocument/2006/relationships/slide" Target="../slides/slide6.xml"/><Relationship Id="rId9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полномоченный по правам человека в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85648-3D97-4937-AD70-E74E4DD52E1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полномоченный по правам человека в Российской Федер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76092"/>
                </a:solidFill>
                <a:latin typeface="Arial"/>
              </a:rPr>
              <a:t>Владимир Петрович Лукин</a:t>
            </a:r>
            <a:r>
              <a:rPr b="0" lang="ru-RU" sz="1200" spc="-1" strike="noStrike">
                <a:solidFill>
                  <a:srgbClr val="376092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родился 13 июля 1937 года в Омске) — российский государственный и политический деятель, политоло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одители были репрессированы через несколько дней после его рождения, воспитывался у родственников. В 1959 году окончил исторический факультет Московского государственного педагогического института им. В.И. Ленина. Доктор исторических наук, профессор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8F4CD-D599-43C6-91F7-FDC11C35242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Дмитрий Медведев и Владимир Луки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2009 году  Уполномоченному по правам челове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В.П. Лукину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ступило около 31 тысячи жалоб. Только письменных жалоб регистрируется около 100 в день.  Жалобы поступают устно: по телефону и при личных встречах. В 10% обратившиеся получают помощь.      ( «Российская газета» ст. «Уполномочен и независим» №29 201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8E205-8A1A-438B-95D7-C158A74BA3F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Calibri"/>
              </a:rPr>
              <a:t>Уполномоченный по правам ребенка РФ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Алексей Головань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 марта 2005 года являлся Председателем Ассоциации уполномоченных по правам ребенка в субъектах РФ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  02.09.2009 г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. А. Головань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значен на должность Уполномоченного при Президенте РФ по правам ребенка,   ранее  занимал должность Уполномоченного по правам ребенка в городе Москве с 2002 год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лава государства рекомендовал органам государственной власти субъектов Российской Федерации учредить должность уполномоченного по правам ребен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FCB01-24C2-40D2-AC6E-DAD0EAD26B2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Уполномоченный при Президенте РФ по правам ребенк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Алексей  Иванович Головань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одился 2 февраля 1966 года в г. Дубна Московской области. </a:t>
            </a:r>
            <a:br>
              <a:rPr sz="1200"/>
            </a:b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бразование высшее, окончил: Московский инженерно-физический институт (МИФИ) (1989 г.), Институт молодежи (специальность: социальная работа) (1993 г.), Московскую государственную юридическую академию (МГЮА) по специальности «Юриспруденция» (2000 г.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4D60A-EAA1-4163-926E-3FDF8FA91B1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олномочия Уполномоченного при Президенте РФ по правам ребенка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Уполномоченному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 Президенте РФ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по правам ребенка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едоставлено право запрашивать любую информацию из органов государственной власти и субъектов РФ; беспрепятственно посещать любой орган государственной власти и субъектов РФ; создавать консультативные советы; привлекать экспертов для работы; проводить независимые экспертизы органов и учреждений, в действиях которых он усматривает нарушения прав ребенка; давать рекомендации органам власти по восстановлению и профилактике нарушений прав ребенка. "Это стандартный набор полномочий для омбудсмена».-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40BD2-62DB-42E6-A926-734FE5A0CF0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  <a:ea typeface="Times New Roman"/>
              </a:rPr>
              <a:t>30 декабря 2009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года указом Президента Российской Федерации </a:t>
            </a:r>
            <a:r>
              <a:rPr b="1" lang="ru-RU" sz="1400" spc="-1" strike="noStrike">
                <a:solidFill>
                  <a:srgbClr val="1f497d"/>
                </a:solidFill>
                <a:latin typeface="Calibri"/>
              </a:rPr>
              <a:t>Павел Алексеевич Астахов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значен Уполномоченным по правам ребенка при Президенте Российской Федер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D60D2-F613-41D8-BCA0-475237847E2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полномоченный при Президенте РФ по правам ребен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Павел Астахов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значен Уполномоченным по правам ребенка при Президенте Российской Федерации. Соответствующий Указ был подписан Дмитрием Медведевы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30 декабря 2009 года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 Институт Уполномоченного при Президенте России по правам ребенка был создан в сентябре 2009 года. Органам государственной власти субъектов Российской Федерации было рекомендовано также учредить должности регионального Уполномоченного по правам ребён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A2EC8-7C9E-4B47-96F6-E5DE7D479FE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Павел Алексеевич Астахов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(8 сентября 1966, Москва) — российский адвокат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рочную военную службу проходил в пограничных войсках. Окончил Высшую школу КГБ СССР (1991 год), школу права Питтсбургского университета (США, 2002 год), кандидат юридических наук (2002 год, тема диссертации: «Динамика разрешения юридических конфликтов»), магистр права (2002 год, тема диссертации: «Разрешение международных коммерческих споров»). Доктор юридических наук (2006 год), тема диссертации: «Юридические конфликты и современные формы их разрешения»). Владеет шведским, испанским, французским, английскими языками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ACEC3-E7ED-4257-B87D-6B85ADB7DC4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Impact"/>
              </a:rPr>
              <a:t>Уполномоченный  по правам человека в Саратовской обла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E2F82-D5E9-47E8-8560-F3DDBBF14CD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ервый уполномоченный по правам человека в Саратов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Александр Соломонович Ландо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 19 января 1999 года по 28 января 2004 года занимал должность Уполномоченного по правам человека в Саратовской области, отработав один срок полномочий. Его преемницей на этом посту стала 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Лукашова Нина Федоровна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E1D01-F39F-467E-B27B-DAC5F5B9979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ститут омбудсме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ститут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омбудсмена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имеет скандинавское происхождение. Впервые он был создан в Швеции в начале XIX века, когда в Конституции 1809 года была введена должность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омбудсмена юстиции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 Однако сам термин "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омбудсмен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" появился в Швеции еще в XIII веке. Он имеет немецкое происхождение, и его корни восходят к раннему периоду истории германских племен.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Омбудсменом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называлось лицо, которое избиралось для сбора от имени пострадавшей стороны денежной пени (виры) с преступников, совершивших убийство. Шведы и другие скандинавские народы переводили слово "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омбудсмен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" как "поверенный", "управляющий делами", "доверенное лицо". Предполагают также, что корни компетенции этой фигуры просматриваются в римских должностях цензоров, трибунов, провинциальных прокураторов. Поначалу, в эпоху абсолютной монархии,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омбудсмены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были людьми короны, призванными контролировать от имени верховной власти деятельность чиновников и судей. По мере перехода к конституционной монархии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омбудсеан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становится парламентским органом, что и получило закрепление в Конституции Швеции 1809 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EC46E-01A4-4D0B-B3E3-1A3DB2CAAF9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Уполномоченный по правам человека в Саратов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8 января 2004 года </a:t>
            </a:r>
            <a:r>
              <a:rPr b="1" lang="ru-RU" sz="1200" spc="-1" strike="noStrike">
                <a:solidFill>
                  <a:srgbClr val="376092"/>
                </a:solidFill>
                <a:latin typeface="Calibri"/>
              </a:rPr>
              <a:t>Нина Федоровна Лукашова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значена на должность Уполномоченного по правам человека в Саратовской обла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8ACDB-AE31-4DDC-98C5-FC0C76951C2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начале 2009 года  полномочия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Н.Ф. Лукашевой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ыли продлены на новый срок.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Н.Ф. Лукашова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однократно поощрялась приказами прокуратуры РФ, прокурора области за достижения и успехи в работе. За образцовое исполнение служебных обязанностей в июле 1997 года приказом генерального прокурора РФ награждена нагрудным знаком «Почётный работник прокуратуры Российской Федерации»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8F644-7536-4B27-8E66-83CFAD50B7A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19 февраля 2010 года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9 - м заседании  Саратовская областная дума приняла законопроект об учреждении в области должности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уполномоченного по правам ребенка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 Назначаться он будет представительным органом области. Должность нового уполномоченного приравнивается к государственной. Не исполнение решений и предписаний уполномоченного повлечет административное наказ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BAF2D-1E1F-4E83-9E8F-2A96E418E5B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 Интернет ресурс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peoples.ru/state/lawyers/sergey_kovalev/index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ru.wikipedia.org/wik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allabout.ru/a11530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mbudsman.gov.ru/apparat/upolnom.s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http://images.yandex.ru/yandsearch?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images.yandex.ru/yandsearch?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news.rambler.ru/Russia/head/48586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.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apnews.ru/news-1-8753.html /?page=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.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images.yandex.ru/yandsearch?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http://images.yandex.ru/search?p=1&amp;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09BE1-74EE-45A0-8F6B-67F2FAEE595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олномоченный по правам человека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гласно статье 103  Конституции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 ведению Государственной Думы относи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 д) назначение на должность и освобождение от должности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Уполномоченного по правам человека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,  действующего в соответствии с федеральным конституционным законом.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еимущество уполномоченного в отличие от государственного института –  часть государственной власти, сам не встроен в ее систему и является независимым.  Никому не подчиняется. Уполномоченный избирается на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5 лет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 может быть переизбран на второй сро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48260-A156-4D39-AAB7-DE411708EB6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закон "Об Уполномоченном по правам человека в Российской Федерации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едеральный конституционный закон "Об Уполномоченном по правам человека в Российской Федерации" был приня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26 декабря 1997 года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 Он определил порядок назначения на должность и освобождения от должности Уполномоченного, его компетенцию, организационные формы и условия его деятель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к сказано в п. 1 статьи 1 Закона, должность Уполномоченного по правам человека в Российской Федерации учреждается в соответствии с Конституцией РФ в целях обеспечения гарантий государственной защиты прав и свобод граждан, их соблюдения и уважения государственными органами, органами местного самоуправления и должностными лиц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D07EF-ED93-4D39-9422-C02FA16B36B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Первым омбудсманом в России был </a:t>
            </a:r>
            <a:br>
              <a:rPr sz="1200"/>
            </a:b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Сергей Адамович Ковале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авозащитник, председатель общества "Мемориал", глава общественного Института прав человека, член правозащитной фракции партии "Яблоко". В прошлом - депутат Государственной Думы РФ первого - третьего созывов, депутат Съезда народных депутатов Росс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В 1993-1995 годах - председатель Комиссии по правам человека при президенте Росс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D6D3A-5DDA-499A-8938-16DEFDF85FD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Уполномоченный по правам человека РФ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ле́г Оре́стович Миро́нов (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5 июня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1939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Пятигорск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Ставропольского края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РСФСР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СССР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) —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Уполномоченный по правам человека в Российской Федерации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в 1998—2004 годах, на 2010 г. — единственный юрист на этом посту. Депутат ГД ФС РФ I и II созывов (КПРФ), доктор юридических наук, профессор, заслуженный юрист Российской Федер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1E068-6C5E-40C3-B9FE-B0626EA581A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ле́г Оре́стович Миро́нов окончил Саратовский юридический институт им. Д. И. Курского в 1963 г., аспирантуру этого института в 1967 г., доктор юридических наук, профессор; действительный член Академии социальных наук; в 1956—1959 годах работал токарем Виноградненской МТС Северо-Осетинской АССР, затем инструктором горного туризма в Северо-Кавказском экскурсионном управлении в г. Пятигорске; после окончания института работал следователем в милиции городов Пятигорска и Железноводска; 1965—1982 — ассистент, преподаватель, доцент, заведующий кафедрой государственного права Саратовского юридического института; 1982—1991 — профессор, декан, заведующий кафедрой государственного строительства и права, проректор по научной работе Саратовской ВПШ (Поволжского социально-политического института); 1991—1993 — профессор кафедры конституционного права Саратовского юридического института; в 1993 г. и в 1995 г. избирался депутатом Государственной Думы Федерального Собрания РФ первого и второго созывов, был членом фракции КПРФ, членом Комитета по законодательству и судебно-правовой реформе, депутатом Парламентского Собрания Союза Белоруссии и России,  членом  Комиссии Межпарламентской  Ассамблеи государств — участников СНГ по правовым вопросам; с 1993 г. — член ЦИК, с 1995 г. — член ЦК КПРФ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3D5CD-47F8-4F0A-B1B8-8555FFEE5CD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ервый Уполномоченный по правам человека РФ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2002 году Генеральной ассамблеей Европейского института омбудсмена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О. О. Миронов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ервым из правозащитников государств бывшего Советского Союза избран членом совета директоров Европейского института омбудсме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37754-B4F8-4256-8181-ABC380305B0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полномоченный по правам человека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феврале 2004 года Владимир Петрович Лукин был выдвинут Президентом РФ Владимиром Владимировичем Путиным на пост Уполномоченного по правам человека в Российской Федер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3 февраля 2004 года Государственная Дума избрала 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Владимира  Петровича Лукина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 эту долж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64D45-CFB8-4851-AA93-D2E25FBC45E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1E4F-F3FF-4616-8C81-AE1988EFD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9640-BFC1-4037-8F3B-F7E830C96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9A25-11E5-434F-B0C8-5908B9552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FA16-702A-4C82-8787-6274AABFB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0309-8EF7-4EBD-863F-3F9D44730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3704-82B2-45D1-942E-22AEAFE8D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50EF-E490-4498-B414-6A1D0CE8A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6487-F66A-49E6-8746-575056607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5901-3C17-437F-90A4-DFEFBBA19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1E72-AD8B-49B3-AF20-49ED5A41E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41DB-DA84-40A4-A65F-39B7EA046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0205-13BB-47BF-9957-8FF57F0C4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BD432-D90C-4F77-909F-02D5B760980D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9ED9C-0597-4CBE-818A-3827E4B5779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ru.wikipedia.org/wiki/&#1059;&#1087;&#1086;&#1083;&#1085;&#1086;&#1084;&#1086;&#1095;&#1077;&#1085;&#1085;&#1099;&#1081;_&#1087;&#1086;_&#1087;&#1088;&#1072;&#1074;&#1072;&#1084;_&#1095;&#1077;&#1083;&#1086;&#1074;&#1077;&#1082;&#1072;_&#1074;_&#1056;&#1086;&#1089;&#1089;&#1080;&#1081;&#1089;&#1082;&#1086;&#1081;_&#1060;&#1077;&#1076;&#1077;&#1088;&#1072;&#1094;&#1080;&#1080;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Dmitry_Medvedev_10_June_2008-1.jpg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9;&#1087;&#1086;&#1083;&#1085;&#1086;&#1084;&#1086;&#1095;&#1077;&#1085;&#1085;&#1099;&#1081;_&#1087;&#1088;&#1080;_&#1055;&#1088;&#1077;&#1079;&#1080;&#1076;&#1077;&#1085;&#1090;&#1077;_&#1056;&#1086;&#1089;&#1089;&#1080;&#1081;&#1089;&#1082;&#1086;&#1081;_&#1060;&#1077;&#1076;&#1077;&#1088;&#1072;&#1094;&#1080;&#1080;_&#1087;&#1086;_&#1087;&#1088;&#1072;&#1074;&#1072;&#1084;_&#1088;&#1077;&#1073;&#1105;&#1085;&#1082;&#1072;" TargetMode="External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8_&#1089;&#1077;&#1085;&#1090;&#1103;&#1073;&#1088;&#1103;" TargetMode="External"/><Relationship Id="rId2" Type="http://schemas.openxmlformats.org/officeDocument/2006/relationships/hyperlink" Target="http://ru.wikipedia.org/wiki/1966" TargetMode="External"/><Relationship Id="rId3" Type="http://schemas.openxmlformats.org/officeDocument/2006/relationships/hyperlink" Target="http://ru.wikipedia.org/wiki/&#1052;&#1086;&#1089;&#1082;&#1074;&#1072;" TargetMode="External"/><Relationship Id="rId4" Type="http://schemas.openxmlformats.org/officeDocument/2006/relationships/hyperlink" Target="http://ru.wikipedia.org/wiki/&#1056;&#1086;&#1089;&#1089;&#1080;&#1103;" TargetMode="External"/><Relationship Id="rId5" Type="http://schemas.openxmlformats.org/officeDocument/2006/relationships/hyperlink" Target="http://ru.wikipedia.org/wiki/&#1040;&#1076;&#1074;&#1086;&#1082;&#1072;&#1090;" TargetMode="External"/><Relationship Id="rId6" Type="http://schemas.openxmlformats.org/officeDocument/2006/relationships/hyperlink" Target="http://ru.wikipedia.org/wiki/&#1050;&#1043;&#1041;_&#1057;&#1057;&#1057;&#1056;" TargetMode="External"/><Relationship Id="rId7" Type="http://schemas.openxmlformats.org/officeDocument/2006/relationships/hyperlink" Target="http://ru.wikipedia.org/wiki/1991_&#1075;&#1086;&#1076;" TargetMode="External"/><Relationship Id="rId8" Type="http://schemas.openxmlformats.org/officeDocument/2006/relationships/hyperlink" Target="http://ru.wikipedia.org/wiki/&#1057;&#1064;&#1040;" TargetMode="External"/><Relationship Id="rId9" Type="http://schemas.openxmlformats.org/officeDocument/2006/relationships/hyperlink" Target="http://ru.wikipedia.org/wiki/2002_&#1075;&#1086;&#1076;" TargetMode="External"/><Relationship Id="rId10" Type="http://schemas.openxmlformats.org/officeDocument/2006/relationships/hyperlink" Target="http://ru.wikipedia.org/wiki/2006_&#1075;&#1086;&#1076;" TargetMode="External"/><Relationship Id="rId11" Type="http://schemas.openxmlformats.org/officeDocument/2006/relationships/image" Target="../media/image18.png"/><Relationship Id="rId12" Type="http://schemas.openxmlformats.org/officeDocument/2006/relationships/hyperlink" Target="http://images.google.ru/imgres?imgurl=http://img.beta.rian.ru/images/16369/03/163690302.jpg&amp;imgrefurl=http://www.rian.ru/culture/20090304/163833749.html&amp;usg=__7wH22lHprfjASVlshfUZRW4AdCQ=&amp;h=203&amp;w=360&amp;sz=35&amp;hl=ru&amp;start=4&amp;itbs=1&amp;tbnid=5Sl9pBrSUPzToM:&amp;tbnh=68&amp;tbnw=121&amp;prev=/images?q=.&#1055;&#1072;&#1074;&#1077;&#1083;+&#1040;&#1089;&#1090;&#1072;&#1093;&#1086;&#1074;+&#1091;&#1087;&#1086;&#1083;&#1085;&#1086;&#1084;&#1086;&#1095;&#1077;&#1085;&#1085;&#1099;&#1081;+&#1087;&#1086;+&#1087;&#1088;&#1072;&#1074;&#1072;&#1084;+&#1088;&#1077;&#1073;&#1077;&#1085;&#1082;&#1072;+&#1074;+&#1056;&#1086;&#1089;&#1089;&#1080;&#1080;+&#1073;&#1080;&#1086;&#1075;&#1088;&#1072;&#1092;&#1080;&#1103;&amp;hl=ru&amp;newwindow=1&amp;sa=G&amp;tbs=isch:1" TargetMode="External"/><Relationship Id="rId13" Type="http://schemas.openxmlformats.org/officeDocument/2006/relationships/image" Target="../media/image19.jpeg"/><Relationship Id="rId14" Type="http://schemas.openxmlformats.org/officeDocument/2006/relationships/image" Target="../media/image20.jpe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peoples.ru/state/lawyers/sergey_kovalev/index.html" TargetMode="External"/><Relationship Id="rId2" Type="http://schemas.openxmlformats.org/officeDocument/2006/relationships/hyperlink" Target="http://www.peoples.ru/state/lawyers/sergey_kovalev/index.html" TargetMode="External"/><Relationship Id="rId3" Type="http://schemas.openxmlformats.org/officeDocument/2006/relationships/hyperlink" Target="http://ru.wikipedia.org/wiki" TargetMode="External"/><Relationship Id="rId4" Type="http://schemas.openxmlformats.org/officeDocument/2006/relationships/hyperlink" Target="http://ru.wikipedia.org/wiki" TargetMode="External"/><Relationship Id="rId5" Type="http://schemas.openxmlformats.org/officeDocument/2006/relationships/hyperlink" Target="http://www.allabout.ru/a11530.html" TargetMode="External"/><Relationship Id="rId6" Type="http://schemas.openxmlformats.org/officeDocument/2006/relationships/hyperlink" Target="http://www.allabout.ru/a11530.html" TargetMode="External"/><Relationship Id="rId7" Type="http://schemas.openxmlformats.org/officeDocument/2006/relationships/hyperlink" Target="http://images.yandex.ru/yandsearch?text" TargetMode="External"/><Relationship Id="rId8" Type="http://schemas.openxmlformats.org/officeDocument/2006/relationships/hyperlink" Target="http://images.yandex.ru/yandsearch?text" TargetMode="External"/><Relationship Id="rId9" Type="http://schemas.openxmlformats.org/officeDocument/2006/relationships/hyperlink" Target="http://news.rambler.ru/Russia/head/4858656/?page=2" TargetMode="External"/><Relationship Id="rId10" Type="http://schemas.openxmlformats.org/officeDocument/2006/relationships/hyperlink" Target="http://news.rambler.ru/Russia/head/4858656/?page=2" TargetMode="External"/><Relationship Id="rId11" Type="http://schemas.openxmlformats.org/officeDocument/2006/relationships/hyperlink" Target="http://images.yandex.ru/yandsearch?text" TargetMode="External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5_&#1080;&#1102;&#1085;&#1103;" TargetMode="External"/><Relationship Id="rId2" Type="http://schemas.openxmlformats.org/officeDocument/2006/relationships/hyperlink" Target="http://ru.wikipedia.org/wiki/1939" TargetMode="External"/><Relationship Id="rId3" Type="http://schemas.openxmlformats.org/officeDocument/2006/relationships/hyperlink" Target="http://ru.wikipedia.org/wiki/&#1055;&#1103;&#1090;&#1080;&#1075;&#1086;&#1088;&#1089;&#1082;" TargetMode="External"/><Relationship Id="rId4" Type="http://schemas.openxmlformats.org/officeDocument/2006/relationships/hyperlink" Target="http://ru.wikipedia.org/wiki/&#1057;&#1090;&#1072;&#1074;&#1088;&#1086;&#1087;&#1086;&#1083;&#1100;&#1089;&#1082;&#1080;&#1081;_&#1082;&#1088;&#1072;&#1081;" TargetMode="External"/><Relationship Id="rId5" Type="http://schemas.openxmlformats.org/officeDocument/2006/relationships/hyperlink" Target="http://ru.wikipedia.org/wiki/&#1056;&#1057;&#1060;&#1057;&#1056;" TargetMode="External"/><Relationship Id="rId6" Type="http://schemas.openxmlformats.org/officeDocument/2006/relationships/hyperlink" Target="http://ru.wikipedia.org/wiki/&#1057;&#1057;&#1057;&#1056;" TargetMode="External"/><Relationship Id="rId7" Type="http://schemas.openxmlformats.org/officeDocument/2006/relationships/hyperlink" Target="http://ru.wikipedia.org/wiki/&#1059;&#1087;&#1086;&#1083;&#1085;&#1086;&#1084;&#1086;&#1095;&#1077;&#1085;&#1085;&#1099;&#1081;_&#1087;&#1086;_&#1087;&#1088;&#1072;&#1074;&#1072;&#1084;_&#1095;&#1077;&#1083;&#1086;&#1074;&#1077;&#1082;&#1072;_&#1074;_&#1056;&#1086;&#1089;&#1089;&#1080;&#1081;&#1089;&#1082;&#1086;&#1081;_&#1060;&#1077;&#1076;&#1077;&#1088;&#1072;&#1094;&#1080;&#1080;" TargetMode="External"/><Relationship Id="rId8" Type="http://schemas.openxmlformats.org/officeDocument/2006/relationships/hyperlink" Target="http://ru.wikipedia.org/wiki/&#1050;&#1055;&#1056;&#1060;" TargetMode="External"/><Relationship Id="rId9" Type="http://schemas.openxmlformats.org/officeDocument/2006/relationships/image" Target="../media/image3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1963" TargetMode="External"/><Relationship Id="rId2" Type="http://schemas.openxmlformats.org/officeDocument/2006/relationships/hyperlink" Target="http://ru.wikipedia.org/wiki/1967" TargetMode="External"/><Relationship Id="rId3" Type="http://schemas.openxmlformats.org/officeDocument/2006/relationships/hyperlink" Target="http://ru.wikipedia.org/wiki/&#1050;&#1055;&#1056;&#1060;" TargetMode="External"/><Relationship Id="rId4" Type="http://schemas.openxmlformats.org/officeDocument/2006/relationships/hyperlink" Target="http://www.epochtimes.ru/images/stories/04/russia/75_molod_2.jpg" TargetMode="External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2004_&#1075;&#1086;&#1076;" TargetMode="External"/><Relationship Id="rId2" Type="http://schemas.openxmlformats.org/officeDocument/2006/relationships/hyperlink" Target="http://ru.wikipedia.org/wiki/13_&#1092;&#1077;&#1074;&#1088;&#1072;&#1083;&#1103;" TargetMode="External"/><Relationship Id="rId3" Type="http://schemas.openxmlformats.org/officeDocument/2006/relationships/hyperlink" Target="http://ru.wikipedia.org/wiki/2004_&#1075;&#1086;&#1076;" TargetMode="External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28800" y="785520"/>
            <a:ext cx="756576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785760" y="2906640"/>
            <a:ext cx="4708440" cy="26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Прямоугольник 3"/>
          <p:cNvSpPr/>
          <p:nvPr/>
        </p:nvSpPr>
        <p:spPr>
          <a:xfrm>
            <a:off x="3500280" y="1928880"/>
            <a:ext cx="4357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полномоченный по правам человека в Росс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http://www.svobod.ru/upload/PRAVO.png"/>
          <p:cNvPicPr/>
          <p:nvPr/>
        </p:nvPicPr>
        <p:blipFill>
          <a:blip r:embed="rId1"/>
          <a:stretch/>
        </p:blipFill>
        <p:spPr>
          <a:xfrm>
            <a:off x="1285920" y="1785960"/>
            <a:ext cx="2071800" cy="283356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5" descr=""/>
          <p:cNvPicPr/>
          <p:nvPr/>
        </p:nvPicPr>
        <p:blipFill>
          <a:blip r:embed="rId1"/>
          <a:stretch/>
        </p:blipFill>
        <p:spPr>
          <a:xfrm>
            <a:off x="571680" y="1428840"/>
            <a:ext cx="3178080" cy="399564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8"/>
          <p:cNvSpPr/>
          <p:nvPr/>
        </p:nvSpPr>
        <p:spPr>
          <a:xfrm>
            <a:off x="4000680" y="1518120"/>
            <a:ext cx="4786200" cy="39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6092"/>
                </a:solidFill>
                <a:latin typeface="Arial"/>
              </a:rPr>
              <a:t>Владимир Петрович Лукин</a:t>
            </a:r>
            <a:r>
              <a:rPr b="0" lang="ru-RU" sz="1800" spc="-1" strike="noStrike">
                <a:solidFill>
                  <a:srgbClr val="376092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родился 13 июля 1937 года в Омске) — российский государственный и политический деятель, политолог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одители были репрессированы через несколько дней после его рождения, воспитывался у родственников.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1959 году окончил исторический факультет Московского государственного педагогического института им. В.И. Ленина. Доктор исторических наук, профессо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4"/>
          <p:cNvSpPr/>
          <p:nvPr/>
        </p:nvSpPr>
        <p:spPr>
          <a:xfrm>
            <a:off x="714240" y="357120"/>
            <a:ext cx="785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Уполномоченный по правам человека в Российской Федер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5" descr="http://upload.wikimedia.org/wikipedia/commons/thumb/6/60/Dmitry_Medvedev_10_June_2008-1.jpg/250px-Dmitry_Medvedev_10_June_2008-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4200" y="285840"/>
            <a:ext cx="5238720" cy="350028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6"/>
          <p:cNvSpPr/>
          <p:nvPr/>
        </p:nvSpPr>
        <p:spPr>
          <a:xfrm>
            <a:off x="0" y="2444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0" y="403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5715000" y="501840"/>
            <a:ext cx="278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Дмитрий Медведев и Владимир Луки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5"/>
          <p:cNvSpPr/>
          <p:nvPr/>
        </p:nvSpPr>
        <p:spPr>
          <a:xfrm>
            <a:off x="1143000" y="3857760"/>
            <a:ext cx="75722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 2009 году  Уполномоченному по правам челове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В.П. Лукину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оступило около 31 тысячи жалоб. Только письменных жалоб регистрируется около 100 в день.  Жалобы поступают устно: по телефону и при личных встречах. В 10% обратившиеся получают помощь.      ( «Российская газета» ст. «Уполномочен и независим» №29 20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8" descr="http://im3-tub.yandex.net/i?id=214712128&amp;tov=3"/>
          <p:cNvPicPr/>
          <p:nvPr/>
        </p:nvPicPr>
        <p:blipFill>
          <a:blip r:embed="rId3"/>
          <a:stretch/>
        </p:blipFill>
        <p:spPr>
          <a:xfrm>
            <a:off x="6643800" y="1785960"/>
            <a:ext cx="1346040" cy="1785960"/>
          </a:xfrm>
          <a:prstGeom prst="rect">
            <a:avLst/>
          </a:prstGeom>
          <a:ln w="0">
            <a:noFill/>
          </a:ln>
        </p:spPr>
      </p:pic>
      <p:sp>
        <p:nvSpPr>
          <p:cNvPr id="9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13880" y="428400"/>
            <a:ext cx="78519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Calibri"/>
              </a:rPr>
              <a:t>УПОЛНОМОЧЕННЫЙ ПО ПРАВАМ РЕБЕНКА Р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143160" y="1142640"/>
            <a:ext cx="5572080" cy="4357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alibri"/>
              </a:rPr>
              <a:t>Алексей Головань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 марта 2005 года являлся Председателем Ассоциации уполномоченных по правам ребенка в субъектах РФ.</a:t>
            </a:r>
            <a:r>
              <a:rPr b="0" lang="ru-RU" sz="20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о  02.09.2009 г</a:t>
            </a:r>
            <a:r>
              <a:rPr b="1" lang="ru-RU" sz="2000" spc="-1" strike="noStrike">
                <a:solidFill>
                  <a:srgbClr val="1f497d"/>
                </a:solidFill>
                <a:latin typeface="Calibri"/>
              </a:rPr>
              <a:t>. А. Головань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азначен на должность Уполномоченного при Президенте РФ по правам ребенка,   ранее  занимал должность Уполномоченного по правам ребенка в городе Москве с 2002 год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Глава государства рекомендовал органам государственной власти субъектов Российской Федерации учредить должность уполномоченного по правам ребенк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6" descr="http://im8-tub.yandex.net/i?id=33652426&amp;tov=8"/>
          <p:cNvPicPr/>
          <p:nvPr/>
        </p:nvPicPr>
        <p:blipFill>
          <a:blip r:embed="rId1"/>
          <a:stretch/>
        </p:blipFill>
        <p:spPr>
          <a:xfrm>
            <a:off x="500040" y="1071720"/>
            <a:ext cx="1890720" cy="26431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" descr="http://im2-tub.yandex.net/i?id=182278221&amp;tov=2"/>
          <p:cNvPicPr/>
          <p:nvPr/>
        </p:nvPicPr>
        <p:blipFill>
          <a:blip r:embed="rId2"/>
          <a:stretch/>
        </p:blipFill>
        <p:spPr>
          <a:xfrm>
            <a:off x="1143000" y="4049640"/>
            <a:ext cx="2000160" cy="2808360"/>
          </a:xfrm>
          <a:prstGeom prst="rect">
            <a:avLst/>
          </a:prstGeom>
          <a:ln w="0">
            <a:noFill/>
          </a:ln>
        </p:spPr>
      </p:pic>
      <p:sp>
        <p:nvSpPr>
          <p:cNvPr id="97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356760"/>
            <a:ext cx="9144000" cy="7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УПОЛНОМОЧЕННЫЙ ПРИ ПРЕЗИДЕНТЕ РФ ПО ПРАВАМ РЕБЕНК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13840" y="4857840"/>
            <a:ext cx="8643960" cy="2000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Алексей  Иванович Головань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родился 2 февраля 1966 года в г. Дубна Московской области. </a:t>
            </a:r>
            <a:br>
              <a:rPr sz="2000"/>
            </a:b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Образование высшее, окончил: Московский инженерно-физический институт (МИФИ) (1989 г.), Институт молодежи (специальность: социальная работа) (1993 г.), Московскую государственную юридическую академию (МГЮА) по специальности «Юриспруденция» (2000 г.)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5" descr="Алексей Головань: Я занимаюсь трудными историями детей Фото: Курпяева Олеся"/>
          <p:cNvPicPr/>
          <p:nvPr/>
        </p:nvPicPr>
        <p:blipFill>
          <a:blip r:embed="rId1"/>
          <a:stretch/>
        </p:blipFill>
        <p:spPr>
          <a:xfrm>
            <a:off x="4722840" y="1000080"/>
            <a:ext cx="4064040" cy="27147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http://im5-tub.yandex.net/i?id=206277427&amp;tov=5"/>
          <p:cNvPicPr/>
          <p:nvPr/>
        </p:nvPicPr>
        <p:blipFill>
          <a:blip r:embed="rId2"/>
          <a:stretch/>
        </p:blipFill>
        <p:spPr>
          <a:xfrm>
            <a:off x="714240" y="1357200"/>
            <a:ext cx="3159360" cy="235764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643120" y="428760"/>
            <a:ext cx="585144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ОЛНОМОЧИЯ УПОЛНОМОЧЕННОГО ПРИ ПРЕЗИДЕНТЕ РФ ПО ПРАВАМ РЕБЕНК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13880" y="1642680"/>
            <a:ext cx="7643880" cy="378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   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Уполномоченному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и Президенте РФ 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по правам ребенка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едоставлено право запрашивать любую информацию из органов государственной власти и субъектов РФ; беспрепятственно посещать любой орган государственной власти и субъектов РФ; создавать консультативные советы; привлекать экспертов для работы; проводить независимые экспертизы органов и учреждений, в действиях которых он усматривает нарушения прав ребенка; давать рекомендации органам власти по восстановлению и профилактике нарушений прав ребенка. "Это стандартный набор полномочий для омбудсмена».-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" descr="В России опять появился уполномоченный по правам ребенка."/>
          <p:cNvPicPr/>
          <p:nvPr/>
        </p:nvPicPr>
        <p:blipFill>
          <a:blip r:embed="rId1"/>
          <a:stretch/>
        </p:blipFill>
        <p:spPr>
          <a:xfrm>
            <a:off x="214200" y="214200"/>
            <a:ext cx="2381400" cy="1638360"/>
          </a:xfrm>
          <a:prstGeom prst="rect">
            <a:avLst/>
          </a:prstGeom>
          <a:ln w="0">
            <a:noFill/>
          </a:ln>
        </p:spPr>
      </p:pic>
      <p:sp>
        <p:nvSpPr>
          <p:cNvPr id="106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4"/>
          <p:cNvSpPr/>
          <p:nvPr/>
        </p:nvSpPr>
        <p:spPr>
          <a:xfrm>
            <a:off x="0" y="0"/>
            <a:ext cx="9144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785880" y="4437720"/>
            <a:ext cx="757224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Arial"/>
                <a:ea typeface="Times New Roman"/>
              </a:rPr>
              <a:t>30 декабря 2009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года указом Президента Российской Федерации </a:t>
            </a: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Павел Алексеевич Астахов</a:t>
            </a:r>
            <a:r>
              <a:rPr b="1" lang="ru-RU" sz="24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азначен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1"/>
              </a:rPr>
              <a:t>Уполномоченным по правам ребенка при Президенте Российской Федераци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"/>
          <p:cNvPicPr/>
          <p:nvPr/>
        </p:nvPicPr>
        <p:blipFill>
          <a:blip r:embed="rId2"/>
          <a:stretch/>
        </p:blipFill>
        <p:spPr>
          <a:xfrm>
            <a:off x="3929040" y="428760"/>
            <a:ext cx="4572000" cy="3643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0" descr="http://im6-tub.yandex.net/i?id=207687666&amp;tov=6"/>
          <p:cNvPicPr/>
          <p:nvPr/>
        </p:nvPicPr>
        <p:blipFill>
          <a:blip r:embed="rId3"/>
          <a:stretch/>
        </p:blipFill>
        <p:spPr>
          <a:xfrm>
            <a:off x="571680" y="1428840"/>
            <a:ext cx="2962080" cy="220968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57160" y="285480"/>
            <a:ext cx="8072640" cy="92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УПОЛНОМОЧЕННЫЙ ПРИ ПРЕЗИДЕНТЕ РФ ПО ПРАВАМ РЕБЕН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785760" y="1999800"/>
            <a:ext cx="4708440" cy="4357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7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Павел Астахов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азначен Уполномоченным по правам ребенка при Президенте Российской Федерации. Соответствующий Указ был подписан Дмитрием Медведевым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30 декабря 2009 года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. Институт Уполномоченного при Президенте России по правам ребенка был создан в сентябре 2009 года. Органам государственной власти субъектов Российской Федерации было рекомендовано также учредить должности регионального Уполномоченного по правам ребёнк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8" descr="http://im2-tub.yandex.net/i?id=85126216&amp;tov=2"/>
          <p:cNvPicPr/>
          <p:nvPr/>
        </p:nvPicPr>
        <p:blipFill>
          <a:blip r:embed="rId1"/>
          <a:stretch/>
        </p:blipFill>
        <p:spPr>
          <a:xfrm>
            <a:off x="428760" y="1428840"/>
            <a:ext cx="3036600" cy="457200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643120" y="1071360"/>
            <a:ext cx="5927760" cy="507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Павел Алексеевич Астахов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8 сентября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1966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Москва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) — 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российский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адвокат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рочную военную службу проходил в пограничных войсках. Окончил Высшую школу 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КГБ СССР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1991 год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), школу права Питтсбургского университета (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США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2002 год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), кандидат юридических наук (2002 год, тема диссертации: «Динамика разрешения юридических конфликтов»), магистр права (2002 год, тема диссертации: «Разрешение международных коммерческих споров»). Доктор юридических наук (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2006 год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), тема диссертации: «Юридические конфликты и современные формы их разрешения»). Владеет шведским, испанским, французским, английскими языками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6" descr=""/>
          <p:cNvPicPr/>
          <p:nvPr/>
        </p:nvPicPr>
        <p:blipFill>
          <a:blip r:embed="rId11"/>
          <a:stretch/>
        </p:blipFill>
        <p:spPr>
          <a:xfrm>
            <a:off x="357120" y="1143000"/>
            <a:ext cx="1643040" cy="2755800"/>
          </a:xfrm>
          <a:prstGeom prst="rect">
            <a:avLst/>
          </a:prstGeom>
          <a:ln w="0">
            <a:noFill/>
          </a:ln>
        </p:spPr>
      </p:pic>
      <p:sp>
        <p:nvSpPr>
          <p:cNvPr id="118" name="TextBox 3"/>
          <p:cNvSpPr/>
          <p:nvPr/>
        </p:nvSpPr>
        <p:spPr>
          <a:xfrm>
            <a:off x="1500120" y="214200"/>
            <a:ext cx="678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Уполномоченный по правам ребенка Р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10" descr="http://t1.gstatic.com/images?q=tbn:5Sl9pBrSUPzToM:http://img.beta.rian.ru/images/16369/03/163690302.jpg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6643800" y="5572080"/>
            <a:ext cx="1938240" cy="1089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 "/>
          <p:cNvPicPr/>
          <p:nvPr/>
        </p:nvPicPr>
        <p:blipFill>
          <a:blip r:embed="rId14"/>
          <a:stretch/>
        </p:blipFill>
        <p:spPr>
          <a:xfrm>
            <a:off x="0" y="4714920"/>
            <a:ext cx="2508120" cy="178596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WordArt 4"/>
          <p:cNvSpPr txBox="1"/>
          <p:nvPr/>
        </p:nvSpPr>
        <p:spPr>
          <a:xfrm>
            <a:off x="285840" y="785880"/>
            <a:ext cx="8286840" cy="164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Уполномоченный  по правам человека в Саратовской област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23" name="Picture 10" descr="Панорама моста через Волгу"/>
          <p:cNvPicPr/>
          <p:nvPr/>
        </p:nvPicPr>
        <p:blipFill>
          <a:blip r:embed="rId1"/>
          <a:stretch/>
        </p:blipFill>
        <p:spPr>
          <a:xfrm>
            <a:off x="250920" y="3357720"/>
            <a:ext cx="8642160" cy="3314520"/>
          </a:xfrm>
          <a:prstGeom prst="rect">
            <a:avLst/>
          </a:prstGeom>
          <a:ln w="0">
            <a:noFill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071440" y="571320"/>
            <a:ext cx="7072200" cy="92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ЕРВЫЙ УПОЛНОМОЧЕННЫЙ ПО ПРАВАМ ЧЕЛОВЕКА В САРАТОВСКОЙ ОБЛА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214880" y="1857240"/>
            <a:ext cx="4279680" cy="4214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Calibri"/>
              </a:rPr>
              <a:t>  </a:t>
            </a:r>
            <a:r>
              <a:rPr b="1" lang="ru-RU" sz="2400" spc="-1" strike="noStrike">
                <a:solidFill>
                  <a:srgbClr val="1f497d"/>
                </a:solidFill>
                <a:latin typeface="Calibri"/>
              </a:rPr>
              <a:t>Александр Соломонович Ландо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 19 января 1999 года по 28 января 2004 года занимал должность Уполномоченного по правам человека в Саратовской области, отработав один срок полномочий. Его преемницей на этом посту стала </a:t>
            </a:r>
            <a:r>
              <a:rPr b="1" lang="ru-RU" sz="2400" spc="-1" strike="noStrike">
                <a:solidFill>
                  <a:srgbClr val="1f497d"/>
                </a:solidFill>
                <a:latin typeface="Calibri"/>
              </a:rPr>
              <a:t>Лукашова Нина Федоровна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Прямоугольник 3"/>
          <p:cNvSpPr/>
          <p:nvPr/>
        </p:nvSpPr>
        <p:spPr>
          <a:xfrm>
            <a:off x="5000760" y="255096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785880" y="1785960"/>
            <a:ext cx="2163600" cy="30193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http://im7-tub.yandex.net/i?id=97143819&amp;tov=7"/>
          <p:cNvPicPr/>
          <p:nvPr/>
        </p:nvPicPr>
        <p:blipFill>
          <a:blip r:embed="rId2"/>
          <a:stretch/>
        </p:blipFill>
        <p:spPr>
          <a:xfrm>
            <a:off x="0" y="-82440"/>
            <a:ext cx="2071800" cy="15685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9" descr="http://im6-tub.yandex.net/i?id=15666994&amp;tov=6"/>
          <p:cNvPicPr/>
          <p:nvPr/>
        </p:nvPicPr>
        <p:blipFill>
          <a:blip r:embed="rId3"/>
          <a:stretch/>
        </p:blipFill>
        <p:spPr>
          <a:xfrm>
            <a:off x="1928880" y="4991040"/>
            <a:ext cx="1643040" cy="1866960"/>
          </a:xfrm>
          <a:prstGeom prst="rect">
            <a:avLst/>
          </a:prstGeom>
          <a:ln w="0">
            <a:noFill/>
          </a:ln>
        </p:spPr>
      </p:pic>
      <p:sp>
        <p:nvSpPr>
          <p:cNvPr id="131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214200"/>
            <a:ext cx="7780320" cy="8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ИНСТИТУТ ОМБУДСМЕН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42960" y="1213920"/>
            <a:ext cx="7851600" cy="5000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Институт 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омбудсмена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имеет скандинавское происхождение. Впервые он был создан в Швеции в начале XIX века, когда в Конституции 1809 года была введена должность 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омбудсмена юстиции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. Однако сам термин "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омбудсмен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" появился в Швеции еще в XIII веке. Он имеет немецкое происхождение, и его корни восходят к раннему периоду истории германских племен. 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Омбудсменом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называлось лицо, которое избиралось для сбора от имени пострадавшей стороны денежной пени (виры) с преступников, совершивших убийство. Шведы и другие скандинавские народы переводили слово "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омбудсмен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" как "поверенный", "управляющий делами", "доверенное лицо". Предполагают также, что корни компетенции этой фигуры просматриваются в римских должностях цензоров, трибунов, провинциальных прокураторов. Поначалу, в эпоху абсолютной монархии, 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омбудсмены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были людьми короны, призванными контролировать от имени верховной власти деятельность чиновников и судей. По мере перехода к конституционной монархии 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омбудсеан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становится парламентским органом, что и получило закрепление в Конституции Швеции 1809 г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85520" y="642960"/>
            <a:ext cx="770868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УПОЛНОМОЧЕННЫЙ ПО ПРАВАМ ЧЕЛОВЕКА В САРАТОВСКОЙ ОБЛА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071600" y="2356920"/>
            <a:ext cx="4422600" cy="3286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28 января 2004 года </a:t>
            </a:r>
            <a:r>
              <a:rPr b="1" lang="ru-RU" sz="2800" spc="-1" strike="noStrike">
                <a:solidFill>
                  <a:srgbClr val="376092"/>
                </a:solidFill>
                <a:latin typeface="Calibri"/>
              </a:rPr>
              <a:t>Нина Федоровна Лукашова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азначена на должность Уполномоченного по правам человека в Саратовской област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4" descr=""/>
          <p:cNvPicPr/>
          <p:nvPr/>
        </p:nvPicPr>
        <p:blipFill>
          <a:blip r:embed="rId1"/>
          <a:stretch/>
        </p:blipFill>
        <p:spPr>
          <a:xfrm>
            <a:off x="571680" y="2000160"/>
            <a:ext cx="2786040" cy="3722760"/>
          </a:xfrm>
          <a:prstGeom prst="rect">
            <a:avLst/>
          </a:prstGeom>
          <a:ln w="0">
            <a:noFill/>
          </a:ln>
        </p:spPr>
      </p:pic>
      <p:sp>
        <p:nvSpPr>
          <p:cNvPr id="135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4"/>
          <p:cNvSpPr/>
          <p:nvPr/>
        </p:nvSpPr>
        <p:spPr>
          <a:xfrm>
            <a:off x="285840" y="4214880"/>
            <a:ext cx="85723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начале 2009 года  полномочия 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Н.Ф. Лукашевой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ыли продлены на новый срок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Н.Ф. Лукашова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однократно поощрялась приказами прокуратуры РФ, прокурора области за достижения и успехи в работе. За образцовое исполнение служебных обязанностей в июле 1997 года приказом генерального прокурора РФ награждена нагрудным знаком «Почётный работник прокуратуры Российской Федерации»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6" descr=""/>
          <p:cNvPicPr/>
          <p:nvPr/>
        </p:nvPicPr>
        <p:blipFill>
          <a:blip r:embed="rId1"/>
          <a:stretch/>
        </p:blipFill>
        <p:spPr>
          <a:xfrm>
            <a:off x="1571760" y="398520"/>
            <a:ext cx="5214960" cy="3733920"/>
          </a:xfrm>
          <a:prstGeom prst="rect">
            <a:avLst/>
          </a:prstGeom>
          <a:ln w="0">
            <a:noFill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357800" y="428760"/>
            <a:ext cx="4357440" cy="592920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19 февраля 2010 года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29 - м заседании  Саратовская областная дума приняла законопроект об учреждении в области должности 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уполномоченного по правам ребенка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. Назначаться он будет представительным органом области. Должность нового уполномоченного приравнивается к государственной. Не исполнение решений и предписаний уполномоченного повлечет административное наказани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2" descr="http://im0-tub.yandex.net/i?id=129890305&amp;tov=0"/>
          <p:cNvPicPr/>
          <p:nvPr/>
        </p:nvPicPr>
        <p:blipFill>
          <a:blip r:embed="rId1"/>
          <a:stretch/>
        </p:blipFill>
        <p:spPr>
          <a:xfrm>
            <a:off x="1143000" y="357120"/>
            <a:ext cx="1874880" cy="15001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" descr="http://im2-tub.yandex.net/i?id=50747351&amp;tov=2"/>
          <p:cNvPicPr/>
          <p:nvPr/>
        </p:nvPicPr>
        <p:blipFill>
          <a:blip r:embed="rId2"/>
          <a:stretch/>
        </p:blipFill>
        <p:spPr>
          <a:xfrm>
            <a:off x="285840" y="2000160"/>
            <a:ext cx="3857400" cy="2900520"/>
          </a:xfrm>
          <a:prstGeom prst="rect">
            <a:avLst/>
          </a:prstGeom>
          <a:ln w="0">
            <a:noFill/>
          </a:ln>
        </p:spPr>
      </p:pic>
      <p:sp>
        <p:nvSpPr>
          <p:cNvPr id="14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42960" y="571320"/>
            <a:ext cx="785160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ИСТОЧНИКИ ИНТЕРНЕТ РЕСУРСОВ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42600" y="1785600"/>
            <a:ext cx="7715160" cy="3429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2000"/>
          </a:bodyPr>
          <a:p>
            <a:pPr marL="420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1.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peoples.ru/state/lawyers/sergey_kovalev/index.htm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20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2.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ru.wikipedia.org/wik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20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3.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allabout.ru/a11530.htm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20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mbudsman.gov.ru/apparat/upolnom.shtm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20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http://images.yandex.ru/yandsearch?tex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20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6.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http://images.yandex.ru/yandsearch?tex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20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7.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http://news.rambler.ru/Russia/head/48586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20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8.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http://www.apnews.ru/news-1-8753.html /?page=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20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9.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http://images.yandex.ru/yandsearch?tex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20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0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http://images.yandex.ru/search?p=1&amp;tex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42960" y="428760"/>
            <a:ext cx="7851600" cy="10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УПОЛНОМОЧЕННЫЙ ПО ПРАВАМ ЧЕЛОВЕКА РФ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42600" y="1857240"/>
            <a:ext cx="7429320" cy="4143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огласно статье 103  Конституции Р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 ведению Государственной Думы относится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« д) назначение на должность и освобождение от должности </a:t>
            </a: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Уполномоченного по правам человека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,  действующего в соответствии с федеральным конституционным законом.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еимущество уполномоченного в отличие от государственного института –  часть государственной власти, сам не встроен в ее систему и является независимым.  Никому не подчиняется. Уполномоченный избирается на </a:t>
            </a: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5 лет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 может быть переизбран на второй срок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9680" y="356760"/>
            <a:ext cx="7994520" cy="7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ЗАКОН "ОБ УПОЛНОМОЧЕННОМ ПО ПРАВАМ ЧЕЛОВЕКА В РОССИЙСКОЙ ФЕДЕРАЦИИ"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42960" y="1500120"/>
            <a:ext cx="7851600" cy="3929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98989"/>
                </a:solidFill>
                <a:latin typeface="Calibri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Федеральный конституционный закон "Об Уполномоченном по правам человека в Российской Федерации" был принят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26 декабря 1997 года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. Он определил порядок назначения на должность и освобождения от должности Уполномоченного, его компетенцию, организационные формы и условия его деятельност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ак сказано в п. 1 статьи 1 Закона, должность Уполномоченного по правам человека в Российской Федерации учреждается в соответствии с Конституцией РФ в целях обеспечения гарантий государственной защиты прав и свобод граждан, их соблюдения и уважения государственными органами, органами местного самоуправления и должностными лицам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28440" y="213840"/>
            <a:ext cx="77864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ПЕРВЫМ ОМБУДСМАНОМ В РОССИИ БЫЛ </a:t>
            </a: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СЕРГЕЙ АДАМОВИЧ КОВАЛЕВ</a:t>
            </a: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28400" y="3642840"/>
            <a:ext cx="8072280" cy="2786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авозащитник, председатель общества "Мемориал", глава общественного Института прав человека, член правозащитной фракции партии "Яблоко". В прошлом - депутат Государственной Думы РФ первого - третьего созывов, депутат Съезда народных депутатов Росс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В 1993-1995 годах - председатель Комиссии по правам человека при президенте Росси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3" descr="http://www.peoples.ru/state/lawyers/sergey_kovalev/kovalev_4_s.jpg"/>
          <p:cNvPicPr/>
          <p:nvPr/>
        </p:nvPicPr>
        <p:blipFill>
          <a:blip r:embed="rId1"/>
          <a:stretch/>
        </p:blipFill>
        <p:spPr>
          <a:xfrm>
            <a:off x="0" y="1071720"/>
            <a:ext cx="2571840" cy="2571480"/>
          </a:xfrm>
          <a:prstGeom prst="rect">
            <a:avLst/>
          </a:prstGeom>
          <a:ln w="0">
            <a:noFill/>
          </a:ln>
        </p:spPr>
      </p:pic>
      <p:sp>
        <p:nvSpPr>
          <p:cNvPr id="65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14240" y="214200"/>
            <a:ext cx="8429760" cy="5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УПОЛНОМОЧЕННЫЙ ПО ПРАВАМ ЧЕЛОВЕКА Р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0040" y="4285800"/>
            <a:ext cx="8072640" cy="2000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6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ле́г Оре́стович Миро́нов (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5 июня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1939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Пятигорск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Ставропольского края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РСФСР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СССР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) —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Уполномоченный по правам человека в Российской Федерации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в 1998—2004 годах, на 2010 г. — единственный юрист на этом посту. Депутат ГД ФС РФ I и II созывов (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КПРФ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), доктор юридических наук, профессор, заслуженный юрист Российской Федерац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4" descr="http://video-tub.yandex.ru/i?&amp;tov=0&amp;id=842086"/>
          <p:cNvPicPr/>
          <p:nvPr/>
        </p:nvPicPr>
        <p:blipFill>
          <a:blip r:embed="rId9"/>
          <a:stretch/>
        </p:blipFill>
        <p:spPr>
          <a:xfrm>
            <a:off x="2500200" y="785880"/>
            <a:ext cx="3667320" cy="2751120"/>
          </a:xfrm>
          <a:prstGeom prst="rect">
            <a:avLst/>
          </a:prstGeom>
          <a:ln w="0">
            <a:noFill/>
          </a:ln>
        </p:spPr>
      </p:pic>
      <p:sp>
        <p:nvSpPr>
          <p:cNvPr id="69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9680" y="2928960"/>
            <a:ext cx="8186760" cy="328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ле́г Оре́стович Миро́нов окончил Саратовский юридический институт им. Д. И. Курского в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1963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 г., аспирантуру этого института в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1967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 г., доктор юридических наук, профессор; действительный член Академии социальных наук; в 1956—1959 годах работал токарем Виноградненской МТС Северо-Осетинской АССР, затем инструктором горного туризма в Северо-Кавказском экскурсионном управлении в г. Пятигорске; после окончания института работал следователем в милиции городов Пятигорска и Железноводска; 1965—1982 — ассистент, преподаватель, доцент, заведующий кафедрой государственного права Саратовского юридического института; 1982—1991 — профессор, декан, заведующий кафедрой государственного строительства и права, проректор по научной работе Саратовской ВПШ (Поволжского социально-политического института); 1991—1993 — профессор кафедры конституционного права Саратовского юридического института; в 1993 г. и в 1995 г. избирался депутатом Государственной Думы Федерального Собрания РФ первого и второго созывов, был членом фракции КПРФ, членом Комитета по законодательству и судебно-правовой реформе, депутатом Парламентского Собрания Союза Белоруссии и России,  членом  Комиссии Межпарламентской  Ассамблеи государств — участников СНГ по правовым вопросам; с 1993 г. — член ЦИК, с 1995 г. — член ЦК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КПРФ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6" descr="Картинка 5 из 54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714680" y="285840"/>
            <a:ext cx="2666880" cy="2117520"/>
          </a:xfrm>
          <a:prstGeom prst="rect">
            <a:avLst/>
          </a:prstGeom>
          <a:ln w="0">
            <a:noFill/>
          </a:ln>
        </p:spPr>
      </p:pic>
      <p:sp>
        <p:nvSpPr>
          <p:cNvPr id="7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00080" y="428760"/>
            <a:ext cx="7494480" cy="10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ЕРВЫЙ УПОЛНОМОЧЕННЫЙ ПО ПРАВАМ ЧЕЛОВЕКА РФ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42960" y="4571640"/>
            <a:ext cx="7851600" cy="1785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3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 2002 году Генеральной ассамблеей Европейского института омбудсмена 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О. О. Миронов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ервым из правозащитников государств бывшего Советского Союза избран членом совета директоров Европейского института омбудсмен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http://im0-tub.yandex.net/i?id=15940135&amp;tov=0"/>
          <p:cNvPicPr/>
          <p:nvPr/>
        </p:nvPicPr>
        <p:blipFill>
          <a:blip r:embed="rId1"/>
          <a:stretch/>
        </p:blipFill>
        <p:spPr>
          <a:xfrm>
            <a:off x="714240" y="1285920"/>
            <a:ext cx="2986200" cy="2286000"/>
          </a:xfrm>
          <a:prstGeom prst="rect">
            <a:avLst/>
          </a:prstGeom>
          <a:ln w="0">
            <a:noFill/>
          </a:ln>
        </p:spPr>
      </p:pic>
      <p:sp>
        <p:nvSpPr>
          <p:cNvPr id="76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4"/>
          <p:cNvSpPr/>
          <p:nvPr/>
        </p:nvSpPr>
        <p:spPr>
          <a:xfrm>
            <a:off x="928800" y="4007880"/>
            <a:ext cx="75009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феврале 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2004 год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Владимир Петрович Лукин был выдвинут Президентом РФ Владимиром Владимировичем Путиным на пост Уполномоченного по правам человека в Российской Федерац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13 феврал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2004 год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Государственная Дума избрала </a:t>
            </a:r>
            <a:r>
              <a:rPr b="1" lang="ru-RU" sz="2000" spc="-1" strike="noStrike">
                <a:solidFill>
                  <a:srgbClr val="1f497d"/>
                </a:solidFill>
                <a:latin typeface="Arial"/>
              </a:rPr>
              <a:t>Владимира  Петровича Лукина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 эту долж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"/>
          <p:cNvPicPr/>
          <p:nvPr/>
        </p:nvPicPr>
        <p:blipFill>
          <a:blip r:embed="rId4"/>
          <a:stretch/>
        </p:blipFill>
        <p:spPr>
          <a:xfrm>
            <a:off x="642960" y="1071720"/>
            <a:ext cx="2725560" cy="2643120"/>
          </a:xfrm>
          <a:prstGeom prst="rect">
            <a:avLst/>
          </a:prstGeom>
          <a:ln w="0">
            <a:noFill/>
          </a:ln>
        </p:spPr>
      </p:pic>
      <p:sp>
        <p:nvSpPr>
          <p:cNvPr id="79" name="TextBox 3"/>
          <p:cNvSpPr/>
          <p:nvPr/>
        </p:nvSpPr>
        <p:spPr>
          <a:xfrm>
            <a:off x="1000080" y="500040"/>
            <a:ext cx="757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Уполномоченный по правам человека Р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1-28T11:41:44Z</dcterms:modified>
  <cp:revision>83</cp:revision>
  <dc:subject/>
  <dc:title>Уполномоченный по правам человека в России</dc:title>
</cp:coreProperties>
</file>