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png" ContentType="image/png"/>
  <Override PartName="/ppt/media/image2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4101-61E4-4FD6-9F21-7B758ABC8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slide" Target="../slides/slide6.xml"/><Relationship Id="rId9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B879-71CC-418C-8BA4-7AD961DE0E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2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1C97-C0CD-4460-B416-083CAC9AA0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митрий Медведев и Владимир Лук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3B1E-EA3F-4964-A108-3D52079586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7B24-9DF5-44A8-BCED-8B8C32E5C3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1200"/>
            </a:b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C1EE-2CEA-4B72-9273-25F9277143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1FFF-B9B5-480F-BB24-92E3A821B3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  <a:ea typeface="Times New Roman"/>
              </a:rPr>
              <a:t>30 декабря 200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года указом Президента Российской Федерации </a:t>
            </a: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значен Уполномоченным по правам ребенка при Президенте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D9F6-F9DB-4975-BEF0-4A16BE798C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E731-5319-4CD4-90AA-B95FCF43FB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8 сентября 1966, Москва) — российский адвокат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КГБ СССР (1991 год), школу права Питтсбургского университета (США, 2002 год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2006 год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2A6D-9FAB-4234-9852-50A001EEBD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полномоченный  по правам человека в Сарат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1BD7-82DD-4242-81B8-CBDC39B1213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7BD4-4FD8-4841-92D9-9AE1AA2E36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DA20-0C46-4FC8-8339-1F78FB80A5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12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13D4-78AE-4861-9556-A488BF27AF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начале 2009 года  полномочия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е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и продлены на новый сро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.Ф. Лукашов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50D9-A033-43D0-A2B5-01C0EFA6DC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7B09-6B08-4FFF-86DA-B71E54DE32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eoples.ru/state/lawyers/sergey_kovalev/index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allabout.ru/a11530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news.rambler.ru/Russia/head/4858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pnews.ru/news-1-8753.html /?page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images.yandex.ru/yandsearch?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288A-20B3-4866-8C19-3FDA11D557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1660-B812-4FE5-A488-C75AB6593F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5D3D-480F-46E7-873C-8C62B88720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1200"/>
            </a:b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ергей Адамович Ковале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DDCE-9F81-4754-9F78-01BD8F150E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КПРФ), доктор юридических наук, профессор, заслуженный юрист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8583-89A7-4304-92D0-21D7EC1107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1963 г., аспирантуру этого института в 1967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КП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A78A-EEB7-4894-817E-B310871A69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228E-30D7-4A48-81E9-730B977AED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еврале 2004 года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 февраля 2004 года Государственная Дума избрала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ладимира  Петровича Лук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эту долж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55A2-3E8F-4533-BDB1-6371232E92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F57-F7BB-4E8C-864B-BC976C2A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02B-2A12-47B3-A31C-7383FDCF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CB4-42E0-4F2E-B8BD-AF343EB5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93D-4C19-485F-8E49-E4158DEF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7942-B71A-4085-85C9-B3BCBE37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23E-FCC4-452B-9068-891057D6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50BC-9873-4557-AE4B-2E8B3B4B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247-53AB-4138-81C4-E32E559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9BB-F879-4913-8363-E4BC10DA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6315-A1B7-4E43-B95D-73589532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3445-64A3-43F2-BDDE-DCBAC07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8A5-8007-4319-9A10-D5B95955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A43B-7619-484D-96AA-F5EF52E533C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C9C3-4A99-42EE-A6EF-FD4BD663E2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Dmitry_Medvedev_10_June_2008-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9;&#1087;&#1086;&#1083;&#1085;&#1086;&#1084;&#1086;&#1095;&#1077;&#1085;&#1085;&#1099;&#1081;_&#1087;&#1088;&#1080;_&#1055;&#1088;&#1077;&#1079;&#1080;&#1076;&#1077;&#1085;&#1090;&#1077;_&#1056;&#1086;&#1089;&#1089;&#1080;&#1081;&#1089;&#1082;&#1086;&#1081;_&#1060;&#1077;&#1076;&#1077;&#1088;&#1072;&#1094;&#1080;&#1080;_&#1087;&#1086;_&#1087;&#1088;&#1072;&#1074;&#1072;&#1084;_&#1088;&#1077;&#1073;&#1105;&#1085;&#1082;&#1072;" TargetMode="External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8_&#1089;&#1077;&#1085;&#1090;&#1103;&#1073;&#1088;&#1103;" TargetMode="External"/><Relationship Id="rId2" Type="http://schemas.openxmlformats.org/officeDocument/2006/relationships/hyperlink" Target="http://ru.wikipedia.org/wiki/1966" TargetMode="External"/><Relationship Id="rId3" Type="http://schemas.openxmlformats.org/officeDocument/2006/relationships/hyperlink" Target="http://ru.wikipedia.org/wiki/&#1052;&#1086;&#1089;&#1082;&#1074;&#1072;" TargetMode="External"/><Relationship Id="rId4" Type="http://schemas.openxmlformats.org/officeDocument/2006/relationships/hyperlink" Target="http://ru.wikipedia.org/wiki/&#1056;&#1086;&#1089;&#1089;&#1080;&#1103;" TargetMode="External"/><Relationship Id="rId5" Type="http://schemas.openxmlformats.org/officeDocument/2006/relationships/hyperlink" Target="http://ru.wikipedia.org/wiki/&#1040;&#1076;&#1074;&#1086;&#1082;&#1072;&#1090;" TargetMode="External"/><Relationship Id="rId6" Type="http://schemas.openxmlformats.org/officeDocument/2006/relationships/hyperlink" Target="http://ru.wikipedia.org/wiki/&#1050;&#1043;&#1041;_&#1057;&#1057;&#1057;&#1056;" TargetMode="External"/><Relationship Id="rId7" Type="http://schemas.openxmlformats.org/officeDocument/2006/relationships/hyperlink" Target="http://ru.wikipedia.org/wiki/1991_&#1075;&#1086;&#1076;" TargetMode="External"/><Relationship Id="rId8" Type="http://schemas.openxmlformats.org/officeDocument/2006/relationships/hyperlink" Target="http://ru.wikipedia.org/wiki/&#1057;&#1064;&#1040;" TargetMode="External"/><Relationship Id="rId9" Type="http://schemas.openxmlformats.org/officeDocument/2006/relationships/hyperlink" Target="http://ru.wikipedia.org/wiki/2002_&#1075;&#1086;&#1076;" TargetMode="External"/><Relationship Id="rId10" Type="http://schemas.openxmlformats.org/officeDocument/2006/relationships/hyperlink" Target="http://ru.wikipedia.org/wiki/2006_&#1075;&#1086;&#1076;" TargetMode="External"/><Relationship Id="rId11" Type="http://schemas.openxmlformats.org/officeDocument/2006/relationships/image" Target="../media/image18.png"/><Relationship Id="rId12" Type="http://schemas.openxmlformats.org/officeDocument/2006/relationships/hyperlink" Target="http://images.google.ru/imgres?imgurl=http://img.beta.rian.ru/images/16369/03/163690302.jpg&amp;imgrefurl=http://www.rian.ru/culture/20090304/163833749.html&amp;usg=__7wH22lHprfjASVlshfUZRW4AdCQ=&amp;h=203&amp;w=360&amp;sz=35&amp;hl=ru&amp;start=4&amp;itbs=1&amp;tbnid=5Sl9pBrSUPzToM:&amp;tbnh=68&amp;tbnw=121&amp;prev=/images?q=.&#1055;&#1072;&#1074;&#1077;&#1083;+&#1040;&#1089;&#1090;&#1072;&#1093;&#1086;&#1074;+&#1091;&#1087;&#1086;&#1083;&#1085;&#1086;&#1084;&#1086;&#1095;&#1077;&#1085;&#1085;&#1099;&#1081;+&#1087;&#1086;+&#1087;&#1088;&#1072;&#1074;&#1072;&#1084;+&#1088;&#1077;&#1073;&#1077;&#1085;&#1082;&#1072;+&#1074;+&#1056;&#1086;&#1089;&#1089;&#1080;&#1080;+&#1073;&#1080;&#1086;&#1075;&#1088;&#1072;&#1092;&#1080;&#1103;&amp;hl=ru&amp;newwindow=1&amp;sa=G&amp;tbs=isch:1" TargetMode="Externa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peoples.ru/state/lawyers/sergey_kovalev/index.html" TargetMode="External"/><Relationship Id="rId2" Type="http://schemas.openxmlformats.org/officeDocument/2006/relationships/hyperlink" Target="http://www.peoples.ru/state/lawyers/sergey_kovalev/index.html" TargetMode="External"/><Relationship Id="rId3" Type="http://schemas.openxmlformats.org/officeDocument/2006/relationships/hyperlink" Target="http://ru.wikipedia.org/wiki" TargetMode="External"/><Relationship Id="rId4" Type="http://schemas.openxmlformats.org/officeDocument/2006/relationships/hyperlink" Target="http://ru.wikipedia.org/wiki" TargetMode="External"/><Relationship Id="rId5" Type="http://schemas.openxmlformats.org/officeDocument/2006/relationships/hyperlink" Target="http://www.allabout.ru/a11530.html" TargetMode="External"/><Relationship Id="rId6" Type="http://schemas.openxmlformats.org/officeDocument/2006/relationships/hyperlink" Target="http://www.allabout.ru/a11530.html" TargetMode="External"/><Relationship Id="rId7" Type="http://schemas.openxmlformats.org/officeDocument/2006/relationships/hyperlink" Target="http://images.yandex.ru/yandsearch?text" TargetMode="External"/><Relationship Id="rId8" Type="http://schemas.openxmlformats.org/officeDocument/2006/relationships/hyperlink" Target="http://images.yandex.ru/yandsearch?text" TargetMode="External"/><Relationship Id="rId9" Type="http://schemas.openxmlformats.org/officeDocument/2006/relationships/hyperlink" Target="http://news.rambler.ru/Russia/head/4858656/?page=2" TargetMode="External"/><Relationship Id="rId10" Type="http://schemas.openxmlformats.org/officeDocument/2006/relationships/hyperlink" Target="http://news.rambler.ru/Russia/head/4858656/?page=2" TargetMode="External"/><Relationship Id="rId11" Type="http://schemas.openxmlformats.org/officeDocument/2006/relationships/hyperlink" Target="http://images.yandex.ru/yandsearch?text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5_&#1080;&#1102;&#1085;&#1103;" TargetMode="External"/><Relationship Id="rId2" Type="http://schemas.openxmlformats.org/officeDocument/2006/relationships/hyperlink" Target="http://ru.wikipedia.org/wiki/1939" TargetMode="External"/><Relationship Id="rId3" Type="http://schemas.openxmlformats.org/officeDocument/2006/relationships/hyperlink" Target="http://ru.wikipedia.org/wiki/&#1055;&#1103;&#1090;&#1080;&#1075;&#1086;&#1088;&#1089;&#1082;" TargetMode="External"/><Relationship Id="rId4" Type="http://schemas.openxmlformats.org/officeDocument/2006/relationships/hyperlink" Target="http://ru.wikipedia.org/wiki/&#1057;&#1090;&#1072;&#1074;&#1088;&#1086;&#1087;&#1086;&#1083;&#1100;&#1089;&#1082;&#1080;&#1081;_&#1082;&#1088;&#1072;&#1081;" TargetMode="External"/><Relationship Id="rId5" Type="http://schemas.openxmlformats.org/officeDocument/2006/relationships/hyperlink" Target="http://ru.wikipedia.org/wiki/&#1056;&#1057;&#1060;&#1057;&#1056;" TargetMode="External"/><Relationship Id="rId6" Type="http://schemas.openxmlformats.org/officeDocument/2006/relationships/hyperlink" Target="http://ru.wikipedia.org/wiki/&#1057;&#1057;&#1057;&#1056;" TargetMode="External"/><Relationship Id="rId7" Type="http://schemas.openxmlformats.org/officeDocument/2006/relationships/hyperlink" Target="http://ru.wikipedia.org/wiki/&#1059;&#1087;&#1086;&#1083;&#1085;&#1086;&#1084;&#1086;&#1095;&#1077;&#1085;&#1085;&#1099;&#1081;_&#1087;&#1086;_&#1087;&#1088;&#1072;&#1074;&#1072;&#1084;_&#1095;&#1077;&#1083;&#1086;&#1074;&#1077;&#1082;&#1072;_&#1074;_&#1056;&#1086;&#1089;&#1089;&#1080;&#1081;&#1089;&#1082;&#1086;&#1081;_&#1060;&#1077;&#1076;&#1077;&#1088;&#1072;&#1094;&#1080;&#1080;" TargetMode="External"/><Relationship Id="rId8" Type="http://schemas.openxmlformats.org/officeDocument/2006/relationships/hyperlink" Target="http://ru.wikipedia.org/wiki/&#1050;&#1055;&#1056;&#1060;" TargetMode="External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63" TargetMode="External"/><Relationship Id="rId2" Type="http://schemas.openxmlformats.org/officeDocument/2006/relationships/hyperlink" Target="http://ru.wikipedia.org/wiki/1967" TargetMode="External"/><Relationship Id="rId3" Type="http://schemas.openxmlformats.org/officeDocument/2006/relationships/hyperlink" Target="http://ru.wikipedia.org/wiki/&#1050;&#1055;&#1056;&#1060;" TargetMode="External"/><Relationship Id="rId4" Type="http://schemas.openxmlformats.org/officeDocument/2006/relationships/hyperlink" Target="http://www.epochtimes.ru/images/stories/04/russia/75_molod_2.jpg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04_&#1075;&#1086;&#1076;" TargetMode="External"/><Relationship Id="rId2" Type="http://schemas.openxmlformats.org/officeDocument/2006/relationships/hyperlink" Target="http://ru.wikipedia.org/wiki/13_&#1092;&#1077;&#1074;&#1088;&#1072;&#1083;&#1103;" TargetMode="External"/><Relationship Id="rId3" Type="http://schemas.openxmlformats.org/officeDocument/2006/relationships/hyperlink" Target="http://ru.wikipedia.org/wiki/2004_&#1075;&#1086;&#1076;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785520"/>
            <a:ext cx="75657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5760" y="2906640"/>
            <a:ext cx="47084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3500280" y="1928880"/>
            <a:ext cx="43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олномоченный по правам человека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://www.svobod.ru/upload/PRAVO.png"/>
          <p:cNvPicPr/>
          <p:nvPr/>
        </p:nvPicPr>
        <p:blipFill>
          <a:blip r:embed="rId1"/>
          <a:stretch/>
        </p:blipFill>
        <p:spPr>
          <a:xfrm>
            <a:off x="1285920" y="1785960"/>
            <a:ext cx="2071800" cy="283356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3178080" cy="399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8"/>
          <p:cNvSpPr/>
          <p:nvPr/>
        </p:nvSpPr>
        <p:spPr>
          <a:xfrm>
            <a:off x="4000680" y="1518120"/>
            <a:ext cx="47862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Arial"/>
              </a:rPr>
              <a:t>Владимир Петрович Лукин</a:t>
            </a:r>
            <a:r>
              <a:rPr b="0" lang="ru-RU" sz="18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родился 13 июля 1937 года в Омске) — российский государственный и политический деятель, политоло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дители были репрессированы через несколько дней после его рождения, воспитывался у родственников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1959 году окончил исторический факультет Московского государственного педагогического института им. В.И. Ленина. Доктор истор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14240" y="357120"/>
            <a:ext cx="785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Уполномоченный по правам человека 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upload.wikimedia.org/wikipedia/commons/thumb/6/60/Dmitry_Medvedev_10_June_2008-1.jpg/250px-Dmitry_Medvedev_10_June_2008-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285840"/>
            <a:ext cx="5238720" cy="3500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24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0" y="403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715000" y="5018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митрий Медведев и Владимир Лук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143000" y="3857760"/>
            <a:ext cx="7572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 2009 году  Уполномоченному по правам чело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.П. Лукин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тупило около 31 тысячи жалоб. Только письменных жалоб регистрируется около 100 в день.  Жалобы поступают устно: по телефону и при личных встречах. В 10% обратившиеся получают помощь.      ( «Российская газета» ст. «Уполномочен и независим» №29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http://im3-tub.yandex.net/i?id=214712128&amp;tov=3"/>
          <p:cNvPicPr/>
          <p:nvPr/>
        </p:nvPicPr>
        <p:blipFill>
          <a:blip r:embed="rId3"/>
          <a:stretch/>
        </p:blipFill>
        <p:spPr>
          <a:xfrm>
            <a:off x="6643800" y="1785960"/>
            <a:ext cx="1346040" cy="17859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3880" y="428400"/>
            <a:ext cx="7851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43160" y="1142640"/>
            <a:ext cx="557208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Алексей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 марта 2005 года являлся Председателем Ассоциации уполномоченных по правам ребенка в субъектах РФ.</a:t>
            </a: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  02.09.2009 г</a:t>
            </a:r>
            <a:r>
              <a:rPr b="1" lang="ru-RU" sz="2000" spc="-1" strike="noStrike">
                <a:solidFill>
                  <a:srgbClr val="1f497d"/>
                </a:solidFill>
                <a:latin typeface="Calibri"/>
              </a:rPr>
              <a:t>. А. Голован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на должность Уполномоченного при Президенте РФ по правам ребенка,   ранее  занимал должность Уполномоченного по правам ребенка в городе Москве с 2002 го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лава государства рекомендовал органам государственной власти субъектов Российской Федерации учредить должность уполномоченного по правам ребе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http://im8-tub.yandex.net/i?id=33652426&amp;tov=8"/>
          <p:cNvPicPr/>
          <p:nvPr/>
        </p:nvPicPr>
        <p:blipFill>
          <a:blip r:embed="rId1"/>
          <a:stretch/>
        </p:blipFill>
        <p:spPr>
          <a:xfrm>
            <a:off x="500040" y="1071720"/>
            <a:ext cx="189072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http://im2-tub.yandex.net/i?id=182278221&amp;tov=2"/>
          <p:cNvPicPr/>
          <p:nvPr/>
        </p:nvPicPr>
        <p:blipFill>
          <a:blip r:embed="rId2"/>
          <a:stretch/>
        </p:blipFill>
        <p:spPr>
          <a:xfrm>
            <a:off x="1143000" y="4049640"/>
            <a:ext cx="2000160" cy="28083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13840" y="4857840"/>
            <a:ext cx="8643960" cy="200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3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лексей  Иванович Головань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одился 2 февраля 1966 года в г. Дубна Московской области.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бразование высшее, окончил: Московский инженерно-физический институт (МИФИ) (1989 г.), Институт молодежи (специальность: социальная работа) (1993 г.), Московскую государственную юридическую академию (МГЮА) по специальности «Юриспруденция» (2000 г.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Алексей Головань: Я занимаюсь трудными историями детей Фото: Курпяева Олеся"/>
          <p:cNvPicPr/>
          <p:nvPr/>
        </p:nvPicPr>
        <p:blipFill>
          <a:blip r:embed="rId1"/>
          <a:stretch/>
        </p:blipFill>
        <p:spPr>
          <a:xfrm>
            <a:off x="4722840" y="1000080"/>
            <a:ext cx="4064040" cy="2714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im5-tub.yandex.net/i?id=206277427&amp;tov=5"/>
          <p:cNvPicPr/>
          <p:nvPr/>
        </p:nvPicPr>
        <p:blipFill>
          <a:blip r:embed="rId2"/>
          <a:stretch/>
        </p:blipFill>
        <p:spPr>
          <a:xfrm>
            <a:off x="714240" y="1357200"/>
            <a:ext cx="3159360" cy="235764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43120" y="428760"/>
            <a:ext cx="585144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ЛНОМОЧИЯ УПОЛНОМОЧЕННОГО ПРИ ПРЕЗИДЕНТЕ РФ ПО ПРАВАМ РЕБЕН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13880" y="1642680"/>
            <a:ext cx="7643880" cy="378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полномоченному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 Президенте РФ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 правам ребе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оставлено право запрашивать любую информацию из органов государственной власти и субъектов РФ; беспрепятственно посещать любой орган государственной власти и субъектов РФ; создавать консультативные советы; привлекать экспертов для работы; проводить независимые экспертизы органов и учреждений, в действиях которых он усматривает нарушения прав ребенка; давать рекомендации органам власти по восстановлению и профилактике нарушений прав ребенка. "Это стандартный набор полномочий для омбудсмена».-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В России опять появился уполномоченный по правам ребенка."/>
          <p:cNvPicPr/>
          <p:nvPr/>
        </p:nvPicPr>
        <p:blipFill>
          <a:blip r:embed="rId1"/>
          <a:stretch/>
        </p:blipFill>
        <p:spPr>
          <a:xfrm>
            <a:off x="214200" y="214200"/>
            <a:ext cx="2381400" cy="16383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785880" y="4437720"/>
            <a:ext cx="75722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  <a:ea typeface="Times New Roman"/>
              </a:rPr>
              <a:t>30 декабря 200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года указом Президента Российской Федерации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авел Алексеевич Астахов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значен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Times New Roman"/>
                <a:hlinkClick r:id="rId1"/>
              </a:rPr>
              <a:t>Уполномоченным по правам ребенка при Президенте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929040" y="428760"/>
            <a:ext cx="4572000" cy="36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http://im6-tub.yandex.net/i?id=207687666&amp;tov=6"/>
          <p:cNvPicPr/>
          <p:nvPr/>
        </p:nvPicPr>
        <p:blipFill>
          <a:blip r:embed="rId3"/>
          <a:stretch/>
        </p:blipFill>
        <p:spPr>
          <a:xfrm>
            <a:off x="571680" y="1428840"/>
            <a:ext cx="2962080" cy="22096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80726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РИ ПРЕЗИДЕНТЕ РФ ПО ПРАВАМ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85760" y="1999800"/>
            <a:ext cx="4708440" cy="43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авел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значен Уполномоченным по правам ребенка при Президенте Российской Федерации. Соответствующий Указ был подписан Дмитрием Медведевым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30 декабря 2009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Институт Уполномоченного при Президенте России по правам ребенка был создан в сентябре 2009 года. Органам государственной власти субъектов Российской Федерации было рекомендовано также учредить должности регионального Уполномоченного по правам ребёнк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8" descr="http://im2-tub.yandex.net/i?id=85126216&amp;tov=2"/>
          <p:cNvPicPr/>
          <p:nvPr/>
        </p:nvPicPr>
        <p:blipFill>
          <a:blip r:embed="rId1"/>
          <a:stretch/>
        </p:blipFill>
        <p:spPr>
          <a:xfrm>
            <a:off x="428760" y="1428840"/>
            <a:ext cx="3036600" cy="4572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43120" y="1071360"/>
            <a:ext cx="5927760" cy="507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авел Алексеевич Астахов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8 сентябр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6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Москв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российс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адвокат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рочную военную службу проходил в пограничных войсках. Окончил Высшую школу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КГБ ССС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1991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школу права Питтсбургского университета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СШ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2002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кандидат юридических наук (2002 год, тема диссертации: «Динамика разрешения юридических конфликтов»), магистр права (2002 год, тема диссертации: «Разрешение международных коммерческих споров»). Доктор юридических наук (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2006 год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, тема диссертации: «Юридические конфликты и современные формы их разрешения»). Владеет шведским, испанским, французским, английскими язы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1"/>
          <a:stretch/>
        </p:blipFill>
        <p:spPr>
          <a:xfrm>
            <a:off x="357120" y="1143000"/>
            <a:ext cx="1643040" cy="27558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500120" y="214200"/>
            <a:ext cx="67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Уполномоченный по правам ребен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http://t1.gstatic.com/images?q=tbn:5Sl9pBrSUPzToM:http://img.beta.rian.ru/images/16369/03/163690302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643800" y="5572080"/>
            <a:ext cx="1938240" cy="1089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 "/>
          <p:cNvPicPr/>
          <p:nvPr/>
        </p:nvPicPr>
        <p:blipFill>
          <a:blip r:embed="rId14"/>
          <a:stretch/>
        </p:blipFill>
        <p:spPr>
          <a:xfrm>
            <a:off x="0" y="4714920"/>
            <a:ext cx="2508120" cy="1785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285840" y="785880"/>
            <a:ext cx="828684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полномоченный  по правам человека в Саратовской област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3" name="Picture 10" descr="Панорама моста через Волгу"/>
          <p:cNvPicPr/>
          <p:nvPr/>
        </p:nvPicPr>
        <p:blipFill>
          <a:blip r:embed="rId1"/>
          <a:stretch/>
        </p:blipFill>
        <p:spPr>
          <a:xfrm>
            <a:off x="250920" y="3357720"/>
            <a:ext cx="8642160" cy="33145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71440" y="571320"/>
            <a:ext cx="70722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В САРАТОВСКОЙ ОБЛА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4279680" cy="421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Александр Соломонович Ландо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19 января 1999 года по 28 января 2004 года занимал должность Уполномоченного по правам человека в Саратовской области, отработав один срок полномочий. Его преемницей на этом посту стала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Лукашова Нина Федоровн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5000760" y="255096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2163600" cy="3019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im7-tub.yandex.net/i?id=97143819&amp;tov=7"/>
          <p:cNvPicPr/>
          <p:nvPr/>
        </p:nvPicPr>
        <p:blipFill>
          <a:blip r:embed="rId2"/>
          <a:stretch/>
        </p:blipFill>
        <p:spPr>
          <a:xfrm>
            <a:off x="0" y="-82440"/>
            <a:ext cx="2071800" cy="1568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m6-tub.yandex.net/i?id=15666994&amp;tov=6"/>
          <p:cNvPicPr/>
          <p:nvPr/>
        </p:nvPicPr>
        <p:blipFill>
          <a:blip r:embed="rId3"/>
          <a:stretch/>
        </p:blipFill>
        <p:spPr>
          <a:xfrm>
            <a:off x="1928880" y="4991040"/>
            <a:ext cx="1643040" cy="186696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780320" cy="8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НСТИТУТ ОМБУДСМЕ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2960" y="1213920"/>
            <a:ext cx="7851600" cy="500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имеет скандинавское происхождение. Впервые он был создан в Швеции в начале XIX века, когда в Конституции 1809 года была введена должность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а юсти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. Однако сам термин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появился в Швеции еще в XIII веке. Он имеет немецкое происхождение, и его корни восходят к раннему периоду истории германских племен.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ом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называлось лицо, которое избиралось для сбора от имени пострадавшей стороны денежной пени (виры) с преступников, совершивших убийство. Шведы и другие скандинавские народы переводили слово "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" как "поверенный", "управляющий делами", "доверенное лицо". Предполагают также, что корни компетенции этой фигуры просматриваются в римских должностях цензоров, трибунов, провинциальных прокураторов. Поначалу, в эпоху абсолютной монархии,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мены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были людьми короны, призванными контролировать от имени верховной власти деятельность чиновников и судей. По мере перехода к конституционной монархии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мбудсеан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тановится парламентским органом, что и получило закрепление в Конституции Швеции 1809 г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85520" y="642960"/>
            <a:ext cx="77086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В САРАТОВСКОЙ ОБЛА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071600" y="2356920"/>
            <a:ext cx="4422600" cy="328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8 января 2004 года </a:t>
            </a:r>
            <a:r>
              <a:rPr b="1" lang="ru-RU" sz="2800" spc="-1" strike="noStrike">
                <a:solidFill>
                  <a:srgbClr val="376092"/>
                </a:solidFill>
                <a:latin typeface="Calibri"/>
              </a:rPr>
              <a:t>Нина Федоровна Лукашов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значена на должность Уполномоченного по правам человека в Саратовской област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71680" y="2000160"/>
            <a:ext cx="2786040" cy="3722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85840" y="4214880"/>
            <a:ext cx="8572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2009 года  полномочия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евой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ли продлены на новый срок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.Ф. Лукашов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однократно поощрялась приказами прокуратуры РФ, прокурора области за достижения и успехи в работе. За образцовое исполнение служебных обязанностей в июле 1997 года приказом генерального прокурора РФ награждена нагрудным знаком «Почётный работник прокуратуры Российской Федерации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1571760" y="398520"/>
            <a:ext cx="5214960" cy="37339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57800" y="428760"/>
            <a:ext cx="4357440" cy="592920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9 февраля 2010 год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9 - м заседании  Саратовская областная дума приняла законопроект об учреждении в области должност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уполномоченного по правам ребен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Назначаться он будет представительным органом области. Должность нового уполномоченного приравнивается к государственной. Не исполнение решений и предписаний уполномоченного повлечет административное наказа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http://im0-tub.yandex.net/i?id=129890305&amp;tov=0"/>
          <p:cNvPicPr/>
          <p:nvPr/>
        </p:nvPicPr>
        <p:blipFill>
          <a:blip r:embed="rId1"/>
          <a:stretch/>
        </p:blipFill>
        <p:spPr>
          <a:xfrm>
            <a:off x="1143000" y="357120"/>
            <a:ext cx="1874880" cy="1500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ttp://im2-tub.yandex.net/i?id=50747351&amp;tov=2"/>
          <p:cNvPicPr/>
          <p:nvPr/>
        </p:nvPicPr>
        <p:blipFill>
          <a:blip r:embed="rId2"/>
          <a:stretch/>
        </p:blipFill>
        <p:spPr>
          <a:xfrm>
            <a:off x="285840" y="2000160"/>
            <a:ext cx="3857400" cy="29005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5160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СТОЧНИКИ ИНТЕРНЕТ РЕСУРСОВ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2600" y="1785600"/>
            <a:ext cx="771516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eoples.ru/state/lawyers/sergey_kovalev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2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3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allabout.ru/a11530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budsman.gov.ru/apparat/upolnom.s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news.rambler.ru/Russia/head/4858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apnews.ru/news-1-8753.html /?page=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images.yandex.ru/yandsearch?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0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http://images.yandex.ru/search?p=1&amp;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42600" y="1857240"/>
            <a:ext cx="7429320" cy="414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гласно статье 103  Конституции Р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 ведению Государственной Думы относи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д) назначение на должность и освобождение от должности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Уполномоченного по правам челове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 действующего в соответствии с федеральным конституционным законом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имущество уполномоченного в отличие от государственного института –  часть государственной власти, сам не встроен в ее систему и является независимым.  Никому не подчиняется. Уполномоченный избирается на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5 лет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может быть переизбран на второй сро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799452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АКОН "ОБ УПОЛНОМОЧЕННОМ ПО ПРАВАМ ЧЕЛОВЕКА В РОССИЙСКОЙ ФЕДЕРАЦИИ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500120"/>
            <a:ext cx="7851600" cy="3929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едеральный конституционный закон "Об Уполномоченном по правам человека в Российской Федерации" был приня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26 декабря 1997 год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Он определил порядок назначения на должность и освобождения от должности Уполномоченного, его компетенцию, организационные формы и условия его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ак сказано в п. 1 статьи 1 Закона, должность Уполномоченного по правам человека в Российской Федерации учреждается в соответствии с Конституцией РФ в целях обеспечения гарантий государственной защиты прав и свобод граждан, их соблюдения и уважения государственными органами, органами местного самоуправления и должностными лиц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28440" y="213840"/>
            <a:ext cx="7786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ПЕРВЫМ ОМБУДСМАНОМ В РОССИИ БЫЛ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ЕРГЕЙ АДАМОВИЧ КОВАЛЕВ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00" y="3642840"/>
            <a:ext cx="807228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авозащитник, председатель общества "Мемориал", глава общественного Института прав человека, член правозащитной фракции партии "Яблоко". В прошлом - депутат Государственной Думы РФ первого - третьего созывов, депутат Съезда народных депутатов Ро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1993-1995 годах - председатель Комиссии по правам человека при президенте Росс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http://www.peoples.ru/state/lawyers/sergey_kovalev/kovalev_4_s.jpg"/>
          <p:cNvPicPr/>
          <p:nvPr/>
        </p:nvPicPr>
        <p:blipFill>
          <a:blip r:embed="rId1"/>
          <a:stretch/>
        </p:blipFill>
        <p:spPr>
          <a:xfrm>
            <a:off x="0" y="1071720"/>
            <a:ext cx="2571840" cy="257148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42976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0040" y="4285800"/>
            <a:ext cx="8072640" cy="200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ле́г Оре́стович Миро́н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5 июн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39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Пятигорск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тавропольского кра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РСФ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 —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Уполномоченный по правам человека в Российской Фед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в 1998—2004 годах, на 2010 г. — единственный юрист на этом посту. Депутат ГД ФС РФ I и II созывов (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КПРФ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), доктор юридических наук, профессор, заслуженный юрист Российской Федер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video-tub.yandex.ru/i?&amp;tov=0&amp;id=842086"/>
          <p:cNvPicPr/>
          <p:nvPr/>
        </p:nvPicPr>
        <p:blipFill>
          <a:blip r:embed="rId9"/>
          <a:stretch/>
        </p:blipFill>
        <p:spPr>
          <a:xfrm>
            <a:off x="2500200" y="785880"/>
            <a:ext cx="3667320" cy="2751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18676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ле́г Оре́стович Миро́нов окончил Саратовский юридический институт им. Д. И. Курского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6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аспирантуру этого института 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1967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г., доктор юридических наук, профессор; действительный член Академии социальных наук; в 1956—1959 годах работал токарем Виноградненской МТС Северо-Осетинской АССР, затем инструктором горного туризма в Северо-Кавказском экскурсионном управлении в г. Пятигорске; после окончания института работал следователем в милиции городов Пятигорска и Железноводска; 1965—1982 — ассистент, преподаватель, доцент, заведующий кафедрой государственного права Саратовского юридического института; 1982—1991 — профессор, декан, заведующий кафедрой государственного строительства и права, проректор по научной работе Саратовской ВПШ (Поволжского социально-политического института); 1991—1993 — профессор кафедры конституционного права Саратовского юридического института; в 1993 г. и в 1995 г. избирался депутатом Государственной Думы Федерального Собрания РФ первого и второго созывов, был членом фракции КПРФ, членом Комитета по законодательству и судебно-правовой реформе, депутатом Парламентского Собрания Союза Белоруссии и России,  членом  Комиссии Межпарламентской  Ассамблеи государств — участников СНГ по правовым вопросам; с 1993 г. — член ЦИК, с 1995 г. — член ЦК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КПРФ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Картинка 5 из 5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14680" y="285840"/>
            <a:ext cx="2666880" cy="21175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0080" y="428760"/>
            <a:ext cx="74944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ВЫЙ УПОЛНОМОЧЕННЫЙ ПО ПРАВАМ ЧЕЛОВЕКА РФ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2960" y="4571640"/>
            <a:ext cx="78516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2002 году Генеральной ассамблеей Европейского института омбудсмена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. О. Миронов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вым из правозащитников государств бывшего Советского Союза избран членом совета директоров Европейского института омбудсме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m0-tub.yandex.net/i?id=15940135&amp;tov=0"/>
          <p:cNvPicPr/>
          <p:nvPr/>
        </p:nvPicPr>
        <p:blipFill>
          <a:blip r:embed="rId1"/>
          <a:stretch/>
        </p:blipFill>
        <p:spPr>
          <a:xfrm>
            <a:off x="714240" y="1285920"/>
            <a:ext cx="2986200" cy="22860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928800" y="4007880"/>
            <a:ext cx="7500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ладимир Петрович Лукин был выдвинут Президентом РФ Владимиром Владимировичем Путиным на пост Уполномоченного по правам человека в Российской Федер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13 феврал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2004 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Государственная Дума избрала </a:t>
            </a: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Владимира  Петровича Луки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эту долж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642960" y="1071720"/>
            <a:ext cx="2725560" cy="264312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1000080" y="50004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полномоченный по правам человека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1:41:44Z</dcterms:modified>
  <cp:revision>83</cp:revision>
  <dc:subject/>
  <dc:title>Уполномоченный по правам человека в России</dc:title>
</cp:coreProperties>
</file>