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7.jpeg" ContentType="image/jpeg"/>
  <Override PartName="/ppt/media/image12.wmf" ContentType="image/x-wmf"/>
  <Override PartName="/ppt/media/image21.png" ContentType="image/png"/>
  <Override PartName="/ppt/media/image19.jpeg" ContentType="image/jpeg"/>
  <Override PartName="/ppt/media/image4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20.wmf" ContentType="image/x-wmf"/>
  <Override PartName="/ppt/media/image5.jpeg" ContentType="image/jpeg"/>
  <Override PartName="/ppt/media/image18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A472-3ED3-4D40-844C-DCCBBD87BE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олен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и политические права человека, экономические социальные и культурные права человека, коллективны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56A2-E74A-4D11-B54F-18C93DAB03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гласное и с соблюдением всех требований справедливости рассмотрение дела независимым и беспристрастным су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запрещение осуждения за деяние,  которое во время  его совершения не составляло преступ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A473-688E-4800-ADE8-7D0876AFA9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от произвольного вмешательства в  личную  и  семейную жизнь,  произвольного посягательства на неприкосновенность жилища или тайну корреспонд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вободу передвижения и выбора местожительства,  в   том числе право покидать любую страну и возвращаться в  свою  ст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7B9B-AF19-4F3D-BB32-6AF0DCB04F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убежище в других стра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граждан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ступление в брак и создание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6382-D8F1-4114-91E0-307839CEF97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ладение иму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мысли, совести и рели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убеждений и на свободное их выра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8F39-928E-4246-9EFF-994EDBD15C9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мирных собраний и ассоци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участие в управлении своей стран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вный доступ  к  государственной  службе  в  своей  стр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9108-4F47-43E6-9A4A-8273B6458C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кономические, социальные и культурные права челове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оциальное обеспе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труд и свободный выбор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вную опл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равный тру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B248-326D-4C1B-9269-8F92F32E50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праведливое и удовлетворительное вознаграждение, обеспечивающее достойное человека существ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здавать профессиональные сою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тдых и дос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F116-0711-4AE4-9D9C-479C28308D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жизненный уровень, необходимый для поддержания здоровья и благосостояния (включая пищу,  одежду, жилище, и медицинский ухо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оциальное обеспечение на случай  безработицы,  болезни, инвалидности, вдовства, наступления старости или иного случая утраты средств к существованию по не зависящим  от  человека обстоятель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защиту материнства и дет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39B7-5056-4207-84B2-65C891A85E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бразование, причем родители имеют право приоритета в выборе вида образования для своих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участие в культурной жизни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защиту моральных и материальных  интересов,  являющихся результатом  научных,  литературных или художественных  трудов авто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7B9A-C813-4628-ACDB-7165ECACA9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лидарные»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звит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ми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здоров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D22E-2293-421B-B003-A1B26D942C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одые избиратели определяют будуще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бирать себе правительство вправе лишь тот народ, который постоянно находится в курсе происходящего» ( Т. Джефферс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ременная молодежь – это инициативность, активность и креативность. Будь собой, активно участвуй в выборах, сам определяй свое будущее, не позволяй другим делать выбор за т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24EC-9F50-431F-9033-C35DF4C7C5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меньшин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нар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социальных, профессиональных и други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09D9-FB26-4FD4-A147-537344A59F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ВСЕ   ПРАВА   ЧЕЛОВЕКА ДЛЯ   ВСЕХ 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и подготовке настоящей презентации использованы материалы Казахстанского Международного Бюро по правам человека и соблюдению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2BB3-4F99-423D-82CB-DA5CD140FA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дним из первых исторических документов, кодифицирующих права человека, относятся английские Великая хартия вольностей 1215 года и «Билль о правах» 1689 года. Эти документы гарантировали права, которые могли быть поставлены под угрозу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ующие столетия концепция свобод индивида отделилась от концепции его социального статуса и стала рассматриваться не как привилегия, но как право, присущее всем человеческим суще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го Гроций и Джон Локк разработали всеобъемлющую теорию естественного права. Жан-Жак Руссо выдвинул концепцию, согласно которой монарх получает власть в результате «общественного договора» со своими подданными. Шарль Монтескье предложил концепцию разделения вла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45BC-5378-4D97-8B7B-F4615751D3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теории послужили руководством к действию для населения британских колоний в Северной Америке. Американская Декларация независимости, принятая 4 июля 1776 года, основывалась на том, что все люди равны, и содержала ссылки на такие неотъемлемые права, как право на жизнь, свободу и стремление к счастью. В дальнейшем положения Декларации были включены в «Билль о правах», дополнивший в 1791 году Конституцию США 1787 года. 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йшее развитие теория прав человека получила во французской Декларации прав человека и гражданина 1789 года, в которой впервые появился термин «права человека» (droits de l'homm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2D8E-F668-4703-B260-F86CEF15A09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XVIII-XIX веках получила свое развитие идея о том, что граждане имеют право ожидать от своего государства улучшения условий жизни. В некоторых европейских конституциях XIX века содержались не только положения о классических правах человека, но и статьи, возлагавшие на государство ответственность в сфере занятости, социального обеспечения, общественного здравоохранения и образования. Бернская конвенция 1906 года о запрещении ночного труда женщин стала первым международным договором в области социальных прав. Значительное количество конвенций в области труда разработано Международной организацией труда, созданной в 1919 году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63CA-072E-4BCB-8FEE-C9DF00E062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человечности, совершенные во время Второй мировой войны, показали несостоятельность традиционной точки зрения о том, что обращение государств со своими гражданами является исключительно их внутренним делом. Подписание Устава ООН 26 июня 1945 года определило место Прав Человека как неотъемлемой части современного международн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8E6B-0D3A-4B76-B1EA-2182D22EE0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жданские и политическ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жизнь, свободу и безопасность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от рабства и подневольного состоя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5469-233E-46FA-A5E5-B778EA6187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вободу  от пыток и жестокого, бесчеловечного или  унижающего человеческое достоинство обращения и наказ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ри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бъек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0E24-31A4-4284-BB4D-6DA955D1569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венство перед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эффективное восстановление в правах в случае нарушения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вободу  от произвольного ареста,  задержания или изгн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резумпцию невиновности до тех пор, пока виновность не будет установл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488E-BCE9-442F-B611-F580F9CC05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0CA-868C-4E50-B350-9E062064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5A3-7CDF-4E84-8085-7DD8AFDD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0FD-B782-40BA-A7F6-1B9C33D7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B6C4-62A1-4559-B080-6990554A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059C-2872-43F7-9B52-BC547E93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3576-D54B-4AEF-A7DA-0BDAE9F8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527A-C92D-4816-A407-E98B773C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3545-17E4-48E2-BC7E-62A81E06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01D4-A234-4376-8290-7D5773FC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9B41-2A05-4575-968C-B640DB66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37BF-DE1B-4C44-B388-28F942F0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BDF8-9DF1-4CBE-9DC5-38F000CE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0BDA-CAD7-4D56-B7D1-3865347C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53E6-C1A3-4110-A846-0781A040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DFDC-4200-4ECF-A1E8-7C0A4321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6735-6E14-42B8-B638-4B524AC9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549B-73DC-48D2-A120-9F733093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103B0C-22F8-4AAE-99EA-B2BDA9A6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56C139-22CF-45E1-AA10-A15C5456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5C544-FD7B-4510-AC87-F4CB8272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5F476-5C7C-40E8-945A-3529E891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4C49B-6974-4B60-B922-FA50087B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450C-CAFB-470B-98F9-C04FD16A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43D46-942A-402B-BE2B-83145A05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DA112B-BC11-42F0-9AE9-747840A8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47223-CE7D-436F-8256-63CB33C9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506257-1377-4F08-AD71-64A16A05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58CDC-1B4C-47B9-B3B2-968DF216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BC11D-D9C5-40EC-9556-0B5A2A16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E2822-5A7D-4328-AA91-15CD258E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23EE-220B-41DA-BDE6-CBFE3EA5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05B-C592-4DBC-941F-95CBC226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FAD-6372-4240-A7EC-9E9E891E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50B-CBF8-40E2-8D58-C01B27E9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8DF-9079-4EE4-BA7A-BC8366B0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74DC-D265-4CF3-BCCF-36A3B00E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ACCC-EDE9-4716-8A3D-B242F78F8A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90AE-6499-4FDD-B8B5-8527116EC7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0D12-6780-435C-8AA9-2E15FF8F0CF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dt" idx="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2D15-9C67-4B2F-B9C7-BF5DBE2CDA4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640" y="393840"/>
            <a:ext cx="7772400" cy="23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Поколения прав челове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356000" y="2424240"/>
            <a:ext cx="4464000" cy="22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жданские и политические права человека, экономические социальные и культурные права человека, коллективные пр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BS02064_"/>
          <p:cNvPicPr/>
          <p:nvPr/>
        </p:nvPicPr>
        <p:blipFill>
          <a:blip r:embed="rId1"/>
          <a:stretch/>
        </p:blipFill>
        <p:spPr>
          <a:xfrm>
            <a:off x="395280" y="4035600"/>
            <a:ext cx="1866960" cy="20048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/>
          <p:cNvSpPr/>
          <p:nvPr/>
        </p:nvSpPr>
        <p:spPr>
          <a:xfrm>
            <a:off x="755640" y="5505480"/>
            <a:ext cx="8077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захстанское Международное Бюро  по Правам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блюдению Зако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1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9" descr="ООН"/>
          <p:cNvPicPr/>
          <p:nvPr/>
        </p:nvPicPr>
        <p:blipFill>
          <a:blip r:embed="rId2"/>
          <a:stretch/>
        </p:blipFill>
        <p:spPr>
          <a:xfrm>
            <a:off x="2556000" y="4035600"/>
            <a:ext cx="1652400" cy="14047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3772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гласное и с соблюдением всех требований справедливости рассмотрение дела независимым и беспристрастным суд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запрещение осуждения за деяние,  которое во время  его совершения не составляло преступ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3772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от произвольного вмешательства в  личную  и  семейную жизнь,  произвольного посягательства на неприкосновенность жилища или тайну корреспонден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передвижения и выбора местожительства,  в   том числе право покидать любую страну и возвращаться в  свою  стран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7720" y="1197000"/>
            <a:ext cx="80074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бежище в других стран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гражданст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вступление в брак и создание семь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BD05545_"/>
          <p:cNvPicPr/>
          <p:nvPr/>
        </p:nvPicPr>
        <p:blipFill>
          <a:blip r:embed="rId1"/>
          <a:stretch/>
        </p:blipFill>
        <p:spPr>
          <a:xfrm>
            <a:off x="5219640" y="3068640"/>
            <a:ext cx="3311640" cy="32576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23640" y="1700280"/>
            <a:ext cx="85215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владение имущество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свободу мысли, совести и религ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свободу убеждений и на свободное их выраже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84502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мирных собраний и ассоциац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частие в управлении своей стран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ный доступ  к  государственной  службе  в  своей  стра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BD06982_"/>
          <p:cNvPicPr/>
          <p:nvPr/>
        </p:nvPicPr>
        <p:blipFill>
          <a:blip r:embed="rId1"/>
          <a:stretch/>
        </p:blipFill>
        <p:spPr>
          <a:xfrm>
            <a:off x="4932360" y="4276800"/>
            <a:ext cx="3497400" cy="19731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244080"/>
            <a:ext cx="844704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Экономические, социальные и культурные права челове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4920" y="2708280"/>
            <a:ext cx="845028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оциальное обеспеч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труд и свободный выбор рабо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ную опла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равный тру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PE02002_"/>
          <p:cNvPicPr/>
          <p:nvPr/>
        </p:nvPicPr>
        <p:blipFill>
          <a:blip r:embed="rId1"/>
          <a:stretch/>
        </p:blipFill>
        <p:spPr>
          <a:xfrm>
            <a:off x="6200640" y="3716280"/>
            <a:ext cx="2428920" cy="26226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450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праведливое и удовлетворительное вознаграждение, обеспечивающее достойное человека существ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создавать профессиональные союз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отдых и досу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3640" y="765000"/>
            <a:ext cx="85215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жизненный уровень, необходимый для поддержания здоровья и благосостояния (включая пищу,  одежду, жилище, и медицинский уход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социальное обеспечение на случай  безработицы,  болезни, инвалидности, вдовства, наступления старости или иного случая утраты средств к существованию по не зависящим  от  человека обстоятельств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защиту материнства и дет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215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образование, причем родители имеют право приоритета в выборе вида образования для своих дет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частие в культурной жизн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защиту моральных и материальных  интересов,  являющихся результатом  научных,  литературных или художественных  трудов автор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photo"/>
          <p:cNvPicPr/>
          <p:nvPr/>
        </p:nvPicPr>
        <p:blipFill>
          <a:blip r:embed="rId1"/>
          <a:stretch/>
        </p:blipFill>
        <p:spPr>
          <a:xfrm>
            <a:off x="539640" y="260280"/>
            <a:ext cx="2952720" cy="984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hoto2"/>
          <p:cNvPicPr/>
          <p:nvPr/>
        </p:nvPicPr>
        <p:blipFill>
          <a:blip r:embed="rId2"/>
          <a:stretch/>
        </p:blipFill>
        <p:spPr>
          <a:xfrm>
            <a:off x="5796000" y="5553000"/>
            <a:ext cx="2968560" cy="111600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ллективные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солидарные» прав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3640" y="2637000"/>
            <a:ext cx="85215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звит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ми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здоров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ружающую сре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BD06662_"/>
          <p:cNvPicPr/>
          <p:nvPr/>
        </p:nvPicPr>
        <p:blipFill>
          <a:blip r:embed="rId1"/>
          <a:stretch/>
        </p:blipFill>
        <p:spPr>
          <a:xfrm>
            <a:off x="5003640" y="2943360"/>
            <a:ext cx="3549960" cy="331920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e8ffc3"/>
              </a:gs>
              <a:gs pos="100000">
                <a:srgbClr val="f8ffed"/>
              </a:gs>
            </a:gsLst>
            <a:lin ang="16200000"/>
          </a:gradFill>
          <a:ln w="9360">
            <a:solidFill>
              <a:srgbClr val="c6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олодые избиратели определяют будущее стран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2" name="Picture 4" descr="golos3"/>
          <p:cNvPicPr/>
          <p:nvPr/>
        </p:nvPicPr>
        <p:blipFill>
          <a:blip r:embed="rId1"/>
          <a:stretch/>
        </p:blipFill>
        <p:spPr>
          <a:xfrm>
            <a:off x="311040" y="2048040"/>
            <a:ext cx="4011840" cy="3468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797720" y="1767600"/>
            <a:ext cx="3739680" cy="4195080"/>
          </a:xfrm>
          <a:prstGeom prst="rect">
            <a:avLst/>
          </a:prstGeom>
          <a:gradFill rotWithShape="0">
            <a:gsLst>
              <a:gs pos="0">
                <a:srgbClr val="e8ffc3"/>
              </a:gs>
              <a:gs pos="100000">
                <a:srgbClr val="f8ffed"/>
              </a:gs>
            </a:gsLst>
            <a:lin ang="16200000"/>
          </a:gradFill>
          <a:ln w="9360">
            <a:solidFill>
              <a:srgbClr val="c6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6600"/>
                </a:solidFill>
                <a:latin typeface="Arial"/>
              </a:rPr>
              <a:t>«</a:t>
            </a:r>
            <a:r>
              <a:rPr b="0" i="1" lang="ru-RU" sz="1500" spc="-1" strike="noStrike">
                <a:solidFill>
                  <a:srgbClr val="006600"/>
                </a:solidFill>
                <a:latin typeface="Arial"/>
              </a:rPr>
              <a:t>Выбирать себе правительство вправе лишь тот народ, который постоянно находится в курсе происходящего» ( Т. Джефферсон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овременная молодежь – это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инициативность, активность и креативность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. Будь собой, активно участвуй в выборах, сам определяй свое будущее, не позволяй другим делать выбор за теб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450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меньшинст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народ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социальных, профессиональных и других груп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ООН"/>
          <p:cNvPicPr/>
          <p:nvPr/>
        </p:nvPicPr>
        <p:blipFill>
          <a:blip r:embed="rId1"/>
          <a:stretch/>
        </p:blipFill>
        <p:spPr>
          <a:xfrm>
            <a:off x="6012000" y="4149720"/>
            <a:ext cx="2563560" cy="218124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0811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26320" cy="3111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BD05090_"/>
          <p:cNvPicPr/>
          <p:nvPr/>
        </p:nvPicPr>
        <p:blipFill>
          <a:blip r:embed="rId2"/>
          <a:stretch/>
        </p:blipFill>
        <p:spPr>
          <a:xfrm rot="3837600">
            <a:off x="414000" y="4811400"/>
            <a:ext cx="1297080" cy="11444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1763640" y="4941720"/>
            <a:ext cx="5832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7"/>
                </a:solidFill>
                <a:latin typeface="Times New Roman"/>
              </a:rPr>
              <a:t>При подготовке настоящей презентации использованы материалы Казахстанского Международного Бюро по правам человека и соблюдению зако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ЗНАК БЮРО IN1"/>
          <p:cNvPicPr/>
          <p:nvPr/>
        </p:nvPicPr>
        <p:blipFill>
          <a:blip r:embed="rId3"/>
          <a:stretch/>
        </p:blipFill>
        <p:spPr>
          <a:xfrm>
            <a:off x="7667640" y="4869000"/>
            <a:ext cx="1135080" cy="1143000"/>
          </a:xfrm>
          <a:prstGeom prst="rect">
            <a:avLst/>
          </a:prstGeom>
          <a:ln w="0">
            <a:noFill/>
          </a:ln>
        </p:spPr>
      </p:pic>
      <p:sp>
        <p:nvSpPr>
          <p:cNvPr id="233" name="WordArt 7"/>
          <p:cNvSpPr txBox="1"/>
          <p:nvPr/>
        </p:nvSpPr>
        <p:spPr>
          <a:xfrm rot="20502600">
            <a:off x="1943280" y="3357720"/>
            <a:ext cx="7200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878000"/>
                </a:gradFill>
                <a:latin typeface="Impact"/>
              </a:rPr>
              <a:t>ВСЕ   ПРАВА   ЧЕЛОВЕКА ДЛЯ   ВСЕХ 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4878000"/>
              </a:gradFill>
              <a:latin typeface="Impact"/>
              <a:ea typeface="Impact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3772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одним из первых исторических документов, кодифицирующих права человека, относятся английские Великая хартия вольностей 1215 года и «Билль о правах» 1689 года. Эти документы гарантировали права, которые могли быть поставлены под угрозу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следующие столетия концепция свобод индивида отделилась от концепции его социального статуса и стала рассматриваться не как привилегия, но как право, присущее всем человеческим существ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уго Гроций и Джон Локк разработали всеобъемлющую теорию естественного права. Жан-Жак Руссо выдвинул концепцию, согласно которой монарх получает власть в результате «общественного договора» со своими подданными. Шарль Монтескье предложил концепцию разделения вла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7020000" y="5589720"/>
            <a:ext cx="1869840" cy="10792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99640" y="54936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 теории послужили руководством к действию для населения британских колоний в Северной Америке. Американская Декларация независимости, принятая 4 июля 1776 года, основывалась на том, что все люди равны, и содержала ссылки на такие неотъемлемые права, как право на жизнь, свободу и стремление к счастью. В дальнейшем положения Декларации были включены в «Билль о правах», дополнивший в 1791 году Конституцию США 1787 года. 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льнейшее развитие теория прав человека получила во французской Декларации прав человека и гражданина 1789 года, в которой впервые появился термин «права человека» (droits de l'homme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BS02064_"/>
          <p:cNvPicPr/>
          <p:nvPr/>
        </p:nvPicPr>
        <p:blipFill>
          <a:blip r:embed="rId1"/>
          <a:stretch/>
        </p:blipFill>
        <p:spPr>
          <a:xfrm>
            <a:off x="7121520" y="4941720"/>
            <a:ext cx="1317600" cy="1413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3059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же в XVIII-XIX веках получила свое развитие идея о том, что граждане имеют право ожидать от своего государства улучшения условий жизни. В некоторых европейских конституциях XIX века содержались не только положения о классических правах человека, но и статьи, возлагавшие на государство ответственность в сфере занятости, социального обеспечения, общественного здравоохранения и образования. Бернская конвенция 1906 года о запрещении ночного труда женщин стала первым международным договором в области социальных прав. Значительное количество конвенций в области труда разработано Международной организацией труда, созданной в 1919 году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a1" descr="http://www.chrf.ca/francais/programmes_fran/files/images/menu-off_01.jpg"/>
          <p:cNvPicPr/>
          <p:nvPr/>
        </p:nvPicPr>
        <p:blipFill>
          <a:blip r:embed="rId1"/>
          <a:stretch/>
        </p:blipFill>
        <p:spPr>
          <a:xfrm>
            <a:off x="7236000" y="476280"/>
            <a:ext cx="1199880" cy="1104840"/>
          </a:xfrm>
          <a:prstGeom prst="rect">
            <a:avLst/>
          </a:prstGeom>
          <a:ln w="0">
            <a:noFill/>
          </a:ln>
        </p:spPr>
      </p:pic>
      <p:pic>
        <p:nvPicPr>
          <p:cNvPr id="173" name="a2" descr="http://www.chrf.ca/francais/programmes_fran/files/images/menu-off_02.jpg"/>
          <p:cNvPicPr/>
          <p:nvPr/>
        </p:nvPicPr>
        <p:blipFill>
          <a:blip r:embed="rId2"/>
          <a:stretch/>
        </p:blipFill>
        <p:spPr>
          <a:xfrm>
            <a:off x="900000" y="476280"/>
            <a:ext cx="1200240" cy="1104840"/>
          </a:xfrm>
          <a:prstGeom prst="rect">
            <a:avLst/>
          </a:prstGeom>
          <a:ln w="0">
            <a:noFill/>
          </a:ln>
        </p:spPr>
      </p:pic>
      <p:pic>
        <p:nvPicPr>
          <p:cNvPr id="174" name="a3" descr="http://www.chrf.ca/francais/programmes_fran/files/images/menu-off_03.jpg"/>
          <p:cNvPicPr/>
          <p:nvPr/>
        </p:nvPicPr>
        <p:blipFill>
          <a:blip r:embed="rId3"/>
          <a:stretch/>
        </p:blipFill>
        <p:spPr>
          <a:xfrm>
            <a:off x="2484360" y="476280"/>
            <a:ext cx="1200240" cy="1104840"/>
          </a:xfrm>
          <a:prstGeom prst="rect">
            <a:avLst/>
          </a:prstGeom>
          <a:ln w="0">
            <a:noFill/>
          </a:ln>
        </p:spPr>
      </p:pic>
      <p:pic>
        <p:nvPicPr>
          <p:cNvPr id="175" name="a4" descr="http://www.chrf.ca/francais/programmes_fran/files/images/menu-off_04.jpg"/>
          <p:cNvPicPr/>
          <p:nvPr/>
        </p:nvPicPr>
        <p:blipFill>
          <a:blip r:embed="rId4"/>
          <a:stretch/>
        </p:blipFill>
        <p:spPr>
          <a:xfrm>
            <a:off x="4067280" y="476280"/>
            <a:ext cx="1199880" cy="1104840"/>
          </a:xfrm>
          <a:prstGeom prst="rect">
            <a:avLst/>
          </a:prstGeom>
          <a:ln w="0">
            <a:noFill/>
          </a:ln>
        </p:spPr>
      </p:pic>
      <p:pic>
        <p:nvPicPr>
          <p:cNvPr id="176" name="a5" descr="http://www.chrf.ca/francais/programmes_fran/files/images/menu-off_05.jpg"/>
          <p:cNvPicPr/>
          <p:nvPr/>
        </p:nvPicPr>
        <p:blipFill>
          <a:blip r:embed="rId5"/>
          <a:stretch/>
        </p:blipFill>
        <p:spPr>
          <a:xfrm>
            <a:off x="5651640" y="476280"/>
            <a:ext cx="1209600" cy="11048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0"/>
          <p:cNvSpPr/>
          <p:nvPr/>
        </p:nvSpPr>
        <p:spPr>
          <a:xfrm>
            <a:off x="822240" y="2876400"/>
            <a:ext cx="1365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467080" y="2876400"/>
          <a:ext cx="5854680" cy="517680"/>
        </p:xfrm>
        <a:graphic>
          <a:graphicData uri="http://schemas.openxmlformats.org/drawingml/2006/table">
            <a:tbl>
              <a:tblPr/>
              <a:tblGrid>
                <a:gridCol w="1365120"/>
                <a:gridCol w="1122480"/>
                <a:gridCol w="1122120"/>
                <a:gridCol w="1122480"/>
                <a:gridCol w="1122480"/>
              </a:tblGrid>
              <a:tr h="51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211640" y="476280"/>
            <a:ext cx="46339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ступления против человечности, совершенные во время Второй мировой войны, показали несостоятельность традиционной точки зрения о том, что обращение государств со своими гражданами является исключительно их внутренним делом. Подписание Устава ООН 26 июня 1945 года определило место Прав Человека как неотъемлемой части современного международного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444"/>
          <p:cNvPicPr/>
          <p:nvPr/>
        </p:nvPicPr>
        <p:blipFill>
          <a:blip r:embed="rId1"/>
          <a:stretch/>
        </p:blipFill>
        <p:spPr>
          <a:xfrm>
            <a:off x="684360" y="476280"/>
            <a:ext cx="3311280" cy="5878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ООН"/>
          <p:cNvPicPr/>
          <p:nvPr/>
        </p:nvPicPr>
        <p:blipFill>
          <a:blip r:embed="rId2"/>
          <a:stretch/>
        </p:blipFill>
        <p:spPr>
          <a:xfrm>
            <a:off x="468360" y="189000"/>
            <a:ext cx="1698480" cy="14446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Гражданские и политические</a:t>
            </a:r>
            <a:br>
              <a:rPr sz="4000"/>
            </a:b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права челове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жизнь, свободу и безопасность лич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от рабства и подневольного состоя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BS00285_"/>
          <p:cNvPicPr/>
          <p:nvPr/>
        </p:nvPicPr>
        <p:blipFill>
          <a:blip r:embed="rId1"/>
          <a:stretch/>
        </p:blipFill>
        <p:spPr>
          <a:xfrm>
            <a:off x="6012000" y="3730680"/>
            <a:ext cx="2477880" cy="24559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3772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 от пыток и жестокого, бесчеловечного или  унижающего человеческое достоинство обращения и наказ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призн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субъект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BD06990_"/>
          <p:cNvPicPr/>
          <p:nvPr/>
        </p:nvPicPr>
        <p:blipFill>
          <a:blip r:embed="rId1"/>
          <a:stretch/>
        </p:blipFill>
        <p:spPr>
          <a:xfrm>
            <a:off x="5580000" y="3789360"/>
            <a:ext cx="2503440" cy="26082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215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енство перед зако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эффективное восстановление в правах в случае нарушения прав челове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 от произвольного ареста,  задержания или изгн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презумпцию невиновности до тех пор, пока виновность не будет установле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9:28:22Z</dcterms:created>
  <dc:creator>Yuriy Gussakov</dc:creator>
  <dc:description/>
  <dc:language>en-US</dc:language>
  <cp:lastModifiedBy>LEGION</cp:lastModifiedBy>
  <dcterms:modified xsi:type="dcterms:W3CDTF">2015-01-28T11:43:22Z</dcterms:modified>
  <cp:revision>16</cp:revision>
  <dc:subject/>
  <dc:title>Поколения прав человека</dc:title>
</cp:coreProperties>
</file>