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DF5D-A421-4A57-A41B-975D1FCC62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ол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790D-3B3C-493F-9A0E-4D36E3EDBD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5B51-559A-4D03-9780-56D0029DCD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8FD9-3B80-4FA9-A681-DAECBFAC57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бежище в друг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гражд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ступление в брак и создание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1FFD-D78B-497C-8D53-A2AC270744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ладение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убеждений и на свободное их выр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1F5-38AD-442B-9A06-5B0F55C3D0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ирных собраний и ассоци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управлении своей стра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ый доступ  к  государственной  службе  в  своей 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EBE0-C6CB-4928-9008-B24EAD264A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еские, социальные и культурные 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труд и свободный выбор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ую о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равный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A9F3-AD83-4CEC-89C1-3104BE4242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здавать профессиональные сою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тдых и дос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C14B-2023-4066-A335-A93C72B051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атеринства и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8AA-CB76-4121-986F-B3588D7BB4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культурной жизн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F68-E4B8-4ACD-888E-D5D46E3B20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лидарные»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звит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м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доров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80F6-44D4-4DEF-97BD-42C2650959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дые избиратели определяют будуще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ая молодежь – это инициативность, активность и креативность. Будь собой, активно участвуй в выборах, сам определяй свое будущее, не позволяй другим делать выбор за т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1543-0106-4004-988E-70779C8BF9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меньшин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на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циальных, профессиональных и друг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968D-6B3C-450A-A11C-5F8692785F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СЕ   ПРАВА   ЧЕЛОВЕКА ДЛЯ   ВСЕХ 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EA52-B15E-4A72-AC45-3B8CEA940C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2B91-0E8B-4C14-AAD3-E486F0A944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6164-4C34-4839-819A-6E921BE5E9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12A1-2957-4AFF-857B-0F1E1BAEAD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6CFE-5316-476E-BBCE-3DE6A31D35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ские и политическ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ь, свободу и безопасность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рабства и подневольного со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A46F-3DC3-4110-85B1-F50DEE58AC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1AC-8448-4E95-A5CD-A296EFE5AB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енство перед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эффективное восстановление в правах в случае наруш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роизвольного ареста,  задержания или изг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езумпцию невиновности до тех пор, пока виновность не будет установл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973D-C768-41C1-85E7-0CD3820156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7D4-8F42-4B1C-A5D6-916F7B74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388-8692-4BCD-A8E2-E532B491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0E9-6BCD-4913-B7F0-7D62AB12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984-C77C-43EF-A642-452ED51C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69DF-1D27-4F40-A7DB-BEC9F94A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DD64-BC49-45BF-973E-A12D7596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865B-FA5F-4B01-BC0A-5B62A5F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71BE-F7F7-42CC-815B-7A7A0227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09C1-7C3A-437B-84C7-73EC5277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55CE-210C-489E-92A8-B069A7A5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2EBA-EADC-4A78-AD85-4D0637BD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A3B-F84F-4573-A4F2-B20E0BFF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5AA-8FAF-4BA0-B25B-5C9BDD6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521C-F2E3-4E59-8EF8-2371E286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9056-0049-4925-873A-49A17EB4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0FDF-6DE6-4DD5-A890-F7395D50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900B-2248-4E76-B0FC-800DB72F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9DD93-E13B-4720-BC7C-431FB784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5BDCF-957A-4199-9A82-956685F8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EE753-3E51-4ED0-B07C-22D6B6C0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87B59-BA71-4940-8BBA-719105C0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AE3C2-0A4E-4400-A2D4-2FF609C8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485-A883-437C-8687-01A0B076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517C7-9D66-4309-A66C-3FEB8113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055CD-56E4-4851-86DD-47B69D52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5067D-DCD2-4DF7-B755-1AEDEE6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53BEB-8F8D-466B-B67E-A43699A8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10501-7509-485E-A349-875B0DF7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22992-02DA-46F0-8A0E-DF4BEBC4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77203-EAF7-49D5-B157-6AF58D5A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15C-95A3-4822-A6CE-B0F2C7AE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969-57CB-445B-A1AB-B8C877D4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22E-0A61-4053-B675-8D3FAB64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199-9323-4A70-BB7F-52DBD9F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600-7E13-493A-B480-1AFE10A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A5D-192B-4189-89C0-42CE202A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9F60-8D0A-4317-8962-2DE7F84FE4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DA0-9FBF-4D48-96D8-742A6F16B8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D7EB-9EB4-4976-9F0D-7F464A1BC1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B575-EEE7-4009-99C9-0268FEE3454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393840"/>
            <a:ext cx="777240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коления прав челове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356000" y="2424240"/>
            <a:ext cx="446400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BS02064_"/>
          <p:cNvPicPr/>
          <p:nvPr/>
        </p:nvPicPr>
        <p:blipFill>
          <a:blip r:embed="rId1"/>
          <a:stretch/>
        </p:blipFill>
        <p:spPr>
          <a:xfrm>
            <a:off x="395280" y="4035600"/>
            <a:ext cx="1866960" cy="2004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5640" y="5505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хстанское Международное Бюро  по Правам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блюдению Зак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ООН"/>
          <p:cNvPicPr/>
          <p:nvPr/>
        </p:nvPicPr>
        <p:blipFill>
          <a:blip r:embed="rId2"/>
          <a:stretch/>
        </p:blipFill>
        <p:spPr>
          <a:xfrm>
            <a:off x="2556000" y="4035600"/>
            <a:ext cx="1652400" cy="1404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377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7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бежище в других стран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граждан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вступление в брак и создание семь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D05545_"/>
          <p:cNvPicPr/>
          <p:nvPr/>
        </p:nvPicPr>
        <p:blipFill>
          <a:blip r:embed="rId1"/>
          <a:stretch/>
        </p:blipFill>
        <p:spPr>
          <a:xfrm>
            <a:off x="5219640" y="3068640"/>
            <a:ext cx="3311640" cy="32576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владение имущество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мысли, совести и религ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убеждений и на свободное их выраж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мирных собраний и ассоциа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управлении своей стра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ый доступ  к  государственной  службе  в  своей 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D06982_"/>
          <p:cNvPicPr/>
          <p:nvPr/>
        </p:nvPicPr>
        <p:blipFill>
          <a:blip r:embed="rId1"/>
          <a:stretch/>
        </p:blipFill>
        <p:spPr>
          <a:xfrm>
            <a:off x="4932360" y="4276800"/>
            <a:ext cx="3497400" cy="197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ономические, социальные и культурные 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84502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труд и свободный выбор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ую опл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авный т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E02002_"/>
          <p:cNvPicPr/>
          <p:nvPr/>
        </p:nvPicPr>
        <p:blipFill>
          <a:blip r:embed="rId1"/>
          <a:stretch/>
        </p:blipFill>
        <p:spPr>
          <a:xfrm>
            <a:off x="6200640" y="3716280"/>
            <a:ext cx="2428920" cy="262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создавать профессиональные сою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тдых и дос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21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защиту материнства и дет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21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культурной жизн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photo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hoto2"/>
          <p:cNvPicPr/>
          <p:nvPr/>
        </p:nvPicPr>
        <p:blipFill>
          <a:blip r:embed="rId2"/>
          <a:stretch/>
        </p:blipFill>
        <p:spPr>
          <a:xfrm>
            <a:off x="5796000" y="5553000"/>
            <a:ext cx="2968560" cy="11160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лективны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олидарные» прав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5215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звит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доров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D06662_"/>
          <p:cNvPicPr/>
          <p:nvPr/>
        </p:nvPicPr>
        <p:blipFill>
          <a:blip r:embed="rId1"/>
          <a:stretch/>
        </p:blipFill>
        <p:spPr>
          <a:xfrm>
            <a:off x="5003640" y="2943360"/>
            <a:ext cx="3549960" cy="33192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лодые избиратели определяют будущее стра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4" descr="golos3"/>
          <p:cNvPicPr/>
          <p:nvPr/>
        </p:nvPicPr>
        <p:blipFill>
          <a:blip r:embed="rId1"/>
          <a:stretch/>
        </p:blipFill>
        <p:spPr>
          <a:xfrm>
            <a:off x="311040" y="2048040"/>
            <a:ext cx="4011840" cy="346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797720" y="1767600"/>
            <a:ext cx="3739680" cy="419508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0" i="1" lang="ru-RU" sz="1500" spc="-1" strike="noStrike">
                <a:solidFill>
                  <a:srgbClr val="006600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овременная молодежь – это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инициативность, активность и креативност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Будь собой, активно участвуй в выборах, сам определяй свое будущее, не позволяй другим делать выбор за теб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5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меньшин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нар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социальных, профессиональных и други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ООН"/>
          <p:cNvPicPr/>
          <p:nvPr/>
        </p:nvPicPr>
        <p:blipFill>
          <a:blip r:embed="rId1"/>
          <a:stretch/>
        </p:blipFill>
        <p:spPr>
          <a:xfrm>
            <a:off x="6012000" y="4149720"/>
            <a:ext cx="2563560" cy="2181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26320" cy="31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BD05090_"/>
          <p:cNvPicPr/>
          <p:nvPr/>
        </p:nvPicPr>
        <p:blipFill>
          <a:blip r:embed="rId2"/>
          <a:stretch/>
        </p:blipFill>
        <p:spPr>
          <a:xfrm rot="3837600">
            <a:off x="414000" y="4811400"/>
            <a:ext cx="1297080" cy="1144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763640" y="4941720"/>
            <a:ext cx="58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ЗНАК БЮРО IN1"/>
          <p:cNvPicPr/>
          <p:nvPr/>
        </p:nvPicPr>
        <p:blipFill>
          <a:blip r:embed="rId3"/>
          <a:stretch/>
        </p:blipFill>
        <p:spPr>
          <a:xfrm>
            <a:off x="7667640" y="486900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 rot="20502600">
            <a:off x="1943280" y="3357720"/>
            <a:ext cx="72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78000"/>
                </a:gradFill>
                <a:latin typeface="Impact"/>
              </a:rPr>
              <a:t>ВСЕ   ПРАВА   ЧЕЛОВЕКА ДЛЯ   ВСЕХ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78000"/>
              </a:gradFill>
              <a:latin typeface="Impact"/>
              <a:ea typeface="Impact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7020000" y="5589720"/>
            <a:ext cx="1869840" cy="1079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BS02064_"/>
          <p:cNvPicPr/>
          <p:nvPr/>
        </p:nvPicPr>
        <p:blipFill>
          <a:blip r:embed="rId1"/>
          <a:stretch/>
        </p:blipFill>
        <p:spPr>
          <a:xfrm>
            <a:off x="7121520" y="4941720"/>
            <a:ext cx="1317600" cy="1413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1" descr="http://www.chrf.ca/francais/programmes_fran/files/images/menu-off_01.jpg"/>
          <p:cNvPicPr/>
          <p:nvPr/>
        </p:nvPicPr>
        <p:blipFill>
          <a:blip r:embed="rId1"/>
          <a:stretch/>
        </p:blipFill>
        <p:spPr>
          <a:xfrm>
            <a:off x="723600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a2" descr="http://www.chrf.ca/francais/programmes_fran/files/images/menu-off_02.jpg"/>
          <p:cNvPicPr/>
          <p:nvPr/>
        </p:nvPicPr>
        <p:blipFill>
          <a:blip r:embed="rId2"/>
          <a:stretch/>
        </p:blipFill>
        <p:spPr>
          <a:xfrm>
            <a:off x="90000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a3" descr="http://www.chrf.ca/francais/programmes_fran/files/images/menu-off_03.jpg"/>
          <p:cNvPicPr/>
          <p:nvPr/>
        </p:nvPicPr>
        <p:blipFill>
          <a:blip r:embed="rId3"/>
          <a:stretch/>
        </p:blipFill>
        <p:spPr>
          <a:xfrm>
            <a:off x="248436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a4" descr="http://www.chrf.ca/francais/programmes_fran/files/images/menu-off_04.jpg"/>
          <p:cNvPicPr/>
          <p:nvPr/>
        </p:nvPicPr>
        <p:blipFill>
          <a:blip r:embed="rId4"/>
          <a:stretch/>
        </p:blipFill>
        <p:spPr>
          <a:xfrm>
            <a:off x="406728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a5" descr="http://www.chrf.ca/francais/programmes_fran/files/images/menu-off_05.jpg"/>
          <p:cNvPicPr/>
          <p:nvPr/>
        </p:nvPicPr>
        <p:blipFill>
          <a:blip r:embed="rId5"/>
          <a:stretch/>
        </p:blipFill>
        <p:spPr>
          <a:xfrm>
            <a:off x="5651640" y="476280"/>
            <a:ext cx="1209600" cy="1104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822240" y="2876400"/>
            <a:ext cx="1365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467080" y="2876400"/>
          <a:ext cx="5854680" cy="517680"/>
        </p:xfrm>
        <a:graphic>
          <a:graphicData uri="http://schemas.openxmlformats.org/drawingml/2006/table">
            <a:tbl>
              <a:tblPr/>
              <a:tblGrid>
                <a:gridCol w="1365120"/>
                <a:gridCol w="1122480"/>
                <a:gridCol w="1122120"/>
                <a:gridCol w="1122480"/>
                <a:gridCol w="112248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11640" y="476280"/>
            <a:ext cx="4633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444"/>
          <p:cNvPicPr/>
          <p:nvPr/>
        </p:nvPicPr>
        <p:blipFill>
          <a:blip r:embed="rId1"/>
          <a:stretch/>
        </p:blipFill>
        <p:spPr>
          <a:xfrm>
            <a:off x="684360" y="476280"/>
            <a:ext cx="3311280" cy="587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ООН"/>
          <p:cNvPicPr/>
          <p:nvPr/>
        </p:nvPicPr>
        <p:blipFill>
          <a:blip r:embed="rId2"/>
          <a:stretch/>
        </p:blipFill>
        <p:spPr>
          <a:xfrm>
            <a:off x="468360" y="189000"/>
            <a:ext cx="1698480" cy="1444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ие и политические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жизнь, свободу и безопасность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рабства и подневольного состоя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S00285_"/>
          <p:cNvPicPr/>
          <p:nvPr/>
        </p:nvPicPr>
        <p:blipFill>
          <a:blip r:embed="rId1"/>
          <a:stretch/>
        </p:blipFill>
        <p:spPr>
          <a:xfrm>
            <a:off x="6012000" y="3730680"/>
            <a:ext cx="2477880" cy="2455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и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субъект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BD06990_"/>
          <p:cNvPicPr/>
          <p:nvPr/>
        </p:nvPicPr>
        <p:blipFill>
          <a:blip r:embed="rId1"/>
          <a:stretch/>
        </p:blipFill>
        <p:spPr>
          <a:xfrm>
            <a:off x="5580000" y="3789360"/>
            <a:ext cx="250344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21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енство перед за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эффективное восстановление в правах в случае нарушения прав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роизвольного ареста,  задержания или изгн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езумпцию невиновности до тех пор, пока виновность не будет установ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9:28:22Z</dcterms:created>
  <dc:creator>Yuriy Gussakov</dc:creator>
  <dc:description/>
  <dc:language>en-US</dc:language>
  <cp:lastModifiedBy>LEGION</cp:lastModifiedBy>
  <dcterms:modified xsi:type="dcterms:W3CDTF">2015-01-28T11:43:22Z</dcterms:modified>
  <cp:revision>16</cp:revision>
  <dc:subject/>
  <dc:title>Поколения прав человека</dc:title>
</cp:coreProperties>
</file>