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3D90-513A-4F0E-8A07-6A90A35EE9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ол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A268-85C3-4F49-B4CE-D41EB8A399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7A54-10D9-4B06-ADD6-557CD73EA7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BA8B-CA7B-4D6D-989E-A424805382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бежище в друг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гражд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ступление в брак и создание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B603-0E69-4AEB-B780-75DD2CE8C1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ладение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убеждений и на свободное их выр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0710-83CE-42C4-A40A-6EBB8E6D3F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ирных собраний и ассоци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управлении своей стра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ый доступ  к  государственной  службе  в  своей 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5FBD-527E-4B5F-A67C-99B35DC7DB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еские, социальные и культурные 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труд и свободный выбор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ую о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равный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3F56-15D4-416A-88D0-6C043FF1EF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здавать профессиональные сою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тдых и дос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9438-F5AF-469A-B6D4-13A34954ED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атеринства и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E765-8C7C-4579-AD30-B56C7A668E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культурной жизн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B36E-EBC2-462F-BCC0-6BD75517F0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лидарные»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звит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м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доров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FCA4-7C73-449C-8C0A-62085CA179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дые избиратели определяют будуще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ая молодежь – это инициативность, активность и креативность. Будь собой, активно участвуй в выборах, сам определяй свое будущее, не позволяй другим делать выбор за т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DC71-3972-4226-ABB4-38AF0F705C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меньшин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на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циальных, профессиональных и друг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BC17-1608-45D5-ABAB-5525EC2F66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СЕ   ПРАВА   ЧЕЛОВЕКА ДЛЯ   ВСЕХ 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D372-EF81-4DD1-BE59-B4F2475209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7D77-AF03-4C6B-B757-EBA1AEFD96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8925-A53A-4EDC-BB17-E3250FCF3D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DCCB-1DFC-44B4-A418-8CE9C9DD3F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0C90-B0AB-44AD-86E4-39BC3D305D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ские и политическ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ь, свободу и безопасность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рабства и подневольного со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9F64-3119-4B94-BDC6-3E037F25D5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91B8-2D59-4740-A7AA-DACCC2F5D9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енство перед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эффективное восстановление в правах в случае наруш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роизвольного ареста,  задержания или изг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езумпцию невиновности до тех пор, пока виновность не будет установл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D958-8FA5-4341-AE11-97A73523E4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27E-3A63-4E94-8FF6-DBB0D39B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525-CD73-47B4-8ABA-6FF2A3D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07D-45E8-40B7-8C8D-7F6EEB89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3DD-65DB-46CA-BAE8-EE52E22C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4D94-B41F-46DF-AE01-9F4D5D9E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CAC0-3788-4C96-8508-E605EBDD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3BC6-3105-4401-8AB2-F59E4FED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BF9E-7361-431D-A503-216D0798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9383-8133-4347-9B7E-B44D2309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45C7-2EE6-4B40-8780-CD324F8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7DC2-661C-45BE-809B-40977FE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6C5-81B0-4BF2-B30F-C6B2687A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5F9F-32CD-4156-991C-20B4C7A9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6650-A0FA-4603-AC61-F0DB2A5F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46BD-6891-42D6-8323-76FC047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89A2-CDBD-4F04-9074-D91C0C90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EA99-CFF7-40C9-A773-64387D0C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366C0-54AD-4037-B2ED-2356E728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E376D-11D5-4CC2-AC42-59DEE8F1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76F1A-EA94-47AC-B23D-0920BF9F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F1A62-BE37-4268-B531-B9CEB0BA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F75E8-1D1B-4230-A416-417F2A20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D5D-BF73-4EC4-9EA1-E6F092FE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3C522-B998-4019-9BFD-8F11631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50D1E-1574-4138-A6D1-F4E94A66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32016-A2B8-4062-82DE-72AB06F8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83893-131D-462F-9CEC-5CD80F5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29A2F-ADEA-406A-A906-DA27A5AE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F7FA9-B88E-4F25-9EC2-F98975F6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B8B38-238C-417C-A4D5-5F9AD28D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BA9-7BA0-4C1A-8AAA-6F815AC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4AC-C010-44DA-8F85-F8877436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57F-023A-4B81-BEC5-2FDE7C4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DF4-6A9A-4459-890C-AEAEB15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3E9-15C3-419D-AD9B-0A8114A5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441-BA8B-44A9-993A-F5BC83B5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364A-9D83-42B3-9397-16D62C1BC6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DA4-52EE-4D6B-98D8-4988C3FB3C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BC3B-90CC-4AB7-A63C-AF50B86E54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ED1E-CD26-4967-938E-AC685C31036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393840"/>
            <a:ext cx="777240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коления прав челове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356000" y="2424240"/>
            <a:ext cx="446400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BS02064_"/>
          <p:cNvPicPr/>
          <p:nvPr/>
        </p:nvPicPr>
        <p:blipFill>
          <a:blip r:embed="rId1"/>
          <a:stretch/>
        </p:blipFill>
        <p:spPr>
          <a:xfrm>
            <a:off x="395280" y="4035600"/>
            <a:ext cx="1866960" cy="2004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5640" y="5505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хстанское Международное Бюро  по Правам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блюдению Зак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ООН"/>
          <p:cNvPicPr/>
          <p:nvPr/>
        </p:nvPicPr>
        <p:blipFill>
          <a:blip r:embed="rId2"/>
          <a:stretch/>
        </p:blipFill>
        <p:spPr>
          <a:xfrm>
            <a:off x="2556000" y="4035600"/>
            <a:ext cx="1652400" cy="1404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377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7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бежище в других стран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граждан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вступление в брак и создание семь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D05545_"/>
          <p:cNvPicPr/>
          <p:nvPr/>
        </p:nvPicPr>
        <p:blipFill>
          <a:blip r:embed="rId1"/>
          <a:stretch/>
        </p:blipFill>
        <p:spPr>
          <a:xfrm>
            <a:off x="5219640" y="3068640"/>
            <a:ext cx="3311640" cy="32576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владение имущество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мысли, совести и религ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убеждений и на свободное их выраж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мирных собраний и ассоциа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управлении своей стра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ый доступ  к  государственной  службе  в  своей 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D06982_"/>
          <p:cNvPicPr/>
          <p:nvPr/>
        </p:nvPicPr>
        <p:blipFill>
          <a:blip r:embed="rId1"/>
          <a:stretch/>
        </p:blipFill>
        <p:spPr>
          <a:xfrm>
            <a:off x="4932360" y="4276800"/>
            <a:ext cx="3497400" cy="197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ономические, социальные и культурные 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84502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труд и свободный выбор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ую опл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авный т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E02002_"/>
          <p:cNvPicPr/>
          <p:nvPr/>
        </p:nvPicPr>
        <p:blipFill>
          <a:blip r:embed="rId1"/>
          <a:stretch/>
        </p:blipFill>
        <p:spPr>
          <a:xfrm>
            <a:off x="6200640" y="3716280"/>
            <a:ext cx="2428920" cy="262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создавать профессиональные сою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тдых и дос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21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защиту материнства и дет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21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культурной жизн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photo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hoto2"/>
          <p:cNvPicPr/>
          <p:nvPr/>
        </p:nvPicPr>
        <p:blipFill>
          <a:blip r:embed="rId2"/>
          <a:stretch/>
        </p:blipFill>
        <p:spPr>
          <a:xfrm>
            <a:off x="5796000" y="5553000"/>
            <a:ext cx="2968560" cy="11160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лективны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олидарные» прав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5215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звит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доров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D06662_"/>
          <p:cNvPicPr/>
          <p:nvPr/>
        </p:nvPicPr>
        <p:blipFill>
          <a:blip r:embed="rId1"/>
          <a:stretch/>
        </p:blipFill>
        <p:spPr>
          <a:xfrm>
            <a:off x="5003640" y="2943360"/>
            <a:ext cx="3549960" cy="33192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лодые избиратели определяют будущее стра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4" descr="golos3"/>
          <p:cNvPicPr/>
          <p:nvPr/>
        </p:nvPicPr>
        <p:blipFill>
          <a:blip r:embed="rId1"/>
          <a:stretch/>
        </p:blipFill>
        <p:spPr>
          <a:xfrm>
            <a:off x="311040" y="2048040"/>
            <a:ext cx="4011840" cy="346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797720" y="1767600"/>
            <a:ext cx="3739680" cy="419508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0" i="1" lang="ru-RU" sz="1500" spc="-1" strike="noStrike">
                <a:solidFill>
                  <a:srgbClr val="006600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овременная молодежь – это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инициативность, активность и креативност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Будь собой, активно участвуй в выборах, сам определяй свое будущее, не позволяй другим делать выбор за теб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5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меньшин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нар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социальных, профессиональных и други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ООН"/>
          <p:cNvPicPr/>
          <p:nvPr/>
        </p:nvPicPr>
        <p:blipFill>
          <a:blip r:embed="rId1"/>
          <a:stretch/>
        </p:blipFill>
        <p:spPr>
          <a:xfrm>
            <a:off x="6012000" y="4149720"/>
            <a:ext cx="2563560" cy="2181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26320" cy="31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BD05090_"/>
          <p:cNvPicPr/>
          <p:nvPr/>
        </p:nvPicPr>
        <p:blipFill>
          <a:blip r:embed="rId2"/>
          <a:stretch/>
        </p:blipFill>
        <p:spPr>
          <a:xfrm rot="3837600">
            <a:off x="414000" y="4811400"/>
            <a:ext cx="1297080" cy="1144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763640" y="4941720"/>
            <a:ext cx="58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ЗНАК БЮРО IN1"/>
          <p:cNvPicPr/>
          <p:nvPr/>
        </p:nvPicPr>
        <p:blipFill>
          <a:blip r:embed="rId3"/>
          <a:stretch/>
        </p:blipFill>
        <p:spPr>
          <a:xfrm>
            <a:off x="7667640" y="486900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 rot="20502600">
            <a:off x="1943280" y="3357720"/>
            <a:ext cx="72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78000"/>
                </a:gradFill>
                <a:latin typeface="Impact"/>
              </a:rPr>
              <a:t>ВСЕ   ПРАВА   ЧЕЛОВЕКА ДЛЯ   ВСЕХ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78000"/>
              </a:gradFill>
              <a:latin typeface="Impact"/>
              <a:ea typeface="Impact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7020000" y="5589720"/>
            <a:ext cx="1869840" cy="1079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BS02064_"/>
          <p:cNvPicPr/>
          <p:nvPr/>
        </p:nvPicPr>
        <p:blipFill>
          <a:blip r:embed="rId1"/>
          <a:stretch/>
        </p:blipFill>
        <p:spPr>
          <a:xfrm>
            <a:off x="7121520" y="4941720"/>
            <a:ext cx="1317600" cy="1413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1" descr="http://www.chrf.ca/francais/programmes_fran/files/images/menu-off_01.jpg"/>
          <p:cNvPicPr/>
          <p:nvPr/>
        </p:nvPicPr>
        <p:blipFill>
          <a:blip r:embed="rId1"/>
          <a:stretch/>
        </p:blipFill>
        <p:spPr>
          <a:xfrm>
            <a:off x="723600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a2" descr="http://www.chrf.ca/francais/programmes_fran/files/images/menu-off_02.jpg"/>
          <p:cNvPicPr/>
          <p:nvPr/>
        </p:nvPicPr>
        <p:blipFill>
          <a:blip r:embed="rId2"/>
          <a:stretch/>
        </p:blipFill>
        <p:spPr>
          <a:xfrm>
            <a:off x="90000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a3" descr="http://www.chrf.ca/francais/programmes_fran/files/images/menu-off_03.jpg"/>
          <p:cNvPicPr/>
          <p:nvPr/>
        </p:nvPicPr>
        <p:blipFill>
          <a:blip r:embed="rId3"/>
          <a:stretch/>
        </p:blipFill>
        <p:spPr>
          <a:xfrm>
            <a:off x="248436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a4" descr="http://www.chrf.ca/francais/programmes_fran/files/images/menu-off_04.jpg"/>
          <p:cNvPicPr/>
          <p:nvPr/>
        </p:nvPicPr>
        <p:blipFill>
          <a:blip r:embed="rId4"/>
          <a:stretch/>
        </p:blipFill>
        <p:spPr>
          <a:xfrm>
            <a:off x="406728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a5" descr="http://www.chrf.ca/francais/programmes_fran/files/images/menu-off_05.jpg"/>
          <p:cNvPicPr/>
          <p:nvPr/>
        </p:nvPicPr>
        <p:blipFill>
          <a:blip r:embed="rId5"/>
          <a:stretch/>
        </p:blipFill>
        <p:spPr>
          <a:xfrm>
            <a:off x="5651640" y="476280"/>
            <a:ext cx="1209600" cy="1104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822240" y="2876400"/>
            <a:ext cx="1365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467080" y="2876400"/>
          <a:ext cx="5854680" cy="517680"/>
        </p:xfrm>
        <a:graphic>
          <a:graphicData uri="http://schemas.openxmlformats.org/drawingml/2006/table">
            <a:tbl>
              <a:tblPr/>
              <a:tblGrid>
                <a:gridCol w="1365120"/>
                <a:gridCol w="1122480"/>
                <a:gridCol w="1122120"/>
                <a:gridCol w="1122480"/>
                <a:gridCol w="112248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11640" y="476280"/>
            <a:ext cx="4633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444"/>
          <p:cNvPicPr/>
          <p:nvPr/>
        </p:nvPicPr>
        <p:blipFill>
          <a:blip r:embed="rId1"/>
          <a:stretch/>
        </p:blipFill>
        <p:spPr>
          <a:xfrm>
            <a:off x="684360" y="476280"/>
            <a:ext cx="3311280" cy="587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ООН"/>
          <p:cNvPicPr/>
          <p:nvPr/>
        </p:nvPicPr>
        <p:blipFill>
          <a:blip r:embed="rId2"/>
          <a:stretch/>
        </p:blipFill>
        <p:spPr>
          <a:xfrm>
            <a:off x="468360" y="189000"/>
            <a:ext cx="1698480" cy="1444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ие и политические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жизнь, свободу и безопасность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рабства и подневольного состоя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S00285_"/>
          <p:cNvPicPr/>
          <p:nvPr/>
        </p:nvPicPr>
        <p:blipFill>
          <a:blip r:embed="rId1"/>
          <a:stretch/>
        </p:blipFill>
        <p:spPr>
          <a:xfrm>
            <a:off x="6012000" y="3730680"/>
            <a:ext cx="2477880" cy="2455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и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субъект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BD06990_"/>
          <p:cNvPicPr/>
          <p:nvPr/>
        </p:nvPicPr>
        <p:blipFill>
          <a:blip r:embed="rId1"/>
          <a:stretch/>
        </p:blipFill>
        <p:spPr>
          <a:xfrm>
            <a:off x="5580000" y="3789360"/>
            <a:ext cx="250344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21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енство перед за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эффективное восстановление в правах в случае нарушения прав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роизвольного ареста,  задержания или изгн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езумпцию невиновности до тех пор, пока виновность не будет установ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9:28:22Z</dcterms:created>
  <dc:creator>Yuriy Gussakov</dc:creator>
  <dc:description/>
  <dc:language>en-US</dc:language>
  <cp:lastModifiedBy>LEGION</cp:lastModifiedBy>
  <dcterms:modified xsi:type="dcterms:W3CDTF">2015-01-28T11:43:22Z</dcterms:modified>
  <cp:revision>16</cp:revision>
  <dc:subject/>
  <dc:title>Поколения прав человека</dc:title>
</cp:coreProperties>
</file>