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jpeg" ContentType="image/jpeg"/>
  <Override PartName="/ppt/media/image11.wmf" ContentType="image/x-wmf"/>
  <Override PartName="/ppt/media/image3.png" ContentType="image/png"/>
  <Override PartName="/ppt/media/image17.jpeg" ContentType="image/jpeg"/>
  <Override PartName="/ppt/media/image7.jpeg" ContentType="image/jpeg"/>
  <Override PartName="/ppt/media/image12.wmf" ContentType="image/x-wmf"/>
  <Override PartName="/ppt/media/image21.png" ContentType="image/png"/>
  <Override PartName="/ppt/media/image19.jpeg" ContentType="image/jpeg"/>
  <Override PartName="/ppt/media/image4.wmf" ContentType="image/x-wmf"/>
  <Override PartName="/ppt/media/image16.jpeg" ContentType="image/jpeg"/>
  <Override PartName="/ppt/media/image15.wmf" ContentType="image/x-wmf"/>
  <Override PartName="/ppt/media/image14.wmf" ContentType="image/x-wmf"/>
  <Override PartName="/ppt/media/image1.wmf" ContentType="image/x-wmf"/>
  <Override PartName="/ppt/media/image9.jpeg" ContentType="image/jpeg"/>
  <Override PartName="/ppt/media/image2.wmf" ContentType="image/x-wmf"/>
  <Override PartName="/ppt/media/image20.wmf" ContentType="image/x-wmf"/>
  <Override PartName="/ppt/media/image5.jpeg" ContentType="image/jpeg"/>
  <Override PartName="/ppt/media/image18.wmf" ContentType="image/x-wmf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A8347-72C6-432A-82F7-61674478186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оления прав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ие и политические права человека, экономические социальные и культурные права человека, коллективные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50D4F-5077-4FC3-AC01-CAE117930D3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 на гласное и с соблюдением всех требований справедливости рассмотрение дела независимым и беспристрастным суд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 на  запрещение осуждения за деяние,  которое во время  его совершения не составляло преступ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9D624-8AA2-4900-87C6-8F601580A6E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свободу от произвольного вмешательства в  личную  и  семейную жизнь,  произвольного посягательства на неприкосновенность жилища или тайну корреспонден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 на  свободу передвижения и выбора местожительства,  в   том числе право покидать любую страну и возвращаться в  свою  стран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93B45-F00C-4F96-8FC4-EF92836AEC2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убежище в других стран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гражданств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вступление в брак и создание семь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C1FC7-507C-40FA-A040-EF0043ABC73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владение имуществ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свободу мысли, совести и религ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свободу убеждений и на свободное их выраж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57062-AECE-4736-9E59-97D19EE5225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свободу мирных собраний и ассоциац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участие в управлении своей стран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равный доступ  к  государственной  службе  в  своей  стра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A6B08-59BA-417F-A3B2-2A3D71601D4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Экономические, социальные и культурные права челове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социальное обеспеч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труд и свободный выбор рабо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равную оплат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равный труд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FD982-1A4B-4285-A523-926E8F1A8A3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 на  справедливое и удовлетворительное вознаграждение, обеспечивающее достойное человека существов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создавать профессиональные союз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отдых и досу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DEC9D-65D3-41EF-97D9-60964304844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жизненный уровень, необходимый для поддержания здоровья и благосостояния (включая пищу,  одежду, жилище, и медицинский уход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социальное обеспечение на случай  безработицы,  болезни, инвалидности, вдовства, наступления старости или иного случая утраты средств к существованию по не зависящим  от  человека обстоятельства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защиту материнства и дет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0D920-784C-4ACB-93A3-70656D28CCB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образование, причем родители имеют право приоритета в выборе вида образования для своих дет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участие в культурной жизни обще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защиту моральных и материальных  интересов,  являющихся результатом  научных,  литературных или художественных  трудов авто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64526-FE3F-471A-AEFF-1E6EDF619FD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лективны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олидарные» пра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развит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мир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здорову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ружающую сре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DD8D9-9EBA-4761-8A6E-F704A202590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лодые избиратели определяют будущее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ыбирать себе правительство вправе лишь тот народ, который постоянно находится в курсе происходящего» ( Т. Джефферсон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временная молодежь – это инициативность, активность и креативность. Будь собой, активно участвуй в выборах, сам определяй свое будущее, не позволяй другим делать выбор за теб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01BEC-7557-4AD6-9404-F42F558BE9F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меньшинст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народ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социальных, профессиональных и других груп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54C6C-C1F7-4B3B-B3CB-462408880F2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ВСЕ   ПРАВА   ЧЕЛОВЕКА ДЛЯ   ВСЕХ  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При подготовке настоящей презентации использованы материалы Казахстанского Международного Бюро по правам человека и соблюдению зако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B62F4-8437-4FA5-9250-FF0B63D3997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одним из первых исторических документов, кодифицирующих права человека, относятся английские Великая хартия вольностей 1215 года и «Билль о правах» 1689 года. Эти документы гарантировали права, которые могли быть поставлены под угрозу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оследующие столетия концепция свобод индивида отделилась от концепции его социального статуса и стала рассматриваться не как привилегия, но как право, присущее всем человеческим существ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уго Гроций и Джон Локк разработали всеобъемлющую теорию естественного права. Жан-Жак Руссо выдвинул концепцию, согласно которой монарх получает власть в результате «общественного договора» со своими подданными. Шарль Монтескье предложил концепцию разделения вла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8A526-54C3-41D8-90C6-92064819F5F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теории послужили руководством к действию для населения британских колоний в Северной Америке. Американская Декларация независимости, принятая 4 июля 1776 года, основывалась на том, что все люди равны, и содержала ссылки на такие неотъемлемые права, как право на жизнь, свободу и стремление к счастью. В дальнейшем положения Декларации были включены в «Билль о правах», дополнивший в 1791 году Конституцию США 1787 года. 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льнейшее развитие теория прав человека получила во французской Декларации прав человека и гражданина 1789 года, в которой впервые появился термин «права человека» (droits de l'homme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ACF96-3C0F-48D2-A739-6EA8CA62A01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же в XVIII-XIX веках получила свое развитие идея о том, что граждане имеют право ожидать от своего государства улучшения условий жизни. В некоторых европейских конституциях XIX века содержались не только положения о классических правах человека, но и статьи, возлагавшие на государство ответственность в сфере занятости, социального обеспечения, общественного здравоохранения и образования. Бернская конвенция 1906 года о запрещении ночного труда женщин стала первым международным договором в области социальных прав. Значительное количество конвенций в области труда разработано Международной организацией труда, созданной в 1919 году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854BD-6516-4FA8-AA6E-6EC6ACE9FCD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ступления против человечности, совершенные во время Второй мировой войны, показали несостоятельность традиционной точки зрения о том, что обращение государств со своими гражданами является исключительно их внутренним делом. Подписание Устава ООН 26 июня 1945 года определило место Прав Человека как неотъемлемой части современного международного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0999D-3AAF-4380-9AA5-6AB0348FE97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ражданские и политические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ава челове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жизнь, свободу и безопасность лич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свободу от рабства и подневольного состоя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8F205-5CCE-4468-B8A5-0A6B72EC5C6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 на  свободу  от пыток и жестокого, бесчеловечного или  унижающего человеческое достоинство обращения и наказ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призн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убъект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B1DDC-43B3-4A8B-80CB-2BE5204A277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равенство перед закон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 на эффективное восстановление в правах в случае нарушения прав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 на  свободу  от произвольного ареста,  задержания или изгн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презумпцию невиновности до тех пор, пока виновность не будет установлен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329AF-BD2B-4085-B964-2513664133E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FAA1-81FC-4A85-807F-0F777D83B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F1C4-3C10-450C-A84E-8881134D8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C113-303F-419A-9C99-0A29B65C3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8A59-6AB5-49EA-A6CA-8329C1DD7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EEA4B-0C72-4173-8A8F-0EC401855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FB1B9-6B99-4BF5-847E-819711E21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87862-8603-4E90-896C-F7D5C29B9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EA560-6D39-4346-A6F0-99674648D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034F5-9FE6-44E8-B2F6-4550BEEFF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B35C5-03BD-4549-9551-A7DF8C576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B6844-0658-46D3-829A-6D99F4D4F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B13B-D41A-4716-8B7E-CD21454F2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8D5E0-32E5-4A16-8526-80B9A9617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32D85-5F25-4F30-BC9D-DABE768EE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FDC3E-0A43-4511-8478-FFCE94CCB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AFE32-8340-49DA-B540-5425DD1F9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5719B-A2EF-4082-B8D5-8152FCA8B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ED6A06-70BD-4416-889D-81D0416C2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AE3F82-A0E7-482A-8949-12279D5B2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7335E2-3E35-43F6-A217-8A87A4B6D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908AFC-291B-4341-8554-2336DB72C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85C39D-922C-445B-9D2C-EC80DEFC3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6AF1-D940-4819-81C1-F33D4B62A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491BE6-6862-486E-A74A-677A39548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3E24F7-07E6-41A4-83DF-C531B951B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FCD07B-DADF-47BC-9A6D-818E8390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7CF2D5-781A-4857-A7B6-552D53579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937383-0F8F-4BC9-95D4-BC64B9ABD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1E6124-C9CA-41FC-A985-D5F3ADC73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F2CB9C-EA3F-4B87-90EC-4C052BEC5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D6EE-0ADA-45C4-8EBE-8506AB590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2D0A-2BC7-42A7-8425-DA2DF5508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1EC9-D40D-4381-8DCC-8B18926E8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8597-6E20-41DD-97D8-7590DDE0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61BD-3CD3-47B7-B62E-8748ECF6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990C-D26F-4EAF-9B64-688EA124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230A5-931A-4EF7-B8A5-7527737281B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7EBA6-1B3C-4C51-8037-410183F93DA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99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ftr" idx="7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sldNum" idx="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D2FB1-62D3-47CB-B71E-96AA078EF7C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dt" idx="9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56D4A-B820-4A44-A0C5-698143877723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71640" y="393840"/>
            <a:ext cx="7772400" cy="23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Поколения прав человека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356000" y="2424240"/>
            <a:ext cx="4464000" cy="224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ражданские и политические права человека, экономические социальные и культурные права человека, коллективные пра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5" descr="BS02064_"/>
          <p:cNvPicPr/>
          <p:nvPr/>
        </p:nvPicPr>
        <p:blipFill>
          <a:blip r:embed="rId1"/>
          <a:stretch/>
        </p:blipFill>
        <p:spPr>
          <a:xfrm>
            <a:off x="395280" y="4035600"/>
            <a:ext cx="1866960" cy="200484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8"/>
          <p:cNvSpPr/>
          <p:nvPr/>
        </p:nvSpPr>
        <p:spPr>
          <a:xfrm>
            <a:off x="755640" y="5505480"/>
            <a:ext cx="80773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захстанское Международное Бюро  по Правам Челове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Соблюдению Закон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012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9" descr="ООН"/>
          <p:cNvPicPr/>
          <p:nvPr/>
        </p:nvPicPr>
        <p:blipFill>
          <a:blip r:embed="rId2"/>
          <a:stretch/>
        </p:blipFill>
        <p:spPr>
          <a:xfrm>
            <a:off x="2556000" y="4035600"/>
            <a:ext cx="1652400" cy="140472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3772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 на гласное и с соблюдением всех требований справедливости рассмотрение дела независимым и беспристрастным судо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 на  запрещение осуждения за деяние,  которое во время  его совершения не составляло преступл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83772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свободу от произвольного вмешательства в  личную  и  семейную жизнь,  произвольного посягательства на неприкосновенность жилища или тайну корреспонденци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 на  свободу передвижения и выбора местожительства,  в   том числе право покидать любую страну и возвращаться в  свою  страну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837720" y="1197000"/>
            <a:ext cx="800748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убежище в других странах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гражданство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вступление в брак и создание семь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4" descr="BD05545_"/>
          <p:cNvPicPr/>
          <p:nvPr/>
        </p:nvPicPr>
        <p:blipFill>
          <a:blip r:embed="rId1"/>
          <a:stretch/>
        </p:blipFill>
        <p:spPr>
          <a:xfrm>
            <a:off x="5219640" y="3068640"/>
            <a:ext cx="3311640" cy="3257640"/>
          </a:xfrm>
          <a:prstGeom prst="rect">
            <a:avLst/>
          </a:prstGeom>
          <a:ln w="0">
            <a:noFill/>
          </a:ln>
        </p:spPr>
      </p:pic>
      <p:sp>
        <p:nvSpPr>
          <p:cNvPr id="203" name="Місце для нижнього колонтитула 2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323640" y="1700280"/>
            <a:ext cx="852156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аво на владение имуществом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аво на свободу мысли, совести и религии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аво на свободу убеждений и на свободное их выражение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394920" y="1341000"/>
            <a:ext cx="84502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свободу мирных собраний и ассоциаци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участие в управлении своей страно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равный доступ  к  государственной  службе  в  своей  стран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Picture 4" descr="BD06982_"/>
          <p:cNvPicPr/>
          <p:nvPr/>
        </p:nvPicPr>
        <p:blipFill>
          <a:blip r:embed="rId1"/>
          <a:stretch/>
        </p:blipFill>
        <p:spPr>
          <a:xfrm>
            <a:off x="4932360" y="4276800"/>
            <a:ext cx="3497400" cy="1973160"/>
          </a:xfrm>
          <a:prstGeom prst="rect">
            <a:avLst/>
          </a:prstGeom>
          <a:ln w="0">
            <a:noFill/>
          </a:ln>
        </p:spPr>
      </p:pic>
      <p:sp>
        <p:nvSpPr>
          <p:cNvPr id="208" name="Місце для нижнього колонтитула 2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5280" y="244080"/>
            <a:ext cx="8447040" cy="20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Экономические, социальные и культурные права человек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94920" y="2708280"/>
            <a:ext cx="8450280" cy="33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социальное обеспечени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труд и свободный выбор работ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равную оплат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 равный труд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4" descr="PE02002_"/>
          <p:cNvPicPr/>
          <p:nvPr/>
        </p:nvPicPr>
        <p:blipFill>
          <a:blip r:embed="rId1"/>
          <a:stretch/>
        </p:blipFill>
        <p:spPr>
          <a:xfrm>
            <a:off x="6200640" y="3716280"/>
            <a:ext cx="2428920" cy="262260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94920" y="1197000"/>
            <a:ext cx="845028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 на  справедливое и удовлетворительное вознаграждение, обеспечивающее достойное человека существовани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создавать профессиональные союз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отдых и досуг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23640" y="765000"/>
            <a:ext cx="852156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аво на жизненный уровень, необходимый для поддержания здоровья и благосостояния (включая пищу,  одежду, жилище, и медицинский уход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аво на социальное обеспечение на случай  безработицы,  болезни, инвалидности, вдовства, наступления старости или иного случая утраты средств к существованию по не зависящим  от  человека обстоятельства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аво на защиту материнства и детств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215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образование, причем родители имеют право приоритета в выборе вида образования для своих дете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участие в культурной жизни обществ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защиту моральных и материальных  интересов,  являющихся результатом  научных,  литературных или художественных  трудов автор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4" descr="photo"/>
          <p:cNvPicPr/>
          <p:nvPr/>
        </p:nvPicPr>
        <p:blipFill>
          <a:blip r:embed="rId1"/>
          <a:stretch/>
        </p:blipFill>
        <p:spPr>
          <a:xfrm>
            <a:off x="539640" y="260280"/>
            <a:ext cx="2952720" cy="9842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hoto2"/>
          <p:cNvPicPr/>
          <p:nvPr/>
        </p:nvPicPr>
        <p:blipFill>
          <a:blip r:embed="rId2"/>
          <a:stretch/>
        </p:blipFill>
        <p:spPr>
          <a:xfrm>
            <a:off x="5796000" y="5553000"/>
            <a:ext cx="2968560" cy="111600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2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оллективные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«солидарные» права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23640" y="2637000"/>
            <a:ext cx="8521560" cy="34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развити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мир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здорову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кружающую сред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4" descr="BD06662_"/>
          <p:cNvPicPr/>
          <p:nvPr/>
        </p:nvPicPr>
        <p:blipFill>
          <a:blip r:embed="rId1"/>
          <a:stretch/>
        </p:blipFill>
        <p:spPr>
          <a:xfrm>
            <a:off x="5003640" y="2943360"/>
            <a:ext cx="3549960" cy="3319200"/>
          </a:xfrm>
          <a:prstGeom prst="rect">
            <a:avLst/>
          </a:prstGeom>
          <a:ln w="0">
            <a:noFill/>
          </a:ln>
        </p:spPr>
      </p:pic>
      <p:sp>
        <p:nvSpPr>
          <p:cNvPr id="22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e8ffc3"/>
              </a:gs>
              <a:gs pos="100000">
                <a:srgbClr val="f8ffed"/>
              </a:gs>
            </a:gsLst>
            <a:lin ang="16200000"/>
          </a:gradFill>
          <a:ln w="9360">
            <a:solidFill>
              <a:srgbClr val="c6dea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Молодые избиратели определяют будущее страны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2" name="Picture 4" descr="golos3"/>
          <p:cNvPicPr/>
          <p:nvPr/>
        </p:nvPicPr>
        <p:blipFill>
          <a:blip r:embed="rId1"/>
          <a:stretch/>
        </p:blipFill>
        <p:spPr>
          <a:xfrm>
            <a:off x="311040" y="2048040"/>
            <a:ext cx="4011840" cy="34686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4797720" y="1767600"/>
            <a:ext cx="3739680" cy="4195080"/>
          </a:xfrm>
          <a:prstGeom prst="rect">
            <a:avLst/>
          </a:prstGeom>
          <a:gradFill rotWithShape="0">
            <a:gsLst>
              <a:gs pos="0">
                <a:srgbClr val="e8ffc3"/>
              </a:gs>
              <a:gs pos="100000">
                <a:srgbClr val="f8ffed"/>
              </a:gs>
            </a:gsLst>
            <a:lin ang="16200000"/>
          </a:gradFill>
          <a:ln w="9360">
            <a:solidFill>
              <a:srgbClr val="c6dea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ru-RU" sz="1500" spc="-1" strike="noStrike">
                <a:solidFill>
                  <a:srgbClr val="006600"/>
                </a:solidFill>
                <a:latin typeface="Arial"/>
              </a:rPr>
              <a:t>«</a:t>
            </a:r>
            <a:r>
              <a:rPr b="0" i="1" lang="ru-RU" sz="1500" spc="-1" strike="noStrike">
                <a:solidFill>
                  <a:srgbClr val="006600"/>
                </a:solidFill>
                <a:latin typeface="Arial"/>
              </a:rPr>
              <a:t>Выбирать себе правительство вправе лишь тот народ, который постоянно находится в курсе происходящего» ( Т. Джефферсон)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Современная молодежь – это </a:t>
            </a:r>
            <a:r>
              <a:rPr b="1" lang="ru-RU" sz="2000" spc="-1" strike="noStrike">
                <a:solidFill>
                  <a:srgbClr val="99ff66"/>
                </a:solidFill>
                <a:latin typeface="Arial"/>
              </a:rPr>
              <a:t>инициативность, активность и креативность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. Будь собой, активно участвуй в выборах, сам определяй свое будущее, не позволяй другим делать выбор за теб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394920" y="1844280"/>
            <a:ext cx="845028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а меньшинст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а народ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а социальных, профессиональных и других груп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5" descr="ООН"/>
          <p:cNvPicPr/>
          <p:nvPr/>
        </p:nvPicPr>
        <p:blipFill>
          <a:blip r:embed="rId1"/>
          <a:stretch/>
        </p:blipFill>
        <p:spPr>
          <a:xfrm>
            <a:off x="6012000" y="4149720"/>
            <a:ext cx="2563560" cy="2181240"/>
          </a:xfrm>
          <a:prstGeom prst="rect">
            <a:avLst/>
          </a:prstGeom>
          <a:ln w="0">
            <a:noFill/>
          </a:ln>
        </p:spPr>
      </p:pic>
      <p:sp>
        <p:nvSpPr>
          <p:cNvPr id="227" name="Місце для нижнього колонтитула 2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208116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3" descr=""/>
          <p:cNvPicPr/>
          <p:nvPr/>
        </p:nvPicPr>
        <p:blipFill>
          <a:blip r:embed="rId1"/>
          <a:stretch/>
        </p:blipFill>
        <p:spPr>
          <a:xfrm>
            <a:off x="1116000" y="765000"/>
            <a:ext cx="7726320" cy="31118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BD05090_"/>
          <p:cNvPicPr/>
          <p:nvPr/>
        </p:nvPicPr>
        <p:blipFill>
          <a:blip r:embed="rId2"/>
          <a:stretch/>
        </p:blipFill>
        <p:spPr>
          <a:xfrm rot="3837600">
            <a:off x="414000" y="4811400"/>
            <a:ext cx="1297080" cy="114444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5"/>
          <p:cNvSpPr/>
          <p:nvPr/>
        </p:nvSpPr>
        <p:spPr>
          <a:xfrm>
            <a:off x="1763640" y="4941720"/>
            <a:ext cx="58327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b7"/>
                </a:solidFill>
                <a:latin typeface="Times New Roman"/>
              </a:rPr>
              <a:t>При подготовке настоящей презентации использованы материалы Казахстанского Международного Бюро по правам человека и соблюдению закон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6" descr="ЗНАК БЮРО IN1"/>
          <p:cNvPicPr/>
          <p:nvPr/>
        </p:nvPicPr>
        <p:blipFill>
          <a:blip r:embed="rId3"/>
          <a:stretch/>
        </p:blipFill>
        <p:spPr>
          <a:xfrm>
            <a:off x="7667640" y="4869000"/>
            <a:ext cx="1135080" cy="1143000"/>
          </a:xfrm>
          <a:prstGeom prst="rect">
            <a:avLst/>
          </a:prstGeom>
          <a:ln w="0">
            <a:noFill/>
          </a:ln>
        </p:spPr>
      </p:pic>
      <p:sp>
        <p:nvSpPr>
          <p:cNvPr id="233" name="WordArt 7"/>
          <p:cNvSpPr txBox="1"/>
          <p:nvPr/>
        </p:nvSpPr>
        <p:spPr>
          <a:xfrm rot="20502600">
            <a:off x="1943280" y="3357720"/>
            <a:ext cx="720072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4878000"/>
                </a:gradFill>
                <a:latin typeface="Impact"/>
              </a:rPr>
              <a:t>ВСЕ   ПРАВА   ЧЕЛОВЕКА ДЛЯ   ВСЕХ  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4878000"/>
              </a:gradFill>
              <a:latin typeface="Impact"/>
              <a:ea typeface="Impact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3772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 одним из первых исторических документов, кодифицирующих права человека, относятся английские Великая хартия вольностей 1215 года и «Билль о правах» 1689 года. Эти документы гарантировали права, которые могли быть поставлены под угрозу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последующие столетия концепция свобод индивида отделилась от концепции его социального статуса и стала рассматриваться не как привилегия, но как право, присущее всем человеческим существ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уго Гроций и Джон Локк разработали всеобъемлющую теорию естественного права. Жан-Жак Руссо выдвинул концепцию, согласно которой монарх получает власть в результате «общественного договора» со своими подданными. Шарль Монтескье предложил концепцию разделения власт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4" descr="BS00554_"/>
          <p:cNvPicPr/>
          <p:nvPr/>
        </p:nvPicPr>
        <p:blipFill>
          <a:blip r:embed="rId1"/>
          <a:stretch/>
        </p:blipFill>
        <p:spPr>
          <a:xfrm>
            <a:off x="7020000" y="5589720"/>
            <a:ext cx="1869840" cy="107928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899640" y="54936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и теории послужили руководством к действию для населения британских колоний в Северной Америке. Американская Декларация независимости, принятая 4 июля 1776 года, основывалась на том, что все люди равны, и содержала ссылки на такие неотъемлемые права, как право на жизнь, свободу и стремление к счастью. В дальнейшем положения Декларации были включены в «Билль о правах», дополнивший в 1791 году Конституцию США 1787 года. Д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альнейшее развитие теория прав человека получила во французской Декларации прав человека и гражданина 1789 года, в которой впервые появился термин «права человека» (droits de l'homme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4" descr="BS02064_"/>
          <p:cNvPicPr/>
          <p:nvPr/>
        </p:nvPicPr>
        <p:blipFill>
          <a:blip r:embed="rId1"/>
          <a:stretch/>
        </p:blipFill>
        <p:spPr>
          <a:xfrm>
            <a:off x="7121520" y="4941720"/>
            <a:ext cx="1317600" cy="141300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539640" y="1699920"/>
            <a:ext cx="83059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же в XVIII-XIX веках получила свое развитие идея о том, что граждане имеют право ожидать от своего государства улучшения условий жизни. В некоторых европейских конституциях XIX века содержались не только положения о классических правах человека, но и статьи, возлагавшие на государство ответственность в сфере занятости, социального обеспечения, общественного здравоохранения и образования. Бернская конвенция 1906 года о запрещении ночного труда женщин стала первым международным договором в области социальных прав. Значительное количество конвенций в области труда разработано Международной организацией труда, созданной в 1919 году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a1" descr="http://www.chrf.ca/francais/programmes_fran/files/images/menu-off_01.jpg"/>
          <p:cNvPicPr/>
          <p:nvPr/>
        </p:nvPicPr>
        <p:blipFill>
          <a:blip r:embed="rId1"/>
          <a:stretch/>
        </p:blipFill>
        <p:spPr>
          <a:xfrm>
            <a:off x="7236000" y="476280"/>
            <a:ext cx="1199880" cy="1104840"/>
          </a:xfrm>
          <a:prstGeom prst="rect">
            <a:avLst/>
          </a:prstGeom>
          <a:ln w="0">
            <a:noFill/>
          </a:ln>
        </p:spPr>
      </p:pic>
      <p:pic>
        <p:nvPicPr>
          <p:cNvPr id="173" name="a2" descr="http://www.chrf.ca/francais/programmes_fran/files/images/menu-off_02.jpg"/>
          <p:cNvPicPr/>
          <p:nvPr/>
        </p:nvPicPr>
        <p:blipFill>
          <a:blip r:embed="rId2"/>
          <a:stretch/>
        </p:blipFill>
        <p:spPr>
          <a:xfrm>
            <a:off x="900000" y="476280"/>
            <a:ext cx="1200240" cy="1104840"/>
          </a:xfrm>
          <a:prstGeom prst="rect">
            <a:avLst/>
          </a:prstGeom>
          <a:ln w="0">
            <a:noFill/>
          </a:ln>
        </p:spPr>
      </p:pic>
      <p:pic>
        <p:nvPicPr>
          <p:cNvPr id="174" name="a3" descr="http://www.chrf.ca/francais/programmes_fran/files/images/menu-off_03.jpg"/>
          <p:cNvPicPr/>
          <p:nvPr/>
        </p:nvPicPr>
        <p:blipFill>
          <a:blip r:embed="rId3"/>
          <a:stretch/>
        </p:blipFill>
        <p:spPr>
          <a:xfrm>
            <a:off x="2484360" y="476280"/>
            <a:ext cx="1200240" cy="1104840"/>
          </a:xfrm>
          <a:prstGeom prst="rect">
            <a:avLst/>
          </a:prstGeom>
          <a:ln w="0">
            <a:noFill/>
          </a:ln>
        </p:spPr>
      </p:pic>
      <p:pic>
        <p:nvPicPr>
          <p:cNvPr id="175" name="a4" descr="http://www.chrf.ca/francais/programmes_fran/files/images/menu-off_04.jpg"/>
          <p:cNvPicPr/>
          <p:nvPr/>
        </p:nvPicPr>
        <p:blipFill>
          <a:blip r:embed="rId4"/>
          <a:stretch/>
        </p:blipFill>
        <p:spPr>
          <a:xfrm>
            <a:off x="4067280" y="476280"/>
            <a:ext cx="1199880" cy="1104840"/>
          </a:xfrm>
          <a:prstGeom prst="rect">
            <a:avLst/>
          </a:prstGeom>
          <a:ln w="0">
            <a:noFill/>
          </a:ln>
        </p:spPr>
      </p:pic>
      <p:pic>
        <p:nvPicPr>
          <p:cNvPr id="176" name="a5" descr="http://www.chrf.ca/francais/programmes_fran/files/images/menu-off_05.jpg"/>
          <p:cNvPicPr/>
          <p:nvPr/>
        </p:nvPicPr>
        <p:blipFill>
          <a:blip r:embed="rId5"/>
          <a:stretch/>
        </p:blipFill>
        <p:spPr>
          <a:xfrm>
            <a:off x="5651640" y="476280"/>
            <a:ext cx="1209600" cy="110484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10"/>
          <p:cNvSpPr/>
          <p:nvPr/>
        </p:nvSpPr>
        <p:spPr>
          <a:xfrm>
            <a:off x="822240" y="2876400"/>
            <a:ext cx="1365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12"/>
          <p:cNvSpPr/>
          <p:nvPr/>
        </p:nvSpPr>
        <p:spPr>
          <a:xfrm>
            <a:off x="822240" y="2876400"/>
            <a:ext cx="5857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14"/>
          <p:cNvSpPr/>
          <p:nvPr/>
        </p:nvSpPr>
        <p:spPr>
          <a:xfrm>
            <a:off x="822240" y="2876400"/>
            <a:ext cx="5857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ectangle 16"/>
          <p:cNvSpPr/>
          <p:nvPr/>
        </p:nvSpPr>
        <p:spPr>
          <a:xfrm>
            <a:off x="822240" y="2876400"/>
            <a:ext cx="5857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18"/>
          <p:cNvSpPr/>
          <p:nvPr/>
        </p:nvSpPr>
        <p:spPr>
          <a:xfrm>
            <a:off x="822240" y="2876400"/>
            <a:ext cx="5857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467080" y="2876400"/>
          <a:ext cx="5854680" cy="517680"/>
        </p:xfrm>
        <a:graphic>
          <a:graphicData uri="http://schemas.openxmlformats.org/drawingml/2006/table">
            <a:tbl>
              <a:tblPr/>
              <a:tblGrid>
                <a:gridCol w="1365120"/>
                <a:gridCol w="1122480"/>
                <a:gridCol w="1122120"/>
                <a:gridCol w="1122480"/>
                <a:gridCol w="1122480"/>
              </a:tblGrid>
              <a:tr h="517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211640" y="476280"/>
            <a:ext cx="463392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еступления против человечности, совершенные во время Второй мировой войны, показали несостоятельность традиционной точки зрения о том, что обращение государств со своими гражданами является исключительно их внутренним делом. Подписание Устава ООН 26 июня 1945 года определило место Прав Человека как неотъемлемой части современного международного пра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4" descr="444"/>
          <p:cNvPicPr/>
          <p:nvPr/>
        </p:nvPicPr>
        <p:blipFill>
          <a:blip r:embed="rId1"/>
          <a:stretch/>
        </p:blipFill>
        <p:spPr>
          <a:xfrm>
            <a:off x="684360" y="476280"/>
            <a:ext cx="3311280" cy="58784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ООН"/>
          <p:cNvPicPr/>
          <p:nvPr/>
        </p:nvPicPr>
        <p:blipFill>
          <a:blip r:embed="rId2"/>
          <a:stretch/>
        </p:blipFill>
        <p:spPr>
          <a:xfrm>
            <a:off x="468360" y="189000"/>
            <a:ext cx="1698480" cy="144468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44440"/>
            <a:ext cx="91440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Гражданские и политические</a:t>
            </a:r>
            <a:br>
              <a:rPr sz="4000"/>
            </a:b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права человек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8360" y="1904760"/>
            <a:ext cx="8377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жизнь, свободу и безопасность личност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свободу от рабства и подневольного состоя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4" descr="BS00285_"/>
          <p:cNvPicPr/>
          <p:nvPr/>
        </p:nvPicPr>
        <p:blipFill>
          <a:blip r:embed="rId1"/>
          <a:stretch/>
        </p:blipFill>
        <p:spPr>
          <a:xfrm>
            <a:off x="6012000" y="3730680"/>
            <a:ext cx="2477880" cy="245592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68360" y="1628280"/>
            <a:ext cx="83772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 на  свободу  от пыток и жестокого, бесчеловечного или  унижающего человеческое достоинство обращения и наказа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призн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субъектност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4" descr="BD06990_"/>
          <p:cNvPicPr/>
          <p:nvPr/>
        </p:nvPicPr>
        <p:blipFill>
          <a:blip r:embed="rId1"/>
          <a:stretch/>
        </p:blipFill>
        <p:spPr>
          <a:xfrm>
            <a:off x="5580000" y="3789360"/>
            <a:ext cx="2503440" cy="260820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2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323640" y="907560"/>
            <a:ext cx="852156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равенство перед закон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 на эффективное восстановление в правах в случае нарушения прав человек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 на  свободу  от произвольного ареста,  задержания или изгна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презумпцию невиновности до тех пор, пока виновность не будет установлен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09:28:22Z</dcterms:created>
  <dc:creator>Yuriy Gussakov</dc:creator>
  <dc:description/>
  <dc:language>en-US</dc:language>
  <cp:lastModifiedBy>LEGION</cp:lastModifiedBy>
  <dcterms:modified xsi:type="dcterms:W3CDTF">2015-01-28T11:43:22Z</dcterms:modified>
  <cp:revision>16</cp:revision>
  <dc:subject/>
  <dc:title>Поколения прав человека</dc:title>
</cp:coreProperties>
</file>