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22.gif" ContentType="image/gif"/>
  <Override PartName="/ppt/media/image21.gif" ContentType="image/gif"/>
  <Override PartName="/ppt/media/image20.jpeg" ContentType="image/jpeg"/>
  <Override PartName="/ppt/media/image17.wmf" ContentType="image/x-wmf"/>
  <Override PartName="/ppt/media/image14.gif" ContentType="image/gif"/>
  <Override PartName="/ppt/media/image19.jpeg" ContentType="image/jpeg"/>
  <Override PartName="/ppt/media/image1.gif" ContentType="image/gif"/>
  <Override PartName="/ppt/media/image16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1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43DE-A672-4EAE-9BDC-855B1D1D12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81bd"/>
                </a:solidFill>
                <a:uFillTx/>
                <a:latin typeface="Times New Roman"/>
              </a:rPr>
              <a:t>Авторы проек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f81bd"/>
                </a:solidFill>
                <a:latin typeface="Times New Roman"/>
              </a:rPr>
              <a:t>9  класс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E47E-A762-4FFA-883A-D087578A89B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Большинство подростков свой преступный путь начали в возрасте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9-11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3B0E-C780-4BA0-BA7E-D534ED68C22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Для выяснения причин, толкающих подростков на преступления, мы провели социологический опрос среди учащихся нашей школы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728A-D9AC-45F6-9B61-E56D0D645EF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ffff"/>
                </a:solidFill>
                <a:uFillTx/>
                <a:latin typeface="Garamond"/>
              </a:rPr>
              <a:t>Социальные причины правонаруш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невысокий материальный доста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многих сем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жилищ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2D9A-E222-40F8-AA2B-359D2FD0A20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ffff"/>
                </a:solidFill>
                <a:uFillTx/>
                <a:latin typeface="Garamond"/>
              </a:rPr>
              <a:t>Психологические причины правонарушени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вспыльчив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отсутствие сильной в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страсть к азартным иг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жа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нежелание рабо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C196-8603-4845-AE66-CC7C94BA81A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Потенциальный правонарушитель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Кто 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3319-E325-42F0-A779-67113286155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Это человек, которы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небрегает моральными но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небрежительно относится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учёбе и зн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стремится к примитивному времяпрепровожд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дпочитает матери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ценности духов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не знает и не уважает законы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8D9F-C61C-44ED-AC90-EAC7CC07670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Times New Roman"/>
              </a:rPr>
              <a:t>Незнание закона и чувство безнаказанности являются самыми распространёнными причинами правонарушений среди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E2C0-CA9E-4BE1-B7D1-15BCE94A895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Из выше приведённых примеров следует, что большинство правонарушителей это дети из неблагополучных семей. А также отсутствие сильной воли, нравственности, уверенность в безнаказанности и незнание законов приводят подростков на скользкий путь преступ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28C7-289B-4AF6-99A1-25D756909E7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cc"/>
                </a:solidFill>
                <a:latin typeface="Calibri"/>
              </a:rPr>
              <a:t>Основополагающий вопрос проект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«Какое влияние оказы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оциальная среда на совершение подростками противоправных действий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7E38-ED2B-4B22-B795-2EEDB4B5772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Times New Roman"/>
              </a:rPr>
              <a:t>В наших ли силах остановить рост преступности среди несовершеннолетни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9B1E-4669-4C2A-AE5C-1945306A6F6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а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Если бы люди с самого детства учились не нарушать моральные нормы, у них было бы больше возможностей прожить жизнь счастливо и интересно. И преступлений было бы несравнимо меньше. Поубавилось бы тюрем и воспитательно-трудовых колоний. Общество и граждане от этого бы только выигр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E076-EFDB-46D6-A125-0F766B25EF3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рхипов В. Д. Подросток и закон. Куйбышев, 198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уянов М.И. «Ребенок из неблагополучной семьи». М. Просвещение, 1998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омова А.И. «Социально-психологические аспекты преступности несовершеннолетних». М. Юридическая литература,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рпец И. В. Преступность: иллюзии и реальность. М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риминологические исследования в мире. М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минологические и уголовно-правовые идеи борьбы с преступностью. М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удрявцев В. Н. Закон, поступок, ответственность. М, 19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удрявцев В.Н., Эминов В.Е. Криминология. М.1997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Лунеев В.В. Преступность 20 века. М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нарушения несовершеннолетних и их предупреждение. Казань. Издательство Казанского Университета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D3FE-413E-4708-9015-CA9D08DB060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ron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efportal.ru/politic/ref45119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projects.databyt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history.refporta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politic.refporta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5ballov.com.ru/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democracy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km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186D-2FB1-4BE8-9FC2-C6B8B8CD27B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f81bd"/>
                </a:solidFill>
                <a:latin typeface="Times New Roman"/>
              </a:rPr>
              <a:t>Для чего нам это нуж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От сумы и от тюрьмы не зарекайся». Это суровое предупреждение пришло к нам из прошлого. Оно напоминает нам о самых неблагоприятных поворотах судьбы.  За решётку никто не стремится. Однако тысячи подростков обоего пола ежегодно  становятся клиентами воспитательно-трудовых колоний, приёмников-распределителей, наркологических диспанс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настала ли пора задуматься – в чём причина столь неблагоприятной криминогенной обстановки, которая сложилась в подростковой среде? Что влечёт подростков на скользкий путь преступной жизни? Кто он – потенциальный правонарушитель? Может быть, это наш одноклассник, сосед или знакомый, оказавшийся в сложной жизненной ситуации? В наших ли силах изменить что-то, предостеречь кого-то от ошибки, способной сломать вс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веты на эти вопросы мы попытаемся найти совместными усилиями в ходе работы над прое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90AE-14CB-4687-8D80-FC0D908E056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Times New Roman"/>
              </a:rPr>
              <a:t>Цели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яснить, что толкает подростков на путь преступ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ставить психологический портрет потенциального правонаруш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B17E-A8A7-4AAA-8482-210E94A507A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4f81bd"/>
                </a:solidFill>
                <a:uFillTx/>
                <a:latin typeface="Times New Roman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Неблагополучная социальная среда – идеальная основа для воспитания преступ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78B2-2CF7-48E0-B6DC-FB9FE927FF1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ыдуманные истор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14-летний Алеша Ш. попал в ЦВИНП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очередную кражу. Мама страдала от алкогольной зависимости, была лишена родительских прав. Отец ушел от нее к другой женщине. В 2001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у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мать умерла. Из дома Алеша сбегал потому, что не хотелось учиться. Мачех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это ругала. И еще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то, что сигареты воровал. В мечтах мальчик представляет себе, как будет жить вдвоем с папой, тихо и мирно. Однако связь Алеши с отцом давно потеряна. Четыре раз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дросток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попадался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то, что "бомбил киоски". Первую свою кражу он совершил в 11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. Алеше ничего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это не было, ведь уголовная ответственность наступает только с 14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дросток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направлен в ЦВИНП на 30 суток - максимальный для этого учреждения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 Алеша рассказывает, что ограбил два ларька и два дома. В ларьках брал еду и сигареты, в домах - деньги. Воровал он не потому, что хотел есть, просто делать было нечего. Первую кражу совершил четыре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назад. Прогуливал школу, зашел в открытый дом. Хозяина не было. Алеша стащил маленький телевизор, вино и сигареты. Спрятал в укромном месте. Возвратился взять что-нибудь еще, хозяин поймал и вызвал мили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перед Новым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ом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залез в ларек, взял два пакета петард и ракетыпо 600 рублей, о чем вспоминает с особой гордостью. Все взорва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60C8-CBFD-428E-8031-F0B1F93EA82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Невыдуманные истор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леша З., поступил в ЦВИНП ночью по постановлению начальника РОВД Тамбовской области. Отец его умер, живет Алеша с мамой. Не учится с октября 2002 года, состоит на учете в милиции. Поступил за хулиганство: в состоянии алкогольного опьянения побил окна сосе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о я по пьянке сделал, был бы трезвый - не стал бы. А на учет меня поставили год назад за кражу из магазина. Разбили стекло, сигнализация не сработала. Взяли 2 литра водки, сок. Набил полный карман жвачки, часть по дороге высыпалась, по ней и нашли на утро, - с усмешкой вспоминает Алек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2002 году Алеша сломал позвоночник, перешел на домашнее образование. Потом бросил учиться: надоело. Сейчас он работает у стеклореза, помогает ему полдня за 1200 рублей. Когда исполнится 18, рассчитывает пойти на завод учеником. Получать образование он больше не наме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Мне диплом не нужен, - говорит он корреспонденту "Житья-Бытья", - главное, чтоб не посадили. Мне здесь не нравится, лучше бы в СИЗО отсидел. Надо было сбежать по дороге. Когда меня выпустят, не знает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916B-2A5C-4EB1-88B0-61BBDC0B9C3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Упрямая статистик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возраст начала употребления наркотиков снизился с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ровень заболеваемости наркоманией среди молодежи в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2,5 раза выш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чем у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ичество подростков, погибающих от наркотиков, за последние годы увеличилось в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C19B-5DB6-43C6-BCA0-FF24190F96D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ямая статистик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месяца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2005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а сотрудниками тамбовской милиции изъято из чердаков, подвалов и теплотрасс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6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спризорных подрост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7 подростков за совершение противоправных деяний помещены в центр временной изоляции 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начала года на территории региона составлено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5168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ротоколов об административных правонарушениях, виновниками которых стали несовершеннолетние подростки. Большая часть привлеченных к ответственности за административные правонарушения подростков (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944 челове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 употребляли алкоголь или появлялись в общественных местах в состоянии алкогольного опья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757E-26A4-46BE-8A4C-61075B39C5B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2FF-DBFC-4CA3-9730-EB87D4B1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965-4981-454D-ABE9-51408851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E97-16B2-4950-88D8-788E96B7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544-78E2-4153-A8F6-036E5CC3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75CC-CD94-4B9F-B8AD-B32EAA72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6BE1-51C5-4DC8-A227-FC5CF76F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4467-CCF9-4BD9-9B96-F479A251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FF5E-9737-4BE4-8D9F-9BBF18C5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5B6B-D164-4936-908D-3C07C9B2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9B2A-21BD-4D77-8256-20437498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EE46-2627-4C05-9351-29AF5AC8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266-AEF2-4EFA-A4E5-81BF2E53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6B2F-6D02-4552-9101-FF7E361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5382-3E66-48E8-98F0-A2FF4E7F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727E-2035-4B34-9207-EB2D2C82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FA35-05E4-42EB-AC3D-384DEDB7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77F9-B977-4064-9CF3-ABB8760C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36B-44DF-4707-9DA9-1699A30C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0CD-9A18-4D48-BB20-F43AB301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529-182E-4AE4-9928-35BDF5A6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D15-220F-411B-88AA-0FBB61B7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1AE-31D4-46B3-A0F0-532217EC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982-D71F-49F2-96AA-7CEC85B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7FA-855C-461D-9675-635940A6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E7E7-6036-4649-A495-425757DAAEE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9DBF-D8DD-4D5E-BA4B-57920E3A58B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onl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4000" y="4941360"/>
            <a:ext cx="82803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ccff"/>
                </a:solidFill>
                <a:uFillTx/>
                <a:latin typeface="Times New Roman"/>
              </a:rPr>
              <a:t>Авторы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imes New Roman"/>
              </a:rPr>
              <a:t>9  клас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187280" y="1197000"/>
            <a:ext cx="6697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"Во всём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виноват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среда?"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564000" y="0"/>
            <a:ext cx="532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ccff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66ccff"/>
                </a:solidFill>
                <a:latin typeface="Times New Roman"/>
              </a:rPr>
              <a:t>Только слабые совершают преступления: сильному и счастливому они не нужны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ccff"/>
                </a:solidFill>
                <a:latin typeface="Times New Roman"/>
              </a:rPr>
              <a:t>Ф. Вольт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497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Большинство подростков свой преступный путь начали в возрасте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9-11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лет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Почему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J0283632"/>
          <p:cNvPicPr/>
          <p:nvPr/>
        </p:nvPicPr>
        <p:blipFill>
          <a:blip r:embed="rId1"/>
          <a:stretch/>
        </p:blipFill>
        <p:spPr>
          <a:xfrm>
            <a:off x="324000" y="4368960"/>
            <a:ext cx="2226960" cy="248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J0285315"/>
          <p:cNvPicPr/>
          <p:nvPr/>
        </p:nvPicPr>
        <p:blipFill>
          <a:blip r:embed="rId2"/>
          <a:stretch/>
        </p:blipFill>
        <p:spPr>
          <a:xfrm>
            <a:off x="6372360" y="4076640"/>
            <a:ext cx="2771640" cy="23716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250" autoRev="1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Для выяснения причин, толкающих подростков на преступления, мы провели социологический опрос среди учащихся нашей школы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J0284133"/>
          <p:cNvPicPr/>
          <p:nvPr/>
        </p:nvPicPr>
        <p:blipFill>
          <a:blip r:embed="rId1"/>
          <a:stretch/>
        </p:blipFill>
        <p:spPr>
          <a:xfrm>
            <a:off x="0" y="4653000"/>
            <a:ext cx="2055960" cy="2205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1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7"/>
          <p:cNvSpPr/>
          <p:nvPr/>
        </p:nvSpPr>
        <p:spPr>
          <a:xfrm>
            <a:off x="179280" y="0"/>
            <a:ext cx="8964720" cy="61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ffff"/>
                </a:solidFill>
                <a:uFillTx/>
                <a:latin typeface="Garamond"/>
              </a:rPr>
              <a:t>Социальные причины правонарушений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Garamond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безработиц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евысокий материальный достаток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многих сем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жилищная пробле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9" descr="J0178789"/>
          <p:cNvPicPr/>
          <p:nvPr/>
        </p:nvPicPr>
        <p:blipFill>
          <a:blip r:embed="rId1"/>
          <a:stretch/>
        </p:blipFill>
        <p:spPr>
          <a:xfrm>
            <a:off x="250920" y="3573360"/>
            <a:ext cx="2089080" cy="2951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J0177752"/>
          <p:cNvPicPr/>
          <p:nvPr/>
        </p:nvPicPr>
        <p:blipFill>
          <a:blip r:embed="rId2"/>
          <a:stretch/>
        </p:blipFill>
        <p:spPr>
          <a:xfrm>
            <a:off x="6516720" y="1700280"/>
            <a:ext cx="2627280" cy="15843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Garamond"/>
              </a:rPr>
              <a:t>Психологические причины правонарушений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спыльчивый харак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тсутствие сильной во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трасть к азартным игр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жад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ежелание работ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6" descr="J0284139"/>
          <p:cNvPicPr/>
          <p:nvPr/>
        </p:nvPicPr>
        <p:blipFill>
          <a:blip r:embed="rId1"/>
          <a:stretch/>
        </p:blipFill>
        <p:spPr>
          <a:xfrm>
            <a:off x="0" y="3068640"/>
            <a:ext cx="3598920" cy="34146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914400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ffff"/>
                </a:solidFill>
                <a:latin typeface="Times New Roman"/>
              </a:rPr>
              <a:t>Потенциальный правонарушитель.</a:t>
            </a:r>
            <a:br>
              <a:rPr sz="8000"/>
            </a:br>
            <a:r>
              <a:rPr b="1" lang="ru-RU" sz="8000" spc="-1" strike="noStrike">
                <a:solidFill>
                  <a:srgbClr val="00ffff"/>
                </a:solidFill>
                <a:latin typeface="Times New Roman"/>
              </a:rPr>
              <a:t>Кто он?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2" name="Picture 5" descr="J0236210"/>
          <p:cNvPicPr/>
          <p:nvPr/>
        </p:nvPicPr>
        <p:blipFill>
          <a:blip r:embed="rId1"/>
          <a:stretch/>
        </p:blipFill>
        <p:spPr>
          <a:xfrm>
            <a:off x="2195640" y="4365720"/>
            <a:ext cx="4895640" cy="1701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imes New Roman"/>
              </a:rPr>
              <a:t>Это человек, который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небрегает моральными нор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небрежительно относится 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учёбе и знания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стремится к примитивному времяпрепровожден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дпочитает материаль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ценности духовны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не знает и не уважает закон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J0230764"/>
          <p:cNvPicPr/>
          <p:nvPr/>
        </p:nvPicPr>
        <p:blipFill>
          <a:blip r:embed="rId1"/>
          <a:stretch/>
        </p:blipFill>
        <p:spPr>
          <a:xfrm>
            <a:off x="6707160" y="836640"/>
            <a:ext cx="2436840" cy="5805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ff"/>
                </a:solidFill>
                <a:latin typeface="Times New Roman"/>
              </a:rPr>
              <a:t>Незнание закона и чувство безнаказанности являются самыми распространёнными причинами правонарушений среди подрост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J0289875"/>
          <p:cNvPicPr/>
          <p:nvPr/>
        </p:nvPicPr>
        <p:blipFill>
          <a:blip r:embed="rId1"/>
          <a:stretch/>
        </p:blipFill>
        <p:spPr>
          <a:xfrm>
            <a:off x="2843280" y="342900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871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Вывод: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5832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Из выше приведённых примеров следует, что большинство правонарушителей это дети из неблагополучных семей. А также отсутствие сильной воли, нравственности, уверенность в безнаказанности и незнание законов приводят подростков на скользкий путь преступной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J0178783"/>
          <p:cNvPicPr/>
          <p:nvPr/>
        </p:nvPicPr>
        <p:blipFill>
          <a:blip r:embed="rId1"/>
          <a:stretch/>
        </p:blipFill>
        <p:spPr>
          <a:xfrm>
            <a:off x="5867280" y="1557360"/>
            <a:ext cx="3276720" cy="3240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1"/>
          <p:cNvSpPr/>
          <p:nvPr/>
        </p:nvSpPr>
        <p:spPr>
          <a:xfrm>
            <a:off x="250920" y="333360"/>
            <a:ext cx="8893080" cy="5549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Основополагающий вопрос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ffff"/>
                </a:solidFill>
                <a:uFillTx/>
                <a:latin typeface="Times New Roman"/>
              </a:rPr>
              <a:t>«Какое влияние оказывае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ffff"/>
                </a:solidFill>
                <a:uFillTx/>
                <a:latin typeface="Times New Roman"/>
              </a:rPr>
              <a:t>социальная среда на совершение подростками противоправных действий?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32" descr="J0303430"/>
          <p:cNvPicPr/>
          <p:nvPr/>
        </p:nvPicPr>
        <p:blipFill>
          <a:blip r:embed="rId1"/>
          <a:stretch/>
        </p:blipFill>
        <p:spPr>
          <a:xfrm>
            <a:off x="228600" y="4076640"/>
            <a:ext cx="1846440" cy="27813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ccff"/>
                </a:solidFill>
                <a:latin typeface="Times New Roman"/>
              </a:rPr>
              <a:t>В наших ли силах остановить рост преступности среди несовершеннолетних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J0177838"/>
          <p:cNvPicPr/>
          <p:nvPr/>
        </p:nvPicPr>
        <p:blipFill>
          <a:blip r:embed="rId1"/>
          <a:stretch/>
        </p:blipFill>
        <p:spPr>
          <a:xfrm>
            <a:off x="2627280" y="4419720"/>
            <a:ext cx="3889440" cy="243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00000" y="333360"/>
            <a:ext cx="7632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0000"/>
                </a:solidFill>
                <a:uFillTx/>
                <a:latin typeface="Tahoma"/>
              </a:rPr>
              <a:t>Да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Если бы люди с самого детства учились не нарушать моральные нормы, у них было бы больше возможностей прожить жизнь счастливо и интересно. И преступлений было бы несравнимо меньше. Поубавилось бы тюрем и воспитательно-трудовых колоний. Общество и граждане от этого бы только выигра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J0283634"/>
          <p:cNvPicPr/>
          <p:nvPr/>
        </p:nvPicPr>
        <p:blipFill>
          <a:blip r:embed="rId1"/>
          <a:stretch/>
        </p:blipFill>
        <p:spPr>
          <a:xfrm>
            <a:off x="6948360" y="162000"/>
            <a:ext cx="2016360" cy="1420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J0283649"/>
          <p:cNvPicPr/>
          <p:nvPr/>
        </p:nvPicPr>
        <p:blipFill>
          <a:blip r:embed="rId2"/>
          <a:stretch/>
        </p:blipFill>
        <p:spPr>
          <a:xfrm>
            <a:off x="0" y="4508640"/>
            <a:ext cx="1763640" cy="2160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923760"/>
            <a:ext cx="86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Архипов В. Д. Подросток и закон. Куйбышев, 198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Буянов М.И. «Ребенок из неблагополучной семьи». М. Просвещение, 1998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Домова А.И. «Социально-психологические аспекты преступности несовершеннолетних». М. Юридическая литература, 198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Карпец И. В. Преступность: иллюзии и реальность. М, 199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Криминологические исследования в мире. М, 199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Криминологические и уголовно-правовые идеи борьбы с преступностью. М, 199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Кудрявцев В. Н. Закон, поступок, ответственность. М, 19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Кудрявцев В.Н., Эминов В.Е. Криминология. М.1997 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Лунеев В.В. Преступность 20 века. М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Правонарушения несовершеннолетних и их предупреждение. Казань. Издательство Казанского Университета, 199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6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Информационные ресурсы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ron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refportal.ru/politic/ref45119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projects.databyte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history.refporta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politic.refporta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5ballov.com.ru/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democracy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km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914400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ccff"/>
                </a:solidFill>
                <a:latin typeface="Times New Roman"/>
              </a:rPr>
              <a:t>Для чего нам это нужно?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5690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«От сумы и от тюрьмы не зарекайся». Это суровое предупреждение пришло к нам из прошлого. Оно напоминает нам о самых неблагоприятных поворотах судьбы.  За решётку никто не стремится. Однако тысячи подростков обоего пола ежегодно  становятся клиентами воспитательно-трудовых колоний, приёмников-распределителей, наркологических диспансеров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 настала ли пора задуматься – в чём причина столь неблагоприятной криминогенной обстановки, которая сложилась в подростковой среде? Что влечёт подростков на скользкий путь преступной жизни? Кто он – потенциальный правонарушитель? Может быть, это наш одноклассник, сосед или знакомый, оказавшийся в сложной жизненной ситуации? В наших ли силах изменить что-то, предостеречь кого-то от ошибки, способной сломать всю жизн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тветы на эти вопросы мы попытаемся найти совместными усилиями в ходе работы над проек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44524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Цели исследования: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0" y="1341360"/>
            <a:ext cx="608472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ыяснить, что толкает подростков на путь преступной жизн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оставить психологический портрет потенциального правонарушител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7" descr="J0178861"/>
          <p:cNvPicPr/>
          <p:nvPr/>
        </p:nvPicPr>
        <p:blipFill>
          <a:blip r:embed="rId1"/>
          <a:stretch/>
        </p:blipFill>
        <p:spPr>
          <a:xfrm>
            <a:off x="6012000" y="1413000"/>
            <a:ext cx="2881080" cy="4680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66ccff"/>
                </a:solidFill>
                <a:uFillTx/>
                <a:latin typeface="Times New Roman"/>
              </a:rPr>
              <a:t>Гипотеза: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21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i="1" lang="ru-RU" sz="6000" spc="-1" strike="noStrike">
                <a:solidFill>
                  <a:srgbClr val="00ffff"/>
                </a:solidFill>
                <a:latin typeface="Times New Roman"/>
              </a:rPr>
              <a:t>Неблагополучная социальная среда – идеальная основа для воспитания преступников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J0283647"/>
          <p:cNvPicPr/>
          <p:nvPr/>
        </p:nvPicPr>
        <p:blipFill>
          <a:blip r:embed="rId1"/>
          <a:stretch/>
        </p:blipFill>
        <p:spPr>
          <a:xfrm>
            <a:off x="6499080" y="4057560"/>
            <a:ext cx="2644920" cy="2800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J0283031"/>
          <p:cNvPicPr/>
          <p:nvPr/>
        </p:nvPicPr>
        <p:blipFill>
          <a:blip r:embed="rId2"/>
          <a:stretch/>
        </p:blipFill>
        <p:spPr>
          <a:xfrm>
            <a:off x="-396720" y="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7999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Невыдуманные истории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14-летний Алеша Ш. попал в ЦВИНП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очередную кражу. Мама страдала от алкогольной зависимости, была лишена родительских прав. Отец ушел от нее к другой женщине. В 2001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у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мать умерла. Из дома Алеша сбегал потому, что не хотелось учиться. Мачех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это ругала. И ещ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то, что сигареты воровал. В мечтах мальчик представляет себе, как будет жить вдвоем с папой, тихо и мирно. Однако связь Алеши с отцом давно потеряна. Четыре раз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дрост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попадался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то, что "бомбил киоски". Первую свою кражу он совершил в 11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 Алеше ничего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это не было, ведь уголовная ответственность наступает только с 14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дрост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правлен в ЦВИНП на 30 суток - максимальный для этого учреждения сро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ам Алеша рассказывает, что ограбил два ларька и два дома. В ларьках брал еду и сигареты, в домах - деньги. Воровал он не потому, что хотел есть, просто делать было нечего. Первую кражу совершил четыр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зад. Прогуливал школу, зашел в открытый дом. Хозяина не было. Алеша стащил маленький телевизор, вино и сигареты. Спрятал в укромном месте. Возвратился взять что-нибудь еще, хозяин поймал и вызвал милиц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 перед Новым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о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залез в ларек, взял два пакета петард и ракетыпо 600 рублей, о чем вспоминает с особой гордостью. Все взорвал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11280" y="0"/>
            <a:ext cx="811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Невыдуманные истории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90612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леша З., поступил в ЦВИНП ночью по постановлению начальника РОВД Тамбовской области. Отец его умер, живет Алеша с мамой. Не учится с октября 2002 года, состоит на учете в милиции. Поступил за хулиганство: в состоянии алкогольного опьянения побил окна соседк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 Это я по пьянке сделал, был бы трезвый - не стал бы. А на учет меня поставили год назад за кражу из магазина. Разбили стекло, сигнализация не сработала. Взяли 2 литра водки, сок. Набил полный карман жвачки, часть по дороге высыпалась, по ней и нашли на утро, - с усмешкой вспоминает Алекс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 2002 году Алеша сломал позвоночник, перешел на домашнее образование. Потом бросил учиться: надоело. Сейчас он работает у стеклореза, помогает ему полдня за 1200 рублей. Когда исполнится 18, рассчитывает пойти на завод учеником. Получать образование он больше не намерен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 Мне диплом не нужен, - говорит он корреспонденту "Житья-Бытья", - главное, чтоб не посадили. Мне здесь не нравится, лучше бы в СИЗО отсидел. Надо было сбежать по дороге. Когда меня выпустят, не знаете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8424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Times New Roman"/>
              </a:rPr>
              <a:t>Упрямая статистика…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572436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ний возраст начала употребления наркотиков снизился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д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ровень заболеваемости наркоманией среди молодежи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,5 раза выш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чем у взросл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личество подростков, погибающих от наркотиков, за последние годы увеличилось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2 р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J0178842"/>
          <p:cNvPicPr/>
          <p:nvPr/>
        </p:nvPicPr>
        <p:blipFill>
          <a:blip r:embed="rId1"/>
          <a:stretch/>
        </p:blipFill>
        <p:spPr>
          <a:xfrm>
            <a:off x="5867280" y="907920"/>
            <a:ext cx="3276720" cy="273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J0178064"/>
          <p:cNvPicPr/>
          <p:nvPr/>
        </p:nvPicPr>
        <p:blipFill>
          <a:blip r:embed="rId2"/>
          <a:stretch/>
        </p:blipFill>
        <p:spPr>
          <a:xfrm>
            <a:off x="5940360" y="4005360"/>
            <a:ext cx="3203640" cy="25826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Упрямая статистика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00000" y="836280"/>
            <a:ext cx="554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месяц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05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да сотрудниками тамбовской милиции изъято из чердаков, подвалов и теплотрас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67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беспризорных подростко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07 подростков за совершение противоправных деяний помещены в центр временной изоляции несовершеннолетн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начала года на территории региона составлен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168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ротоколов об административных правонарушениях, виновниками которых стали несовершеннолетние подростки. Большая часть привлеченных к ответственности за административные правонарушения подростков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944 челове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) употребляли алкоголь или появлялись в общественных местах в состоянии алкогольного опья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J0202202"/>
          <p:cNvPicPr/>
          <p:nvPr/>
        </p:nvPicPr>
        <p:blipFill>
          <a:blip r:embed="rId1"/>
          <a:stretch/>
        </p:blipFill>
        <p:spPr>
          <a:xfrm>
            <a:off x="250920" y="907920"/>
            <a:ext cx="3240000" cy="5616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7:16:17Z</dcterms:created>
  <dc:creator>USER</dc:creator>
  <dc:description/>
  <dc:language>en-US</dc:language>
  <cp:lastModifiedBy>LEGION</cp:lastModifiedBy>
  <dcterms:modified xsi:type="dcterms:W3CDTF">2015-01-28T13:33:17Z</dcterms:modified>
  <cp:revision>20</cp:revision>
  <dc:subject/>
  <dc:title>ПЁТР I – РЕФОРМАТОР ИЛИ АНТИХРИСТ?</dc:title>
</cp:coreProperties>
</file>