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7.wmf" ContentType="image/x-wmf"/>
  <Override PartName="/ppt/media/image14.gif" ContentType="image/gif"/>
  <Override PartName="/ppt/media/image19.jpeg" ContentType="image/jpeg"/>
  <Override PartName="/ppt/media/image1.gif" ContentType="image/gif"/>
  <Override PartName="/ppt/media/image16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39F-CE24-40EA-ABF4-66FBFC40B9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Авторы про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Times New Roman"/>
              </a:rPr>
              <a:t>9  класс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B1B3-F19D-4DD1-9836-A52615DAA5F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C49-721E-438F-BD64-D9F72B65258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F49B-A185-43C7-95D1-2DE677F7307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невысокий материальный доста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многих сем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жилищ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663E-4525-4586-8C3D-7DD139B27B0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вспыльчив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отсутствие сильной в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страсть к азартным иг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жа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нежелание рабо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612-E1BF-4F32-B29F-6B156C47A6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00C-648D-43AA-9A2E-6F70224E69C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Это человек, котор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4BE-046E-4C5B-809B-11F29431723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58FE-6E37-4FCB-BEA9-DD8CB882F90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4E9E-4016-4C19-A66C-EAA18B601FB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cc"/>
                </a:solidFill>
                <a:latin typeface="Calibri"/>
              </a:rPr>
              <a:t>Основополагающий вопрос проек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«Какое влияние оказы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циальная среда на совершение подростками противоправных действи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AC91-5623-48D1-867E-592176B96EB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A7C7-08C2-431A-9586-F2C4A1E61C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E51-68A5-4C45-93B3-ADCAC927760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рхипов В. Д. Подросток и закон. Куйбышев, 198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уянов М.И. «Ребенок из неблагополучной семьи». М. Просвещение, 1998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пец И. В. Преступность: иллюзии и реальность. М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риминологические исследования в мире. М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минологические и уголовно-правовые идеи борьбы с преступностью. М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удрявцев В. Н. Закон, поступок, ответственность. М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удрявцев В.Н., Эминов В.Е. Криминология. М.1997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Лунеев В.В. Преступность 20 века. М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B9C5-B2AB-438D-B283-4EEAF935646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ron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efportal.ru/politic/ref4511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projects.databy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history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politic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5ballov.com.ru/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democrac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E62-36F5-47C6-840B-1F8934049E0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f81bd"/>
                </a:solidFill>
                <a:latin typeface="Times New Roman"/>
              </a:rPr>
              <a:t>Для чего нам это нуж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0BB-C95D-42A0-82D6-D18119CCCB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Times New Roman"/>
              </a:rPr>
              <a:t>Цел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яснить, что толкает подростков на путь преступ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ставить психологический портрет потенциального правонаруш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7125-DECE-4DC0-B3E1-A7A98D843F4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5BFF-FF82-48CE-9F59-073458E20A0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ругала. И ещ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попадался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Алеше ниче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перед Новым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ом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AFB7-9FED-4DB4-A24A-38D631A057D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1614-1ED0-4C67-8C72-BBF26CA03B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чем у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77E9-CD0A-4B6F-8926-47EDCBF8A0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ямая статисти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спризорных подрост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EA0-F65F-47EB-9E7D-B9D453EC04E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7AA-5378-492C-A22D-47FBA6BD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B62-9141-4E49-A171-02A9558F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91E-36C9-4E04-B826-489B8634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A14-0AE1-4797-B1C3-4283C7A8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59CA-AEBC-42B4-AF49-44A5CA58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F729-463C-4ED3-BDBF-8118830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C0E-FCE9-4542-BD7C-745E677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646-1A0A-4C73-8D54-6330058C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FF3-DBC7-4199-82F0-9572CAD4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66E4-178A-4E03-8F8D-F47EBFB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EFFC-AD07-4477-B1AE-61C8EE3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C7B-272E-4101-984F-1AFCBFC2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596-595E-4ED4-86EC-F2362D7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1744-D7AE-40E1-9648-9771A53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C27-7ADF-4652-8933-9AAB7B48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47E-3ABD-4929-A75A-6F884E2C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B8D-1B27-4D3F-A5B6-FE68D347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096-AD19-4231-B9B7-837F9E1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F46-F79A-4B82-A1F0-3D5C88A2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D30-F59B-4E0C-B79D-DDFD6E07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1DD-8F98-42F8-9F65-748A097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DAF-EC2D-4477-9449-A57D23C3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246-E344-49CE-BE4C-DDE12C3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903-5253-4446-B875-DCE4F35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6910-8638-4126-A0D6-CF3013FDFB3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698F-29DA-4AB4-9395-BBD061F73D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n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Times New Roman"/>
              </a:rPr>
              <a:t>Авторы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imes New Roman"/>
              </a:rPr>
              <a:t>9 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187280" y="1197000"/>
            <a:ext cx="66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"Во всём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виноват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среда?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564000" y="0"/>
            <a:ext cx="53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ccff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Только слабые совершают преступления: сильному и счастливому они не нужн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Ф. Вольт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лет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Почему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J0283632"/>
          <p:cNvPicPr/>
          <p:nvPr/>
        </p:nvPicPr>
        <p:blipFill>
          <a:blip r:embed="rId1"/>
          <a:stretch/>
        </p:blipFill>
        <p:spPr>
          <a:xfrm>
            <a:off x="324000" y="4368960"/>
            <a:ext cx="2226960" cy="24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285315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J0284133"/>
          <p:cNvPicPr/>
          <p:nvPr/>
        </p:nvPicPr>
        <p:blipFill>
          <a:blip r:embed="rId1"/>
          <a:stretch/>
        </p:blipFill>
        <p:spPr>
          <a:xfrm>
            <a:off x="0" y="4653000"/>
            <a:ext cx="2055960" cy="2205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179280" y="0"/>
            <a:ext cx="8964720" cy="61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зработ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евысокий материальный достат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многих сем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жилищная про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J0178789"/>
          <p:cNvPicPr/>
          <p:nvPr/>
        </p:nvPicPr>
        <p:blipFill>
          <a:blip r:embed="rId1"/>
          <a:stretch/>
        </p:blipFill>
        <p:spPr>
          <a:xfrm>
            <a:off x="250920" y="357336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177752"/>
          <p:cNvPicPr/>
          <p:nvPr/>
        </p:nvPicPr>
        <p:blipFill>
          <a:blip r:embed="rId2"/>
          <a:stretch/>
        </p:blipFill>
        <p:spPr>
          <a:xfrm>
            <a:off x="6516720" y="1700280"/>
            <a:ext cx="2627280" cy="15843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пыльчивый харак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сутствие сильной в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асть к азартным иг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ад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ежелание рабо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J0284139"/>
          <p:cNvPicPr/>
          <p:nvPr/>
        </p:nvPicPr>
        <p:blipFill>
          <a:blip r:embed="rId1"/>
          <a:stretch/>
        </p:blipFill>
        <p:spPr>
          <a:xfrm>
            <a:off x="0" y="3068640"/>
            <a:ext cx="3598920" cy="34146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8000"/>
            </a:b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5" descr="J0236210"/>
          <p:cNvPicPr/>
          <p:nvPr/>
        </p:nvPicPr>
        <p:blipFill>
          <a:blip r:embed="rId1"/>
          <a:stretch/>
        </p:blipFill>
        <p:spPr>
          <a:xfrm>
            <a:off x="2195640" y="4365720"/>
            <a:ext cx="4895640" cy="1701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Это человек, который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J0230764"/>
          <p:cNvPicPr/>
          <p:nvPr/>
        </p:nvPicPr>
        <p:blipFill>
          <a:blip r:embed="rId1"/>
          <a:stretch/>
        </p:blipFill>
        <p:spPr>
          <a:xfrm>
            <a:off x="6707160" y="836640"/>
            <a:ext cx="243684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J0289875"/>
          <p:cNvPicPr/>
          <p:nvPr/>
        </p:nvPicPr>
        <p:blipFill>
          <a:blip r:embed="rId1"/>
          <a:stretch/>
        </p:blipFill>
        <p:spPr>
          <a:xfrm>
            <a:off x="2843280" y="3429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83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J0178783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250920" y="333360"/>
            <a:ext cx="8893080" cy="5549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й вопрос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«Какое влияние оказыва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социальная среда на совершение подростками противоправных действий?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2" descr="J0303430"/>
          <p:cNvPicPr/>
          <p:nvPr/>
        </p:nvPicPr>
        <p:blipFill>
          <a:blip r:embed="rId1"/>
          <a:stretch/>
        </p:blipFill>
        <p:spPr>
          <a:xfrm>
            <a:off x="228600" y="4076640"/>
            <a:ext cx="1846440" cy="27813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ccff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J0177838"/>
          <p:cNvPicPr/>
          <p:nvPr/>
        </p:nvPicPr>
        <p:blipFill>
          <a:blip r:embed="rId1"/>
          <a:stretch/>
        </p:blipFill>
        <p:spPr>
          <a:xfrm>
            <a:off x="2627280" y="4419720"/>
            <a:ext cx="3889440" cy="243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Tahoma"/>
              </a:rPr>
              <a:t>Д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J0283634"/>
          <p:cNvPicPr/>
          <p:nvPr/>
        </p:nvPicPr>
        <p:blipFill>
          <a:blip r:embed="rId1"/>
          <a:stretch/>
        </p:blipFill>
        <p:spPr>
          <a:xfrm>
            <a:off x="6948360" y="162000"/>
            <a:ext cx="2016360" cy="142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3649"/>
          <p:cNvPicPr/>
          <p:nvPr/>
        </p:nvPicPr>
        <p:blipFill>
          <a:blip r:embed="rId2"/>
          <a:stretch/>
        </p:blipFill>
        <p:spPr>
          <a:xfrm>
            <a:off x="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9237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Архипов В. Д. Подросток и закон. Куйбышев, 198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Буянов М.И. «Ребенок из неблагополучной семьи». М. Просвещение, 1998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рпец И. В. Преступность: иллюзии и реальность. М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Криминологические исследования в мире. М, 199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Криминологические и уголовно-правовые идеи борьбы с преступностью. М, 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Кудрявцев В. Н. Закон, поступок, ответственность. М, 19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удрявцев В.Н., Эминов В.Е. Криминология. М.1997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Лунеев В.В. Преступность 20 века. М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нформационные ресурс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ron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refportal.ru/politic/ref45119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projects.databyt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history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politic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5ballov.com.ru/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democracy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km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ccff"/>
                </a:solidFill>
                <a:latin typeface="Times New Roman"/>
              </a:rPr>
              <a:t>Для чего нам это нужно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44524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Цели исследования: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341360"/>
            <a:ext cx="6084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яснить, что толкает подростков на путь преступной жизн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ить психологический портрет потенциального правонарушит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J0178861"/>
          <p:cNvPicPr/>
          <p:nvPr/>
        </p:nvPicPr>
        <p:blipFill>
          <a:blip r:embed="rId1"/>
          <a:stretch/>
        </p:blipFill>
        <p:spPr>
          <a:xfrm>
            <a:off x="6012000" y="1413000"/>
            <a:ext cx="288108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ccff"/>
                </a:solidFill>
                <a:uFillTx/>
                <a:latin typeface="Times New Roman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J0283647"/>
          <p:cNvPicPr/>
          <p:nvPr/>
        </p:nvPicPr>
        <p:blipFill>
          <a:blip r:embed="rId1"/>
          <a:stretch/>
        </p:blipFill>
        <p:spPr>
          <a:xfrm>
            <a:off x="6499080" y="4057560"/>
            <a:ext cx="26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283031"/>
          <p:cNvPicPr/>
          <p:nvPr/>
        </p:nvPicPr>
        <p:blipFill>
          <a:blip r:embed="rId2"/>
          <a:stretch/>
        </p:blipFill>
        <p:spPr>
          <a:xfrm>
            <a:off x="-396720" y="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ругала. И ещ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опадалс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Алеше ничег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перед Новым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0"/>
            <a:ext cx="81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9061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4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5724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чем у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J0178842"/>
          <p:cNvPicPr/>
          <p:nvPr/>
        </p:nvPicPr>
        <p:blipFill>
          <a:blip r:embed="rId1"/>
          <a:stretch/>
        </p:blipFill>
        <p:spPr>
          <a:xfrm>
            <a:off x="5867280" y="907920"/>
            <a:ext cx="3276720" cy="27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78064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58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Упрямая статистика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0" y="836280"/>
            <a:ext cx="554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сяц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еспризорных подрост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J0202202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6:17Z</dcterms:created>
  <dc:creator>USER</dc:creator>
  <dc:description/>
  <dc:language>en-US</dc:language>
  <cp:lastModifiedBy>LEGION</cp:lastModifiedBy>
  <dcterms:modified xsi:type="dcterms:W3CDTF">2015-01-28T13:33:17Z</dcterms:modified>
  <cp:revision>20</cp:revision>
  <dc:subject/>
  <dc:title>ПЁТР I – РЕФОРМАТОР ИЛИ АНТИХРИСТ?</dc:title>
</cp:coreProperties>
</file>