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5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85B2-0BCD-4662-BF34-1F82C4356A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C948-02B3-495C-B65D-DAE4099363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од ред. А.Я. Сухарева, В.Е. Крутск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-М., 2002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0666-B68B-44B2-ABDC-0053854886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99C9-16AD-4BD1-A578-BC9241031F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7AED-BE41-4D75-9E4A-96F737EFC7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E213-A3C7-4211-A780-6C3F20CD76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6B3F-DE72-4867-94DD-560A552268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7C0D-30DD-44D5-AF96-E9B578216A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ольф Ок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ы, предложенные и исповедуем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4F8C-135E-4AD7-93E5-527091C87E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 сентября 1796 года - Указ об ограничении свободы книгопечатания и ввоза иностранных книг, об упразднении частных типограф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октября 1796 года - учреждение первого цензурного комит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июня 1804 года – первы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26 год - 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преля 1828 года – новый цензурный устав, более компактный и жёст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Александ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A699-EBCE-4239-B232-E1B3E94E7B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4287-D619-4ACF-B0AF-77B6EBFBDB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E21A-E7F5-4A4B-AFCE-9BE3F12DCE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 свободы слова в системе гражданских и полит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 Гражданские и политические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Категория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  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возникновения и развития свободы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вобода слова 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овременное положение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F4C3-2D77-4113-AB09-7190D716C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F92B-8164-4683-B793-E18D0CA1F9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0967-151E-4C05-B114-FDFCC94E3C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DE53-D496-44E5-9EF4-134038033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3344-210F-4924-BE08-EB03D11645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2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3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482B-59AD-44E1-BB3D-DC1F0EBAC6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еев С.С. Философия прав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дяев Н.А. Философия свободы. М.2005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Под ред. А.Я. Сухарева, В.Е. Крутских.-М.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аева Т.В. Словесность в юриспруденции. Казань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ков Г.В. История цензуры в России XIX-XX вв. «Аспект-Пресс»,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И.А. О сущности правосознания. – М., 19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: Учебник для вузов. Под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ей члена-корреспондента РАН В.С. Нерсесянц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к Д . Избранные философские произведения. Т.2. М., 19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убличное право: Учебник / Под ред. К.А.Бекяшева. М.,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тескье Ш. О духе законов //Избранные произведения. М., 19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сесянц В.С. Права человека в истории политической и правовой мы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в истории человечества и в современном мире. М.,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прав человека. Под ред. Лукашевой Е.А. – М.: Норма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: история, теория, практика. М.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. Учебник для вузов / Под ред. Е.А. Лукашевой. М.:“Норма-Инфра-М” 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яров А. Информационное общество будущего и современность. М.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яшев М.М. Курс лекций по истории политических и правовых учений.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а: Полиграфкомбинат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свободы. Харьков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бер И.Е. Свобода и права человека в Советском государстве. Саратов, 19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бзеев Б.С. Конституция. Демократия. Права человека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50B7-07BB-4AFB-B394-BFC24BD3B6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040A-C983-49BE-B846-0796B27766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ссмотреть историю права на свободу слова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10CC-53B5-40A7-96CE-D1291BB0B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Граждан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Политиче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носится как к гражданским, так и к политическим пра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7F6C-E120-4DE7-A619-0889A6A36B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B157-0E69-4AAA-A814-1B3BF04B41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4183-4CF9-4E53-8A81-A71B65B957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5A84-6018-4281-9557-0F08BD6E90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A7FB-402A-4657-B3D4-8333324EA0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ABC6-74BA-408D-AE03-1B8643E429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9FE-65B0-4D52-B0FB-860290B4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3D4-E451-4C9E-9D78-AC9284F0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FA1-0E40-4097-93EC-E0A4C442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BE9-E153-4E63-8DCB-D1BB1B8D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24C-121D-4EB8-8534-35022CB0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ECA-765C-4FB6-BEDA-7D87B937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CE6-1B1D-445D-9642-0150C833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701-CC5D-4AB7-A97F-BC177FC2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118-83CD-4B8D-9102-BE4723ED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E4F-3363-4805-A76A-AA43AAE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599-285B-4C4C-9D32-6BDB007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C27-A922-4C78-B899-3F3FBEB2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8721-52A1-4584-852D-CCF619E5C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13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jpeg"/><Relationship Id="rId19" Type="http://schemas.openxmlformats.org/officeDocument/2006/relationships/image" Target="../media/image4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42.jpeg"/><Relationship Id="rId4" Type="http://schemas.openxmlformats.org/officeDocument/2006/relationships/slide" Target="slide15.xml"/><Relationship Id="rId5" Type="http://schemas.openxmlformats.org/officeDocument/2006/relationships/image" Target="../media/image43.jpeg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.xm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it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1752480"/>
            <a:ext cx="3807000" cy="2853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4724280" y="4038480"/>
            <a:ext cx="4191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бота выпол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еницей 11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миновой Ел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: Бершадская Е.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Свобода с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шой юридический словарь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 ред. А.Я. Сухарева, В.Е. Крут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М., 200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164011195_svobodu_SMI_sta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4038480"/>
            <a:ext cx="2209680" cy="1644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lavki2"/>
          <p:cNvPicPr/>
          <p:nvPr/>
        </p:nvPicPr>
        <p:blipFill>
          <a:blip r:embed="rId2"/>
          <a:stretch/>
        </p:blipFill>
        <p:spPr>
          <a:xfrm>
            <a:off x="0" y="2057400"/>
            <a:ext cx="240048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66697138"/>
          <p:cNvPicPr/>
          <p:nvPr/>
        </p:nvPicPr>
        <p:blipFill>
          <a:blip r:embed="rId3"/>
          <a:stretch/>
        </p:blipFill>
        <p:spPr>
          <a:xfrm>
            <a:off x="0" y="5141880"/>
            <a:ext cx="2792520" cy="1716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144049636_smirnoff"/>
          <p:cNvPicPr/>
          <p:nvPr/>
        </p:nvPicPr>
        <p:blipFill>
          <a:blip r:embed="rId4"/>
          <a:stretch/>
        </p:blipFill>
        <p:spPr>
          <a:xfrm>
            <a:off x="0" y="3276720"/>
            <a:ext cx="2170080" cy="143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group18"/>
          <p:cNvPicPr/>
          <p:nvPr/>
        </p:nvPicPr>
        <p:blipFill>
          <a:blip r:embed="rId5"/>
          <a:stretch/>
        </p:blipFill>
        <p:spPr>
          <a:xfrm>
            <a:off x="6477120" y="3048120"/>
            <a:ext cx="2222280" cy="166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34321"/>
          <p:cNvPicPr/>
          <p:nvPr/>
        </p:nvPicPr>
        <p:blipFill>
          <a:blip r:embed="rId6"/>
          <a:stretch/>
        </p:blipFill>
        <p:spPr>
          <a:xfrm>
            <a:off x="6553080" y="48006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9070"/>
          <p:cNvPicPr/>
          <p:nvPr/>
        </p:nvPicPr>
        <p:blipFill>
          <a:blip r:embed="rId7"/>
          <a:stretch/>
        </p:blipFill>
        <p:spPr>
          <a:xfrm>
            <a:off x="5562720" y="4724280"/>
            <a:ext cx="97920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101-20697"/>
          <p:cNvPicPr/>
          <p:nvPr/>
        </p:nvPicPr>
        <p:blipFill>
          <a:blip r:embed="rId8"/>
          <a:stretch/>
        </p:blipFill>
        <p:spPr>
          <a:xfrm>
            <a:off x="4724280" y="312408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6766a497a13e33a52be75cb5f3c7387"/>
          <p:cNvPicPr/>
          <p:nvPr/>
        </p:nvPicPr>
        <p:blipFill>
          <a:blip r:embed="rId9"/>
          <a:stretch/>
        </p:blipFill>
        <p:spPr>
          <a:xfrm>
            <a:off x="7629480" y="1523880"/>
            <a:ext cx="1514520" cy="192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01"/>
          <p:cNvPicPr/>
          <p:nvPr/>
        </p:nvPicPr>
        <p:blipFill>
          <a:blip r:embed="rId10"/>
          <a:stretch/>
        </p:blipFill>
        <p:spPr>
          <a:xfrm>
            <a:off x="2209680" y="1828800"/>
            <a:ext cx="4572000" cy="390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ilet1"/>
          <p:cNvPicPr/>
          <p:nvPr/>
        </p:nvPicPr>
        <p:blipFill>
          <a:blip r:embed="rId11"/>
          <a:stretch/>
        </p:blipFill>
        <p:spPr>
          <a:xfrm>
            <a:off x="7686720" y="4648320"/>
            <a:ext cx="145728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snickers"/>
          <p:cNvPicPr/>
          <p:nvPr/>
        </p:nvPicPr>
        <p:blipFill>
          <a:blip r:embed="rId12"/>
          <a:stretch/>
        </p:blipFill>
        <p:spPr>
          <a:xfrm>
            <a:off x="6324480" y="58276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showpix"/>
          <p:cNvPicPr/>
          <p:nvPr/>
        </p:nvPicPr>
        <p:blipFill>
          <a:blip r:embed="rId13"/>
          <a:stretch/>
        </p:blipFill>
        <p:spPr>
          <a:xfrm>
            <a:off x="2743200" y="5807160"/>
            <a:ext cx="2098800" cy="105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84080"/>
          <p:cNvPicPr/>
          <p:nvPr/>
        </p:nvPicPr>
        <p:blipFill>
          <a:blip r:embed="rId14"/>
          <a:stretch/>
        </p:blipFill>
        <p:spPr>
          <a:xfrm>
            <a:off x="4572000" y="556272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baran_3"/>
          <p:cNvPicPr/>
          <p:nvPr/>
        </p:nvPicPr>
        <p:blipFill>
          <a:blip r:embed="rId15"/>
          <a:stretch/>
        </p:blipFill>
        <p:spPr>
          <a:xfrm>
            <a:off x="6400800" y="1752480"/>
            <a:ext cx="135252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advertisment_will-1148042600_i_1034_full"/>
          <p:cNvPicPr/>
          <p:nvPr/>
        </p:nvPicPr>
        <p:blipFill>
          <a:blip r:embed="rId16"/>
          <a:stretch/>
        </p:blipFill>
        <p:spPr>
          <a:xfrm>
            <a:off x="0" y="4419720"/>
            <a:ext cx="2212920" cy="110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Coke-vs-Pepsi"/>
          <p:cNvPicPr/>
          <p:nvPr/>
        </p:nvPicPr>
        <p:blipFill>
          <a:blip r:embed="rId17"/>
          <a:stretch/>
        </p:blipFill>
        <p:spPr>
          <a:xfrm>
            <a:off x="7701120" y="1523880"/>
            <a:ext cx="1442880" cy="10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27-10-2b"/>
          <p:cNvPicPr/>
          <p:nvPr/>
        </p:nvPicPr>
        <p:blipFill>
          <a:blip r:embed="rId18"/>
          <a:stretch/>
        </p:blipFill>
        <p:spPr>
          <a:xfrm>
            <a:off x="7615080" y="3352680"/>
            <a:ext cx="1528920" cy="20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bbc720194b33c89c3a757a59fa099244"/>
          <p:cNvPicPr/>
          <p:nvPr/>
        </p:nvPicPr>
        <p:blipFill>
          <a:blip r:embed="rId19"/>
          <a:stretch/>
        </p:blipFill>
        <p:spPr>
          <a:xfrm>
            <a:off x="2057400" y="54100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rilliantovui_doc-1143534435_i_965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4600" y="38858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cke08"/>
          <p:cNvPicPr/>
          <p:nvPr/>
        </p:nvPicPr>
        <p:blipFill>
          <a:blip r:embed="rId2"/>
          <a:stretch/>
        </p:blipFill>
        <p:spPr>
          <a:xfrm>
            <a:off x="228600" y="152388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80px-John_Milton_-_Project_Gutenberg_eText_13619"/>
          <p:cNvPicPr/>
          <p:nvPr/>
        </p:nvPicPr>
        <p:blipFill>
          <a:blip r:embed="rId3"/>
          <a:stretch/>
        </p:blipFill>
        <p:spPr>
          <a:xfrm>
            <a:off x="6934320" y="1676520"/>
            <a:ext cx="1647720" cy="220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6629400" y="38862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Мильтон (John Mil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28587686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2895480"/>
            <a:ext cx="3936960" cy="266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453F480F48C0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Копия barcelonarevnyt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ольф 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дарты, предложенные и исповедуем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3560" y="0"/>
            <a:ext cx="1360440" cy="1019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secret1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3" action="ppaction://hlinksldjump"/>
              </a:rPr>
              <a:t>16 сен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каз об ограничении свободы книгопечатания и ввоза иностранных книг, об упразднении частных типограф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4" action="ppaction://hlinksldjump"/>
              </a:rPr>
              <a:t>22 ок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реждение первого цензурн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5" action="ppaction://hlinksldjump"/>
              </a:rPr>
              <a:t> 9 июня 1804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ервы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6" action="ppaction://hlinksldjump"/>
              </a:rPr>
              <a:t>1826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созд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7" action="ppaction://hlinksldjump"/>
              </a:rPr>
              <a:t>22 апреля 1828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вый цензурный устав, более компактный и жёст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8" action="ppaction://hlinksldjump"/>
              </a:rPr>
              <a:t>Александром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Times New Roman"/>
                <a:hlinkClick r:id="rId9" action="ppaction://hlinksldjump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453F480F48C06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екат"/>
          <p:cNvPicPr/>
          <p:nvPr/>
        </p:nvPicPr>
        <p:blipFill>
          <a:blip r:embed="rId2"/>
          <a:stretch/>
        </p:blipFill>
        <p:spPr>
          <a:xfrm>
            <a:off x="2971800" y="1905120"/>
            <a:ext cx="3141720" cy="4398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B"/>
          <p:cNvPicPr/>
          <p:nvPr/>
        </p:nvPicPr>
        <p:blipFill>
          <a:blip r:embed="rId2"/>
          <a:stretch/>
        </p:blipFill>
        <p:spPr>
          <a:xfrm>
            <a:off x="3429000" y="1981080"/>
            <a:ext cx="2565360" cy="369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pressfreedom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 свободы слова в системе гражданских и политиче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Гражданские и политические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4" action="ppaction://hlinksldjump"/>
              </a:rPr>
              <a:t>Категория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 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5" action="ppaction://hlinksldjump"/>
              </a:rPr>
              <a:t>Свобода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я возникновения и развития свободы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6" action="ppaction://hlinksldjump"/>
              </a:rPr>
              <a:t>Свобода слова в зарубежных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7" action="ppaction://hlinksldjump"/>
              </a:rPr>
              <a:t>Свобода слова 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8" action="ppaction://hlinksldjump"/>
              </a:rPr>
              <a:t>Современное положение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m0006"/>
          <p:cNvPicPr/>
          <p:nvPr/>
        </p:nvPicPr>
        <p:blipFill>
          <a:blip r:embed="rId2"/>
          <a:stretch/>
        </p:blipFill>
        <p:spPr>
          <a:xfrm>
            <a:off x="3124080" y="1981080"/>
            <a:ext cx="2971800" cy="37339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fk2"/>
          <p:cNvPicPr/>
          <p:nvPr/>
        </p:nvPicPr>
        <p:blipFill>
          <a:blip r:embed="rId2"/>
          <a:stretch/>
        </p:blipFill>
        <p:spPr>
          <a:xfrm>
            <a:off x="3429000" y="1905120"/>
            <a:ext cx="2570040" cy="3598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св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453F480F48C06"/>
          <p:cNvPicPr/>
          <p:nvPr/>
        </p:nvPicPr>
        <p:blipFill>
          <a:blip r:embed="rId2"/>
          <a:stretch/>
        </p:blipFill>
        <p:spPr>
          <a:xfrm>
            <a:off x="7862760" y="0"/>
            <a:ext cx="1281240" cy="9604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A117875"/>
          <p:cNvPicPr/>
          <p:nvPr/>
        </p:nvPicPr>
        <p:blipFill>
          <a:blip r:embed="rId2"/>
          <a:stretch/>
        </p:blipFill>
        <p:spPr>
          <a:xfrm>
            <a:off x="1676520" y="1371600"/>
            <a:ext cx="578628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2059200" y="283356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убить, словом можно сп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полки за собой повест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дим Шефнер, «Слов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297180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143000" y="38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629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657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ЕНЗ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453F480F48C06"/>
          <p:cNvPicPr/>
          <p:nvPr/>
        </p:nvPicPr>
        <p:blipFill>
          <a:blip r:embed="rId2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9720" y="1294920"/>
            <a:ext cx="3962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ев С.С. Философия прав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дяев Н.А. Философия свободы. М.2005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юридический словарь / Под ред. А.Я. Сухарева, В.Е. Крутских.-М.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аева Т.В. Словесность в юриспруденции. Казань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ков Г.В. История цензуры в России XIX-XX вв. «Аспект-Пресс»,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ин И.А. О сущности правосознания. – М., 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: Учебник для вузов. Под 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цией члена-корреспондента РАН В.С. Нерсесянц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кк Д . Избранные философские произведения. Т.2. М., 19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ое публичное право: Учебник / Под ред. К.А.Бекяшева. М.,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тескье Ш. О духе законов //Избранные произведения. М., 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сесянц В.С. Права человека в истории политической и правовой мы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 в истории человечества и в современном мире. М.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теория прав человека. Под ред. Лукашевой Е.А. – М.: Норма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: история, теория, практика. М.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. Учебник для вузов / Под ред. Е.А. Лукашевой. М.:“Норма-Инфра-М”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яров А. Информационное общество будущего и современность. М.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яшев М.М. Курс лекций по истории политических и правовых учений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фа: Полиграфкомбинат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ия свободы. Харьков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рбер И.Е. Свобода и права человека в Советском государстве. Саратов, 19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бзеев Б.С. Конституция. Демократия. Права человека. М., 19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смотреть историю права на свободу слова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Копия 52n-1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Граждан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Политиче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Свобода слова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ся как к гражданским, так и к политическим пра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3F480F48C0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iglogo"/>
          <p:cNvPicPr/>
          <p:nvPr/>
        </p:nvPicPr>
        <p:blipFill>
          <a:blip r:embed="rId2"/>
          <a:stretch/>
        </p:blipFill>
        <p:spPr>
          <a:xfrm>
            <a:off x="3505320" y="5029200"/>
            <a:ext cx="1882800" cy="159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Locke08"/>
          <p:cNvPicPr/>
          <p:nvPr/>
        </p:nvPicPr>
        <p:blipFill>
          <a:blip r:embed="rId2"/>
          <a:stretch/>
        </p:blipFill>
        <p:spPr>
          <a:xfrm>
            <a:off x="6934320" y="1752480"/>
            <a:ext cx="1904760" cy="2295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6727680" y="41144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9124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ard-421"/>
          <p:cNvPicPr/>
          <p:nvPr/>
        </p:nvPicPr>
        <p:blipFill>
          <a:blip r:embed="rId4"/>
          <a:stretch/>
        </p:blipFill>
        <p:spPr>
          <a:xfrm>
            <a:off x="6858000" y="1295280"/>
            <a:ext cx="2058840" cy="1332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опия img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Копия x_ec8b8bd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152002636_ontheroad"/>
          <p:cNvPicPr/>
          <p:nvPr/>
        </p:nvPicPr>
        <p:blipFill>
          <a:blip r:embed="rId2"/>
          <a:stretch/>
        </p:blipFill>
        <p:spPr>
          <a:xfrm>
            <a:off x="4419720" y="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nterfaithBest"/>
          <p:cNvPicPr/>
          <p:nvPr/>
        </p:nvPicPr>
        <p:blipFill>
          <a:blip r:embed="rId3"/>
          <a:stretch/>
        </p:blipFill>
        <p:spPr>
          <a:xfrm>
            <a:off x="6232680" y="1600200"/>
            <a:ext cx="2911320" cy="29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1-duncan_2%5B1%5D"/>
          <p:cNvPicPr/>
          <p:nvPr/>
        </p:nvPicPr>
        <p:blipFill>
          <a:blip r:embed="rId4"/>
          <a:stretch/>
        </p:blipFill>
        <p:spPr>
          <a:xfrm>
            <a:off x="4191120" y="2057400"/>
            <a:ext cx="1774800" cy="201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icture55555555614"/>
          <p:cNvPicPr/>
          <p:nvPr/>
        </p:nvPicPr>
        <p:blipFill>
          <a:blip r:embed="rId5"/>
          <a:stretch/>
        </p:blipFill>
        <p:spPr>
          <a:xfrm>
            <a:off x="3124080" y="4114800"/>
            <a:ext cx="1849680" cy="139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asport_2"/>
          <p:cNvPicPr/>
          <p:nvPr/>
        </p:nvPicPr>
        <p:blipFill>
          <a:blip r:embed="rId6"/>
          <a:stretch/>
        </p:blipFill>
        <p:spPr>
          <a:xfrm>
            <a:off x="7238880" y="533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7"/>
          <p:cNvPicPr/>
          <p:nvPr/>
        </p:nvPicPr>
        <p:blipFill>
          <a:blip r:embed="rId7"/>
          <a:stretch/>
        </p:blipFill>
        <p:spPr>
          <a:xfrm>
            <a:off x="5029200" y="419112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6565"/>
          <p:cNvPicPr/>
          <p:nvPr/>
        </p:nvPicPr>
        <p:blipFill>
          <a:blip r:embed="rId8"/>
          <a:stretch/>
        </p:blipFill>
        <p:spPr>
          <a:xfrm>
            <a:off x="7924680" y="5181480"/>
            <a:ext cx="911520" cy="131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765953B_big"/>
          <p:cNvPicPr/>
          <p:nvPr/>
        </p:nvPicPr>
        <p:blipFill>
          <a:blip r:embed="rId9"/>
          <a:stretch/>
        </p:blipFill>
        <p:spPr>
          <a:xfrm>
            <a:off x="7086600" y="472428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freeword2"/>
          <p:cNvPicPr/>
          <p:nvPr/>
        </p:nvPicPr>
        <p:blipFill>
          <a:blip r:embed="rId10"/>
          <a:stretch/>
        </p:blipFill>
        <p:spPr>
          <a:xfrm>
            <a:off x="5105520" y="5638680"/>
            <a:ext cx="1712880" cy="10512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4:44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