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45.png" ContentType="image/pn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8.jpeg" ContentType="image/jpeg"/>
  <Override PartName="/ppt/media/image40.jpeg" ContentType="image/jpeg"/>
  <Override PartName="/ppt/media/image44.png" ContentType="image/png"/>
  <Override PartName="/ppt/media/image46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4E59-D08C-4C4E-8B4B-EF69CCEEAA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74C2-4AC5-4224-8BB1-A23CF08A6F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Свобода сл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одно из основных личных прав человека и политических прав граждан, составная часть свободы информации. Представляет собой возможность публично (устно, письменно, с использованием средств массовой информации) выражать свое мнение (мысли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Большой юридический словарь 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од ред. А.Я. Сухарева, В.Е. Крутски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-М., 2002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C6F4-62CE-4103-B2ED-CBDC8E8F13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Насилие и навязывание принципов на телевидении и в рекла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9B36-DEB9-4E2B-A938-A313328C77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Свобода телевещания и де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последние 40 лет в мире было проведено более 1000 исследований, посвященных  влиянию   телевидения  и кинематографа на  детей. Результаты их практически идентичны: агрессия на экране делает детей более агрессивными по отношению к людям, животным и к неодушевленным предметам. Американская Академия Педиатрии\American Academy of Pediatrics опубликовала четыре фундаментальных вывода из эти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и, которые смотрят много передач, содержащих сцены насилия, воспринимают насилие, как легитимный способ разрешения конфли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мотр сцен насилия делает человека более беззащитным к насилию в реальной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больше ребенок видит сцен насилия на экране, тем больше шансов, что он станет жертвой наси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ребенок отдает предпочтение просмотру телепрограмм, содержащих сцены насилия, существует значительно большая вероятность, что он вырастет агрессивным человеком и даже может совершить преступление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1D87-C226-4BED-84CD-5587E3B410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Если  некое   лицо,   обладающее   определенной   информацией,  желает (согласно)  передать  эту информацию  другому лицу, которое, в свою очередь, желает  получения (согласно на получение)   этой  информации, то  в  таком (и только в таком) случае данный информационный обмен должен состояться вне  зависимости от желаний, волеизъявления и интересов третьих лиц, в том числе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8B9F-557A-478A-A31C-9A9CC6BD37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Свобода слова в зарубежны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1231-29FB-4B83-9328-1214F408FC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Законодательство периода буржуазных революций и становления буржуазных государ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тиция о правах 1628 г. и “Билль о правах” 1689 г. (Англ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, Декларация независимости США 1776 г., “Билле о правах” 1791 г. (СШ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D8A6-4281-45F5-AAFB-D87DEAE6AB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дольф Ок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ll the News That's Fit to Print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каз от публикации скандальных или непроверенных новостей ради создания с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каз от сомнительных методов добывания информации, от чрезмерно драматизированных иллюстраций и фотографий, от сюжетов, ориентированных на низкие вкусы, от вмешательства в частную жизнь, от низкопробной реклам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ндарты, предложенные и исповедуем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", отделяли "качественные" издания от изданий "желтой" прессы, которая в погоне за высокими тиражами не ставила себе никаких моральных ограничений. Результаты редакционной политики Окса привели к тому, что стиль "качественной" журналистик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"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был принят влиятельными интеллектуальными и издательскими кругами США, а чтение этой газеты стало признаком респектаб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9BC4-8D15-4AAF-A757-AA040EF85F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История цензуры в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 сентября 1796 года - Указ об ограничении свободы книгопечатания и ввоза иностранных книг, об упразднении частных типограф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октября 1796 года - учреждение первого цензурного комит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 июня 1804 года – первый цензурный у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26 год -  созда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тделения высшей полиции, второй цензурный у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апреля 1828 года – новый цензурный устав, более компактный и жёст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о печати, введённые Александ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46BD-E0CF-410E-836D-8737946BB5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Екатерина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 I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762-179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EDFA-18E7-4229-BEC3-E20E76BAD6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801-18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CB54-CB16-47E8-ACC1-EA60962ABC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 свободы слова в системе гражданских и политических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 Гражданские и политические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Категория своб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  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я возникновения и развития свободы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Свобода слова в зарубежны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Свобода слова 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Современное положение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используемых источников и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3B6F-50FD-497F-BD21-959BA7414C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иколай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825-185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518E-753D-4731-8D11-2C6BCF5A2A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I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855-188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14A8-A661-4ED4-A3A0-E252B8BF0B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В России свобода слова и убеждений гарантируетс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общей Декларацией прав человека, статья 19 (10 декабря 1948 год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вропейской Конвенцией о защите прав человека и основных свобод, статья 10 (4 ноября 1950 год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м Пактом о гражданских и политических правах, статья 19 (19 декабря 1966 год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ультативным протоколом к международному Пакту о гражданских и политических прав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венцией о международном праве опровер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ей о свободе выражения мнений и информ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титуцией Российской Федерации, статья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м законом "О средствах массовой информац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м законом "Об информации, информатизации и защите информац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AF0D-B4E9-447D-A70E-DDBD08E53E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79C9-2DB4-4CCE-9710-7E4322B22E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1200" spc="-1" strike="noStrike">
                <a:solidFill>
                  <a:srgbClr val="000000"/>
                </a:solidFill>
                <a:latin typeface="Mistral"/>
              </a:rPr>
              <a:t>Используемые источники и литература</a:t>
            </a:r>
            <a:br>
              <a:rPr sz="3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Текст Всеобщей декларации прав человека // Действующее международное право. Т. 2. М., 1996. С. 5—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Европейская Конвенция о защите прав человека и основных свобод. СПб.,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онституция Российской Федерации. М. 199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Федеральный закон “О средствах массовой информации”  от  27  декабря  1991 года за N 2124–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Федеральный закон “Об информации, информатизации и защите информации ” от 20 февраля 1995 года за N 24–Ф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Мирошникова В.А. Комментарии к Конституции Российской Федерации. – М.: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Конституция Российской Федерации. Научно-практический комментарий. М.,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Конституция Российской Федерации. Проблемный комментарий. М.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Международные акты о правах человека: Сб. документов / Составители и авторы вступительной статьи В.А.Карташкин и Е.А.Лукашева. М.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61C4-5C8F-4365-A84F-0486CA2840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еев С.С. Философия права. М.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дяев Н.А. Философия свободы. М.2005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юридический словарь / Под ред. А.Я. Сухарева, В.Е. Крутских.-М.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рлацкий Ф.М. Проблема прав человека в СССР и России. (1970-80-е и начало 90-х годов). – М.: Научная книга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баева Т.В. Словесность в юриспруденции. Казань, 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ков Г.В. История цензуры в России XIX-XX вв. «Аспект-Пресс»,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ьин И.А. О сущности правосознания. – М., 199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литических и правовых учений: Учебник для вузов. Под об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акцией члена-корреспондента РАН В.С. Нерсесянца. М.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литических и правовых учений. Учебник. Под ред. О.Э. Лейста. –М.: Юридическая литература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к Д . Избранные философские произведения. Т.2. М., 19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публичное право: Учебник / Под ред. К.А.Бекяшева. М.,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тескье Ш. О духе законов //Избранные произведения. М., 195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сесянц В.С. Права человека в истории политической и правовой мы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в истории человечества и в современном мире. М., 198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теория прав человека. Под ред. Лукашевой Е.А. – М.: Норма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: история, теория, практика. М.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. Учебник для вузов / Под ред. Е.А. Лукашевой. М.:“Норма-Инфра-М” 200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яров А. Информационное общество будущего и современность. М.2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яшев М.М. Курс лекций по истории политических и правовых учений.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фа: Полиграфкомбинат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свободы. Харьков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бер И.Е. Свобода и права человека в Советском государстве. Саратов, 197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бзеев Б.С. Конституция. Демократия. Права человека. М., 19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28B9-8EBB-4982-BCDC-60303A0C00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Интернет-ресурсы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т при Президенте Российской Федерации по содействию развитию институтов гражданского общества и правам человека: http://www.sovetpamfilova.r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(1789): http://www.hro.org/docs/ilex/6/6_5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ль о правах (1789): http://mn-gazeta.ru/vsp/bill_rus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а человека в России: http://www.hro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тья о влиянии телевидения на детей и подростков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psywork.r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9D23-C721-44C4-B1C4-D6F0B9C5AF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 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рассмотреть историю права на свободу слова в России и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имеющиеся в литературе данные и представления по вопросу свободы слова, а также ее место в системе гражданских и политических прав;  определить понятие «свободы», «цензуры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историческое развитие свободы слова и цензуры в России и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9599-ECB8-4479-94E4-101453439F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Гражданские и политические пр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Гражданские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те права и свободы, которые принадлежат человеку как члену гражданского общества; основы конституционно-правового статуса гражданина государства, определяющие возможности его участия в политической, социальной и культурной жизни общества. Это право на жизнь, свобода от пыток и любых иных форм насилия, право на свободу и личную неприкосновенность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Политические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, как правило, права и свободы граждан только данного государства. Эти права связаны с участием в политической жизни государства, в управлении государственными 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обода сл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носится как к гражданским, так и к политическим пра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2D5D-8DFB-4BBC-B62F-5E11379785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Важнейшие докум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abeas Corpus Act (закон о неприкосновенности личности) 1679г. (Англ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 (СШ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ле о правах” 1791 г (СШ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общая Декларация прав человека. Принята Генеральной Ассамблеей ООН 10 декабря 1948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вропейская Конвенция о защите прав человека. 4 ноября 1950г, Р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ACBA-69FD-4D80-B5BC-8518DC396E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Идея «естественных прав»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является высшей социальной ценностью, он от природы обладает неотъемлемыми правами на жизнь, на свободу и др., которые не могут быть никем отня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ология эпохи Просвещения стала рассматривать отклонение человека от общепринятой нормы не как ущербность, а как проявление его личности, развитие которой идет на пользу не только самому индивиду, но и общест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A667-A1BB-435C-B5F7-B1E828373C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Теория общественного догов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-  продукт сознательного творчества, результат договора, в который вступают люди, находившиеся до этого в «естественном», первобытном состоя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- рациональное объединение людей на основе соглашения между ними, в силу которого они передают часть своей свободы, своей власти государству. . В итоге у правителей и общества возникает комплекс взаимных прав и обязанностей и соответственно — ответственность за невыполнение послед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теория была крупным шагом вперед познания государства, так как порывала с религиозными представлениями о происхождении государственности и политической власти. Эта концепция имеет и глубокое демократическое содержание, обосновывая естественное право народа на свержение власти негодного правителя, вплоть до восс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9FC8-A827-4A72-A065-7737EC9F83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СВОБ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Ш.Монтескье: «Свобода состоит не в том, чтобы делать то, что хочется, а в том, чтобы иметь возможность делать то, что должно хотеть, и не быть принуждённым делать то, что не хочеш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-Ж.Руссо: «Свобода есть подчинение закону, самим себе данном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.Кант: «Свобода есть подчинение закону, который личность сама на себя возложи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678D-F993-4B2B-BCB3-7C211AD746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пере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вероиспове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вы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52D4-0FE1-4FA8-B6C7-BC1D068CAD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5869-6142-47B2-998B-2FE1611B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80D-35CF-4B82-8BB0-BB65D814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45A-35BC-481C-A9C3-73979F3E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B0B-A071-44EC-82D0-88E1DBD4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2C27-1F9E-431F-99D5-0086B65A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5D8A-BCC8-4078-826F-A134C33E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32BC-70B1-410A-8852-CD7F317E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3356-60C5-4F49-AFE9-6F1E6503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839F-6B34-4210-8636-92F7F1C0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1425-6EAF-48E6-BCAD-4C58D4E8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88EA-6896-45A6-A649-5051144F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4C5D-A39D-4C44-A476-98AEE8B0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81A1-B51F-4A3F-9E82-5443906CD7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" Target="slide13.xm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pn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35.png"/><Relationship Id="rId15" Type="http://schemas.openxmlformats.org/officeDocument/2006/relationships/image" Target="../media/image36.jpeg"/><Relationship Id="rId16" Type="http://schemas.openxmlformats.org/officeDocument/2006/relationships/image" Target="../media/image37.jpeg"/><Relationship Id="rId17" Type="http://schemas.openxmlformats.org/officeDocument/2006/relationships/image" Target="../media/image38.jpeg"/><Relationship Id="rId18" Type="http://schemas.openxmlformats.org/officeDocument/2006/relationships/image" Target="../media/image39.jpeg"/><Relationship Id="rId19" Type="http://schemas.openxmlformats.org/officeDocument/2006/relationships/image" Target="../media/image40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42.jpeg"/><Relationship Id="rId4" Type="http://schemas.openxmlformats.org/officeDocument/2006/relationships/slide" Target="slide15.xml"/><Relationship Id="rId5" Type="http://schemas.openxmlformats.org/officeDocument/2006/relationships/image" Target="../media/image43.jpeg"/><Relationship Id="rId6" Type="http://schemas.openxmlformats.org/officeDocument/2006/relationships/slide" Target="slide2.xm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slide" Target="slide2.xml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8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7.xml"/><Relationship Id="rId8" Type="http://schemas.openxmlformats.org/officeDocument/2006/relationships/slide" Target="slide22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" Target="slide5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it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438280" y="1752480"/>
            <a:ext cx="3807000" cy="28530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51" name="Text Box 7"/>
          <p:cNvSpPr/>
          <p:nvPr/>
        </p:nvSpPr>
        <p:spPr>
          <a:xfrm>
            <a:off x="4724280" y="4038480"/>
            <a:ext cx="4191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абота выполн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еницей 11А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Фоминовой Еле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итель: Бершадская Е.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990000"/>
                </a:solidFill>
                <a:latin typeface="Monotype Corsiva"/>
              </a:rPr>
              <a:t>Свобода сло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 из основных личных прав человека и политических прав граждан, составная часть свободы информации. Представляет собой возможность публично (устно, письменно, с использованием средств массовой информации) выражать свое мнение (мысли)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льшой юридический словарь 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 ред. А.Я. Сухарева, В.Е. Крутс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М., 200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34360" y="5575320"/>
            <a:ext cx="1709640" cy="1282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1164011195_svobodu_SMI_sta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62720" y="4038480"/>
            <a:ext cx="2209680" cy="1644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Копия Деньг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istral"/>
              </a:rPr>
              <a:t>Насилие и навязывание принципов на телевидении и в реклам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lavki2"/>
          <p:cNvPicPr/>
          <p:nvPr/>
        </p:nvPicPr>
        <p:blipFill>
          <a:blip r:embed="rId2"/>
          <a:stretch/>
        </p:blipFill>
        <p:spPr>
          <a:xfrm>
            <a:off x="0" y="2057400"/>
            <a:ext cx="2400480" cy="1803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66697138"/>
          <p:cNvPicPr/>
          <p:nvPr/>
        </p:nvPicPr>
        <p:blipFill>
          <a:blip r:embed="rId3"/>
          <a:stretch/>
        </p:blipFill>
        <p:spPr>
          <a:xfrm>
            <a:off x="0" y="5141880"/>
            <a:ext cx="2792520" cy="1716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1144049636_smirnoff"/>
          <p:cNvPicPr/>
          <p:nvPr/>
        </p:nvPicPr>
        <p:blipFill>
          <a:blip r:embed="rId4"/>
          <a:stretch/>
        </p:blipFill>
        <p:spPr>
          <a:xfrm>
            <a:off x="0" y="3276720"/>
            <a:ext cx="2170080" cy="1430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pgroup18"/>
          <p:cNvPicPr/>
          <p:nvPr/>
        </p:nvPicPr>
        <p:blipFill>
          <a:blip r:embed="rId5"/>
          <a:stretch/>
        </p:blipFill>
        <p:spPr>
          <a:xfrm>
            <a:off x="6477120" y="3048120"/>
            <a:ext cx="2222280" cy="1663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34321"/>
          <p:cNvPicPr/>
          <p:nvPr/>
        </p:nvPicPr>
        <p:blipFill>
          <a:blip r:embed="rId6"/>
          <a:stretch/>
        </p:blipFill>
        <p:spPr>
          <a:xfrm>
            <a:off x="6553080" y="48006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9070"/>
          <p:cNvPicPr/>
          <p:nvPr/>
        </p:nvPicPr>
        <p:blipFill>
          <a:blip r:embed="rId7"/>
          <a:stretch/>
        </p:blipFill>
        <p:spPr>
          <a:xfrm>
            <a:off x="5562720" y="4724280"/>
            <a:ext cx="979200" cy="135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A101-20697"/>
          <p:cNvPicPr/>
          <p:nvPr/>
        </p:nvPicPr>
        <p:blipFill>
          <a:blip r:embed="rId8"/>
          <a:stretch/>
        </p:blipFill>
        <p:spPr>
          <a:xfrm>
            <a:off x="4724280" y="3124080"/>
            <a:ext cx="1428840" cy="2095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f6766a497a13e33a52be75cb5f3c7387"/>
          <p:cNvPicPr/>
          <p:nvPr/>
        </p:nvPicPr>
        <p:blipFill>
          <a:blip r:embed="rId9"/>
          <a:stretch/>
        </p:blipFill>
        <p:spPr>
          <a:xfrm>
            <a:off x="7629480" y="1523880"/>
            <a:ext cx="1514520" cy="1922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01"/>
          <p:cNvPicPr/>
          <p:nvPr/>
        </p:nvPicPr>
        <p:blipFill>
          <a:blip r:embed="rId10"/>
          <a:stretch/>
        </p:blipFill>
        <p:spPr>
          <a:xfrm>
            <a:off x="2209680" y="1828800"/>
            <a:ext cx="4572000" cy="390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toilet1"/>
          <p:cNvPicPr/>
          <p:nvPr/>
        </p:nvPicPr>
        <p:blipFill>
          <a:blip r:embed="rId11"/>
          <a:stretch/>
        </p:blipFill>
        <p:spPr>
          <a:xfrm>
            <a:off x="7686720" y="4648320"/>
            <a:ext cx="1457280" cy="1836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snickers"/>
          <p:cNvPicPr/>
          <p:nvPr/>
        </p:nvPicPr>
        <p:blipFill>
          <a:blip r:embed="rId12"/>
          <a:stretch/>
        </p:blipFill>
        <p:spPr>
          <a:xfrm>
            <a:off x="6324480" y="5827680"/>
            <a:ext cx="1397160" cy="1030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showpix"/>
          <p:cNvPicPr/>
          <p:nvPr/>
        </p:nvPicPr>
        <p:blipFill>
          <a:blip r:embed="rId13"/>
          <a:stretch/>
        </p:blipFill>
        <p:spPr>
          <a:xfrm>
            <a:off x="2743200" y="5807160"/>
            <a:ext cx="2098800" cy="1050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84080"/>
          <p:cNvPicPr/>
          <p:nvPr/>
        </p:nvPicPr>
        <p:blipFill>
          <a:blip r:embed="rId14"/>
          <a:stretch/>
        </p:blipFill>
        <p:spPr>
          <a:xfrm>
            <a:off x="4572000" y="5562720"/>
            <a:ext cx="1428840" cy="1095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baran_3"/>
          <p:cNvPicPr/>
          <p:nvPr/>
        </p:nvPicPr>
        <p:blipFill>
          <a:blip r:embed="rId15"/>
          <a:stretch/>
        </p:blipFill>
        <p:spPr>
          <a:xfrm>
            <a:off x="6400800" y="1752480"/>
            <a:ext cx="1352520" cy="1695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advertisment_will-1148042600_i_1034_full"/>
          <p:cNvPicPr/>
          <p:nvPr/>
        </p:nvPicPr>
        <p:blipFill>
          <a:blip r:embed="rId16"/>
          <a:stretch/>
        </p:blipFill>
        <p:spPr>
          <a:xfrm>
            <a:off x="0" y="4419720"/>
            <a:ext cx="2212920" cy="110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" descr="Coke-vs-Pepsi"/>
          <p:cNvPicPr/>
          <p:nvPr/>
        </p:nvPicPr>
        <p:blipFill>
          <a:blip r:embed="rId17"/>
          <a:stretch/>
        </p:blipFill>
        <p:spPr>
          <a:xfrm>
            <a:off x="7701120" y="1523880"/>
            <a:ext cx="1442880" cy="1082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1" descr="27-10-2b"/>
          <p:cNvPicPr/>
          <p:nvPr/>
        </p:nvPicPr>
        <p:blipFill>
          <a:blip r:embed="rId18"/>
          <a:stretch/>
        </p:blipFill>
        <p:spPr>
          <a:xfrm>
            <a:off x="7615080" y="3352680"/>
            <a:ext cx="1528920" cy="2079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bbc720194b33c89c3a757a59fa099244"/>
          <p:cNvPicPr/>
          <p:nvPr/>
        </p:nvPicPr>
        <p:blipFill>
          <a:blip r:embed="rId19"/>
          <a:stretch/>
        </p:blipFill>
        <p:spPr>
          <a:xfrm>
            <a:off x="2057400" y="541008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brilliantovui_doc-1143534435_i_9651_full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вобода телевещания и де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 последние 40 лет в мире было проведено более 1000 исследований, посвященных  влиянию   телевидения  и кинематографа на  детей. Результаты их практически идентичны: агрессия на экране делает детей более агрессивными по отношению к людям, животным и к неодушевленным предметам. Американская Академия Педиатрии\American Academy of Pediatrics опубликовала четыре фундаментальных вывода из этих исследов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, которые смотрят много передач, содержащих сцены насилия, воспринимают насилие, как легитимный способ разрешения конфли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смотр сцен насилия делает человека более беззащитным к насилию в реальной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м больше ребенок видит сцен насилия на экране, тем больше шансов, что он станет жертвой насил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ребенок отдает предпочтение просмотру телепрограмм, содержащих сцены насилия, существует значительно большая вероятность, что он вырастет агрессивным человеком и даже может совершить преступление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Если  некое   лицо,   обладающее   определенной   информацией,  желает (согласно)  передать  эту информацию  другому лицу, которое, в свою очередь, желает  получения (согласно на получение)   этой  информации, то  в  таком (и только в таком) случае данный информационный обмен должен состояться вне  зависимости от желаний, волеизъявления и интересов третьих лиц, в том числе государ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Свобода слова в зарубежных стран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74600" y="3885840"/>
            <a:ext cx="226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жон Лок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John Lock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Locke08"/>
          <p:cNvPicPr/>
          <p:nvPr/>
        </p:nvPicPr>
        <p:blipFill>
          <a:blip r:embed="rId2"/>
          <a:stretch/>
        </p:blipFill>
        <p:spPr>
          <a:xfrm>
            <a:off x="228600" y="1523880"/>
            <a:ext cx="1905120" cy="2295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180px-John_Milton_-_Project_Gutenberg_eText_13619"/>
          <p:cNvPicPr/>
          <p:nvPr/>
        </p:nvPicPr>
        <p:blipFill>
          <a:blip r:embed="rId3"/>
          <a:stretch/>
        </p:blipFill>
        <p:spPr>
          <a:xfrm>
            <a:off x="6934320" y="1676520"/>
            <a:ext cx="1647720" cy="2205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6629400" y="388620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жон Мильтон (John Milt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285876867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590920" y="2895480"/>
            <a:ext cx="3936960" cy="2668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453F480F48C06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Законодательство периода буржуазных революций и становления буржуазных государ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297180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тиция о правах 1628 г. и “Билль о правах” 1689 г. (Англ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, Декларация независимости США 1776 г., “Билле о правах” 1791 г. (СШ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Копия barcelonarevnyt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дольф Ок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ll the News That's Fit to Print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аз от публикации скандальных или непроверенных новостей ради создания сенс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аз от сомнительных методов добывания информации, от чрезмерно драматизированных иллюстраций и фотографий, от сюжетов, ориентированных на низкие вкусы, от вмешательства в частную жизнь, от низкопробной реклам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ндарты, предложенные и исповедуем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, отделяли "качественные" издания от изданий "желтой" прессы, которая в погоне за высокими тиражами не ставила себе никаких моральных ограничений. Результаты редакционной политики Окса привели к тому, что стиль "качественной" журналистик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был принят влиятельными интеллектуальными и издательскими кругами США, а чтение этой газеты стало признаком респектабельност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83560" y="0"/>
            <a:ext cx="1360440" cy="10191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secret1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История цензуры в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3" action="ppaction://hlinksldjump"/>
              </a:rPr>
              <a:t>16 сентября 1796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каз об ограничении свободы книгопечатания и ввоза иностранных книг, об упразднении частных типограф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4" action="ppaction://hlinksldjump"/>
              </a:rPr>
              <a:t>22 октября 1796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чреждение первого цензурного ком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5" action="ppaction://hlinksldjump"/>
              </a:rPr>
              <a:t> 9 июня 1804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первый цензурный у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6" action="ppaction://hlinksldjump"/>
              </a:rPr>
              <a:t>1826 го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 созда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тделения высшей полиции, второй цензурный у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7" action="ppaction://hlinksldjump"/>
              </a:rPr>
              <a:t>22 апреля 1828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овый цензурный устав, более компактный и жёст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а о печати, введённые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8" action="ppaction://hlinksldjump"/>
              </a:rPr>
              <a:t>Александром </a:t>
            </a:r>
            <a:r>
              <a:rPr b="0" lang="en-US" sz="2400" spc="-1" strike="noStrike" u="sng">
                <a:solidFill>
                  <a:srgbClr val="990000"/>
                </a:solidFill>
                <a:uFillTx/>
                <a:latin typeface="Times New Roman"/>
                <a:hlinkClick r:id="rId9" action="ppaction://hlinksldjump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453F480F48C06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Екатерин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I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762-17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екат"/>
          <p:cNvPicPr/>
          <p:nvPr/>
        </p:nvPicPr>
        <p:blipFill>
          <a:blip r:embed="rId2"/>
          <a:stretch/>
        </p:blipFill>
        <p:spPr>
          <a:xfrm>
            <a:off x="2971800" y="1905120"/>
            <a:ext cx="3141720" cy="43988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801-182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imgB"/>
          <p:cNvPicPr/>
          <p:nvPr/>
        </p:nvPicPr>
        <p:blipFill>
          <a:blip r:embed="rId2"/>
          <a:stretch/>
        </p:blipFill>
        <p:spPr>
          <a:xfrm>
            <a:off x="3429000" y="1981080"/>
            <a:ext cx="2565360" cy="36925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pressfreedom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одерж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2" action="ppaction://hlinksldjump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 свободы слова в системе гражданских и политических пр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3" action="ppaction://hlinksldjump"/>
              </a:rPr>
              <a:t>Гражданские и политические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4" action="ppaction://hlinksldjump"/>
              </a:rPr>
              <a:t>Категория своб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3 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5" action="ppaction://hlinksldjump"/>
              </a:rPr>
              <a:t>Свобода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тория возникновения и развития свободы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1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6" action="ppaction://hlinksldjump"/>
              </a:rPr>
              <a:t>Свобода слова в зарубежных стра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2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7" action="ppaction://hlinksldjump"/>
              </a:rPr>
              <a:t>Свобода слова 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8" action="ppaction://hlinksldjump"/>
              </a:rPr>
              <a:t>Современное положение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Николай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825-185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m0006"/>
          <p:cNvPicPr/>
          <p:nvPr/>
        </p:nvPicPr>
        <p:blipFill>
          <a:blip r:embed="rId2"/>
          <a:stretch/>
        </p:blipFill>
        <p:spPr>
          <a:xfrm>
            <a:off x="3124080" y="1981080"/>
            <a:ext cx="2971800" cy="37339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855-188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fk2"/>
          <p:cNvPicPr/>
          <p:nvPr/>
        </p:nvPicPr>
        <p:blipFill>
          <a:blip r:embed="rId2"/>
          <a:stretch/>
        </p:blipFill>
        <p:spPr>
          <a:xfrm>
            <a:off x="3429000" y="1905120"/>
            <a:ext cx="2570040" cy="35989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свс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В России свобода слова и убеждений гарантиру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общей Декларацией прав человека, статья 19 (10 декабря 1948 год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вропейской Конвенцией о защите прав человека и основных свобод, статья 10 (4 ноября 1950 год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ым Пактом о гражданских и политических правах, статья 19 (19 декабря 1966 год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культативным протоколом к международному Пакту о гражданских и политических прав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венцией о международном праве опровер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кларацией о свободе выражения мнений и информ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ституцией Российской Федерации, статья 2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м законом "О средствах массовой информации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м законом "Об информации, информатизации и защите информации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453F480F48C06"/>
          <p:cNvPicPr/>
          <p:nvPr/>
        </p:nvPicPr>
        <p:blipFill>
          <a:blip r:embed="rId2"/>
          <a:stretch/>
        </p:blipFill>
        <p:spPr>
          <a:xfrm>
            <a:off x="7862760" y="0"/>
            <a:ext cx="1281240" cy="9604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A117875"/>
          <p:cNvPicPr/>
          <p:nvPr/>
        </p:nvPicPr>
        <p:blipFill>
          <a:blip r:embed="rId2"/>
          <a:stretch/>
        </p:blipFill>
        <p:spPr>
          <a:xfrm>
            <a:off x="1676520" y="1371600"/>
            <a:ext cx="5786280" cy="452592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2059200" y="2833560"/>
            <a:ext cx="502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овом можно убить, словом можно сп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овом можно полки за собой повести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адим Шефнер, «Слов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3"/>
          <p:cNvSpPr/>
          <p:nvPr/>
        </p:nvSpPr>
        <p:spPr>
          <a:xfrm>
            <a:off x="2971800" y="1981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4"/>
          <p:cNvSpPr/>
          <p:nvPr/>
        </p:nvSpPr>
        <p:spPr>
          <a:xfrm>
            <a:off x="1143000" y="3809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5"/>
          <p:cNvSpPr/>
          <p:nvPr/>
        </p:nvSpPr>
        <p:spPr>
          <a:xfrm>
            <a:off x="6629400" y="3809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МОР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6"/>
          <p:cNvSpPr/>
          <p:nvPr/>
        </p:nvSpPr>
        <p:spPr>
          <a:xfrm>
            <a:off x="3657600" y="4648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ЦЕНЗ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Используемые источники и литература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Текст Всеобщей декларации прав человека // Действующее международное право. Т. 2. М., 1996. С. 5—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Европейская Конвенция о защите прав человека и основных свобод. СПб.,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Конституция Российской Федерации. М.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 Федеральный закон “О средствах массовой информации”  от  27  декабря  1991 года за N 2124–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Федеральный закон “Об информации, информатизации и защите информации ” от 20 февраля 1995 года за N 24–Ф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453F480F48C06"/>
          <p:cNvPicPr/>
          <p:nvPr/>
        </p:nvPicPr>
        <p:blipFill>
          <a:blip r:embed="rId2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19720" y="1294920"/>
            <a:ext cx="3962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Мирошникова В.А. Комментарии к Конституции Российской Федерации. – М.: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Конституция Российской Федерации. Научно-практический комментарий. М.,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Конституция Российской Федерации. Проблемный комментарий. М.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Международные акты о правах человека: Сб. документов / Составители и авторы вступительной статьи В.А.Карташкин и Е.А.Лукашева. М.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ексеев С.С. Философия права. М., 19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рдяев Н.А. Философия свободы. М.2005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ой юридический словарь / Под ред. А.Я. Сухарева, В.Е. Крутских.-М.,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рлацкий Ф.М. Проблема прав человека в СССР и России. (1970-80-е и начало 90-х годов). – М.: Научная книга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баева Т.В. Словесность в юриспруденции. Казань, 19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рков Г.В. История цензуры в России XIX-XX вв. «Аспект-Пресс»,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льин И.А. О сущности правосознания. – М., 19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 политических и правовых учений: Учебник для вузов. Под об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дакцией члена-корреспондента РАН В.С. Нерсесянца. М., 19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 политических и правовых учений. Учебник. Под ред. О.Э. Лейста. –М.: Юридическая литература, 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кк Д . Избранные философские произведения. Т.2. М., 196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народное публичное право: Учебник / Под ред. К.А.Бекяшева. М.,19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нтескье Ш. О духе законов //Избранные произведения. М., 195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рсесянц В.С. Права человека в истории политической и правовой мыс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человека в истории человечества и в современном мире. М., 198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ая теория прав человека. Под ред. Лукашевой Е.А. – М.: Норма,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человека: история, теория, практика. М., 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человека. Учебник для вузов / Под ред. Е.А. Лукашевой. М.:“Норма-Инфра-М” 200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ляров А. Информационное общество будущего и современность. М.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яшев М.М. Курс лекций по истории политических и правовых учений.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фа: Полиграфкомбинат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ия свободы. Харьков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рбер И.Е. Свобода и права человека в Советском государстве. Саратов, 197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бзеев Б.С. Конституция. Демократия. Права человека. М., 199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Интернет-ресурсы: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овет при Президенте Российской Федерации по содействию развитию институтов гражданского общества и правам человека: http://www.sovetpamfilova.ru/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(1789): http://www.hro.org/docs/ilex/6/6_5.htm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Билль о правах (1789): http://mn-gazeta.ru/vsp/bill_rus.htm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рава человека в России: http://www.hro.org/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татья о влиянии телевидения на детей и подростков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www.psywork.r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 рабо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ассмотреть историю права на свободу слова в России и других стра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ч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ть имеющиеся в литературе данные и представления по вопросу свободы слова, а также ее место в системе гражданских и политических прав;  определить понятие «свободы», «цензуры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историческое развитие свободы слова и цензуры в России и других стра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5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Копия 52n-14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Гражданские и политические пра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6934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</a:rPr>
              <a:t>Гражданские пра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те права и свободы, которые принадлежат человеку как члену гражданского общества; основы конституционно-правового статуса гражданина государства, определяющие возможности его участия в политической, социальной и культурной жизни общества. Это право на жизнь, свобода от пыток и любых иных форм насилия, право на свободу и личную неприкосновенность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</a:rPr>
              <a:t>Политические пра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, как правило, права и свободы граждан только данного государства. Эти права связаны с участием в политической жизни государства, в управлении государственными де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  <a:hlinkClick r:id="rId2" action="ppaction://hlinksldjump"/>
              </a:rPr>
              <a:t>Свобода слова</a:t>
            </a: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сится как к гражданским, так и к политическим прав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453F480F48C06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34360" y="5575320"/>
            <a:ext cx="1709640" cy="12826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Важнейшие докумен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abeas Corpus Act (закон о неприкосновенности личности) 1679г. (Англ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 (СШ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лле о правах” 1791 г (СШ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общая Декларация прав человека. Принята Генеральной Ассамблеей ООН 10 декабря 1948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вропейская Конвенция о защите прав человека. 4 ноября 1950г, Р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biglogo"/>
          <p:cNvPicPr/>
          <p:nvPr/>
        </p:nvPicPr>
        <p:blipFill>
          <a:blip r:embed="rId2"/>
          <a:stretch/>
        </p:blipFill>
        <p:spPr>
          <a:xfrm>
            <a:off x="3505320" y="5029200"/>
            <a:ext cx="1882800" cy="1593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453F480F48C0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34360" y="5575320"/>
            <a:ext cx="1709640" cy="12826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Идея «естественных прав»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6248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является высшей социальной ценностью, он от природы обладает неотъемлемыми правами на жизнь, на свободу и др., которые не могут быть никем отня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эпохи Просвещения стала рассматривать отклонение человека от общепринятой нормы не как ущербность, а как проявление его личности, развитие которой идет на пользу не только самому индивиду, но и общест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Locke08"/>
          <p:cNvPicPr/>
          <p:nvPr/>
        </p:nvPicPr>
        <p:blipFill>
          <a:blip r:embed="rId2"/>
          <a:stretch/>
        </p:blipFill>
        <p:spPr>
          <a:xfrm>
            <a:off x="6934320" y="1752480"/>
            <a:ext cx="1904760" cy="2295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0"/>
          <p:cNvSpPr/>
          <p:nvPr/>
        </p:nvSpPr>
        <p:spPr>
          <a:xfrm>
            <a:off x="6727680" y="4114440"/>
            <a:ext cx="226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жон Лок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John Lock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453F480F48C0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619600"/>
            <a:ext cx="1652760" cy="12384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91240" y="5619600"/>
            <a:ext cx="1652760" cy="1238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Теория общественного догово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о -  продукт сознательного творчества, результат договора, в который вступают люди, находившиеся до этого в «естественном», первобытном состоя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о - рациональное объединение людей на основе соглашения между ними, в силу которого они передают часть своей свободы, своей власти государству. . В итоге у правителей и общества возникает комплекс взаимных прав и обязанностей и соответственно — ответственность за невыполнение последн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говорная теория была крупным шагом вперед познания государства, так как порывала с религиозными представлениями о происхождении государственности и политической власти. Эта концепция имеет и глубокое демократическое содержание, обосновывая естественное право народа на свержение власти негодного правителя, вплоть до восст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ard-421"/>
          <p:cNvPicPr/>
          <p:nvPr/>
        </p:nvPicPr>
        <p:blipFill>
          <a:blip r:embed="rId4"/>
          <a:stretch/>
        </p:blipFill>
        <p:spPr>
          <a:xfrm>
            <a:off x="6858000" y="1295280"/>
            <a:ext cx="2058840" cy="13320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Копия img00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ВОБО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.Монтескье: «Свобода состоит не в том, чтобы делать то, что хочется, а в том, чтобы иметь возможность делать то, что должно хотеть, и не быть принуждённым делать то, что не хочеш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-Ж.Руссо: «Свобода есть подчинение закону, самим себе данном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Кант: «Свобода есть подчинение закону, который личность сама на себя возложи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Копия x_ec8b8bd0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пере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вероиспове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твор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1152002636_ontheroad"/>
          <p:cNvPicPr/>
          <p:nvPr/>
        </p:nvPicPr>
        <p:blipFill>
          <a:blip r:embed="rId2"/>
          <a:stretch/>
        </p:blipFill>
        <p:spPr>
          <a:xfrm>
            <a:off x="4419720" y="0"/>
            <a:ext cx="2666880" cy="1752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interfaithBest"/>
          <p:cNvPicPr/>
          <p:nvPr/>
        </p:nvPicPr>
        <p:blipFill>
          <a:blip r:embed="rId3"/>
          <a:stretch/>
        </p:blipFill>
        <p:spPr>
          <a:xfrm>
            <a:off x="6232680" y="1600200"/>
            <a:ext cx="2911320" cy="292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1-duncan_2%5B1%5D"/>
          <p:cNvPicPr/>
          <p:nvPr/>
        </p:nvPicPr>
        <p:blipFill>
          <a:blip r:embed="rId4"/>
          <a:stretch/>
        </p:blipFill>
        <p:spPr>
          <a:xfrm>
            <a:off x="4191120" y="2057400"/>
            <a:ext cx="1774800" cy="201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picture55555555614"/>
          <p:cNvPicPr/>
          <p:nvPr/>
        </p:nvPicPr>
        <p:blipFill>
          <a:blip r:embed="rId5"/>
          <a:stretch/>
        </p:blipFill>
        <p:spPr>
          <a:xfrm>
            <a:off x="3124080" y="4114800"/>
            <a:ext cx="1849680" cy="1392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pasport_2"/>
          <p:cNvPicPr/>
          <p:nvPr/>
        </p:nvPicPr>
        <p:blipFill>
          <a:blip r:embed="rId6"/>
          <a:stretch/>
        </p:blipFill>
        <p:spPr>
          <a:xfrm>
            <a:off x="7238880" y="533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7"/>
          <p:cNvPicPr/>
          <p:nvPr/>
        </p:nvPicPr>
        <p:blipFill>
          <a:blip r:embed="rId7"/>
          <a:stretch/>
        </p:blipFill>
        <p:spPr>
          <a:xfrm>
            <a:off x="5029200" y="4191120"/>
            <a:ext cx="1306440" cy="1306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6565"/>
          <p:cNvPicPr/>
          <p:nvPr/>
        </p:nvPicPr>
        <p:blipFill>
          <a:blip r:embed="rId8"/>
          <a:stretch/>
        </p:blipFill>
        <p:spPr>
          <a:xfrm>
            <a:off x="7924680" y="5181480"/>
            <a:ext cx="911520" cy="1314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765953B_big"/>
          <p:cNvPicPr/>
          <p:nvPr/>
        </p:nvPicPr>
        <p:blipFill>
          <a:blip r:embed="rId9"/>
          <a:stretch/>
        </p:blipFill>
        <p:spPr>
          <a:xfrm>
            <a:off x="7086600" y="472428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freeword2"/>
          <p:cNvPicPr/>
          <p:nvPr/>
        </p:nvPicPr>
        <p:blipFill>
          <a:blip r:embed="rId10"/>
          <a:stretch/>
        </p:blipFill>
        <p:spPr>
          <a:xfrm>
            <a:off x="5105520" y="5638680"/>
            <a:ext cx="1712880" cy="10512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3:34:44Z</dcterms:modified>
  <cp:revision>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