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5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1AA1-FE45-4A33-802A-96CE618CDB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6AA0-41A3-45B4-8D17-837AB03689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од ред. А.Я. Сухарева, В.Е. Крутск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-М., 2002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06BA-84B2-4C63-81EE-67065CFFB3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7B61-EB51-4EFA-A50E-12035387CB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EB73-9264-4DD3-8E15-9CC6E7E37B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22F5-F729-42DC-BE98-CB452FABE7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4A10-14A5-40D6-A4DD-7C6036297D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D55A-2243-43E5-BA1A-7084BD700D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ольф Ок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ы, предложенные и исповедуем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0B85-79F1-4C8C-B9C6-53DF428D0D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 сентября 1796 года - Указ об ограничении свободы книгопечатания и ввоза иностранных книг, об упразднении частных типограф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октября 1796 года - учреждение первого цензурного комит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июня 1804 года – первы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26 год - 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преля 1828 года – новый цензурный устав, более компактный и жёст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Александ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DD05-A219-4E53-9F45-EE01F035AD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3AC5-AE5E-4C7D-85ED-7F345E88A5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1890-FD12-4347-851C-EBE2B44531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 свободы слова в системе гражданских и полит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 Гражданские и политические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Категория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  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возникновения и развития свободы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вобода слова 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овременное положение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3760-283A-4525-A4BC-6E3E923AD2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5FCE-F3ED-43A6-805E-0D44E87ABC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64AF-146F-4E4B-9ED1-EB164EF0EC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E8AA-872C-4146-B654-616417FE67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7BB5-ED3B-4D8C-B925-9BD31639D7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12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3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3CDC-90CB-45F2-AB05-0A75038478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еев С.С. Философия прав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дяев Н.А. Философия свободы. М.2005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Под ред. А.Я. Сухарева, В.Е. Крутских.-М.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аева Т.В. Словесность в юриспруденции. Казань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ков Г.В. История цензуры в России XIX-XX вв. «Аспект-Пресс»,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И.А. О сущности правосознания. – М., 19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: Учебник для вузов. Под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ей члена-корреспондента РАН В.С. Нерсесянц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к Д . Избранные философские произведения. Т.2. М., 19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убличное право: Учебник / Под ред. К.А.Бекяшева. М.,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тескье Ш. О духе законов //Избранные произведения. М., 19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сесянц В.С. Права человека в истории политической и правовой мы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в истории человечества и в современном мире. М.,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прав человека. Под ред. Лукашевой Е.А. – М.: Норма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: история, теория, практика. М.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. Учебник для вузов / Под ред. Е.А. Лукашевой. М.:“Норма-Инфра-М” 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яров А. Информационное общество будущего и современность. М.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яшев М.М. Курс лекций по истории политических и правовых учений.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а: Полиграфкомбинат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свободы. Харьков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бер И.Е. Свобода и права человека в Советском государстве. Саратов, 19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бзеев Б.С. Конституция. Демократия. Права человека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21A5-F77E-4506-A4A1-B3B3115C17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FBA1-78C3-488B-B2B8-8E782C1D3A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ссмотреть историю права на свободу слова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307A-6A8A-47E5-92B7-A2CF6DB21E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Граждан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Политиче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носится как к гражданским, так и к политическим пра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5E82-DF17-43FF-8B96-4F5F4D52BC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9512-1386-4DB5-867F-38B24B9E9A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5787-5E19-4A7C-927A-8031D4D887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5F27-5AA8-4F18-9C18-EF75EC4A5C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4C13-3624-4FD4-90F3-58BAE27DAB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0346-FC74-4473-927B-4D3F1F1478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BBE-A1D2-42F9-957E-7CF7B3F0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1FC-0105-4ABF-ABC3-9E33E587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5DD-E8D1-48EA-BCD8-5098A879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22E-E71C-40E0-BFA9-AC6C719E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D89-A78C-4E63-826F-FBA4C2E8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40F-2B97-47F6-BC3A-7F8381EC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D3C-9A4A-4C64-8CC9-8913A40F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886-EF1C-4234-BE3C-D75926DA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086-1EBA-41CE-BD01-272A5DA5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721-7101-471E-A578-45FA3380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6AB-8C77-4C8A-82D6-AA2959DD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DD7-B6F3-4186-B9EE-1E63F533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F36D-2E8A-4D9A-A449-701FF3212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13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pn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39.jpeg"/><Relationship Id="rId19" Type="http://schemas.openxmlformats.org/officeDocument/2006/relationships/image" Target="../media/image4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42.jpeg"/><Relationship Id="rId4" Type="http://schemas.openxmlformats.org/officeDocument/2006/relationships/slide" Target="slide15.xml"/><Relationship Id="rId5" Type="http://schemas.openxmlformats.org/officeDocument/2006/relationships/image" Target="../media/image43.jpeg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.xm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it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1752480"/>
            <a:ext cx="3807000" cy="2853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4724280" y="4038480"/>
            <a:ext cx="4191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бота выпол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еницей 11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миновой Еле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: Бершадская Е.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Свобода сл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шой юридический словарь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 ред. А.Я. Сухарева, В.Е. Крут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М., 200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164011195_svobodu_SMI_sta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62720" y="4038480"/>
            <a:ext cx="2209680" cy="1644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пия День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lavki2"/>
          <p:cNvPicPr/>
          <p:nvPr/>
        </p:nvPicPr>
        <p:blipFill>
          <a:blip r:embed="rId2"/>
          <a:stretch/>
        </p:blipFill>
        <p:spPr>
          <a:xfrm>
            <a:off x="0" y="2057400"/>
            <a:ext cx="240048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66697138"/>
          <p:cNvPicPr/>
          <p:nvPr/>
        </p:nvPicPr>
        <p:blipFill>
          <a:blip r:embed="rId3"/>
          <a:stretch/>
        </p:blipFill>
        <p:spPr>
          <a:xfrm>
            <a:off x="0" y="5141880"/>
            <a:ext cx="2792520" cy="1716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144049636_smirnoff"/>
          <p:cNvPicPr/>
          <p:nvPr/>
        </p:nvPicPr>
        <p:blipFill>
          <a:blip r:embed="rId4"/>
          <a:stretch/>
        </p:blipFill>
        <p:spPr>
          <a:xfrm>
            <a:off x="0" y="3276720"/>
            <a:ext cx="2170080" cy="143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group18"/>
          <p:cNvPicPr/>
          <p:nvPr/>
        </p:nvPicPr>
        <p:blipFill>
          <a:blip r:embed="rId5"/>
          <a:stretch/>
        </p:blipFill>
        <p:spPr>
          <a:xfrm>
            <a:off x="6477120" y="3048120"/>
            <a:ext cx="2222280" cy="166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34321"/>
          <p:cNvPicPr/>
          <p:nvPr/>
        </p:nvPicPr>
        <p:blipFill>
          <a:blip r:embed="rId6"/>
          <a:stretch/>
        </p:blipFill>
        <p:spPr>
          <a:xfrm>
            <a:off x="6553080" y="48006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9070"/>
          <p:cNvPicPr/>
          <p:nvPr/>
        </p:nvPicPr>
        <p:blipFill>
          <a:blip r:embed="rId7"/>
          <a:stretch/>
        </p:blipFill>
        <p:spPr>
          <a:xfrm>
            <a:off x="5562720" y="4724280"/>
            <a:ext cx="97920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A101-20697"/>
          <p:cNvPicPr/>
          <p:nvPr/>
        </p:nvPicPr>
        <p:blipFill>
          <a:blip r:embed="rId8"/>
          <a:stretch/>
        </p:blipFill>
        <p:spPr>
          <a:xfrm>
            <a:off x="4724280" y="312408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6766a497a13e33a52be75cb5f3c7387"/>
          <p:cNvPicPr/>
          <p:nvPr/>
        </p:nvPicPr>
        <p:blipFill>
          <a:blip r:embed="rId9"/>
          <a:stretch/>
        </p:blipFill>
        <p:spPr>
          <a:xfrm>
            <a:off x="7629480" y="1523880"/>
            <a:ext cx="1514520" cy="192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01"/>
          <p:cNvPicPr/>
          <p:nvPr/>
        </p:nvPicPr>
        <p:blipFill>
          <a:blip r:embed="rId10"/>
          <a:stretch/>
        </p:blipFill>
        <p:spPr>
          <a:xfrm>
            <a:off x="2209680" y="1828800"/>
            <a:ext cx="4572000" cy="390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ilet1"/>
          <p:cNvPicPr/>
          <p:nvPr/>
        </p:nvPicPr>
        <p:blipFill>
          <a:blip r:embed="rId11"/>
          <a:stretch/>
        </p:blipFill>
        <p:spPr>
          <a:xfrm>
            <a:off x="7686720" y="4648320"/>
            <a:ext cx="1457280" cy="18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snickers"/>
          <p:cNvPicPr/>
          <p:nvPr/>
        </p:nvPicPr>
        <p:blipFill>
          <a:blip r:embed="rId12"/>
          <a:stretch/>
        </p:blipFill>
        <p:spPr>
          <a:xfrm>
            <a:off x="6324480" y="58276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showpix"/>
          <p:cNvPicPr/>
          <p:nvPr/>
        </p:nvPicPr>
        <p:blipFill>
          <a:blip r:embed="rId13"/>
          <a:stretch/>
        </p:blipFill>
        <p:spPr>
          <a:xfrm>
            <a:off x="2743200" y="5807160"/>
            <a:ext cx="2098800" cy="105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84080"/>
          <p:cNvPicPr/>
          <p:nvPr/>
        </p:nvPicPr>
        <p:blipFill>
          <a:blip r:embed="rId14"/>
          <a:stretch/>
        </p:blipFill>
        <p:spPr>
          <a:xfrm>
            <a:off x="4572000" y="5562720"/>
            <a:ext cx="1428840" cy="109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baran_3"/>
          <p:cNvPicPr/>
          <p:nvPr/>
        </p:nvPicPr>
        <p:blipFill>
          <a:blip r:embed="rId15"/>
          <a:stretch/>
        </p:blipFill>
        <p:spPr>
          <a:xfrm>
            <a:off x="6400800" y="1752480"/>
            <a:ext cx="135252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advertisment_will-1148042600_i_1034_full"/>
          <p:cNvPicPr/>
          <p:nvPr/>
        </p:nvPicPr>
        <p:blipFill>
          <a:blip r:embed="rId16"/>
          <a:stretch/>
        </p:blipFill>
        <p:spPr>
          <a:xfrm>
            <a:off x="0" y="4419720"/>
            <a:ext cx="2212920" cy="110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Coke-vs-Pepsi"/>
          <p:cNvPicPr/>
          <p:nvPr/>
        </p:nvPicPr>
        <p:blipFill>
          <a:blip r:embed="rId17"/>
          <a:stretch/>
        </p:blipFill>
        <p:spPr>
          <a:xfrm>
            <a:off x="7701120" y="1523880"/>
            <a:ext cx="1442880" cy="10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27-10-2b"/>
          <p:cNvPicPr/>
          <p:nvPr/>
        </p:nvPicPr>
        <p:blipFill>
          <a:blip r:embed="rId18"/>
          <a:stretch/>
        </p:blipFill>
        <p:spPr>
          <a:xfrm>
            <a:off x="7615080" y="3352680"/>
            <a:ext cx="1528920" cy="207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bbc720194b33c89c3a757a59fa099244"/>
          <p:cNvPicPr/>
          <p:nvPr/>
        </p:nvPicPr>
        <p:blipFill>
          <a:blip r:embed="rId19"/>
          <a:stretch/>
        </p:blipFill>
        <p:spPr>
          <a:xfrm>
            <a:off x="2057400" y="541008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rilliantovui_doc-1143534435_i_965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4600" y="38858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cke08"/>
          <p:cNvPicPr/>
          <p:nvPr/>
        </p:nvPicPr>
        <p:blipFill>
          <a:blip r:embed="rId2"/>
          <a:stretch/>
        </p:blipFill>
        <p:spPr>
          <a:xfrm>
            <a:off x="228600" y="1523880"/>
            <a:ext cx="1905120" cy="229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80px-John_Milton_-_Project_Gutenberg_eText_13619"/>
          <p:cNvPicPr/>
          <p:nvPr/>
        </p:nvPicPr>
        <p:blipFill>
          <a:blip r:embed="rId3"/>
          <a:stretch/>
        </p:blipFill>
        <p:spPr>
          <a:xfrm>
            <a:off x="6934320" y="1676520"/>
            <a:ext cx="1647720" cy="220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6629400" y="38862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Мильтон (John Mil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28587686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90920" y="2895480"/>
            <a:ext cx="3936960" cy="266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453F480F48C0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Копия barcelonarevnyt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ольф О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ндарты, предложенные и исповедуем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3560" y="0"/>
            <a:ext cx="1360440" cy="1019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secret1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3" action="ppaction://hlinksldjump"/>
              </a:rPr>
              <a:t>16 сен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каз об ограничении свободы книгопечатания и ввоза иностранных книг, об упразднении частных типограф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4" action="ppaction://hlinksldjump"/>
              </a:rPr>
              <a:t>22 ок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реждение первого цензурного ком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5" action="ppaction://hlinksldjump"/>
              </a:rPr>
              <a:t> 9 июня 1804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ервы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6" action="ppaction://hlinksldjump"/>
              </a:rPr>
              <a:t>1826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созд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7" action="ppaction://hlinksldjump"/>
              </a:rPr>
              <a:t>22 апреля 1828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вый цензурный устав, более компактный и жёст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8" action="ppaction://hlinksldjump"/>
              </a:rPr>
              <a:t>Александром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Times New Roman"/>
                <a:hlinkClick r:id="rId9" action="ppaction://hlinksldjump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453F480F48C06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екат"/>
          <p:cNvPicPr/>
          <p:nvPr/>
        </p:nvPicPr>
        <p:blipFill>
          <a:blip r:embed="rId2"/>
          <a:stretch/>
        </p:blipFill>
        <p:spPr>
          <a:xfrm>
            <a:off x="2971800" y="1905120"/>
            <a:ext cx="3141720" cy="4398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B"/>
          <p:cNvPicPr/>
          <p:nvPr/>
        </p:nvPicPr>
        <p:blipFill>
          <a:blip r:embed="rId2"/>
          <a:stretch/>
        </p:blipFill>
        <p:spPr>
          <a:xfrm>
            <a:off x="3429000" y="1981080"/>
            <a:ext cx="2565360" cy="369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pressfreedom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 свободы слова в системе гражданских и политиче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Гражданские и политические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4" action="ppaction://hlinksldjump"/>
              </a:rPr>
              <a:t>Категория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 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5" action="ppaction://hlinksldjump"/>
              </a:rPr>
              <a:t>Свобода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я возникновения и развития свободы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6" action="ppaction://hlinksldjump"/>
              </a:rPr>
              <a:t>Свобода слова в зарубежных ст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7" action="ppaction://hlinksldjump"/>
              </a:rPr>
              <a:t>Свобода слова 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8" action="ppaction://hlinksldjump"/>
              </a:rPr>
              <a:t>Современное положение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m0006"/>
          <p:cNvPicPr/>
          <p:nvPr/>
        </p:nvPicPr>
        <p:blipFill>
          <a:blip r:embed="rId2"/>
          <a:stretch/>
        </p:blipFill>
        <p:spPr>
          <a:xfrm>
            <a:off x="3124080" y="1981080"/>
            <a:ext cx="2971800" cy="37339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fk2"/>
          <p:cNvPicPr/>
          <p:nvPr/>
        </p:nvPicPr>
        <p:blipFill>
          <a:blip r:embed="rId2"/>
          <a:stretch/>
        </p:blipFill>
        <p:spPr>
          <a:xfrm>
            <a:off x="3429000" y="1905120"/>
            <a:ext cx="2570040" cy="3598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свс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453F480F48C06"/>
          <p:cNvPicPr/>
          <p:nvPr/>
        </p:nvPicPr>
        <p:blipFill>
          <a:blip r:embed="rId2"/>
          <a:stretch/>
        </p:blipFill>
        <p:spPr>
          <a:xfrm>
            <a:off x="7862760" y="0"/>
            <a:ext cx="1281240" cy="9604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A117875"/>
          <p:cNvPicPr/>
          <p:nvPr/>
        </p:nvPicPr>
        <p:blipFill>
          <a:blip r:embed="rId2"/>
          <a:stretch/>
        </p:blipFill>
        <p:spPr>
          <a:xfrm>
            <a:off x="1676520" y="1371600"/>
            <a:ext cx="578628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2059200" y="283356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убить, словом можно сп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полки за собой повест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дим Шефнер, «Слов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297180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143000" y="3809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6629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6576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ЕНЗ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453F480F48C06"/>
          <p:cNvPicPr/>
          <p:nvPr/>
        </p:nvPicPr>
        <p:blipFill>
          <a:blip r:embed="rId2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9720" y="1294920"/>
            <a:ext cx="3962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еев С.С. Философия прав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дяев Н.А. Философия свободы. М.2005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юридический словарь / Под ред. А.Я. Сухарева, В.Е. Крутских.-М.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аева Т.В. Словесность в юриспруденции. Казань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ков Г.В. История цензуры в России XIX-XX вв. «Аспект-Пресс»,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ьин И.А. О сущности правосознания. – М., 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: Учебник для вузов. Под об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цией члена-корреспондента РАН В.С. Нерсесянц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кк Д . Избранные философские произведения. Т.2. М., 19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ое публичное право: Учебник / Под ред. К.А.Бекяшева. М.,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тескье Ш. О духе законов //Избранные произведения. М., 19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сесянц В.С. Права человека в истории политической и правовой мы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 в истории человечества и в современном мире. М.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теория прав человека. Под ред. Лукашевой Е.А. – М.: Норма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: история, теория, практика. М.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. Учебник для вузов / Под ред. Е.А. Лукашевой. М.:“Норма-Инфра-М”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яров А. Информационное общество будущего и современность. М.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яшев М.М. Курс лекций по истории политических и правовых учений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фа: Полиграфкомбинат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ия свободы. Харьков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рбер И.Е. Свобода и права человека в Советском государстве. Саратов, 19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бзеев Б.С. Конституция. Демократия. Права человека. М., 19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смотреть историю права на свободу слова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Копия 52n-1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Граждан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Политиче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Свобода слова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ся как к гражданским, так и к политическим прав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53F480F48C0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iglogo"/>
          <p:cNvPicPr/>
          <p:nvPr/>
        </p:nvPicPr>
        <p:blipFill>
          <a:blip r:embed="rId2"/>
          <a:stretch/>
        </p:blipFill>
        <p:spPr>
          <a:xfrm>
            <a:off x="3505320" y="5029200"/>
            <a:ext cx="1882800" cy="159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Locke08"/>
          <p:cNvPicPr/>
          <p:nvPr/>
        </p:nvPicPr>
        <p:blipFill>
          <a:blip r:embed="rId2"/>
          <a:stretch/>
        </p:blipFill>
        <p:spPr>
          <a:xfrm>
            <a:off x="6934320" y="1752480"/>
            <a:ext cx="1904760" cy="2295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6727680" y="41144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9124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ard-421"/>
          <p:cNvPicPr/>
          <p:nvPr/>
        </p:nvPicPr>
        <p:blipFill>
          <a:blip r:embed="rId4"/>
          <a:stretch/>
        </p:blipFill>
        <p:spPr>
          <a:xfrm>
            <a:off x="6858000" y="1295280"/>
            <a:ext cx="2058840" cy="1332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Копия img0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Копия x_ec8b8bd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152002636_ontheroad"/>
          <p:cNvPicPr/>
          <p:nvPr/>
        </p:nvPicPr>
        <p:blipFill>
          <a:blip r:embed="rId2"/>
          <a:stretch/>
        </p:blipFill>
        <p:spPr>
          <a:xfrm>
            <a:off x="4419720" y="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nterfaithBest"/>
          <p:cNvPicPr/>
          <p:nvPr/>
        </p:nvPicPr>
        <p:blipFill>
          <a:blip r:embed="rId3"/>
          <a:stretch/>
        </p:blipFill>
        <p:spPr>
          <a:xfrm>
            <a:off x="6232680" y="1600200"/>
            <a:ext cx="2911320" cy="29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1-duncan_2%5B1%5D"/>
          <p:cNvPicPr/>
          <p:nvPr/>
        </p:nvPicPr>
        <p:blipFill>
          <a:blip r:embed="rId4"/>
          <a:stretch/>
        </p:blipFill>
        <p:spPr>
          <a:xfrm>
            <a:off x="4191120" y="2057400"/>
            <a:ext cx="1774800" cy="201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icture55555555614"/>
          <p:cNvPicPr/>
          <p:nvPr/>
        </p:nvPicPr>
        <p:blipFill>
          <a:blip r:embed="rId5"/>
          <a:stretch/>
        </p:blipFill>
        <p:spPr>
          <a:xfrm>
            <a:off x="3124080" y="4114800"/>
            <a:ext cx="1849680" cy="139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asport_2"/>
          <p:cNvPicPr/>
          <p:nvPr/>
        </p:nvPicPr>
        <p:blipFill>
          <a:blip r:embed="rId6"/>
          <a:stretch/>
        </p:blipFill>
        <p:spPr>
          <a:xfrm>
            <a:off x="7238880" y="533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7"/>
          <p:cNvPicPr/>
          <p:nvPr/>
        </p:nvPicPr>
        <p:blipFill>
          <a:blip r:embed="rId7"/>
          <a:stretch/>
        </p:blipFill>
        <p:spPr>
          <a:xfrm>
            <a:off x="5029200" y="419112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6565"/>
          <p:cNvPicPr/>
          <p:nvPr/>
        </p:nvPicPr>
        <p:blipFill>
          <a:blip r:embed="rId8"/>
          <a:stretch/>
        </p:blipFill>
        <p:spPr>
          <a:xfrm>
            <a:off x="7924680" y="5181480"/>
            <a:ext cx="911520" cy="131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765953B_big"/>
          <p:cNvPicPr/>
          <p:nvPr/>
        </p:nvPicPr>
        <p:blipFill>
          <a:blip r:embed="rId9"/>
          <a:stretch/>
        </p:blipFill>
        <p:spPr>
          <a:xfrm>
            <a:off x="7086600" y="472428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freeword2"/>
          <p:cNvPicPr/>
          <p:nvPr/>
        </p:nvPicPr>
        <p:blipFill>
          <a:blip r:embed="rId10"/>
          <a:stretch/>
        </p:blipFill>
        <p:spPr>
          <a:xfrm>
            <a:off x="5105520" y="5638680"/>
            <a:ext cx="1712880" cy="10512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4:44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