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5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E3ED-E3B9-4310-888B-0A6C3252E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F93C-4B29-4F80-815E-66572D3EF8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од ред. А.Я. Сухарева, В.Е. Крутск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-М., 2002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D03F-78DE-4A7E-91E5-57EFE7E91C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06E3-276C-4B33-935C-DA625629DE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058F-1FF0-435D-AEEA-DEC15EC4A0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C440-5935-4136-BBAC-99A12FCEFD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3539-3797-4FF9-A23C-311EEAB8D1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AA58-3A2D-4680-88D4-48C66F1E2C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ольф Ок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ы, предложенные и исповедуем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F1CF-B2DA-45E7-A18D-7B1A13F57A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 сентября 1796 года - Указ об ограничении свободы книгопечатания и ввоза иностранных книг, об упразднении частных типограф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октября 1796 года - учреждение первого цензурного комит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июня 1804 года – первы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26 год - 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преля 1828 года – новый цензурный устав, более компактный и жёст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Александ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F83B-92CF-408E-8F5C-AC97C988AA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40FC-65F0-4E09-911C-39A5CC3AFD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20C8-09B4-454C-939D-E516B9DB68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 свободы слова в системе гражданских и полит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 Гражданские и политические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Категория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  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возникновения и развития свободы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вобода слова 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овременное положение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B381-BCEF-4213-AFB5-325E8F0079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7841-E7F2-404C-B4D2-7E017E38D7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074-29D6-4182-96B8-90375E5AB4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5860-B64E-4D8F-94C1-611391B875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080F-364C-4A1F-B30E-A3E99180C2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2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3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2DC5-2438-4542-97F9-2312E36F15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еев С.С. Философия прав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дяев Н.А. Философия свободы. М.2005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Под ред. А.Я. Сухарева, В.Е. Крутских.-М.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аева Т.В. Словесность в юриспруденции. Казань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ков Г.В. История цензуры в России XIX-XX вв. «Аспект-Пресс»,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И.А. О сущности правосознания. – М., 19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: Учебник для вузов. Под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ей члена-корреспондента РАН В.С. Нерсесянц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к Д . Избранные философские произведения. Т.2. М., 19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убличное право: Учебник / Под ред. К.А.Бекяшева. М.,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тескье Ш. О духе законов //Избранные произведения. М., 19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сесянц В.С. Права человека в истории политической и правовой мы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в истории человечества и в современном мире. М.,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прав человека. Под ред. Лукашевой Е.А. – М.: Норма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: история, теория, практика. М.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. Учебник для вузов / Под ред. Е.А. Лукашевой. М.:“Норма-Инфра-М” 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яров А. Информационное общество будущего и современность. М.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яшев М.М. Курс лекций по истории политических и правовых учений.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а: Полиграфкомбинат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свободы. Харьков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бер И.Е. Свобода и права человека в Советском государстве. Саратов, 19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бзеев Б.С. Конституция. Демократия. Права человека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B510-688E-4191-A8EB-4F813D1609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1CAA-227F-4F7F-80DC-3AE343FEA5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ссмотреть историю права на свободу слова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694-6B32-42AF-A418-1389670DAA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Граждан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Политиче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носится как к гражданским, так и к политическим пра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433E-DF87-4514-B2D1-2063DE4D33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AB07-852D-45CE-B6BE-F72DB36AAA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9B21-FB1C-4595-9B3D-AD5BBFE721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5253-1828-4B59-BA31-E553A355C5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7551-3BDD-4C6D-A201-9792A8440A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2EC7-24AD-404B-9668-9B3BD9CA4E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B48-4898-4160-BE4D-93090A3D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B3D-D700-41F1-8BE9-826755EF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ED7-8D07-4F85-87C8-03221A8B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B34-2ECD-4710-A619-42751177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DC36-D31C-4763-90AF-108E2F14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DFA-E866-4610-AF27-C3636578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F3E-1FFB-4EE2-AFE4-2DE5067D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FC5-546C-4B7D-890B-F7A94F0E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362-03F7-4BD1-A891-9D91FE65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2C1-3331-4A96-8B16-FE9679CC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EA6-7E0D-416A-8B46-6044A3D3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DF9-5240-4F6F-9E40-F256E091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F8AF-8077-4198-8B74-25B694009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13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42.jpeg"/><Relationship Id="rId4" Type="http://schemas.openxmlformats.org/officeDocument/2006/relationships/slide" Target="slide15.xml"/><Relationship Id="rId5" Type="http://schemas.openxmlformats.org/officeDocument/2006/relationships/image" Target="../media/image43.jpeg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.xm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it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752480"/>
            <a:ext cx="3807000" cy="2853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4724280" y="4038480"/>
            <a:ext cx="4191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а выпол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еницей 11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миновой Ел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: Бершадская Е.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Свобода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шой юридический словарь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 ред. А.Я. Сухарева, В.Е. Крут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М., 200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64011195_svobodu_SMI_sta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4038480"/>
            <a:ext cx="2209680" cy="1644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lavki2"/>
          <p:cNvPicPr/>
          <p:nvPr/>
        </p:nvPicPr>
        <p:blipFill>
          <a:blip r:embed="rId2"/>
          <a:stretch/>
        </p:blipFill>
        <p:spPr>
          <a:xfrm>
            <a:off x="0" y="2057400"/>
            <a:ext cx="24004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66697138"/>
          <p:cNvPicPr/>
          <p:nvPr/>
        </p:nvPicPr>
        <p:blipFill>
          <a:blip r:embed="rId3"/>
          <a:stretch/>
        </p:blipFill>
        <p:spPr>
          <a:xfrm>
            <a:off x="0" y="5141880"/>
            <a:ext cx="2792520" cy="1716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144049636_smirnoff"/>
          <p:cNvPicPr/>
          <p:nvPr/>
        </p:nvPicPr>
        <p:blipFill>
          <a:blip r:embed="rId4"/>
          <a:stretch/>
        </p:blipFill>
        <p:spPr>
          <a:xfrm>
            <a:off x="0" y="3276720"/>
            <a:ext cx="217008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group18"/>
          <p:cNvPicPr/>
          <p:nvPr/>
        </p:nvPicPr>
        <p:blipFill>
          <a:blip r:embed="rId5"/>
          <a:stretch/>
        </p:blipFill>
        <p:spPr>
          <a:xfrm>
            <a:off x="6477120" y="3048120"/>
            <a:ext cx="2222280" cy="166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34321"/>
          <p:cNvPicPr/>
          <p:nvPr/>
        </p:nvPicPr>
        <p:blipFill>
          <a:blip r:embed="rId6"/>
          <a:stretch/>
        </p:blipFill>
        <p:spPr>
          <a:xfrm>
            <a:off x="6553080" y="4800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9070"/>
          <p:cNvPicPr/>
          <p:nvPr/>
        </p:nvPicPr>
        <p:blipFill>
          <a:blip r:embed="rId7"/>
          <a:stretch/>
        </p:blipFill>
        <p:spPr>
          <a:xfrm>
            <a:off x="5562720" y="4724280"/>
            <a:ext cx="9792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101-20697"/>
          <p:cNvPicPr/>
          <p:nvPr/>
        </p:nvPicPr>
        <p:blipFill>
          <a:blip r:embed="rId8"/>
          <a:stretch/>
        </p:blipFill>
        <p:spPr>
          <a:xfrm>
            <a:off x="4724280" y="312408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6766a497a13e33a52be75cb5f3c7387"/>
          <p:cNvPicPr/>
          <p:nvPr/>
        </p:nvPicPr>
        <p:blipFill>
          <a:blip r:embed="rId9"/>
          <a:stretch/>
        </p:blipFill>
        <p:spPr>
          <a:xfrm>
            <a:off x="7629480" y="1523880"/>
            <a:ext cx="15145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01"/>
          <p:cNvPicPr/>
          <p:nvPr/>
        </p:nvPicPr>
        <p:blipFill>
          <a:blip r:embed="rId10"/>
          <a:stretch/>
        </p:blipFill>
        <p:spPr>
          <a:xfrm>
            <a:off x="2209680" y="1828800"/>
            <a:ext cx="4572000" cy="390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ilet1"/>
          <p:cNvPicPr/>
          <p:nvPr/>
        </p:nvPicPr>
        <p:blipFill>
          <a:blip r:embed="rId11"/>
          <a:stretch/>
        </p:blipFill>
        <p:spPr>
          <a:xfrm>
            <a:off x="7686720" y="4648320"/>
            <a:ext cx="145728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nickers"/>
          <p:cNvPicPr/>
          <p:nvPr/>
        </p:nvPicPr>
        <p:blipFill>
          <a:blip r:embed="rId12"/>
          <a:stretch/>
        </p:blipFill>
        <p:spPr>
          <a:xfrm>
            <a:off x="6324480" y="58276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showpix"/>
          <p:cNvPicPr/>
          <p:nvPr/>
        </p:nvPicPr>
        <p:blipFill>
          <a:blip r:embed="rId13"/>
          <a:stretch/>
        </p:blipFill>
        <p:spPr>
          <a:xfrm>
            <a:off x="2743200" y="5807160"/>
            <a:ext cx="2098800" cy="10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84080"/>
          <p:cNvPicPr/>
          <p:nvPr/>
        </p:nvPicPr>
        <p:blipFill>
          <a:blip r:embed="rId14"/>
          <a:stretch/>
        </p:blipFill>
        <p:spPr>
          <a:xfrm>
            <a:off x="4572000" y="556272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baran_3"/>
          <p:cNvPicPr/>
          <p:nvPr/>
        </p:nvPicPr>
        <p:blipFill>
          <a:blip r:embed="rId15"/>
          <a:stretch/>
        </p:blipFill>
        <p:spPr>
          <a:xfrm>
            <a:off x="6400800" y="1752480"/>
            <a:ext cx="135252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advertisment_will-1148042600_i_1034_full"/>
          <p:cNvPicPr/>
          <p:nvPr/>
        </p:nvPicPr>
        <p:blipFill>
          <a:blip r:embed="rId16"/>
          <a:stretch/>
        </p:blipFill>
        <p:spPr>
          <a:xfrm>
            <a:off x="0" y="4419720"/>
            <a:ext cx="221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oke-vs-Pepsi"/>
          <p:cNvPicPr/>
          <p:nvPr/>
        </p:nvPicPr>
        <p:blipFill>
          <a:blip r:embed="rId17"/>
          <a:stretch/>
        </p:blipFill>
        <p:spPr>
          <a:xfrm>
            <a:off x="7701120" y="1523880"/>
            <a:ext cx="1442880" cy="10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27-10-2b"/>
          <p:cNvPicPr/>
          <p:nvPr/>
        </p:nvPicPr>
        <p:blipFill>
          <a:blip r:embed="rId18"/>
          <a:stretch/>
        </p:blipFill>
        <p:spPr>
          <a:xfrm>
            <a:off x="7615080" y="3352680"/>
            <a:ext cx="1528920" cy="20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bbc720194b33c89c3a757a59fa099244"/>
          <p:cNvPicPr/>
          <p:nvPr/>
        </p:nvPicPr>
        <p:blipFill>
          <a:blip r:embed="rId19"/>
          <a:stretch/>
        </p:blipFill>
        <p:spPr>
          <a:xfrm>
            <a:off x="2057400" y="54100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rilliantovui_doc-1143534435_i_965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4600" y="38858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cke08"/>
          <p:cNvPicPr/>
          <p:nvPr/>
        </p:nvPicPr>
        <p:blipFill>
          <a:blip r:embed="rId2"/>
          <a:stretch/>
        </p:blipFill>
        <p:spPr>
          <a:xfrm>
            <a:off x="228600" y="152388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80px-John_Milton_-_Project_Gutenberg_eText_13619"/>
          <p:cNvPicPr/>
          <p:nvPr/>
        </p:nvPicPr>
        <p:blipFill>
          <a:blip r:embed="rId3"/>
          <a:stretch/>
        </p:blipFill>
        <p:spPr>
          <a:xfrm>
            <a:off x="6934320" y="1676520"/>
            <a:ext cx="1647720" cy="220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662940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Мильтон (John Mil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28587686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2895480"/>
            <a:ext cx="3936960" cy="266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453F480F48C0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Копия barcelonarevnyt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ольф 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ы, предложенные и исповедуе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3560" y="0"/>
            <a:ext cx="1360440" cy="1019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secret1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3" action="ppaction://hlinksldjump"/>
              </a:rPr>
              <a:t>16 сен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каз об ограничении свободы книгопечатания и ввоза иностранных книг, об упразднении частных типограф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4" action="ppaction://hlinksldjump"/>
              </a:rPr>
              <a:t>22 ок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реждение первого цензурн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5" action="ppaction://hlinksldjump"/>
              </a:rPr>
              <a:t> 9 июня 180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ервы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826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созд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7" action="ppaction://hlinksldjump"/>
              </a:rPr>
              <a:t>22 апреля 1828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вый цензурный устав, более компактный и жёс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8" action="ppaction://hlinksldjump"/>
              </a:rPr>
              <a:t>Александром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imes New Roman"/>
                <a:hlinkClick r:id="rId9" action="ppaction://hlinksldjump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453F480F48C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екат"/>
          <p:cNvPicPr/>
          <p:nvPr/>
        </p:nvPicPr>
        <p:blipFill>
          <a:blip r:embed="rId2"/>
          <a:stretch/>
        </p:blipFill>
        <p:spPr>
          <a:xfrm>
            <a:off x="2971800" y="1905120"/>
            <a:ext cx="3141720" cy="4398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B"/>
          <p:cNvPicPr/>
          <p:nvPr/>
        </p:nvPicPr>
        <p:blipFill>
          <a:blip r:embed="rId2"/>
          <a:stretch/>
        </p:blipFill>
        <p:spPr>
          <a:xfrm>
            <a:off x="3429000" y="1981080"/>
            <a:ext cx="2565360" cy="369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ressfreedo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 свободы слова в системе гражданских и политиче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Гражданские и политические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4" action="ppaction://hlinksldjump"/>
              </a:rPr>
              <a:t>Категория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 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5" action="ppaction://hlinksldjump"/>
              </a:rPr>
              <a:t>Свобода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возникновения и развития свободы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6" action="ppaction://hlinksldjump"/>
              </a:rPr>
              <a:t>Свобода слова в зарубежных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7" action="ppaction://hlinksldjump"/>
              </a:rPr>
              <a:t>Свобода слова 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8" action="ppaction://hlinksldjump"/>
              </a:rPr>
              <a:t>Современное положение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m0006"/>
          <p:cNvPicPr/>
          <p:nvPr/>
        </p:nvPicPr>
        <p:blipFill>
          <a:blip r:embed="rId2"/>
          <a:stretch/>
        </p:blipFill>
        <p:spPr>
          <a:xfrm>
            <a:off x="3124080" y="198108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k2"/>
          <p:cNvPicPr/>
          <p:nvPr/>
        </p:nvPicPr>
        <p:blipFill>
          <a:blip r:embed="rId2"/>
          <a:stretch/>
        </p:blipFill>
        <p:spPr>
          <a:xfrm>
            <a:off x="3429000" y="1905120"/>
            <a:ext cx="2570040" cy="3598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св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453F480F48C06"/>
          <p:cNvPicPr/>
          <p:nvPr/>
        </p:nvPicPr>
        <p:blipFill>
          <a:blip r:embed="rId2"/>
          <a:stretch/>
        </p:blipFill>
        <p:spPr>
          <a:xfrm>
            <a:off x="7862760" y="0"/>
            <a:ext cx="128124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A117875"/>
          <p:cNvPicPr/>
          <p:nvPr/>
        </p:nvPicPr>
        <p:blipFill>
          <a:blip r:embed="rId2"/>
          <a:stretch/>
        </p:blipFill>
        <p:spPr>
          <a:xfrm>
            <a:off x="1676520" y="1371600"/>
            <a:ext cx="578628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2059200" y="283356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убить, словом можно сп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полки за собой повес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дим Шефнер, «Слов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97180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1430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629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657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НЗ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453F480F48C06"/>
          <p:cNvPicPr/>
          <p:nvPr/>
        </p:nvPicPr>
        <p:blipFill>
          <a:blip r:embed="rId2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9720" y="1294920"/>
            <a:ext cx="3962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ев С.С. Философия прав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дяев Н.А. Философия свободы. М.2005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юридический словарь / Под ред. А.Я. Сухарева, В.Е. Крутских.-М.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аева Т.В. Словесность в юриспруденции. Казань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ков Г.В. История цензуры в России XIX-XX вв. «Аспект-Пресс»,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ин И.А. О сущности правосознания. – М., 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: Учебник для вузов. Под 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цией члена-корреспондента РАН В.С. Нерсесянц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кк Д . Избранные философские произведения. Т.2. М., 19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публичное право: Учебник / Под ред. К.А.Бекяшева. М.,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тескье Ш. О духе законов //Избранные произведения. М., 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сесянц В.С. Права человека в истории политической и правовой мы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 в истории человечества и в современном мире.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теория прав человека. Под ред. Лукашевой Е.А. – М.: Норма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: история, теория, практика. М.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. Учебник для вузов / Под ред. Е.А. Лукашевой. М.:“Норма-Инфра-М”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яров А. Информационное общество будущего и современность. М.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яшев М.М. Курс лекций по истории политических и правовых учений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фа: Полиграфкомбинат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ия свободы. Харьков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рбер И.Е. Свобода и права человека в Советском государстве. Саратов, 19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бзеев Б.С. Конституция. Демократия. Права человека. М., 19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смотреть историю права на свободу слова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Копия 52n-1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Граждан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Политиче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Свобода слова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как к гражданским, так и к политическим пра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3F480F48C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logo"/>
          <p:cNvPicPr/>
          <p:nvPr/>
        </p:nvPicPr>
        <p:blipFill>
          <a:blip r:embed="rId2"/>
          <a:stretch/>
        </p:blipFill>
        <p:spPr>
          <a:xfrm>
            <a:off x="3505320" y="5029200"/>
            <a:ext cx="1882800" cy="159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Locke08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95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6727680" y="41144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9124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rd-421"/>
          <p:cNvPicPr/>
          <p:nvPr/>
        </p:nvPicPr>
        <p:blipFill>
          <a:blip r:embed="rId4"/>
          <a:stretch/>
        </p:blipFill>
        <p:spPr>
          <a:xfrm>
            <a:off x="6858000" y="1295280"/>
            <a:ext cx="2058840" cy="133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опия img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опия x_ec8b8bd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52002636_ontheroad"/>
          <p:cNvPicPr/>
          <p:nvPr/>
        </p:nvPicPr>
        <p:blipFill>
          <a:blip r:embed="rId2"/>
          <a:stretch/>
        </p:blipFill>
        <p:spPr>
          <a:xfrm>
            <a:off x="4419720" y="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nterfaithBest"/>
          <p:cNvPicPr/>
          <p:nvPr/>
        </p:nvPicPr>
        <p:blipFill>
          <a:blip r:embed="rId3"/>
          <a:stretch/>
        </p:blipFill>
        <p:spPr>
          <a:xfrm>
            <a:off x="6232680" y="1600200"/>
            <a:ext cx="2911320" cy="29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1-duncan_2%5B1%5D"/>
          <p:cNvPicPr/>
          <p:nvPr/>
        </p:nvPicPr>
        <p:blipFill>
          <a:blip r:embed="rId4"/>
          <a:stretch/>
        </p:blipFill>
        <p:spPr>
          <a:xfrm>
            <a:off x="4191120" y="2057400"/>
            <a:ext cx="177480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55555555614"/>
          <p:cNvPicPr/>
          <p:nvPr/>
        </p:nvPicPr>
        <p:blipFill>
          <a:blip r:embed="rId5"/>
          <a:stretch/>
        </p:blipFill>
        <p:spPr>
          <a:xfrm>
            <a:off x="3124080" y="4114800"/>
            <a:ext cx="1849680" cy="13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asport_2"/>
          <p:cNvPicPr/>
          <p:nvPr/>
        </p:nvPicPr>
        <p:blipFill>
          <a:blip r:embed="rId6"/>
          <a:stretch/>
        </p:blipFill>
        <p:spPr>
          <a:xfrm>
            <a:off x="7238880" y="533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7"/>
          <p:cNvPicPr/>
          <p:nvPr/>
        </p:nvPicPr>
        <p:blipFill>
          <a:blip r:embed="rId7"/>
          <a:stretch/>
        </p:blipFill>
        <p:spPr>
          <a:xfrm>
            <a:off x="5029200" y="419112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6565"/>
          <p:cNvPicPr/>
          <p:nvPr/>
        </p:nvPicPr>
        <p:blipFill>
          <a:blip r:embed="rId8"/>
          <a:stretch/>
        </p:blipFill>
        <p:spPr>
          <a:xfrm>
            <a:off x="7924680" y="5181480"/>
            <a:ext cx="911520" cy="13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765953B_big"/>
          <p:cNvPicPr/>
          <p:nvPr/>
        </p:nvPicPr>
        <p:blipFill>
          <a:blip r:embed="rId9"/>
          <a:stretch/>
        </p:blipFill>
        <p:spPr>
          <a:xfrm>
            <a:off x="7086600" y="472428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freeword2"/>
          <p:cNvPicPr/>
          <p:nvPr/>
        </p:nvPicPr>
        <p:blipFill>
          <a:blip r:embed="rId10"/>
          <a:stretch/>
        </p:blipFill>
        <p:spPr>
          <a:xfrm>
            <a:off x="5105520" y="5638680"/>
            <a:ext cx="1712880" cy="10512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4:44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