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53DDE-7DCC-489B-AC11-27D068FBFD1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 обязанности и ответственность несовершеннолетн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4868-B09F-4C95-B469-ADDED73A849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атериальная 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9E08-A6FC-4AB6-8F52-39C055B8C02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то такие де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CE47-2203-4178-BAA1-6F395FB0084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ава у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Ребенок имеет пра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ить и воспитываться в семь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нать, кто является его родител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роживание совместно с ними (кроме случаев, когда это противоречит его интересам) и на заботу с их стор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всестороннее развит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уважение человеческого достоин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бщение с родителями, бабушкой, дедушкой, братьями, сестрами и иными родственни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защит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 выражение собственного м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фамилии, имени, отче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получение средств на существование и на собственные</a:t>
            </a:r>
            <a:r>
              <a:rPr b="0" lang="ru-RU" sz="1200" spc="-1" strike="noStrike">
                <a:solidFill>
                  <a:srgbClr val="000000"/>
                </a:solidFill>
                <a:latin typeface="Calibri"/>
              </a:rPr>
              <a:t> дох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1EC1-EE81-4C80-A0C1-AEB5C3D4210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ило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1</a:t>
            </a:r>
            <a:r>
              <a:rPr b="0" lang="ru-RU" sz="1200" spc="-1" strike="noStrike">
                <a:solidFill>
                  <a:srgbClr val="000000"/>
                </a:solidFill>
                <a:latin typeface="Calibri"/>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2</a:t>
            </a:r>
            <a:r>
              <a:rPr b="0" lang="ru-RU" sz="1200" spc="-1" strike="noStrike">
                <a:solidFill>
                  <a:srgbClr val="000000"/>
                </a:solidFill>
                <a:latin typeface="Calibri"/>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3</a:t>
            </a:r>
            <a:r>
              <a:rPr b="0" lang="ru-RU" sz="1200" spc="-1" strike="noStrike">
                <a:solidFill>
                  <a:srgbClr val="000000"/>
                </a:solidFill>
                <a:latin typeface="Calibri"/>
              </a:rPr>
              <a:t>. Каждый имеет столько прав, сколько он может и хочет им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авило 4</a:t>
            </a:r>
            <a:r>
              <a:rPr b="0" lang="ru-RU" sz="1200" spc="-1" strike="noStrike">
                <a:solidFill>
                  <a:srgbClr val="000000"/>
                </a:solidFill>
                <a:latin typeface="Calibri"/>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12FE5-1493-46DB-A155-3A207E70198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язанности несовершеннолетних</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Каждый несовершеннолетний обязан получить основное общее образование. Эта обязанность сохраняет силу до достижения 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5 лет (ст. 19 Закона РФ»Об образова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A8C3-E159-40B3-990D-CC8B5A9785B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ветственность несовершеннолетних</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нолетние при определенных условиях несу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у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у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иную ответств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6B55-594C-4966-860D-3150319A3F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овная ответств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B139-922D-4889-BF94-C7766EBA37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дминистративная ответственность</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наказание за действия, запрещенные Административным кодекс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вершившим в возрасте от 16 до 18 лет такие правонарушения, ка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обретение, хранение и потребление наркотических средств и психотропных веще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жестокое обращение с животны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вреждение транспортных средств общего поль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групповые передвижения с помехами для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вреждение телефонов – автом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спитие спиртных напитков и появление в нетрезвом виде в общественных мест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меняются меры, предусмотренные Положением о комиссиях по делам несовершеннолет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лицам, совершившим такие виды административных правонарушений, ка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мелкое хулиган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равил дорожного движ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ушение порядка обращения с оружи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авил пограничного режима и д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34D0-78F6-4E4B-8F05-CBEA1183075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е наказ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к подросткам административный арест применяться не может (ст.24 -32 КАП).</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BD3D-CA12-4B9B-9AC2-6FFDB25EEA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AEDBD-DC01-4944-AE58-6F323E3A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4921-4A10-41C7-B843-A52C343C0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29B06-4827-4566-B998-B53C4FD4E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DB579-018D-486D-8774-F7C86E603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2BD6C7-B8A5-4939-BE2E-4C1AD8079F1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C6EA9-EFDD-4614-AEC5-D471006B18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9BBC8A-35BE-408D-8FB4-83A635058E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97480-C31D-4D7D-AA84-CB40979F14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71C13E-242C-4503-8EEF-BBBFCAF7E3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7AF22B-38D0-4D4A-8920-986B12E3F3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13E20-E972-451F-A61F-F469A49CC9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96858-41E8-4430-9CAD-9668D4C87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C46A0-8A28-46CA-B21F-4427DB7998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7BC24-F7FA-475C-8FA7-534701E7C9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9F103D-097C-45F5-AEB5-9AA1E8E89A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4DD80C-DF1A-4AE7-ADDA-7B7A6D0B68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76F02-1697-4086-BCC0-B1313DD3373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8B7E-A3D7-4701-9DBE-41716AB21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AA7FE-4298-4D18-ABE9-80B889C5B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85C9-8A3B-43C2-809E-D1DDC51A8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D9226-8E8F-4F17-9518-BD58139B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6FA6-B0D4-495C-83C8-61E441E63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EAC1-31D3-4052-995F-3ECF8E6E6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4681-BD4F-4BC4-BC5A-63B0051D0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1D50-571D-48E9-84D4-BDFB0419D54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4CDF-E150-4E1B-B25F-CB6892248517}"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560"/>
            <a:ext cx="7772400" cy="280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Права, обязанности и ответственность несовершеннолетних.</a:t>
            </a:r>
            <a:endParaRPr b="0" lang="en-US" sz="4400" spc="-1" strike="noStrike">
              <a:solidFill>
                <a:srgbClr val="ffffff"/>
              </a:solidFill>
              <a:latin typeface="Tahoma"/>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Материальная ответственность несовершеннолетних</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в возрасте от 14 до 18 лет несут материальную ответственность за причиненный ими вред. За вред, причиненный малолетними (не достигшими 14 лет) имущественную ответственность несут их родители или лица, их заменяющие (ст.26,28 Г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0" lang="ru-RU" sz="4400" spc="-1" strike="noStrike">
                <a:solidFill>
                  <a:srgbClr val="ffffff"/>
                </a:solidFill>
                <a:latin typeface="Tahoma"/>
              </a:rPr>
              <a:t>Кто такие дети?</a:t>
            </a:r>
            <a:endParaRPr b="0" lang="en-US" sz="4400" spc="-1" strike="noStrike">
              <a:solidFill>
                <a:srgbClr val="ffffff"/>
              </a:solidFill>
              <a:latin typeface="Tahoma"/>
            </a:endParaRPr>
          </a:p>
        </p:txBody>
      </p:sp>
      <p:sp>
        <p:nvSpPr>
          <p:cNvPr id="93" name=""/>
          <p:cNvSpPr txBox="1"/>
          <p:nvPr/>
        </p:nvSpPr>
        <p:spPr>
          <a:xfrm>
            <a:off x="324000" y="1557000"/>
            <a:ext cx="8424720" cy="428148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гласно Декларации прав ребенка, принятой ООН в 1959 году, ребенком признается всякое человеческое существо, не достигшее 18 – летнего возраста (совершеннолетия). Здесь же провозглашается, что ребенок, ввиду его физической и умственной незрелости, нуждается в специальной охране и заботе, включая надлежащую правовую защиту. В Декларации содержится призыв к родителям, различным добровольным организациям, местным властям, национальным правительствам о том, чтобы они признали права детей и старались соблюдать их путем законодательных и иных мер.</a:t>
            </a:r>
            <a:endParaRPr b="0" lang="en-US" sz="20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repl">
                                        <p:cTn id="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repl">
                                        <p:cTn id="13"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Какие права у ребенка.</a:t>
            </a:r>
            <a:endParaRPr b="0" lang="en-US" sz="4400" spc="-1" strike="noStrike">
              <a:solidFill>
                <a:srgbClr val="ffffff"/>
              </a:solidFill>
              <a:latin typeface="Tahoma"/>
            </a:endParaRPr>
          </a:p>
        </p:txBody>
      </p:sp>
      <p:sp>
        <p:nvSpPr>
          <p:cNvPr id="9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Ребенок имеет право:</a:t>
            </a: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жить и воспитываться в семье;</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знать, кто является его родителя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роживание совместно с ними (кроме случаев, когда это противоречит его интересам) и на заботу с их стороны;</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оспитание родителями, а при их отсутствии или лишении родительских прав – на воспитание опекуном, попечителем или детским учреждением;</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всестороннее развит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уважение человеческого достоинства;</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общение с родителями, бабушкой, дедушкой, братьями, сестрами и иными родственниками;</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защиту;</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на выражение собственного мнения;</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фамилии, имени, отчеств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на получение средств на существование и на собственные</a:t>
            </a:r>
            <a:r>
              <a:rPr b="0" lang="ru-RU" sz="1800" spc="-1" strike="noStrike">
                <a:solidFill>
                  <a:srgbClr val="ffffff"/>
                </a:solidFill>
                <a:latin typeface="Tahoma"/>
              </a:rPr>
              <a:t> доходы;</a:t>
            </a:r>
            <a:endParaRPr b="0" lang="en-US" sz="1800" spc="-1" strike="noStrike">
              <a:solidFill>
                <a:srgbClr val="ffffff"/>
              </a:solidFill>
              <a:latin typeface="Tahoma"/>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авило </a:t>
            </a:r>
            <a:endParaRPr b="0" lang="en-US" sz="4000" spc="-1" strike="noStrike">
              <a:solidFill>
                <a:srgbClr val="ffffff"/>
              </a:solidFill>
              <a:latin typeface="Tahoma"/>
            </a:endParaRPr>
          </a:p>
        </p:txBody>
      </p:sp>
      <p:sp>
        <p:nvSpPr>
          <p:cNvPr id="99" name="PlaceHolder 2"/>
          <p:cNvSpPr>
            <a:spLocks noGrp="1"/>
          </p:cNvSpPr>
          <p:nvPr>
            <p:ph/>
          </p:nvPr>
        </p:nvSpPr>
        <p:spPr>
          <a:xfrm>
            <a:off x="457200" y="1125000"/>
            <a:ext cx="8229600" cy="5000760"/>
          </a:xfrm>
          <a:prstGeom prst="rect">
            <a:avLst/>
          </a:prstGeom>
          <a:noFill/>
          <a:ln w="0">
            <a:noFill/>
          </a:ln>
        </p:spPr>
        <p:txBody>
          <a:bodyPr anchor="t">
            <a:normAutofit fontScale="96000"/>
          </a:bodyPr>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1</a:t>
            </a:r>
            <a:r>
              <a:rPr b="0" lang="ru-RU" sz="2000" spc="-1" strike="noStrike">
                <a:solidFill>
                  <a:srgbClr val="ffffff"/>
                </a:solidFill>
                <a:latin typeface="Tahoma"/>
              </a:rPr>
              <a:t>. Чтобы права человека были защищены, мало их написать на бумаге, надо, чтобы сам человек хотел и умел их защитить; права человека реализуются только через его волю.</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2</a:t>
            </a:r>
            <a:r>
              <a:rPr b="0" lang="ru-RU" sz="2000" spc="-1" strike="noStrike">
                <a:solidFill>
                  <a:srgbClr val="ffffff"/>
                </a:solidFill>
                <a:latin typeface="Tahoma"/>
              </a:rPr>
              <a:t> . Наши права кончаются там, где начинается нарушение прав другого человека. Если сегодня мы нарушаем права более слабого , завтра найдется тот, кто нарушит наши права.</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3</a:t>
            </a:r>
            <a:r>
              <a:rPr b="0" lang="ru-RU" sz="2000" spc="-1" strike="noStrike">
                <a:solidFill>
                  <a:srgbClr val="ffffff"/>
                </a:solidFill>
                <a:latin typeface="Tahoma"/>
              </a:rPr>
              <a:t>. Каждый имеет столько прав, сколько он может и хочет иметь.</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Правило 4</a:t>
            </a:r>
            <a:r>
              <a:rPr b="0" lang="ru-RU" sz="2000" spc="-1" strike="noStrike">
                <a:solidFill>
                  <a:srgbClr val="ffffff"/>
                </a:solidFill>
                <a:latin typeface="Tahoma"/>
              </a:rPr>
              <a:t>. Человек и государство общаются друг с другом только письменно. Если Вы пришли к чиновнику. Вы должны оставить ему заявление, на копии которого он должен расписаться. Если вы этого не сделали, можете считать, что Вы у чиновника не были.</a:t>
            </a:r>
            <a:endParaRPr b="0" lang="en-US" sz="2000" spc="-1" strike="noStrike">
              <a:solidFill>
                <a:srgbClr val="ffffff"/>
              </a:solidFill>
              <a:latin typeface="Tahoma"/>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0640" y="330120"/>
            <a:ext cx="7927920" cy="103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язанности несовершеннолетних</a:t>
            </a:r>
            <a:endParaRPr b="0" lang="en-US" sz="4000" spc="-1" strike="noStrike">
              <a:solidFill>
                <a:srgbClr val="ffffff"/>
              </a:solidFill>
              <a:latin typeface="Tahoma"/>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lang="ru-RU" sz="1600" spc="-1" strike="noStrike">
                <a:solidFill>
                  <a:srgbClr val="ffffff"/>
                </a:solidFill>
                <a:latin typeface="Tahoma"/>
              </a:rPr>
              <a:t>Каждый несовершеннолетний обязан получить основное общее образование. Эта обязанность сохраняет силу до достижения им</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15 лет (ст. 19 Закона РФ»Об образован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 образовательных учреждениях среднего (полного) образования подготовка к военной службе осуществляется в добровольном порядке (ст.1, 10 Законов РФ «О воинской обязанности и военной служб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Лица, не достигшие совершеннолетия, не могут приобретать, хранить, коллекционировать и носить оружие, в том числе оружие самообороны (огнестрельное гладкоствольное, газовые пистолеты, аэрозоли, электрошоковые устройства и пр.); полный запрет на изготовление, хранение  и ношение введен на кастеты, бумеранги, холодное оружие с выбрасывающимся лезвием (ст. 3,6,13 Закона РФ «Об оружии»)</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Обязанности обучающихся в образовательном процессе определяются Уставом и другими локальными актами образовательных учреждений. </a:t>
            </a:r>
            <a:endParaRPr b="0" lang="en-US" sz="1600" spc="-1" strike="noStrike">
              <a:solidFill>
                <a:srgbClr val="ffffff"/>
              </a:solidFill>
              <a:latin typeface="Tahoma"/>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тветственность несовершеннолетних</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есовершеннолетние при определенных условиях несут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головную,</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дминистративную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 иную ответственность.</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Уголовная ответственность</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 14 лет. Но не за все виды преступлений, а только за убийства, причинение тяжкого или среднего вреда здоровью человека, похищение человека, изнасилование или насильственные сексуальные действия, все виды хищений, угон автомашины, терроризм, вандализм, хищение или вымогательство оружия, наркотических или психотропных средств, повреждение транспортных средств или путей сообщения, умышленное уничтожение или повреждение имущества при отягчающих обстоятельствах (ч.2 ст.20 УК). За все остальные преступления ответственность наступает только с 16 лет. </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97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Административная ответственность</a:t>
            </a:r>
            <a:endParaRPr b="0" lang="en-US" sz="4000" spc="-1" strike="noStrike">
              <a:solidFill>
                <a:srgbClr val="ffffff"/>
              </a:solidFill>
              <a:latin typeface="Tahoma"/>
            </a:endParaRPr>
          </a:p>
        </p:txBody>
      </p:sp>
      <p:sp>
        <p:nvSpPr>
          <p:cNvPr id="111"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то наказание за действия, запрещенные Административным кодексо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совершившим в возрасте от 16 до 18 лет такие правонарушения, как</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обретение, хранение и потребление наркотических средств и психотропных вещест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жестокое обращение с животными,</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вреждение транспортных средств общего пользова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групповые передвижения с помехами для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овреждение телефонов – автоматов,</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распитие спиртных напитков и появление в нетрезвом виде в общественных места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рименяются меры, предусмотренные Положением о комиссиях по делам несовершеннолетних.</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К лицам, совершившим такие виды административных правонарушений, как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мелкое хулиганство,</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равил дорожного движения,</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нарушение порядка обращения с оружием,</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правил пограничного режима и др.</a:t>
            </a:r>
            <a:endParaRPr b="0" lang="en-US" sz="1600" spc="-1" strike="noStrike">
              <a:solidFill>
                <a:srgbClr val="ffffff"/>
              </a:solidFill>
              <a:latin typeface="Tahoma"/>
            </a:endParaRPr>
          </a:p>
        </p:txBody>
      </p:sp>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Административные наказания</a:t>
            </a:r>
            <a:endParaRPr b="0" lang="en-US" sz="4400" spc="-1" strike="noStrike">
              <a:solidFill>
                <a:srgbClr val="ffffff"/>
              </a:solidFill>
              <a:latin typeface="Tahoma"/>
            </a:endParaRPr>
          </a:p>
        </p:txBody>
      </p:sp>
      <p:sp>
        <p:nvSpPr>
          <p:cNvPr id="114"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дминистративное наказание намного мягче уголовного, но тоже весьма неприятно. Существуют следующие административные наказания: предупреждение, штраф, изъятие предмета, который явился орудием или объектом нарушения, конфискация предмета, административный арест на срок до 15 суток.</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днако, к подросткам административный арест применяться не может (ст.24 -32 КАП).</a:t>
            </a:r>
            <a:endParaRPr b="0" lang="en-US" sz="2400" spc="-1" strike="noStrike">
              <a:solidFill>
                <a:srgbClr val="ffffff"/>
              </a:solidFill>
              <a:latin typeface="Tahoma"/>
            </a:endParaRPr>
          </a:p>
          <a:p>
            <a:pPr marL="325800" indent="-32580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оме того, комиссии по делам несовершеннолетних могут применить довольно широкий перечень мер воздействия, в том числе направить в учебно-воспитательное учреждение, а в возрасте от 14 до 18 лет – в спецпрофучилище (ст. 18 КАП).</a:t>
            </a:r>
            <a:endParaRPr b="0" lang="en-US" sz="24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9T15:45:14Z</dcterms:created>
  <dc:creator>Сергей и Татьяна Булаевы</dc:creator>
  <dc:description/>
  <dc:language>en-US</dc:language>
  <cp:lastModifiedBy>LEGION</cp:lastModifiedBy>
  <dcterms:modified xsi:type="dcterms:W3CDTF">2015-01-28T13:35:13Z</dcterms:modified>
  <cp:revision>6</cp:revision>
  <dc:subject/>
  <dc:title>Права, обязанности и ответственность несовершеннолетних.</dc:title>
</cp:coreProperties>
</file>