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20F5-DB40-4BB6-A5C8-F743C1856FA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2;&#1083;&#1072;&#1088;&#1072;&#1094;&#1080;&#1103;_&#1087;&#1088;&#1072;&#1074;_&#1095;&#1077;&#1083;&#1086;&#1074;&#1077;&#1082;&#1072;_&#1080;_&#1075;&#1088;&#1072;&#1078;&#1076;&#1072;&#1085;&#1080;&#1085;&#1072;" TargetMode="External"/><Relationship Id="rId2" Type="http://schemas.openxmlformats.org/officeDocument/2006/relationships/hyperlink" Target="http://ru.wikipedia.org/wiki/1789_&#1075;&#1086;&#1076;" TargetMode="External"/><Relationship Id="rId3" Type="http://schemas.openxmlformats.org/officeDocument/2006/relationships/slide" Target="../slides/slide9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ёнова Евгения 4д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30A5-519F-46FE-8D21-6B2AF1F411B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- понятие, характеризующее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вой статус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о отношению к государству, его возможности и притязания в экономической, социальной, политической и культурной сфе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72FE-7833-4E50-A5BF-62A847BC58A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рушайте прав и всё будет норм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5458-BFA9-4DAE-BEC4-6D5BAA3D48C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!!!!!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2F0C-C80B-4B39-A044-CB22080FB63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человека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а эгоистического человека, отделенного от человеческой сущности и общ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460F-6B4F-4ABC-B45D-5F8BCCECD9D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людей просят назвать их права, то многие говорят о свободе слова и вероисповедания, некоторые называют ещё пару прав. Без сомнения, это важные права, но полный спектр прав человека очень широк. Они означают выбор и возможности. Они означают свободу получить работу, выбирать карьеру, выбирать партнёров и воспитывать детей. Они включают в себя право путешествовать повсеместно, право получать соответствующую оплату за свою работу, не подвергаться притеснениям, оскорблениям и произвольным увольн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AC90-F35F-456F-9073-7E517B3F0A0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уд рассказывает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4F4B-3011-4ADA-AE65-6F1315381A1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уд рассказывает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69BB-F1BC-447F-AFA1-72D433E86C1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ведев рассматривает книжки где написано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B9BF-5E0D-4929-92CB-454498E70BC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понятие «права человека» встречается во французской «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Декларации прав человека и граждан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принятой в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789 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хотя до этого идея прирождённых прав прошла долгий путь развития, важными вехами на её пути были английская Великая хартия вольностей , английский Билль о правах  и американский Билль о правах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9C9F-A12E-4027-A395-52820D38CEE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719-0DC8-486F-BE22-1354286D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EF6-27D0-4D26-82EA-ADFCC996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948-BCF5-44D4-B308-7CFBEBE6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614-81F8-4A4F-B77F-DF4DE966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2D2B-BB2D-44D6-8747-C0C33695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00D9-C55D-483E-A61A-BF8951BC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B44C-E33F-4AF0-A3FF-21C88108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2C49-EF37-4E2C-9EE4-C3BF910D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EDAF-4797-44DE-BFAF-4B94BCAE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CAB7-9BDE-4FB2-87D1-7DC861FA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906D-48B0-4BAA-90BF-74BEDE88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C70B-71A1-44D1-A545-664458C8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3F64-AAA2-4EDA-9C29-C0445DE0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A085-FF30-47DB-B3A5-FA9518FD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CDA8-4FDA-4D9E-932D-15340B59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663E-144D-4099-B82F-C772B0D8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5FFC-AE28-419B-938F-C7971335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6BE-C6FB-4AAC-B32D-FD55B70B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94C-39EC-4770-BF25-AE8A471B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D25-3875-41FD-BDEB-9A8A7D3D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33C-273C-4ED5-BDAE-87C517D8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A39-CA17-47C4-86F8-5760ABC5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D68-B034-4575-AF15-C9AA54B5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60B-9635-40E9-B0B3-69B0C34C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8CAE-0F6A-47C7-B064-D4D8541469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32EA-C272-4065-BE6F-350A084A44E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lower/1739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2;&#1083;&#1072;&#1088;&#1072;&#1094;&#1080;&#1103;_&#1087;&#1088;&#1072;&#1074;_&#1095;&#1077;&#1083;&#1086;&#1074;&#1077;&#1082;&#1072;_&#1080;_&#1075;&#1088;&#1072;&#1078;&#1076;&#1072;&#1085;&#1080;&#1085;&#1072;" TargetMode="External"/><Relationship Id="rId2" Type="http://schemas.openxmlformats.org/officeDocument/2006/relationships/hyperlink" Target="http://ru.wikipedia.org/wiki/1789_&#1075;&#1086;&#1076;" TargetMode="External"/><Relationship Id="rId3" Type="http://schemas.openxmlformats.org/officeDocument/2006/relationships/hyperlink" Target="http://ru.wikipedia.org/wiki/&#1042;&#1077;&#1083;&#1080;&#1082;&#1072;&#1103;_&#1093;&#1072;&#1088;&#1090;&#1080;&#1103;_&#1074;&#1086;&#1083;&#1100;&#1085;&#1086;&#1089;&#1090;&#1077;&#1081;" TargetMode="External"/><Relationship Id="rId4" Type="http://schemas.openxmlformats.org/officeDocument/2006/relationships/hyperlink" Target="http://ru.wikipedia.org/wiki/&#1041;&#1080;&#1083;&#1083;&#1100;_&#1086;_&#1087;&#1088;&#1072;&#1074;&#1072;&#1093;_1689" TargetMode="External"/><Relationship Id="rId5" Type="http://schemas.openxmlformats.org/officeDocument/2006/relationships/hyperlink" Target="http://ru.wikipedia.org/wiki/&#1041;&#1080;&#1083;&#1083;&#1100;_&#1086;_&#1087;&#1088;&#1072;&#1074;&#1072;&#1093;_(&#1057;&#1064;&#1040;)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а челов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743200" y="5950080"/>
            <a:ext cx="64008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Семёнова Евгения 4д класс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8101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ПРАВА ЧЕЛОВЕКА - понятие, характеризующее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правовой статус человека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по отношению к государству, его возможности и притязания в экономической, социальной, политической и культурной сферах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31640" y="1557360"/>
            <a:ext cx="633564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Не нарушайте прав и всё будет нормально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Спасибо за внимание!!!!!!!!!!!!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Права человека 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- права эгоистического человека, отделенного от человеческой сущности и общности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Когда людей просят назвать их права, то многие говорят о свободе слова и вероисповедания, некоторые называют ещё пару прав. Без сомнения, это важные права, но полный спектр прав человека очень широк. Они означают выбор и возможности. Они означают свободу получить работу, выбирать карьеру, выбирать партнёров и воспитывать детей. Они включают в себя право путешествовать повсеместно, право получать соответствующую оплату за свою работу, не подвергаться притеснениям, оскорблениям и произвольным увольнениям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47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вропейский суд рассказывает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4" descr="imgFull"/>
          <p:cNvPicPr/>
          <p:nvPr/>
        </p:nvPicPr>
        <p:blipFill>
          <a:blip r:embed="rId1"/>
          <a:stretch/>
        </p:blipFill>
        <p:spPr>
          <a:xfrm>
            <a:off x="2700360" y="907920"/>
            <a:ext cx="4414680" cy="33116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4" descr="3348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upoln"/>
          <p:cNvPicPr/>
          <p:nvPr/>
        </p:nvPicPr>
        <p:blipFill>
          <a:blip r:embed="rId1"/>
          <a:stretch/>
        </p:blipFill>
        <p:spPr>
          <a:xfrm>
            <a:off x="3884760" y="0"/>
            <a:ext cx="52592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5013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вропейский суд рассказывает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4" descr="Judges-arrive-at-the-star-001"/>
          <p:cNvPicPr/>
          <p:nvPr/>
        </p:nvPicPr>
        <p:blipFill>
          <a:blip r:embed="rId1"/>
          <a:stretch/>
        </p:blipFill>
        <p:spPr>
          <a:xfrm>
            <a:off x="1403280" y="333360"/>
            <a:ext cx="7189920" cy="43131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5516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Медведев рассматривает книжки где написано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Picture 4" descr="41d351f24f71b930b9fd"/>
          <p:cNvPicPr/>
          <p:nvPr/>
        </p:nvPicPr>
        <p:blipFill>
          <a:blip r:embed="rId1"/>
          <a:stretch/>
        </p:blipFill>
        <p:spPr>
          <a:xfrm>
            <a:off x="1619280" y="692280"/>
            <a:ext cx="6191280" cy="4133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1590480"/>
            <a:ext cx="85723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Впервые понятие «права человека» встречается во французской «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Декларации прав человека и гражданина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», принятой в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2"/>
              </a:rPr>
              <a:t>1789 году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, хотя до этого идея прирождённых прав прошла долгий путь развития, важными вехами на её пути были английская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3"/>
              </a:rPr>
              <a:t>Великая хартия вольностей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, английский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4"/>
              </a:rPr>
              <a:t>Билль о правах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 и американский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5"/>
              </a:rPr>
              <a:t>Билль о правах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12:27Z</dcterms:created>
  <dc:creator>Александр</dc:creator>
  <dc:description/>
  <dc:language>en-US</dc:language>
  <cp:lastModifiedBy>LEGION</cp:lastModifiedBy>
  <dcterms:modified xsi:type="dcterms:W3CDTF">2015-01-28T13:35:44Z</dcterms:modified>
  <cp:revision>4</cp:revision>
  <dc:subject/>
  <dc:title>Права человека</dc:title>
</cp:coreProperties>
</file>