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7168-3DD2-4D19-B7E5-D4256E3BC3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ёнова Евгения 4д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B06-9158-4405-AC39-324B093BD79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- понятие, характеризующее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авовой статус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AA7-960C-479D-858D-D59BF792E75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рушайте прав и всё будет нор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76C9-8CF8-4D61-9EBE-C106E8615FE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!!!!!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4200-BA2E-4CEF-A283-A771C282A90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а человека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а эгоистического человека, отделенного от человеческой сущности и общ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4E79-2836-4EBC-87F8-06D373B6D0B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B3B-9A9C-4582-828E-E9A5936B085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2ABD-E838-442A-97DD-4D1AF8DA516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уд рассказывает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BC0-2A28-4DDE-B34A-3333A86770B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ведев рассматривает книжки где написано о права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29FB-6362-4DDF-8B86-07EFE4EE9D1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понятие «права человека» встречается во французской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екларации прав человека и граждан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, принятой в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89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хотя до этого идея прирождённых прав прошла долгий путь развития, важными вехами на её пути были английская Великая хартия вольностей , английский Билль о правах  и американский Билль о правах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5D61-4D25-4124-B173-F348EC9541F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B18-43D2-4E5E-8467-EA4C813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789-6821-46A3-9A1B-867575DE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901-BF0B-410D-8E6F-62B88033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F84-EFFB-4882-822E-C9E51F82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546B-C9FF-432F-A3D7-D4FE494D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C91-9453-445F-803F-0C661437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26B-A083-4098-8221-86E7445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AB56-220B-4746-949C-4CFEABB1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6D81-EE00-4F3E-A0D1-984DD38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2B05-7336-4CC2-B37D-C6686269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D193-9888-437B-AABD-93122869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494-20A9-43C5-A4C5-56E576B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40C8-223A-45F9-B444-E3045E9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6CA9-9101-48C8-83E6-5B79AFF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D40-F30D-4E9E-ADF9-33BFE51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6453-63F8-4D3A-A022-43926704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11E-251F-4266-9453-9D4EDC6D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DC9-EB33-4D48-850E-CCB93A1C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AF1-A687-4100-ACD0-D33B551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4FC-19D6-4B77-881E-1729A0F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ECA-EBAA-4724-9F90-FF900F98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5D3-94F5-4B61-B5C9-AAC9241A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357-6210-4B7F-B2C5-822BF33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0C4-43FF-4D8B-AB77-7A18C6F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770-F02E-40AC-9D15-1AF3FE5DB2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04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6B16-FFAE-4CC4-A5E6-0C337C33B7B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lower/17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2;&#1083;&#1072;&#1088;&#1072;&#1094;&#1080;&#1103;_&#1087;&#1088;&#1072;&#1074;_&#1095;&#1077;&#1083;&#1086;&#1074;&#1077;&#1082;&#1072;_&#1080;_&#1075;&#1088;&#1072;&#1078;&#1076;&#1072;&#1085;&#1080;&#1085;&#1072;" TargetMode="External"/><Relationship Id="rId2" Type="http://schemas.openxmlformats.org/officeDocument/2006/relationships/hyperlink" Target="http://ru.wikipedia.org/wiki/1789_&#1075;&#1086;&#1076;" TargetMode="External"/><Relationship Id="rId3" Type="http://schemas.openxmlformats.org/officeDocument/2006/relationships/hyperlink" Target="http://ru.wikipedia.org/wiki/&#1042;&#1077;&#1083;&#1080;&#1082;&#1072;&#1103;_&#1093;&#1072;&#1088;&#1090;&#1080;&#1103;_&#1074;&#1086;&#1083;&#1100;&#1085;&#1086;&#1089;&#1090;&#1077;&#1081;" TargetMode="External"/><Relationship Id="rId4" Type="http://schemas.openxmlformats.org/officeDocument/2006/relationships/hyperlink" Target="http://ru.wikipedia.org/wiki/&#1041;&#1080;&#1083;&#1083;&#1100;_&#1086;_&#1087;&#1088;&#1072;&#1074;&#1072;&#1093;_1689" TargetMode="External"/><Relationship Id="rId5" Type="http://schemas.openxmlformats.org/officeDocument/2006/relationships/hyperlink" Target="http://ru.wikipedia.org/wiki/&#1041;&#1080;&#1083;&#1083;&#1100;_&#1086;_&#1087;&#1088;&#1072;&#1074;&#1072;&#1093;_(&#1057;&#1064;&#1040;)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432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емёнова Евгения 4д класс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1773360"/>
            <a:ext cx="8101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А ЧЕЛОВЕКА - понятие, характеризующее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правовой статус человек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по отношению к государству, его возможности и притязания в экономической, социальной, политической и культурной сферах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557360"/>
            <a:ext cx="633564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Не нарушайте прав и всё будет нормально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пасибо за внимание!!!!!!!!!!!!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Verdana"/>
              </a:rPr>
              <a:t>Права человека 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- права эгоистического человека, отделенного от человеческой сущности и общност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Когда людей просят назвать их права, то многие говорят о свободе слова и вероисповедания, некоторые называют ещё пару прав. Без сомнения, это важные права, но полный спектр прав человека очень широк. Они означают выбор и возможности. Они означают свободу получить работу, выбирать карьеру, выбирать партнёров и воспитывать детей. Они включают в себя право путешествовать повсеместно, право получать соответствующую оплату за свою работу, не подвергаться притеснениям, оскорблениям и произвольным увольнениям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Picture 4" descr="imgFull"/>
          <p:cNvPicPr/>
          <p:nvPr/>
        </p:nvPicPr>
        <p:blipFill>
          <a:blip r:embed="rId1"/>
          <a:stretch/>
        </p:blipFill>
        <p:spPr>
          <a:xfrm>
            <a:off x="2700360" y="907920"/>
            <a:ext cx="4414680" cy="33116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4" descr="3348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upoln"/>
          <p:cNvPicPr/>
          <p:nvPr/>
        </p:nvPicPr>
        <p:blipFill>
          <a:blip r:embed="rId1"/>
          <a:stretch/>
        </p:blipFill>
        <p:spPr>
          <a:xfrm>
            <a:off x="3884760" y="0"/>
            <a:ext cx="52592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5013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вропейский суд рассказывает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4" descr="Judges-arrive-at-the-star-001"/>
          <p:cNvPicPr/>
          <p:nvPr/>
        </p:nvPicPr>
        <p:blipFill>
          <a:blip r:embed="rId1"/>
          <a:stretch/>
        </p:blipFill>
        <p:spPr>
          <a:xfrm>
            <a:off x="1403280" y="333360"/>
            <a:ext cx="7189920" cy="43131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5516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Медведев рассматривает книжки где написано о правах человек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Picture 4" descr="41d351f24f71b930b9fd"/>
          <p:cNvPicPr/>
          <p:nvPr/>
        </p:nvPicPr>
        <p:blipFill>
          <a:blip r:embed="rId1"/>
          <a:stretch/>
        </p:blipFill>
        <p:spPr>
          <a:xfrm>
            <a:off x="1619280" y="692280"/>
            <a:ext cx="6191280" cy="4133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1590480"/>
            <a:ext cx="85723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Впервые понятие «права человека» встречается во французской «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Декларации прав человека и гражданина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», принятой в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2"/>
              </a:rPr>
              <a:t>1789 году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, хотя до этого идея прирождённых прав прошла долгий путь развития, важными вехами на её пути были английская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3"/>
              </a:rPr>
              <a:t>Великая хартия вольностей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, англий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4"/>
              </a:rPr>
              <a:t>Билль о 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 и американский </a:t>
            </a:r>
            <a:r>
              <a:rPr b="0" lang="ru-RU" sz="29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Билль о правах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12:27Z</dcterms:created>
  <dc:creator>Александр</dc:creator>
  <dc:description/>
  <dc:language>en-US</dc:language>
  <cp:lastModifiedBy>LEGION</cp:lastModifiedBy>
  <dcterms:modified xsi:type="dcterms:W3CDTF">2015-01-28T13:35:44Z</dcterms:modified>
  <cp:revision>4</cp:revision>
  <dc:subject/>
  <dc:title>Права человека</dc:title>
</cp:coreProperties>
</file>