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0B5-4B06-48E9-AE70-7674290E0F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ёнова Евгения 4д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FBC-F164-4CDE-A51D-2E92F69F926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- понятие, характеризующее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ой статус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EB75-0ED7-43AE-ABF8-8912370A424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рушайте прав и всё будет нор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7E59-076F-415F-81D2-5DAE30778DF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!!!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1364-E2D3-4443-992F-C3D6FFD063E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эгоистического человека, отделенного от человеческой сущности и общ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589A-7BD9-432B-9B1E-FF53EA408CA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9895-8F16-4616-84A9-73E6FDA56C0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3FD0-7507-4102-9D11-DE28808C78D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25B-9210-4F4C-8B28-59CA48D7FFC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ев рассматривает книжки где написано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C03C-93B6-47B3-A189-B6BC32A6407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понятие «права человека» встречается во французской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екларации прав человека и граждан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принятой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89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хотя до этого идея прирождённых прав прошла долгий путь развития, важными вехами на её пути были английская Великая хартия вольностей , английский Билль о правах  и американский Билль о правах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D595-E551-4694-AF85-5B9E611ECCE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0CF-6833-42FC-A9D1-286325FF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5BE-7233-4131-AACC-3DC954F7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DD8-63E9-4B42-B5D6-8F13330B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451-CCBA-4B00-A7E4-96438411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5F2C-A191-4048-8105-7A4FE2A2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291-5C87-41C1-AE56-8CD30007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6711-0E22-474F-ACDD-46AF354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E40E-3C84-423F-8301-69A86517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DD81-8E64-4ED4-9216-6DB82B6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869C-B408-4C25-B2A6-A2BB111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0C0A-68AE-4FDF-A143-26D8577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E0A-98E3-4025-89FF-DA6B0F2A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BB7D-825B-432C-8F44-19290D66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BDE5-8D48-4DE3-8B87-DA9166F9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F6F9-62C2-4829-B73D-4BF2AB93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ABFE-25BB-4EAF-BDAF-9C762921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A9D1-2158-4D99-93B2-66705D06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EB0-5AFE-402B-8176-FD7C2A1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6A4-23C6-462A-930F-82A61857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7D1-D6BC-42D1-82FF-24E3A0EE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E18-19B4-420A-ADA0-D812BF41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0FE-DB92-42EC-9434-96E185AF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91E-47D0-4676-AC91-D0CBFAF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467-5236-400D-8799-DD4032F0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15A8-5B61-41F4-90BD-A1D311419E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8214-C255-42F5-8E84-DA0B38FB16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ower/17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hyperlink" Target="http://ru.wikipedia.org/wiki/&#1042;&#1077;&#1083;&#1080;&#1082;&#1072;&#1103;_&#1093;&#1072;&#1088;&#1090;&#1080;&#1103;_&#1074;&#1086;&#1083;&#1100;&#1085;&#1086;&#1089;&#1090;&#1077;&#1081;" TargetMode="External"/><Relationship Id="rId4" Type="http://schemas.openxmlformats.org/officeDocument/2006/relationships/hyperlink" Target="http://ru.wikipedia.org/wiki/&#1041;&#1080;&#1083;&#1083;&#1100;_&#1086;_&#1087;&#1088;&#1072;&#1074;&#1072;&#1093;_1689" TargetMode="External"/><Relationship Id="rId5" Type="http://schemas.openxmlformats.org/officeDocument/2006/relationships/hyperlink" Target="http://ru.wikipedia.org/wiki/&#1041;&#1080;&#1083;&#1083;&#1100;_&#1086;_&#1087;&#1088;&#1072;&#1074;&#1072;&#1093;_(&#1057;&#1064;&#1040;)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емёнова Евгения 4д класс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А ЧЕЛОВЕКА - понятие, характеризующее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правовой статус человек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633564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Не нарушайте прав и всё будет нормально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пасибо за внимание!!!!!!!!!!!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рава человека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- права эгоистического человека, отделенного от человеческой сущности и общност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imgFull"/>
          <p:cNvPicPr/>
          <p:nvPr/>
        </p:nvPicPr>
        <p:blipFill>
          <a:blip r:embed="rId1"/>
          <a:stretch/>
        </p:blipFill>
        <p:spPr>
          <a:xfrm>
            <a:off x="2700360" y="907920"/>
            <a:ext cx="4414680" cy="3311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3348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poln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501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Judges-arrive-at-the-star-001"/>
          <p:cNvPicPr/>
          <p:nvPr/>
        </p:nvPicPr>
        <p:blipFill>
          <a:blip r:embed="rId1"/>
          <a:stretch/>
        </p:blipFill>
        <p:spPr>
          <a:xfrm>
            <a:off x="1403280" y="333360"/>
            <a:ext cx="7189920" cy="4313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551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Медведев рассматривает книжки где написано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41d351f24f71b930b9fd"/>
          <p:cNvPicPr/>
          <p:nvPr/>
        </p:nvPicPr>
        <p:blipFill>
          <a:blip r:embed="rId1"/>
          <a:stretch/>
        </p:blipFill>
        <p:spPr>
          <a:xfrm>
            <a:off x="1619280" y="692280"/>
            <a:ext cx="6191280" cy="4133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59048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Впервые понятие «права человека» встречается во французской «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Декларации прав человека и гражданин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», принятой в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2"/>
              </a:rPr>
              <a:t>1789 году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, хотя до этого идея прирождённых прав прошла долгий путь развития, важными вехами на её пути были английская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Великая хартия вольностей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, англий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Билль о 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 и американ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Билль о 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2:27Z</dcterms:created>
  <dc:creator>Александр</dc:creator>
  <dc:description/>
  <dc:language>en-US</dc:language>
  <cp:lastModifiedBy>LEGION</cp:lastModifiedBy>
  <dcterms:modified xsi:type="dcterms:W3CDTF">2015-01-28T13:35:44Z</dcterms:modified>
  <cp:revision>4</cp:revision>
  <dc:subject/>
  <dc:title>Права человека</dc:title>
</cp:coreProperties>
</file>