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0D95-5655-4AC1-9B28-B23925C3511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77;&#1082;&#1083;&#1072;&#1088;&#1072;&#1094;&#1080;&#1103;_&#1087;&#1088;&#1072;&#1074;_&#1095;&#1077;&#1083;&#1086;&#1074;&#1077;&#1082;&#1072;_&#1080;_&#1075;&#1088;&#1072;&#1078;&#1076;&#1072;&#1085;&#1080;&#1085;&#1072;" TargetMode="External"/><Relationship Id="rId2" Type="http://schemas.openxmlformats.org/officeDocument/2006/relationships/hyperlink" Target="http://ru.wikipedia.org/wiki/1789_&#1075;&#1086;&#1076;" TargetMode="External"/><Relationship Id="rId3" Type="http://schemas.openxmlformats.org/officeDocument/2006/relationships/slide" Target="../slides/slide9.xml"/><Relationship Id="rId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ёнова Евгения 4д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EA00-6618-4230-B116-39D2F67C70FA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 - понятие, характеризующее 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авовой статус чело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по отношению к государству, его возможности и притязания в экономической, социальной, политической и культурной сфер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464D-02D8-4095-8B45-0328828CAAF9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нарушайте прав и всё будет норма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9A60-22E8-40B8-9025-1A149726C0A5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!!!!!!!!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0790-87EF-4AA0-8BA2-03AB42A85435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а человека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ава эгоистического человека, отделенного от человеческой сущности и общ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C459-6279-4508-A321-D101632C8FB0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людей просят назвать их права, то многие говорят о свободе слова и вероисповедания, некоторые называют ещё пару прав. Без сомнения, это важные права, но полный спектр прав человека очень широк. Они означают выбор и возможности. Они означают свободу получить работу, выбирать карьеру, выбирать партнёров и воспитывать детей. Они включают в себя право путешествовать повсеместно, право получать соответствующую оплату за свою работу, не подвергаться притеснениям, оскорблениям и произвольным увольнен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B2A0-2497-421D-BB20-DD6EF996D787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ий суд рассказывает о правах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530A-C976-4D12-96B9-8D0C8A9CE8FA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ий суд рассказывает о правах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9053-691A-48D8-BC32-4AEC349D211C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ведев рассматривает книжки где написано о правах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80BC-F1C6-4E0D-9B46-1E7434D49654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ервые понятие «права человека» встречается во французской «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Декларации прав человека и граждан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, принятой в 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789 год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хотя до этого идея прирождённых прав прошла долгий путь развития, важными вехами на её пути были английская Великая хартия вольностей , английский Билль о правах  и американский Билль о правах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F2E3-88CC-4FEB-A67D-F926640B7ED4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9B35-0D40-4A5C-8196-F0E8ACB87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4A5E-92E7-4A6C-A926-9199FAFA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278D-0EA0-42FE-920D-FCA6DA0F2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EB33-6997-46E5-A8CA-8495C133C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4F30-DA86-4177-B09A-2CF7F44CB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C9656-72D9-4208-86B8-4F571AF0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92DF-F465-44A0-BDD5-1DC6FC4F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7B25-0361-4B95-BE89-6B76CDA1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8907-2826-47F0-87FC-D21456B0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B04F-D67C-4E80-9E7C-0A2498FF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3E815-42F7-4536-A61B-F32FC5B0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1CB5-7031-4DCE-91C7-7B187B50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C272-3ADB-4B3B-BB26-32E8F20D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0450-5271-4202-B21C-97BC4653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58901-1CB4-4723-A352-72360886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018B-0C37-450F-992A-05A725F8F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E862-EFBA-4389-96C9-5AFB4619C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AAC4-F929-4D2A-8EEB-2F756D18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661F-C6D7-4047-BEE9-6210399A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7E52-9014-4552-9748-74AFEC50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26B3-00C0-4994-8D2B-613FC49B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DD66-118D-4827-BB3B-DAA9798D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567D-DC66-4258-99AC-35A92D57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34DB-3BD7-4DFB-AF0E-716000EB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0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cc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ED0B-435E-4F6F-8ADE-0348501CBC8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0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cc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C807-B9AC-4862-B547-0DC0DA433B1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dic.academic.ru/dic.nsf/lower/17394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77;&#1082;&#1083;&#1072;&#1088;&#1072;&#1094;&#1080;&#1103;_&#1087;&#1088;&#1072;&#1074;_&#1095;&#1077;&#1083;&#1086;&#1074;&#1077;&#1082;&#1072;_&#1080;_&#1075;&#1088;&#1072;&#1078;&#1076;&#1072;&#1085;&#1080;&#1085;&#1072;" TargetMode="External"/><Relationship Id="rId2" Type="http://schemas.openxmlformats.org/officeDocument/2006/relationships/hyperlink" Target="http://ru.wikipedia.org/wiki/1789_&#1075;&#1086;&#1076;" TargetMode="External"/><Relationship Id="rId3" Type="http://schemas.openxmlformats.org/officeDocument/2006/relationships/hyperlink" Target="http://ru.wikipedia.org/wiki/&#1042;&#1077;&#1083;&#1080;&#1082;&#1072;&#1103;_&#1093;&#1072;&#1088;&#1090;&#1080;&#1103;_&#1074;&#1086;&#1083;&#1100;&#1085;&#1086;&#1089;&#1090;&#1077;&#1081;" TargetMode="External"/><Relationship Id="rId4" Type="http://schemas.openxmlformats.org/officeDocument/2006/relationships/hyperlink" Target="http://ru.wikipedia.org/wiki/&#1041;&#1080;&#1083;&#1083;&#1100;_&#1086;_&#1087;&#1088;&#1072;&#1074;&#1072;&#1093;_1689" TargetMode="External"/><Relationship Id="rId5" Type="http://schemas.openxmlformats.org/officeDocument/2006/relationships/hyperlink" Target="http://ru.wikipedia.org/wiki/&#1041;&#1080;&#1083;&#1083;&#1100;_&#1086;_&#1087;&#1088;&#1072;&#1074;&#1072;&#1093;_(&#1057;&#1064;&#1040;)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ава челове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743200" y="5950080"/>
            <a:ext cx="64008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Семёнова Евгения 4д класс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42560" y="1773360"/>
            <a:ext cx="810108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ПРАВА ЧЕЛОВЕКА - понятие, характеризующее </a:t>
            </a:r>
            <a:r>
              <a:rPr b="0" lang="ru-RU" sz="2900" spc="-1" strike="noStrike" u="sng">
                <a:solidFill>
                  <a:srgbClr val="cc3300"/>
                </a:solidFill>
                <a:uFillTx/>
                <a:latin typeface="Verdana"/>
                <a:hlinkClick r:id="rId1"/>
              </a:rPr>
              <a:t>правовой статус человека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 по отношению к государству, его возможности и притязания в экономической, социальной, политической и культурной сферах. 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331640" y="1557360"/>
            <a:ext cx="633564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Не нарушайте прав и всё будет нормально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Спасибо за внимание!!!!!!!!!!!!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Verdana"/>
              </a:rPr>
              <a:t>Права человека 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- права эгоистического человека, отделенного от человеческой сущности и общности. 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Verdana"/>
              </a:rPr>
              <a:t>Когда людей просят назвать их права, то многие говорят о свободе слова и вероисповедания, некоторые называют ещё пару прав. Без сомнения, это важные права, но полный спектр прав человека очень широк. Они означают выбор и возможности. Они означают свободу получить работу, выбирать карьеру, выбирать партнёров и воспитывать детей. Они включают в себя право путешествовать повсеместно, право получать соответствующую оплату за свою работу, не подвергаться притеснениям, оскорблениям и произвольным увольнениям.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50920" y="479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Европейский суд рассказывает о правах человека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6" name="Picture 4" descr="imgFull"/>
          <p:cNvPicPr/>
          <p:nvPr/>
        </p:nvPicPr>
        <p:blipFill>
          <a:blip r:embed="rId1"/>
          <a:stretch/>
        </p:blipFill>
        <p:spPr>
          <a:xfrm>
            <a:off x="2700360" y="907920"/>
            <a:ext cx="4414680" cy="33116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0" name="Picture 4" descr="3348_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upoln"/>
          <p:cNvPicPr/>
          <p:nvPr/>
        </p:nvPicPr>
        <p:blipFill>
          <a:blip r:embed="rId1"/>
          <a:stretch/>
        </p:blipFill>
        <p:spPr>
          <a:xfrm>
            <a:off x="3884760" y="0"/>
            <a:ext cx="525924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71280" y="5013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Европейский суд рассказывает о правах человека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Picture 4" descr="Judges-arrive-at-the-star-001"/>
          <p:cNvPicPr/>
          <p:nvPr/>
        </p:nvPicPr>
        <p:blipFill>
          <a:blip r:embed="rId1"/>
          <a:stretch/>
        </p:blipFill>
        <p:spPr>
          <a:xfrm>
            <a:off x="1403280" y="333360"/>
            <a:ext cx="7189920" cy="431316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00000" y="5516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Медведев рассматривает книжки где написано о правах человека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9" name="Picture 4" descr="41d351f24f71b930b9fd"/>
          <p:cNvPicPr/>
          <p:nvPr/>
        </p:nvPicPr>
        <p:blipFill>
          <a:blip r:embed="rId1"/>
          <a:stretch/>
        </p:blipFill>
        <p:spPr>
          <a:xfrm>
            <a:off x="1619280" y="692280"/>
            <a:ext cx="6191280" cy="413388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24000" y="1590480"/>
            <a:ext cx="857232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Впервые понятие «права человека» встречается во французской «</a:t>
            </a:r>
            <a:r>
              <a:rPr b="0" lang="ru-RU" sz="2900" spc="-1" strike="noStrike" u="sng">
                <a:solidFill>
                  <a:srgbClr val="cc3300"/>
                </a:solidFill>
                <a:uFillTx/>
                <a:latin typeface="Verdana"/>
                <a:hlinkClick r:id="rId1"/>
              </a:rPr>
              <a:t>Декларации прав человека и гражданина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», принятой в </a:t>
            </a:r>
            <a:r>
              <a:rPr b="0" lang="ru-RU" sz="2900" spc="-1" strike="noStrike" u="sng">
                <a:solidFill>
                  <a:srgbClr val="cc3300"/>
                </a:solidFill>
                <a:uFillTx/>
                <a:latin typeface="Verdana"/>
                <a:hlinkClick r:id="rId2"/>
              </a:rPr>
              <a:t>1789 году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, хотя до этого идея прирождённых прав прошла долгий путь развития, важными вехами на её пути были английская </a:t>
            </a:r>
            <a:r>
              <a:rPr b="0" lang="ru-RU" sz="2900" spc="-1" strike="noStrike" u="sng">
                <a:solidFill>
                  <a:srgbClr val="cc3300"/>
                </a:solidFill>
                <a:uFillTx/>
                <a:latin typeface="Verdana"/>
                <a:hlinkClick r:id="rId3"/>
              </a:rPr>
              <a:t>Великая хартия вольностей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 , английский </a:t>
            </a:r>
            <a:r>
              <a:rPr b="0" lang="ru-RU" sz="2900" spc="-1" strike="noStrike" u="sng">
                <a:solidFill>
                  <a:srgbClr val="cc3300"/>
                </a:solidFill>
                <a:uFillTx/>
                <a:latin typeface="Verdana"/>
                <a:hlinkClick r:id="rId4"/>
              </a:rPr>
              <a:t>Билль о правах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  и американский </a:t>
            </a:r>
            <a:r>
              <a:rPr b="0" lang="ru-RU" sz="2900" spc="-1" strike="noStrike" u="sng">
                <a:solidFill>
                  <a:srgbClr val="cc3300"/>
                </a:solidFill>
                <a:uFillTx/>
                <a:latin typeface="Verdana"/>
                <a:hlinkClick r:id="rId5"/>
              </a:rPr>
              <a:t>Билль о правах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12:27Z</dcterms:created>
  <dc:creator>Александр</dc:creator>
  <dc:description/>
  <dc:language>en-US</dc:language>
  <cp:lastModifiedBy>LEGION</cp:lastModifiedBy>
  <dcterms:modified xsi:type="dcterms:W3CDTF">2015-01-28T13:35:44Z</dcterms:modified>
  <cp:revision>4</cp:revision>
  <dc:subject/>
  <dc:title>Права человека</dc:title>
</cp:coreProperties>
</file>