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D3B5-C39E-4D80-820B-30BFA82815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И КЛАССИФИКАЦИЯ ЦЕННЫХ БУМА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цен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евые и долговые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8801-9055-4397-A221-5C32203BC0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нная бумаг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документ, удостоверяющий с соблюдением установленной формы и обязательных реквизитов имущественные права, осуществление или передача которых возможны только при его предъявлении (Гражданский кодекс РФ, ст.1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D77D-A340-46A3-ACE6-6C28993DD8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КЛАССИФИКАЦИИ ЦЕННЫХ БУМА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ризнаку возвратности средств инвестор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необходимости регистрации выпуска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форме выпу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механизму реализации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важнейшим эмите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AFE3-597B-4206-8941-6A897EC733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признаку возвратности сред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лговые ценные бумаги (облигация, векс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левые ценные бумаги (а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51B0-BA58-42D2-8F98-9E4D0F40B4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важнейшим эмите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A0D9-D725-4391-8402-7E6B7A24E0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МЕХАНИЗМУ РЕАЛИЗАЦИИ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BD1D-C280-4F45-8A72-A81C04E9F7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форме выпус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ументарная (наличная) форма выпуска на бумажном носит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документарная (безналичная) форма выпуска в виде электронной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3749-5ABF-4002-891B-9DBE04C007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НЕОБХОДИМОСТИ РЕГИСТРАЦИИ ВЫПУ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миссионные ценные бумаги (акции, облиг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эмиссионные ценные бумаги (вексель, коноса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B9BA-883C-45C6-B5FE-0125AFFEA5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BF99-76E5-419F-A5DC-120B2040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9D6-1968-45D9-A3CF-336277CD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4FE-55D1-4AC7-8349-484CAE7F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89BD-A816-47A1-965F-65947A10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9AF-3267-4A46-844C-F40C62B3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0D9-6B88-496B-A333-ACBCF6BE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8ED-3682-4945-AE18-5D09D83F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5D2-793E-4474-BA48-9DEE9335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23F-2F6C-4C6C-8549-92F2F5A9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6A4D-84DE-4C0D-A6A8-C85F9DAF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340-EA2D-4619-B180-FAE88CA2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A1BF-E84E-4292-B5D5-50BF0865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24B9-24C6-48BC-9E65-C8585FED20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И КЛАССИФИКАЦИЯ ЦЕННЫХ БУМ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ценной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евые и долговые ценные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24280"/>
            <a:ext cx="7772400" cy="2233440"/>
          </a:xfrm>
          <a:prstGeom prst="rect">
            <a:avLst/>
          </a:prstGeom>
          <a:solidFill>
            <a:srgbClr val="cfd0ce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нная бума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документ, удостоверяющий с соблюдением установленной формы и обязательных реквизитов имущественные права, осуществление или передача которых возможны только при его предъявлении (Гражданский кодекс РФ, ст.1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130400" y="825480"/>
            <a:ext cx="71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НЯТИЕ ЦЕННОЙ БУМАГ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ЛАССИФИКАЦИИ ЦЕННЫХ БУМ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признаку возвратности средств инвес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необходимости регистрации выпуска ценных бум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форме вы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механизму реализации пр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ажнейшим эмитен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признаку возвратности сред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говые ценные бумаги (облигация, векс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евые ценные бумаги (а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3068640"/>
          <a:ext cx="3600720" cy="221292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</a:tblGrid>
              <a:tr h="995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ем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372360" y="3141720"/>
          <a:ext cx="1512720" cy="64764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372360" y="4365720"/>
          <a:ext cx="1584360" cy="7920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иг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с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AutoShape 26"/>
          <p:cNvSpPr/>
          <p:nvPr/>
        </p:nvSpPr>
        <p:spPr>
          <a:xfrm>
            <a:off x="4500720" y="3357720"/>
            <a:ext cx="1871640" cy="287280"/>
          </a:xfrm>
          <a:prstGeom prst="leftArrow">
            <a:avLst>
              <a:gd name="adj1" fmla="val 50000"/>
              <a:gd name="adj2" fmla="val 1628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7"/>
          <p:cNvSpPr/>
          <p:nvPr/>
        </p:nvSpPr>
        <p:spPr>
          <a:xfrm>
            <a:off x="4500720" y="4581360"/>
            <a:ext cx="1871640" cy="287640"/>
          </a:xfrm>
          <a:prstGeom prst="leftArrow">
            <a:avLst>
              <a:gd name="adj1" fmla="val 50000"/>
              <a:gd name="adj2" fmla="val 1626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важнейшим эмитен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1989000"/>
          <a:ext cx="8064360" cy="4017960"/>
        </p:xfrm>
        <a:graphic>
          <a:graphicData uri="http://schemas.openxmlformats.org/drawingml/2006/table">
            <a:tbl>
              <a:tblPr/>
              <a:tblGrid>
                <a:gridCol w="3257640"/>
                <a:gridCol w="4806720"/>
              </a:tblGrid>
              <a:tr h="632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ценной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</a:tr>
              <a:tr h="69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федеральное прав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ые бума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федераль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субъекты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ые бума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местные органы власти в составе субъектов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оратив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гов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МЕХАНИЗМУ РЕАЛИЗАЦИИ ПР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19280" y="1557360"/>
          <a:ext cx="7704000" cy="5006880"/>
        </p:xfrm>
        <a:graphic>
          <a:graphicData uri="http://schemas.openxmlformats.org/drawingml/2006/table">
            <a:tbl>
              <a:tblPr/>
              <a:tblGrid>
                <a:gridCol w="2773080"/>
                <a:gridCol w="4930920"/>
              </a:tblGrid>
              <a:tr h="764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ценной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</a:tr>
              <a:tr h="163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ъявитель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та обр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ростое вручение ценной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и без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е веден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утем внесения изменений в реес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д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ри помощи индосса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форме вы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6985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ументарная (наличная) форма выпуска на бумажном носит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документарная (безналичная) форма выпуска в виде электронной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НЕОБХОДИМОСТИ РЕГИСТРАЦИИ ВЫ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70581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иссионные ценные бумаги (акции, облиг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эмиссионные ценные бумаги (вексель, коносаме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9:28:04Z</dcterms:created>
  <dc:creator>User</dc:creator>
  <dc:description/>
  <dc:language>en-US</dc:language>
  <cp:lastModifiedBy>LEGION</cp:lastModifiedBy>
  <dcterms:modified xsi:type="dcterms:W3CDTF">2014-11-10T10:01:22Z</dcterms:modified>
  <cp:revision>6</cp:revision>
  <dc:subject/>
  <dc:title>Тема 2. ВИДЫ И КЛАССИФИКАЦИЯ ЦЕННЫХ БУМАГ</dc:title>
</cp:coreProperties>
</file>