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6FC9-1C73-4B52-A31B-E918666E16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И КЛАССИФИКАЦИЯ ЦЕННЫХ БУМА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ые и долгов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001B-B36F-458C-9C6B-50EFB430D2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ая бумаг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EBFA-E535-493F-9B29-F623844764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КЛАССИФИКАЦИИ ЦЕННЫХ БУМ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знаку возвратности средств инвесто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необходимости регистрации выпуска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форме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1B23-0997-45C5-A7F3-DC467C9DFC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признаку возвратности сред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говые ценные бумаги (облигация, векс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евые ценные бумаги (а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0A60-85E0-4396-8552-FCC3631B63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DC71-F865-4006-9731-21B945967E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2A45-594D-4AA4-A141-70AFCD3E41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форме выпу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ая (наличная) форма выпуска на бумажном носит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документарная (безналичная) форма выпуска в виде электронной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6686-F34B-4670-865E-21E03ED255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НЕОБХОДИМОСТИ РЕГИСТРАЦИИ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миссионные 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эмиссионные ценные бумаги (вексель, коноса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047B-9D4A-4CCC-8A55-24FE0497EE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A02-7E71-4DF8-AFA7-70ACEAF6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494-2797-499B-A908-229E147D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5D2-0B06-4755-9FE3-B2CBBBFB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753-880D-45E4-BDB7-C775CFBA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4F9-BBE6-4A18-A194-B2E03225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BC0-9376-4C9B-AFA5-9B2547ED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C25-E202-4B20-9799-B18127FD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927-00B1-412A-ABA3-5682D03C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540-EC03-450F-9B65-BBD37473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116-AA31-42DB-8BD9-2275E278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B52-FBB3-4643-B064-DD228EAC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423-3827-41B6-8830-1FDB2528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674B-0C8C-4930-B656-F812F959FB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И КЛАССИФИКАЦИЯ ЦЕННЫХ БУМ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ценной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евые и долговые ценные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772400" cy="2233440"/>
          </a:xfrm>
          <a:prstGeom prst="rect">
            <a:avLst/>
          </a:prstGeom>
          <a:solidFill>
            <a:srgbClr val="cfd0ce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30400" y="825480"/>
            <a:ext cx="71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НЯТИЕ ЦЕННОЙ БУМАГ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ЛАССИФИКАЦИИ ЦЕННЫХ БУМ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изнаку возвратности средств инвес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еобходимости регистрации выпуска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орме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ажнейшим эмитен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признаку возвратности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вые ценные бумаги (облигация, векс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евые ценные бумаги (а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3068640"/>
          <a:ext cx="3600720" cy="221292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</a:tblGrid>
              <a:tr h="995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ем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372360" y="3141720"/>
          <a:ext cx="1512720" cy="64764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72360" y="4365720"/>
          <a:ext cx="1584360" cy="7920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иг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с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AutoShape 26"/>
          <p:cNvSpPr/>
          <p:nvPr/>
        </p:nvSpPr>
        <p:spPr>
          <a:xfrm>
            <a:off x="4500720" y="3357720"/>
            <a:ext cx="1871640" cy="287280"/>
          </a:xfrm>
          <a:prstGeom prst="leftArrow">
            <a:avLst>
              <a:gd name="adj1" fmla="val 50000"/>
              <a:gd name="adj2" fmla="val 1628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7"/>
          <p:cNvSpPr/>
          <p:nvPr/>
        </p:nvSpPr>
        <p:spPr>
          <a:xfrm>
            <a:off x="4500720" y="4581360"/>
            <a:ext cx="1871640" cy="287640"/>
          </a:xfrm>
          <a:prstGeom prst="leftArrow">
            <a:avLst>
              <a:gd name="adj1" fmla="val 50000"/>
              <a:gd name="adj2" fmla="val 1626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важнейшим эмитен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989000"/>
          <a:ext cx="8064360" cy="4017960"/>
        </p:xfrm>
        <a:graphic>
          <a:graphicData uri="http://schemas.openxmlformats.org/drawingml/2006/table">
            <a:tbl>
              <a:tblPr/>
              <a:tblGrid>
                <a:gridCol w="3257640"/>
                <a:gridCol w="4806720"/>
              </a:tblGrid>
              <a:tr h="63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69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федеральное прав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федер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субъекты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местные органы власти в составе субъектов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оратив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19280" y="1557360"/>
          <a:ext cx="7704000" cy="5006880"/>
        </p:xfrm>
        <a:graphic>
          <a:graphicData uri="http://schemas.openxmlformats.org/drawingml/2006/table">
            <a:tbl>
              <a:tblPr/>
              <a:tblGrid>
                <a:gridCol w="2773080"/>
                <a:gridCol w="4930920"/>
              </a:tblGrid>
              <a:tr h="76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163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ъяви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обр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остое вручение ценной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и без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веден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утем внесения изменений в рее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д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и помощи индосса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форме вы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698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ументарная (наличная) форма выпуска на бумажном носит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документарная (безналичная) форма выпуска в виде электронной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НЕОБХОДИМОСТИ РЕГИСТРАЦИИ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0581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иссионные ценные бумаги (акции, облиг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эмиссионные ценные бумаги (вексель, коносаме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28:04Z</dcterms:created>
  <dc:creator>User</dc:creator>
  <dc:description/>
  <dc:language>en-US</dc:language>
  <cp:lastModifiedBy>LEGION</cp:lastModifiedBy>
  <dcterms:modified xsi:type="dcterms:W3CDTF">2014-11-10T10:01:22Z</dcterms:modified>
  <cp:revision>6</cp:revision>
  <dc:subject/>
  <dc:title>Тема 2. ВИДЫ И КЛАССИФИКАЦИЯ ЦЕННЫХ БУМАГ</dc:title>
</cp:coreProperties>
</file>