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2EE3-0E62-4042-9F53-1019A02B4E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ИДЫ И КЛАССИФИКАЦИЯ ЦЕННЫХ БУМА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ценной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евые и долговые ценные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42D6-EAD1-42FB-A3D2-B261C87C23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нная бумаг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документ, удостоверяющий с соблюдением установленной формы и обязательных реквизитов имущественные права, осуществление или передача которых возможны только при его предъявлении (Гражданский кодекс РФ, ст.14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E067-46ED-44A2-870F-FB163F35C9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КЛАССИФИКАЦИИ ЦЕННЫХ БУМА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признаку возвратности средств инвестор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необходимости регистрации выпуска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форме выпу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механизму реализации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важнейшим эмитен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DFB1-83B0-4C31-87A2-0A06872F42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признаку возвратности средст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лговые ценные бумаги (облигация, вексе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левые ценные бумаги (ак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E5F7-6044-4AE6-83D5-58718D6352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важнейшим эмитен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45AB-31D4-4D39-BB62-03A81DC53F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МЕХАНИЗМУ РЕАЛИЗАЦИИ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5465-7684-4A0F-B1F2-D993F076C9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форме выпус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кументарная (наличная) форма выпуска на бумажном носите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документарная (безналичная) форма выпуска в виде электронной за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ACED-005E-4979-9999-D54CF6915D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НЕОБХОДИМОСТИ РЕГИСТРАЦИИ ВЫПУ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миссионные ценные бумаги (акции, облиг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эмиссионные ценные бумаги (вексель, коносам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085A-C5CE-4739-B399-63ACFFC8FA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0378-F0CB-4A4E-B2DB-5E8FAACE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4D42-77A7-407E-9536-39875BDC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58D8-27C3-4372-B988-22E006762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7393-97E2-44E6-B1E4-9C052B32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B78C-C8C5-45A7-9E6A-5C9339CD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B958-D021-4ED2-8DD5-F507FC83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8AAC-C0D3-48E9-9394-66F0C2D9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599B-7D95-4753-93C2-EA062091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C168-BD6E-4C91-A3AD-29049E07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ED0E-ADC5-422E-BB4D-6FD7DB7C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A611-9F4A-4E0D-B239-13CED1F3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BB10-472A-404D-AF30-D65BBCE7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AAA1-A343-41BD-AE19-47086DE24B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Ы И КЛАССИФИКАЦИЯ ЦЕННЫХ БУМА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ценной бум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евые и долговые ценные бум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ификация ценных бум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24280"/>
            <a:ext cx="7772400" cy="2233440"/>
          </a:xfrm>
          <a:prstGeom prst="rect">
            <a:avLst/>
          </a:prstGeom>
          <a:solidFill>
            <a:srgbClr val="cfd0ce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нная бумаг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документ, удостоверяющий с соблюдением установленной формы и обязательных реквизитов имущественные права, осуществление или передача которых возможны только при его предъявлении (Гражданский кодекс РФ, ст.1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130400" y="825480"/>
            <a:ext cx="71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ОНЯТИЕ ЦЕННОЙ БУМАГ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КЛАССИФИКАЦИИ ЦЕННЫХ БУМА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признаку возвратности средств инвестор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необходимости регистрации выпуска ценных бум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форме выпу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механизму реализации пр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важнейшим эмитен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лассификация ценных бумаг по признаку возвратности сред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лговые ценные бумаги (облигация, векс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левые ценные бумаги (ак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3068640"/>
          <a:ext cx="3600720" cy="2212920"/>
        </p:xfrm>
        <a:graphic>
          <a:graphicData uri="http://schemas.openxmlformats.org/drawingml/2006/table">
            <a:tbl>
              <a:tblPr/>
              <a:tblGrid>
                <a:gridCol w="1800360"/>
                <a:gridCol w="1800360"/>
              </a:tblGrid>
              <a:tr h="995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ств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ит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ем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ит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372360" y="3141720"/>
          <a:ext cx="1512720" cy="647640"/>
        </p:xfrm>
        <a:graphic>
          <a:graphicData uri="http://schemas.openxmlformats.org/drawingml/2006/table">
            <a:tbl>
              <a:tblPr/>
              <a:tblGrid>
                <a:gridCol w="151272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372360" y="4365720"/>
          <a:ext cx="1584360" cy="79200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иг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кс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AutoShape 26"/>
          <p:cNvSpPr/>
          <p:nvPr/>
        </p:nvSpPr>
        <p:spPr>
          <a:xfrm>
            <a:off x="4500720" y="3357720"/>
            <a:ext cx="1871640" cy="287280"/>
          </a:xfrm>
          <a:prstGeom prst="leftArrow">
            <a:avLst>
              <a:gd name="adj1" fmla="val 50000"/>
              <a:gd name="adj2" fmla="val 1628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7"/>
          <p:cNvSpPr/>
          <p:nvPr/>
        </p:nvSpPr>
        <p:spPr>
          <a:xfrm>
            <a:off x="4500720" y="4581360"/>
            <a:ext cx="1871640" cy="287640"/>
          </a:xfrm>
          <a:prstGeom prst="leftArrow">
            <a:avLst>
              <a:gd name="adj1" fmla="val 50000"/>
              <a:gd name="adj2" fmla="val 1626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лассификация ценных бумаг по важнейшим эмитен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55640" y="1989000"/>
          <a:ext cx="8064360" cy="4017960"/>
        </p:xfrm>
        <a:graphic>
          <a:graphicData uri="http://schemas.openxmlformats.org/drawingml/2006/table">
            <a:tbl>
              <a:tblPr/>
              <a:tblGrid>
                <a:gridCol w="3257640"/>
                <a:gridCol w="4806720"/>
              </a:tblGrid>
              <a:tr h="632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ценной бума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0c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0ce"/>
                    </a:solidFill>
                  </a:tcPr>
                </a:tc>
              </a:tr>
              <a:tr h="693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 – федеральное правитель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долговые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ные бума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федеральн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 – субъекты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долговые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ные бума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 – местные органы власти в составе субъектов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долгов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поративн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 – пред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гов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ЛАССИФИКАЦИЯ ЦЕННЫХ БУМАГ ПО МЕХАНИЗМУ РЕАЛИЗАЦИИ ПР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19280" y="1557360"/>
          <a:ext cx="7704000" cy="5006880"/>
        </p:xfrm>
        <a:graphic>
          <a:graphicData uri="http://schemas.openxmlformats.org/drawingml/2006/table">
            <a:tbl>
              <a:tblPr/>
              <a:tblGrid>
                <a:gridCol w="2773080"/>
                <a:gridCol w="4930920"/>
              </a:tblGrid>
              <a:tr h="764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ценной бума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0c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0ce"/>
                    </a:solidFill>
                  </a:tcPr>
                </a:tc>
              </a:tr>
              <a:tr h="1635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ъявитель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рная форма выпу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ие реес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ота обра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ча прав – простое вручение ценной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н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рная и бездокументарная форма выпу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язательное ведение реес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ча прав – путем внесения изменений в реес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де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рная форма выпу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ие реес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ча прав – при помощи индоссам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лассификация ценных бумаг по форме выпу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6985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ументарная (наличная) форма выпуска на бумажном носите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документарная (безналичная) форма выпуска в виде электронной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ЛАССИФИКАЦИЯ ЦЕННЫХ БУМАГ ПО НЕОБХОДИМОСТИ РЕГИСТРАЦИИ ВЫПУ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70581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миссионные ценные бумаги (акции, облига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эмиссионные ценные бумаги (вексель, коносаме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9:28:04Z</dcterms:created>
  <dc:creator>User</dc:creator>
  <dc:description/>
  <dc:language>en-US</dc:language>
  <cp:lastModifiedBy>LEGION</cp:lastModifiedBy>
  <dcterms:modified xsi:type="dcterms:W3CDTF">2014-11-10T10:01:22Z</dcterms:modified>
  <cp:revision>6</cp:revision>
  <dc:subject/>
  <dc:title>Тема 2. ВИДЫ И КЛАССИФИКАЦИЯ ЦЕННЫХ БУМАГ</dc:title>
</cp:coreProperties>
</file>