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2800-FD0B-42F4-BA92-B5F6DC65C8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ДЫ И КЛАССИФИКАЦИЯ ЦЕННЫХ БУМА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ценной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евые и долговые 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BB41-29EE-4758-A8C2-6187E0746A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нная бумаг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документ, удостоверяющий с соблюдением установленной формы и обязательных реквизитов имущественные права, осуществление или передача которых возможны только при его предъявлении (Гражданский кодекс РФ, ст.14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A153-F13A-41E6-8014-95AE344B07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КЛАССИФИКАЦИИ ЦЕННЫХ БУМА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признаку возвратности средств инвестор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необходимости регистрации выпуска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форме выпу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механизму реализации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важнейшим эмитен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CDC6-8DAF-4704-A377-4DA50D39AF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признаку возвратности сред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лговые ценные бумаги (облигация, векс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левые ценные бумаги (а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9AAE-0362-4BCE-A9D0-CE192823D1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важнейшим эмитен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ED98-AED6-4054-BBF6-113871DE4D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МЕХАНИЗМУ РЕАЛИЗАЦИИ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83B2-AF1B-4DAC-AD83-088B7A8951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форме выпус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ументарная (наличная) форма выпуска на бумажном носит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документарная (безналичная) форма выпуска в виде электронной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77EA-0282-4514-B642-CA50C09E05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НЕОБХОДИМОСТИ РЕГИСТРАЦИИ ВЫПУ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миссионные ценные бумаги (акции, облиг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эмиссионные ценные бумаги (вексель, коноса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DBC8-0BDE-4CE5-9A0B-0905C65BE4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0647-EBA9-41D4-A2DD-1C1A73B1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9AA3-F4E6-4FAE-B19A-3DBB7F15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A1F-31DA-4BEF-9278-802C047CC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5F68-04E8-4153-9F1A-8395EFA1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0497-4DF3-47DD-A64E-D43F9492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98CE-1B1D-47A4-9507-237DE0CD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94D2-7380-4B70-BB6E-57802D22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1FD0-8930-49C8-8B2F-764E3524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830E-AE8B-4786-AB7F-9F1669DE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406-4198-4CC7-9673-95B95445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3547-2FD3-4C40-92D6-4810DB94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9D1D-7C4B-4A37-986A-9C6134EC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8201-E0CE-408A-BE34-2657B0A31D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И КЛАССИФИКАЦИЯ ЦЕННЫХ БУМ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ценной бум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евые и долговые ценные бум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ция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24280"/>
            <a:ext cx="7772400" cy="2233440"/>
          </a:xfrm>
          <a:prstGeom prst="rect">
            <a:avLst/>
          </a:prstGeom>
          <a:solidFill>
            <a:srgbClr val="cfd0ce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нная бумаг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документ, удостоверяющий с соблюдением установленной формы и обязательных реквизитов имущественные права, осуществление или передача которых возможны только при его предъявлении (Гражданский кодекс РФ, ст.1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130400" y="825480"/>
            <a:ext cx="71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НЯТИЕ ЦЕННОЙ БУМАГ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КЛАССИФИКАЦИИ ЦЕННЫХ БУМА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признаку возвратности средств инвес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необходимости регистрации выпуска ценных бум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форме вы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механизму реализации пр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важнейшим эмитен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признаку возвратности сред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говые ценные бумаги (облигация, векс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евые ценные бумаги (а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3068640"/>
          <a:ext cx="3600720" cy="2212920"/>
        </p:xfrm>
        <a:graphic>
          <a:graphicData uri="http://schemas.openxmlformats.org/drawingml/2006/table">
            <a:tbl>
              <a:tblPr/>
              <a:tblGrid>
                <a:gridCol w="1800360"/>
                <a:gridCol w="1800360"/>
              </a:tblGrid>
              <a:tr h="995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и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ем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и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372360" y="3141720"/>
          <a:ext cx="1512720" cy="64764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372360" y="4365720"/>
          <a:ext cx="1584360" cy="79200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иг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кс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AutoShape 26"/>
          <p:cNvSpPr/>
          <p:nvPr/>
        </p:nvSpPr>
        <p:spPr>
          <a:xfrm>
            <a:off x="4500720" y="3357720"/>
            <a:ext cx="1871640" cy="287280"/>
          </a:xfrm>
          <a:prstGeom prst="leftArrow">
            <a:avLst>
              <a:gd name="adj1" fmla="val 50000"/>
              <a:gd name="adj2" fmla="val 1628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7"/>
          <p:cNvSpPr/>
          <p:nvPr/>
        </p:nvSpPr>
        <p:spPr>
          <a:xfrm>
            <a:off x="4500720" y="4581360"/>
            <a:ext cx="1871640" cy="287640"/>
          </a:xfrm>
          <a:prstGeom prst="leftArrow">
            <a:avLst>
              <a:gd name="adj1" fmla="val 50000"/>
              <a:gd name="adj2" fmla="val 1626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важнейшим эмитен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55640" y="1989000"/>
          <a:ext cx="8064360" cy="4017960"/>
        </p:xfrm>
        <a:graphic>
          <a:graphicData uri="http://schemas.openxmlformats.org/drawingml/2006/table">
            <a:tbl>
              <a:tblPr/>
              <a:tblGrid>
                <a:gridCol w="3257640"/>
                <a:gridCol w="4806720"/>
              </a:tblGrid>
              <a:tr h="632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ценной бума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</a:tr>
              <a:tr h="69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федеральное прави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долговы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ые бума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федераль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субъекты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долговы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ые бума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местные органы власти в составе субъектов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долгов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оратив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пред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гов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МЕХАНИЗМУ РЕАЛИЗАЦИИ ПР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19280" y="1557360"/>
          <a:ext cx="7704000" cy="5006880"/>
        </p:xfrm>
        <a:graphic>
          <a:graphicData uri="http://schemas.openxmlformats.org/drawingml/2006/table">
            <a:tbl>
              <a:tblPr/>
              <a:tblGrid>
                <a:gridCol w="2773080"/>
                <a:gridCol w="4930920"/>
              </a:tblGrid>
              <a:tr h="764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ценной бума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</a:tr>
              <a:tr h="1635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ъявитель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рная форма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ре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та обра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прав – простое вручение ценной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рная и бездокументарная форма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ое ведение ре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прав – путем внесения изменений в реес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д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рная форма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ре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прав – при помощи индосса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ценных бумаг по форме выпу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6985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ументарная (наличная) форма выпуска на бумажном носите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документарная (безналичная) форма выпуска в виде электронной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НЕОБХОДИМОСТИ РЕГИСТРАЦИИ ВЫ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70581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иссионные ценные бумаги (акции, облиг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эмиссионные ценные бумаги (вексель, коносаме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9:28:04Z</dcterms:created>
  <dc:creator>User</dc:creator>
  <dc:description/>
  <dc:language>en-US</dc:language>
  <cp:lastModifiedBy>LEGION</cp:lastModifiedBy>
  <dcterms:modified xsi:type="dcterms:W3CDTF">2014-11-10T10:01:22Z</dcterms:modified>
  <cp:revision>6</cp:revision>
  <dc:subject/>
  <dc:title>Тема 2. ВИДЫ И КЛАССИФИКАЦИЯ ЦЕННЫХ БУМАГ</dc:title>
</cp:coreProperties>
</file>