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00F55-B79C-4202-8A85-94E7127F2C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равозащитная экспертиза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Franklin Gothic Medium"/>
              </a:rPr>
              <a:t>СЕМИНАР</a:t>
            </a:r>
            <a:r>
              <a:rPr b="1" lang="ru-RU" sz="1200" spc="-1" strike="noStrike">
                <a:solidFill>
                  <a:srgbClr val="000000"/>
                </a:solidFill>
                <a:latin typeface="Franklin Gothic Medium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Franklin Gothic Medium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Franklin Gothic Medium"/>
              </a:rPr>
              <a:t>для Общественных Наблюдательных Сове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Franklin Gothic Medium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Franklin Gothic Medium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Franklin Gothic Medium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Franklin Gothic Medium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Franklin Gothic Medium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Franklin Gothic Medium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Franklin Gothic Medium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Franklin Gothic Medium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Franklin Gothic Medium"/>
              </a:rPr>
              <a:t>Бакыт Качикее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Franklin Gothic Medium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Franklin Gothic Medium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Franklin Gothic Medium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Franklin Gothic Medium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Franklin Gothic Medium"/>
              </a:rPr>
              <a:t>Бишкек,  201</a:t>
            </a:r>
            <a:r>
              <a:rPr b="0" lang="en-US" sz="1200" spc="-1" strike="noStrike">
                <a:solidFill>
                  <a:srgbClr val="000000"/>
                </a:solidFill>
                <a:latin typeface="Franklin Gothic Medium"/>
              </a:rPr>
              <a:t>1 </a:t>
            </a:r>
            <a:r>
              <a:rPr b="0" lang="ru-RU" sz="1200" spc="-1" strike="noStrike">
                <a:solidFill>
                  <a:srgbClr val="000000"/>
                </a:solidFill>
                <a:latin typeface="Franklin Gothic Medium"/>
              </a:rPr>
              <a:t>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EE849-8F6F-419C-B042-06020FC250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76092"/>
                </a:solidFill>
                <a:latin typeface="Calibri"/>
              </a:rPr>
              <a:t>Общепризнанные принципы международного прав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ополагающие императивные нормы международного права, принимаемые и признаваемые международным сообществом государств в целом, отклонение от которых недопустимо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ринцип всеобщего уважения прав челове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ринцип добросовестного выполнения международных обязательст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A664A-92B8-497E-B357-D47B021FA9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76092"/>
                </a:solidFill>
                <a:latin typeface="Calibri"/>
              </a:rPr>
              <a:t>Общепризнанная норма международного пра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ило поведения, принимаемое и признаваемое международным сообществом государств в целом качестве юридически обязательного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держаться в документах ООН и ее специализированных учрежд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примеру,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раво на жизн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«Каждый человек имеет право на жизнь, на свободу и личную неприкосновенность» (ст.3 ВДПЧ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2DDC3-BF70-49A6-8CA3-A6BE3E351E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76092"/>
                </a:solidFill>
                <a:latin typeface="Calibri"/>
              </a:rPr>
              <a:t>Международный догово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вноправное и добровольное соглашение Кыргызской Республики с одним или несколькими государствами, международными организациями или с другими субъектами международного права относительно прав и обязанностей в области международных отношений 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ru-RU" sz="1000" spc="-1" strike="noStrike">
                <a:solidFill>
                  <a:srgbClr val="000000"/>
                </a:solidFill>
                <a:latin typeface="Calibri"/>
              </a:rPr>
              <a:t>п.1 ст. 2 Закона КР «О международных договорах КР»)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3EE46-6A44-4A29-9C09-7DA960EEB6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76092"/>
                </a:solidFill>
                <a:latin typeface="Calibri"/>
              </a:rPr>
              <a:t>Правозащитная экспертиза</a:t>
            </a:r>
            <a:r>
              <a:rPr b="0" lang="ru-RU" sz="1600" spc="-1" strike="noStrike">
                <a:solidFill>
                  <a:srgbClr val="376092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деятельность экспертов по проведению анализа и оценки проектов законов, регламентирующие отношения во всех сферах жизнедеятельности человека, на соответствие стандартам защиты прав челове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в ее основе лежат ПРАВА И СВОБОДЫ ЧЕЛО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39EA5-3344-4B71-BFF4-0F349CC6A3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76092"/>
                </a:solidFill>
                <a:latin typeface="Calibri"/>
              </a:rPr>
              <a:t>Цели правозащитной экспертиз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ценка соответствия исследуемого проекта закона стандартам защиты прав челове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ерка того, как работают принятые стандарты прав челове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ннее предупреждение вероятности нарушения прав человека при применении проекта зако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E3E22-F912-431C-A4C1-BDBC4DE733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76092"/>
                </a:solidFill>
                <a:latin typeface="Calibri"/>
              </a:rPr>
              <a:t>Задачи правозащитной экспертизы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работка правовых механизмов реализации прав челове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транение законодательных пробелов, противоречий, препятствующих установлению и действию единых нормативных стандарт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ие эффективного механизма контроля за соблюдением правозащитного законодатель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37637-73B7-4733-B341-10F816723F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76092"/>
                </a:solidFill>
                <a:latin typeface="Calibri"/>
              </a:rPr>
              <a:t>Этапы правозащитной  экспертиз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Этап 1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Установление круга прав, затрагиваемых проектом закона из перечня прав и свобод челове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Этап 2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Анализ законодательства в охватываемом экспертизой круге пра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Этап 3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Оценка положений проекта закона с соответствующим стандартом защиты прав чело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Этап 4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воды и рекоменд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1946A-658B-41B3-B44E-849A7926E3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376092"/>
                </a:solidFill>
                <a:latin typeface="Calibri"/>
              </a:rPr>
              <a:t>Этап 1. </a:t>
            </a:r>
            <a:r>
              <a:rPr b="0" lang="ru-RU" sz="1100" spc="-1" strike="noStrike">
                <a:solidFill>
                  <a:srgbClr val="376092"/>
                </a:solidFill>
                <a:latin typeface="Calibri"/>
              </a:rPr>
              <a:t>Установление круга прав, затрагиваемых проектом закона, из перечня прав человека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уществляется на основе всего перечня прав и свобод человека, предусмотренных и международными нормами и законами  КР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чень прав и свобод человека, предусмотренных международными нормами, может быть расширен законами КР, но не сокращен (Контрольный перечень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4763B-DE99-4777-B9CC-3856AF0665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76092"/>
                </a:solidFill>
                <a:latin typeface="Calibri"/>
              </a:rPr>
              <a:t>Этап 2. Анализ в охватываемом экспертизой  круге прав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7B953-26DD-4A69-B24A-E3A664E8D6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r>
              <a:rPr b="1" lang="ru-RU" sz="12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Этап 3. Оценка положений проекта на соответствие действующему стандарту зашиты прав человека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EAB69-0F9E-4396-AB57-7721CB0FDF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76092"/>
                </a:solidFill>
                <a:latin typeface="Calibri"/>
              </a:rPr>
              <a:t>Что такое права и свободы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это принцип, нормы взаимоотношений между людьми и государством, обеспечивающие индивиду возможность действовать по своему усмотрению (обычно это называется «свободами») или получать определенные блага (т.е. – это «права»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по существу это нормативно сформулированные условия и способы жизнедеятельности людей, которые объективно необходимы для обеспечения нормального функционирования индивида, общества, государства (юридическое определени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B7973-E06F-45F9-BCA7-29583B06A0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76092"/>
                </a:solidFill>
                <a:latin typeface="Calibri"/>
              </a:rPr>
              <a:t>Этап 4. Выводы и рекоменд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EC108-ECB1-471E-A3A8-44C4DE9BD0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асибо за внимание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E86D3-B22F-4CFC-8105-6EFCE82655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76092"/>
                </a:solidFill>
                <a:latin typeface="Calibri"/>
              </a:rPr>
              <a:t>Различие между «правом»и «свободой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вободы челове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область деятельности человека, в которые государство не должно вмешивать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очерчивается с помощью правовых норм границы, в рамках которых человек действует по своему выбору  и усмотрени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государство должно воздержаться от интервенции в свободы человека и обязано обеспечить защиту границ этих свобод от вмешательства других ли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ава чело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установленные и гарантируемые государством правомочия и потенции действий человека в конкретной сфер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не предлагается возможности выбора, варианте действия внутри данного права, им можно либо воспользоваться и реализовать его, либо не реализовыва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государство обязуется обеспечить и защитить правомерные действия человека в указанной законом обла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D9158-3912-4610-9997-0054183FA6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76092"/>
                </a:solidFill>
                <a:latin typeface="Calibri"/>
              </a:rPr>
              <a:t>ПРАВА И СВОБОДЫ ЧЕЛО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НИВЕРСАЛЬНЫ- принадлежат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всем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юдям во всех ситуация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ТЕСТВЕННЫ- принадлежат людям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от рождения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лько потому, что они люд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ОТЧУЖДАЕМЫ- нельзя произвольно лишить этих пра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Права человека могут быть ограничены </a:t>
            </a:r>
            <a:r>
              <a:rPr b="0" i="1" lang="ru-RU" sz="1000" spc="-1" strike="noStrike">
                <a:solidFill>
                  <a:srgbClr val="000000"/>
                </a:solidFill>
                <a:latin typeface="Calibri"/>
              </a:rPr>
              <a:t>только законом 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и только в той мере, в какой это необходимо для обеспечения безопасности общества, защиты нравственности, здоровья, прав  других людей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CB593-0490-4610-8653-442FC79E15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76092"/>
                </a:solidFill>
                <a:latin typeface="Calibri"/>
              </a:rPr>
              <a:t>Права чело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плекс морально-правовых норм, призванных защищать человеческое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достоинство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вободу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личности от произвола со стороны властных институтов и их представителе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танавливают сферу свободы и самоопределения личности, ее автономию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орядочивают и координируют общественные связи и отношения на основе международно-признанных норм и стандартов в области прав и свобод челове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черчивают границы деятельности государства, предотвращая неоправданное вторжение государства в сферу личной свободы человека ставя преграды всевластию и произволу государственных структур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яют параметры взаимоотношений человека и государства, ответственность последнего за свою деятельность перед личностью и общество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еспечивают раскрытие творческого потенциала каждой личности, стабильность, устойчивое развитие общества, его нормальную жизнедеятельн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BF648-32B9-47CA-891F-19806EB427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76092"/>
                </a:solidFill>
                <a:latin typeface="Calibri"/>
              </a:rPr>
              <a:t>СТАНДАРТЫ ЗАЩИТЫ ПРАВ ЧЕЛОВЕК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е стандар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работанный мировым сообществом нормативный минимум, на который должны ориентироваться государства при признании и обеспечении провозглашаемых пра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о-правовые обязательства, реализующие принцип уважения прав человека и развивающие его в конкретных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нормах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а также сформировавшееся на основе решений международных органов по правам человека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рецедентное право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циональные стандар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Правовые нормы по защите прав человека, содержащиеся в общепризнанных принципах и нормах международного права, международных договорах, действующих в данном государстве, и его законодательстве (Конституции и иных нормативных правовых актах)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EBC46-6C41-4169-B03C-EBAF788413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76092"/>
                </a:solidFill>
                <a:latin typeface="Calibri"/>
              </a:rPr>
              <a:t>Для чего необходимы стандарты</a:t>
            </a:r>
            <a:r>
              <a:rPr b="0" lang="ru-RU" sz="1200" spc="-1" strike="noStrike">
                <a:solidFill>
                  <a:srgbClr val="376092"/>
                </a:solidFill>
                <a:latin typeface="Calibri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танавливают перечень прав и свобод челове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яют их содержание и допустимые огранич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танавливают механизм их защи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1FD9A-72F0-4C95-9723-AD9C787CD6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76092"/>
                </a:solidFill>
                <a:latin typeface="Calibri"/>
              </a:rPr>
              <a:t>Основополагающие принципы обеспечения защиты прав чело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а человека принадлежат ему от рождения, они являются неотъемлемыми и неотчуждаемым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а человека универсальны, основаны на принципе равенства, в том числе равенства прав мужчин и женщин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а человека гарантированы каждому, кто находится под юрисдикцией Кыргызской Республик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а человека – высшая ценность, а их уважение, соблюдение и защита – обязанность государств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еспечение прав и свобод несовместимо с дискриминацией по какому-либо признаку, за исключением позитивной дискриминац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DA2D2-3566-47C1-81EF-1A3252B660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 люди равны в своем достоинстве и правах и должны поступать в отношении друг друга в духе братства, при этом ограничение прав и свобод одних людей допустимо при должном признании и уважении прав и свобод других людей, необходимых в демократическом обществ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права и свободы должны быть едины на всей территории Кыргызской Республики, их регулирование – предмет ведения органов государственной власти, а обеспечение и защита – предмет совместного ведения органов государственной власти и органов местного самоуправл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жданские, политические, экономические, социальные и культурные права и свободы равноценны по своей значимости, едины (неразделимы) и взаимосвяза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71F8D-2193-4286-913E-BF9966DF78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A7E68-882D-47ED-B02B-CB1D6B1BA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39631-07ED-4DED-A45E-1632EEFE2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FAF00-9437-4207-B96B-3176BBF67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01129-00B4-431D-AB1C-F3DEE7408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7A931-3652-4AAB-AE55-713610392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92F59-DBE4-4BD5-9E5D-C4311226B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073DE-6858-455E-B34E-8D004B348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BB4B3-9F05-4948-AA5C-C302448EF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17DDF-B6A6-45F7-B8CD-02E8C0F08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D87FC-3F2A-457E-AAEA-17031A3DF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4844B-1192-497D-8F6F-E99BDB1FE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3EABA-8DFA-4C5C-91EB-2C4713EA3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13CE9-731D-4D79-B1DD-0F9FF64BF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5707F-F515-4723-89A6-EFF684D80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F3CAA-F1D4-4767-932A-B9FB43110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28DE6-D7BF-4868-A050-E2320B089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CF258-33D4-46C6-A04A-5EF68808A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42A3A41-0A91-4A24-BF6C-E72A8E328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0F03042-7C2F-4561-8507-5BACFB14C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0E124F2-9D3C-4F1C-B065-993D34D8C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1B33A27-4374-4461-AACD-FBC26608D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1D45192-8C92-4641-94A6-EC83F548C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A61F7-0A06-4DB1-B201-28C237144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AB19EBD-4274-4945-BFE5-3F7312AF2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936837-2532-49D8-AE68-194914759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EFFE152-4D9F-4057-9389-17F46AA9C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DDAEF0-7381-42C4-A85B-836D47BE3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301C459-0C56-46F9-8850-C1672EF50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885A6EA-CE7D-4A66-8FE3-3BB0731B1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4329B83-BA02-40A5-8307-D9E8ED912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0B41798-93E0-4AB0-B683-5A9C48541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5A60321-2B7C-4252-9AE3-501D2E33D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41A5405-A780-40FC-AE49-0F9E2A099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59C4A-BEAF-43D8-87CA-083279FED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60AEFE1-B686-410E-8D5E-3A292357C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37D14E3-883B-45BD-846D-5DF1B69FB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5CE6E9B-D06B-47F5-8D4A-981AD1452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7948CC0-AFD5-44C0-91D4-3E02BFFB8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180F102-C63E-4307-BBD3-40550D387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DF28D19-EAD0-4B19-92D5-98CB95277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98E4FEE-146F-47CC-902F-92F298671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CED0EDB-CE10-4846-97E6-6769DDFAD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0C8B76A-52F4-427D-86EB-E991CE36D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51DE827-92B5-4D19-BF17-A147D3A4F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2C030-7C51-4090-A49B-9B66E4A60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9D225D5-395C-4797-BE64-70541D421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ECD7A49-1BDA-4608-BA3E-E2BBE0CAB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31D31CF-9C8B-44E3-B12B-A04F503B3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FFF119D-AA87-46DC-ADA3-E7B36690C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C57623A-3C73-485B-B7DA-9447135F4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B080F6C-214E-46B1-8E57-F7F19E4E3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C07AEFB-DD4A-4AE5-841B-5B6D3111A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6A81C01-E8BB-4D93-8FFA-47BF09A3A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0785D18-BCEC-4E02-B564-9D6E41CEA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C004B12-79CE-4EEF-84B8-82E9F8BAF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F7A7D-3855-4441-B7D9-2EE58F011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1523BA5-3215-4FAE-9FB5-BE6264A2F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A4765F-1B26-490C-97FB-85271731D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1F178A-AF65-4CF7-A106-B1382C820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C13A22-3044-4295-B39A-98A0A587C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E9925A-6C6F-48E8-B7A0-689122B3E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B470D3-0985-4284-8994-FC58B5AC5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FCDB35-41C1-4EB9-B68A-DCF83E9B6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7CF526-7BF7-4E62-83FA-FF1BA8E6C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73A605-0086-41E5-8983-63AAD8C2C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686DDC-BA2E-4D1D-84E7-7F9D683C2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6FDB2-39A0-4C03-9D68-8C4D71D21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A76F86-E0F3-40B3-9277-B3093ACE5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A4ACA4-6F87-42C8-B85B-8BFCA47F5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E80795-7A31-4D50-B482-B8F684491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2F91564-DF68-4D0B-91C1-28808570E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24C5D13-131F-4404-B902-A6BFD9FB3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A170054-910A-4878-A5A5-AF41B4EB3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0229B24-E3B7-400D-A867-228DE6DDA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19FAAD4-EE9C-4818-B859-7CD382717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ECC8BF3-8D44-4E02-B7FA-0DC76E2C6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814138A-1EDD-4DB4-B478-55CDD1B70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A0561-61CE-4C51-BA91-1AACD66D0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C02A0BC-78A3-41F3-BA54-08C7F7540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0BBFC4E-9E60-4466-BEC1-AD540FCC1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C3751F8-2A37-4EBC-8F3F-3CCFD94CD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C2240F6-620C-40FB-A912-2B5F16205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F8BDB53-A795-44D5-B291-8E738CFC2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659A4A-981F-46AF-9804-8194C7B66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B63635-43C4-4A52-BA20-8F5F6CEF4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B03BA7-85CC-43DA-BDCC-403DC9BC7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1F9914-B93B-4570-86C2-D0785D18D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5D6708-EB25-4483-B8F6-09C4EF8FC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B60A0-9856-4389-8620-B28EA5C51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FFA739-50C8-493C-B911-C8E736B63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2C4014-0FB8-44A8-A0FA-EA361B09A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6C1748-81F5-4E4D-A896-8A5989C71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026CA0-3DC4-43F6-B822-87F253C95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ECE4A4-E0D2-4FD5-BEAA-A48CE2CD5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C4B784-63B7-4055-AF26-8D325FE14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06C5C3-D7C1-49C3-BF3A-BA9DA78DA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8AD18-2897-4EC4-9DE8-21E94385DA37}" type="datetime">
              <a:rPr b="0" lang="ru-RU" sz="1400" spc="-1" strike="noStrike">
                <a:solidFill>
                  <a:srgbClr val="775f55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29B03-15EA-434B-B77A-A20271594A47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55E85-BE12-4CE9-94B5-0E046F9A6C43}" type="datetime"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29.07.26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dc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dc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ebddc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19FD6-9116-4496-999F-1CE3D313E958}" type="slidenum">
              <a:rPr b="1" lang="ru-RU" sz="1400" spc="-1" strike="noStrike">
                <a:solidFill>
                  <a:srgbClr val="ebddc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Прямоугольник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оугольник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7F65B-6951-444B-9CCA-582FD4C60150}" type="datetime">
              <a:rPr b="0" lang="ru-RU" sz="1400" spc="-1" strike="noStrike">
                <a:solidFill>
                  <a:srgbClr val="775f55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09F07-7541-4C6B-81CE-59BE1FC49265}" type="slidenum"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A7782-E9E7-463D-AC07-17F13E64FAD1}" type="datetime">
              <a:rPr b="0" lang="ru-RU" sz="1400" spc="-1" strike="noStrike">
                <a:solidFill>
                  <a:srgbClr val="775f55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C8D70-2ACF-4563-860F-412E0E21FC54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CF54F-AB94-4F3A-9AF3-0365DDF99735}" type="datetime">
              <a:rPr b="0" lang="ru-RU" sz="1400" spc="-1" strike="noStrike">
                <a:solidFill>
                  <a:srgbClr val="775f55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32A7D-A089-427D-A2AA-2F8EEF696A14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809E8-CE10-4D96-81C2-A72573F62EA8}" type="datetime">
              <a:rPr b="0" lang="ru-RU" sz="1400" spc="-1" strike="noStrike">
                <a:solidFill>
                  <a:srgbClr val="775f55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69EEA-651B-446C-B56C-5F1BAB941AD0}" type="slidenum">
              <a:rPr b="1" lang="ru-RU" sz="1400" spc="-1" strike="noStrike">
                <a:solidFill>
                  <a:srgbClr val="775f5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Прямоугольник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Прямоугольник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Прямоугольник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Прямоугольник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DD0F8-8CB1-4130-971A-36888EC0950A}" type="datetime">
              <a:rPr b="0" lang="ru-RU" sz="1400" spc="-1" strike="noStrike">
                <a:solidFill>
                  <a:srgbClr val="775f55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7B0AE-E265-4629-AFB2-D0C7E5646AD8}" type="slidenum"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Прямоугольник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оугольник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оугольник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C9746-741B-4F17-8F54-E7C7609B9B03}" type="datetime">
              <a:rPr b="0" lang="ru-RU" sz="1400" spc="-1" strike="noStrike">
                <a:solidFill>
                  <a:srgbClr val="775f55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D8D62-5155-4E71-9DC7-A36823744F89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/>
          </p:nvPr>
        </p:nvSpPr>
        <p:spPr>
          <a:xfrm>
            <a:off x="1371600" y="2906640"/>
            <a:ext cx="7122960" cy="35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indent="0" algn="ctr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775f55"/>
                </a:solidFill>
                <a:latin typeface="Franklin Gothic Medium"/>
              </a:rPr>
              <a:t>СЕМИНАР</a:t>
            </a:r>
            <a:r>
              <a:rPr b="1" lang="ru-RU" sz="2600" spc="-1" strike="noStrike">
                <a:solidFill>
                  <a:srgbClr val="775f55"/>
                </a:solidFill>
                <a:latin typeface="Franklin Gothic Medium"/>
              </a:rPr>
              <a:t>	</a:t>
            </a:r>
            <a:r>
              <a:rPr b="1" lang="ru-RU" sz="2600" spc="-1" strike="noStrike">
                <a:solidFill>
                  <a:srgbClr val="775f55"/>
                </a:solidFill>
                <a:latin typeface="Franklin Gothic Medium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775f55"/>
                </a:solidFill>
                <a:latin typeface="Franklin Gothic Medium"/>
              </a:rPr>
              <a:t>для Общественных Наблюдательных Советов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75f55"/>
                </a:solidFill>
                <a:latin typeface="Franklin Gothic Medium"/>
              </a:rPr>
              <a:t>	</a:t>
            </a:r>
            <a:r>
              <a:rPr b="0" lang="ru-RU" sz="2800" spc="-1" strike="noStrike">
                <a:solidFill>
                  <a:srgbClr val="775f55"/>
                </a:solidFill>
                <a:latin typeface="Franklin Gothic Medium"/>
              </a:rPr>
              <a:t>	</a:t>
            </a:r>
            <a:r>
              <a:rPr b="0" lang="ru-RU" sz="2800" spc="-1" strike="noStrike">
                <a:solidFill>
                  <a:srgbClr val="775f55"/>
                </a:solidFill>
                <a:latin typeface="Franklin Gothic Medium"/>
              </a:rPr>
              <a:t>	</a:t>
            </a:r>
            <a:r>
              <a:rPr b="0" lang="ru-RU" sz="2800" spc="-1" strike="noStrike">
                <a:solidFill>
                  <a:srgbClr val="775f55"/>
                </a:solidFill>
                <a:latin typeface="Franklin Gothic Medium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75f55"/>
                </a:solidFill>
                <a:latin typeface="Franklin Gothic Medium"/>
              </a:rPr>
              <a:t>	</a:t>
            </a:r>
            <a:r>
              <a:rPr b="0" lang="ru-RU" sz="2800" spc="-1" strike="noStrike">
                <a:solidFill>
                  <a:srgbClr val="775f55"/>
                </a:solidFill>
                <a:latin typeface="Franklin Gothic Medium"/>
              </a:rPr>
              <a:t>	</a:t>
            </a:r>
            <a:r>
              <a:rPr b="0" lang="ru-RU" sz="2800" spc="-1" strike="noStrike">
                <a:solidFill>
                  <a:srgbClr val="775f55"/>
                </a:solidFill>
                <a:latin typeface="Franklin Gothic Medium"/>
              </a:rPr>
              <a:t>	</a:t>
            </a:r>
            <a:r>
              <a:rPr b="0" lang="ru-RU" sz="2800" spc="-1" strike="noStrike">
                <a:solidFill>
                  <a:srgbClr val="775f55"/>
                </a:solidFill>
                <a:latin typeface="Franklin Gothic Medium"/>
              </a:rPr>
              <a:t>	</a:t>
            </a:r>
            <a:r>
              <a:rPr b="0" lang="ru-RU" sz="2600" spc="-1" strike="noStrike">
                <a:solidFill>
                  <a:srgbClr val="775f55"/>
                </a:solidFill>
                <a:latin typeface="Franklin Gothic Medium"/>
              </a:rPr>
              <a:t>Бакыт Качикеев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775f55"/>
                </a:solidFill>
                <a:latin typeface="Franklin Gothic Medium"/>
              </a:rPr>
              <a:t>	</a:t>
            </a:r>
            <a:r>
              <a:rPr b="0" lang="ru-RU" sz="2600" spc="-1" strike="noStrike">
                <a:solidFill>
                  <a:srgbClr val="775f55"/>
                </a:solidFill>
                <a:latin typeface="Franklin Gothic Medium"/>
              </a:rPr>
              <a:t>	</a:t>
            </a:r>
            <a:r>
              <a:rPr b="0" lang="ru-RU" sz="2600" spc="-1" strike="noStrike">
                <a:solidFill>
                  <a:srgbClr val="775f55"/>
                </a:solidFill>
                <a:latin typeface="Franklin Gothic Medium"/>
              </a:rPr>
              <a:t>	</a:t>
            </a:r>
            <a:r>
              <a:rPr b="0" lang="ru-RU" sz="2600" spc="-1" strike="noStrike">
                <a:solidFill>
                  <a:srgbClr val="775f55"/>
                </a:solidFill>
                <a:latin typeface="Franklin Gothic Medium"/>
              </a:rPr>
              <a:t>         </a:t>
            </a:r>
            <a:r>
              <a:rPr b="0" lang="ru-RU" sz="2600" spc="-1" strike="noStrike">
                <a:solidFill>
                  <a:srgbClr val="775f55"/>
                </a:solidFill>
                <a:latin typeface="Franklin Gothic Medium"/>
              </a:rPr>
              <a:t>Бишкек,  201</a:t>
            </a:r>
            <a:r>
              <a:rPr b="0" lang="en-US" sz="2600" spc="-1" strike="noStrike">
                <a:solidFill>
                  <a:srgbClr val="775f55"/>
                </a:solidFill>
                <a:latin typeface="Franklin Gothic Medium"/>
              </a:rPr>
              <a:t>1 </a:t>
            </a:r>
            <a:r>
              <a:rPr b="0" lang="ru-RU" sz="2600" spc="-1" strike="noStrike">
                <a:solidFill>
                  <a:srgbClr val="775f55"/>
                </a:solidFill>
                <a:latin typeface="Franklin Gothic Medium"/>
              </a:rPr>
              <a:t>г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title"/>
          </p:nvPr>
        </p:nvSpPr>
        <p:spPr>
          <a:xfrm>
            <a:off x="1371240" y="1533240"/>
            <a:ext cx="7620120" cy="950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ru-RU" sz="4800" spc="-1" strike="noStrike">
                <a:solidFill>
                  <a:srgbClr val="ffffff"/>
                </a:solidFill>
                <a:latin typeface="Calibri"/>
              </a:rPr>
              <a:t>Правозащитная экспертиза</a:t>
            </a:r>
            <a:br>
              <a:rPr sz="4800"/>
            </a:br>
            <a:endParaRPr b="0" lang="en-US" sz="48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59" name="Місце для нижнього колонтитула 1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58bb8"/>
                </a:solidFill>
                <a:latin typeface="Calibri"/>
              </a:rPr>
              <a:t>Общепризнанные принципы международного права</a:t>
            </a:r>
            <a:endParaRPr b="0" lang="en-US" sz="32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just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Основополагающие императивные нормы международного права, принимаемые и признаваемые международным сообществом государств в целом, отклонение от которых недопустимо: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 algn="just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Принцип всеобщего уважения прав человека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 algn="just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Принцип добросовестного выполнения международных обязательств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Місце для нижнього колонтитула 2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558bb8"/>
                </a:solidFill>
                <a:latin typeface="Calibri"/>
              </a:rPr>
              <a:t>Общепризнанная норма международного права</a:t>
            </a:r>
            <a:endParaRPr b="0" lang="en-US" sz="4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Правило поведения, принимаемое и признаваемое международным сообществом государств в целом качестве юридически обязательного;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Содержаться в документах ООН и ее специализированных учреждений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К примеру, </a:t>
            </a:r>
            <a:r>
              <a:rPr b="0" lang="ru-RU" sz="2900" spc="-1" strike="noStrike" u="sng">
                <a:solidFill>
                  <a:srgbClr val="000000"/>
                </a:solidFill>
                <a:uFillTx/>
                <a:latin typeface="Calibri"/>
              </a:rPr>
              <a:t>право на жизнь</a:t>
            </a: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ru-RU" sz="2900" spc="-1" strike="noStrike">
                <a:solidFill>
                  <a:srgbClr val="000000"/>
                </a:solidFill>
                <a:latin typeface="Calibri"/>
              </a:rPr>
              <a:t>«Каждый человек имеет право на жизнь, на свободу и личную неприкосновенность» (ст.3 ВДПЧ)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Місце для нижнього колонтитула 3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558bb8"/>
                </a:solidFill>
                <a:latin typeface="Calibri"/>
              </a:rPr>
              <a:t>Международный договор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Равноправное и добровольное соглашение Кыргызской Республики с одним или несколькими государствами, международными организациями или с другими субъектами международного права относительно прав и обязанностей в области международных отношений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п.1 ст. 2 Закона КР «О международных договорах КР»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Місце для нижнього колонтитула 2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58bb8"/>
                </a:solidFill>
                <a:latin typeface="Calibri"/>
              </a:rPr>
              <a:t>Правозащитная экспертиза</a:t>
            </a:r>
            <a:r>
              <a:rPr b="0" lang="ru-RU" sz="4000" spc="-1" strike="noStrike">
                <a:solidFill>
                  <a:srgbClr val="558bb8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это деятельность экспертов по проведению анализа и оценки проектов законов, регламентирующие отношения во всех сферах жизнедеятельности человека, на соответствие стандартам защиты прав человека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- в ее основе лежат ПРАВА И СВОБОДЫ ЧЕЛОВЕКА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Місце для нижнього колонтитула 1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58bb8"/>
                </a:solidFill>
                <a:latin typeface="Calibri"/>
              </a:rPr>
              <a:t>Цели правозащитной экспертизы</a:t>
            </a:r>
            <a:endParaRPr b="0" lang="en-US" sz="4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Оценка соответствия исследуемого проекта закона стандартам защиты прав человека;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Проверка того, как работают принятые стандарты прав человека;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Раннее предупреждение вероятности нарушения прав человека при применении проекта закона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Місце для нижнього колонтитула 1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58bb8"/>
                </a:solidFill>
                <a:latin typeface="Calibri"/>
              </a:rPr>
              <a:t>Задачи правозащитной экспертизы</a:t>
            </a:r>
            <a:endParaRPr b="0" lang="en-US" sz="4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just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Выработка правовых механизмов реализации прав человека;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Устранение законодательных пробелов, противоречий, препятствующих установлению и действию единых нормативных стандартов;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Создание эффективного механизма контроля за соблюдением правозащитного законодательства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Місце для нижнього колонтитула 1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558bb8"/>
                </a:solidFill>
                <a:latin typeface="Calibri"/>
              </a:rPr>
              <a:t>Этапы правозащитной  экспертизы</a:t>
            </a:r>
            <a:endParaRPr b="0" lang="en-US" sz="4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 u="sng">
                <a:solidFill>
                  <a:srgbClr val="000000"/>
                </a:solidFill>
                <a:uFillTx/>
                <a:latin typeface="Calibri"/>
              </a:rPr>
              <a:t>Этап 1.</a:t>
            </a: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 Установление круга прав, затрагиваемых проектом закона из перечня прав и свобод человека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 u="sng">
                <a:solidFill>
                  <a:srgbClr val="000000"/>
                </a:solidFill>
                <a:uFillTx/>
                <a:latin typeface="Calibri"/>
              </a:rPr>
              <a:t>Этап 2.</a:t>
            </a: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 Анализ законодательства в охватываемом экспертизой круге прав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 u="sng">
                <a:solidFill>
                  <a:srgbClr val="000000"/>
                </a:solidFill>
                <a:uFillTx/>
                <a:latin typeface="Calibri"/>
              </a:rPr>
              <a:t>Этап 3.</a:t>
            </a: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 Оценка положений проекта закона с соответствующим стандартом защиты прав человека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 u="sng">
                <a:solidFill>
                  <a:srgbClr val="000000"/>
                </a:solidFill>
                <a:uFillTx/>
                <a:latin typeface="Calibri"/>
              </a:rPr>
              <a:t>Этап 4. </a:t>
            </a: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Выводы и рекомендации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Місце для нижнього колонтитула 2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58bb8"/>
                </a:solidFill>
                <a:latin typeface="Calibri"/>
              </a:rPr>
              <a:t>Этап 1. </a:t>
            </a:r>
            <a:r>
              <a:rPr b="0" lang="ru-RU" sz="2800" spc="-1" strike="noStrike">
                <a:solidFill>
                  <a:srgbClr val="558bb8"/>
                </a:solidFill>
                <a:latin typeface="Calibri"/>
              </a:rPr>
              <a:t>Установление круга прав, затрагиваемых проектом закона, из перечня прав человека</a:t>
            </a:r>
            <a:endParaRPr b="0" lang="en-US" sz="28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457200" y="17146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Осуществляется на основе всего перечня прав и свобод человека, предусмотренных и международными нормами и законами  КР;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Перечень прав и свобод человека, предусмотренных международными нормами, может быть расширен законами КР, но не сокращен (Контрольный перечень)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Выноска со стрелкой вниз 3"/>
          <p:cNvSpPr/>
          <p:nvPr/>
        </p:nvSpPr>
        <p:spPr>
          <a:xfrm>
            <a:off x="4140360" y="6400800"/>
            <a:ext cx="647640" cy="457200"/>
          </a:xfrm>
          <a:prstGeom prst="downArrowCallout">
            <a:avLst>
              <a:gd name="adj1" fmla="val 25001"/>
              <a:gd name="adj2" fmla="val 24999"/>
              <a:gd name="adj3" fmla="val 25000"/>
              <a:gd name="adj4" fmla="val 64977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Місце для нижнього колонтитула 1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09120" y="620280"/>
            <a:ext cx="8153640" cy="5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58bb8"/>
                </a:solidFill>
                <a:latin typeface="Calibri"/>
              </a:rPr>
              <a:t>Этап 2. Анализ в охватываемом экспертизой  круге прав</a:t>
            </a:r>
            <a:br>
              <a:rPr sz="2400"/>
            </a:br>
            <a:endParaRPr b="0" lang="en-US" sz="2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414" name="AutoShape 5"/>
          <p:cNvSpPr/>
          <p:nvPr/>
        </p:nvSpPr>
        <p:spPr>
          <a:xfrm>
            <a:off x="468360" y="1628640"/>
            <a:ext cx="8136000" cy="368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633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1. Ознакомление с концепцией, составляющей основу того или иного стандар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AutoShape 6"/>
          <p:cNvSpPr/>
          <p:nvPr/>
        </p:nvSpPr>
        <p:spPr>
          <a:xfrm>
            <a:off x="684360" y="2205000"/>
            <a:ext cx="3166920" cy="863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ccc0d9"/>
              </a:gs>
            </a:gsLst>
            <a:lin ang="5400000"/>
          </a:gradFill>
          <a:ln w="12600">
            <a:solidFill>
              <a:srgbClr val="b2a1c7"/>
            </a:solidFill>
            <a:miter/>
          </a:ln>
          <a:effectLst>
            <a:outerShdw dist="17819" dir="2700000" blurRad="0" rotWithShape="0">
              <a:srgbClr val="3f315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1.а. Анализ норм, содержащихся в общепризнанных принципах и нормах международного права и вступивших в силу  для КР международных договорах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AutoShape 7"/>
          <p:cNvSpPr/>
          <p:nvPr/>
        </p:nvSpPr>
        <p:spPr>
          <a:xfrm>
            <a:off x="4859280" y="2205000"/>
            <a:ext cx="3313080" cy="79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ccc0d9"/>
              </a:gs>
            </a:gsLst>
            <a:lin ang="5400000"/>
          </a:gradFill>
          <a:ln w="12600">
            <a:solidFill>
              <a:srgbClr val="b2a1c7"/>
            </a:solidFill>
            <a:miter/>
          </a:ln>
          <a:effectLst>
            <a:outerShdw dist="17819" dir="2700000" blurRad="0" rotWithShape="0">
              <a:srgbClr val="3f315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1.б. Анализ норм, содержащихся в различных актах международного мягкого пра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AutoShape 8"/>
          <p:cNvSpPr/>
          <p:nvPr/>
        </p:nvSpPr>
        <p:spPr>
          <a:xfrm>
            <a:off x="468360" y="3213000"/>
            <a:ext cx="813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633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2. Сравнение Стандарта защиты этой категории права по законодательству К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AutoShape 9"/>
          <p:cNvSpPr/>
          <p:nvPr/>
        </p:nvSpPr>
        <p:spPr>
          <a:xfrm>
            <a:off x="684360" y="3860640"/>
            <a:ext cx="3166920" cy="36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ccc0d9"/>
              </a:gs>
            </a:gsLst>
            <a:lin ang="5400000"/>
          </a:gradFill>
          <a:ln w="12600">
            <a:solidFill>
              <a:srgbClr val="b2a1c7"/>
            </a:solidFill>
            <a:miter/>
          </a:ln>
          <a:effectLst>
            <a:outerShdw dist="17819" dir="2700000" blurRad="0" rotWithShape="0">
              <a:srgbClr val="3f315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2.а. Анализ норм Конституции К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AutoShape 10"/>
          <p:cNvSpPr/>
          <p:nvPr/>
        </p:nvSpPr>
        <p:spPr>
          <a:xfrm>
            <a:off x="5076720" y="3860640"/>
            <a:ext cx="3240360" cy="36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ccc0d9"/>
              </a:gs>
            </a:gsLst>
            <a:lin ang="5400000"/>
          </a:gradFill>
          <a:ln w="12600">
            <a:solidFill>
              <a:srgbClr val="b2a1c7"/>
            </a:solidFill>
            <a:miter/>
          </a:ln>
          <a:effectLst>
            <a:outerShdw dist="17819" dir="2700000" blurRad="0" rotWithShape="0">
              <a:srgbClr val="3f315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2.б. Анализ норм иных НП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AutoShape 11"/>
          <p:cNvSpPr/>
          <p:nvPr/>
        </p:nvSpPr>
        <p:spPr>
          <a:xfrm>
            <a:off x="539640" y="4508640"/>
            <a:ext cx="8136000" cy="515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633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Сравнение Стандарта защиты прав человека по международному праву со стандартами этой защиты по законодательству К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AutoShape 12"/>
          <p:cNvSpPr/>
          <p:nvPr/>
        </p:nvSpPr>
        <p:spPr>
          <a:xfrm>
            <a:off x="468360" y="5877000"/>
            <a:ext cx="8136000" cy="504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633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Сравнение Стандарта защиты прав человека  по МП со стандартами этой защиты, определенными в законодательстве  К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Стрелка вниз 13"/>
          <p:cNvSpPr/>
          <p:nvPr/>
        </p:nvSpPr>
        <p:spPr>
          <a:xfrm flipH="1">
            <a:off x="2195640" y="2060640"/>
            <a:ext cx="46080" cy="144360"/>
          </a:xfrm>
          <a:prstGeom prst="downArrow">
            <a:avLst>
              <a:gd name="adj1" fmla="val 50000"/>
              <a:gd name="adj2" fmla="val 49922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Стрелка вниз 14"/>
          <p:cNvSpPr/>
          <p:nvPr/>
        </p:nvSpPr>
        <p:spPr>
          <a:xfrm flipH="1">
            <a:off x="6588000" y="2060640"/>
            <a:ext cx="46080" cy="144360"/>
          </a:xfrm>
          <a:prstGeom prst="downArrow">
            <a:avLst>
              <a:gd name="adj1" fmla="val 50000"/>
              <a:gd name="adj2" fmla="val 49922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Стрелка вниз 15"/>
          <p:cNvSpPr/>
          <p:nvPr/>
        </p:nvSpPr>
        <p:spPr>
          <a:xfrm>
            <a:off x="2195640" y="3645000"/>
            <a:ext cx="46080" cy="215640"/>
          </a:xfrm>
          <a:prstGeom prst="downArrow">
            <a:avLst>
              <a:gd name="adj1" fmla="val 50000"/>
              <a:gd name="adj2" fmla="val 49895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Стрелка вниз 16"/>
          <p:cNvSpPr/>
          <p:nvPr/>
        </p:nvSpPr>
        <p:spPr>
          <a:xfrm>
            <a:off x="6588000" y="3645000"/>
            <a:ext cx="46080" cy="144360"/>
          </a:xfrm>
          <a:prstGeom prst="downArrow">
            <a:avLst>
              <a:gd name="adj1" fmla="val 50000"/>
              <a:gd name="adj2" fmla="val 49922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6" name="Прямая со стрелкой 18"/>
          <p:cNvCxnSpPr/>
          <p:nvPr/>
        </p:nvCxnSpPr>
        <p:spPr>
          <a:xfrm flipH="1">
            <a:off x="4066920" y="1988640"/>
            <a:ext cx="2160" cy="2520"/>
          </a:xfrm>
          <a:prstGeom prst="straightConnector1">
            <a:avLst/>
          </a:prstGeom>
          <a:ln w="10080">
            <a:solidFill>
              <a:srgbClr val="94b6d2"/>
            </a:solidFill>
            <a:miter/>
            <a:tailEnd len="med" type="arrow" w="med"/>
          </a:ln>
        </p:spPr>
      </p:cxnSp>
      <p:sp>
        <p:nvSpPr>
          <p:cNvPr id="427" name="AutoShape 9"/>
          <p:cNvSpPr/>
          <p:nvPr/>
        </p:nvSpPr>
        <p:spPr>
          <a:xfrm>
            <a:off x="684360" y="5229360"/>
            <a:ext cx="3311280" cy="431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ccc0d9"/>
              </a:gs>
            </a:gsLst>
            <a:lin ang="5400000"/>
          </a:gradFill>
          <a:ln w="12600">
            <a:solidFill>
              <a:srgbClr val="b2a1c7"/>
            </a:solidFill>
            <a:miter/>
          </a:ln>
          <a:effectLst>
            <a:outerShdw dist="17819" dir="2700000" blurRad="0" rotWithShape="0">
              <a:srgbClr val="3f315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1.а. Анализ норм в общепринятых принципах и нормах МП, вступивших в сил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AutoShape 9"/>
          <p:cNvSpPr/>
          <p:nvPr/>
        </p:nvSpPr>
        <p:spPr>
          <a:xfrm>
            <a:off x="5148360" y="5229360"/>
            <a:ext cx="3168720" cy="431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ccc0d9"/>
              </a:gs>
            </a:gsLst>
            <a:lin ang="5400000"/>
          </a:gradFill>
          <a:ln w="12600">
            <a:solidFill>
              <a:srgbClr val="b2a1c7"/>
            </a:solidFill>
            <a:miter/>
          </a:ln>
          <a:effectLst>
            <a:outerShdw dist="17819" dir="2700000" blurRad="0" rotWithShape="0">
              <a:srgbClr val="3f315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2.б. Анализ норм в различных актах международного мягкого пра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Стрелка вниз 98"/>
          <p:cNvSpPr/>
          <p:nvPr/>
        </p:nvSpPr>
        <p:spPr>
          <a:xfrm>
            <a:off x="4500720" y="3716280"/>
            <a:ext cx="44280" cy="720720"/>
          </a:xfrm>
          <a:prstGeom prst="downArrow">
            <a:avLst>
              <a:gd name="adj1" fmla="val 50000"/>
              <a:gd name="adj2" fmla="val 50186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Стрелка вниз 99"/>
          <p:cNvSpPr/>
          <p:nvPr/>
        </p:nvSpPr>
        <p:spPr>
          <a:xfrm>
            <a:off x="4500720" y="2133720"/>
            <a:ext cx="44280" cy="934920"/>
          </a:xfrm>
          <a:prstGeom prst="downArrow">
            <a:avLst>
              <a:gd name="adj1" fmla="val 50000"/>
              <a:gd name="adj2" fmla="val 50145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Стрелка вниз 100"/>
          <p:cNvSpPr/>
          <p:nvPr/>
        </p:nvSpPr>
        <p:spPr>
          <a:xfrm>
            <a:off x="4500720" y="5084640"/>
            <a:ext cx="71280" cy="720720"/>
          </a:xfrm>
          <a:prstGeom prst="downArrow">
            <a:avLst>
              <a:gd name="adj1" fmla="val 50000"/>
              <a:gd name="adj2" fmla="val 50087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Выноска со стрелкой вниз 101"/>
          <p:cNvSpPr/>
          <p:nvPr/>
        </p:nvSpPr>
        <p:spPr>
          <a:xfrm>
            <a:off x="4140360" y="6400800"/>
            <a:ext cx="647640" cy="457200"/>
          </a:xfrm>
          <a:prstGeom prst="downArrowCallout">
            <a:avLst>
              <a:gd name="adj1" fmla="val 25001"/>
              <a:gd name="adj2" fmla="val 24999"/>
              <a:gd name="adj3" fmla="val 25000"/>
              <a:gd name="adj4" fmla="val 64977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Місце для нижнього колонтитула 1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11280" y="333360"/>
            <a:ext cx="822312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558bb8"/>
                </a:solidFill>
                <a:latin typeface="Times New Roman"/>
                <a:ea typeface="Times New Roman"/>
              </a:rPr>
              <a:t>Этап 3. Оценка положений проекта на соответствие действующему стандарту зашиты прав человека</a:t>
            </a:r>
            <a:br>
              <a:rPr sz="2400"/>
            </a:br>
            <a:endParaRPr b="0" lang="en-US" sz="2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435" name="AutoShape 2"/>
          <p:cNvSpPr/>
          <p:nvPr/>
        </p:nvSpPr>
        <p:spPr>
          <a:xfrm>
            <a:off x="250920" y="1628640"/>
            <a:ext cx="8497800" cy="765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633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1. Оценка соответствия концепции, основной идеи и цели проекта концепции, основной идее и целям, находящимся в основе соответствующего стандарта защиты прав челове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AutoShape 3"/>
          <p:cNvSpPr/>
          <p:nvPr/>
        </p:nvSpPr>
        <p:spPr>
          <a:xfrm>
            <a:off x="611280" y="2637000"/>
            <a:ext cx="792144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633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2. Оценка соответствия проекта Стандарту КР по защите затрагиваемых проектом прав человек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AutoShape 4"/>
          <p:cNvSpPr/>
          <p:nvPr/>
        </p:nvSpPr>
        <p:spPr>
          <a:xfrm>
            <a:off x="826920" y="3500280"/>
            <a:ext cx="749016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633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3.Оценка соответствия делегированных проектом полномочий и компетенции существующих государственных институт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AutoShape 5"/>
          <p:cNvSpPr/>
          <p:nvPr/>
        </p:nvSpPr>
        <p:spPr>
          <a:xfrm>
            <a:off x="1042920" y="4365720"/>
            <a:ext cx="7058160" cy="657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633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4.Оценка эффективности процедуры реализации и защиты соответствующего права человека проектом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AutoShape 6"/>
          <p:cNvSpPr/>
          <p:nvPr/>
        </p:nvSpPr>
        <p:spPr>
          <a:xfrm>
            <a:off x="1258920" y="5229360"/>
            <a:ext cx="6626160" cy="706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633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5.Оценка допустимости, предусмотренных проектом ограничений прав челове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Стрелка вниз 9"/>
          <p:cNvSpPr/>
          <p:nvPr/>
        </p:nvSpPr>
        <p:spPr>
          <a:xfrm>
            <a:off x="4572000" y="2421000"/>
            <a:ext cx="46080" cy="216000"/>
          </a:xfrm>
          <a:prstGeom prst="downArrow">
            <a:avLst>
              <a:gd name="adj1" fmla="val 50000"/>
              <a:gd name="adj2" fmla="val 49978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Стрелка вниз 10"/>
          <p:cNvSpPr/>
          <p:nvPr/>
        </p:nvSpPr>
        <p:spPr>
          <a:xfrm>
            <a:off x="4572000" y="3357720"/>
            <a:ext cx="46080" cy="142560"/>
          </a:xfrm>
          <a:prstGeom prst="downArrow">
            <a:avLst>
              <a:gd name="adj1" fmla="val 50000"/>
              <a:gd name="adj2" fmla="val 49844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Стрелка вниз 11"/>
          <p:cNvSpPr/>
          <p:nvPr/>
        </p:nvSpPr>
        <p:spPr>
          <a:xfrm>
            <a:off x="4572000" y="4149720"/>
            <a:ext cx="46080" cy="216000"/>
          </a:xfrm>
          <a:prstGeom prst="downArrow">
            <a:avLst>
              <a:gd name="adj1" fmla="val 50000"/>
              <a:gd name="adj2" fmla="val 49978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Стрелка вниз 12"/>
          <p:cNvSpPr/>
          <p:nvPr/>
        </p:nvSpPr>
        <p:spPr>
          <a:xfrm>
            <a:off x="4572000" y="5013360"/>
            <a:ext cx="46080" cy="216000"/>
          </a:xfrm>
          <a:prstGeom prst="downArrow">
            <a:avLst>
              <a:gd name="adj1" fmla="val 50000"/>
              <a:gd name="adj2" fmla="val 49978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Выноска со стрелкой вниз 14"/>
          <p:cNvSpPr/>
          <p:nvPr/>
        </p:nvSpPr>
        <p:spPr>
          <a:xfrm>
            <a:off x="4356000" y="5950080"/>
            <a:ext cx="576360" cy="503280"/>
          </a:xfrm>
          <a:prstGeom prst="downArrowCallout">
            <a:avLst>
              <a:gd name="adj1" fmla="val 50012"/>
              <a:gd name="adj2" fmla="val 25004"/>
              <a:gd name="adj3" fmla="val 25000"/>
              <a:gd name="adj4" fmla="val 64977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Місце для нижнього колонтитула 2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558bb8"/>
                </a:solidFill>
                <a:latin typeface="Calibri"/>
              </a:rPr>
              <a:t>Что такое права и свободы?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это принцип, нормы взаимоотношений между людьми и государством, обеспечивающие индивиду возможность действовать по своему усмотрению (обычно это называется «свободами») или получать определенные блага (т.е. – это «права»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по существу это нормативно сформулированные условия и способы жизнедеятельности людей, которые объективно необходимы для обеспечения нормального функционирования индивида, общества, государства (юридическое определение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Місце для нижнього колонтитула 2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6" name="Group 1"/>
          <p:cNvGrpSpPr/>
          <p:nvPr/>
        </p:nvGrpSpPr>
        <p:grpSpPr>
          <a:xfrm>
            <a:off x="1979280" y="1412640"/>
            <a:ext cx="5683320" cy="1069920"/>
            <a:chOff x="1979280" y="1412640"/>
            <a:chExt cx="5683320" cy="1069920"/>
          </a:xfrm>
        </p:grpSpPr>
        <p:cxnSp>
          <p:nvCxnSpPr>
            <p:cNvPr id="447" name="AutoShape 5"/>
            <p:cNvCxnSpPr/>
            <p:nvPr/>
          </p:nvCxnSpPr>
          <p:spPr>
            <a:xfrm flipH="1">
              <a:off x="1979280" y="1413000"/>
              <a:ext cx="1879920" cy="1040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48" name="AutoShape 6"/>
            <p:cNvCxnSpPr/>
            <p:nvPr/>
          </p:nvCxnSpPr>
          <p:spPr>
            <a:xfrm>
              <a:off x="4672080" y="1442520"/>
              <a:ext cx="11520" cy="1040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49" name="AutoShape 7"/>
            <p:cNvCxnSpPr/>
            <p:nvPr/>
          </p:nvCxnSpPr>
          <p:spPr>
            <a:xfrm>
              <a:off x="5897160" y="1412640"/>
              <a:ext cx="1765800" cy="921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58bb8"/>
                </a:solidFill>
                <a:latin typeface="Calibri"/>
              </a:rPr>
              <a:t>Этап 4. Выводы и рекомендации</a:t>
            </a:r>
            <a:endParaRPr b="0" lang="en-US" sz="4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451" name="Скругленный прямоугольник 11"/>
          <p:cNvSpPr/>
          <p:nvPr/>
        </p:nvSpPr>
        <p:spPr>
          <a:xfrm>
            <a:off x="324000" y="2637000"/>
            <a:ext cx="2592360" cy="3887640"/>
          </a:xfrm>
          <a:custGeom>
            <a:avLst/>
            <a:gdLst>
              <a:gd name="textAreaLeft" fmla="*/ 126360 w 2592360"/>
              <a:gd name="textAreaRight" fmla="*/ 2466000 w 2592360"/>
              <a:gd name="textAreaTop" fmla="*/ 126360 h 3887640"/>
              <a:gd name="textAreaBottom" fmla="*/ 3761280 h 3887640"/>
            </a:gdLst>
            <a:ahLst/>
            <a:rect l="textAreaLeft" t="textAreaTop" r="textAreaRight" b="textAreaBottom"/>
            <a:pathLst>
              <a:path w="21600" h="32391">
                <a:moveTo>
                  <a:pt x="3600" y="0"/>
                </a:moveTo>
                <a:arcTo wR="3600" hR="3600" stAng="16200000" swAng="-5400000"/>
                <a:lnTo>
                  <a:pt x="0" y="28791"/>
                </a:lnTo>
                <a:arcTo wR="3600" hR="3600" stAng="10800000" swAng="-5400000"/>
                <a:lnTo>
                  <a:pt x="18000" y="323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ариант 1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оект закона соответствует стандарту защиты рассматриваемой группы прав человека в полной мер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Скругленный прямоугольник 12"/>
          <p:cNvSpPr/>
          <p:nvPr/>
        </p:nvSpPr>
        <p:spPr>
          <a:xfrm>
            <a:off x="3132000" y="2565360"/>
            <a:ext cx="2735280" cy="3959280"/>
          </a:xfrm>
          <a:custGeom>
            <a:avLst/>
            <a:gdLst>
              <a:gd name="textAreaLeft" fmla="*/ 133200 w 2735280"/>
              <a:gd name="textAreaRight" fmla="*/ 2602080 w 2735280"/>
              <a:gd name="textAreaTop" fmla="*/ 133200 h 3959280"/>
              <a:gd name="textAreaBottom" fmla="*/ 3826080 h 3959280"/>
            </a:gdLst>
            <a:ahLst/>
            <a:rect l="textAreaLeft" t="textAreaTop" r="textAreaRight" b="textAreaBottom"/>
            <a:pathLst>
              <a:path w="21600" h="31264">
                <a:moveTo>
                  <a:pt x="3600" y="0"/>
                </a:moveTo>
                <a:arcTo wR="3600" hR="3600" stAng="16200000" swAng="-5400000"/>
                <a:lnTo>
                  <a:pt x="0" y="27664"/>
                </a:lnTo>
                <a:arcTo wR="3600" hR="3600" stAng="10800000" swAng="-5400000"/>
                <a:lnTo>
                  <a:pt x="18000" y="31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ариант 2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оект закона соответствует стандарту защиты рассматриваемой группы прав человека не в полной мере, требует доработ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(Экспертные  рекомендации по усовершенствованию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Скругленный прямоугольник 13"/>
          <p:cNvSpPr/>
          <p:nvPr/>
        </p:nvSpPr>
        <p:spPr>
          <a:xfrm>
            <a:off x="6156360" y="2565360"/>
            <a:ext cx="2736720" cy="3888000"/>
          </a:xfrm>
          <a:custGeom>
            <a:avLst/>
            <a:gdLst>
              <a:gd name="textAreaLeft" fmla="*/ 133560 w 2736720"/>
              <a:gd name="textAreaRight" fmla="*/ 2603160 w 2736720"/>
              <a:gd name="textAreaTop" fmla="*/ 133560 h 3888000"/>
              <a:gd name="textAreaBottom" fmla="*/ 3754440 h 3888000"/>
            </a:gdLst>
            <a:ahLst/>
            <a:rect l="textAreaLeft" t="textAreaTop" r="textAreaRight" b="textAreaBottom"/>
            <a:pathLst>
              <a:path w="21600" h="30685">
                <a:moveTo>
                  <a:pt x="3600" y="0"/>
                </a:moveTo>
                <a:arcTo wR="3600" hR="3600" stAng="16200000" swAng="-5400000"/>
                <a:lnTo>
                  <a:pt x="0" y="27085"/>
                </a:lnTo>
                <a:arcTo wR="3600" hR="3600" stAng="10800000" swAng="-5400000"/>
                <a:lnTo>
                  <a:pt x="18000" y="306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ариант 2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оект закона соответствует стандарту защиты рассматриваемой группы прав человека не в полной мере, требует доработ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(Экспертные  рекомендации по усовершенствованию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Місце для нижнього колонтитула 1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Спасибо за внимание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Місце для нижнього колонтитула 1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58bb8"/>
                </a:solidFill>
                <a:latin typeface="Calibri"/>
              </a:rPr>
              <a:t>Различие между «правом»и «свободой»</a:t>
            </a:r>
            <a:endParaRPr b="0" lang="en-US" sz="32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609120" y="1589040"/>
            <a:ext cx="3886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вободы человека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это область деятельности человека, в которые государство не должно вмешиватьс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очерчивается с помощью правовых норм границы, в рамках которых человек действует по своему выбору  и усмотрению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государство должно воздержаться от интервенции в свободы человека и обязано обеспечить защиту границ этих свобод от вмешательства других ли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4844520" y="1589040"/>
            <a:ext cx="3886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рава челове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установленные и гарантируемые государством правомочия и потенции действий человека в конкретной сфер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не предлагается возможности выбора, варианте действия внутри данного права, им можно либо воспользоваться и реализовать его, либо не реализовыват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государство обязуется обеспечить и защитить правомерные действия человека в указанной законом област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Місце для нижнього колонтитула 1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558bb8"/>
                </a:solidFill>
                <a:latin typeface="Calibri"/>
              </a:rPr>
              <a:t>ПРАВА И СВОБОДЫ ЧЕЛОВЕКА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УНИВЕРСАЛЬНЫ- принадлежат </a:t>
            </a:r>
            <a:r>
              <a:rPr b="0" i="1" lang="ru-RU" sz="2900" spc="-1" strike="noStrike">
                <a:solidFill>
                  <a:srgbClr val="000000"/>
                </a:solidFill>
                <a:latin typeface="Calibri"/>
              </a:rPr>
              <a:t>всем </a:t>
            </a: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людям во всех ситуациях;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ЕСТЕСТВЕННЫ- принадлежат людям </a:t>
            </a:r>
            <a:r>
              <a:rPr b="0" i="1" lang="ru-RU" sz="2900" spc="-1" strike="noStrike">
                <a:solidFill>
                  <a:srgbClr val="000000"/>
                </a:solidFill>
                <a:latin typeface="Calibri"/>
              </a:rPr>
              <a:t>от рождения </a:t>
            </a: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только потому, что они люди;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НЕОТЧУЖДАЕМЫ- нельзя произвольно лишить этих прав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ава человека могут быть ограничены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только законом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 только в той мере, в какой это необходимо для обеспечения безопасности общества, защиты нравственности, здоровья, прав  других люде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Місце для нижнього колонтитула 2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558bb8"/>
                </a:solidFill>
                <a:latin typeface="Calibri"/>
              </a:rPr>
              <a:t>Права человека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250920" y="148392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омплекс морально-правовых норм, призванных защищать человеческое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достоинство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свободу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личности от произвола со стороны властных институтов и их представителей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станавливают сферу свободы и самоопределения личности, ее автономию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порядочивают и координируют общественные связи и отношения на основе международно-признанных норм и стандартов в области прав и свобод человека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черчивают границы деятельности государства, предотвращая неоправданное вторжение государства в сферу личной свободы человека ставя преграды всевластию и произволу государственных структур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пределяют параметры взаимоотношений человека и государства, ответственность последнего за свою деятельность перед личностью и обществом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беспечивают раскрытие творческого потенциала каждой личности, стабильность, устойчивое развитие общества, его нормальную жизнедеятельность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Місце для нижнього колонтитула 1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533520" y="272520"/>
            <a:ext cx="8153280" cy="87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58bb8"/>
                </a:solidFill>
                <a:latin typeface="Calibri"/>
              </a:rPr>
              <a:t>СТАНДАРТЫ ЗАЩИТЫ ПРАВ ЧЕЛОВЕКА</a:t>
            </a:r>
            <a:endParaRPr b="0" lang="en-US" sz="36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609120" y="2437920"/>
            <a:ext cx="388620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ыработанный мировым сообществом нормативный минимум, на который должны ориентироваться государства при признании и обеспечении провозглашаемых прав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еждународно-правовые обязательства, реализующие принцип уважения прав человека и развивающие его в конкретных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нормах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, а также сформировавшееся на основе решений международных органов по правам человека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прецедентное право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4800240" y="2437920"/>
            <a:ext cx="388620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авовые нормы по защите прав человека, содержащиеся в общепризнанных принципах и нормах международного права, международных договорах, действующих в данном государстве, и его законодательстве (Конституции и иных нормативных правовых актах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3886200" cy="639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Международные стандарт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800240" y="1752120"/>
            <a:ext cx="3886200" cy="639720"/>
          </a:xfrm>
          <a:prstGeom prst="rect">
            <a:avLst/>
          </a:prstGeom>
          <a:solidFill>
            <a:srgbClr val="d8b25c"/>
          </a:solidFill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Национальные стандарт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Місце для нижнього колонтитула 3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558bb8"/>
                </a:solidFill>
                <a:latin typeface="Calibri"/>
              </a:rPr>
              <a:t>Для чего необходимы стандарты</a:t>
            </a:r>
            <a:r>
              <a:rPr b="0" lang="ru-RU" sz="4400" spc="-1" strike="noStrike">
                <a:solidFill>
                  <a:srgbClr val="558bb8"/>
                </a:solidFill>
                <a:latin typeface="Calibri"/>
              </a:rPr>
              <a:t>?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Устанавливают перечень прав и свобод человека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Определяют их содержание и допустимые ограничения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Устанавливают механизм их защиты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Місце для нижнього колонтитула 1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558bb8"/>
                </a:solidFill>
                <a:latin typeface="Calibri"/>
              </a:rPr>
              <a:t>Основополагающие принципы обеспечения защиты прав человека</a:t>
            </a:r>
            <a:endParaRPr b="0" lang="en-US" sz="4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права человека принадлежат ему от рождения, они являются неотъемлемыми и неотчуждаемыми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права человека универсальны, основаны на принципе равенства, в том числе равенства прав мужчин и женщин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права человека гарантированы каждому, кто находится под юрисдикцией Кыргызской Республики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права человека – высшая ценность, а их уважение, соблюдение и защита – обязанность государства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обеспечение прав и свобод несовместимо с дискриминацией по какому-либо признаку, за исключением позитивной дискриминации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Місце для нижнього колонтитула 3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 txBox="1"/>
          <p:nvPr/>
        </p:nvSpPr>
        <p:spPr>
          <a:xfrm>
            <a:off x="457200" y="1700280"/>
            <a:ext cx="8229600" cy="44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се люди равны в своем достоинстве и правах и должны поступать в отношении друг друга в духе братства, при этом ограничение прав и свобод одних людей допустимо при должном признании и уважении прав и свобод других людей, необходимых в демократическом обществе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Основные права и свободы должны быть едины на всей территории Кыргызской Республики, их регулирование – предмет ведения органов государственной власти, а обеспечение и защита – предмет совместного ведения органов государственной власти и органов местного самоуправления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Гражданские, политические, экономические, социальные и культурные права и свободы равноценны по своей значимости, едины (неразделимы) и взаимосвязаны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Прямоугольник 4"/>
          <p:cNvSpPr/>
          <p:nvPr/>
        </p:nvSpPr>
        <p:spPr>
          <a:xfrm>
            <a:off x="395280" y="333360"/>
            <a:ext cx="8137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58bb8"/>
                </a:solidFill>
                <a:latin typeface="Calibri"/>
              </a:rPr>
              <a:t>Основополагающие принципы обеспечен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58bb8"/>
                </a:solidFill>
                <a:latin typeface="Calibri"/>
              </a:rPr>
              <a:t>защиты прав человека (продолжение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Місце для нижнього колонтитула 1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29T09:32:15Z</dcterms:created>
  <dc:creator>kachikeevs</dc:creator>
  <dc:description/>
  <dc:language>en-US</dc:language>
  <cp:lastModifiedBy>LEGION</cp:lastModifiedBy>
  <dcterms:modified xsi:type="dcterms:W3CDTF">2015-01-28T13:36:27Z</dcterms:modified>
  <cp:revision>49</cp:revision>
  <dc:subject/>
  <dc:title>ПРАВА И СВОБОДЫ ЧЕЛОВЕКА – ОСНОВА ПРОВЕДЕНИЯ ПРАВОЗАЩИТНАЯ ЭКСПЕРТИЗА</dc:title>
</cp:coreProperties>
</file>