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CDF4-8362-4D68-BD0E-27AF67624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ая экспертиз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СЕМИНАР</a:t>
            </a: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для Общественных Наблюдательных Со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Бакыт Качик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Бишкек,  201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C06F-F7C0-43BD-94DE-B613C86C5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Общепризнанные принципы международного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агающие императивные нормы международного права, принимаемые и признаваемые международным сообществом государств в целом, отклонение от которых 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цип всеобщего уважения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цип добросовестного выполнения международн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685B-D784-4A8C-9992-4F60CBCB7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Общепризнанная норма международ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поведения, принимаемое и признаваемое международным сообществом государств в целом качестве юридически обязатель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ся в документах ООН и ее специализирован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меру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 жиз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Каждый человек имеет право на жизнь, на свободу и личную неприкосновенность» (ст.3 ВДПЧ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3575-9773-4757-90BA-9716AF39F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Международны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ное и добровольное соглашение Кыргызской Республики с одним или несколькими государствами, международными организациями или с другими субъектами международного права относительно прав и обязанностей в области международных отношений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.1 ст. 2 Закона КР «О международных договорах КР»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F415-AA70-4F14-BBA9-85F66C362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</a:rPr>
              <a:t>Правозащитная экспертиза</a:t>
            </a:r>
            <a:r>
              <a:rPr b="0" lang="ru-RU" sz="16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еятельность экспертов по проведению анализа и оценки проектов законов, регламентирующие отношения во всех сферах жизнедеятельности человека, на соответствие стандартам защиты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ее основе лежат ПРАВА И СВОБОДЫ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272A-6D25-48C7-9E85-A91C03A40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Цели правозащитной 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ответствия исследуемого проекта закона стандартам защиты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того, как работают принятые стандарты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предупреждение вероятности нарушения прав человека при применении проекта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689C-51EC-42D6-9CCB-E55F53D21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</a:rPr>
              <a:t>Задачи правозащитной эксперти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правовых механизмов реализации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ение законодательных пробелов, противоречий, препятствующих установлению и действию единых нормативных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го механизма контроля за соблюдением правозащи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CF1F-931D-4592-AC32-3B9ED9413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Этапы правозащитной  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ление круга прав, затрагиваемых проектом закона из перечня прав и свобод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нализ законодательства в охватываемом экспертизой круге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ценка положений проекта закона с соответствующим стандартом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4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2DB9-F41C-40CC-BDAE-7BAA5712D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76092"/>
                </a:solidFill>
                <a:latin typeface="Calibri"/>
              </a:rPr>
              <a:t>Этап 1. </a:t>
            </a: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Установление круга прав, затрагиваемых проектом закона, из перечня прав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на основе всего перечня прав и свобод человека, предусмотренных и международными нормами и законами  К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рав и свобод человека, предусмотренных международными нормами, может быть расширен законами КР, но не сокращен (Контрольный перечен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792B-D4B5-4BD3-92FD-B1A7FAE61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Этап 2. Анализ в охватываемом экспертизой  круге пра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162A-457F-4624-8E11-9D1857131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Этап 3. Оценка положений проекта на соответствие действующему стандарту зашиты прав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4B56-ACDE-4B41-B8B0-025177352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Что такое права и своб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инцип, нормы взаимоотношений между людьми и государством, обеспечивающие индивиду возможность действовать по своему усмотрению (обычно это называется «свободами») или получать определенные блага (т.е. – это «права»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существу это нормативно сформулированные условия и способы жизнедеятельности людей, которые объективно необходимы для обеспечения нормального функционирования индивида, общества, государства (юридическое опреде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6E08-480B-4FF6-8305-9A85A008C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Этап 4. Выводы и рекомен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3AC0-F940-42D1-AAAD-88F158831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4155-F08C-40C6-AC87-385D4D2F3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Различие между «правом»и «свободо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ободы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деятельности человека, в которые государство не должно вмеши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черчивается с помощью правовых норм границы, в рамках которых человек действует по своему выбору  и усмотр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должно воздержаться от интервенции в свободы человека и обязано обеспечить защиту границ этих свобод от вмешательства друг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е и гарантируемые государством правомочия и потенции действий человека в конкретн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 предлагается возможности выбора, варианте действия внутри данного права, им можно либо воспользоваться и реализовать его, либо не реализов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обязуется обеспечить и защитить правомерные действия человека в указанной законом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8C76-498F-40F2-B47B-9715FB8E7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ПРАВА И СВОБОДЫ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- принадлежа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во все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- принадлежат людя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рож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тому, что они лю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ЧУЖДАЕМЫ- нельзя произвольно лишить эт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ава человека могут быть ограничены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только законом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только в той мере, в какой это необходимо для обеспечения безопасности общества, защиты нравственности, здоровья, прав  других людей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572E-0CED-4372-9A5C-6FF667B45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 морально-правовых норм, призванных защищать человеческ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оин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об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чности от произвола со стороны властных институтов и 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сферу свободы и самоопределения личности, ее автоном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ивают и координируют общественные связи и отношения на основе международно-признанных норм и стандартов в области прав и свобод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рчивают границы деятельности государства, предотвращая неоправданное вторжение государства в сферу личной свободы человека ставя преграды всевластию и произволу государственных структу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 параметры взаимоотношений человека и государства, ответственность последнего за свою деятельность перед личностью и об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ют раскрытие творческого потенциала каждой личности, стабильность, устойчивое развитие общества, его нормальную жизне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7F7F-45BA-43BF-8209-1327C77A5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СТАНДАРТЫ ЗАЩИТЫ ПРАВ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нный мировым сообществом нормативный минимум, на который должны ориентироваться государства при признании и обеспечении провозглашаемых пра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-правовые обязательства, реализующие принцип уважения прав человека и развивающие его в конкрет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сформировавшееся на основе решений международных органов по правам челове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цедент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авовые нормы по защите прав человека, содержащиеся в общепризнанных принципах и нормах международного права, международных договорах, действующих в данном государстве, и его законодательстве (Конституции и иных нормативных правовых актах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0F23-75AD-4A36-861D-B05E35C0E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Для чего необходимы стандарты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перечень прав и свобод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 их содержание и допустим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механизм их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5C88-5700-489C-82C9-D73AECD4D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Основополагающие принципы обеспечения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принадлежат ему от рождения, они являются неотъемлемыми и неотчуждаем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универсальны, основаны на принципе равенства, в том числе равенства прав мужчин и женщ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гарантированы каждому, кто находится под юрисдикцией Кыргызской Республ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– высшая ценность, а их уважение, соблюдение и защита – обязанность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свобод несовместимо с дискриминацией по какому-либо признаку, за исключением позитивной дискрим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F050-C859-4FA4-BAF4-A56AF161F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юди равны в своем достоинстве и правах и должны поступать в отношении друг друга в духе братства, при этом ограничение прав и свобод одних людей допустимо при должном признании и уважении прав и свобод других людей, необходимых в демократическом обще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ава и свободы должны быть едины на всей территории Кыргызской Республики, их регулирование – предмет ведения органов государственной власти, а обеспечение и защита – предмет совместного ведения органов государственной власти и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, политические, экономические, социальные и культурные права и свободы равноценны по своей значимости, едины (неразделимы) и взаимосвяз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C796-3D0F-4AE9-A6F4-2A22E91F0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D79-6215-407C-ACE7-0336B937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553-B946-4D2D-AF1E-4E7D6245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74C1-A154-47D0-B531-5D076AC2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4AA-7DC7-4E0B-BF32-C4ACDED6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5616-61E4-48A8-AEB9-DFBCD17F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21A7-2A8D-4AB0-96ED-AC58A1F3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E228-E181-430A-A897-B4E4CC3B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0C76-7032-45FE-91CF-6BBC4C46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B752-7C18-4C3A-B031-8E292BB1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2084-23A9-425E-836F-490F23DD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6321-6F51-4392-8A28-FC393BCE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563-C002-4DF9-80A7-FD6796AF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E41A-6EC7-4AB5-9CCD-A7F36946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1C44-C4DA-4D82-8027-CC369A59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0DAD-A69D-48E6-BF25-C7F159D7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771E-5A77-4E0D-AB40-B1421727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E4E4-C788-41A8-9232-193B5BF4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399ED-B573-4F84-B0E9-63FF943E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B4FD9-91D5-416C-A13F-F094E126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BBB0F-BCE3-47C4-90F1-904BE0C8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C98C8-BFDF-4462-9DBC-E98A7741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66799-8224-475E-823D-32A9011B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C182-12E0-482B-B9DB-158E4995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5C319-2671-4173-847A-EF23969F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3BC81-423D-41E8-AE29-70C2AB8C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8CE35-33EE-486E-A829-8A4932A1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0DC51-2C83-427E-ACFB-B4234061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D2D66-8F5E-4B34-9B40-804D222E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A0C8A-0035-4217-B7BC-817FD352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2E042-54AB-4488-9FF4-9FC0837C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50BAA-F8A4-4620-AF35-6984F9E5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37973-74C1-4AB8-8C74-375C741D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72FD42-93D4-4945-80BA-E0857CE2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905-B0E6-456F-B4AD-72D2F805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D110F-3FE4-477F-9C93-B28AE6BB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80E4EC-D33A-43CB-87A7-383FAD00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5C433B-737D-4C84-ABDB-A93929DC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6CA01-AC5A-4C29-B65F-AFC9A832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77C50-76EC-4118-B7A4-4B384022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6504B-8929-40AB-B3EF-33428577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B9D45-F534-496A-9310-4D37802D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B10BB-6739-4ECA-95B8-A60B15F7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18A285-CA9A-4299-8062-6FABA5B9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E7631B-B5EA-47AD-9D08-25A54C3B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6F5-A3AA-4254-9B3D-4D3E36CE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66D34-38F8-4D7E-BBCA-7373845C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804DB-4CA1-4249-B6AC-665002EE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11D283-AA63-49CB-B76B-787A6843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4CA14-CAF2-4DD1-8295-9717FA7E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0125EA-3409-4596-9F65-A678A934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9E677B-C30A-4D68-8995-072BD56B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9AE56-560A-40CE-85BE-341EE082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6CB6C-817A-480C-B5D9-B68252F9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17B80-FC63-41AC-B11A-9133CDD5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A28C8-4F75-4559-BC30-170CDA3D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DB3-C0DD-44B1-9AEC-202880F7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93CA1-45CD-471F-B173-FDEB85E1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6ABBA-F1C8-4EC0-84CD-4677BAF7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16BEF-23BF-484E-90A4-AA3E2A49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F29C9-D3EA-4050-8D31-31D26666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4A863-7A99-4E3F-BD61-7F626853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4C93E-2E04-4910-870E-998DFBF8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09ADB-82EC-455C-A93D-371AF0BD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E10F9-DD26-4D2B-9A03-37104403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DE3D3-07F8-4F7C-9D7E-793E574E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F2EBD-3BEF-4326-9888-ADFA47CE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790-3170-4260-82F5-47D95F4B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C6DBA-50FB-4203-9DB0-5B6D645F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8FD56-5D2C-4D28-819C-A80951B0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7B3CA-4B45-41F2-9419-04D0B1F0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AF3108-B9E4-480C-A3D8-5C837809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9E49A4-DB5D-4C3E-BAD3-9D2D91CB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9395E-8B5B-4021-97A2-0836B071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D21781-E7D6-4622-8E57-ACD2A821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2B28D-2B62-44B4-89DC-CC5CAB8A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9E6A00-408A-441B-85E6-401D3E11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F19DE9-3A3F-4962-90A2-14653B2D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672-D4C4-4D67-98FD-14EE41C4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291D8-E866-43A1-B1D7-A092E9AD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B48FF-7787-4346-ADC8-12C2B4F0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B5CCE-9969-4FEA-B9E3-5853F818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F1B9E-6BF9-476A-9DC3-3A0EA2D4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04F031-FF64-4C41-A5CE-8714D3C0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69DAA-74FF-4A96-A23A-998A4982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B9BCD-A697-4117-B6C9-E5B15CF2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21D3D-1B30-4538-9E20-A30314D7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5CE6B-1900-40D5-85BB-DE134B6C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1DAEC-FA40-4627-B09A-DA7F1721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A6D-53CE-4EB5-82F0-299ADE56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47186-3809-48F6-998E-A70F8A53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62616-E29B-4FC3-9450-9CA01660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9DC84-52F0-45EB-8A15-CF7995B1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ACC7C-AF46-4380-A6E3-04F902D4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43646-E928-4A73-BA35-B729DBF1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02EE7-D0E5-4B55-B4DC-F629CEAA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54C5B-D4EF-4EAA-864D-B36461A1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B29C-4837-4927-9FFE-EF0AD35ED6CF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6C5D-5823-4CEB-A0AA-6B4ABC51AC6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5F40-4635-485A-9CC2-D47D982DC7B3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7EF1-20CA-4185-8E1A-3749087E795E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FCAB-A675-436B-A7E1-23FB9943C8A0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2AD4-852B-4336-B91D-2B7F160184EE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FFBC-80A8-454E-B2EA-809267C9F490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6F27-10D6-48D0-A1D5-484C6F1815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939D-542C-46C4-92F0-C957CC67B31E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3128-5AAC-4845-995F-77FB95C136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922E-3DEC-42D6-BF28-E9E3ED2F9591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824A-8DC6-4413-B740-CFEF93836C7C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686D-88C4-46BA-943E-93CC61311531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D84F-1C5F-428C-A8C7-090159E17DC6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4A05-C1B8-46D7-8B0D-43FBB79E1C75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12CA-1DD3-498B-A823-3BC01A17D56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2906640"/>
            <a:ext cx="71229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СЕМИНАР</a:t>
            </a: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для Общественных Наблюдательных Совет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Бакыт Качикее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         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Бишкек,  201</a:t>
            </a:r>
            <a:r>
              <a:rPr b="0" lang="en-US" sz="2600" spc="-1" strike="noStrike">
                <a:solidFill>
                  <a:srgbClr val="775f55"/>
                </a:solidFill>
                <a:latin typeface="Franklin Gothic Medium"/>
              </a:rPr>
              <a:t>1 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371240" y="1533240"/>
            <a:ext cx="762012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равозащитная экспертиза</a:t>
            </a:r>
            <a:br>
              <a:rPr sz="4800"/>
            </a:br>
            <a:endParaRPr b="0" lang="en-US" sz="4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Общепризнанные принципы международного права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новополагающие императивные нормы международного права, принимаемые и признаваемые международным сообществом государств в целом, отклонение от которых недопустимо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нцип всеобщего уважения прав челове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нцип добросовестного выполнения международных обязательст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Общепризнанная норма международного прав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вило поведения, принимаемое и признаваемое международным сообществом государств в целом качестве юридически обязательного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держаться в документах ООН и ее специализированных учрежден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 примеру,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право на жизн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«Каждый человек имеет право на жизнь, на свободу и личную неприкосновенность» (ст.3 ВДПЧ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Международный договор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вноправное и добровольное соглашение Кыргызской Республики с одним или несколькими государствами, международными организациями или с другими субъектами международного права относительно прав и обязанностей в области международных отношени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.1 ст. 2 Закона КР «О международных договорах КР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Правозащитная экспертиза</a:t>
            </a: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деятельность экспертов по проведению анализа и оценки проектов законов, регламентирующие отношения во всех сферах жизнедеятельности человека, на соответствие стандартам защиты прав челове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в ее основе лежат ПРАВА И СВОБОДЫ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Цели правозащитной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ценка соответствия исследуемого проекта закона стандартам защиты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верка того, как работают принятые стандарты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ннее предупреждение вероятности нарушения прав человека при применении проекта закон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Задачи правозащитной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работка правовых механизмов реализации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странение законодательных пробелов, противоречий, препятствующих установлению и действию единых нормативных стандартов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здание эффективного механизма контроля за соблюдением правозащитного законодательст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Этапы правозащитной 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1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Установление круга прав, затрагиваемых проектом закона из перечня прав и свобод челове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2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Анализ законодательства в охватываемом экспертизой круге пра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3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Оценка положений проекта закона с соответствующим стандартом защиты прав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4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bb8"/>
                </a:solidFill>
                <a:latin typeface="Calibri"/>
              </a:rPr>
              <a:t>Этап 1. </a:t>
            </a:r>
            <a:r>
              <a:rPr b="0" lang="ru-RU" sz="2800" spc="-1" strike="noStrike">
                <a:solidFill>
                  <a:srgbClr val="558bb8"/>
                </a:solidFill>
                <a:latin typeface="Calibri"/>
              </a:rPr>
              <a:t>Установление круга прав, затрагиваемых проектом закона, из перечня прав человека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ществляется на основе всего перечня прав и свобод человека, предусмотренных и международными нормами и законами  КР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чень прав и свобод человека, предусмотренных международными нормами, может быть расширен законами КР, но не сокращен (Контрольный перечень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Выноска со стрелкой вниз 3"/>
          <p:cNvSpPr/>
          <p:nvPr/>
        </p:nvSpPr>
        <p:spPr>
          <a:xfrm>
            <a:off x="4140360" y="6400800"/>
            <a:ext cx="647640" cy="45720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1536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bb8"/>
                </a:solidFill>
                <a:latin typeface="Calibri"/>
              </a:rPr>
              <a:t>Этап 2. Анализ в охватываемом экспертизой  круге прав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468360" y="1628640"/>
            <a:ext cx="8136000" cy="3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знакомление с концепцией, составляющей основу того или иного 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684360" y="2205000"/>
            <a:ext cx="31669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а. Анализ норм, содержащихся в общепризнанных принципах и нормах международного права и вступивших в силу  для КР международных догов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4859280" y="2205000"/>
            <a:ext cx="3313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б. Анализ норм, содержащихся в различных актах международного мяг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468360" y="3213000"/>
            <a:ext cx="813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Сравнение Стандарта защиты этой категории права по законодательству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684360" y="3860640"/>
            <a:ext cx="3166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а. Анализ норм Конституции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5076720" y="3860640"/>
            <a:ext cx="324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б. Анализ норм иных Н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>
            <a:off x="539640" y="4508640"/>
            <a:ext cx="813600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равнение Стандарта защиты прав человека по международному праву со стандартами этой защиты по законодательству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468360" y="5877000"/>
            <a:ext cx="8136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равнение Стандарта защиты прав человека  по МП со стандартами этой защиты, определенными в законодательстве 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трелка вниз 13"/>
          <p:cNvSpPr/>
          <p:nvPr/>
        </p:nvSpPr>
        <p:spPr>
          <a:xfrm flipH="1">
            <a:off x="2195640" y="2060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трелка вниз 14"/>
          <p:cNvSpPr/>
          <p:nvPr/>
        </p:nvSpPr>
        <p:spPr>
          <a:xfrm flipH="1">
            <a:off x="6588000" y="2060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трелка вниз 15"/>
          <p:cNvSpPr/>
          <p:nvPr/>
        </p:nvSpPr>
        <p:spPr>
          <a:xfrm>
            <a:off x="2195640" y="3645000"/>
            <a:ext cx="46080" cy="215640"/>
          </a:xfrm>
          <a:prstGeom prst="downArrow">
            <a:avLst>
              <a:gd name="adj1" fmla="val 50000"/>
              <a:gd name="adj2" fmla="val 4989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низ 16"/>
          <p:cNvSpPr/>
          <p:nvPr/>
        </p:nvSpPr>
        <p:spPr>
          <a:xfrm>
            <a:off x="6588000" y="364500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Прямая со стрелкой 18"/>
          <p:cNvCxnSpPr/>
          <p:nvPr/>
        </p:nvCxnSpPr>
        <p:spPr>
          <a:xfrm flipH="1">
            <a:off x="4066920" y="1988640"/>
            <a:ext cx="2160" cy="25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427" name="AutoShape 9"/>
          <p:cNvSpPr/>
          <p:nvPr/>
        </p:nvSpPr>
        <p:spPr>
          <a:xfrm>
            <a:off x="684360" y="5229360"/>
            <a:ext cx="33112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а. Анализ норм в общепринятых принципах и нормах МП, вступивших в си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9"/>
          <p:cNvSpPr/>
          <p:nvPr/>
        </p:nvSpPr>
        <p:spPr>
          <a:xfrm>
            <a:off x="5148360" y="5229360"/>
            <a:ext cx="316872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б. Анализ норм в различных актах международного мяг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трелка вниз 98"/>
          <p:cNvSpPr/>
          <p:nvPr/>
        </p:nvSpPr>
        <p:spPr>
          <a:xfrm>
            <a:off x="4500720" y="3716280"/>
            <a:ext cx="44280" cy="720720"/>
          </a:xfrm>
          <a:prstGeom prst="downArrow">
            <a:avLst>
              <a:gd name="adj1" fmla="val 50000"/>
              <a:gd name="adj2" fmla="val 5018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Стрелка вниз 99"/>
          <p:cNvSpPr/>
          <p:nvPr/>
        </p:nvSpPr>
        <p:spPr>
          <a:xfrm>
            <a:off x="4500720" y="2133720"/>
            <a:ext cx="44280" cy="93492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трелка вниз 100"/>
          <p:cNvSpPr/>
          <p:nvPr/>
        </p:nvSpPr>
        <p:spPr>
          <a:xfrm>
            <a:off x="4500720" y="5084640"/>
            <a:ext cx="71280" cy="72072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носка со стрелкой вниз 101"/>
          <p:cNvSpPr/>
          <p:nvPr/>
        </p:nvSpPr>
        <p:spPr>
          <a:xfrm>
            <a:off x="4140360" y="6400800"/>
            <a:ext cx="647640" cy="45720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31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558bb8"/>
                </a:solidFill>
                <a:latin typeface="Times New Roman"/>
                <a:ea typeface="Times New Roman"/>
              </a:rPr>
              <a:t>Этап 3. Оценка положений проекта на соответствие действующему стандарту зашиты прав человека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5" name="AutoShape 2"/>
          <p:cNvSpPr/>
          <p:nvPr/>
        </p:nvSpPr>
        <p:spPr>
          <a:xfrm>
            <a:off x="250920" y="1628640"/>
            <a:ext cx="8497800" cy="765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. Оценка соответствия концепции, основной идеи и цели проекта концепции, основной идее и целям, находящимся в основе соответствующего стандарта защиты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"/>
          <p:cNvSpPr/>
          <p:nvPr/>
        </p:nvSpPr>
        <p:spPr>
          <a:xfrm>
            <a:off x="611280" y="2637000"/>
            <a:ext cx="79214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. Оценка соответствия проекта Стандарту КР по защите затрагиваемых проектом прав 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"/>
          <p:cNvSpPr/>
          <p:nvPr/>
        </p:nvSpPr>
        <p:spPr>
          <a:xfrm>
            <a:off x="826920" y="3500280"/>
            <a:ext cx="74901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.Оценка соответствия делегированных проектом полномочий и компетенции существующих государственных институ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5"/>
          <p:cNvSpPr/>
          <p:nvPr/>
        </p:nvSpPr>
        <p:spPr>
          <a:xfrm>
            <a:off x="1042920" y="4365720"/>
            <a:ext cx="7058160" cy="65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.Оценка эффективности процедуры реализации и защиты соответствующего права человека проек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/>
          <p:cNvSpPr/>
          <p:nvPr/>
        </p:nvSpPr>
        <p:spPr>
          <a:xfrm>
            <a:off x="1258920" y="5229360"/>
            <a:ext cx="6626160" cy="70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.Оценка допустимости, предусмотренных проектом ограничений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трелка вниз 9"/>
          <p:cNvSpPr/>
          <p:nvPr/>
        </p:nvSpPr>
        <p:spPr>
          <a:xfrm>
            <a:off x="4572000" y="242100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трелка вниз 10"/>
          <p:cNvSpPr/>
          <p:nvPr/>
        </p:nvSpPr>
        <p:spPr>
          <a:xfrm>
            <a:off x="4572000" y="3357720"/>
            <a:ext cx="46080" cy="1425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трелка вниз 11"/>
          <p:cNvSpPr/>
          <p:nvPr/>
        </p:nvSpPr>
        <p:spPr>
          <a:xfrm>
            <a:off x="4572000" y="414972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трелка вниз 12"/>
          <p:cNvSpPr/>
          <p:nvPr/>
        </p:nvSpPr>
        <p:spPr>
          <a:xfrm>
            <a:off x="4572000" y="501336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Выноска со стрелкой вниз 14"/>
          <p:cNvSpPr/>
          <p:nvPr/>
        </p:nvSpPr>
        <p:spPr>
          <a:xfrm>
            <a:off x="4356000" y="5950080"/>
            <a:ext cx="576360" cy="503280"/>
          </a:xfrm>
          <a:prstGeom prst="downArrowCallout">
            <a:avLst>
              <a:gd name="adj1" fmla="val 50012"/>
              <a:gd name="adj2" fmla="val 25004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Что такое права и свободы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принцип, нормы взаимоотношений между людьми и государством, обеспечивающие индивиду возможность действовать по своему усмотрению (обычно это называется «свободами») или получать определенные блага (т.е. – это «права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 существу это нормативно сформулированные условия и способы жизнедеятельности людей, которые объективно необходимы для обеспечения нормального функционирования индивида, общества, государства (юридическое определ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1"/>
          <p:cNvGrpSpPr/>
          <p:nvPr/>
        </p:nvGrpSpPr>
        <p:grpSpPr>
          <a:xfrm>
            <a:off x="1979280" y="1412640"/>
            <a:ext cx="5683320" cy="1069920"/>
            <a:chOff x="1979280" y="1412640"/>
            <a:chExt cx="5683320" cy="1069920"/>
          </a:xfrm>
        </p:grpSpPr>
        <p:cxnSp>
          <p:nvCxnSpPr>
            <p:cNvPr id="447" name="AutoShape 5"/>
            <p:cNvCxnSpPr/>
            <p:nvPr/>
          </p:nvCxnSpPr>
          <p:spPr>
            <a:xfrm flipH="1">
              <a:off x="1979280" y="1413000"/>
              <a:ext cx="1879920" cy="104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AutoShape 6"/>
            <p:cNvCxnSpPr/>
            <p:nvPr/>
          </p:nvCxnSpPr>
          <p:spPr>
            <a:xfrm>
              <a:off x="4672080" y="1442520"/>
              <a:ext cx="11520" cy="104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AutoShape 7"/>
            <p:cNvCxnSpPr/>
            <p:nvPr/>
          </p:nvCxnSpPr>
          <p:spPr>
            <a:xfrm>
              <a:off x="5897160" y="1412640"/>
              <a:ext cx="176580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Этап 4. Выводы и рекомендаци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1" name="Скругленный прямоугольник 11"/>
          <p:cNvSpPr/>
          <p:nvPr/>
        </p:nvSpPr>
        <p:spPr>
          <a:xfrm>
            <a:off x="324000" y="2637000"/>
            <a:ext cx="2592360" cy="388764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3887640"/>
              <a:gd name="textAreaBottom" fmla="*/ 3761280 h 3887640"/>
            </a:gdLst>
            <a:ahLst/>
            <a:rect l="textAreaLeft" t="textAreaTop" r="textAreaRight" b="textAreaBottom"/>
            <a:pathLst>
              <a:path w="21600" h="32391">
                <a:moveTo>
                  <a:pt x="3600" y="0"/>
                </a:moveTo>
                <a:arcTo wR="3600" hR="3600" stAng="16200000" swAng="-5400000"/>
                <a:lnTo>
                  <a:pt x="0" y="28791"/>
                </a:lnTo>
                <a:arcTo wR="3600" hR="3600" stAng="10800000" swAng="-5400000"/>
                <a:lnTo>
                  <a:pt x="18000" y="323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в полной м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Скругленный прямоугольник 12"/>
          <p:cNvSpPr/>
          <p:nvPr/>
        </p:nvSpPr>
        <p:spPr>
          <a:xfrm>
            <a:off x="3132000" y="2565360"/>
            <a:ext cx="2735280" cy="395928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959280"/>
              <a:gd name="textAreaBottom" fmla="*/ 3826080 h 3959280"/>
            </a:gdLst>
            <a:ahLst/>
            <a:rect l="textAreaLeft" t="textAreaTop" r="textAreaRight" b="textAreaBottom"/>
            <a:pathLst>
              <a:path w="21600" h="31264">
                <a:moveTo>
                  <a:pt x="3600" y="0"/>
                </a:moveTo>
                <a:arcTo wR="3600" hR="3600" stAng="16200000" swAng="-5400000"/>
                <a:lnTo>
                  <a:pt x="0" y="27664"/>
                </a:lnTo>
                <a:arcTo wR="3600" hR="3600" stAng="10800000" swAng="-5400000"/>
                <a:lnTo>
                  <a:pt x="18000" y="31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не в полной мере, требует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Экспертные  рекомендации по усовершенствовани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кругленный прямоугольник 13"/>
          <p:cNvSpPr/>
          <p:nvPr/>
        </p:nvSpPr>
        <p:spPr>
          <a:xfrm>
            <a:off x="6156360" y="2565360"/>
            <a:ext cx="2736720" cy="388800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8000"/>
              <a:gd name="textAreaBottom" fmla="*/ 3754440 h 3888000"/>
            </a:gdLst>
            <a:ahLst/>
            <a:rect l="textAreaLeft" t="textAreaTop" r="textAreaRight" b="textAreaBottom"/>
            <a:pathLst>
              <a:path w="21600" h="30685">
                <a:moveTo>
                  <a:pt x="3600" y="0"/>
                </a:moveTo>
                <a:arcTo wR="3600" hR="3600" stAng="16200000" swAng="-5400000"/>
                <a:lnTo>
                  <a:pt x="0" y="27085"/>
                </a:lnTo>
                <a:arcTo wR="3600" hR="3600" stAng="10800000" swAng="-5400000"/>
                <a:lnTo>
                  <a:pt x="18000" y="306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не в полной мере, требует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Экспертные  рекомендации по усовершенствовани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bb8"/>
                </a:solidFill>
                <a:latin typeface="Calibri"/>
              </a:rPr>
              <a:t>Различие между «правом»и «свободой»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ободы челове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область деятельности человека, в которые государство не должно вмешив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очерчивается с помощью правовых норм границы, в рамках которых человек действует по своему выбору  и усмотрен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осударство должно воздержаться от интервенции в свободы человека и обязано обеспечить защиту границ этих свобод от вмешательства других ли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установленные и гарантируемые государством правомочия и потенции действий человека в конкретной сфе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не предлагается возможности выбора, варианте действия внутри данного права, им можно либо воспользоваться и реализовать его, либо не реализовыв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осударство обязуется обеспечить и защитить правомерные действия человека в указанной законом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ПРАВА И СВОБОДЫ ЧЕЛОВЕ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НИВЕРСАЛЬНЫ- принадлежат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сем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юдям во всех ситуациях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ЕСТЕСТВЕННЫ- принадлежат людям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т рождения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олько потому, что они люди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ОТЧУЖДАЕМЫ- нельзя произвольно лишить этих пра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а человека могут быть ограничен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олько закон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лько в той мере, в какой это необходимо для обеспечения безопасности общества, защиты нравственности, здоровья, прав  других люд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Права челове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 морально-правовых норм, призванных защищать человеческо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стоин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воб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ичности от произвола со стороны властных институтов и их представ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авливают сферу свободы и самоопределения личности, ее автоном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рядочивают и координируют общественные связи и отношения на основе международно-признанных норм и стандартов в области прав и свобод челове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рчивают границы деятельности государства, предотвращая неоправданное вторжение государства в сферу личной свободы человека ставя преграды всевластию и произволу государственных структу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ют параметры взаимоотношений человека и государства, ответственность последнего за свою деятельность перед личностью и обществ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ют раскрытие творческого потенциала каждой личности, стабильность, устойчивое развитие общества, его нормальную жизнедеятель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bb8"/>
                </a:solidFill>
                <a:latin typeface="Calibri"/>
              </a:rPr>
              <a:t>СТАНДАРТЫ ЗАЩИТЫ ПРАВ ЧЕЛОВЕКА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аботанный мировым сообществом нормативный минимум, на который должны ориентироваться государства при признании и обеспечении провозглашаемых пра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ждународно-правовые обязательства, реализующие принцип уважения прав человека и развивающие его в конкрет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орм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также сформировавшееся на основе решений международных органов по правам человек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ецедентное пра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овые нормы по защите прав человека, содержащиеся в общепризнанных принципах и нормах международного права, международных договорах, действующих в данном государстве, и его законодательстве (Конституции и иных нормативных правовых акта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еждународные станд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циональные станд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Для чего необходимы стандарты</a:t>
            </a: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анавливают перечень прав и свобод челове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яют их содержание и допустимые ограниче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анавливают механизм их защ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Основополагающие принципы обеспечения защиты прав человек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принадлежат ему от рождения, они являются неотъемлемыми и неотчуждаемым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универсальны, основаны на принципе равенства, в том числе равенства прав мужчин и женщин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гарантированы каждому, кто находится под юрисдикцией Кыргызской Республи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– высшая ценность, а их уважение, соблюдение и защита – обязанность государ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еспечение прав и свобод несовместимо с дискриминацией по какому-либо признаку, за исключением позитивной дискримин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люди равны в своем достоинстве и правах и должны поступать в отношении друг друга в духе братства, при этом ограничение прав и свобод одних людей допустимо при должном признании и уважении прав и свобод других людей, необходимых в демократическом обществ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права и свободы должны быть едины на всей территории Кыргызской Республики, их регулирование – предмет ведения органов государственной власти, а обеспечение и защита – предмет совместного ведения органов государственной власти и органов местного самоуправл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жданские, политические, экономические, социальные и культурные права и свободы равноценны по своей значимости, едины (неразделимы) и взаимосвяза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3952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Основополагающие принципы обеспе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защиты прав человека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32:15Z</dcterms:created>
  <dc:creator>kachikeevs</dc:creator>
  <dc:description/>
  <dc:language>en-US</dc:language>
  <cp:lastModifiedBy>LEGION</cp:lastModifiedBy>
  <dcterms:modified xsi:type="dcterms:W3CDTF">2015-01-28T13:36:27Z</dcterms:modified>
  <cp:revision>49</cp:revision>
  <dc:subject/>
  <dc:title>ПРАВА И СВОБОДЫ ЧЕЛОВЕКА – ОСНОВА ПРОВЕДЕНИЯ ПРАВОЗАЩИТНАЯ ЭКСПЕРТИЗА</dc:title>
</cp:coreProperties>
</file>