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5619-7FDD-4C60-9185-5FE9867F9E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Правовой статус несовершеннолетних с рожде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 до совершенн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FC14-794E-4A56-9E11-0A18152DFB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6E52-BB3D-4024-AC9F-168D4F18A7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EE2A-6443-40B0-AC59-57362F93B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E68B-02D4-4CC8-8870-2D7930DD40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79CE-CA42-4230-90C4-6FA0B799B0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DAF5-5EFC-4A04-9B7C-1409669870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6716-7DF5-4771-8D23-57227479FD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1831-7E7E-48B7-B0B5-3BA3FBCFB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Правовой статус с рожд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во на жиз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Право на им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 на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Право быть заслушанным в ходе судебного или административного засе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B50B-947C-4D55-AAB8-8731CC074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аво жить и воспитываться в семь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раво на имущественны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раво на граждан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 на использование совершенными услугами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493F-2753-4E8D-A450-828BF5498B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 Право на отдых и досу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 Право на всестороннее участие в культурной и творческой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 Право на защиту от экономической эксплуат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BC50-56E0-4A4B-BB7A-A17E100BA9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 6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 Право на образ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 Право на  совершение мелких бытовых сделок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6C35-1617-4327-9185-081D8501E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7CB4-C005-44BA-ADB1-442D32B3B3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4DF-0861-4F50-A1D2-B1A7EAC3CC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5881-FC33-4EA0-91A1-B75E0BFBC5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407E-F63A-4756-B1AB-5DF601207E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26D-A2D0-4253-915A-EC9B08D1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D42-63CF-40E2-9A31-F2731C2B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45C-FADA-428E-9461-A23124B9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4F2-5DEE-4FB8-82DE-8FE1B3A3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C573-E8B2-4541-A77D-E6CBDE6B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93CD-EE50-42A6-A361-7BB1ABF6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D99D-6310-4AE2-85D4-DB9AE6EC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581A-5502-4B53-B305-18E17C52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E9AB-AE36-4DE6-8B0F-3DD83EF1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9C4D-DF7A-47DC-8A4C-81E6DD53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A238-771C-4F37-9367-32CA2176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FC7-7768-4C74-A864-96931F81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2113-8437-4903-9381-58621787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5F7A-F1F0-4CF2-B864-E6BE9B6E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341E-FE1C-4F30-9057-8E80EF8F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531E-5497-47C7-9D63-E5F7966D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B73A-CBE1-4AB5-80B6-306ACB63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6949-C908-4252-90E9-5CD50E87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1FC5-9F33-4381-A9C2-533038B8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76FC-5792-49A9-9680-56CEB850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596E-800A-4384-9F98-1C15673F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2E9C-5D4E-4213-B37C-5CFC8F2E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D6D-2E8E-4ABB-A20D-03CF9046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86A24-54CE-48C0-9FD1-6B52717E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F203D-F4AC-4D69-BDEF-04BE25B3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7B36-A14C-43EF-B910-7B9AE191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FC19F-DED4-469C-83DB-11A91ED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4C03-879D-40C0-8F1B-546F85A6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50D3-1B5C-4F9B-9EF3-7BA4A0C1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5909-9682-4CD9-9AD1-362F496B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2F40E-431C-45A2-85F6-85524473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0F9AF-94F3-4901-BF8D-E7E393F1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0CD2-2DBD-4B77-9B9E-B74799A9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4E9-D2B3-47E8-BB13-6B37599B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D138-7A22-4B09-BDD7-B11949EB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BBB63-7640-49CF-AF09-D7AE8C98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60C5C-E21D-42BD-A279-E963ADD4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5552D-11C9-4187-B1FB-564CF4BC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5706-EC2B-474D-B82F-DAC4D0B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2C52E-847B-4B4C-B1FA-BA939040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E1AC-6E02-4A82-B413-B305D862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0929-5918-45CF-88F0-1A743817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EA2D8-F73A-41F6-9B6B-8FD51932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1DDD7-41D8-40A4-A0A8-CA9F161F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EA9-7CB3-439F-B230-D9E79C5B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DAD6E-0BE8-405E-BB72-19BB1109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470BB-56B2-4B44-A312-42ACBAA2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D17C-75B6-478A-B91B-0ABEC19B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87BAF-0B3D-4247-871B-D0B9D079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DAE96-84E3-4614-BE5C-7B9C6B77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0B095-6C0C-4451-8492-4B4D96BF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0AAD-D5F9-4EB9-9232-4AD4201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65991-1F63-4E97-95BB-32A7956C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D63C3-E586-45DA-9A68-D0168319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9ABE9-9CA2-4AF7-BA10-22237179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BD8-7E13-4C60-90EC-A253BE75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BA2C4-AC2F-4D77-A784-54B3A227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35319-CAE1-498E-9040-7ECE1B77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F8424-D9E1-4AD9-8638-3DC8A7D2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2787B-FE7A-4BEE-8D50-31E08B5F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B6BF0-1E67-4996-B206-31C5457A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93677-5CED-4FDA-812F-4D59950E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FE926-9E44-45B8-9643-B6665109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7712F-E94A-4703-AC8B-5547E83D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37241-DA36-42C8-9179-1A366ABA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5B50-A7C5-49FD-A76E-A517DD69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A24-44D5-478F-89EF-34D3D02C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487A8-1A75-4ECC-A450-0E725DCA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3D25D-1CDD-4407-A1F4-60FFA7AA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EDA1F-6463-4735-9F77-28B16C52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54783-4DD1-4DCD-976F-D6283063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F49B4-D75A-4D43-94F9-8EDE3F65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5EAFF-E927-40C3-AAE9-2D95339D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88B6F-09E3-4F33-809E-2DAC8FC9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7ED32-4E67-47B9-B600-BC3B73CF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96C7B-E358-4162-933D-E1D1AE97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F4690-558A-40BD-A3F4-41D9D9A5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B88-6864-4490-BA21-0F97BC28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07CB7-6640-4B0C-A219-EAF2FCBF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949A4-D8A1-4B97-94B1-02CB248D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96E67-3660-4E92-8CCD-8060C3A5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419F9-AE93-42BF-BAD9-44386968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A1A1-0E0E-4258-BACA-B9A23848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E9F-AD57-4307-A973-D943C60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3EB5-5929-4F41-BF67-C95D65CD8E8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5389-2264-4F4F-9AE7-3E91224DDB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AE74-2C41-4A63-9E63-82AA8C04402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F524-3CFC-46B7-B495-74CC8875582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F750-AFE6-4142-8CD8-5812C5CE767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A723-F9BA-44BE-9295-E048E70B29B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2804-2783-4AD5-A383-68BCF1E5C82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4097-8721-46DD-AE4B-FAA56099EA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18D9-B2A0-4A4F-A54D-4584D0A06DC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EBEB-3D88-4E67-B077-C2A78223123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A9BE-2F88-4F3D-9F32-5A1508D5DB5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A99C-ED92-4560-914C-9466296458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9D0B-994D-418A-903D-3EF6593ACD1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0A4F-B778-426D-AE4B-074766A85A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3" descr=""/>
          <p:cNvPicPr/>
          <p:nvPr/>
        </p:nvPicPr>
        <p:blipFill>
          <a:blip r:embed="rId1"/>
          <a:stretch/>
        </p:blipFill>
        <p:spPr>
          <a:xfrm>
            <a:off x="-92160" y="274680"/>
            <a:ext cx="9455400" cy="565632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357120" y="214200"/>
            <a:ext cx="8358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357120" y="642960"/>
            <a:ext cx="8358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85880" y="714240"/>
            <a:ext cx="7715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00040" y="285840"/>
            <a:ext cx="82868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14200" y="285840"/>
            <a:ext cx="792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42920" y="214200"/>
            <a:ext cx="8358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000080" y="428760"/>
            <a:ext cx="7715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 :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1. Право на жизнь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2.  Право на имя;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3. Право на всестороннее развитие и уважение человеческого достоинства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.  Право быть заслушанным в ходе судебного или административного заседания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Право жить и воспитываться в семь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Право на имущественные пра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раво на гражданство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. Право на использование совершенными услугами здравоохран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.  Право на отдых и досуг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.  Право на всестороннее участие в культурной и творческой жизн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.  Право на защиту от экономической эксплуатаци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4.  Право на защиту от незаконного употребления наркотических и психотропных веществ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6 лет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.  Право на образова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.  Право на  совершение мелких бытовых сделок;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500040"/>
            <a:ext cx="77868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500040" y="357120"/>
            <a:ext cx="77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642960" y="785880"/>
            <a:ext cx="8072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785880" y="642960"/>
            <a:ext cx="75722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1:56Z</dcterms:created>
  <dc:creator>User</dc:creator>
  <dc:description/>
  <dc:language>en-US</dc:language>
  <cp:lastModifiedBy>LEGION</cp:lastModifiedBy>
  <dcterms:modified xsi:type="dcterms:W3CDTF">2015-01-28T13:37:43Z</dcterms:modified>
  <cp:revision>24</cp:revision>
  <dc:subject/>
  <dc:title>Правовой статус несовершеннолетних с рождения до совершеннолетия</dc:title>
</cp:coreProperties>
</file>