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E806-5DD5-4E47-81F5-ECCF65673A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Правовой статус несовершеннолетних с рожде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 до совершенн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2DA5-FED3-4544-9EF7-8DFD4B42B2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9AE0-E4B0-4ADF-965A-DECDFDCE9E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43AB-4734-489A-806F-CE8898D2D9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A141-4258-4F39-8C81-F385FA5AD2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380D-C07B-495C-9FFB-0A96E09357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641A-5FB0-4F0B-BA63-2B7C09FEA2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4CD1-8144-4BCC-AEDB-6126056538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2062-1EEB-4CC9-881C-E789232947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Правовой статус с рожд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во на жиз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Право на им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 на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Право быть заслушанным в ходе судебного или административного засе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ECFE-FB68-4F9F-BE19-4A781353F8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аво жить и воспитываться в семь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раво на имущественны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раво на граждан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 на использование совершенными услугами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5C99-4144-4F53-A7ED-079B67A300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 Право на отдых и досу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 Право на всестороннее участие в культурной и творческой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 Право на защиту от экономической эксплуат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 Право на защиту от незаконного употребления наркотических и психотропных веще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DD9A-1B4F-4CD0-8971-AFD9BA207D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 6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 Право на образ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 Право на  совершение мелких бытовых сделок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B961-BD3E-4756-BCF2-39FFD5F4EB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F484-9264-4E58-87B3-AEECCCF203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EFDA-0430-4A92-A95E-F11972006B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E1BC-A8D4-4AF8-8CA7-E3A4223769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692E-F26F-448C-884B-FAB19A2F75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18F-7E4A-437B-8495-5F186F48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902-E2E7-4E88-90CA-D812C6E8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715-6568-4BE1-984C-BB3ED46C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04D-C97F-436D-8833-43A7018A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C526-1B05-4662-B813-1ACCA050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8C35-53BD-4CB2-A78A-C1F65229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1B17-0F1C-4941-A566-152E6294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D76D-066A-4A15-BAD1-A646D87C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1E1C-3E9D-4E26-9CB0-9A9BEC44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09B4-F6E6-4CBA-AD08-5C4378AF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2833-67E6-427B-87F2-5C50A72F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AAB-F398-4D89-814D-9255A8A4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871F-B782-409E-85FA-0BE651D9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B159-2694-435D-AB9E-D8464447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8852-68D7-4995-9D07-4F81B630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AC7A-02E9-4FE9-9FAC-116DDA99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D17B-3F2A-465B-9665-1080A583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F5ED-4BCB-4F3B-BC11-56500602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EE63-5F56-4EC7-9627-A4E06CE1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7149-BF8F-4305-8634-2BD565D6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42E2-6987-45D2-8FFA-7931314A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2C5E9-FA60-40E8-B1F1-A7CAAD99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038-5C4F-4DED-A7CF-AFED2A77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B663-24F6-4CCF-B672-E684CBBE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5902-4579-4B8B-AEB1-CE66EB79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5907-3703-4188-959B-2DF5D095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08FA-0967-4ACC-B1BD-5644FEC1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7561-74F7-4AC3-81B7-07B94688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04EA6-CCF6-475E-952A-8D38E885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7591-9874-4B6B-9560-CC9134A4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DFC6A-DEFC-40AC-8ABE-28918CCB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CEF1-833C-46DF-85D1-7FEB3821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F861-5C61-4041-86C8-ACEEAF06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289-B591-4C6D-A47F-77D6325A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FD9B4-506E-4B73-B0EA-F547348E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69EA5-42BF-478F-BE76-27F1A41D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01E5-346E-4829-A8AC-1A73C5CD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5D37-288D-4CF2-BF4F-75087348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152B-9B8B-4F66-B5B7-6F9DBE55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E26F-8102-45B6-9F02-4F6CD112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5D9DF-3026-474B-95CE-7259BA4F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C5DF2-6601-4EFD-A1E1-0F7D52B7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17A0D-63D5-4194-8411-F62594C7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14FF3-F313-4B29-8031-BA92F9B4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540-D337-46C3-B765-81BB077E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81FF4-B152-4C7C-82F0-C1B5C081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39EC3-237B-4C6C-9BC6-77378D99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DB065-A892-41C9-BF4B-A296D6D0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30C8-051F-4C43-A20A-46D75E50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756D1-A02D-4E49-B144-447CEE88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63C91-47B9-485D-95AC-178ADD00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08F7C-2A0C-41BD-9740-410DDAB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E0B9-F3DB-4DB4-BA4C-A171DEF5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DBAA5-DD89-4DF7-A2F9-4B6797C4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6698F-0DFC-4D26-B35C-F64053FB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E3D-4412-4B70-B2EF-0573B146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24993-F20E-429A-A501-66AF1942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AE10D-39B9-419F-B809-6AB85B47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6DD3C-AA58-48C2-9B0A-01703DCD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8A790-0237-41FD-878E-D9BC4B82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251A9-0A0D-4E41-B400-A28ACEFF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6F801-AA5B-4C9D-A824-B660DF36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8BE31-9EF7-4527-816B-B8848328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46146-B7A2-45E6-AF6A-460F9965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07AF6-B607-4562-AF51-67CE38D4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A3924-431A-42C4-A7F1-CBD119A1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BBB-20C4-47A0-A2FA-7107330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C658C-A6D2-440F-8CC2-193F5809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C96F7-4841-4FE2-9FB6-43678543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2E6AE-EAFA-4D87-8137-D066670B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756BB-EB1E-4C8A-B2DF-738C252B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3A83B-216B-421E-A40D-BCD4721C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8AEBD-B075-45A8-9E12-68DA039A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60361-4534-463C-B49D-009D4B5A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F8820-CDF6-4702-833E-22FE80A3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D01F4-E09F-4906-9378-ABF9F588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0464C-86AE-40CD-8663-58BFC31F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7F5-E307-4BF5-AC13-E1B97AB5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7BB95-1DCF-4FDB-9530-04794EE2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C5BEB-9D8A-4DB8-9A15-8E9CA029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B2D40-CC73-43EF-BE44-49BB27A4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B4717-E084-4561-A716-D13E712F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0FE8A-3E51-4193-8F0D-EB0D28E1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C37-2F80-42FD-AD5D-DC0D242F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9ED7-971D-4DAC-8263-10C116EA2A1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5A42-B91C-42E6-AB9F-DE42156797C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A003-924D-4290-BB7E-0C66E410645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F50F-F10F-4195-9A01-51395F501D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8B6E-F168-43CD-9FC7-6C90D1ECABC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B840-8F63-4812-BF3C-216838A6C8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B30D-A03B-4D3D-A4F4-F1D76C82AA2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0453-581C-43C1-A960-312A5D30D18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6B84-7907-4EFA-8C5A-83959450C7F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69FF-F0CD-4C0B-A0D0-258F27B5EA3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43C9-786D-4BDE-82A4-D57A1DC6576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FB57-F493-4D66-AA90-CFBA36A553C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EC16-7A8F-4AB9-9047-B3E959F692E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34B6-6346-4BBC-AF11-790B93C4F1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3" descr=""/>
          <p:cNvPicPr/>
          <p:nvPr/>
        </p:nvPicPr>
        <p:blipFill>
          <a:blip r:embed="rId1"/>
          <a:stretch/>
        </p:blipFill>
        <p:spPr>
          <a:xfrm>
            <a:off x="-92160" y="274680"/>
            <a:ext cx="9455400" cy="565632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357120" y="214200"/>
            <a:ext cx="83581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357120" y="642960"/>
            <a:ext cx="8358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785880" y="714240"/>
            <a:ext cx="7715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500040" y="285840"/>
            <a:ext cx="82868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14200" y="285840"/>
            <a:ext cx="7929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42920" y="214200"/>
            <a:ext cx="8358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1000080" y="428760"/>
            <a:ext cx="7715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 :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1. Право на жизнь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2.  Право на имя;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3. Право на всестороннее развитие и уважение человеческого достоинства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.  Право быть заслушанным в ходе судебного или административного заседания;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Право жить и воспитываться в семь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Право на имущественные пра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раво на гражданство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. Право на использование совершенными услугами здравоохранен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1.  Право на отдых и досуг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2.  Право на всестороннее участие в культурной и творческой жизн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3.  Право на защиту от экономической эксплуатаци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4.  Право на защиту от незаконного употребления наркотических и психотропных веществ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6 лет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.  Право на образова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.  Право на  совершение мелких бытовых сделок;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500040"/>
            <a:ext cx="77868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500040" y="357120"/>
            <a:ext cx="77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642960" y="785880"/>
            <a:ext cx="8072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785880" y="642960"/>
            <a:ext cx="75722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51:56Z</dcterms:created>
  <dc:creator>User</dc:creator>
  <dc:description/>
  <dc:language>en-US</dc:language>
  <cp:lastModifiedBy>LEGION</cp:lastModifiedBy>
  <dcterms:modified xsi:type="dcterms:W3CDTF">2015-01-28T13:37:43Z</dcterms:modified>
  <cp:revision>24</cp:revision>
  <dc:subject/>
  <dc:title>Правовой статус несовершеннолетних с рождения до совершеннолетия</dc:title>
</cp:coreProperties>
</file>