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1E34-4B96-4FF7-BD7A-C236EF477D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Правовой статус несовершеннолетних с рожде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 до совершенн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DAD9-D948-480D-BC96-39B2D7B1D5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A7A2-1CCE-4B54-94DA-3F56A50698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38DB-1D01-49B6-A07B-67B866D175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FDB6-3259-4573-9754-BE36057244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7D5A-A229-44A7-988B-F579AA9117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BB2-F44A-4129-A746-7DA65BEDEE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2F2C-BBE4-4ABF-AC48-817A286EB0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63D8-6755-4664-B634-E1F77F6EB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Правовой статус с рожд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во на жиз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Право на им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 на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Право быть заслушанным в ходе судебного или административного засе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08DF-55F2-4565-B2C1-4353D83277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аво жить и воспитываться в семь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раво на имущественны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раво на граждан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 на использование совершенными услугами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3C3D-6B57-4915-8739-C879E1BA26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 Право на отдых и досу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 Право на всестороннее участие в культурной и творческой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 Право на защиту от экономической эксплуат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BBF2-C313-40C4-89CE-CC147D7B23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 6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 Право на образ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 Право на  совершение мелких бытовых сделок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E202-8D26-49AA-9062-40FB7F783C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A8E1-BC22-4CC1-A817-D059F36581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B06A-806F-43D2-96BB-D55BF3A355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E75B-975F-41E1-97A9-3E88CF8E88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E3DE-B576-4314-B85B-7242998F34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14E-2164-42E1-AF02-CC4F9019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F46-EB7C-41C6-BCF0-F807DC49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6A0-2CFC-4DC8-A455-DD15F6CD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FA6-00E9-4D7B-8C00-C58078AC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E8AD-27A7-4659-943D-D148947D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EFF6-B2E2-4B90-B4E5-3A7FD750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8A8F-E255-458B-89C0-8846AEF2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FC3A-2420-48B7-BEF1-143BF91D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4028-2815-4F0D-BFA4-AB5A0896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21F1-BD26-494E-9928-57F9B91F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4408-7B6B-4283-94C4-0AC72021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600-C074-46D2-B677-1536B1B1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9F7F-ABCA-4B4C-AAF3-BF6EB5D5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D86E-9BAF-4DC8-9FFC-35D7E000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DDEC-C6D6-4BA7-8602-9B05002B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16FD-EE14-418F-A210-A733BDF9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A73B-0DF6-4F9B-826B-3A44E242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E7BE-DAC4-4932-BD47-8805C5C2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7D5A-0C07-4E85-834F-1EA50CE9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506D-0B78-49C0-AE9D-457388DD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1348-AB4B-48A1-935F-619307EA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AF43E-00E9-4AD0-885A-88209157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647-025B-4CBC-A046-C1BEDF67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3388-2984-4C9A-BCEC-4D913612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9F4B-2C77-4B0A-9399-68361C5B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98D7-8FBA-4497-95C8-EB5896D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0A94-F0F3-4DDA-88C8-F14580F3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413B-9EE5-4ED7-8A21-4C1073DF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4CC6-8FC9-4D1A-8C86-29CC4573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36B40-74AF-4EFB-A2F9-93433FF7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85C26-7B24-49B2-9A89-60862FD0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C2F4-F5BD-4060-B643-A7255A6B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10635-0D6F-40E8-AC2D-74A2EC85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2EE-1BC0-4BFD-AB1A-4CDF9434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A552-1379-449B-A17B-9E123149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23B7F-4970-41A1-BEB3-CF4442F9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2C44B-A2E0-4CF6-A2FA-AB1B943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BF3BF-9B68-4085-9F38-F21E6FCC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EB90-DEFC-4220-883B-EAC99FDF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ACEDE-7814-4C7D-A683-01688E89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40B77-638A-4905-87A7-651D0A89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5775-38BF-42EE-954C-AC2293D7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53A0-4951-4B04-A9EB-E35326B2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855C9-00A9-4024-A327-C5B93C91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571-D971-4CAB-82C0-B7F5EE55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715C-8BEB-4991-B8DC-4165B872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5A9B1-31EB-4BD7-945F-D0246491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0E024-2A80-43E6-B487-CD2B4E30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3AD2D-6CAF-4FF3-98C1-94D4484E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C6481-C034-43D7-B7C2-A04CF2A6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68A1-AF9B-4231-8E6A-44799FB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65892-0CE7-4397-83BB-DB5B76E7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6EBF5-4D67-4A92-BCED-867B574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42661-5BFD-404B-B64A-A3097FEF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0DC4C-B914-40F8-B5C2-DA0E4654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4FA-94BE-4598-BA8D-1E8BAB8F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D9853-E27D-495D-B99E-1E7A2A20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091BD-3371-47EC-8869-5BFB0986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B4B40-2FD2-491C-AB3A-CDA82930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E1C14-64D0-4F90-9664-4D533A2D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19F8F-4B75-4626-A9D8-9EE9CA7C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A3FFC-18EA-41D9-8CF7-45E92B11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2AAD0-0461-4AEC-953E-7F56EBCA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80F1A-9639-4734-9B58-6B65A0B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21075-64BB-4103-B428-74B7F711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CFB94-89C6-49F7-901E-23BDA645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A19-A637-4636-96E0-7C119C39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A4E9-844E-4580-AF04-9669D5A6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ED675-D639-4299-BF60-D3763063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87DC1-C84F-4E79-B131-BAF07B12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C0726-84C8-4D6E-90D5-5D77C883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4BFB2-83E2-4B80-91FE-3ACD5991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1FCE2-CF71-4840-8637-CA2851F5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71627-9D82-44C5-91E8-764AAC5A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6290E-97A5-4AB3-A148-714EC64D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6C37D-9698-4993-9C9C-41B7682C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272D-D5B9-46D2-9FE1-7CD4C895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FE6-96DE-4A42-B3C2-DE2D3CB2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A57A4-E24F-4A85-AEC5-ADAEF1EB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F4B46-6815-46B8-96C5-167FF97E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B1387-BB37-43E7-AD8A-4F602E7C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AA988-C571-410D-990A-5787FF62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4447F-0257-42E3-8429-B97035D9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A91-11E9-4388-A7A4-9688105F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FCC9-0D7A-4325-A083-D593E8F7057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B0BF-0B3E-4019-ADCA-F63DB1FC6E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2DAB-C7BC-40D7-B584-530D01C547A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CEE0-E899-4672-B313-E5AB967D88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A1C2-DCCA-499D-B67E-BEA30929E4A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8964-3243-4D79-BB27-D62752DF4C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7CE9-19AB-4F0A-BF1B-FFA57A5E182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1715-1203-4661-9DFA-1B46137B90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7682-E071-43CF-B058-5F3A3B87100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636A-0629-4EFA-A3E1-6A2709D4852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E4E8-7A12-4F75-B325-B19B785CC5A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1DB7-31B8-4EC7-A395-2B9AEE0B97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F11E-CA86-47CA-87A5-9FEE78BCF1B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4AD4-5178-46D3-9C1F-159CFD99E32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3" descr=""/>
          <p:cNvPicPr/>
          <p:nvPr/>
        </p:nvPicPr>
        <p:blipFill>
          <a:blip r:embed="rId1"/>
          <a:stretch/>
        </p:blipFill>
        <p:spPr>
          <a:xfrm>
            <a:off x="-92160" y="274680"/>
            <a:ext cx="9455400" cy="565632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357120" y="214200"/>
            <a:ext cx="8358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357120" y="642960"/>
            <a:ext cx="8358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85880" y="714240"/>
            <a:ext cx="7715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00040" y="285840"/>
            <a:ext cx="82868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14200" y="285840"/>
            <a:ext cx="792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42920" y="214200"/>
            <a:ext cx="8358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000080" y="428760"/>
            <a:ext cx="7715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 :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1. Право на жизнь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2.  Право на имя;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3. Право на всестороннее развитие и уважение человеческого достоинства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.  Право быть заслушанным в ходе судебного или административного заседания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Право жить и воспитываться в семь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Право на имущественные пра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раво на гражданство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. Право на использование совершенными услугами здравоохран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.  Право на отдых и досуг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.  Право на всестороннее участие в культурной и творческой жизн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.  Право на защиту от экономической эксплуатаци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4.  Право на защиту от незаконного употребления наркотических и психотропных веществ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6 лет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.  Право на образова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.  Право на  совершение мелких бытовых сделок;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500040"/>
            <a:ext cx="77868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500040" y="357120"/>
            <a:ext cx="77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642960" y="785880"/>
            <a:ext cx="8072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785880" y="642960"/>
            <a:ext cx="75722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1:56Z</dcterms:created>
  <dc:creator>User</dc:creator>
  <dc:description/>
  <dc:language>en-US</dc:language>
  <cp:lastModifiedBy>LEGION</cp:lastModifiedBy>
  <dcterms:modified xsi:type="dcterms:W3CDTF">2015-01-28T13:37:43Z</dcterms:modified>
  <cp:revision>24</cp:revision>
  <dc:subject/>
  <dc:title>Правовой статус несовершеннолетних с рождения до совершеннолетия</dc:title>
</cp:coreProperties>
</file>