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4986-4867-4439-A8D4-ADCD905736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Правовой статус несовершеннолетних с рожде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  <a:ea typeface="Aharoni"/>
              </a:rPr>
              <a:t> до совершенноле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8386-753D-42C6-95A7-308F38CC7F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97BE-CE6D-4870-880A-E0257BBA9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D4C9-6B5E-4C5B-9625-14F1F8635C4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561F4-FB65-4008-B07D-40DB6ACA77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5693-81CA-45EF-AC55-23DF35DD40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EDA0-8F07-4C13-9430-C728A50E6E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CAD9-DB71-45D7-A87A-80365A27DE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6DAA-D7A2-457B-AF44-20DE369531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0000"/>
                </a:solidFill>
                <a:latin typeface="Calibri"/>
              </a:rPr>
              <a:t>Правовой статус с рождения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аво на жиз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Право на им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аво на всестороннее развитие и уважение человеческого достои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Право быть заслушанным в ходе судебного или административного засед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112C-705F-448A-BC9F-4793D2A6CD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аво жить и воспитываться в семь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раво на имущественные пра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Право на граждан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Право на использование совершенными услугами здравоохра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4F8-D4D5-4755-9B6C-97343D56A6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рождения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 Право на отдых и досу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 Право на всестороннее участие в культурной и творческой жиз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 Право на защиту от экономической эксплуат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 Право на защиту от незаконного употребления наркотических и психотропных вещест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708F-A451-4752-A50D-C114A8311B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1488b"/>
                </a:solidFill>
                <a:latin typeface="Calibri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alibri"/>
              </a:rPr>
              <a:t>Правовой статус с  6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 Право на образова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 Право на  совершение мелких бытовых сделок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4EC5-D005-45E6-ABF0-9A34F3EA72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DAC8-58F0-4AE7-8273-EDC448961D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347F-31AE-45B1-9C6C-B515FA74D3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FEE-072A-42E2-AB5D-08B1F79631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CF556-200B-4AFE-A6DE-EE4AFCA5B5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992-DA73-47E3-8C84-D00CB263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505-1AC7-4C87-9B21-165B4F72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0B58-EEF4-45BB-BF28-B1F415899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AA6-A7B5-430E-8EE6-D1F7D57E6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5A52-7DCC-48DA-A586-9059C211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930F-0DF0-4652-976A-BE2BCE81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8F8F-6951-4019-8B63-38FB5A4C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0926-93E4-480C-BD26-E93C3ECC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5483-8862-4682-8623-12F958B7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3E3F-C6CD-4728-AEA8-667C3FD6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0E6F-9F90-4A80-92F0-BF1AEBBC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2851-FC33-4C68-9BBD-3DB92C49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B491-0631-4684-80FF-FE85495C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E8FA-EAF0-49D6-9492-9995E318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860F1-985B-4AA6-A1DB-E40A118D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536B-FEF4-4BB8-BB56-679C2740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3BC1-56C0-4E3A-BD9F-1932771A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52455-38DB-4E23-A5A6-6C42D4DA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042CD-9460-45CC-B5E0-C26221E97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0C135-2F3C-4BD2-A608-F897674A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5E732-B68C-4B70-B238-A86585A32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6EDE-0137-4643-8E3E-F0EFB6E9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4CE-5CA9-4D34-8120-28C8ED39E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E08E-CBA7-41D5-AAAE-CE8D619B5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7B9C-B2DC-490A-9CE9-3E2E913E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F6378-4C11-4B58-B0B4-7AFFBC5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16A4-AF12-4A81-A0C4-8108FEAE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A103F-EABB-4A6F-A677-B8F11770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215D1-7CDC-4B4A-863E-ECD7C590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E301B-523E-40FC-B175-18EB5DED6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0E027-F685-436B-BBAD-B035A5166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45F15-53CB-4897-A502-CD4615D4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8F2FD8-D7D0-4F33-80B2-0D01FE63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8001-477A-4E61-BF5E-B331AFEF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1032C-2419-45E0-B0D8-82688E6B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37284-AC92-4D42-8EF4-ED9C075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E5B7D-166A-467D-871E-DF4FBB7A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279A8-1AD9-4C43-9DF8-CE3E2A76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BC5CF-3712-4CD5-9D95-EB0DA60F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6292A-69DF-4D75-B70F-F383D2F1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7ACE1-D3FB-48D6-BEEC-15336C46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BEA3-2017-485F-918C-DBCC2EC9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23AD6-DDF7-4445-AE02-1D0C35CDA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DB8048-CD10-4294-8407-3F241F16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BC5F-6382-4CA7-90AB-69D281C9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FF269-037E-4BF0-8883-645AD8024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50DE9-CCDE-4128-8FE8-8EB25AFC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1876F-BAD6-42AF-BC5A-883AB22F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8914F9-0BA7-4D06-97FF-D65EB22B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B5BF-0580-4F81-ADC4-5EE84C18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55A9-4825-4B47-9168-4C43D32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E5F4-2580-440D-9AF2-D13E456D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7A35E-DCE6-400A-90FA-1A8DEBD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DEDF5-E38A-471D-80D3-167A78CC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7C016-2FB1-4148-A9A6-D1730A29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738-4431-42E5-80CE-1971BA73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3EDD-19F4-4C4D-A3B9-9644480A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8A35D-2961-426B-BF8B-AF3A4F96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C3C62-CCEF-4D41-BB8A-97C77344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F85AF-CA92-4A9C-9B9B-F9EA1D29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26CBB-BAC2-4D3B-AD12-0808ECAD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2072E-18D1-4A2C-81D1-9FCB9CD0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C7AE-141A-45EC-B66C-160103CC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21385-88ED-4868-9B66-260B1DB5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B42FE-AC38-4D09-A6FE-9651FD35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10F8D-FBE8-4262-AF05-BDD87AB3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7B5-2E58-45FD-B51A-AB4FD466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D1ACA-C5D8-4AFF-A42D-CFC014D0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FA4C0-DFCA-4CA6-B799-DAA8EA23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C7AC3-5ADF-42FD-9742-9A845070B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C5636-96EA-4D4A-9B7A-EFA3C430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E51E5-952A-4C46-A7F5-F98160D8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48660-B7C4-406A-93C8-890F265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385ED-FC93-49FE-8401-A90F1290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1683A-A6DE-41B1-9513-3BAF474E0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3D8B7-6774-470F-8841-804AA76D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BFFB-5764-486E-A76F-6BDA3834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05D-B628-4E24-885A-AEF43FF9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B7328-C064-4043-A613-484F3B0D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FAC335-D4AE-4C8E-A006-C5C20828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7DB73-9043-40DC-BEC1-D473989D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18505-827A-4E8C-A7D0-41A17C71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6F7A7-5489-42CF-8AE4-9B700C6F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7D9-53F3-4AC4-9A25-48C118AE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5077-6895-4A8C-80D3-74E5336BBF26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2B48-9CA3-4226-985D-1BB1EE0FB8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8B54-D690-4A8B-867D-3EA0F52C66A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8D11-A27B-4D9D-A130-5EB883D60E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6984-4D30-4B31-A669-F01E3AD9037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3F94-7015-4AC6-BF0F-91ACDFB0589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E62D-1EEB-42EE-B45A-4F0F7843E32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C1BE-8661-4010-932B-3396E754E0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8DEB-DFD9-4FB2-9C37-E4F72149C069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28DE-40EC-44CD-98F6-3771139C2E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74F6-01E2-4B9E-BC3E-F0C2D5CCC9FA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2E80-23A7-4866-87AE-2C7100949C0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54E2-DE44-4678-95FD-DC33EDAFCCD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543D-F5A8-4BB6-B3C0-94AB9238A8F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Заголовок 3" descr=""/>
          <p:cNvPicPr/>
          <p:nvPr/>
        </p:nvPicPr>
        <p:blipFill>
          <a:blip r:embed="rId1"/>
          <a:stretch/>
        </p:blipFill>
        <p:spPr>
          <a:xfrm>
            <a:off x="-92160" y="274680"/>
            <a:ext cx="9455400" cy="565632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1"/>
          <p:cNvSpPr/>
          <p:nvPr/>
        </p:nvSpPr>
        <p:spPr>
          <a:xfrm>
            <a:off x="357120" y="214200"/>
            <a:ext cx="83581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4. Право без согласия родителей распоряжаться своим заработком и иными дохода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5. Права без согласия родителей осуществлять права автор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6.  Право самостоятельно совершать некоторые сделки и нести ответственность за них 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Прямоугольник 1"/>
          <p:cNvSpPr/>
          <p:nvPr/>
        </p:nvSpPr>
        <p:spPr>
          <a:xfrm>
            <a:off x="357120" y="642960"/>
            <a:ext cx="835812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7. Право быть принятым на работу в свободное от учебы врем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8. Право иметь паспорт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9. Уголовная  ответствен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Прямоугольник 1"/>
          <p:cNvSpPr/>
          <p:nvPr/>
        </p:nvSpPr>
        <p:spPr>
          <a:xfrm>
            <a:off x="785880" y="714240"/>
            <a:ext cx="771516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5  лет: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0. Право соглашаться  или не соглашаться  на медицинское вмешательство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1.  Право быть принятым на работу в случае получения основного общего образова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Прямоугольник 1"/>
          <p:cNvSpPr/>
          <p:nvPr/>
        </p:nvSpPr>
        <p:spPr>
          <a:xfrm>
            <a:off x="500040" y="285840"/>
            <a:ext cx="82868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6  лет: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2. Право вступать в брак при наличие уважительной причины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3. Право  самостоятельно осуществлять родительские пра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4. Административн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ственност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"/>
          <p:cNvSpPr/>
          <p:nvPr/>
        </p:nvSpPr>
        <p:spPr>
          <a:xfrm>
            <a:off x="214200" y="285840"/>
            <a:ext cx="7929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7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5. Право  юношей встать на воинский уче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1"/>
          <p:cNvSpPr/>
          <p:nvPr/>
        </p:nvSpPr>
        <p:spPr>
          <a:xfrm>
            <a:off x="142920" y="214200"/>
            <a:ext cx="8358120" cy="65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8  лет: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6. Право на вступление в брак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7. Право избирать  и  голосовать на референдум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8. Право на управление легким автомобил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9. Полная материальная ответственност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0. Полная уголовная ответственность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1000080" y="428760"/>
            <a:ext cx="7715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полномоченный по защите прав участников образовательного процесс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Аитова Валентина Михайловн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учитель истории и обществознан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Время приема:  вторник 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13 – 15 ч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rbel"/>
              </a:rPr>
              <a:t>Каб. №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 :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1. Право на жизнь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2.  Право на имя; 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3. Право на всестороннее развитие и уважение человеческого достоинства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4. Право на защиту своих прав и законных интересов родителями,  органами опеки и попечительства, прокурором и судом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5. Право на самостоятельное обращение в орган опеки, попечительства за защитой своих прав;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orbel"/>
              </a:rPr>
              <a:t>6.  Право быть заслушанным в ходе судебного или административного заседания;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Право жить и воспитываться в семь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Право на имущественные пра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Право на гражданство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0. Право на использование совершенными услугами здравоохранения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2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700" spc="-1" strike="noStrike">
                <a:solidFill>
                  <a:srgbClr val="ff0000"/>
                </a:solidFill>
                <a:latin typeface="Corbel"/>
              </a:rPr>
              <a:t>Правовой статус с рождения: 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1.  Право на отдых и досуг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2.  Право на всестороннее участие в культурной и творческой жизн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3.  Право на защиту от экономической эксплуатации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14.  Право на защиту от незаконного употребления наркотических и психотропных веществ;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6 лет: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5.  Право на образова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6.  Право на  совершение мелких бытовых сделок; 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Прямоугольник 1"/>
          <p:cNvSpPr/>
          <p:nvPr/>
        </p:nvSpPr>
        <p:spPr>
          <a:xfrm>
            <a:off x="642960" y="500040"/>
            <a:ext cx="778680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8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7. Право быть членом и участником детского общественного объедин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. Ответственность в виде помещения в специальное  учебно – воспитательное учреждение открытого типа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1"/>
          <p:cNvSpPr/>
          <p:nvPr/>
        </p:nvSpPr>
        <p:spPr>
          <a:xfrm>
            <a:off x="500040" y="357120"/>
            <a:ext cx="7786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0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19. Право давать согласие на изменение своего имени и фамилии, на восстановление родителя в родительских правах;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Прямоугольник 1"/>
          <p:cNvSpPr/>
          <p:nvPr/>
        </p:nvSpPr>
        <p:spPr>
          <a:xfrm>
            <a:off x="642960" y="785880"/>
            <a:ext cx="807228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1  лет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0. Ответственность в виде помещения в специальное воспитательное учреждени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1"/>
          <p:cNvSpPr/>
          <p:nvPr/>
        </p:nvSpPr>
        <p:spPr>
          <a:xfrm>
            <a:off x="785880" y="642960"/>
            <a:ext cx="7572240" cy="46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rbel"/>
              </a:rPr>
              <a:t>Правовой статус с  14  лет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1. Право давать согласие на изменение своего гражданств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2. Право отмены усыновлени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3. Право требовать установления отцовства в отношении своего ребенка в судебном порядке;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6:51:56Z</dcterms:created>
  <dc:creator>User</dc:creator>
  <dc:description/>
  <dc:language>en-US</dc:language>
  <cp:lastModifiedBy>LEGION</cp:lastModifiedBy>
  <dcterms:modified xsi:type="dcterms:W3CDTF">2015-01-28T13:37:43Z</dcterms:modified>
  <cp:revision>24</cp:revision>
  <dc:subject/>
  <dc:title>Правовой статус несовершеннолетних с рождения до совершеннолетия</dc:title>
</cp:coreProperties>
</file>