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B377-4EEE-4996-9701-53825089F6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haroni"/>
              </a:rPr>
              <a:t>Правовой статус несовершеннолетних с рождения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haroni"/>
              </a:rPr>
              <a:t> до совершенноле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650C-3829-40F2-BBE5-BB3AD9F21B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4. Право без согласия родителей распоряжаться своим заработком и иными доход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5. Права без согласия родителей осуществлять права автор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6.  Право самостоятельно совершать некоторые сделки и нести ответственность за них 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9BE8-0539-4EEC-ACCC-3A6BFFBF12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7. Право быть принятым на работу в свободное от учебы врем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8. Право иметь паспор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9. Уголовная  ответ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11C0-328F-457C-9F9E-07107D85D2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5  лет: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0. Право соглашаться  или не соглашаться  на медицинское вмешатель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1.  Право быть принятым на работу в случае получения основного общего образ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7242-E5F1-4B41-9F70-32327DC51B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6  лет: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2. Право вступать в брак при наличие уважительной причины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3. Право  самостоятельно осуществлять родительские пра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4. Административ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тветственность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92BC-B36D-41D8-9909-10153EF71F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7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5. Право  юношей встать на воинский уч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F03C-45F2-4B52-8976-65F5B90E49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8  лет: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6. Право на вступление в брак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7. Право избирать  и  голосовать на референдум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8. Право на управление легким автомобил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9. Полная материальная ответств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40. Полная уголовная ответственность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1B6A-D218-4CC0-86C1-A55D67248F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Уполномоченный по защите прав участников образовательного процес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orbel"/>
              </a:rPr>
              <a:t>Аитова Валентина Михайл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учитель истории и обществ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Время приема:  вторник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13 – 15 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Каб. №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7AEC-DC79-4E00-B442-A6463754F8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Правовой статус с рождения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аво на жиз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Право на им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о на всестороннее развитие и уважение человеческого достои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аво на защиту своих прав и законных интересов родителями,  органами опеки и попечительства, прокурором и суд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аво на самостоятельное обращение в орган опеки, попечительства за защитой своих пра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Право быть заслушанным в ходе судебного или административного засе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0D8B-CA77-4689-8870-560B33530D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рожд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раво жить и воспитываться в семь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Право на имущественные пра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Право на граждан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раво на использование совершенными услугами здравоохра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ECDE-F551-463F-96DE-E70E2378D5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рожд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 Право на отдых и досуг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 Право на всестороннее участие в культурной и творческой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 Право на защиту от экономической эксплуат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 Право на защиту от незаконного употребления наркотических и психотропных веще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8022-30B7-4F42-80D0-D524D40BBA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 6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 Право на образов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 Право на  совершение мелких бытовых сделок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1AD3-C4D0-4D88-9B4F-5BD5C6B8CF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8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7. Право быть членом и участником детского общественного объеди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8. Ответственность в виде помещения в специальное  учебно – воспитательное учреждение открытого тип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F93A-6CC6-43B2-A9A9-CE739A90A4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0 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19. Право давать согласие на изменение своего имени и фамилии, на восстановление родителя в родительских правах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E1EF-BA96-4D30-BDD2-ECBC05276E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1 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0. Ответственность в виде помещения в специальное воспитательное учреждение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38DD-6841-427D-9E47-E1833E2E8D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1. Право давать согласие на изменение своего гражда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2. Право отмены усыно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3. Право требовать установления отцовства в отношении своего ребенка в судебном порядке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64DC-9F90-4502-9E44-733DA92AE7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A42A-33D0-41EB-9B6C-C2F76109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AC6-F0D1-42F4-80C3-FC6C991E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ED8-2C75-4883-B62E-59EDCCE3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950-4EDB-4CB2-AE5E-FE2E5AAD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28B0-272E-4070-A463-11AC5531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2826-083A-482B-8BDF-1C877D73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8756-B7F1-400B-B456-DFBCE312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51B9-93FB-4CF1-8950-1F9C8247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1966-62BD-45FA-95E3-BB0CFAC0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9D1C-D512-44A6-90F5-A92E1963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8906-A0AF-46AA-9705-C4A29543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8A90-43D1-4C9D-8DF2-DD510D03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BCB9-CB30-4D11-9930-59BF25C6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D495-18AD-44D0-A28F-0FBF91EC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B19A-BDBC-4A68-AEEE-B71B66F9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B6B5-7737-4E09-858B-2A24F45F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9F5C-23E2-4F23-9784-A73135C5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59589-8376-4713-A9E0-52A40858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399FB-C2B2-4F34-BF5E-EA609371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DCEC2-2588-446E-A5AA-546CDCB0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BDC6B-0170-45C0-972D-7EF42C55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E9804-762B-4DA2-B4AC-BD634FD8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51F9-1AD9-42A0-A443-1962D15A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4A4CF-6652-484E-963A-C031784D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1FFEF-00C4-4804-941F-CAE8C2EB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228EA-5393-4003-AA37-2217A9FF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22CC2-DFEC-4B01-8F41-5733DF6B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97447-BA7E-4391-BB64-459B8DB2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2482F-6E07-4E63-A762-C4428C57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B697A-A7BC-4901-B1D3-F6B42D3A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8CDDA-6726-44E4-9D1B-E8F92A7B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8295E-1BF2-4616-8948-0B710A34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B186F-FBD0-4181-B70B-57C2AFE2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EAE-0A7E-4C62-8AE3-FCC4291C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ABCE3-9C89-4EE6-A47A-A981A340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BBC2C-4637-4033-88B9-92204F1D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2FE0E-7296-45CE-8CB9-4C0E9870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E1C8B-7A17-4E90-9709-E941CA89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BB6BE-68B3-44C1-BC9C-814D66B7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D0556-9AB4-4BDC-BA60-1FD8B2EB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B1432-5F51-4793-8369-420C6C60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BA65B-3205-4D6F-9F54-472F39EC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79F75-5C03-423F-894F-D38194F8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5A2C5-CEBA-47A4-A2D2-373A771C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BE21-7E4C-427C-916D-B567B396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5A003-BCCC-4A58-B6D9-07CFCD81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4A7C8-978B-4FEB-A3FD-2D773406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D4D01-0E60-4CE6-8FA4-D59E0DB5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36974-12A6-474C-A0A1-5D47F707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19E9E-641F-4821-A15A-8BC8E180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900EB-5EAA-4986-827E-BE107A71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7271C-32FE-4124-B10B-CD5597CE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6CA31-489C-404C-B1E3-D54A907E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2B500-FBCB-4156-93A0-531B0A99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8D791-75EC-4A0C-AFB1-D118411B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7FE-A4D9-4485-8DC6-A69197B8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9E233-C0F2-4368-BC50-0D6E6E09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21DC7-1FBD-4772-94CA-E2363EDD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F210B-B626-45DE-B476-3C8DECA5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5BBB6-A018-4DE6-A50B-E8CE081E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CFEF4-B51C-4DFD-B391-CC112E47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90794-3144-4368-8454-09CBE025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D1C47-7FF7-477B-AD92-AD3BF584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B8D4A-7532-4719-AF87-107E9364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47298-7D60-4824-BDCC-7E51D08F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1787B-C0B2-4E7B-8A04-FD360926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185-CCD7-4271-8D35-C6B85197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23906-852B-4FC1-8B0F-AE269F74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18473-6859-4D62-9C61-9E994311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33E54-0979-43D0-ACC7-FE80AE1E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B945E-9DE8-40B0-9F76-9EA4B0FA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2F567-58D1-458B-B6C6-3A09F00F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BA298-8860-46E2-B0D9-FC1E8B5A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83E75-C200-4B16-9308-0BC8B827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350B1-B6F9-4BB5-A5B6-988C6283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A2F74-F2EA-4384-8606-E556A036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09391-11CF-4B18-9B2F-8A812406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A81-A8C4-4E92-BA48-4D5921B4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C4A48-DF54-401F-8BB3-9A7ACDE2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7DEB3-5D44-4F56-BCCC-561031D4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3CCBA-825D-485F-BAC9-72D29B7E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253DA-DD37-4EC4-9BEF-83019BC2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7A2F4-7E0F-43A4-A8BC-AAF7C239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C1E1-7898-4857-943D-DC7EFEA1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1735-AA66-4AD6-B2F9-44F4AF12F22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B923-79A6-4D60-9663-9AF941F7442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FA66-D59D-42EE-A450-E783E6026C1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FA22-D2F5-44A7-BE13-DF881CAA9BA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BE05-57D2-458B-A9C6-83791673289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6FBC-8B34-4CE5-9632-7D88353C154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A0D5-AE19-49E5-985C-234B9C99F9A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1149-DAB7-4816-8BFE-9F396706975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0B17-FA0E-423C-85ED-42EDCC68F03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159B-7E0A-4AAB-B4CB-168653CE04B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0738-2757-4FEC-83CF-08020F74377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8E35-24CF-4B00-915C-C78FE713755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669A-7EB5-4531-90FD-60A101FE9C3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04F2-FE0C-4B81-9289-8648C1F8A60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3" descr=""/>
          <p:cNvPicPr/>
          <p:nvPr/>
        </p:nvPicPr>
        <p:blipFill>
          <a:blip r:embed="rId1"/>
          <a:stretch/>
        </p:blipFill>
        <p:spPr>
          <a:xfrm>
            <a:off x="-92160" y="274680"/>
            <a:ext cx="9455400" cy="565632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"/>
          <p:cNvSpPr/>
          <p:nvPr/>
        </p:nvSpPr>
        <p:spPr>
          <a:xfrm>
            <a:off x="357120" y="214200"/>
            <a:ext cx="835812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4. Право без согласия родителей распоряжаться своим заработком и иными доход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5. Права без согласия родителей осуществлять права автор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6.  Право самостоятельно совершать некоторые сделки и нести ответственность за них 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1"/>
          <p:cNvSpPr/>
          <p:nvPr/>
        </p:nvSpPr>
        <p:spPr>
          <a:xfrm>
            <a:off x="357120" y="642960"/>
            <a:ext cx="83581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7. Право быть принятым на работу в свободное от учебы врем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8. Право иметь паспор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9. Уголовная  ответствен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785880" y="714240"/>
            <a:ext cx="7715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5  лет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0. Право соглашаться  или не соглашаться  на медицинское вмешательство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1.  Право быть принятым на работу в случае получения основного общего образова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500040" y="285840"/>
            <a:ext cx="82868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6  лет: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2. Право вступать в брак при наличие уважительной причины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3. Право  самостоятельно осуществлять родительские пра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4. Административ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ственность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214200" y="285840"/>
            <a:ext cx="7929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7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5. Право  юношей встать на воинский уч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"/>
          <p:cNvSpPr/>
          <p:nvPr/>
        </p:nvSpPr>
        <p:spPr>
          <a:xfrm>
            <a:off x="142920" y="214200"/>
            <a:ext cx="835812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8  лет: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6. Право на вступление в брак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7. Право избирать  и  голосовать на референдум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8. Право на управление легким автомобил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9. Полная материальная ответствен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0. Полная уголовная ответственность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1000080" y="428760"/>
            <a:ext cx="7715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Уполномоченный по защите прав участников образовательного процесс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Аитова Валентина Михайловн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учитель истории и обществозна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Время приема:  вторник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13 – 15 ч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Каб. №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Corbel"/>
              </a:rPr>
              <a:t>Правовой статус с рождения :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1. Право на жизнь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2.  Право на имя; 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3. Право на всестороннее развитие и уважение человеческого достоинства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4. Право на защиту своих прав и законных интересов родителями,  органами опеки и попечительства, прокурором и судом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5. Право на самостоятельное обращение в орган опеки, попечительства за защитой своих прав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6.  Право быть заслушанным в ходе судебного или административного заседания;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рождения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Право жить и воспитываться в семь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Право на имущественные прав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Право на гражданство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0. Право на использование совершенными услугами здравоохранения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Corbel"/>
              </a:rPr>
              <a:t>Правовой статус с рождения: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1.  Право на отдых и досуг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2.  Право на всестороннее участие в культурной и творческой жизни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3.  Право на защиту от экономической эксплуатации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4.  Право на защиту от незаконного употребления наркотических и психотропных веществ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6 лет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.  Право на образовани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6.  Право на  совершение мелких бытовых сделок;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"/>
          <p:cNvSpPr/>
          <p:nvPr/>
        </p:nvSpPr>
        <p:spPr>
          <a:xfrm>
            <a:off x="642960" y="500040"/>
            <a:ext cx="77868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8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7. Право быть членом и участником детского общественного объ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. Ответственность в виде помещения в специальное  учебно – воспитательное учреждение открытого типа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1"/>
          <p:cNvSpPr/>
          <p:nvPr/>
        </p:nvSpPr>
        <p:spPr>
          <a:xfrm>
            <a:off x="500040" y="357120"/>
            <a:ext cx="77868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0  л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9. Право давать согласие на изменение своего имени и фамилии, на восстановление родителя в родительских правах;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1"/>
          <p:cNvSpPr/>
          <p:nvPr/>
        </p:nvSpPr>
        <p:spPr>
          <a:xfrm>
            <a:off x="642960" y="785880"/>
            <a:ext cx="8072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1  л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0. Ответственность в виде помещения в специальное воспитательное учреждение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"/>
          <p:cNvSpPr/>
          <p:nvPr/>
        </p:nvSpPr>
        <p:spPr>
          <a:xfrm>
            <a:off x="785880" y="642960"/>
            <a:ext cx="75722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1. Право давать согласие на изменение своего граждан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2. Право отмены усыновл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3. Право требовать установления отцовства в отношении своего ребенка в судебном порядке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6:51:56Z</dcterms:created>
  <dc:creator>User</dc:creator>
  <dc:description/>
  <dc:language>en-US</dc:language>
  <cp:lastModifiedBy>LEGION</cp:lastModifiedBy>
  <dcterms:modified xsi:type="dcterms:W3CDTF">2015-01-28T13:37:43Z</dcterms:modified>
  <cp:revision>24</cp:revision>
  <dc:subject/>
  <dc:title>Правовой статус несовершеннолетних с рождения до совершеннолетия</dc:title>
</cp:coreProperties>
</file>