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У СОШ №54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ичный права и свободы чело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ила: Утаганова Гузалия Ш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: Кутепова Т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 и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сове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 передвиж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о определять и указывать свою национальнос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прав и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Уголовный кодекс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Федеральный закон «О языках народов РСФСР» от 25 октября 1991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http://www.adhdport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http://www.glossary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http://lawtoday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http://www.pr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http://state.r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 данного исследования-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 данного исследования- Конституция РФ и законы РФ, касающиеся прав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ы, используемые в данной работе: изучение и анализ различных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значимость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е пра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на жизн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ую целостность и личную неприкосно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защиту чести и доброго имени;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ное передвижение и свободный выбор места жи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покидать собственную страну и свободно возвращаться в не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и правосуд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 на жизн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CAD-82B6-4EEB-9616-93448FD8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468-9EA1-4A22-A302-A5C303B6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EFC-1B04-44DC-8A76-D3E61861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775-CBF6-4B7E-818E-C048E33C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ABB-62BB-4539-B579-B614A28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1AF-4DFF-41A7-B0B8-322CB49A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C64-9706-4BC7-B863-C52BBD5B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5E3-A414-4F12-82ED-DE22BB9F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5D7-2E89-4C61-B7F7-7A06186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8A4-D843-4207-B8BE-C156FB7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196-7D77-4389-AC51-8D3D3F5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CB9-C32B-42FB-9858-8321747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E3F226-348E-4DC2-99F2-DA8533EAB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77480"/>
            <a:ext cx="7991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У СОШ №54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Личный права и свободы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40000" y="4233960"/>
            <a:ext cx="50036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Утаганова Гузалия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Кутеп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3739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258995878_147478_image_large"/>
          <p:cNvPicPr/>
          <p:nvPr/>
        </p:nvPicPr>
        <p:blipFill>
          <a:blip r:embed="rId1"/>
          <a:stretch/>
        </p:blipFill>
        <p:spPr>
          <a:xfrm>
            <a:off x="1979640" y="2549520"/>
            <a:ext cx="5113440" cy="4092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обода сове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interfaithBest"/>
          <p:cNvPicPr/>
          <p:nvPr/>
        </p:nvPicPr>
        <p:blipFill>
          <a:blip r:embed="rId1"/>
          <a:stretch/>
        </p:blipFill>
        <p:spPr>
          <a:xfrm>
            <a:off x="1763640" y="1170000"/>
            <a:ext cx="566424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 на свободу передвиж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5overbay"/>
          <p:cNvPicPr/>
          <p:nvPr/>
        </p:nvPicPr>
        <p:blipFill>
          <a:blip r:embed="rId1"/>
          <a:stretch/>
        </p:blipFill>
        <p:spPr>
          <a:xfrm>
            <a:off x="2268360" y="62064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 определять и указывать свою национальност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удебную защиту прав и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б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_14ceae64"/>
          <p:cNvPicPr/>
          <p:nvPr/>
        </p:nvPicPr>
        <p:blipFill>
          <a:blip r:embed="rId1"/>
          <a:stretch/>
        </p:blipFill>
        <p:spPr>
          <a:xfrm>
            <a:off x="3276720" y="1557360"/>
            <a:ext cx="259056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8996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нституция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головный кодекс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едеральный закон «О языках народов РСФСР» от 25 октября 199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едеральный закон "О национальной культурной автономии" от 17 июня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http://www.adhdport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http://www.glossar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http://lawtoda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http://www.pr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http://state.r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данного исследования- личные права и свобод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данного исследования- Конституция РФ и законы РФ, касающиес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, используемые в данной работе: изучение и анал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значим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ую целостность и личную неприкосновен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защиту чести и доброго имени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ное передвижение и свободный выбор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покидать собственную страну и свободно возвращаться в н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удебную защиту и правосу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, совести и рели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210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о на жизн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85_04_10_2010_1_p_1"/>
          <p:cNvPicPr/>
          <p:nvPr/>
        </p:nvPicPr>
        <p:blipFill>
          <a:blip r:embed="rId1"/>
          <a:stretch/>
        </p:blipFill>
        <p:spPr>
          <a:xfrm>
            <a:off x="1476360" y="83988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0:27:20Z</dcterms:created>
  <dc:creator>Admin</dc:creator>
  <dc:description/>
  <dc:language>en-US</dc:language>
  <cp:lastModifiedBy>LEGION</cp:lastModifiedBy>
  <dcterms:modified xsi:type="dcterms:W3CDTF">2015-01-28T13:38:33Z</dcterms:modified>
  <cp:revision>19</cp:revision>
  <dc:subject/>
  <dc:title>Личные права человека</dc:title>
</cp:coreProperties>
</file>