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У СОШ №54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ичный права и свободы чело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ила: Утаганова Гузалия Ш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ководитель: Кутепова Т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 и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сове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 передвижения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о определять и указывать свою национальност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прав и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Уголовный кодекс 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Федеральный закон «О языках народов РСФСР» от 25 октября 1991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"О национальной культурной автономии" от 17 июня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http://www.adhdport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http://www.glossary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http://lawtoday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http://www.pr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http://state.ri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 данного исследования-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 данного исследования- Конституция РФ и законы РФ, касающиеся прав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ы, используемые в данной работе: изучение и анализ различны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значимость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чные пра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на жизн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ую целостность и личную неприкосно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защиту чести и доброго имени;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вободное передвижение и свободный выбор места житель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покидать собственную страну и свободно возвращаться в не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на судебную защиту и правосуд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вобода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 на жизн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077-3B6A-45D5-A5D2-81A09CAA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B6A-9DF8-4FC7-9550-E12E30C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B9B-51BB-44BF-A033-50E0A774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6F2-5EA2-4345-980D-F77D8EB1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5A2-ABEB-42A3-9189-BEAAB70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444-0B32-485C-A7FC-D59A0E10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FC2-2D72-45AA-BA8B-F1871F7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3A3-DDE7-4AAB-8997-C3870D9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724-BE5C-40A4-ABAE-153EFBD0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D97-D401-4103-8D72-BBFE16A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73C-E294-4D09-A1F6-009C50D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494-6E57-481E-992B-985B372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BFB649-1AD1-45E4-9425-3D2972635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77480"/>
            <a:ext cx="79912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У СОШ №54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Личный права и свободы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40000" y="4233960"/>
            <a:ext cx="50036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Утаганова Гузалия 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Кутепова Т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3739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раничения свободы личности допускаются только на основе закона и в законных формах, под судебным контрол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нтия неприкосновенности жилища (ст. 25) означает, что никто не имеет права без законного основания войти в жилище, а также оставаться в нем против воли проживающих в нем 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258995878_147478_image_large"/>
          <p:cNvPicPr/>
          <p:nvPr/>
        </p:nvPicPr>
        <p:blipFill>
          <a:blip r:embed="rId1"/>
          <a:stretch/>
        </p:blipFill>
        <p:spPr>
          <a:xfrm>
            <a:off x="1979640" y="2549520"/>
            <a:ext cx="5113440" cy="4092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икосновенность личности (ст. 22)  заключается в том, что никто не вправе насильственно ограничить свободу человека распоряжаться в рамках закона своими действиями, пользоваться свободой передвижения. Никто не может быть подвергнут аресту, заключению под стражу и содержанию под стражей иначе, как на основании судебного реш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229600" cy="60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едеральном законе от 26 сентября 1997 г. "О свободе совести и о религиозных объединениях" предусмотрена широкая система гарантий реализации принадлежащей каждому свободы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бода сове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interfaithBest"/>
          <p:cNvPicPr/>
          <p:nvPr/>
        </p:nvPicPr>
        <p:blipFill>
          <a:blip r:embed="rId1"/>
          <a:stretch/>
        </p:blipFill>
        <p:spPr>
          <a:xfrm>
            <a:off x="1763640" y="1170000"/>
            <a:ext cx="566424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 на свободу передвиж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конституционной нормы принят Закон РФ от 25 июня 1993 г. «О праве граждан на свободу передвижения, выбора места пребывания и жительства в пределах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5overbay"/>
          <p:cNvPicPr/>
          <p:nvPr/>
        </p:nvPicPr>
        <p:blipFill>
          <a:blip r:embed="rId1"/>
          <a:stretch/>
        </p:blipFill>
        <p:spPr>
          <a:xfrm>
            <a:off x="2268360" y="620640"/>
            <a:ext cx="403236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о определять и указывать свою национальност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е национальных интересов граждан Российской Федерации в деле развития культуры языка и т. д. способствует Федеральный закон "О национальной культурной автономии" от 17 июня 199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удебную защиту прав и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б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_14ceae64"/>
          <p:cNvPicPr/>
          <p:nvPr/>
        </p:nvPicPr>
        <p:blipFill>
          <a:blip r:embed="rId1"/>
          <a:stretch/>
        </p:blipFill>
        <p:spPr>
          <a:xfrm>
            <a:off x="3276720" y="1557360"/>
            <a:ext cx="259056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8996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аждане и жители России могут и должны требовать защиты своих прав в судебных органах, так как Российское законодательство дает им такую возможность и такое пра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ституция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головный кодекс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Федеральный закон. "О свободе совести и о религиозных объединениях"от 26 сентября 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едеральный закон «О языках народов РСФСР» от 25 октября 199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едеральный закон "О национальной культурной автономии" от 17 июня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едеральный закон «О праве граждан на свободу передвижения, выбора места пребывания и жительства в пределах Российской Федерации» от 25 июня 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Федеральный закон "О порядке выезда из Российской Федерации и въезда в Российскую Федерацию" от 15 августа 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http://www.adhdpor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http://www.glossar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http://lawtoda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http://www.pr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http://state.ri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данного исследования- личные права и свобод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данного исследования- Конституция РФ и законы РФ, касающиес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, используемые в данной работе: изучение и анал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значим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ое исследование может оказать помощь в поиске законов, подтверждающих действие прав и свобод на территории России. Так же данное исследование может использоваться на уроках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чными правами называют совокупность естественных и неотчуждаемых основополагающих прав и свобод, принадлежащих человеку от рождения и не зависящих от его принадлежности к конкретному государств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ы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 жизн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ую целостность и личную неприкосновен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защиту чести и доброго имени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вободное передвижение и свободный выбор места жи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покидать собственную страну и свободно возвращаться в н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на судебную защиту и правосу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а мысли, совести и рели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закон Российской Федерации – Конституция, подтверждает защиту в нашей стране прав и свобод, провозглашенных в международных документах: Декларации прав человека, Европейской конвенции о правах человека. В действующей Конституции личным правам и свободам посвящены статьи 20 – 2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21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аво на жизн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85_04_10_2010_1_p_1"/>
          <p:cNvPicPr/>
          <p:nvPr/>
        </p:nvPicPr>
        <p:blipFill>
          <a:blip r:embed="rId1"/>
          <a:stretch/>
        </p:blipFill>
        <p:spPr>
          <a:xfrm>
            <a:off x="1476360" y="839880"/>
            <a:ext cx="575964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ме основного закона страны на защите личных прав и свобод человека стоят и другие законы, например Уголовный кодекс Р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0:27:20Z</dcterms:created>
  <dc:creator>Admin</dc:creator>
  <dc:description/>
  <dc:language>en-US</dc:language>
  <cp:lastModifiedBy>LEGION</cp:lastModifiedBy>
  <dcterms:modified xsi:type="dcterms:W3CDTF">2015-01-28T13:38:33Z</dcterms:modified>
  <cp:revision>19</cp:revision>
  <dc:subject/>
  <dc:title>Личные права человека</dc:title>
</cp:coreProperties>
</file>