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У СОШ №54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ичный права и свободы чело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ила: Утаганова Гузалия Ш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: Кутепова Т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 и с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сове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 передвиж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о определять и указывать свою национальнос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прав и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сок литера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Уголовный кодекс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Федеральный закон «О языках народов РСФСР» от 25 октября 1991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http://www.adhdporta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http://www.glossary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http://lawtoday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http://www.pr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http://state.r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мет данного исследования-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 данного исследования- Конституция РФ и законы РФ, касающиеся прав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ы, используемые в данной работе: изучение и анализ различных источ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значимость исслед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е пра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на жизн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ую целостность и личную неприкосно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защиту чести и доброго имени;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ное передвижение и свободный выбор места жи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покидать собственную страну и свободно возвращаться в не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и правосуд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 на жизн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416-CCA9-4044-91DB-39DF792F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FED-F0BE-4032-88B8-9E9E593C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304-CB7F-4716-8366-01D244C6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D0D-426B-411B-8F99-071D92B1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34D-6523-4935-9DC5-63B7000A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33F-48AF-4E37-8526-54783576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505-9492-4298-BC3D-1E3B0EDC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F47-E547-4F18-A203-46EBA041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62A-ECE5-4034-9AC8-8E78C0B4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BD1-EBD0-4040-B9F2-CCA04B75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2E4-CC62-4BFC-90CE-8AA40087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D80-6BD1-4C05-90F2-B46A12E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D654F-06D9-402E-8AA6-D9CAEA2EE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77480"/>
            <a:ext cx="7991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У СОШ №54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Личный права и свободы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40000" y="4233960"/>
            <a:ext cx="50036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Утаганова Гузалия 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Кутеп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3739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258995878_147478_image_large"/>
          <p:cNvPicPr/>
          <p:nvPr/>
        </p:nvPicPr>
        <p:blipFill>
          <a:blip r:embed="rId1"/>
          <a:stretch/>
        </p:blipFill>
        <p:spPr>
          <a:xfrm>
            <a:off x="1979640" y="2549520"/>
            <a:ext cx="5113440" cy="4092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2296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обода сове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interfaithBest"/>
          <p:cNvPicPr/>
          <p:nvPr/>
        </p:nvPicPr>
        <p:blipFill>
          <a:blip r:embed="rId1"/>
          <a:stretch/>
        </p:blipFill>
        <p:spPr>
          <a:xfrm>
            <a:off x="1763640" y="1170000"/>
            <a:ext cx="566424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 на свободу передвиж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5overbay"/>
          <p:cNvPicPr/>
          <p:nvPr/>
        </p:nvPicPr>
        <p:blipFill>
          <a:blip r:embed="rId1"/>
          <a:stretch/>
        </p:blipFill>
        <p:spPr>
          <a:xfrm>
            <a:off x="2268360" y="620640"/>
            <a:ext cx="403236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 определять и указывать свою национальност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на судебную защиту прав и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б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_14ceae64"/>
          <p:cNvPicPr/>
          <p:nvPr/>
        </p:nvPicPr>
        <p:blipFill>
          <a:blip r:embed="rId1"/>
          <a:stretch/>
        </p:blipFill>
        <p:spPr>
          <a:xfrm>
            <a:off x="3276720" y="1557360"/>
            <a:ext cx="2590560" cy="5300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8996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нституция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головный кодекс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едеральный закон «О языках народов РСФСР» от 25 октября 199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едеральный закон "О национальной культурной автономии" от 17 июня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http://www.adhdport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http://www.glossar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http://lawtoda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http://www.pr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http://state.r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данного исследования- личные права и свобод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данного исследования- Конституция РФ и законы РФ, касающиеся прав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, используемые в данной работе: изучение и анал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значим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ы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ую целостность и личную неприкосновен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защиту чести и доброго имени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ное передвижение и свободный выбор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покидать собственную страну и свободно возвращаться в н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удебную защиту и правосу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, совести и рели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210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аво на жизн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85_04_10_2010_1_p_1"/>
          <p:cNvPicPr/>
          <p:nvPr/>
        </p:nvPicPr>
        <p:blipFill>
          <a:blip r:embed="rId1"/>
          <a:stretch/>
        </p:blipFill>
        <p:spPr>
          <a:xfrm>
            <a:off x="1476360" y="839880"/>
            <a:ext cx="575964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0:27:20Z</dcterms:created>
  <dc:creator>Admin</dc:creator>
  <dc:description/>
  <dc:language>en-US</dc:language>
  <cp:lastModifiedBy>LEGION</cp:lastModifiedBy>
  <dcterms:modified xsi:type="dcterms:W3CDTF">2015-01-28T13:38:33Z</dcterms:modified>
  <cp:revision>19</cp:revision>
  <dc:subject/>
  <dc:title>Личные права человека</dc:title>
</cp:coreProperties>
</file>