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-360" y="69480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МОУ СОШ №54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«Личный права и свободы человека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полнила: Утаганова Гузалия Ш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уководитель: Кутепова Т.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граничения свободы личности допускаются только на основе закона и в законных формах, под судебным контроле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арантия неприкосновенности жилища (ст. 25) означает, что никто не имеет права без законного основания войти в жилище, а также оставаться в нем против воли проживающих в нем лиц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еприкосновенность личности (ст. 22)  заключается в том, что никто не вправе насильственно ограничить свободу человека распоряжаться в рамках закона своими действиями, пользоваться свободой передвижения. Никто не может быть подвергнут аресту, заключению под стражу и содержанию под стражей иначе, как на основании судебного решения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вобода мысли и сло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законе от 26 сентября 1997 г. "О свободе совести и о религиозных объединениях" предусмотрена широкая система гарантий реализации принадлежащей каждому свободы совест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 Федеральном законе от 26 сентября 1997 г. "О свободе совести и о религиозных объединениях" предусмотрена широкая система гарантий реализации принадлежащей каждому свободы совест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вобода сове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аво на свободу передвижения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а основе конституционной нормы принят Закон РФ от 25 июня 1993 г. «О праве граждан на свободу передвижения, выбора места пребывания и жительства в пределах Российской Федерации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раво определять и указывать свою национальность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Защите национальных интересов граждан Российской Федерации в деле развития культуры языка и т. д. способствует Федеральный закон "О национальной культурной автономии" от 17 июня 1996 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аво на судебную защиту прав и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вобод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раждане и жители России могут и должны требовать защиты своих прав в судебных органах, так как Российское законодательство дает им такую возможность и такое право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0" y="69516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исок литератур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. Конституция РФ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2. Уголовный кодекс РФ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3. Федеральный закон. "О свободе совести и о религиозных объединениях"от 26 сентября 1997 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4. Федеральный закон «О языках народов РСФСР» от 25 октября 1991 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5. Федеральный закон "О национальной культурной автономии" от 17 июня 1996 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6. Федеральный закон «О праве граждан на свободу передвижения, выбора места пребывания и жительства в пределах Российской Федерации» от 25 июня 1993 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7. Федеральный закон "О порядке выезда из Российской Федерации и въезда в Российскую Федерацию" от 15 августа 1996 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8. http://www.adhdportal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9. http://www.glossary.r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0. http://lawtoday.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1. http://www.prav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2. http://state.rin.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едмет данного исследования- личные права и свободы человек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бъект данного исследования- Конституция РФ и законы РФ, касающиеся прав человек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етоды, используемые в данной работе: изучение и анализ различных источник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пасибо за внимание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актическая значимость исследова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Данное исследование может оказать помощь в поиске законов, подтверждающих действие прав и свобод на территории России. Так же данное исследование может использоваться на уроках обществозна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Личными правами называют совокупность естественных и неотчуждаемых основополагающих прав и свобод, принадлежащих человеку от рождения и не зависящих от его принадлежности к конкретному государству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Личные прав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- на жизнь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аво на свободу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физическую целостность и личную неприкосновенность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аво на защиту чести и доброго имени;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аво на свободное передвижение и свободный выбор места жительств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аво покидать собственную страну и свободно возвращаться в нее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аво на судебную защиту и правосудие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вобода мысли, совести и религи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ой закон Российской Федерации – Конституция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сновной закон Российской Федерации – Конституция, подтверждает защиту в нашей стране прав и свобод, провозглашенных в международных документах: Декларации прав человека, Европейской конвенции о правах человека. В действующей Конституции личным правам и свободам посвящены статьи 20 – 29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о на жизнь</a:t>
            </a: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роме основного закона страны на защите личных прав и свобод человека стоят и другие законы, например Уголовный кодекс РФ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28AD-41A5-476F-A8E1-7A1234A0E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4270-FBE8-48F7-8A8F-45F99EA3C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42E9-880B-4FB1-8E25-07FCAFAD8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C848-7EC3-4187-B9F5-B0E6828A7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4AB2-5244-48DD-A5D5-A5C803F89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2822-9FB4-453C-A16A-744C36763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0389-314A-49AA-A3A1-C85A9E0E5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FEFC-27BF-4AA8-98EE-A1F4EDD10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C43D-6DEC-4180-BB38-CCE985100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08C9-CA57-4358-8F01-C3F9E96B9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D6BE-8BDC-4683-9D92-50C1514BA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78C0-8830-4220-835F-803842530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F0A4E38-89BB-4B10-89D9-3297281BDF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77480"/>
            <a:ext cx="7991280" cy="37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МОУ СОШ №54</a:t>
            </a:r>
            <a:br>
              <a:rPr sz="5400"/>
            </a:br>
            <a:br>
              <a:rPr sz="5400"/>
            </a:b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«Личный права и свободы человека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140000" y="4233960"/>
            <a:ext cx="5003640" cy="22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полнила: Утаганова Гузалия Ш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уководитель: Кутепова Т.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323640" y="764640"/>
            <a:ext cx="837396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граничения свободы личности допускаются только на основе закона и в законных формах, под судебным контролем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-360"/>
            <a:ext cx="8229600" cy="26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арантия неприкосновенности жилища (ст. 25) означает, что никто не имеет права без законного основания войти в жилище, а также оставаться в нем против воли проживающих в нем лиц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" descr="1258995878_147478_image_large"/>
          <p:cNvPicPr/>
          <p:nvPr/>
        </p:nvPicPr>
        <p:blipFill>
          <a:blip r:embed="rId1"/>
          <a:stretch/>
        </p:blipFill>
        <p:spPr>
          <a:xfrm>
            <a:off x="1979640" y="2549520"/>
            <a:ext cx="5113440" cy="4092480"/>
          </a:xfrm>
          <a:prstGeom prst="rect">
            <a:avLst/>
          </a:prstGeom>
          <a:ln w="0">
            <a:noFill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53964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еприкосновенность личности (ст. 22)  заключается в том, что никто не вправе насильственно ограничить свободу человека распоряжаться в рамках закона своими действиями, пользоваться свободой передвижения. Никто не может быть подвергнут аресту, заключению под стражу и содержанию под стражей иначе, как на основании судебного решения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684360" y="549360"/>
            <a:ext cx="8229600" cy="604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вобода мысли и сл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коне от 26 сентября 1997 г. "О свободе совести и о религиозных объединениях" предусмотрена широкая система гарантий реализации принадлежащей каждому свободы сове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Федеральном законе от 26 сентября 1997 г. "О свободе совести и о религиозных объединениях" предусмотрена широкая система гарантий реализации принадлежащей каждому свободы сове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Свобода совест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interfaithBest"/>
          <p:cNvPicPr/>
          <p:nvPr/>
        </p:nvPicPr>
        <p:blipFill>
          <a:blip r:embed="rId1"/>
          <a:stretch/>
        </p:blipFill>
        <p:spPr>
          <a:xfrm>
            <a:off x="1763640" y="1170000"/>
            <a:ext cx="5664240" cy="5688000"/>
          </a:xfrm>
          <a:prstGeom prst="rect">
            <a:avLst/>
          </a:prstGeom>
          <a:ln w="0">
            <a:noFill/>
          </a:ln>
        </p:spPr>
      </p:pic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57200" y="-36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аво на свободу передвижения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 основе конституционной нормы принят Закон РФ от 25 июня 1993 г. «О праве граждан на свободу передвижения, выбора места пребывания и жительства в пределах Российской Федерации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3" descr="c5overbay"/>
          <p:cNvPicPr/>
          <p:nvPr/>
        </p:nvPicPr>
        <p:blipFill>
          <a:blip r:embed="rId1"/>
          <a:stretch/>
        </p:blipFill>
        <p:spPr>
          <a:xfrm>
            <a:off x="2268360" y="620640"/>
            <a:ext cx="4032360" cy="2664000"/>
          </a:xfrm>
          <a:prstGeom prst="rect">
            <a:avLst/>
          </a:prstGeom>
          <a:ln w="0">
            <a:noFill/>
          </a:ln>
        </p:spPr>
      </p:pic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68360" y="-360"/>
            <a:ext cx="822960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аво определять и указывать свою национальность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щите национальных интересов граждан Российской Федерации в деле развития культуры языка и т. д. способствует Федеральный закон "О национальной культурной автономии" от 17 июня 1996 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964720" cy="59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аво на судебную защиту прав и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вобод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3" descr="a_14ceae64"/>
          <p:cNvPicPr/>
          <p:nvPr/>
        </p:nvPicPr>
        <p:blipFill>
          <a:blip r:embed="rId1"/>
          <a:stretch/>
        </p:blipFill>
        <p:spPr>
          <a:xfrm>
            <a:off x="3276720" y="1557360"/>
            <a:ext cx="2590560" cy="5300640"/>
          </a:xfrm>
          <a:prstGeom prst="rect">
            <a:avLst/>
          </a:prstGeom>
          <a:ln w="0">
            <a:noFill/>
          </a:ln>
        </p:spPr>
      </p:pic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250560" y="691920"/>
            <a:ext cx="8589960" cy="55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Граждане и жители России могут и должны требовать защиты своих прав в судебных органах, так как Российское законодательство дает им такую возможность и такое право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8160" cy="12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писок литератур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1125000"/>
            <a:ext cx="86421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 Конституция РФ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 Уголовный кодекс Р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 Федеральный закон. "О свободе совести и о религиозных объединениях"от 26 сентября 1997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. Федеральный закон «О языках народов РСФСР» от 25 октября 1991 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. Федеральный закон "О национальной культурной автономии" от 17 июня 1996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. Федеральный закон «О праве граждан на свободу передвижения, выбора места пребывания и жительства в пределах Российской Федерации» от 25 июня 1993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7. Федеральный закон "О порядке выезда из Российской Федерации и въезда в Российскую Федерацию" от 15 августа 1996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8. http://www.adhdportal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9. http://www.glossary.ru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0. http://lawtoday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1. http://www.pra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2. http://state.rin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едмет данного исследования- личные права и свободы челове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ъект данного исследования- Конституция РФ и законы РФ, касающиеся прав челове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етоды, используемые в данной работе: изучение и анализ различных источни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2997000"/>
            <a:ext cx="8229600" cy="31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актическая значимость исследов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анное исследование может оказать помощь в поиске законов, подтверждающих действие прав и свобод на территории России. Так же данное исследование может использоваться на уроках обществозн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ичными правами называют совокупность естественных и неотчуждаемых основополагающих прав и свобод, принадлежащих человеку от рождения и не зависящих от его принадлежности к конкретному государству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250560" y="188640"/>
            <a:ext cx="843588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ичные прав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на жизнь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аво на свобод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изическую целостность и личную неприкосновенность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аво на защиту чести и доброго имени;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аво на свободное передвижение и свободный выбор места жительств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аво покидать собственную страну и свободно возвращаться в не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аво на судебную защиту и правосуди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вобода мысли, совести и религ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539640" y="25992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сновной закон Российской Федерации – Конституц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2268360" y="1773360"/>
            <a:ext cx="4105440" cy="5084640"/>
          </a:xfrm>
          <a:prstGeom prst="rect">
            <a:avLst/>
          </a:prstGeom>
          <a:ln w="0">
            <a:noFill/>
          </a:ln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сновной закон Российской Федерации – Конституция, подтверждает защиту в нашей стране прав и свобод, провозглашенных в международных документах: Декларации прав человека, Европейской конвенции о правах человека. В действующей Конституции личным правам и свободам посвящены статьи 20 – 29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1476000" y="0"/>
            <a:ext cx="721044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Право на жизнь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185_04_10_2010_1_p_1"/>
          <p:cNvPicPr/>
          <p:nvPr/>
        </p:nvPicPr>
        <p:blipFill>
          <a:blip r:embed="rId1"/>
          <a:stretch/>
        </p:blipFill>
        <p:spPr>
          <a:xfrm>
            <a:off x="1476360" y="839880"/>
            <a:ext cx="5759640" cy="5759280"/>
          </a:xfrm>
          <a:prstGeom prst="rect">
            <a:avLst/>
          </a:prstGeom>
          <a:ln w="0">
            <a:noFill/>
          </a:ln>
        </p:spPr>
      </p:pic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68360" y="126828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роме основного закона страны на защите личных прав и свобод человека стоят и другие законы, например Уголовный кодекс РФ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9T10:27:20Z</dcterms:created>
  <dc:creator>Admin</dc:creator>
  <dc:description/>
  <dc:language>en-US</dc:language>
  <cp:lastModifiedBy>LEGION</cp:lastModifiedBy>
  <dcterms:modified xsi:type="dcterms:W3CDTF">2015-01-28T13:38:33Z</dcterms:modified>
  <cp:revision>19</cp:revision>
  <dc:subject/>
  <dc:title>Личные права человека</dc:title>
</cp:coreProperties>
</file>