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6FA3-90A7-41D7-B610-6FEBB21B9E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" Target="../slides/slide6.xml"/><Relationship Id="rId10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A37C-7F9B-4F03-901A-51C0CE3E2741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арантии прав и свобод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207B-51F6-4E84-AF41-D6C4304D691F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FF05-83C0-471D-B9D1-B820E77E25A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План уро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2. Конституционно правовой 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человека и гражда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3. Гражданство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E3CC-7322-4F72-9387-C12F531C4F1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1200" spc="-1" strike="noStrike">
                <a:solidFill>
                  <a:srgbClr val="c0504d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015-D963-4267-BA7B-E1763FDA403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1 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3 Федеративно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4 Президент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5 Федерально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6  Правитель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7 Судебная 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8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73A3-6345-4B11-B5AF-E44987E7B937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прав и свобод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3FA9-6238-4483-BD29-DE3C608B0855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национальный на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езопасность, права и своб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рганы которых – самостоят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5F08-9EB7-4804-ABCA-71F804E0AFBB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лена общества. Он определяется,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го, Конституцией и не зависи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личных текущи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перемещений по службе, семей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ложения, должности, выполня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ункций), является единым и одинак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сех, характеризуется 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абильностью, обобщ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477-C170-41AD-9432-ADD646B1519E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ражданство 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Гражданств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зна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о рож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порядке реги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ема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результате восстановле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ой принадле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991B-EB49-4D49-A875-696BCC227195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жизнь, свободу;  ли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свободу искать, полу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збранны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аво на тру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циальное обеспечение, образо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ультурны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свобода литературного, художественн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ступ к культурным ценност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E3D0-6AD5-43CF-B38F-E3EE5E03B17B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27C-0637-4341-96E2-CF45C965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B04-0163-4F56-972A-E7BF361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877-B1DD-4D6A-A18F-D5870CC5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FB2-D045-483E-B871-F74974AD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8ED6-DAFA-49B7-86F3-3468B87D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A61-2626-4197-A4A8-3378611D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A2AA-F231-4E0B-8ABE-C6E5EE24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0996-BD15-45D0-A5E2-CD70ED0F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4687-A060-4B07-A501-5013253B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7C3C-367D-40FE-AEE5-C2EFF3EB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D1C1-B36A-4C43-BF38-BFA8097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2B9-CDD3-4643-9174-04DDD84D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0518-3F55-4112-B1A1-A74D5C74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77D5-FE91-468E-A521-D698B296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8CFD-604B-4AA3-BF61-ED9E002C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FE1D-0EBF-4683-A276-48AB75D5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44D2-6D0F-4001-9345-F37B16B9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ECF-04F2-4182-B036-DC90A520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FE4-0B0F-4209-9BE1-B5C7B22D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82F-4389-4AB5-8024-D5FC784A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B4F-DC59-431D-8FE9-3D416558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4B2-9E1C-40A2-A7B2-BD4D7C71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0EB-FD9B-4094-B160-C822ABD3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7F6-F2E9-4080-86D5-B6544733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6215-523F-4E76-8A60-4F9042C2D4A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726A-1796-4071-A9E8-E67273A3EE4B}" type="slidenum">
              <a:rPr b="0" lang="ru-RU" sz="1200" spc="-1" strike="noStrike">
                <a:solidFill>
                  <a:srgbClr val="ffba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8c29e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ba75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48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арантии прав и свобод личности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2800" spc="-1" strike="noStrike">
                <a:solidFill>
                  <a:srgbClr val="ffba75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70880" y="3676680"/>
            <a:ext cx="26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Юрид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охраны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реализации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371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Общие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экономические (материальные)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социальны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идеолог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политически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7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7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8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“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”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147000" y="5661000"/>
            <a:ext cx="281124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Monotype Corsiva"/>
              </a:rPr>
              <a:t>А. Керенский</a:t>
            </a:r>
            <a:endParaRPr b="0" lang="en-US" sz="32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ecd9"/>
                </a:solidFill>
                <a:uFillTx/>
                <a:latin typeface="Monotype Corsiva"/>
              </a:rPr>
              <a:t>План урока</a:t>
            </a:r>
            <a:r>
              <a:rPr b="0" lang="en-US" sz="4800" spc="-1" strike="noStrike" u="sng">
                <a:solidFill>
                  <a:srgbClr val="ffecd9"/>
                </a:solidFill>
                <a:uFillTx/>
                <a:latin typeface="Monotype Corsiva"/>
              </a:rPr>
              <a:t>: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1. Конституция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2. Конституционно правовой статус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человека и гражданина. 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3. Гражданство в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ba75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2400" spc="-1" strike="noStrike">
                <a:solidFill>
                  <a:srgbClr val="f67d5c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22560" y="297000"/>
            <a:ext cx="489744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34760"/>
            <a:ext cx="8496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1 Основы конституционного стро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3 Федеративное устрой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4 Президент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5 Федеральное собра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6  Правительство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7 Судебная влас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8 Местное самоуправле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Конституция Российской Федерации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903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прав и свобод человек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73440" y="108000"/>
            <a:ext cx="932508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Основы Конституционного строя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многонациональный народ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безопасность, права и свобод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требител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личности.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рганы которых – самостоятельн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360" y="-11160"/>
            <a:ext cx="8748720" cy="1711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7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члена общества. Он определяется, прежд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го, Конституцией и не зависит от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личных текущих обстоятельств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перемещений по службе, семей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ложения, должности, выполняемых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функций), является единым и одинак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ля всех, характеризуется относительной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табильностью, обобщенностью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pic>
        <p:nvPicPr>
          <p:cNvPr id="178" name="Picture 6" descr="j0233018"/>
          <p:cNvPicPr/>
          <p:nvPr/>
        </p:nvPicPr>
        <p:blipFill>
          <a:blip r:embed="rId1"/>
          <a:stretch/>
        </p:blipFill>
        <p:spPr>
          <a:xfrm rot="591000">
            <a:off x="6300360" y="2852280"/>
            <a:ext cx="2148120" cy="21812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ражданство в РФ</a:t>
            </a:r>
            <a:r>
              <a:rPr b="0" lang="ru-RU" sz="44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Гражданство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зна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о рождени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в порядке регистра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ема в граждан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 результате восстановле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ой принадлежност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136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жизнь, свободу;  личну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свободу искать, получа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збранными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аво на труд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оциальное обеспечение, образование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Культурные права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свобода литературного, художественного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оступ к культурным ценностям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9:51:18Z</dcterms:created>
  <dc:creator>Артем</dc:creator>
  <dc:description/>
  <dc:language>en-US</dc:language>
  <cp:lastModifiedBy>LEGION</cp:lastModifiedBy>
  <dcterms:modified xsi:type="dcterms:W3CDTF">2015-01-28T13:39:03Z</dcterms:modified>
  <cp:revision>20</cp:revision>
  <dc:subject/>
  <dc:title>Тема: Права и свободы человека и гражданина по Конституции Российской Федера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