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BEA3-1C42-4A37-BF4D-DC50813620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" Target="../slides/slide6.xml"/><Relationship Id="rId10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B730-64CF-4EF1-B0FC-F1089502E952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арантии прав и свобод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5E1E-AE91-4526-84B4-47148DD52FD3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42D1-AC2F-4FA9-9089-1A3C255945AF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План уро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2. Конституционно правовой 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человека и гражда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3. Гражданство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7FFA-D16C-457E-830F-C1682B069DB6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1200" spc="-1" strike="noStrike">
                <a:solidFill>
                  <a:srgbClr val="c0504d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3565-BE1D-4898-99D9-E2E34D3BBD11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1 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3 Федеративно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4 Президент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5 Федерально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6  Правитель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7 Судебная 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8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C705-83B2-4C42-AEEE-AC1EC7CBAC7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прав и свобод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BFF7-DA65-44A3-8BE9-08B67181DBC6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национальный на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езопасность, права и своб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рганы которых – самостоят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C23C-22B1-4FB4-8988-8F1E9E8F18BB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лена общества. Он определяется,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го, Конституцией и не зависи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личных текущи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перемещений по службе, семей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ложения, должности, выполня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ункций), является единым и одинак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сех, характеризуется 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абильностью, обобщ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0BEA-F5C2-468B-B94D-19F8C03F507F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ражданство 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Гражданств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зна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 рож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порядке реги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ема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результате восстановле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ой принадле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C6B8-1F91-4529-B4FF-508A8551BB42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жизнь, свободу;  ли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свободу искать, полу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збранны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аво на тру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циальное обеспечение, образ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ультурны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свобода литературного, художественн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ступ к культурным ценност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0FDB-958C-4773-8871-C52E8C9AD0BB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176-00D0-4E5C-9283-AD3B7188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C07-F41C-4454-9367-07071E9C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AE36-CFCD-4B58-BC61-E5DEA2DD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362-1128-4273-BC1C-D79A4E05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9D8-0EF9-4013-9013-E475DB32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A771-E97F-4361-BB24-B60B579A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D21B-C186-44EA-B7FF-52E9A58A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DEDD-39C9-487B-9AE4-5FF9DB8B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1082-8DBA-4A9B-BBFF-22927840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3CA6-25A4-4E78-908C-C044F337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6756-C064-4D82-84ED-6ACBB0E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BB6-CDBE-414E-8666-F3BB9D43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C48B-1266-4A99-861E-6C6F871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46E5-4667-48F3-90A5-3FDA84C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3D6A-8D83-4830-B3A0-55BCC80B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B56E-1DCA-4C5D-B76B-8770A110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693A-C77C-4026-850E-DF5EFEC6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254-2E65-4046-9BD8-F047635D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BC3F-9668-4FDF-A7F1-1028B5E5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0DC-AF7A-4800-A00F-58A4951B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291-D127-4419-8CAA-50B48487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09B-ADD4-4D8B-AD64-FC6DEF81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243-0AC2-4200-BB5B-F777F3C4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DBD-7F8B-40CB-ADE9-D14F996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178-4F72-4D24-8BFA-70EF82116A4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05E2-FB96-41C2-8106-8B40203EB69E}" type="slidenum">
              <a:rPr b="0" lang="ru-RU" sz="1200" spc="-1" strike="noStrike">
                <a:solidFill>
                  <a:srgbClr val="ffba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8c29e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ba75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48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арантии прав и свобод личности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2800" spc="-1" strike="noStrike">
                <a:solidFill>
                  <a:srgbClr val="ffba75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70880" y="3676680"/>
            <a:ext cx="26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Юрид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охраны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реализации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371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Общие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экономические (материальные)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социальны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идеолог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политически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7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7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8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“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”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47000" y="5661000"/>
            <a:ext cx="281124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Monotype Corsiva"/>
              </a:rPr>
              <a:t>А. Керенский</a:t>
            </a:r>
            <a:endParaRPr b="0" lang="en-US" sz="32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ecd9"/>
                </a:solidFill>
                <a:uFillTx/>
                <a:latin typeface="Monotype Corsiva"/>
              </a:rPr>
              <a:t>План урока</a:t>
            </a:r>
            <a:r>
              <a:rPr b="0" lang="en-US" sz="4800" spc="-1" strike="noStrike" u="sng">
                <a:solidFill>
                  <a:srgbClr val="ffecd9"/>
                </a:solidFill>
                <a:uFillTx/>
                <a:latin typeface="Monotype Corsiva"/>
              </a:rPr>
              <a:t>: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1. Конституция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2. Конституционно правовой статус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человека и гражданина. 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3. Гражданство в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ba75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2400" spc="-1" strike="noStrike">
                <a:solidFill>
                  <a:srgbClr val="f67d5c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22560" y="297000"/>
            <a:ext cx="489744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34760"/>
            <a:ext cx="8496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1 Основы конституционного стро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3 Федеративное устрой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4 Президент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5 Федеральное собра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6  Правительство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7 Судебная влас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8 Местное самоуправле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Конституция Российской Федерации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903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прав и свобод человек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73440" y="108000"/>
            <a:ext cx="932508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Основы Конституционного строя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многонациональный народ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безопасность, права и свобод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требител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личности.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рганы которых – самостоятельн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360" y="-11160"/>
            <a:ext cx="8748720" cy="171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7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члена общества. Он определяется, прежд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го, Конституцией и не зависит от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личных текущих обстоятельств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перемещений по службе, семей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ложения, должности, выполняемых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функций), является единым и одинак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ля всех, характеризуется относительной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табильностью, обобщенностью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pic>
        <p:nvPicPr>
          <p:cNvPr id="178" name="Picture 6" descr="j0233018"/>
          <p:cNvPicPr/>
          <p:nvPr/>
        </p:nvPicPr>
        <p:blipFill>
          <a:blip r:embed="rId1"/>
          <a:stretch/>
        </p:blipFill>
        <p:spPr>
          <a:xfrm rot="591000">
            <a:off x="6300360" y="2852280"/>
            <a:ext cx="2148120" cy="21812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ражданство в РФ</a:t>
            </a:r>
            <a:r>
              <a:rPr b="0" lang="ru-RU" sz="44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Гражданство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зна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о рождени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в порядке регистра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ема в граждан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 результате восстановле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ой принадлежност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36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жизнь, свободу;  личну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свободу искать, получа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збранными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аво на труд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оциальное обеспечение, образование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Культурные права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свобода литературного, художественного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оступ к культурным ценностям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9:51:18Z</dcterms:created>
  <dc:creator>Артем</dc:creator>
  <dc:description/>
  <dc:language>en-US</dc:language>
  <cp:lastModifiedBy>LEGION</cp:lastModifiedBy>
  <dcterms:modified xsi:type="dcterms:W3CDTF">2015-01-28T13:39:03Z</dcterms:modified>
  <cp:revision>20</cp:revision>
  <dc:subject/>
  <dc:title>Тема: Права и свободы человека и гражданина по Конституции Российской Федера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