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ba75"/>
              </a:solidFill>
              <a:latin typeface="Comic Sans MS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cd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7B71C-066A-476E-BC38-31383BBB3B1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slide" Target="../slides/slide6.xml"/><Relationship Id="rId10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Тема: Права и свободы человека и гражданина по Конституции Российской Федераци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04DC7-376B-4B01-A09E-226D2E0C9AE6}" type="slidenum">
              <a:rPr b="0" lang="uk-UA" sz="1200" spc="-1" strike="noStrike">
                <a:solidFill>
                  <a:srgbClr val="ffba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Гарантии прав и свобод личност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С точки зрения общей системы, гарантии прав человека и гражданина, рассматривают как: общие и юридические</a:t>
            </a:r>
            <a:r>
              <a:rPr b="0" i="1" lang="ru-RU" sz="1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A65C1-880B-4751-967F-5EAFB666DD02}" type="slidenum">
              <a:rPr b="0" lang="uk-UA" sz="1200" spc="-1" strike="noStrike">
                <a:solidFill>
                  <a:srgbClr val="ffba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Главным принципом любой Конституции является положение о том, что верховная власть не может принять закон без одобрения представителей народа</a:t>
            </a:r>
            <a:r>
              <a:rPr b="0" lang="en-US" sz="1200" spc="-1" strike="noStrike">
                <a:solidFill>
                  <a:srgbClr val="000000"/>
                </a:solidFill>
                <a:latin typeface="Monotype Corsiva"/>
              </a:rPr>
              <a:t>”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176E7-D533-4163-A032-4840B8C4513F}" type="slidenum">
              <a:rPr b="0" lang="uk-UA" sz="1200" spc="-1" strike="noStrike">
                <a:solidFill>
                  <a:srgbClr val="ffba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План урока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Monotype Corsiv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1. Конституция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2. Конституционно правовой стату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человека и граждани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3. Гражданство в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4. Система прав и свобод человека и граждан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5. Гарантии прав и  свобод человека и граждан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304A9-BCAF-4816-B876-E523E78F0CD0}" type="slidenum">
              <a:rPr b="0" lang="uk-UA" sz="1200" spc="-1" strike="noStrike">
                <a:solidFill>
                  <a:srgbClr val="ffba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504d"/>
                </a:solidFill>
                <a:latin typeface="Monotype Corsiva"/>
              </a:rPr>
              <a:t>Конституция РФ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504d"/>
                </a:solidFill>
                <a:latin typeface="Monotype Corsiva"/>
              </a:rPr>
              <a:t>принята всенародным голосование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504d"/>
                </a:solidFill>
                <a:latin typeface="Monotype Corsiva"/>
              </a:rPr>
              <a:t>12декабря 1993 г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Monotype Corsiva"/>
              </a:rPr>
              <a:t>Мы, многонациональный народ Российской Федерации, соединенные общей судьбой на своей земле, утверждая права и свободы человека, гражданский мир и согласие, сохраняя исторически сложившееся государственное единство, исходя из общепринятых принципов равноправия и самоопределения народов, чтя память предков, передавших нам любовь и уважение к Отечеству, веру в добро и справедливость, возрождая суверенную государственность России и утверждая незыблемость ее демократической основы, стремясь обеспечить благополучие и процветание России, исходя из ответственности за свою Родину перед нынешним и будущим поколениями,  сознавая себя частью мирового сообщества, принимаем </a:t>
            </a:r>
            <a:r>
              <a:rPr b="0" i="1" lang="ru-RU" sz="1200" spc="-1" strike="noStrike">
                <a:solidFill>
                  <a:srgbClr val="c0504d"/>
                </a:solidFill>
                <a:latin typeface="Monotype Corsiva"/>
              </a:rPr>
              <a:t>КОНСТИТУЦИЮ РОССИЙСКОЙ ФЕДЕРАЦИИ.</a:t>
            </a:r>
            <a:r>
              <a:rPr b="0" lang="ru-RU" sz="1200" spc="-1" strike="noStrike">
                <a:solidFill>
                  <a:srgbClr val="c0504d"/>
                </a:solidFill>
                <a:latin typeface="Monotype Corsi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7B995-41D1-484A-A351-3AC57ABC37BC}" type="slidenum">
              <a:rPr b="0" lang="uk-UA" sz="1200" spc="-1" strike="noStrike">
                <a:solidFill>
                  <a:srgbClr val="ffba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бщая характеристика Конституции РФ 1993 год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онституция России состоит из преамбулы и двух раздел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Основным является первый раздел, состоящий из 9 гла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лава 1 Основы конституционного стро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лава 2 Права и свободы  человека и граждан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лава 3 Федеративное устро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лава 4 Президент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лава 5 Федеральное собр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лава 6  Правительство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лава 7 Судебная вла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лава 8 Местное самоупр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лава 9 Конституционные поправки и пересмотр Конститу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торой («Заключительные и переходные положения») предусматривает ряд норм, которые носят временный характ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9053A-34C4-4160-9608-FD6CD9B0AB52}" type="slidenum">
              <a:rPr b="0" lang="uk-UA" sz="1200" spc="-1" strike="noStrike">
                <a:solidFill>
                  <a:srgbClr val="ffba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онституция Российской Федер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онституция РФ принимается многонациональным народом РФ, в ней называются цели, реализация которых является основной задачей государ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утверждение прав и свобод челове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утверждение гражданского мира и согласия в РФ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сохранение исторически сложившегося государственного единств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возрождение суверенной государственности Росс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утверждение незыблемости демократических основ Российского        государств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обеспечение благополучия и процветания Ро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1A14F-B08C-45A7-BC9B-E46BD0E257D1}" type="slidenum">
              <a:rPr b="0" lang="uk-UA" sz="1200" spc="-1" strike="noStrike">
                <a:solidFill>
                  <a:srgbClr val="ffba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Основы Конституционного стро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Россия провозглашена демократическим федеративным правов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осударством с республиканской формой пр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Единственным источником власти в России является 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многонациональный наро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ысшей ценностью в Российской Федерации являются человек, 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жизнь и здоровье, честь и достоинство, личная неприкосновенность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безопасность, права и свобо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осударство проводит гуманную демографическую полит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ризнается политическое многообразие, многопартий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Экономические отношения строятся на основе социальн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артнерства человека и государства, работника и работодател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отребител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Обеспечение равных и справедливых возможностей для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личност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осударственная власть в России осуществляется на осно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разделения на законодательную, исполнительную и судебную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органы которых – самостоятель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4F053-97E1-40EA-B20C-E3515281FA2C}" type="slidenum">
              <a:rPr b="0" lang="uk-UA" sz="1200" spc="-1" strike="noStrike">
                <a:solidFill>
                  <a:srgbClr val="ffba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Конституционно правовой статус человека и гражданин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omic Sans MS"/>
              </a:rPr>
              <a:t>Конституционно правовой статус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это статус лица как гражданина государств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члена общества. Он определяется, преж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сего, Конституцией и не зависит 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различных текущих обстоятель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(перемещений по службе, семейн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оложения, должности, выполняем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функций), является единым и одинаков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Для всех, характеризуется относитель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стабильностью, обобщенно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DA4E5-F050-4214-82E9-BD5221F0F2E3}" type="slidenum">
              <a:rPr b="0" lang="uk-UA" sz="1200" spc="-1" strike="noStrike">
                <a:solidFill>
                  <a:srgbClr val="ffba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Гражданство в РФ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omic Sans MS"/>
              </a:rPr>
              <a:t>Гражданство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– устойчивая правовая связь человека с государством, выражающаяся в совокупности их взаимных прав, обязанностей и ответственности, основанная на признании и уважении достоинства основных прав и свобод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ражданство подтверждается документами: паспортом, удостоверением личности, а до их получения – свидетельством о рождении или иными документом, содержащем указание на гражданство лиц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ражданство РФ может быть приобретено по ряду оснований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в результате признания гражда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по рожд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в порядке регист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в результате приема в гражд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результате восстановления гражда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путем выбора гражданства (оптации) при измен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осударственной принадлеж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310B-D39A-4AB1-86E3-DDCB1434146C}" type="slidenum">
              <a:rPr b="0" lang="uk-UA" sz="1200" spc="-1" strike="noStrike">
                <a:solidFill>
                  <a:srgbClr val="ffba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Система прав и свобод человека и граждан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се права и свободы неотделимы друг от друга и взаимосвязан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оэтому такое разделение носит условный характ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mic Sans MS"/>
              </a:rPr>
              <a:t>Личные права и свободы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(право на жизнь, свободу;  личн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неприкосновенность, свободное передвижение и выбор ме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жительства, свободу совести, мысли и слова 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mic Sans MS"/>
              </a:rPr>
              <a:t>Политические права и свободы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(право на свободу искать, получ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и распространять информацию, право на собрания, право 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участие в ведении государственных дел, право избирать и бы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избранным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mic Sans MS"/>
              </a:rPr>
              <a:t>Социальные и экономические права и свободы (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раво на труд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социальное обеспечение, образовани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mic Sans MS"/>
              </a:rPr>
              <a:t>Культурные пра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(свобода литературного, художественног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научного, технического творчества, преподавания, право на учас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 культурной жизни и пользование достижениями культуры, 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доступ к культурным ценностя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EF473-0A45-414E-A5C7-5BEC3A5EAFD7}" type="slidenum">
              <a:rPr b="0" lang="uk-UA" sz="1200" spc="-1" strike="noStrike">
                <a:solidFill>
                  <a:srgbClr val="ffba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3925-BCDC-4D7D-B0F8-A032F78CC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68FD-6F73-457E-BE41-306B6DAE9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C06E-E52B-4C0E-825D-D16C544F9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59AD-6BFC-4205-84DD-35C9BA927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4CE2C-B687-4D31-892B-0EA44ACF9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D462D-474C-4CDE-AB2F-3315586BD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1B594-7A66-42F4-A911-4887BFD41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964D2-B6CA-499C-BCC5-B347A258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B4922-9819-4D20-BDA8-25F042778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3E0AB-118E-4441-A126-4A4D6EDD2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DE2E6-C850-42BB-89C0-631F03FC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588C-8711-447A-84DF-228D7EB61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28E72-73CB-4385-B316-9147DD74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C97A9-E418-49DD-8CFE-BA9D72E9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40B26-2074-411F-AA70-001E507F6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DBC50-A4F3-4AA4-A344-CC3276D9F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9C2A8-1673-4E10-9843-91260C4CB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9D67-DC51-4728-816F-634A16927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29D6-A4E2-43FC-991F-178B69F09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0F21-FAE8-4E86-8497-2EFCA5A2C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0ABE-117C-4349-BF7F-637626371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9FA0-1816-4BF6-8C21-18A7A2E6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75F8-95BB-4929-9EE1-C166EDE6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1841-B0C6-4648-9047-192E6CA0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c29e"/>
            </a:gs>
            <a:gs pos="50000">
              <a:srgbClr val="ffffcc"/>
            </a:gs>
            <a:gs pos="100000">
              <a:srgbClr val="f8c2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9cdaf"/>
                </a:gs>
                <a:gs pos="100000">
                  <a:srgbClr val="f8c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f9cdaf"/>
                </a:gs>
                <a:gs pos="100000">
                  <a:srgbClr val="f8c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f9cdaf"/>
                </a:gs>
                <a:gs pos="100000">
                  <a:srgbClr val="f8c2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f9cdaf"/>
                </a:gs>
                <a:gs pos="100000">
                  <a:srgbClr val="f8c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f9cdaf"/>
                </a:gs>
                <a:gs pos="100000">
                  <a:srgbClr val="f8c2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f9cdaf"/>
                </a:gs>
                <a:gs pos="100000">
                  <a:srgbClr val="f8c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cd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e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a75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ba7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a75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67d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a75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ba7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a75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d1590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a75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ba7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a75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ba7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a75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ba75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4EA8C-0AC8-4556-8BC8-8AA390B4255A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c29e"/>
            </a:gs>
            <a:gs pos="50000">
              <a:srgbClr val="ffffcc"/>
            </a:gs>
            <a:gs pos="100000">
              <a:srgbClr val="f8c2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9cdaf"/>
                </a:gs>
                <a:gs pos="100000">
                  <a:srgbClr val="f8c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f9cdaf"/>
                </a:gs>
                <a:gs pos="100000">
                  <a:srgbClr val="f8c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f9cdaf"/>
                </a:gs>
                <a:gs pos="100000">
                  <a:srgbClr val="f8c2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f9cdaf"/>
                </a:gs>
                <a:gs pos="100000">
                  <a:srgbClr val="f8c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f9cdaf"/>
                </a:gs>
                <a:gs pos="100000">
                  <a:srgbClr val="f8c2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f9cdaf"/>
                </a:gs>
                <a:gs pos="100000">
                  <a:srgbClr val="f8c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cd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e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a75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ba7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a75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67d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a75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ba7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a75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d1590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a75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ba7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a75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ba7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a75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ba75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ba75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ba75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ba75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B6CAF-10A4-46E7-92A7-0D7E72B64A55}" type="slidenum">
              <a:rPr b="0" lang="ru-RU" sz="1200" spc="-1" strike="noStrike">
                <a:solidFill>
                  <a:srgbClr val="ffba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288468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f8c29e">
                <a:alpha val="50000"/>
              </a:srgbClr>
            </a:outerShdw>
          </a:effectLst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ba75"/>
                </a:solidFill>
                <a:latin typeface="Comic Sans MS"/>
              </a:rPr>
              <a:t>Тема: Права и свободы человека и гражданина по Конституции Российской Федерации.</a:t>
            </a:r>
            <a:r>
              <a:rPr b="0" lang="ru-RU" sz="4800" spc="-1" strike="noStrike">
                <a:solidFill>
                  <a:srgbClr val="ffecd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ba75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  <p:transition spd="slow"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8c29e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ecd9"/>
                </a:solidFill>
                <a:latin typeface="Comic Sans MS"/>
              </a:rPr>
              <a:t>Гарантии прав и свобод личности</a:t>
            </a:r>
            <a:r>
              <a:rPr b="0" lang="ru-RU" sz="4000" spc="-1" strike="noStrike">
                <a:solidFill>
                  <a:srgbClr val="ffecd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0" y="1844280"/>
            <a:ext cx="91440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ba75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ffba75"/>
                </a:solidFill>
                <a:latin typeface="Comic Sans MS"/>
              </a:rPr>
              <a:t>С точки зрения общей системы, гарантии прав человека и гражданина, рассматривают как: общие и юридические</a:t>
            </a:r>
            <a:r>
              <a:rPr b="0" i="1" lang="ru-RU" sz="2800" spc="-1" strike="noStrike">
                <a:solidFill>
                  <a:srgbClr val="ffba75"/>
                </a:solidFill>
                <a:latin typeface="Comic Sans MS"/>
              </a:rPr>
              <a:t>.</a:t>
            </a:r>
            <a:r>
              <a:rPr b="0" lang="ru-RU" sz="2800" spc="-1" strike="noStrike">
                <a:solidFill>
                  <a:srgbClr val="ffba75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5870880" y="3676680"/>
            <a:ext cx="261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ba75"/>
                </a:solidFill>
                <a:latin typeface="Comic Sans MS"/>
              </a:rPr>
              <a:t>    </a:t>
            </a:r>
            <a:r>
              <a:rPr b="0" lang="ru-RU" sz="2400" spc="-1" strike="noStrike" u="sng">
                <a:solidFill>
                  <a:srgbClr val="ffba75"/>
                </a:solidFill>
                <a:uFillTx/>
                <a:latin typeface="Comic Sans MS"/>
              </a:rPr>
              <a:t>Юридические</a:t>
            </a:r>
            <a:endParaRPr b="0" lang="en-US" sz="2400" spc="-1" strike="noStrike">
              <a:solidFill>
                <a:srgbClr val="ffba75"/>
              </a:solidFill>
              <a:latin typeface="Comic Sans MS"/>
            </a:endParaRPr>
          </a:p>
          <a:p>
            <a:pPr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ba75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ffba75"/>
                </a:solidFill>
                <a:latin typeface="Comic Sans MS"/>
              </a:rPr>
              <a:t>охраны </a:t>
            </a:r>
            <a:endParaRPr b="0" lang="en-US" sz="2400" spc="-1" strike="noStrike">
              <a:solidFill>
                <a:srgbClr val="ffba75"/>
              </a:solidFill>
              <a:latin typeface="Comic Sans MS"/>
            </a:endParaRPr>
          </a:p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ba75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ffba75"/>
                </a:solidFill>
                <a:latin typeface="Comic Sans MS"/>
              </a:rPr>
              <a:t>реализации </a:t>
            </a:r>
            <a:endParaRPr b="0" lang="en-US" sz="2400" spc="-1" strike="noStrike">
              <a:solidFill>
                <a:srgbClr val="ffba75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a75"/>
              </a:solidFill>
              <a:latin typeface="Comic Sans MS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395280" y="3716280"/>
            <a:ext cx="525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ba75"/>
                </a:solidFill>
                <a:latin typeface="Comic Sans MS"/>
              </a:rPr>
              <a:t>    </a:t>
            </a:r>
            <a:r>
              <a:rPr b="0" lang="ru-RU" sz="2400" spc="-1" strike="noStrike" u="sng">
                <a:solidFill>
                  <a:srgbClr val="ffba75"/>
                </a:solidFill>
                <a:uFillTx/>
                <a:latin typeface="Comic Sans MS"/>
              </a:rPr>
              <a:t>Общие</a:t>
            </a:r>
            <a:r>
              <a:rPr b="0" lang="ru-RU" sz="2400" spc="-1" strike="noStrike">
                <a:solidFill>
                  <a:srgbClr val="ffba75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ba75"/>
              </a:solidFill>
              <a:latin typeface="Comic Sans MS"/>
            </a:endParaRPr>
          </a:p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ba75"/>
                </a:solidFill>
                <a:latin typeface="Comic Sans MS"/>
              </a:rPr>
              <a:t>экономические (материальные)</a:t>
            </a:r>
            <a:endParaRPr b="0" lang="en-US" sz="2400" spc="-1" strike="noStrike">
              <a:solidFill>
                <a:srgbClr val="ffba75"/>
              </a:solidFill>
              <a:latin typeface="Comic Sans MS"/>
            </a:endParaRPr>
          </a:p>
          <a:p>
            <a:pPr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ba75"/>
                </a:solidFill>
                <a:latin typeface="Comic Sans MS"/>
              </a:rPr>
              <a:t>социальные </a:t>
            </a:r>
            <a:endParaRPr b="0" lang="en-US" sz="2400" spc="-1" strike="noStrike">
              <a:solidFill>
                <a:srgbClr val="ffba75"/>
              </a:solidFill>
              <a:latin typeface="Comic Sans MS"/>
            </a:endParaRPr>
          </a:p>
          <a:p>
            <a:pPr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ba75"/>
                </a:solidFill>
                <a:latin typeface="Comic Sans MS"/>
              </a:rPr>
              <a:t>идеологические</a:t>
            </a:r>
            <a:endParaRPr b="0" lang="en-US" sz="2400" spc="-1" strike="noStrike">
              <a:solidFill>
                <a:srgbClr val="ffba75"/>
              </a:solidFill>
              <a:latin typeface="Comic Sans MS"/>
            </a:endParaRPr>
          </a:p>
          <a:p>
            <a:pPr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ba75"/>
                </a:solidFill>
                <a:latin typeface="Comic Sans MS"/>
              </a:rPr>
              <a:t>политические </a:t>
            </a:r>
            <a:endParaRPr b="0" lang="en-US" sz="2400" spc="-1" strike="noStrike">
              <a:solidFill>
                <a:srgbClr val="ffba75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a75"/>
              </a:solidFill>
              <a:latin typeface="Comic Sans MS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ba75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  <p:transition spd="slow">
    <p:push dir="l"/>
  </p:transition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nodeType="clickEffect" fill="hold">
                      <p:stCondLst>
                        <p:cond delay="0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7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8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9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1120"/>
                            </p:stCondLst>
                            <p:childTnLst>
                              <p:par>
                                <p:cTn id="77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nodeType="afterEffect" fill="hold">
                            <p:stCondLst>
                              <p:cond delay="3120"/>
                            </p:stCondLst>
                            <p:childTnLst>
                              <p:par>
                                <p:cTn id="78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4120"/>
                            </p:stCondLst>
                            <p:childTnLst>
                              <p:par>
                                <p:cTn id="80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ecd9"/>
                </a:solidFill>
                <a:latin typeface="Monotype Corsiva"/>
              </a:rPr>
              <a:t>“</a:t>
            </a:r>
            <a:r>
              <a:rPr b="0" lang="ru-RU" sz="4800" spc="-1" strike="noStrike">
                <a:solidFill>
                  <a:srgbClr val="ffecd9"/>
                </a:solidFill>
                <a:latin typeface="Monotype Corsiva"/>
              </a:rPr>
              <a:t>Главным принципом любой Конституции является положение о том, что верховная власть не может принять закон без одобрения представителей народа</a:t>
            </a:r>
            <a:r>
              <a:rPr b="0" lang="en-US" sz="4800" spc="-1" strike="noStrike">
                <a:solidFill>
                  <a:srgbClr val="ffecd9"/>
                </a:solidFill>
                <a:latin typeface="Monotype Corsiva"/>
              </a:rPr>
              <a:t>”</a:t>
            </a:r>
            <a:r>
              <a:rPr b="0" lang="ru-RU" sz="4800" spc="-1" strike="noStrike">
                <a:solidFill>
                  <a:srgbClr val="ffecd9"/>
                </a:solidFill>
                <a:latin typeface="Monotype Corsiva"/>
              </a:rPr>
              <a:t>.</a:t>
            </a:r>
            <a:endParaRPr b="0" lang="en-US" sz="48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6147000" y="5661000"/>
            <a:ext cx="2811240" cy="5814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8c29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Monotype Corsiva"/>
              </a:rPr>
              <a:t>А. Керенский</a:t>
            </a:r>
            <a:endParaRPr b="0" lang="en-US" sz="3200" spc="-1" strike="noStrike">
              <a:solidFill>
                <a:srgbClr val="ffba75"/>
              </a:solidFill>
              <a:latin typeface="Comic Sans MS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ba75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  <p:transition spd="slow">
    <p:newsflash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nodeType="clickEffect" fill="hold">
                      <p:stCondLst>
                        <p:cond delay="0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8c29e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ecd9"/>
                </a:solidFill>
                <a:uFillTx/>
                <a:latin typeface="Monotype Corsiva"/>
              </a:rPr>
              <a:t>План урока</a:t>
            </a:r>
            <a:r>
              <a:rPr b="0" lang="en-US" sz="4800" spc="-1" strike="noStrike" u="sng">
                <a:solidFill>
                  <a:srgbClr val="ffecd9"/>
                </a:solidFill>
                <a:uFillTx/>
                <a:latin typeface="Monotype Corsiva"/>
              </a:rPr>
              <a:t>:</a:t>
            </a:r>
            <a:endParaRPr b="0" lang="en-US" sz="48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ba75"/>
                </a:solidFill>
                <a:latin typeface="Monotype Corsiva"/>
              </a:rPr>
              <a:t>1. Конституция РФ.</a:t>
            </a:r>
            <a:endParaRPr b="0" lang="en-US" sz="3600" spc="-1" strike="noStrike">
              <a:solidFill>
                <a:srgbClr val="ffba75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ba75"/>
                </a:solidFill>
                <a:latin typeface="Monotype Corsiva"/>
              </a:rPr>
              <a:t>2. Конституционно правовой статус</a:t>
            </a:r>
            <a:endParaRPr b="0" lang="en-US" sz="3600" spc="-1" strike="noStrike">
              <a:solidFill>
                <a:srgbClr val="ffba75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ba75"/>
                </a:solidFill>
                <a:latin typeface="Monotype Corsiva"/>
              </a:rPr>
              <a:t>человека и гражданина. </a:t>
            </a:r>
            <a:endParaRPr b="0" lang="en-US" sz="3600" spc="-1" strike="noStrike">
              <a:solidFill>
                <a:srgbClr val="ffba75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ba75"/>
                </a:solidFill>
                <a:latin typeface="Monotype Corsiva"/>
              </a:rPr>
              <a:t>3. Гражданство в РФ.</a:t>
            </a:r>
            <a:endParaRPr b="0" lang="en-US" sz="3600" spc="-1" strike="noStrike">
              <a:solidFill>
                <a:srgbClr val="ffba75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ba75"/>
                </a:solidFill>
                <a:latin typeface="Monotype Corsiva"/>
              </a:rPr>
              <a:t>4. Система прав и свобод человека и гражданина.</a:t>
            </a:r>
            <a:endParaRPr b="0" lang="en-US" sz="3600" spc="-1" strike="noStrike">
              <a:solidFill>
                <a:srgbClr val="ffba75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ba75"/>
                </a:solidFill>
                <a:latin typeface="Monotype Corsiva"/>
              </a:rPr>
              <a:t>5. Гарантии прав и  свобод человека и гражданина.</a:t>
            </a:r>
            <a:endParaRPr b="0" lang="en-US" sz="36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ba75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  <p:transition spd="slow">
    <p:push dir="l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440"/>
                            </p:stCondLst>
                            <p:childTnLst>
                              <p:par>
                                <p:cTn id="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0" y="1484280"/>
            <a:ext cx="9144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ba75"/>
                </a:solidFill>
                <a:latin typeface="Monotype Corsiva"/>
              </a:rPr>
              <a:t>Мы, многонациональный народ Российской Федерации, соединенные общей судьбой на своей земле, утверждая права и свободы человека, гражданский мир и согласие, сохраняя исторически сложившееся государственное единство, исходя из общепринятых принципов равноправия и самоопределения народов, чтя память предков, передавших нам любовь и уважение к Отечеству, веру в добро и справедливость, возрождая суверенную государственность России и утверждая незыблемость ее демократической основы, стремясь обеспечить благополучие и процветание России, исходя из ответственности за свою Родину перед нынешним и будущим поколениями,  сознавая себя частью мирового сообщества, принимаем </a:t>
            </a:r>
            <a:r>
              <a:rPr b="0" i="1" lang="ru-RU" sz="2400" spc="-1" strike="noStrike">
                <a:solidFill>
                  <a:srgbClr val="f67d5c"/>
                </a:solidFill>
                <a:latin typeface="Monotype Corsiva"/>
              </a:rPr>
              <a:t>КОНСТИТУЦИЮ РОССИЙСКОЙ ФЕДЕРАЦИИ.</a:t>
            </a:r>
            <a:r>
              <a:rPr b="0" lang="ru-RU" sz="2400" spc="-1" strike="noStrike">
                <a:solidFill>
                  <a:srgbClr val="f67d5c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ffba75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3922560" y="297000"/>
            <a:ext cx="4897440" cy="1557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8c29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67d5c"/>
                </a:solidFill>
                <a:latin typeface="Monotype Corsiva"/>
              </a:rPr>
              <a:t>Конституция РФ </a:t>
            </a:r>
            <a:endParaRPr b="0" lang="en-US" sz="2400" spc="-1" strike="noStrike">
              <a:solidFill>
                <a:srgbClr val="ffba75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67d5c"/>
                </a:solidFill>
                <a:latin typeface="Monotype Corsiva"/>
              </a:rPr>
              <a:t>принята всенародным голосованием</a:t>
            </a:r>
            <a:endParaRPr b="0" lang="en-US" sz="2400" spc="-1" strike="noStrike">
              <a:solidFill>
                <a:srgbClr val="ffba75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67d5c"/>
                </a:solidFill>
                <a:latin typeface="Monotype Corsiva"/>
              </a:rPr>
              <a:t>12декабря 1993 года</a:t>
            </a:r>
            <a:endParaRPr b="0" lang="en-US" sz="2400" spc="-1" strike="noStrike">
              <a:solidFill>
                <a:srgbClr val="ffba75"/>
              </a:solidFill>
              <a:latin typeface="Comic Sans MS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ba75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  <p:transition spd="slow">
    <p:push dir="r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45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8c29e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ecd9"/>
                </a:solidFill>
                <a:latin typeface="Comic Sans MS"/>
              </a:rPr>
              <a:t>Общая характеристика Конституции РФ 1993 года</a:t>
            </a:r>
            <a:r>
              <a:rPr b="0" lang="ru-RU" sz="4000" spc="-1" strike="noStrike">
                <a:solidFill>
                  <a:srgbClr val="ffecd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4000" y="1634760"/>
            <a:ext cx="849600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Конституция России состоит из преамбулы и двух разделов.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Основным является первый раздел, состоящий из 9 глав: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e7e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лава 1 Основы конституционного строя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e7e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лава 2 Права и свободы  человека и гражданина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e7e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лава 3 Федеративное устройство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e7e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лава 4 Президент РФ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e7e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лава 5 Федеральное собрание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e7e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лава 6  Правительство РФ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e7e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лава 7 Судебная власть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e7e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лава 8 Местное самоуправление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e7e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лава 9 Конституционные поправки и пересмотр Конституции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второй («Заключительные и переходные положения») предусматривает ряд норм, которые носят временный характер.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ba75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  <p:transition spd="slow">
    <p:push dir="u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640"/>
                            </p:stCondLst>
                            <p:childTnLst>
                              <p:par>
                                <p:cTn id="8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8c29e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ecd9"/>
                </a:solidFill>
                <a:latin typeface="Comic Sans MS"/>
              </a:rPr>
              <a:t>Конституция Российской Федерации</a:t>
            </a:r>
            <a:endParaRPr b="0" lang="en-US" sz="40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9036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Конституция РФ принимается многонациональным народом РФ, в ней называются цели, реализация которых является основной задачей государства: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- утверждение прав и свобод человека,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- утверждение гражданского мира и согласия в РФ,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- сохранение исторически сложившегося государственного единства,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- возрождение суверенной государственности России,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- утверждение незыблемости демократических основ Российского        государства,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- обеспечение благополучия и процветания России.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ba75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  <p:transition spd="slow">
    <p:push dir="d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240"/>
                            </p:stCondLst>
                            <p:childTnLst>
                              <p:par>
                                <p:cTn id="16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3240"/>
                            </p:stCondLst>
                            <p:childTnLst>
                              <p:par>
                                <p:cTn id="18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73440" y="108000"/>
            <a:ext cx="932508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ecd9"/>
                </a:solidFill>
                <a:latin typeface="Comic Sans MS"/>
              </a:rPr>
              <a:t>Основы Конституционного строя</a:t>
            </a: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8000" y="907560"/>
            <a:ext cx="91440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Россия провозглашена демократическим федеративным правовым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осударством с республиканской формой правления.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Единственным источником власти в России является ее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многонациональный народ.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Высшей ценностью в Российской Федерации являются человек, его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жизнь и здоровье, честь и достоинство, личная неприкосновенность и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безопасность, права и свободы.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осударство проводит гуманную демографическую политику.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Признается политическое многообразие, многопартийность.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Экономические отношения строятся на основе социального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партнерства человека и государства, работника и работодателя,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потребителя.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Обеспечение равных и справедливых возможностей для развития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личности.</a:t>
            </a:r>
            <a:r>
              <a:rPr b="0" lang="ru-RU" sz="2000" spc="-1" strike="noStrike">
                <a:solidFill>
                  <a:srgbClr val="ffba75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осударственная власть в России осуществляется на основе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разделения на законодательную, исполнительную и судебную,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органы которых – самостоятельны.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ba75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  <p:transition spd="slow">
    <p:push dir="l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120"/>
                            </p:stCondLst>
                            <p:childTnLst>
                              <p:par>
                                <p:cTn id="2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7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7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7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7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4360" y="-11160"/>
            <a:ext cx="8748720" cy="17114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8c29e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ecd9"/>
                </a:solidFill>
                <a:latin typeface="Comic Sans MS"/>
              </a:rPr>
              <a:t>Конституционно правовой статус человека и гражданина</a:t>
            </a:r>
            <a:r>
              <a:rPr b="0" lang="ru-RU" sz="4000" spc="-1" strike="noStrike">
                <a:solidFill>
                  <a:srgbClr val="ffecd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50560" y="1989000"/>
            <a:ext cx="5724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ba75"/>
                </a:solidFill>
                <a:uFillTx/>
                <a:latin typeface="Comic Sans MS"/>
              </a:rPr>
              <a:t>Конституционно правовой статус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–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это статус лица как гражданина государства,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члена общества. Он определяется, прежде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всего, Конституцией и не зависит от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различных текущих обстоятельств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(перемещений по службе, семейного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положения, должности, выполняемых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функций), является единым и одинаковым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Для всех, характеризуется относительной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стабильностью, обобщенностью.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</p:txBody>
      </p:sp>
      <p:pic>
        <p:nvPicPr>
          <p:cNvPr id="178" name="Picture 6" descr="j0233018"/>
          <p:cNvPicPr/>
          <p:nvPr/>
        </p:nvPicPr>
        <p:blipFill>
          <a:blip r:embed="rId1"/>
          <a:stretch/>
        </p:blipFill>
        <p:spPr>
          <a:xfrm rot="591000">
            <a:off x="6300360" y="2852280"/>
            <a:ext cx="2148120" cy="218124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ba75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  <p:transition spd="slow">
    <p:push dir="r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0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920"/>
                            </p:stCondLst>
                            <p:childTnLst>
                              <p:par>
                                <p:cTn id="34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27080"/>
            <a:ext cx="8229600" cy="8539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8c29e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ecd9"/>
                </a:solidFill>
                <a:latin typeface="Comic Sans MS"/>
              </a:rPr>
              <a:t>Гражданство в РФ</a:t>
            </a:r>
            <a:r>
              <a:rPr b="0" lang="ru-RU" sz="4400" spc="-1" strike="noStrike">
                <a:solidFill>
                  <a:srgbClr val="ffecd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ba75"/>
                </a:solidFill>
                <a:uFillTx/>
                <a:latin typeface="Comic Sans MS"/>
              </a:rPr>
              <a:t>Гражданство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– устойчивая правовая связь человека с государством, выражающаяся в совокупности их взаимных прав, обязанностей и ответственности, основанная на признании и уважении достоинства основных прав и свобод человека.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ражданство подтверждается документами: паспортом, удостоверением личности, а до их получения – свидетельством о рождении или иными документом, содержащем указание на гражданство лица.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ражданство РФ может быть приобретено по ряду оснований</a:t>
            </a:r>
            <a:r>
              <a:rPr b="0" lang="en-US" sz="2000" spc="-1" strike="noStrike">
                <a:solidFill>
                  <a:srgbClr val="ffba75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- в результате признания гражданства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- по рождению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- </a:t>
            </a:r>
            <a:r>
              <a:rPr b="0" lang="en-US" sz="2000" spc="-1" strike="noStrike">
                <a:solidFill>
                  <a:srgbClr val="ffba75"/>
                </a:solidFill>
                <a:latin typeface="Comic Sans MS"/>
              </a:rPr>
              <a:t>в порядке регистрации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- в результате приема в гражданство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-</a:t>
            </a:r>
            <a:r>
              <a:rPr b="0" lang="en-US" sz="2000" spc="-1" strike="noStrike">
                <a:solidFill>
                  <a:srgbClr val="ffba75"/>
                </a:solidFill>
                <a:latin typeface="Comic Sans MS"/>
              </a:rPr>
              <a:t> результате восстановления гражданства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- путем выбора гражданства (оптации) при изменении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осударственной принадлежности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ba75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  <p:transition spd="slow">
    <p:push dir="u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0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45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46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47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8964720" cy="13687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8c29e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ecd9"/>
                </a:solidFill>
                <a:latin typeface="Comic Sans MS"/>
              </a:rPr>
              <a:t>Система прав и свобод человека и гражданина</a:t>
            </a: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Все права и свободы неотделимы друг от друга и взаимосвязаны,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поэтому такое разделение носит условный характер.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ba75"/>
                </a:solidFill>
                <a:uFillTx/>
                <a:latin typeface="Comic Sans MS"/>
              </a:rPr>
              <a:t>Личные права и свободы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(право на жизнь, свободу;  личную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неприкосновенность, свободное передвижение и выбор места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жительства, свободу совести, мысли и слова ).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ba75"/>
                </a:solidFill>
                <a:uFillTx/>
                <a:latin typeface="Comic Sans MS"/>
              </a:rPr>
              <a:t>Политические права и свободы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(право на свободу искать, получать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и распространять информацию, право на собрания, право на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участие в ведении государственных дел, право избирать и быть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избранными).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ba75"/>
                </a:solidFill>
                <a:uFillTx/>
                <a:latin typeface="Comic Sans MS"/>
              </a:rPr>
              <a:t>Социальные и экономические права и свободы (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право на труд,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социальное обеспечение, образование).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ba75"/>
                </a:solidFill>
                <a:uFillTx/>
                <a:latin typeface="Comic Sans MS"/>
              </a:rPr>
              <a:t>Культурные права</a:t>
            </a:r>
            <a:r>
              <a:rPr b="0" lang="ru-RU" sz="2000" spc="-1" strike="noStrike">
                <a:solidFill>
                  <a:srgbClr val="ffba75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(свобода литературного, художественного,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научного, технического творчества, преподавания, право на участие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в культурной жизни и пользование достижениями культуры, на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доступ к культурным ценностям).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ba75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  <p:transition spd="slow">
    <p:push dir="d"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0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5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6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7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1520"/>
                            </p:stCondLst>
                            <p:childTnLst>
                              <p:par>
                                <p:cTn id="52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2520"/>
                            </p:stCondLst>
                            <p:childTnLst>
                              <p:par>
                                <p:cTn id="55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4520"/>
                            </p:stCondLst>
                            <p:childTnLst>
                              <p:par>
                                <p:cTn id="59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6520"/>
                            </p:stCondLst>
                            <p:childTnLst>
                              <p:par>
                                <p:cTn id="66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8520"/>
                            </p:stCondLst>
                            <p:childTnLst>
                              <p:par>
                                <p:cTn id="69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30T09:51:18Z</dcterms:created>
  <dc:creator>Артем</dc:creator>
  <dc:description/>
  <dc:language>en-US</dc:language>
  <cp:lastModifiedBy>LEGION</cp:lastModifiedBy>
  <dcterms:modified xsi:type="dcterms:W3CDTF">2015-01-28T13:39:03Z</dcterms:modified>
  <cp:revision>20</cp:revision>
  <dc:subject/>
  <dc:title>Тема: Права и свободы человека и гражданина по Конституции Российской Федерации.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