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gif" ContentType="image/gi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3B923-9CC9-4E7F-80D3-08F6A049AAD7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image" Target="../media/image4.gif"/><Relationship Id="rId3" Type="http://schemas.openxmlformats.org/officeDocument/2006/relationships/image" Target="../media/image4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4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slide" Target="../slides/slide6.xml"/><Relationship Id="rId10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9A11E1-9CF9-4B87-8B63-E1C2AAFB3211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арантии прав и свобод личности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1200" spc="-1" strike="noStrike">
                <a:solidFill>
                  <a:srgbClr val="000000"/>
                </a:solidFill>
                <a:latin typeface="Comic Sans MS"/>
              </a:rPr>
              <a:t>.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4B7DB-801B-4ABE-B341-3DF1B2E3CFE7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“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1200" spc="-1" strike="noStrike">
                <a:solidFill>
                  <a:srgbClr val="000000"/>
                </a:solidFill>
                <a:latin typeface="Monotype Corsiva"/>
              </a:rPr>
              <a:t>”</a:t>
            </a: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EBB9B-ABFA-4C4A-B379-053C9F6FB9BB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0000"/>
                </a:solidFill>
                <a:uFillTx/>
                <a:latin typeface="Monotype Corsiva"/>
              </a:rPr>
              <a:t>План урока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Monotype Corsiva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1. Конституция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2. Конституционно правовой статус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человека и гражданин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3. Гражданство в РФ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A467D-C2D2-4642-A5E1-CAD7D4E06B15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c0504d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1200" spc="-1" strike="noStrike">
                <a:solidFill>
                  <a:srgbClr val="c0504d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1200" spc="-1" strike="noStrike">
                <a:solidFill>
                  <a:srgbClr val="c0504d"/>
                </a:solidFill>
                <a:latin typeface="Monotype Corsiv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03D32-84E8-4F32-8975-18CF3DB1302F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1 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3 Федеративное устрой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4 Президент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5 Федеральное собр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6  Правительство РФ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7 Судебная в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8 Местное самоуправл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8D766-5B49-4AC2-B56C-7D93A965DCA2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mic Sans MS"/>
              </a:rPr>
              <a:t>Конституция Российской Федераци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3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прав и свобод человек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1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FFF6E-5F82-4C9E-8496-405C3EF73015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Основы Конституционного стро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многонациональный народ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безопасность, права и свобод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требителя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личности.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органы которых – самостоятельны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914EE-0107-417E-B794-DC69891E76EA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члена общества. Он определяется, прежд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го, Конституцией и не зависи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различных текущих обстоятельст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перемещений по службе, семейного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ложения, должности, выполняемых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функций), является единым и одинаков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ля всех, характеризуется относительн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табильностью, обобщенно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C56AB-9CBD-41E8-B216-6FBB453E826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Гражданство в РФ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0000"/>
                </a:solidFill>
                <a:uFillTx/>
                <a:latin typeface="Comic Sans MS"/>
              </a:rPr>
              <a:t>Гражданство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зна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о рождени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в порядке регист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в результате приема в гражданст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</a:t>
            </a: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 результате восстановления граждан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государственной принадлеж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718B2-4E3A-4E43-AFB1-2779652B9880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жизнь, свободу;  личную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(право на свободу искать, получ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избранным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право на труд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социальное обеспечение, образование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0000"/>
                </a:solidFill>
                <a:uFillTx/>
                <a:latin typeface="Comic Sans MS"/>
              </a:rPr>
              <a:t>Культурные пра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(свобода литературного, художественного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Comic Sans MS"/>
              </a:rPr>
              <a:t>доступ к культурным ценностя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EBFDFD-E0A6-4032-B5E4-3A7CDD968A74}" type="slidenum">
              <a:rPr b="0" lang="uk-UA" sz="1200" spc="-1" strike="noStrike">
                <a:solidFill>
                  <a:srgbClr val="ffba75"/>
                </a:solidFill>
                <a:latin typeface="Comic Sans MS"/>
              </a:rPr>
              <a:t>&lt;number&gt;</a:t>
            </a:fld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42D9-98EB-43B6-A433-5BD22C83B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917D9-DD20-4E99-B627-0B646E8FF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37225-928F-42D7-A2A7-9E32210D02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CCBF-6769-4678-AA56-A9A14FA0D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8DFBC-877E-4778-B652-BB15E367C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A8916-6721-464C-8D84-667B353EA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3AAD6-B345-479C-A3FE-BB7EB6B5E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9E8E02-B803-430F-8A0F-5E54D3A1DA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47BB1C-58A4-4DAB-A636-68FA1D37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2EE91-BD30-4960-A0A4-05DD79DFF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76655-7F16-4E62-AC08-FB2589AEC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11DE3-76F5-4185-9E52-B90F714DA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FBE6D-C04A-46D5-B4F9-663CDEBE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ED4A2-8A7C-4606-8F5E-9F625DB170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9F4CE-03F7-4243-9E25-6C516AE75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94962-0159-4B8C-9401-DC44F4A8F5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7E32E-21FC-4A27-B5D4-A47A6721B0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4CCC1-63A4-4067-A0AA-A020DD4A2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46D8-A1DF-4252-9104-CDA0CFA51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B3474-9F97-4D8D-905D-4CA55D3D03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75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F2065-92E8-4D98-A407-E53747542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1F28-B231-4D9D-8584-FCAC14F4E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6B78-FDC5-4A36-AE68-441CA04F9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43743-BDA3-4842-A9DD-3BD01F370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1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3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4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5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6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7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8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29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2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 type="dt" idx="1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 type="ftr" idx="2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 type="sldNum" idx="3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AEC64-C1D1-4214-8555-59887E33C74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8c29e"/>
            </a:gs>
            <a:gs pos="50000">
              <a:srgbClr val="ffffcc"/>
            </a:gs>
            <a:gs pos="100000">
              <a:srgbClr val="f8c2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Group 2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77" name="Rectangle 3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8" name="Oval 4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79" name="Rectangle 5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0" name="Freeform 6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1" name="Rectangle 7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2" name="Rectangle 8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3" name="Rectangle 9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4" name="Rectangle 10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5" name="Rectangle 11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6" name="Freeform 12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7" name="Freeform 13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8" name="Freeform 14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89" name="Freeform 15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0" name="Freeform 16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1" name="Freeform 17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2" name="Freeform 18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3" name="Freeform 19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4" name="Freeform 20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5" name="Freeform 21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6" name="Freeform 22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7" name="Freeform 23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8" name="Freeform 24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99" name="Freeform 25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0" name="Freeform 26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1" name="Oval 27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2" name="Oval 28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3" name="Oval 29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4" name="Freeform 30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5" name="Freeform 31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6" name="Rectangle 32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7" name="Rectangle 33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8" name="AutoShape 34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f8c29e"/>
                </a:gs>
                <a:gs pos="100000">
                  <a:srgbClr val="f9cda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09" name="Freeform 35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  <p:sp>
          <p:nvSpPr>
            <p:cNvPr id="110" name="Freeform 36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f9cdaf"/>
                </a:gs>
                <a:gs pos="100000">
                  <a:srgbClr val="f8c29e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ba75"/>
                </a:solidFill>
                <a:latin typeface="Comic Sans MS"/>
              </a:endParaRPr>
            </a:p>
          </p:txBody>
        </p:sp>
      </p:grp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ecd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67d5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d15907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ba7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ba75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dt" idx="4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ftr" idx="5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sldNum" idx="6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ba75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D307-C79D-4173-AF1D-44C5DCD6675B}" type="slidenum">
              <a:rPr b="0" lang="ru-RU" sz="1200" spc="-1" strike="noStrike">
                <a:solidFill>
                  <a:srgbClr val="ffba75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2884680"/>
          </a:xfrm>
          <a:prstGeom prst="rect">
            <a:avLst/>
          </a:prstGeom>
          <a:noFill/>
          <a:ln w="0">
            <a:noFill/>
          </a:ln>
          <a:effectLst>
            <a:outerShdw dist="107932" dir="8100000" blurRad="0" rotWithShape="0">
              <a:srgbClr val="f8c29e">
                <a:alpha val="50000"/>
              </a:srgbClr>
            </a:outerShdw>
          </a:effectLst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ffba75"/>
                </a:solidFill>
                <a:latin typeface="Comic Sans MS"/>
              </a:rPr>
              <a:t>Тема: Права и свободы человека и гражданина по Конституции Российской Федерации.</a:t>
            </a:r>
            <a:r>
              <a:rPr b="0" lang="ru-RU" sz="48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409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арантии прав и свобод личности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0" y="1844280"/>
            <a:ext cx="9144000" cy="146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  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С точки зрения общей системы, гарантии прав человека и гражданина, рассматривают как: общие и юридические</a:t>
            </a:r>
            <a:r>
              <a:rPr b="0" i="1" lang="ru-RU" sz="2800" spc="-1" strike="noStrike">
                <a:solidFill>
                  <a:srgbClr val="ffba75"/>
                </a:solidFill>
                <a:latin typeface="Comic Sans MS"/>
              </a:rPr>
              <a:t>.</a:t>
            </a:r>
            <a:r>
              <a:rPr b="0" lang="ru-RU" sz="28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8" name="Text Box 5"/>
          <p:cNvSpPr/>
          <p:nvPr/>
        </p:nvSpPr>
        <p:spPr>
          <a:xfrm>
            <a:off x="5870880" y="3676680"/>
            <a:ext cx="2611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Юрид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охраны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реализации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89" name="Text Box 6"/>
          <p:cNvSpPr/>
          <p:nvPr/>
        </p:nvSpPr>
        <p:spPr>
          <a:xfrm>
            <a:off x="395280" y="3716280"/>
            <a:ext cx="5256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Общие</a:t>
            </a: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экономические (материальные)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социальны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идеологические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ba75"/>
                </a:solidFill>
                <a:latin typeface="Comic Sans MS"/>
              </a:rPr>
              <a:t>политические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0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761" dur="indefinite" restart="never" nodeType="tmRoot">
          <p:childTnLst>
            <p:seq>
              <p:cTn id="762" dur="indefinite" nodeType="mainSeq">
                <p:childTnLst>
                  <p:par>
                    <p:cTn id="763" nodeType="clickEffect" fill="hold">
                      <p:stCondLst>
                        <p:cond delay="0"/>
                      </p:stCondLst>
                      <p:childTnLst>
                        <p:par>
                          <p:cTn id="7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7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8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9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77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7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8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8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8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8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7" nodeType="afterEffect" fill="hold">
                            <p:stCondLst>
                              <p:cond delay="3120"/>
                            </p:stCondLst>
                            <p:childTnLst>
                              <p:par>
                                <p:cTn id="78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500" fill="hold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4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nodeType="afterEffect" fill="hold">
                            <p:stCondLst>
                              <p:cond delay="4120"/>
                            </p:stCondLst>
                            <p:childTnLst>
                              <p:par>
                                <p:cTn id="80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1000" fill="hold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10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10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475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“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Главным принципом любой Конституции является положение о том, что верховная власть не может принять закон без одобрения представителей народа</a:t>
            </a:r>
            <a:r>
              <a:rPr b="0" lang="en-US" sz="4800" spc="-1" strike="noStrike">
                <a:solidFill>
                  <a:srgbClr val="ffecd9"/>
                </a:solidFill>
                <a:latin typeface="Monotype Corsiva"/>
              </a:rPr>
              <a:t>”</a:t>
            </a:r>
            <a:r>
              <a:rPr b="0" lang="ru-RU" sz="4800" spc="-1" strike="noStrike">
                <a:solidFill>
                  <a:srgbClr val="ffecd9"/>
                </a:solidFill>
                <a:latin typeface="Monotype Corsiva"/>
              </a:rPr>
              <a:t>.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92" name="Text Box 4"/>
          <p:cNvSpPr/>
          <p:nvPr/>
        </p:nvSpPr>
        <p:spPr>
          <a:xfrm>
            <a:off x="6147000" y="5661000"/>
            <a:ext cx="2811240" cy="5814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cc"/>
                </a:solidFill>
                <a:latin typeface="Monotype Corsiva"/>
              </a:rPr>
              <a:t>А. Керенский</a:t>
            </a:r>
            <a:endParaRPr b="0" lang="en-US" sz="32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9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newsflash/>
  </p:transition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nodeType="clickEffect" fill="hold">
                      <p:stCondLst>
                        <p:cond delay="0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3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87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 u="sng">
                <a:solidFill>
                  <a:srgbClr val="ffecd9"/>
                </a:solidFill>
                <a:uFillTx/>
                <a:latin typeface="Monotype Corsiva"/>
              </a:rPr>
              <a:t>План урока</a:t>
            </a:r>
            <a:r>
              <a:rPr b="0" lang="en-US" sz="4800" spc="-1" strike="noStrike" u="sng">
                <a:solidFill>
                  <a:srgbClr val="ffecd9"/>
                </a:solidFill>
                <a:uFillTx/>
                <a:latin typeface="Monotype Corsiva"/>
              </a:rPr>
              <a:t>:</a:t>
            </a:r>
            <a:endParaRPr b="0" lang="en-US" sz="48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95280" y="11966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1. Конституция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2. Конституционно правовой статус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человека и гражданина. 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3. Гражданство в РФ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4. Система прав и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  <a:p>
            <a:pPr marL="3052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ba75"/>
                </a:solidFill>
                <a:latin typeface="Monotype Corsiva"/>
              </a:rPr>
              <a:t>5. Гарантии прав и  свобод человека и гражданина.</a:t>
            </a:r>
            <a:endParaRPr b="0" lang="en-US" sz="36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3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0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nodeType="afterEffect" fill="hold">
                            <p:stCondLst>
                              <p:cond delay="440"/>
                            </p:stCondLst>
                            <p:childTnLst>
                              <p:par>
                                <p:cTn id="2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/>
          </p:nvPr>
        </p:nvSpPr>
        <p:spPr>
          <a:xfrm>
            <a:off x="0" y="1484280"/>
            <a:ext cx="91440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 algn="ctr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ba75"/>
                </a:solidFill>
                <a:latin typeface="Monotype Corsiva"/>
              </a:rPr>
              <a:t>Мы, многонациональный народ Российской Федерации, соединенные общей судьбой на своей земле, утверждая права и свободы человека, гражданский мир и согласие, сохраняя исторически сложившееся государственное единство, исходя из общепринятых принципов равноправия и самоопределения народов, чтя память предков, передавших нам любовь и уважение к Отечеству, веру в добро и справедливость, возрождая суверенную государственность России и утверждая незыблемость ее демократической основы, стремясь обеспечить благополучие и процветание России, исходя из ответственности за свою Родину перед нынешним и будущим поколениями,  сознавая себя частью мирового сообщества, принимаем </a:t>
            </a:r>
            <a:r>
              <a:rPr b="0" i="1" lang="ru-RU" sz="2400" spc="-1" strike="noStrike">
                <a:solidFill>
                  <a:srgbClr val="f67d5c"/>
                </a:solidFill>
                <a:latin typeface="Monotype Corsiva"/>
              </a:rPr>
              <a:t>КОНСТИТУЦИЮ РОССИЙСКОЙ ФЕДЕРАЦИИ.</a:t>
            </a: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 </a:t>
            </a: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  <a:p>
            <a:pPr marL="3121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5" name="Text Box 6"/>
          <p:cNvSpPr/>
          <p:nvPr/>
        </p:nvSpPr>
        <p:spPr>
          <a:xfrm>
            <a:off x="3922560" y="297000"/>
            <a:ext cx="4897440" cy="1557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Конституция РФ 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принята всенародным голосованием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67d5c"/>
                </a:solidFill>
                <a:latin typeface="Monotype Corsiva"/>
              </a:rPr>
              <a:t>12декабря 1993 года</a:t>
            </a:r>
            <a:endParaRPr b="0" lang="en-US" sz="2400" spc="-1" strike="noStrike">
              <a:solidFill>
                <a:srgbClr val="ffba75"/>
              </a:solidFill>
              <a:latin typeface="Comic Sans MS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0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2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Общая характеристика Конституции РФ 1993 год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24000" y="1634760"/>
            <a:ext cx="8496000" cy="474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оссии состоит из преамбулы и двух разделов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сновным является первый раздел, состоящий из 9 глав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1 Основы конституционного стро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2 Права и свободы  человека и гражданин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3 Федеративное устрой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4 Президент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5 Федеральное собра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6  Правительство РФ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7 Судебная влас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8 Местное самоуправлен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-332640">
              <a:lnSpc>
                <a:spcPct val="100000"/>
              </a:lnSpc>
              <a:spcBef>
                <a:spcPts val="499"/>
              </a:spcBef>
              <a:buClr>
                <a:srgbClr val="ffe7e5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лава 9 Конституционные поправки и пересмотр Конститу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торой («Заключительные и переходные положения») предусматривает ряд норм, которые носят времен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0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2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3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" dur="80"/>
                                        <p:tgtEl>
                                          <p:spTgt spid="1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640"/>
                            </p:stCondLst>
                            <p:childTnLst>
                              <p:par>
                                <p:cTn id="86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2000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2000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2000" fill="hold"/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000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2000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1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2000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2000" fill="hold"/>
                                        <p:tgtEl>
                                          <p:spTgt spid="1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0" dur="2000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1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2000" fill="hold"/>
                                        <p:tgtEl>
                                          <p:spTgt spid="1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000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000" fill="hold"/>
                                        <p:tgtEl>
                                          <p:spTgt spid="16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2000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2000" fill="hold"/>
                                        <p:tgtEl>
                                          <p:spTgt spid="16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2000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000" fill="hold"/>
                                        <p:tgtEl>
                                          <p:spTgt spid="16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2000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 fill="hold"/>
                                        <p:tgtEl>
                                          <p:spTgt spid="16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ecd9"/>
                </a:solidFill>
                <a:latin typeface="Comic Sans MS"/>
              </a:rPr>
              <a:t>Конституция Российской Федерации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08000" y="1557000"/>
            <a:ext cx="9036000" cy="492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Конституция РФ принимается многонациональным народом РФ, в ней называются цели, реализация которых является основной задачей государства: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3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прав и свобод человек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гражданского мира и согласия в РФ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сохранение исторически сложившегося государственного един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озрождение суверенной государственности России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утверждение незыблемости демократических основ Российского       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обеспечение благополучия и процветания России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1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nodeType="clickEffect" fill="hold">
                      <p:stCondLst>
                        <p:cond delay="0"/>
                      </p:stCondLst>
                      <p:childTnLst>
                        <p:par>
                          <p:cTn id="1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4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6" dur="80"/>
                                        <p:tgtEl>
                                          <p:spTgt spid="17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nodeType="afterEffect" fill="hold">
                            <p:stCondLst>
                              <p:cond delay="1240"/>
                            </p:stCondLst>
                            <p:childTnLst>
                              <p:par>
                                <p:cTn id="16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7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7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7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7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3240"/>
                            </p:stCondLst>
                            <p:childTnLst>
                              <p:par>
                                <p:cTn id="185" nodeType="after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8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8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8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19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195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19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199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1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0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06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07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0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1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2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3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14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3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from="(-#ppt_w/2)" to="(#ppt_x)">
                                      <p:cBhvr additive="repl">
                                        <p:cTn id="217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0" to="-1">
                                      <p:cBhvr additive="repl">
                                        <p:cTn id="218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xshear</p:attrName>
                                        </p:attrNameLst>
                                      </p:cBhvr>
                                    </p:anim>
                                    <p:animScale>
                                      <p:cBhvr>
                                        <p:cTn id="219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from x="100000" y="100000"/>
                                      <p:to x="80000" y="100000"/>
                                    </p:animScale>
                                    <p:anim calcmode="lin" valueType="num" by="(#ppt_h/3+#ppt_w*0.1)">
                                      <p:cBhvr additive="sum">
                                        <p:cTn id="220" dur="200" autoRev="1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-73440" y="108000"/>
            <a:ext cx="9325080" cy="72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Основы Конституционного строя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08000" y="907560"/>
            <a:ext cx="9144000" cy="5689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оссия провозглашена демократическим федеративным прав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м с республиканской формой правлени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Единственным источником власти в России является е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многонациональный народ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ысшей ценностью в Российской Федерации являются человек, ег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знь и здоровье, честь и достоинство, личная неприкосновенность 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безопасность, права и свобод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о проводит гуманную демографическую политику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изнается политическое многообразие, многопартийность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кономические отношения строятся на основе социаль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артнерства человека и государства, работника и работодателя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требителя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беспечение равных и справедливых возможностей для развития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личности.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ая власть в России осуществляется на основ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деления на законодательную, исполнительную и судебную,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органы которых – самостоятельны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l"/>
  </p:transition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nodeType="clickEffect" fill="hold">
                      <p:stCondLst>
                        <p:cond delay="0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nodeType="afterEffect" fill="hold">
                            <p:stCondLst>
                              <p:cond delay="1120"/>
                            </p:stCondLst>
                            <p:childTnLst>
                              <p:par>
                                <p:cTn id="23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1000" fill="hold"/>
                                        <p:tgtEl>
                                          <p:spTgt spid="17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17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7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17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17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17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7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7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4360" y="-11160"/>
            <a:ext cx="8748720" cy="171144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Конституционно правовой статус человека и гражданина</a:t>
            </a:r>
            <a:r>
              <a:rPr b="0" lang="ru-RU" sz="40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0560" y="1989000"/>
            <a:ext cx="572436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Конституционно правовой статус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это статус лица как гражданина государства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члена общества. Он определяется, прежд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го, Конституцией и не зависит от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различных текущих обстоятельств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перемещений по службе, семейного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ложения, должности, выполняемых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функций), является единым и одинаковым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ля всех, характеризуется относительной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табильностью, обобщенностью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pic>
        <p:nvPicPr>
          <p:cNvPr id="178" name="Picture 6" descr="j0233018"/>
          <p:cNvPicPr/>
          <p:nvPr/>
        </p:nvPicPr>
        <p:blipFill>
          <a:blip r:embed="rId1"/>
          <a:stretch/>
        </p:blipFill>
        <p:spPr>
          <a:xfrm rot="591000">
            <a:off x="6300360" y="2852280"/>
            <a:ext cx="2148120" cy="218124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r"/>
  </p:transition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nodeType="clickEffect" fill="hold">
                      <p:stCondLst>
                        <p:cond delay="0"/>
                      </p:stCondLst>
                      <p:childTnLst>
                        <p:par>
                          <p:cTn id="3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nodeType="afterEffect" fill="hold">
                            <p:stCondLst>
                              <p:cond delay="1920"/>
                            </p:stCondLst>
                            <p:childTnLst>
                              <p:par>
                                <p:cTn id="34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1000" fill="hold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1000" fill="hold"/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127080"/>
            <a:ext cx="8229600" cy="8539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Гражданство в РФ</a:t>
            </a:r>
            <a:r>
              <a:rPr b="0" lang="ru-RU" sz="4400" spc="-1" strike="noStrike">
                <a:solidFill>
                  <a:srgbClr val="ffecd9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ffba75"/>
                </a:solidFill>
                <a:uFillTx/>
                <a:latin typeface="Comic Sans MS"/>
              </a:rPr>
              <a:t>Гражданство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– устойчивая правовая связь человека с государством, выражающаяся в совокупности их взаимных прав, обязанностей и ответственности, основанная на признании и уважении достоинства основных прав и свобод человека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подтверждается документами: паспортом, удостоверением личности, а до их получения – свидетельством о рождении или иными документом, содержащем указание на гражданство лица.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ражданство РФ может быть приобретено по ряду оснований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: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зна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о рождени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в порядке регистрац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в результате приема в гражданство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</a:t>
            </a:r>
            <a:r>
              <a:rPr b="0" lang="en-US" sz="2000" spc="-1" strike="noStrike">
                <a:solidFill>
                  <a:srgbClr val="ffba75"/>
                </a:solidFill>
                <a:latin typeface="Comic Sans MS"/>
              </a:rPr>
              <a:t> результате восстановления гражданств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- путем выбора гражданства (оптации) при изменени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государственной принадлежности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u"/>
  </p:transition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3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4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5" dur="80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600"/>
                            </p:stCondLst>
                            <p:childTnLst>
                              <p:par>
                                <p:cTn id="45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9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1600"/>
                            </p:stCondLst>
                            <p:childTnLst>
                              <p:par>
                                <p:cTn id="46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6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10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2600"/>
                            </p:stCondLst>
                            <p:childTnLst>
                              <p:par>
                                <p:cTn id="47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0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2" dur="1000"/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1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4" dur="10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10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1000"/>
                                        <p:tgtEl>
                                          <p:spTgt spid="1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2" dur="1000"/>
                                        <p:tgtEl>
                                          <p:spTgt spid="1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5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6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1000" fill="hold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1000"/>
                                        <p:tgtEl>
                                          <p:spTgt spid="1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0" y="44280"/>
            <a:ext cx="8964720" cy="136872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f8c29e">
                <a:alpha val="50000"/>
              </a:srgbClr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ecd9"/>
                </a:solidFill>
                <a:latin typeface="Comic Sans MS"/>
              </a:rPr>
              <a:t>Система прав и свобод человека и гражданина</a:t>
            </a:r>
            <a:endParaRPr b="0" lang="en-US" sz="4400" spc="-1" strike="noStrike">
              <a:solidFill>
                <a:srgbClr val="ffecd9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250920" y="1341360"/>
            <a:ext cx="864216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се права и свободы неотделимы друг от друга и взаимосвязаны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оэтому такое разделение носит условный характер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Личны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жизнь, свободу;  личную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еприкосновенность, свободное передвижение и выбор места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жительства, свободу совести, мысли и слова 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Политические права и свободы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(право на свободу искать, получа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 распространять информацию, право на собрания, право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участие в ведении государственных дел, право избирать и быть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избранными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Социальные и экономические права и свободы (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право на труд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социальное обеспечение, образование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ba75"/>
                </a:solidFill>
                <a:uFillTx/>
                <a:latin typeface="Comic Sans MS"/>
              </a:rPr>
              <a:t>Культурные права</a:t>
            </a:r>
            <a:r>
              <a:rPr b="0" lang="ru-RU" sz="2000" spc="-1" strike="noStrike">
                <a:solidFill>
                  <a:srgbClr val="ffba75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(свобода литературного, художественного,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научного, технического творчества, преподавания, право на участие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в культурной жизни и пользование достижениями культуры, на 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  <a:p>
            <a:pPr marL="3153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      </a:t>
            </a:r>
            <a:r>
              <a:rPr b="0" lang="ru-RU" sz="2000" spc="-1" strike="noStrike">
                <a:solidFill>
                  <a:srgbClr val="ffba75"/>
                </a:solidFill>
                <a:latin typeface="Comic Sans MS"/>
              </a:rPr>
              <a:t>доступ к культурным ценностям).</a:t>
            </a:r>
            <a:endParaRPr b="0" lang="en-US" sz="2000" spc="-1" strike="noStrike">
              <a:solidFill>
                <a:srgbClr val="ffba75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ba75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ba75"/>
              </a:solidFill>
              <a:latin typeface="Comic Sans MS"/>
            </a:endParaRPr>
          </a:p>
        </p:txBody>
      </p:sp>
    </p:spTree>
  </p:cSld>
  <p:transition spd="slow">
    <p:push dir="d"/>
  </p:transition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5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6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125,-10)"/>
                                          </p:val>
                                        </p:tav>
                                        <p:tav tm="50000">
                                          <p:val>
                                            <p:strVal val="rgb(-27,-25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7" dur="80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20"/>
                            </p:stCondLst>
                            <p:childTnLst>
                              <p:par>
                                <p:cTn id="5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nodeType="afterEffect" fill="hold">
                            <p:stCondLst>
                              <p:cond delay="2520"/>
                            </p:stCondLst>
                            <p:childTnLst>
                              <p:par>
                                <p:cTn id="55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5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5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6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6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6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6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7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7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7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7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8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9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9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9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9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9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8" nodeType="afterEffect" fill="hold">
                            <p:stCondLst>
                              <p:cond delay="4520"/>
                            </p:stCondLst>
                            <p:childTnLst>
                              <p:par>
                                <p:cTn id="59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0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0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1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2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2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3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4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5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5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5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nodeType="afterEffect" fill="hold">
                            <p:stCondLst>
                              <p:cond delay="6520"/>
                            </p:stCondLst>
                            <p:childTnLst>
                              <p:par>
                                <p:cTn id="66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8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9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9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9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nodeType="afterEffect" fill="hold">
                            <p:stCondLst>
                              <p:cond delay="8520"/>
                            </p:stCondLst>
                            <p:childTnLst>
                              <p:par>
                                <p:cTn id="697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1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2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2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2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3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4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5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5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5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5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30T09:51:18Z</dcterms:created>
  <dc:creator>Артем</dc:creator>
  <dc:description/>
  <dc:language>en-US</dc:language>
  <cp:lastModifiedBy>LEGION</cp:lastModifiedBy>
  <dcterms:modified xsi:type="dcterms:W3CDTF">2015-01-28T13:39:03Z</dcterms:modified>
  <cp:revision>20</cp:revision>
  <dc:subject/>
  <dc:title>Тема: Права и свободы человека и гражданина по Конституции Российской Федерации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8</vt:r8>
  </property>
</Properties>
</file>