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733E-29CA-4E09-B10C-584E2B31572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изация темы: «Подросток как граждани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f42"/>
                </a:solidFill>
                <a:latin typeface="Calibri"/>
              </a:rPr>
              <a:t>Выполните следующие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DA17-9865-4A6E-8C6E-E65A09D21862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неприкосновенность жили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ойти в дом помимо воли тех, кто там проживает нельз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не открывать дверь незнакомцам или даже надоедливым соседям, с которыми не хочешь общ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о при пожарах, землетрясениях, непредвиденных обстоятельствах или при защите правопорядка допускается отступление от этого прав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224D-38ED-4F7E-B64A-91E62EC46207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Calibri"/>
              </a:rPr>
              <a:t>Гражданин нашей страны сам выбирает место своего жительства, может свободно передвигаться по стране и выезжать за ее преде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0C03-119B-4501-9BB9-0D8A55EADF1A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Экономические права:</a:t>
            </a:r>
            <a:br>
              <a:rPr sz="1600"/>
            </a:br>
            <a:r>
              <a:rPr b="0" lang="ru-RU" sz="1400" spc="-1" strike="noStrike">
                <a:solidFill>
                  <a:srgbClr val="fb2bf6"/>
                </a:solidFill>
                <a:latin typeface="Calibri"/>
              </a:rPr>
              <a:t>право на труд и свободный выбор професс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а защиту от экономической эксплуа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Минимальный возраст для приема на работ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15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 письменного согласия родителей или опекунов можно устроиться работать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14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заставить ребенка заниматься тяжелым трудом, вредным для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не заставляет гражданина трудиться, это его право, а не обяза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Если человек хочет работать, но не может найти работу, то государство защищает его от безрабо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562A-B47C-4E16-A65C-FEE9EF99EC51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на отдых и дос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гарантирует каждому гражданину это право путем предоставления отпуска всем работающ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 поощряет создание туристических баз, домов отдыха, санатори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1FA3-96FF-4F04-A056-324F688A05CE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о защищает </a:t>
            </a:r>
            <a:br>
              <a:rPr sz="1600"/>
            </a:b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детство и материн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о случаю рождения ребенка родителям предоставляется отпус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дному из родителей</a:t>
            </a: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ыплачиваются денежные компенсации в виде пособий единовременных и ежемесяч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5BD6-56D9-493A-89AC-DBA560F4032E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охрану здоровья и медицинскую помощ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 России действует страховая медиц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Лечение граждан оплачивают страховые комп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ервая медицинская помощь оказывается беспл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72A6-E3CF-405E-BD3A-11C683801E74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социальное обеспе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мог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Инвалидам с дет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Людям получившим увечья, и ставшими поэтому нетрудоспособ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ражданам преклонного возраста, ставшими нетрудоспособными по возрас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CEAB-1E1F-4A2E-9B85-287B7C7CAB75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на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Это возможность получить знания, навыки необходимые для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Без хорошего образования человек не сможет найти интересное, важное дело, добиться успе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У детей должна быть возможность выбора, где и чему учиться, независимо от материального состояния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Библиотеки, театры и музеи должны быть доступны для учеников, развитие творческих способностей детей – одна из целей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овершайте открытия, изобретайте новое, участвуйте в конкурсах и фестива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4C41-C16E-4A95-90BC-76B1B184E8B2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«Об образ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Образование можно получать в разных формах: обучаясь в школе (в государственной или частной), дома, в форме экстерната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ыпускники по окончанию школы сдают государственные экзамены (проходят аттестацию), по результатам которых выдается документ об образовании, за особые успехи в обучении выпускники могут награждаться золотой и серебряной медал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Аттестат дает право получить обучение в училище, колледже, ВУЗ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озможно на конкурсной основе поступить на бесплатное обучение в ВУЗы, для этого нужно сдать экзамены и набрать необходимое количество б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A4B7-7FAD-4881-96E5-B837FB2D0DDB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получение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обращаться за помощью к взрослым (родителям и учителя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идти в библиотеку, чтобы найти ответы на  вопросы, интересующие теб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подключиться к компьютерным сет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выражать свои взгляды и обсуждать важные вопросы через средства массовой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58AC-C5B4-40AE-B2C4-C41AB6F1BCAD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правильное соответ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Право на участие в ведении государственных дел и в правосу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Митин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Многолюдные мероприятия людей. Выражающих те или иные взгляды, иногда сопровождающиеся перемещением по определенному маршру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Демон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Совместное присутствие группы людей в определенном месте для обсуждения или решения какой – либо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Вы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Форма выражения мнения людей с целью публичного высказывания по конкретному вопро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934B-E6E8-49F0-93DA-ADAD92BDAE2F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лохих детей не бывает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Никто и никогда не должен быть жестоким по отношению к де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34A0-DD5D-4E4D-A484-040F5770B871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пределите,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ыли соблюдены права или нет,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кажите почему вы так думает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Во время пожара дверь в квартиру выбита, и подросток, находившийся в комнате без сознания, был вынесен на улиц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16-летний молодой человек не был принят на работу, так как у него не оказалось письменного разрешения от обоих р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8-летняя девочка, у которой из-за болезни были парализованы ноги. Вынуждена была уйти из школы и не получила среднее обра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C4C3-23BA-4ED0-B4A5-288E733E2EA4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правильный 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1.Самым важным и неотъемлемым право каждого человека с рождения является право н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образование;         б) жизнь;                      в) переезд в другую стра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2.Права подростка гарантиру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государством;        б) самим подростком;               в)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3.К реализации права на личную жизнь относ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выбор места учеб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) тайна телефонных разгов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) участие в выбо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4.Право на труд входит в групп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культурных прав;      б) политических прав;      в) экономическ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5.Правом на социальное обеспечение могут пользовать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мужчины трудоспособного возраст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) пенсионер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) лица без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6B92-0A35-40FB-8978-AF19D5C269CD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Подумайте над вопросом: как вы считаете отличаются ли права ребенка от прав взросл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Перечислите, какими из прав вы реально пользуетесь в свое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97D4-B225-443E-BFED-1E5E234BB651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тавьте недостающие слова (понятия) в пред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должен платить ___________________. Эти деньги поступают в казну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ормам семейного права гражданин обязан заботься о ________________________________________________, 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еспечения безопасности государства и его граждан существует обязанность ____________________________  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ях сохранения культурного наследия граждане обязаны 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обязан соблюдать ________________________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A0F5-1ADF-4FD1-96EA-D59BA567B49F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осто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е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Как вы считаете, отличаются ли права ребенка и подростка от прав взрослого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D83B-3292-4716-A7AC-6387D5D679FC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озможность что – либо делать, поступать определенным образом, иметь что-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0A56-CB93-4614-82BC-163A1FFFEC88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2bf6"/>
                </a:solidFill>
                <a:latin typeface="Calibri"/>
              </a:rPr>
              <a:t>Право на жиз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ажное и неотъемлемое право для каждого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е надо понимать как разрешение или запрет; право – не подарок за хорошее поведение и не привилегия, а такая же необходимость, как воздух, как солнц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а жизнь означает, что государство, вся мощь его институтов, учреждений и организаций, направлены на защиту жизни подрост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Жизнь ребенку дают родители, а право на жизнь гарантирует ему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6011-D48C-4094-A59B-B7F844B08F99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свободу и</a:t>
            </a:r>
            <a:br>
              <a:rPr sz="1600"/>
            </a:b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 личную неприкосновен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вободный человек отвечает за себя сам – и никто друг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вобода состоит в праве делать все то, что не вредит друг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насильно удерживать другого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унижать и оскорблять другого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289A-3F7B-4E6A-A817-763EA1417780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 правах ребенка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принят Организацией Объединенных Наций – ООН в 1989 г.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Каждый ребенок имеет право знать своих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Родители несут ответственность за ребенка и должны обеспечить ему нормальные условия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Но, к сожалению, полтора миллиона детей в России никогда не знали маминой ласки и папиной з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823A-5877-4F04-B23C-0A95AA80BA8A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неприкосновенность личной жиз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фера жизни человека, в которую государство не имеет право вмешиваться и которая не подлежит контролю с его стороны, и она охраняется закон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Тайный характер част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имеет права читать чужие письма, подслушивать телефонные разговоры, собирать сведения о личной жизни челове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ез разрешения проку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6F0F-4FE4-4821-854E-2990750CA2D6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F45FD-31F6-47A5-B28F-42A80410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A11F0-D43F-4E77-B00C-15C5FB0E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7F584-DE5E-4A67-B4E7-83AABBEA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67219-5256-4A04-8A6C-27EE7B57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6F12-B35A-4449-AECC-CAA40D3D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E97A-41C9-4D44-A99A-EC4515BA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87DE-8AEB-45F7-9E74-2D74F777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9003-AB20-4BB1-9BA0-31D3873D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8CFF-0A22-4000-AFD5-10ABEAD8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50AE-33CC-4691-B19C-3513A233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C3F6-AD70-46D9-9B24-83BA3477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6CD7D-C45A-4891-90AF-FB5E8B7F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6198-7D47-492A-BE72-4C530CA9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D778-BF2A-48AB-A73E-38F37E57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B977-B4DA-4AE1-B042-D32A48FD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9D3F-9F23-4AE5-B5FF-0D30AB3E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28A7-DAF1-4F0C-94BC-485C89A4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DD729-4D74-4B33-84DD-77A6D602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A197E-0C19-4004-9A61-9113D32C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7FEEF-F5CC-4FAF-8BEE-8700579E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DE261-B62D-45B7-BA8C-C538F801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69DC2-FEAA-4641-AFF0-6757C965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282E3-9E75-4DB6-9D91-58837BF6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740B1-EB00-4813-8147-D706D622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55849-0804-469D-8840-0460B9C8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0280A-58A9-4254-A4ED-064719AE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1E3EA-148D-4D9E-8E49-7531D4E0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AC401-62C0-4C82-B265-D6BAB278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EFA07-1181-4F2B-BE3F-E88563AD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06FB5-2A38-4A8E-AAF4-BE96CFA9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BAA22-D544-4BA8-BBAF-1950AC92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4CED6-2BF4-48EB-9233-5B71E1CB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92DCB-7565-4064-9641-1E7DA978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22C87-E474-4AFD-B5F3-7DA757E3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4317B-3499-4D72-A600-35DE2C2D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DC028-AB20-4FC1-89EC-0D063A73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C7708-6814-417F-9CBB-7B7DA12F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7A055-D124-4A11-AF63-D5745CD9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58608-8A2C-4B7B-B116-1A3A7E9C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0C399-9E9A-4CB5-A055-AEB6146D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60EBE-A498-4068-A930-E664E94E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1A935-0964-447D-A327-FC43B7CF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BC2CF-EC41-411F-A7F2-74FF94B8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5BCA0-EC15-4DFC-9743-05BC8ABE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1E6D3-4624-42F4-8537-ADDB303C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58CBA-0E54-4640-B472-892A5A6E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64A83-1B50-40FD-B02E-E847B7A6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6507C-D1BC-40A9-9F6C-D0CDD22A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CEE6-C233-40E5-A561-21FB8EA39B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9F96-A04C-46C8-8666-F50B4020E3A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6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99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100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101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102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9C76-16D7-4A7F-A9FB-A66B984D21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E948-769F-489D-9ED8-AD35D0B9830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Актуализация темы: «Подросток как гражданин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43f42"/>
                </a:solidFill>
                <a:latin typeface="Verdana"/>
              </a:rPr>
              <a:t>Выполните следующие зад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неприкосновенность жилища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5977080" cy="50688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ойти в дом помимо воли тех, кто там проживает нельз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не открывать дверь незнакомцам или даже надоедливым соседям, с которыми не хочешь общатьс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Но при пожарах, землетрясениях, непредвиденных обстоятельствах или при защите правопорядка допускается отступление от этого правила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28" name="Picture 21" descr="HOUSELIGHTSWEEP-MOTION3-W"/>
          <p:cNvPicPr/>
          <p:nvPr/>
        </p:nvPicPr>
        <p:blipFill>
          <a:blip r:embed="rId1"/>
          <a:stretch/>
        </p:blipFill>
        <p:spPr>
          <a:xfrm>
            <a:off x="6372360" y="1628640"/>
            <a:ext cx="2520720" cy="504036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29068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99"/>
                </a:solidFill>
                <a:latin typeface="Garamond"/>
              </a:rPr>
              <a:t>Гражданин нашей страны сам выбирает место своего жительства, может свободно передвигаться по стране и выезжать за ее пределы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31" name="Picture 12" descr="image052"/>
          <p:cNvPicPr/>
          <p:nvPr/>
        </p:nvPicPr>
        <p:blipFill>
          <a:blip r:embed="rId1"/>
          <a:stretch/>
        </p:blipFill>
        <p:spPr>
          <a:xfrm>
            <a:off x="457200" y="3716280"/>
            <a:ext cx="8686800" cy="992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image051"/>
          <p:cNvPicPr/>
          <p:nvPr/>
        </p:nvPicPr>
        <p:blipFill>
          <a:blip r:embed="rId2"/>
          <a:stretch/>
        </p:blipFill>
        <p:spPr>
          <a:xfrm>
            <a:off x="324000" y="2565360"/>
            <a:ext cx="8362800" cy="662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5" descr="image053"/>
          <p:cNvPicPr/>
          <p:nvPr/>
        </p:nvPicPr>
        <p:blipFill>
          <a:blip r:embed="rId3"/>
          <a:stretch/>
        </p:blipFill>
        <p:spPr>
          <a:xfrm>
            <a:off x="324000" y="5229360"/>
            <a:ext cx="8569080" cy="8809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2bf6"/>
                </a:solidFill>
                <a:latin typeface="Garamond"/>
              </a:rPr>
              <a:t>Экономические права:</a:t>
            </a:r>
            <a:br>
              <a:rPr sz="3200"/>
            </a:b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право на труд и свободный выбор профессии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36" name="Picture 8" descr="janitor"/>
          <p:cNvPicPr/>
          <p:nvPr/>
        </p:nvPicPr>
        <p:blipFill>
          <a:blip r:embed="rId1"/>
          <a:stretch/>
        </p:blipFill>
        <p:spPr>
          <a:xfrm>
            <a:off x="179280" y="3860640"/>
            <a:ext cx="2384640" cy="29973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050560" y="1412640"/>
            <a:ext cx="6913800" cy="521316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а защиту от экономической эксплуатации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2bf6"/>
                </a:solidFill>
                <a:latin typeface="Garamond"/>
              </a:rPr>
              <a:t>Минимальный возраст для приема на работу</a:t>
            </a:r>
            <a:r>
              <a:rPr b="1" lang="ru-RU" sz="24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b2bf6"/>
                </a:solidFill>
                <a:latin typeface="Garamond"/>
              </a:rPr>
              <a:t>15 лет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С письменного согласия родителей или опекунов можно устроиться работать в 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     </a:t>
            </a: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14 лет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Никто не может заставить ребенка заниматься тяжелым трудом, вредным для здоровья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Государство не заставляет гражданина трудиться, это его право, а не обязанность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Если человек хочет работать, но не может найти работу, то государство защищает его от безработицы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38" name="Picture 14" descr="image127"/>
          <p:cNvPicPr/>
          <p:nvPr/>
        </p:nvPicPr>
        <p:blipFill>
          <a:blip r:embed="rId2"/>
          <a:stretch/>
        </p:blipFill>
        <p:spPr>
          <a:xfrm>
            <a:off x="468360" y="1557360"/>
            <a:ext cx="1582560" cy="2016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2bf6"/>
                </a:solidFill>
                <a:latin typeface="Garamond"/>
              </a:rPr>
              <a:t>Право на отдых и досуг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27280" y="1341000"/>
            <a:ext cx="6059520" cy="504036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гарантирует каждому гражданину это право путем предоставления отпуска всем работающим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 поощряет создание туристических баз, домов отдыха, санаториев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42" name="Picture 7" descr="a90"/>
          <p:cNvPicPr/>
          <p:nvPr/>
        </p:nvPicPr>
        <p:blipFill>
          <a:blip r:embed="rId1"/>
          <a:stretch/>
        </p:blipFill>
        <p:spPr>
          <a:xfrm>
            <a:off x="179280" y="1413000"/>
            <a:ext cx="2232000" cy="2447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image121"/>
          <p:cNvPicPr/>
          <p:nvPr/>
        </p:nvPicPr>
        <p:blipFill>
          <a:blip r:embed="rId2"/>
          <a:stretch/>
        </p:blipFill>
        <p:spPr>
          <a:xfrm>
            <a:off x="179280" y="4292640"/>
            <a:ext cx="2297160" cy="191916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c1ba"/>
                </a:solidFill>
                <a:latin typeface="Garamond"/>
              </a:rPr>
              <a:t>Государство защищает </a:t>
            </a:r>
            <a:br>
              <a:rPr sz="4000"/>
            </a:b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детство и материнство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5977080" cy="514188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По случаю рождения ребенка родителям предоставляется отпуск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(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одному из родителей</a:t>
            </a: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)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Выплачиваются денежные компенсации в виде пособий единовременных и ежемесячны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47" name="Picture 6" descr="bebe01"/>
          <p:cNvPicPr/>
          <p:nvPr/>
        </p:nvPicPr>
        <p:blipFill>
          <a:blip r:embed="rId1"/>
          <a:stretch/>
        </p:blipFill>
        <p:spPr>
          <a:xfrm>
            <a:off x="5830920" y="213372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охрану здоровья и медицинскую помощь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400720" cy="499752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В России действует страховая медицин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Лечение граждан оплачивают страховые компании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Первая медицинская помощь оказывается бесплатно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1" name="Picture 6" descr="8f1"/>
          <p:cNvPicPr/>
          <p:nvPr/>
        </p:nvPicPr>
        <p:blipFill>
          <a:blip r:embed="rId1"/>
          <a:stretch/>
        </p:blipFill>
        <p:spPr>
          <a:xfrm>
            <a:off x="250920" y="3284640"/>
            <a:ext cx="2736720" cy="309564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социальное обеспечение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5184720" cy="5472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помогает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Инвалидам с детств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Людям получившим увечья, и ставшими поэтому нетрудоспособными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ражданам преклонного возраста, ставшими нетрудоспособными по возраст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5" name="Picture 6" descr="12"/>
          <p:cNvPicPr/>
          <p:nvPr/>
        </p:nvPicPr>
        <p:blipFill>
          <a:blip r:embed="rId1"/>
          <a:stretch/>
        </p:blipFill>
        <p:spPr>
          <a:xfrm>
            <a:off x="5400720" y="1773360"/>
            <a:ext cx="3743280" cy="396072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2bf6"/>
                </a:solidFill>
                <a:latin typeface="Garamond"/>
              </a:rPr>
              <a:t>Право на образование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124000" y="1197000"/>
            <a:ext cx="6732720" cy="5472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Это возможность получить знания, навыки необходимые для жизни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Без хорошего образования человек не сможет найти интересное, важное дело, добиться успех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У детей должна быть возможность выбора, где и чему учиться, независимо от материального состояния родителей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Библиотеки, театры и музеи должны быть доступны для учеников, развитие творческих способностей детей – одна из целей образования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Совершайте открытия, изобретайте новое, участвуйте в конкурсах и фестивалях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9" name="Picture 5" descr="aluno01"/>
          <p:cNvPicPr/>
          <p:nvPr/>
        </p:nvPicPr>
        <p:blipFill>
          <a:blip r:embed="rId1"/>
          <a:stretch/>
        </p:blipFill>
        <p:spPr>
          <a:xfrm>
            <a:off x="0" y="1773360"/>
            <a:ext cx="2448000" cy="44654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Закон «Об образовании»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Образование можно получать в разных формах: обучаясь в школе (в государственной или частной), дома, в форме экстерната и т.д.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ыпускники по окончанию школы сдают государственные экзамены (проходят аттестацию), по результатам которых выдается документ об образовании, за особые успехи в обучении выпускники могут награждаться золотой и серебряной медалью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Аттестат дает право получить обучение в училище, колледже, ВУЗе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озможно на конкурсной основе поступить на бесплатное обучение в ВУЗы, для этого нужно сдать экзамены и набрать необходимое количество баллов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получение информации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6049800" cy="5256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обращаться за помощью к взрослым (родителям и учителям)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идти в библиотеку, чтобы найти ответы на  вопросы, интересующие теб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подключиться к компьютерным сетям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выражать свои взгляды и обсуждать важные вопросы через средства массовой информации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66" name="Picture 6" descr="image695"/>
          <p:cNvPicPr/>
          <p:nvPr/>
        </p:nvPicPr>
        <p:blipFill>
          <a:blip r:embed="rId1"/>
          <a:stretch/>
        </p:blipFill>
        <p:spPr>
          <a:xfrm>
            <a:off x="6443640" y="1413000"/>
            <a:ext cx="2521080" cy="5111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cc"/>
                </a:solidFill>
                <a:latin typeface="Arial"/>
              </a:rPr>
              <a:t>Найдите правильное соответствие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0160" y="1827360"/>
          <a:ext cx="7245360" cy="4090680"/>
        </p:xfrm>
        <a:graphic>
          <a:graphicData uri="http://schemas.openxmlformats.org/drawingml/2006/table">
            <a:tbl>
              <a:tblPr/>
              <a:tblGrid>
                <a:gridCol w="2108160"/>
                <a:gridCol w="5137200"/>
              </a:tblGrid>
              <a:tr h="35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Понятие</a:t>
                      </a:r>
                      <a:endParaRPr b="0" lang="en-US" sz="15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Определение</a:t>
                      </a:r>
                      <a:endParaRPr b="0" lang="en-US" sz="15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aaae"/>
                    </a:solidFill>
                  </a:tcPr>
                </a:tc>
              </a:tr>
              <a:tr h="68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1.Собрания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А.Право на участие в ведении государственных дел и в правосудии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2.Митинги 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Б.Многолюдные мероприятия людей. Выражающих те или иные взгляды, иногда сопровождающиеся перемещением по определенному маршруту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3.Демонстрации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В.Совместное присутствие группы людей в определенном месте для обсуждения или решения какой – либо проблемы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4.Выборы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Г.Форма выражения мнения людей с целью публичного высказывания по конкретному вопросу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лохих детей не бывает.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Никто и никогда не должен быть жестоким по отношению к детям.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пределите,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были соблюдены права или нет,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кажите почему вы так думаете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Во время пожара дверь в квартиру выбита, и подросток, находившийся в комнате без сознания, был вынесен на улицу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16-летний молодой человек не был принят на работу, так как у него не оказалось письменного разрешения от обоих родителе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8-летняя девочка, у которой из-за болезни были парализованы ноги. Вынуждена была уйти из школы и не получила среднее образова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Найдите правильный отве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1.Самым важным и неотъемлемым право каждого человека с рождения является право на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образование;         б) жизнь;                      в) переезд в другую стран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2.Права подростка гарантируют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государством;        б) самим подростком;               в) родителя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3.К реализации права на личную жизнь относит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выбор места учеб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б) тайна телефонных разговоров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в) участие в выбора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4.Право на труд входит в группу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культурных прав;      б) политических прав;      в) экономических пра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5.Правом на социальное обеспечение могут пользовать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мужчины трудоспособного возраста;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б) пенсионеры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в) лица без граждан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Домашнее задание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99"/>
                </a:solidFill>
                <a:latin typeface="Verdana"/>
              </a:rPr>
              <a:t>Подумайте над вопросом: как вы считаете отличаются ли права ребенка от прав взрослого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99"/>
                </a:solidFill>
                <a:latin typeface="Verdana"/>
              </a:rPr>
              <a:t>Перечислите, какими из прав вы реально пользуетесь в своей жизн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cc"/>
                </a:solidFill>
                <a:latin typeface="Arial"/>
              </a:rPr>
              <a:t>Вставьте недостающие слова (понятия) в предложения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ражданин должен платить ___________________. Эти деньги поступают в казну государств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 нормам семейного права гражданин обязан заботься о ________________________________________________, _______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Для обеспечения безопасности государства и его граждан существует обязанность ____________________________  _______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 целях сохранения культурного наследия граждане обязаны 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ражданин обязан соблюдать ________________________ государств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29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8c1ba"/>
                </a:solidFill>
                <a:latin typeface="Garamond"/>
              </a:rPr>
              <a:t>Подросток </a:t>
            </a:r>
            <a:br>
              <a:rPr sz="6000"/>
            </a:br>
            <a:r>
              <a:rPr b="1" lang="ru-RU" sz="6000" spc="-1" strike="noStrike">
                <a:solidFill>
                  <a:srgbClr val="d8c1ba"/>
                </a:solidFill>
                <a:latin typeface="Garamond"/>
              </a:rPr>
              <a:t>и его права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Как вы считаете, отличаются ли права ребенка и подростка от прав взрослого человека?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раво человека</a:t>
            </a: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–</a:t>
            </a: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это возможность что – либо делать, поступать определенным образом, иметь что-то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раво на жизнь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12" name="Picture 6" descr="bebe09"/>
          <p:cNvPicPr/>
          <p:nvPr/>
        </p:nvPicPr>
        <p:blipFill>
          <a:blip r:embed="rId1"/>
          <a:stretch/>
        </p:blipFill>
        <p:spPr>
          <a:xfrm>
            <a:off x="179280" y="2708280"/>
            <a:ext cx="2016360" cy="2077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340000" y="1341000"/>
            <a:ext cx="6624720" cy="532764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Важное и неотъемлемое право для каждого человек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е надо понимать как разрешение или запрет; право – не подарок за хорошее поведение и не привилегия, а такая же необходимость, как воздух, как солнце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а жизнь означает, что государство, вся мощь его институтов, учреждений и организаций, направлены на защиту жизни подростк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Жизнь ребенку дают родители, а право на жизнь гарантирует ему государство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свободу и</a:t>
            </a:r>
            <a:br>
              <a:rPr sz="4000"/>
            </a:b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 личную неприкосновенность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771280" y="1628640"/>
            <a:ext cx="6193080" cy="499752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Свободный человек отвечает за себя сам – и никто другой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Свобода состоит в праве делать все то, что не вредит другим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Никто не может насильно удерживать другого человек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Никто не может унижать и оскорблять другого человека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17" name="Picture 8" descr="batterup"/>
          <p:cNvPicPr/>
          <p:nvPr/>
        </p:nvPicPr>
        <p:blipFill>
          <a:blip r:embed="rId1"/>
          <a:stretch/>
        </p:blipFill>
        <p:spPr>
          <a:xfrm>
            <a:off x="108000" y="1989000"/>
            <a:ext cx="2519280" cy="39610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Конвенция о правах ребенка</a:t>
            </a:r>
            <a:br>
              <a:rPr sz="4400"/>
            </a:br>
            <a:r>
              <a:rPr b="1" lang="ru-RU" sz="1800" spc="-1" strike="noStrike">
                <a:solidFill>
                  <a:srgbClr val="d8c1ba"/>
                </a:solidFill>
                <a:latin typeface="Garamond"/>
              </a:rPr>
              <a:t>(принят Организацией Объединенных Наций – ООН в 1989 г.)</a:t>
            </a:r>
            <a:endParaRPr b="1" lang="en-US" sz="18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Каждый ребенок имеет право знать своих родителей;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Родители несут ответственность за ребенка и должны обеспечить ему нормальные условия жизни.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4444"/>
                </a:solidFill>
                <a:latin typeface="Garamond"/>
              </a:rPr>
              <a:t>Но, к сожалению, полтора миллиона детей в России никогда не знали маминой ласки и папиной заботы.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неприкосновенность личной жизни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6553440" cy="50688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Сфера жизни человека, в которую государство не имеет право вмешиваться и которая не подлежит контролю с его стороны, и она охраняется законом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Тайный характер частной жизни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Никто не имеет права читать чужие письма, подслушивать телефонные разговоры, собирать сведения о личной жизни человека</a:t>
            </a:r>
            <a:r>
              <a:rPr b="1" lang="ru-RU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без разрешения прокуратуры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24" name="Picture 5" descr="7f1"/>
          <p:cNvPicPr/>
          <p:nvPr/>
        </p:nvPicPr>
        <p:blipFill>
          <a:blip r:embed="rId1"/>
          <a:stretch/>
        </p:blipFill>
        <p:spPr>
          <a:xfrm>
            <a:off x="6588000" y="2565360"/>
            <a:ext cx="2376720" cy="2448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3:39:48Z</dcterms:modified>
  <cp:revision>7</cp:revision>
  <dc:subject/>
  <dc:title>Актуализация темы: «Подросток как гражданин»</dc:title>
</cp:coreProperties>
</file>