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7f3f3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0C28A-6377-415B-A454-B3D80166FCF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уализация темы: «Подросток как гражданин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43f42"/>
                </a:solidFill>
                <a:latin typeface="Calibri"/>
              </a:rPr>
              <a:t>Выполните следующие за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E6189-C590-46C1-BF1F-70B30767E0A0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b2bf6"/>
                </a:solidFill>
                <a:latin typeface="Calibri"/>
              </a:rPr>
              <a:t>Право на неприкосновенность жилищ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Войти в дом помимо воли тех, кто там проживает нельз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Можно не открывать дверь незнакомцам или даже надоедливым соседям, с которыми не хочешь общать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о при пожарах, землетрясениях, непредвиденных обстоятельствах или при защите правопорядка допускается отступление от этого прави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A2845-B502-44AB-98C3-D2C4679976A8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Calibri"/>
              </a:rPr>
              <a:t>Гражданин нашей страны сам выбирает место своего жительства, может свободно передвигаться по стране и выезжать за ее преде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BBAB8-2397-484A-AEBF-100D7F78474D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b2bf6"/>
                </a:solidFill>
                <a:latin typeface="Calibri"/>
              </a:rPr>
              <a:t>Экономические права:</a:t>
            </a:r>
            <a:br>
              <a:rPr sz="1600"/>
            </a:br>
            <a:r>
              <a:rPr b="0" lang="ru-RU" sz="1400" spc="-1" strike="noStrike">
                <a:solidFill>
                  <a:srgbClr val="fb2bf6"/>
                </a:solidFill>
                <a:latin typeface="Calibri"/>
              </a:rPr>
              <a:t>право на труд и свободный выбор професс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Право на защиту от экономической эксплуат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b2bf6"/>
                </a:solidFill>
                <a:latin typeface="Calibri"/>
              </a:rPr>
              <a:t>Минимальный возраст для приема на работу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b2bf6"/>
                </a:solidFill>
                <a:latin typeface="Calibri"/>
              </a:rPr>
              <a:t>15 ле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С письменного согласия родителей или опекунов можно устроиться работать 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14 ле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Никто не может заставить ребенка заниматься тяжелым трудом, вредным для здоровь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Государство не заставляет гражданина трудиться, это его право, а не обязан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Если человек хочет работать, но не может найти работу, то государство защищает его от безработи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17D68-5762-4513-B18E-C268DF572D3E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b2bf6"/>
                </a:solidFill>
                <a:latin typeface="Calibri"/>
              </a:rPr>
              <a:t>Право на отдых и дос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Государство гарантирует каждому гражданину это право путем предоставления отпуска всем работающи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Государство  поощряет создание туристических баз, домов отдыха, санатори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8FB7F-D447-4218-B74F-AFDB2CD8FB2B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осударство защищает </a:t>
            </a:r>
            <a:br>
              <a:rPr sz="1600"/>
            </a:br>
            <a:r>
              <a:rPr b="0" lang="ru-RU" sz="1600" spc="-1" strike="noStrike">
                <a:solidFill>
                  <a:srgbClr val="fb2bf6"/>
                </a:solidFill>
                <a:latin typeface="Calibri"/>
              </a:rPr>
              <a:t>детство и материнств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По случаю рождения ребенка родителям предоставляется отпуск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одному из родителей</a:t>
            </a: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Выплачиваются денежные компенсации в виде пособий единовременных и ежемесяч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2C42F-F8FA-4062-9886-A33282B8DE48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b2bf6"/>
                </a:solidFill>
                <a:latin typeface="Calibri"/>
              </a:rPr>
              <a:t>Право на охрану здоровья и медицинскую помощ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В России действует страховая медицин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Лечение граждан оплачивают страховые компан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Первая медицинская помощь оказывается бесплат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9EF4E-1708-4667-B003-C033C1D363E8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b2bf6"/>
                </a:solidFill>
                <a:latin typeface="Calibri"/>
              </a:rPr>
              <a:t>Право на социальное обеспеч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Государство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омога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Инвалидам с дет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Людям получившим увечья, и ставшими поэтому нетрудоспособны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Гражданам преклонного возраста, ставшими нетрудоспособными по возраст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8EB0C-12C4-4B38-9437-413F83DA5436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b2bf6"/>
                </a:solidFill>
                <a:latin typeface="Calibri"/>
              </a:rPr>
              <a:t>Право на обра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Это возможность получить знания, навыки необходимые для жиз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Без хорошего образования человек не сможет найти интересное, важное дело, добиться успех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У детей должна быть возможность выбора, где и чему учиться, независимо от материального состояния родит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Библиотеки, театры и музеи должны быть доступны для учеников, развитие творческих способностей детей – одна из целей образ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Совершайте открытия, изобретайте новое, участвуйте в конкурсах и фестивал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4836A-FCE9-402D-A11B-161F5573A1A9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«Об образован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b2bf6"/>
                </a:solidFill>
                <a:latin typeface="Calibri"/>
              </a:rPr>
              <a:t>Образование можно получать в разных формах: обучаясь в школе (в государственной или частной), дома, в форме экстерната и т.д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Выпускники по окончанию школы сдают государственные экзамены (проходят аттестацию), по результатам которых выдается документ об образовании, за особые успехи в обучении выпускники могут награждаться золотой и серебряной медаль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b2bf6"/>
                </a:solidFill>
                <a:latin typeface="Calibri"/>
              </a:rPr>
              <a:t>Аттестат дает право получить обучение в училище, колледже, ВУЗ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Возможно на конкурсной основе поступить на бесплатное обучение в ВУЗы, для этого нужно сдать экзамены и набрать необходимое количество балл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245C8-703E-4410-91AC-38BB0233BC8A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b2bf6"/>
                </a:solidFill>
                <a:latin typeface="Calibri"/>
              </a:rPr>
              <a:t>Право на получение информ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Можно обращаться за помощью к взрослым (родителям и учителям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Можно идти в библиотеку, чтобы найти ответы на  вопросы, интересующие теб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Можно подключиться к компьютерным сет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Можно выражать свои взгляды и обсуждать важные вопросы через средства массовой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183D0-4B8C-4B6C-B08F-D2CDDCCE9A48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ите правильное соответ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Собр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Право на участие в ведении государственных дел и в правосуд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Митинг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.Многолюдные мероприятия людей. Выражающих те или иные взгляды, иногда сопровождающиеся перемещением по определенному маршру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Демонст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Совместное присутствие группы людей в определенном месте для обсуждения или решения какой – либо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Выб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Форма выражения мнения людей с целью публичного высказывания по конкретному вопрос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D8B4C-9441-4190-8C64-8DAA7938D663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b2bf6"/>
                </a:solidFill>
                <a:latin typeface="Calibri"/>
              </a:rPr>
              <a:t>Плохих детей не бывает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b2bf6"/>
                </a:solidFill>
                <a:latin typeface="Calibri"/>
              </a:rPr>
              <a:t>Никто и никогда не должен быть жестоким по отношению к дет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055A1-21D9-482F-8175-4FCC52C1E8BD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пределите, 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были соблюдены права или нет, 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кажите почему вы так думаете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c1e4d"/>
                </a:solidFill>
                <a:latin typeface="Calibri"/>
              </a:rPr>
              <a:t>Во время пожара дверь в квартиру выбита, и подросток, находившийся в комнате без сознания, был вынесен на улиц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c1e4d"/>
                </a:solidFill>
                <a:latin typeface="Calibri"/>
              </a:rPr>
              <a:t>16-летний молодой человек не был принят на работу, так как у него не оказалось письменного разрешения от обоих роди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c1e4d"/>
                </a:solidFill>
                <a:latin typeface="Calibri"/>
              </a:rPr>
              <a:t>8-летняя девочка, у которой из-за болезни были парализованы ноги. Вынуждена была уйти из школы и не получила среднее образ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3E63B-2191-46CE-8101-16B68A6E091F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ите правильный отв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99"/>
                </a:solidFill>
                <a:latin typeface="Calibri"/>
              </a:rPr>
              <a:t>1.Самым важным и неотъемлемым право каждого человека с рождения является право на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а) образование;         б) жизнь;                      в) переезд в другую стра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99"/>
                </a:solidFill>
                <a:latin typeface="Calibri"/>
              </a:rPr>
              <a:t>2.Права подростка гарантиру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а) государством;        б) самим подростком;               в) родител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99"/>
                </a:solidFill>
                <a:latin typeface="Calibri"/>
              </a:rPr>
              <a:t>3.К реализации права на личную жизнь относи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а) выбор места учеб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б) тайна телефонных разгово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в) участие в выбор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99"/>
                </a:solidFill>
                <a:latin typeface="Calibri"/>
              </a:rPr>
              <a:t>4.Право на труд входит в групп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а) культурных прав;      б) политических прав;      в) экономических пра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99"/>
                </a:solidFill>
                <a:latin typeface="Calibri"/>
              </a:rPr>
              <a:t>5.Правом на социальное обеспечение могут пользовать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а) мужчины трудоспособного возраста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б) пенсионер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в) лица без граждан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93EB8-2AFB-413C-BE0D-0BC2545935E1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99"/>
                </a:solidFill>
                <a:latin typeface="Calibri"/>
              </a:rPr>
              <a:t>Подумайте над вопросом: как вы считаете отличаются ли права ребенка от прав взрослог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99"/>
                </a:solidFill>
                <a:latin typeface="Calibri"/>
              </a:rPr>
              <a:t>Перечислите, какими из прав вы реально пользуетесь в своей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FBB00-DFDB-4383-804F-21ED7BA122F8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тавьте недостающие слова (понятия) в предлож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ин должен платить ___________________. Эти деньги поступают в казну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нормам семейного права гражданин обязан заботься о ________________________________________________, ________________________________________________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обеспечения безопасности государства и его граждан существует обязанность ____________________________  ________________________________________________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целях сохранения культурного наследия граждане обязаны _________________________________________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ин обязан соблюдать ________________________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631CD-FDA8-4C25-AE01-7DF0A2225664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росток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его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c1e4d"/>
                </a:solidFill>
                <a:latin typeface="Calibri"/>
              </a:rPr>
              <a:t>Как вы считаете, отличаются ли права ребенка и подростка от прав взрослого челове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21315-FC70-4EA6-BECF-69F635DD2283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b2bf6"/>
                </a:solidFill>
                <a:latin typeface="Calibri"/>
              </a:rPr>
              <a:t>Право челове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b2bf6"/>
                </a:solidFill>
                <a:latin typeface="Calibri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возможность что – либо делать, поступать определенным образом, иметь что-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7B26C-5E86-4420-A8B0-55F6CB877391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b2bf6"/>
                </a:solidFill>
                <a:latin typeface="Calibri"/>
              </a:rPr>
              <a:t>Право на жизн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Важное и неотъемлемое право для каждого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Право не надо понимать как разрешение или запрет; право – не подарок за хорошее поведение и не привилегия, а такая же необходимость, как воздух, как солнц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Право на жизнь означает, что государство, вся мощь его институтов, учреждений и организаций, направлены на защиту жизни подрост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Жизнь ребенку дают родители, а право на жизнь гарантирует ему государ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92E31-20AA-4215-A96D-6FC02A4674AF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b2bf6"/>
                </a:solidFill>
                <a:latin typeface="Calibri"/>
              </a:rPr>
              <a:t>Право на свободу и</a:t>
            </a:r>
            <a:br>
              <a:rPr sz="1600"/>
            </a:br>
            <a:r>
              <a:rPr b="0" lang="ru-RU" sz="1600" spc="-1" strike="noStrike">
                <a:solidFill>
                  <a:srgbClr val="fb2bf6"/>
                </a:solidFill>
                <a:latin typeface="Calibri"/>
              </a:rPr>
              <a:t> личную неприкосновенност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Свободный человек отвечает за себя сам – и никто друг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Свобода состоит в праве делать все то, что не вредит други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Никто не может насильно удерживать другого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Никто не может унижать и оскорблять другого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BC1A8-9F60-46AA-B7E4-7F499FB3035E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нция о правах ребенка</a:t>
            </a:r>
            <a:br>
              <a:rPr sz="1200"/>
            </a:b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(принят Организацией Объединенных Наций – ООН в 1989 г.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c1e4d"/>
                </a:solidFill>
                <a:latin typeface="Calibri"/>
              </a:rPr>
              <a:t>Каждый ребенок имеет право знать своих родит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c1e4d"/>
                </a:solidFill>
                <a:latin typeface="Calibri"/>
              </a:rPr>
              <a:t>Родители несут ответственность за ребенка и должны обеспечить ему нормальные условия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Но, к сожалению, полтора миллиона детей в России никогда не знали маминой ласки и папиной з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2640F-F40B-47AB-8F06-0E6359275936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b2bf6"/>
                </a:solidFill>
                <a:latin typeface="Calibri"/>
              </a:rPr>
              <a:t>Право на неприкосновенность личной жизн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Сфера жизни человека, в которую государство не имеет право вмешиваться и которая не подлежит контролю с его стороны, и она охраняется закон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Тайный характер частной жиз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Никто не имеет права читать чужие письма, подслушивать телефонные разговоры, собирать сведения о личной жизни человек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без разрешения прокура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21CB3-B15C-4FEE-BC46-4EDDC40FB251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90C2E-180E-4A4B-85EB-1706D3DA4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6787C-75D9-4D84-B1CA-D8B30A9F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E8C73-0581-46BA-8856-F2D873F46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C48AD-F272-425B-875C-4FD1C922C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39D29-4E7B-483D-BF8F-0D52B1331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EC023-F1CF-4FA3-9283-44EAF9EDB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D3116-CA3E-4629-9F2D-705D4223F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F4842-624B-434F-AFE1-71DDBE18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4AC16-BA2F-4CC2-85AF-281D3A999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51A3F-0ABE-41AA-860D-54BF38C91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9F212-FAEE-4F02-A2D6-23EF5278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0231C-75A7-4845-B167-ACCD677D4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D6F8D-1870-4440-9EFB-7885BE04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D2880-B41A-4585-AF64-F827A1CD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F1A59-4B8A-4D45-BA30-B6F8ED556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BB67D-AADB-408E-83B8-A9816992F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B49E7-73B1-4CA7-9EBE-627A738FE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6D20A-A537-4805-A2D0-BFF52D6D6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C855E-DFC3-41B7-8288-6D21AD482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BA929-7D7C-4C92-B62D-233624D3A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A4D02-114C-4B01-8E0D-2A4FE0C98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2C6A3-C3AE-4B8F-BFAA-48C9DA2D7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52926-507D-4FF0-90AE-F71465145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9F361-69D6-49B6-9F34-A22BEB1E7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C091B-DA99-4ABE-A61B-35850328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0CDA0-0618-49A3-9617-F345F0D6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9AFD2-0247-4DAA-BC83-824324F5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405F1-267D-4F92-926F-FBBD93A04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24CC0-AB48-4FE6-889F-058E1C14D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1BCA8-4202-44D0-8EB7-169D83F3D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8939B-0651-4178-9F10-A48E9C366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4E7BB-A30A-4338-9914-FE9EB3FEB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26FDA-A205-4BE1-9FC3-1373A801D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32B8C-616B-4B25-A3AD-8F477B5D0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D8FA4-7695-4EC3-AA60-5F73F8CA6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B42C9-E9CB-43C2-9ECE-8C2AF07AA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3AF94-655F-4967-8BF3-8F3858874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D9CB6-2DE4-49B8-9003-3F6EB6EB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A9437-944A-4665-8C4C-43AD4115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A3EE0-4A23-435C-A101-F9D9DFF5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B8924-4C42-49AB-88C1-ED022A81A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24F56-2220-436A-8F1E-DADB84057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763B5-E337-4AC4-BA97-012D1EA8B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99B4B-F9D1-4797-BD52-72BCAD5F4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C55F6-1DDE-4B69-ADAB-A5A4240AC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49292-C816-4A5D-80AE-4EC3D98D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B3A9A-CA58-426B-AD93-D19ACC0C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26F5C-C71F-48ED-86C0-73DAAA03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B04C5-981B-47AB-899E-53B89F4526D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15150"/>
                  </a:gs>
                  <a:gs pos="100000">
                    <a:srgbClr val="8a63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a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95756"/>
                  </a:gs>
                  <a:gs pos="100000">
                    <a:srgbClr val="8a636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755453"/>
                </a:gs>
                <a:gs pos="100000">
                  <a:srgbClr val="8a636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4444"/>
                </a:gs>
                <a:gs pos="100000">
                  <a:srgbClr val="8a6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5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  <p:sp>
          <p:nvSpPr>
            <p:cNvPr id="5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  <p:sp>
          <p:nvSpPr>
            <p:cNvPr id="5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D2C7B-0BBA-415A-9F03-7AC9D9A03F4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6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7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98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99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15150"/>
                  </a:gs>
                  <a:gs pos="100000">
                    <a:srgbClr val="8a63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100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a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101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95756"/>
                  </a:gs>
                  <a:gs pos="100000">
                    <a:srgbClr val="8a636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</p:grpSp>
        <p:sp>
          <p:nvSpPr>
            <p:cNvPr id="102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755453"/>
                </a:gs>
                <a:gs pos="100000">
                  <a:srgbClr val="8a636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  <p:sp>
          <p:nvSpPr>
            <p:cNvPr id="103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4444"/>
                </a:gs>
                <a:gs pos="100000">
                  <a:srgbClr val="8a6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B275F-C3A7-4324-AA07-E628B34D9B0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1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  <p:sp>
          <p:nvSpPr>
            <p:cNvPr id="1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  <p:sp>
          <p:nvSpPr>
            <p:cNvPr id="1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8B729-C4ED-460F-96D7-AA738EFD073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Актуализация темы: «Подросток как гражданин»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143f42"/>
                </a:solidFill>
                <a:latin typeface="Verdana"/>
              </a:rPr>
              <a:t>Выполните следующие задани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b2bf6"/>
                </a:solidFill>
                <a:latin typeface="Garamond"/>
              </a:rPr>
              <a:t>Право на неприкосновенность жилища</a:t>
            </a: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5977080" cy="506880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Garamond"/>
              </a:rPr>
              <a:t>Войти в дом помимо воли тех, кто там проживает нельзя;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Garamond"/>
              </a:rPr>
              <a:t>Можно не открывать дверь незнакомцам или даже надоедливым соседям, с которыми не хочешь общаться;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Но при пожарах, землетрясениях, непредвиденных обстоятельствах или при защите правопорядка допускается отступление от этого правила.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228" name="Picture 21" descr="HOUSELIGHTSWEEP-MOTION3-W"/>
          <p:cNvPicPr/>
          <p:nvPr/>
        </p:nvPicPr>
        <p:blipFill>
          <a:blip r:embed="rId1"/>
          <a:stretch/>
        </p:blipFill>
        <p:spPr>
          <a:xfrm>
            <a:off x="6372360" y="1628640"/>
            <a:ext cx="2520720" cy="504036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229068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cc99"/>
                </a:solidFill>
                <a:latin typeface="Garamond"/>
              </a:rPr>
              <a:t>Гражданин нашей страны сам выбирает место своего жительства, может свободно передвигаться по стране и выезжать за ее пределы</a:t>
            </a:r>
            <a:endParaRPr b="1" lang="en-US" sz="36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231" name="Picture 12" descr="image052"/>
          <p:cNvPicPr/>
          <p:nvPr/>
        </p:nvPicPr>
        <p:blipFill>
          <a:blip r:embed="rId1"/>
          <a:stretch/>
        </p:blipFill>
        <p:spPr>
          <a:xfrm>
            <a:off x="457200" y="3716280"/>
            <a:ext cx="8686800" cy="9921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3" descr="image051"/>
          <p:cNvPicPr/>
          <p:nvPr/>
        </p:nvPicPr>
        <p:blipFill>
          <a:blip r:embed="rId2"/>
          <a:stretch/>
        </p:blipFill>
        <p:spPr>
          <a:xfrm>
            <a:off x="324000" y="2565360"/>
            <a:ext cx="8362800" cy="6620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5" descr="image053"/>
          <p:cNvPicPr/>
          <p:nvPr/>
        </p:nvPicPr>
        <p:blipFill>
          <a:blip r:embed="rId3"/>
          <a:stretch/>
        </p:blipFill>
        <p:spPr>
          <a:xfrm>
            <a:off x="324000" y="5229360"/>
            <a:ext cx="8569080" cy="880920"/>
          </a:xfrm>
          <a:prstGeom prst="rect">
            <a:avLst/>
          </a:prstGeom>
          <a:ln w="0">
            <a:noFill/>
          </a:ln>
        </p:spPr>
      </p:pic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b2bf6"/>
                </a:solidFill>
                <a:latin typeface="Garamond"/>
              </a:rPr>
              <a:t>Экономические права:</a:t>
            </a:r>
            <a:br>
              <a:rPr sz="3200"/>
            </a:br>
            <a:r>
              <a:rPr b="1" lang="ru-RU" sz="2800" spc="-1" strike="noStrike">
                <a:solidFill>
                  <a:srgbClr val="fb2bf6"/>
                </a:solidFill>
                <a:latin typeface="Garamond"/>
              </a:rPr>
              <a:t>право на труд и свободный выбор профессии</a:t>
            </a:r>
            <a:endParaRPr b="1" lang="en-US" sz="28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236" name="Picture 8" descr="janitor"/>
          <p:cNvPicPr/>
          <p:nvPr/>
        </p:nvPicPr>
        <p:blipFill>
          <a:blip r:embed="rId1"/>
          <a:stretch/>
        </p:blipFill>
        <p:spPr>
          <a:xfrm>
            <a:off x="179280" y="3860640"/>
            <a:ext cx="2384640" cy="29973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050560" y="1412640"/>
            <a:ext cx="6913800" cy="521316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Право на защиту от экономической эксплуатации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b2bf6"/>
                </a:solidFill>
                <a:latin typeface="Garamond"/>
              </a:rPr>
              <a:t>Минимальный возраст для приема на работу</a:t>
            </a:r>
            <a:r>
              <a:rPr b="1" lang="ru-RU" sz="24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b2bf6"/>
                </a:solidFill>
                <a:latin typeface="Garamond"/>
              </a:rPr>
              <a:t>15 лет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c00"/>
                </a:solidFill>
                <a:latin typeface="Garamond"/>
              </a:rPr>
              <a:t>С письменного согласия родителей или опекунов можно устроиться работать в 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c00"/>
                </a:solidFill>
                <a:latin typeface="Garamond"/>
              </a:rPr>
              <a:t>     </a:t>
            </a:r>
            <a:r>
              <a:rPr b="1" i="1" lang="ru-RU" sz="2400" spc="-1" strike="noStrike">
                <a:solidFill>
                  <a:srgbClr val="ffcc00"/>
                </a:solidFill>
                <a:latin typeface="Garamond"/>
              </a:rPr>
              <a:t>14 лет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Никто не может заставить ребенка заниматься тяжелым трудом, вредным для здоровья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Государство не заставляет гражданина трудиться, это его право, а не обязанность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Если человек хочет работать, но не может найти работу, то государство защищает его от безработицы.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238" name="Picture 14" descr="image127"/>
          <p:cNvPicPr/>
          <p:nvPr/>
        </p:nvPicPr>
        <p:blipFill>
          <a:blip r:embed="rId2"/>
          <a:stretch/>
        </p:blipFill>
        <p:spPr>
          <a:xfrm>
            <a:off x="468360" y="1557360"/>
            <a:ext cx="1582560" cy="201600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9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b2bf6"/>
                </a:solidFill>
                <a:latin typeface="Garamond"/>
              </a:rPr>
              <a:t>Право на отдых и досуг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627280" y="1341000"/>
            <a:ext cx="6059520" cy="504036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Государство гарантирует каждому гражданину это право путем предоставления отпуска всем работающим;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Государство  поощряет создание туристических баз, домов отдыха, санаториев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242" name="Picture 7" descr="a90"/>
          <p:cNvPicPr/>
          <p:nvPr/>
        </p:nvPicPr>
        <p:blipFill>
          <a:blip r:embed="rId1"/>
          <a:stretch/>
        </p:blipFill>
        <p:spPr>
          <a:xfrm>
            <a:off x="179280" y="1413000"/>
            <a:ext cx="2232000" cy="24476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4" descr="image121"/>
          <p:cNvPicPr/>
          <p:nvPr/>
        </p:nvPicPr>
        <p:blipFill>
          <a:blip r:embed="rId2"/>
          <a:stretch/>
        </p:blipFill>
        <p:spPr>
          <a:xfrm>
            <a:off x="179280" y="4292640"/>
            <a:ext cx="2297160" cy="1919160"/>
          </a:xfrm>
          <a:prstGeom prst="rect">
            <a:avLst/>
          </a:prstGeom>
          <a:ln w="0">
            <a:noFill/>
          </a:ln>
        </p:spPr>
      </p:pic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8c1ba"/>
                </a:solidFill>
                <a:latin typeface="Garamond"/>
              </a:rPr>
              <a:t>Государство защищает </a:t>
            </a:r>
            <a:br>
              <a:rPr sz="4000"/>
            </a:br>
            <a:r>
              <a:rPr b="1" lang="ru-RU" sz="4000" spc="-1" strike="noStrike">
                <a:solidFill>
                  <a:srgbClr val="fb2bf6"/>
                </a:solidFill>
                <a:latin typeface="Garamond"/>
              </a:rPr>
              <a:t>детство и материнство</a:t>
            </a: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5977080" cy="514188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По случаю рождения ребенка родителям предоставляется отпуск</a:t>
            </a:r>
            <a:r>
              <a:rPr b="1" lang="ru-RU" sz="32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(</a:t>
            </a: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одному из родителей</a:t>
            </a: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);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Выплачиваются денежные компенсации в виде пособий единовременных и ежемесячных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247" name="Picture 6" descr="bebe01"/>
          <p:cNvPicPr/>
          <p:nvPr/>
        </p:nvPicPr>
        <p:blipFill>
          <a:blip r:embed="rId1"/>
          <a:stretch/>
        </p:blipFill>
        <p:spPr>
          <a:xfrm>
            <a:off x="5830920" y="2133720"/>
            <a:ext cx="3313080" cy="3240000"/>
          </a:xfrm>
          <a:prstGeom prst="rect">
            <a:avLst/>
          </a:prstGeom>
          <a:ln w="0">
            <a:noFill/>
          </a:ln>
        </p:spPr>
      </p:pic>
      <p:sp>
        <p:nvSpPr>
          <p:cNvPr id="24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7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b2bf6"/>
                </a:solidFill>
                <a:latin typeface="Garamond"/>
              </a:rPr>
              <a:t>Право на охрану здоровья и медицинскую помощь</a:t>
            </a: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564000" y="1600200"/>
            <a:ext cx="5400720" cy="499752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В России действует страховая медицина;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Лечение граждан оплачивают страховые компании;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Первая медицинская помощь оказывается бесплатно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251" name="Picture 6" descr="8f1"/>
          <p:cNvPicPr/>
          <p:nvPr/>
        </p:nvPicPr>
        <p:blipFill>
          <a:blip r:embed="rId1"/>
          <a:stretch/>
        </p:blipFill>
        <p:spPr>
          <a:xfrm>
            <a:off x="250920" y="3284640"/>
            <a:ext cx="2736720" cy="3095640"/>
          </a:xfrm>
          <a:prstGeom prst="rect">
            <a:avLst/>
          </a:prstGeom>
          <a:ln w="0">
            <a:noFill/>
          </a:ln>
        </p:spPr>
      </p:pic>
      <p:sp>
        <p:nvSpPr>
          <p:cNvPr id="25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1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10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b2bf6"/>
                </a:solidFill>
                <a:latin typeface="Garamond"/>
              </a:rPr>
              <a:t>Право на социальное обеспечение</a:t>
            </a: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8000" y="1197000"/>
            <a:ext cx="5184720" cy="547200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Государство </a:t>
            </a: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помогает: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Инвалидам с детства;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Людям получившим увечья, и ставшими поэтому нетрудоспособными;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Гражданам преклонного возраста, ставшими нетрудоспособными по возрасту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255" name="Picture 6" descr="12"/>
          <p:cNvPicPr/>
          <p:nvPr/>
        </p:nvPicPr>
        <p:blipFill>
          <a:blip r:embed="rId1"/>
          <a:stretch/>
        </p:blipFill>
        <p:spPr>
          <a:xfrm>
            <a:off x="5400720" y="1773360"/>
            <a:ext cx="3743280" cy="3960720"/>
          </a:xfrm>
          <a:prstGeom prst="rect">
            <a:avLst/>
          </a:prstGeom>
          <a:ln w="0">
            <a:noFill/>
          </a:ln>
        </p:spPr>
      </p:pic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30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1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1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1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b2bf6"/>
                </a:solidFill>
                <a:latin typeface="Garamond"/>
              </a:rPr>
              <a:t>Право на образование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124000" y="1197000"/>
            <a:ext cx="6732720" cy="547200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Это возможность получить знания, навыки необходимые для жизни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Без хорошего образования человек не сможет найти интересное, важное дело, добиться успеха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У детей должна быть возможность выбора, где и чему учиться, независимо от материального состояния родителей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Библиотеки, театры и музеи должны быть доступны для учеников, развитие творческих способностей детей – одна из целей образования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Совершайте открытия, изобретайте новое, участвуйте в конкурсах и фестивалях.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259" name="Picture 5" descr="aluno01"/>
          <p:cNvPicPr/>
          <p:nvPr/>
        </p:nvPicPr>
        <p:blipFill>
          <a:blip r:embed="rId1"/>
          <a:stretch/>
        </p:blipFill>
        <p:spPr>
          <a:xfrm>
            <a:off x="0" y="1773360"/>
            <a:ext cx="2448000" cy="4465440"/>
          </a:xfrm>
          <a:prstGeom prst="rect">
            <a:avLst/>
          </a:prstGeom>
          <a:ln w="0">
            <a:noFill/>
          </a:ln>
        </p:spPr>
      </p:pic>
      <p:sp>
        <p:nvSpPr>
          <p:cNvPr id="26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9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10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10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10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10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8c1ba"/>
                </a:solidFill>
                <a:latin typeface="Garamond"/>
              </a:rPr>
              <a:t>Закон «Об образовании»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b2bf6"/>
                </a:solidFill>
                <a:latin typeface="Garamond"/>
              </a:rPr>
              <a:t>Образование можно получать в разных формах: обучаясь в школе (в государственной или частной), дома, в форме экстерната и т.д.;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Garamond"/>
              </a:rPr>
              <a:t>Выпускники по окончанию школы сдают государственные экзамены (проходят аттестацию), по результатам которых выдается документ об образовании, за особые успехи в обучении выпускники могут награждаться золотой и серебряной медалью;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b2bf6"/>
                </a:solidFill>
                <a:latin typeface="Garamond"/>
              </a:rPr>
              <a:t>Аттестат дает право получить обучение в училище, колледже, ВУЗе;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Garamond"/>
              </a:rPr>
              <a:t>Возможно на конкурсной основе поступить на бесплатное обучение в ВУЗы, для этого нужно сдать экзамены и набрать необходимое количество баллов.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8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3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8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3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b2bf6"/>
                </a:solidFill>
                <a:latin typeface="Garamond"/>
              </a:rPr>
              <a:t>Право на получение информации</a:t>
            </a: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6049800" cy="525600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Garamond"/>
              </a:rPr>
              <a:t>Можно обращаться за помощью к взрослым (родителям и учителям);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Garamond"/>
              </a:rPr>
              <a:t>Можно идти в библиотеку, чтобы найти ответы на  вопросы, интересующие тебя;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Garamond"/>
              </a:rPr>
              <a:t>Можно подключиться к компьютерным сетям;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Garamond"/>
              </a:rPr>
              <a:t>Можно выражать свои взгляды и обсуждать важные вопросы через средства массовой информации.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266" name="Picture 6" descr="image695"/>
          <p:cNvPicPr/>
          <p:nvPr/>
        </p:nvPicPr>
        <p:blipFill>
          <a:blip r:embed="rId1"/>
          <a:stretch/>
        </p:blipFill>
        <p:spPr>
          <a:xfrm>
            <a:off x="6443640" y="1413000"/>
            <a:ext cx="2521080" cy="5111640"/>
          </a:xfrm>
          <a:prstGeom prst="rect">
            <a:avLst/>
          </a:prstGeom>
          <a:ln w="0">
            <a:noFill/>
          </a:ln>
        </p:spPr>
      </p:pic>
      <p:sp>
        <p:nvSpPr>
          <p:cNvPr id="26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0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1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1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1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cc"/>
                </a:solidFill>
                <a:latin typeface="Arial"/>
              </a:rPr>
              <a:t>Найдите правильное соответствие</a:t>
            </a:r>
            <a:endParaRPr b="0" lang="en-US" sz="27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370160" y="1827360"/>
          <a:ext cx="7245360" cy="4090680"/>
        </p:xfrm>
        <a:graphic>
          <a:graphicData uri="http://schemas.openxmlformats.org/drawingml/2006/table">
            <a:tbl>
              <a:tblPr/>
              <a:tblGrid>
                <a:gridCol w="2108160"/>
                <a:gridCol w="5137200"/>
              </a:tblGrid>
              <a:tr h="352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7f3f3"/>
                          </a:solidFill>
                          <a:latin typeface="Verdana"/>
                        </a:rPr>
                        <a:t>Понятие</a:t>
                      </a:r>
                      <a:endParaRPr b="0" lang="en-US" sz="1500" spc="-1" strike="noStrike">
                        <a:solidFill>
                          <a:srgbClr val="f7f3f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7f3f3"/>
                          </a:solidFill>
                          <a:latin typeface="Verdana"/>
                        </a:rPr>
                        <a:t>Определение</a:t>
                      </a:r>
                      <a:endParaRPr b="0" lang="en-US" sz="1500" spc="-1" strike="noStrike">
                        <a:solidFill>
                          <a:srgbClr val="f7f3f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4aaae"/>
                    </a:solidFill>
                  </a:tcPr>
                </a:tc>
              </a:tr>
              <a:tr h="682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7f3f3"/>
                          </a:solidFill>
                          <a:latin typeface="Verdana"/>
                        </a:rPr>
                        <a:t>1.Собрания</a:t>
                      </a:r>
                      <a:endParaRPr b="0" lang="en-US" sz="1700" spc="-1" strike="noStrike">
                        <a:solidFill>
                          <a:srgbClr val="f7f3f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7f3f3"/>
                          </a:solidFill>
                          <a:latin typeface="Verdana"/>
                        </a:rPr>
                        <a:t>А.Право на участие в ведении государственных дел и в правосудии</a:t>
                      </a:r>
                      <a:endParaRPr b="0" lang="en-US" sz="1700" spc="-1" strike="noStrike">
                        <a:solidFill>
                          <a:srgbClr val="f7f3f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4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7f3f3"/>
                          </a:solidFill>
                          <a:latin typeface="Verdana"/>
                        </a:rPr>
                        <a:t>2.Митинги </a:t>
                      </a:r>
                      <a:endParaRPr b="0" lang="en-US" sz="1700" spc="-1" strike="noStrike">
                        <a:solidFill>
                          <a:srgbClr val="f7f3f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7f3f3"/>
                          </a:solidFill>
                          <a:latin typeface="Verdana"/>
                        </a:rPr>
                        <a:t>Б.Многолюдные мероприятия людей. Выражающих те или иные взгляды, иногда сопровождающиеся перемещением по определенному маршруту</a:t>
                      </a:r>
                      <a:endParaRPr b="0" lang="en-US" sz="1700" spc="-1" strike="noStrike">
                        <a:solidFill>
                          <a:srgbClr val="f7f3f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7f3f3"/>
                          </a:solidFill>
                          <a:latin typeface="Verdana"/>
                        </a:rPr>
                        <a:t>3.Демонстрации</a:t>
                      </a:r>
                      <a:endParaRPr b="0" lang="en-US" sz="1700" spc="-1" strike="noStrike">
                        <a:solidFill>
                          <a:srgbClr val="f7f3f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7f3f3"/>
                          </a:solidFill>
                          <a:latin typeface="Verdana"/>
                        </a:rPr>
                        <a:t>В.Совместное присутствие группы людей в определенном месте для обсуждения или решения какой – либо проблемы</a:t>
                      </a:r>
                      <a:endParaRPr b="0" lang="en-US" sz="1700" spc="-1" strike="noStrike">
                        <a:solidFill>
                          <a:srgbClr val="f7f3f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7f3f3"/>
                          </a:solidFill>
                          <a:latin typeface="Verdana"/>
                        </a:rPr>
                        <a:t>4.Выборы</a:t>
                      </a:r>
                      <a:endParaRPr b="0" lang="en-US" sz="1700" spc="-1" strike="noStrike">
                        <a:solidFill>
                          <a:srgbClr val="f7f3f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7f3f3"/>
                          </a:solidFill>
                          <a:latin typeface="Verdana"/>
                        </a:rPr>
                        <a:t>Г.Форма выражения мнения людей с целью публичного высказывания по конкретному вопросу</a:t>
                      </a:r>
                      <a:endParaRPr b="0" lang="en-US" sz="1700" spc="-1" strike="noStrike">
                        <a:solidFill>
                          <a:srgbClr val="f7f3f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8000" y="274680"/>
            <a:ext cx="9036000" cy="639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b2bf6"/>
                </a:solidFill>
                <a:latin typeface="Garamond"/>
              </a:rPr>
              <a:t>Плохих детей не бывает.</a:t>
            </a: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fb2bf6"/>
                </a:solidFill>
                <a:latin typeface="Garamond"/>
              </a:rPr>
              <a:t>Никто и никогда не должен быть жестоким по отношению к детям.</a:t>
            </a:r>
            <a:endParaRPr b="1" lang="en-US" sz="5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6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Определите, 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были соблюдены права или нет, 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скажите почему вы так думаете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7c1e4d"/>
                </a:solidFill>
                <a:latin typeface="Verdana"/>
              </a:rPr>
              <a:t>Во время пожара дверь в квартиру выбита, и подросток, находившийся в комнате без сознания, был вынесен на улицу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7c1e4d"/>
                </a:solidFill>
                <a:latin typeface="Verdana"/>
              </a:rPr>
              <a:t>16-летний молодой человек не был принят на работу, так как у него не оказалось письменного разрешения от обоих родителей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7c1e4d"/>
                </a:solidFill>
                <a:latin typeface="Verdana"/>
              </a:rPr>
              <a:t>8-летняя девочка, у которой из-за болезни были парализованы ноги. Вынуждена была уйти из школы и не получила среднее образование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75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Найдите правильный ответ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Verdana"/>
              </a:rPr>
              <a:t>1.Самым важным и неотъемлемым право каждого человека с рождения является право на 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Verdana"/>
              </a:rPr>
              <a:t>а) образование;         б) жизнь;                      в) переезд в другую страну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Verdana"/>
              </a:rPr>
              <a:t>2.Права подростка гарантируются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Verdana"/>
              </a:rPr>
              <a:t>а) государством;        б) самим подростком;               в) родителям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Verdana"/>
              </a:rPr>
              <a:t>3.К реализации права на личную жизнь относится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Verdana"/>
              </a:rPr>
              <a:t>а) выбор места учебы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Verdana"/>
              </a:rPr>
              <a:t>б) тайна телефонных разговоров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Verdana"/>
              </a:rPr>
              <a:t>в) участие в выборах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Verdana"/>
              </a:rPr>
              <a:t>4.Право на труд входит в группу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Verdana"/>
              </a:rPr>
              <a:t>а) культурных прав;      б) политических прав;      в) экономических пра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Verdana"/>
              </a:rPr>
              <a:t>5.Правом на социальное обеспечение могут пользоваться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Verdana"/>
              </a:rPr>
              <a:t>а) мужчины трудоспособного возраста;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Verdana"/>
              </a:rPr>
              <a:t>б) пенсионеры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Verdana"/>
              </a:rPr>
              <a:t>в) лица без гражданств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4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2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500"/>
                                        <p:tgtEl>
                                          <p:spTgt spid="2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2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2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2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2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Домашнее задание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990099"/>
                </a:solidFill>
                <a:latin typeface="Verdana"/>
              </a:rPr>
              <a:t>Подумайте над вопросом: как вы считаете отличаются ли права ребенка от прав взрослого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990099"/>
                </a:solidFill>
                <a:latin typeface="Verdana"/>
              </a:rPr>
              <a:t>Перечислите, какими из прав вы реально пользуетесь в своей жизн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1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cc"/>
                </a:solidFill>
                <a:latin typeface="Arial"/>
              </a:rPr>
              <a:t>Вставьте недостающие слова (понятия) в предложения</a:t>
            </a:r>
            <a:endParaRPr b="0" lang="en-US" sz="27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Гражданин должен платить ___________________. Эти деньги поступают в казну государства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По нормам семейного права гражданин обязан заботься о ________________________________________________, ________________________________________________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Для обеспечения безопасности государства и его граждан существует обязанность ____________________________  ________________________________________________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В целях сохранения культурного наследия граждане обязаны _________________________________________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Гражданин обязан соблюдать ________________________ государства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29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8c1ba"/>
                </a:solidFill>
                <a:latin typeface="Garamond"/>
              </a:rPr>
              <a:t>Подросток </a:t>
            </a:r>
            <a:br>
              <a:rPr sz="6000"/>
            </a:br>
            <a:r>
              <a:rPr b="1" lang="ru-RU" sz="6000" spc="-1" strike="noStrike">
                <a:solidFill>
                  <a:srgbClr val="d8c1ba"/>
                </a:solidFill>
                <a:latin typeface="Garamond"/>
              </a:rPr>
              <a:t>и его права</a:t>
            </a:r>
            <a:endParaRPr b="1" lang="en-US" sz="6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c1e4d"/>
                </a:solidFill>
                <a:latin typeface="Garamond"/>
              </a:rPr>
              <a:t>Как вы считаете, отличаются ли права ребенка и подростка от прав взрослого человека?</a:t>
            </a:r>
            <a:endParaRPr b="0" lang="en-US" sz="36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60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b2bf6"/>
                </a:solidFill>
                <a:latin typeface="Garamond"/>
              </a:rPr>
              <a:t>Право человека</a:t>
            </a:r>
            <a:r>
              <a:rPr b="1" lang="ru-RU" sz="5400" spc="-1" strike="noStrike">
                <a:solidFill>
                  <a:srgbClr val="d8c1ba"/>
                </a:solidFill>
                <a:latin typeface="Garamond"/>
              </a:rPr>
              <a:t> </a:t>
            </a:r>
            <a:r>
              <a:rPr b="1" lang="ru-RU" sz="5400" spc="-1" strike="noStrike">
                <a:solidFill>
                  <a:srgbClr val="fb2bf6"/>
                </a:solidFill>
                <a:latin typeface="Garamond"/>
              </a:rPr>
              <a:t>–</a:t>
            </a:r>
            <a:r>
              <a:rPr b="1" lang="ru-RU" sz="5400" spc="-1" strike="noStrike">
                <a:solidFill>
                  <a:srgbClr val="d8c1ba"/>
                </a:solidFill>
                <a:latin typeface="Garamond"/>
              </a:rPr>
              <a:t> </a:t>
            </a:r>
            <a:br>
              <a:rPr sz="5400"/>
            </a:br>
            <a:r>
              <a:rPr b="1" lang="ru-RU" sz="5400" spc="-1" strike="noStrike">
                <a:solidFill>
                  <a:srgbClr val="d8c1ba"/>
                </a:solidFill>
                <a:latin typeface="Garamond"/>
              </a:rPr>
              <a:t>это возможность что – либо делать, поступать определенным образом, иметь что-то</a:t>
            </a:r>
            <a:endParaRPr b="1" lang="en-US" sz="5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b2bf6"/>
                </a:solidFill>
                <a:latin typeface="Garamond"/>
              </a:rPr>
              <a:t>Право на жизнь</a:t>
            </a:r>
            <a:endParaRPr b="1" lang="en-US" sz="54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212" name="Picture 6" descr="bebe09"/>
          <p:cNvPicPr/>
          <p:nvPr/>
        </p:nvPicPr>
        <p:blipFill>
          <a:blip r:embed="rId1"/>
          <a:stretch/>
        </p:blipFill>
        <p:spPr>
          <a:xfrm>
            <a:off x="179280" y="2708280"/>
            <a:ext cx="2016360" cy="207792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340000" y="1341000"/>
            <a:ext cx="6624720" cy="532764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Важное и неотъемлемое право для каждого человека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Право не надо понимать как разрешение или запрет; право – не подарок за хорошее поведение и не привилегия, а такая же необходимость, как воздух, как солнце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Право на жизнь означает, что государство, вся мощь его институтов, учреждений и организаций, направлены на защиту жизни подростка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Жизнь ребенку дают родители, а право на жизнь гарантирует ему государство.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1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10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10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b2bf6"/>
                </a:solidFill>
                <a:latin typeface="Garamond"/>
              </a:rPr>
              <a:t>Право на свободу и</a:t>
            </a:r>
            <a:br>
              <a:rPr sz="4000"/>
            </a:br>
            <a:r>
              <a:rPr b="1" lang="ru-RU" sz="4000" spc="-1" strike="noStrike">
                <a:solidFill>
                  <a:srgbClr val="fb2bf6"/>
                </a:solidFill>
                <a:latin typeface="Garamond"/>
              </a:rPr>
              <a:t> личную неприкосновенность</a:t>
            </a: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771280" y="1628640"/>
            <a:ext cx="6193080" cy="499752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Свободный человек отвечает за себя сам – и никто другой;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Свобода состоит в праве делать все то, что не вредит другим;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Никто не может насильно удерживать другого человека;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Никто не может унижать и оскорблять другого человека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217" name="Picture 8" descr="batterup"/>
          <p:cNvPicPr/>
          <p:nvPr/>
        </p:nvPicPr>
        <p:blipFill>
          <a:blip r:embed="rId1"/>
          <a:stretch/>
        </p:blipFill>
        <p:spPr>
          <a:xfrm>
            <a:off x="108000" y="1989000"/>
            <a:ext cx="2519280" cy="3961080"/>
          </a:xfrm>
          <a:prstGeom prst="rect">
            <a:avLst/>
          </a:prstGeom>
          <a:ln w="0">
            <a:noFill/>
          </a:ln>
        </p:spPr>
      </p:pic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8c1ba"/>
                </a:solidFill>
                <a:latin typeface="Garamond"/>
              </a:rPr>
              <a:t>Конвенция о правах ребенка</a:t>
            </a:r>
            <a:br>
              <a:rPr sz="4400"/>
            </a:br>
            <a:r>
              <a:rPr b="1" lang="ru-RU" sz="1800" spc="-1" strike="noStrike">
                <a:solidFill>
                  <a:srgbClr val="d8c1ba"/>
                </a:solidFill>
                <a:latin typeface="Garamond"/>
              </a:rPr>
              <a:t>(принят Организацией Объединенных Наций – ООН в 1989 г.)</a:t>
            </a:r>
            <a:endParaRPr b="1" lang="en-US" sz="18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c1e4d"/>
                </a:solidFill>
                <a:latin typeface="Garamond"/>
              </a:rPr>
              <a:t>Каждый ребенок имеет право знать своих родителей;</a:t>
            </a:r>
            <a:endParaRPr b="0" lang="en-US" sz="3600" spc="-1" strike="noStrike">
              <a:solidFill>
                <a:srgbClr val="f7f3f3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c1e4d"/>
                </a:solidFill>
                <a:latin typeface="Garamond"/>
              </a:rPr>
              <a:t>Родители несут ответственность за ребенка и должны обеспечить ему нормальные условия жизни.</a:t>
            </a:r>
            <a:endParaRPr b="0" lang="en-US" sz="3600" spc="-1" strike="noStrike">
              <a:solidFill>
                <a:srgbClr val="f7f3f3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e4444"/>
                </a:solidFill>
                <a:latin typeface="Garamond"/>
              </a:rPr>
              <a:t>Но, к сожалению, полтора миллиона детей в России никогда не знали маминой ласки и папиной заботы.</a:t>
            </a:r>
            <a:endParaRPr b="0" lang="en-US" sz="36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10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b2bf6"/>
                </a:solidFill>
                <a:latin typeface="Garamond"/>
              </a:rPr>
              <a:t>Право на неприкосновенность личной жизни</a:t>
            </a: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6553440" cy="506880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Garamond"/>
              </a:rPr>
              <a:t>Сфера жизни человека, в которую государство не имеет право вмешиваться и которая не подлежит контролю с его стороны, и она охраняется законом;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Garamond"/>
              </a:rPr>
              <a:t>Тайный характер частной жизни;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Garamond"/>
              </a:rPr>
              <a:t>Никто не имеет права читать чужие письма, подслушивать телефонные разговоры, собирать сведения о личной жизни человека</a:t>
            </a:r>
            <a:r>
              <a:rPr b="1" lang="ru-RU" sz="28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без разрешения прокуратуры.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224" name="Picture 5" descr="7f1"/>
          <p:cNvPicPr/>
          <p:nvPr/>
        </p:nvPicPr>
        <p:blipFill>
          <a:blip r:embed="rId1"/>
          <a:stretch/>
        </p:blipFill>
        <p:spPr>
          <a:xfrm>
            <a:off x="6588000" y="2565360"/>
            <a:ext cx="2376720" cy="244800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0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28T13:39:48Z</dcterms:modified>
  <cp:revision>7</cp:revision>
  <dc:subject/>
  <dc:title>Актуализация темы: «Подросток как гражданин»</dc:title>
</cp:coreProperties>
</file>