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14EC-6936-490D-A73C-6BC9B522309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отивоя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9-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а Ан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89E9-7CFE-4A00-B851-840F056FE6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й стране создана мощная токсикологическая служба. В результате бурного развития химической промышленности, обилия препаратов битовой химии, лекарственных и сильнодействующих средств, распространения наркомании, наличия в продаже недоброкачественных алкогольных напитков и некоторых продуктов питания количество отравлений среди россиян, к сожалению, из года в год увелич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тот, кто вовремя обратится к врачу-токсикологу, может быть уверен: благодаря широкому ассортименту антидотов ему будет оказана эффективная помощь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8BDA-3189-498C-BD41-642EB6C556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 ДРЕВНИХ МЕДИЦИНСКИХ ТРАКТАТАХ СОДЕРЖАТСЯ СВЕДЕНИЯ НЕ ТОЛЬКО О ЛЕКАРСТВАХ, НО И О ЯДОВИТЫХ СРЕДСТВАХ, КОТОРЫЕ НЕРЕДКО ИСПОЛЬЗОВАЛИСЬ В ПРЕСТУПНЫХ ЦЕЛЯ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 ( токсин) – вещество, приводящее в определенных дозах или концентрациях к расстройству или нарушению тех или иных процессов жизнедеятельности организма, к возникновению отравления ( интоксикации ) или каких-либо заболеваний, паталогических состоя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8FBE-0CA5-4756-9581-B7223F40C79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вол «череп и кости» по традиции используют, чтобы пометить ядови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3EB6-99EB-4A00-BD14-641DA8C090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я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A88D-16E4-44BC-8175-266F19B93D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древнеегипетской фармакопее перечислены многие растительные лекарства-яды: белена, стрихнин, опий, конопля, а также полынь, ромашка, морской л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яд была известна и синильная кислота, которую отгоняли из косточек плодов, например перс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A8D2-1F8C-4B31-BC11-1F0C2E147B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личие ядов по действ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атические яд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eamotox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-яды, затрагивающие кро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йротоксичные яд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eurotox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ы, поражающие нервную систему и 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отоксичные яд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yotox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ы, повреждающие мыш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aemorrhagins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кровеносные сосуды и вызывающие кровот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олитические 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aemolysinstoxins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красные кровяные тельца (эритроци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р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ephro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п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ди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ardio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сердц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р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ecro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неспецифически разрушающие ткани .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2563-0409-4243-A620-8C16C8F48AA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противоя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е врачи были убеждены, что если природа создала яд, то имеется и противоядие, нужно только суметь его найти, а это дело нелег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например, древнегреческий поэт и врач Никандр из Колофона делит все яды на две группы действующие медленно и быстро. В качестве противоядия он рекомендует нагретое молоко, теплую воду, мальву или настой львиного семени, чтобы вызвать рвоту и избежать всасывания я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7863-D182-44F9-8C53-F2B0DA2FB5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дий Гален в своем сочинении «Антидоты» разделил ядовитые вещества на охлаждающие, согревающие и вызывающие гниение. Его тезис гласит: «Чтобы лечить болезни, необходимо использовать противоположное противоположны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3B13-9938-4686-A4B0-352449718E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шли столетия, но мало что изменилось в принципах лечения отравлений. Основные средства это ротные и слабительные. Повторные приёмы рвотных средств чередуются с приёмом молока и жирных супов, ибо предполагается, что жиры нейтрализуют действие яда и не дают ему всос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19 столетия появились противоядия, не потерявшие своего значения и поныне. Самые простые антидоты соединяются с ядами, давая нерастворимую форму, что уменьшает всасывание яда в кровь из желудочнокишечного тракта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3CC8-E95B-4C3F-9A43-4377A43451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8E26-89E8-452F-86B7-B87F8C23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1594-9243-48B4-9C71-F67F925C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27880-DBDE-42A6-9B4C-E0DAEC58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F8F4-B34A-4B1D-8306-A53EE170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777D-B533-432E-990C-8C1B07D8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8C48-9DE1-445F-8D3E-F46530CA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8FC3-37E4-4C5E-859D-EE0AA824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2914-3CD2-46C1-9F5F-427DE308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7CA2-80CE-44FA-9650-22F6651F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B096-BB2A-41D2-ABB9-8AC2FBED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BDC9-6FBB-44EB-B169-0CB04C6C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C96EE-346B-49AE-A12B-A9CEAF32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378D-CAA7-44F7-887F-D5040A2B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E966-3337-449F-8774-52A92E17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E752-7D35-4147-A714-52C84208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54DC-7A19-4E8F-823C-4C19CBF4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90B7-03AC-4BA4-847D-8C2E7ABA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11FC-956F-47A8-AF2F-8813FAA8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3946-8B6D-4AE3-B12D-CB8B5B01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D515F-AC7F-4077-AC87-040FD732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5809-C93A-41CC-8E6D-0E176B5C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C32C-9407-4F0E-9E61-638DF78C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62FF-27A7-4297-8EB4-EC4943A8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BD79-6489-4BBE-BA3D-AF8DA991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2299-9F9C-49B6-9291-C154574970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AAE0-796E-4A7C-A722-A030C3FFD63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ЯДЫ </a:t>
            </a:r>
            <a:br>
              <a:rPr sz="5400"/>
            </a:b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и противоядия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355640" y="4293720"/>
            <a:ext cx="33750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ница 9-А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да Ан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11" descr="j0186002"/>
          <p:cNvPicPr/>
          <p:nvPr/>
        </p:nvPicPr>
        <p:blipFill>
          <a:blip r:embed="rId1"/>
          <a:stretch/>
        </p:blipFill>
        <p:spPr>
          <a:xfrm>
            <a:off x="755640" y="692280"/>
            <a:ext cx="1776600" cy="18255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2" descr="babylon"/>
          <p:cNvPicPr/>
          <p:nvPr/>
        </p:nvPicPr>
        <p:blipFill>
          <a:blip r:embed="rId2">
            <a:lum bright="6000"/>
          </a:blip>
          <a:srcRect l="0" t="0" r="0" b="20058"/>
          <a:stretch/>
        </p:blipFill>
        <p:spPr>
          <a:xfrm>
            <a:off x="611280" y="4149720"/>
            <a:ext cx="2759040" cy="2087640"/>
          </a:xfrm>
          <a:prstGeom prst="rect">
            <a:avLst/>
          </a:prstGeom>
          <a:ln w="0">
            <a:noFill/>
          </a:ln>
        </p:spPr>
      </p:pic>
      <p:sp>
        <p:nvSpPr>
          <p:cNvPr id="5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548316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шей стране создана мощная токсикологическая служба. В результате бурного развития химической промышленности, обилия препаратов битовой химии, лекарственных и сильнодействующих средств, распространения наркомании, наличия в продаже недоброкачественных алкогольных напитков и некоторых продуктов питания количество отравлений среди россиян, к сожалению, из года в год увеличивает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тот, кто вовремя обратится к врачу-токсикологу, может быть уверен: благодаря широкому ассортименту антидотов ему будет оказана эффективная помощь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4" descr="j0240719"/>
          <p:cNvPicPr/>
          <p:nvPr/>
        </p:nvPicPr>
        <p:blipFill>
          <a:blip r:embed="rId3"/>
          <a:stretch/>
        </p:blipFill>
        <p:spPr>
          <a:xfrm>
            <a:off x="6084720" y="1773360"/>
            <a:ext cx="2590920" cy="3816360"/>
          </a:xfrm>
          <a:prstGeom prst="rect">
            <a:avLst/>
          </a:prstGeom>
          <a:ln w="0">
            <a:noFill/>
          </a:ln>
        </p:spPr>
      </p:pic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В ДРЕВНИХ МЕДИЦИНСКИХ ТРАКТАТАХ СОДЕРЖАТСЯ СВЕДЕНИЯ НЕ ТОЛЬКО О ЛЕКАРСТВАХ, НО И О ЯДОВИТЫХ СРЕДСТВАХ, КОТОРЫЕ НЕРЕДКО ИСПОЛЬЗОВАЛИСЬ В ПРЕСТУПНЫХ ЦЕЛЯХ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619272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д ( токсин) – вещество, приводящее в определенных дозах или концентрациях к расстройству или нарушению тех или иных процессов жизнедеятельности организма, к возникновению отравления ( интоксикации ) или каких-либо заболеваний, паталогических состоя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5" descr="bgrd_main"/>
          <p:cNvPicPr/>
          <p:nvPr/>
        </p:nvPicPr>
        <p:blipFill>
          <a:blip r:embed="rId2"/>
          <a:stretch/>
        </p:blipFill>
        <p:spPr>
          <a:xfrm>
            <a:off x="6659640" y="1989000"/>
            <a:ext cx="2241360" cy="3313080"/>
          </a:xfrm>
          <a:prstGeom prst="rect">
            <a:avLst/>
          </a:prstGeom>
          <a:ln w="0">
            <a:noFill/>
          </a:ln>
        </p:spPr>
      </p:pic>
      <p:sp>
        <p:nvSpPr>
          <p:cNvPr id="52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Символ «череп и кости» по традиции используют, чтобы пометить ядовитые вещества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1" name="Picture 4" descr="Черепушка"/>
          <p:cNvPicPr/>
          <p:nvPr/>
        </p:nvPicPr>
        <p:blipFill>
          <a:blip r:embed="rId1"/>
          <a:stretch/>
        </p:blipFill>
        <p:spPr>
          <a:xfrm>
            <a:off x="1187280" y="1700280"/>
            <a:ext cx="6769440" cy="4608360"/>
          </a:xfrm>
          <a:prstGeom prst="rect">
            <a:avLst/>
          </a:prstGeom>
          <a:ln w="0">
            <a:noFill/>
          </a:ln>
        </p:spPr>
      </p:pic>
      <p:sp>
        <p:nvSpPr>
          <p:cNvPr id="53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иды ядов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468360" y="1700280"/>
          <a:ext cx="8147160" cy="4572000"/>
        </p:xfrm>
        <a:graphic>
          <a:graphicData uri="http://schemas.openxmlformats.org/drawingml/2006/table">
            <a:tbl>
              <a:tblPr/>
              <a:tblGrid>
                <a:gridCol w="2716200"/>
                <a:gridCol w="2927160"/>
                <a:gridCol w="250380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ЧН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МЕРТЕЛЬНАЯ ДОЗА(мкг/кг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ксин ботулиз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ктер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ли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алловые риф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йп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йпа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трахо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жа лягушек древолаз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иц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ды клещеви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тью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орпи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о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ллюски кону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д меду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неротые меду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челиный я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доносные пчел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5" name="Picture 68" descr="Code Age Commanders art_3"/>
          <p:cNvPicPr/>
          <p:nvPr/>
        </p:nvPicPr>
        <p:blipFill>
          <a:blip r:embed="rId1"/>
          <a:stretch/>
        </p:blipFill>
        <p:spPr>
          <a:xfrm>
            <a:off x="395280" y="115920"/>
            <a:ext cx="2376360" cy="13413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69" descr="Code Age Commanders poster_2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588000" y="189000"/>
            <a:ext cx="1727280" cy="1224000"/>
          </a:xfrm>
          <a:prstGeom prst="rect">
            <a:avLst/>
          </a:prstGeom>
          <a:ln w="0">
            <a:noFill/>
          </a:ln>
        </p:spPr>
      </p:pic>
      <p:sp>
        <p:nvSpPr>
          <p:cNvPr id="53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же в древнеегипетской фармакопее перечислены многие растительные лекарства-яды: белена, стрихнин, опий, конопля, а также полынь, ромашка, морской лу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яд была известна и синильная кислота, которую отгоняли из косточек плодов, например перс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4" descr="yd_p01"/>
          <p:cNvPicPr/>
          <p:nvPr/>
        </p:nvPicPr>
        <p:blipFill>
          <a:blip r:embed="rId4"/>
          <a:stretch/>
        </p:blipFill>
        <p:spPr>
          <a:xfrm>
            <a:off x="6948360" y="4149720"/>
            <a:ext cx="1714680" cy="180972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Различие ядов по действию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79200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матические яд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amotoxi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-яды, затрагивающие кров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йротоксичные яд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eurotoxi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ды, поражающие нервную систему и моз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отоксичные яд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yotoxi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ды, повреждающие мыш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м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aemorrhagins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кровеносные сосуды и вызывающие кровоте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молитические 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aemolysinstoxins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красные кровяные тельца (эритроцит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фр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ephro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поч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рди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rdio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сердце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кр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ecro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неспецифически разрушающие ткани .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4" descr="i-5[1]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7415280" y="4508640"/>
            <a:ext cx="1728720" cy="2349360"/>
          </a:xfrm>
          <a:prstGeom prst="rect">
            <a:avLst/>
          </a:prstGeom>
          <a:ln w="0">
            <a:noFill/>
          </a:ln>
        </p:spPr>
      </p:pic>
      <p:sp>
        <p:nvSpPr>
          <p:cNvPr id="54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оиск противояд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евние врачи были убеждены, что если природа создала яд, то имеется и противоядие, нужно только суметь его найти, а это дело нелегк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, например, древнегреческий поэт и врач Никандр из Колофона делит все яды на две группы действующие медленно и быстро. В качестве противоядия он рекомендует нагретое молоко, теплую воду, мальву или настой львиного семени, чтобы вызвать рвоту и избежать всасывания я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627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вдий Гален в своем сочинении «Антидоты» разделил ядовитые вещества на охлаждающие, согревающие и вызывающие гниение. Его тезис гласит: «Чтобы лечить болезни, необходимо использовать противоположное противоположным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16" descr="Half Life 2 wall_09"/>
          <p:cNvPicPr/>
          <p:nvPr/>
        </p:nvPicPr>
        <p:blipFill>
          <a:blip r:embed="rId2"/>
          <a:stretch/>
        </p:blipFill>
        <p:spPr>
          <a:xfrm>
            <a:off x="6443640" y="1628640"/>
            <a:ext cx="2314440" cy="3824280"/>
          </a:xfrm>
          <a:prstGeom prst="rect">
            <a:avLst/>
          </a:prstGeom>
          <a:ln w="0">
            <a:noFill/>
          </a:ln>
        </p:spPr>
      </p:pic>
      <p:sp>
        <p:nvSpPr>
          <p:cNvPr id="55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шли столетия, но мало что изменилось в принципах лечения отравлений. Основные средства это ротные и слабительные. Повторные приёмы рвотных средств чередуются с приёмом молока и жирных супов, ибо предполагается, что жиры нейтрализуют действие яда и не дают ему всоса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чале 19 столетия появились противоядия, не потерявшие своего значения и поныне. Самые простые антидоты соединяются с ядами, давая нерастворимую форму, что уменьшает всасывание яда в кровь из желудочнокишечного тракта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10:57:16Z</dcterms:created>
  <dc:creator>Аня</dc:creator>
  <dc:description/>
  <dc:language>en-US</dc:language>
  <cp:lastModifiedBy>LEGION</cp:lastModifiedBy>
  <dcterms:modified xsi:type="dcterms:W3CDTF">2015-02-13T11:02:46Z</dcterms:modified>
  <cp:revision>8</cp:revision>
  <dc:subject/>
  <dc:title>ЯДЫ  и противоядия</dc:title>
</cp:coreProperties>
</file>