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605A-FA7F-4F44-B001-3AF6F63BD6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-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а Ан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0688-AE44-492E-8A24-EBEF6E1410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F4C5-65C6-45BC-B654-93064729C8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7ADF-FE89-45BE-8B26-D9015E69F6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«череп и кости» по традиции используют, чтобы пометить ядови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BF58-9692-4617-95C8-33EAE23D04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E7EB-FDC2-4F64-BF00-48010966C4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5D07-FEBF-481D-BAEE-E30799B91B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ие ядов по действ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атически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eam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-яды, затрагивающие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р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ur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ражающие нервную систему и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y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вреждающие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rrhagins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овеносные сосуды и вызывающие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литические 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lysinstoxins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асные кровяные тельца (эритроц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ph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ди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ardi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c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неспецифически разрушающие ткани 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753C-B60D-4438-BA3D-D5805C36C4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FADA-022F-4517-89A4-4681A8E44B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7AAC-DF3B-47D4-B6B5-CA47CFD267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0B71-176E-4344-A394-C416DCBB56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CBDD-8015-4720-A33C-8028264A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1E6A-C60D-495C-BF8A-84DE3785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BF6B-64D4-4B61-AC1D-ACBCC72E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35D4-0A51-4068-B5E0-5EEEF6E0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4133-E876-4A1A-B3AE-61987670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01F8-385B-41A3-B09A-EEDFC09D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623B-2599-4B0B-A65B-31BA0C68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154C-6820-4D8D-B635-989526FA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C670-D761-408A-862D-26D47152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8690-8208-4921-9E62-E0F5B3C3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6A4A-CDD2-4C47-9A47-2F2D318F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168F-2767-4E96-A051-18B6BBB7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CB07-311B-421E-9B42-FD80815D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1024-5179-48FA-9338-80F9FAB2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8FEA-ADD9-42F0-BC38-EECE85B6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2E04-7C42-4DA3-B351-852AF286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25F4-A9E2-4C1D-95C1-F25EE1CA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0C36-FCE5-4EEE-ABFB-6605F1CF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DFC9-7097-43A2-B1CB-E5049999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4BE3-1D47-4D51-8A62-4F32A848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F443-27F3-4A1C-9544-4FDED2F2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121B-C5AB-4AAE-9AAD-65CDB944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39C9-F8C3-4632-9699-1D7106D6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CC43-B871-4835-98B6-ED678791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A07C-F72C-471F-BD43-83C6926E5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E6C0-B405-4FA2-8778-3CDA9FF35C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ЯДЫ </a:t>
            </a:r>
            <a:br>
              <a:rPr sz="5400"/>
            </a:b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 противояд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355640" y="4293720"/>
            <a:ext cx="3375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ца 9-А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а 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11" descr="j0186002"/>
          <p:cNvPicPr/>
          <p:nvPr/>
        </p:nvPicPr>
        <p:blipFill>
          <a:blip r:embed="rId1"/>
          <a:stretch/>
        </p:blipFill>
        <p:spPr>
          <a:xfrm>
            <a:off x="755640" y="69228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babylon"/>
          <p:cNvPicPr/>
          <p:nvPr/>
        </p:nvPicPr>
        <p:blipFill>
          <a:blip r:embed="rId2">
            <a:lum bright="6000"/>
          </a:blip>
          <a:srcRect l="0" t="0" r="0" b="20058"/>
          <a:stretch/>
        </p:blipFill>
        <p:spPr>
          <a:xfrm>
            <a:off x="611280" y="4149720"/>
            <a:ext cx="2759040" cy="2087640"/>
          </a:xfrm>
          <a:prstGeom prst="rect">
            <a:avLst/>
          </a:prstGeom>
          <a:ln w="0">
            <a:noFill/>
          </a:ln>
        </p:spPr>
      </p:pic>
      <p:sp>
        <p:nvSpPr>
          <p:cNvPr id="5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548316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4" descr="j0240719"/>
          <p:cNvPicPr/>
          <p:nvPr/>
        </p:nvPicPr>
        <p:blipFill>
          <a:blip r:embed="rId3"/>
          <a:stretch/>
        </p:blipFill>
        <p:spPr>
          <a:xfrm>
            <a:off x="6084720" y="1773360"/>
            <a:ext cx="2590920" cy="381636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6192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bgrd_main"/>
          <p:cNvPicPr/>
          <p:nvPr/>
        </p:nvPicPr>
        <p:blipFill>
          <a:blip r:embed="rId2"/>
          <a:stretch/>
        </p:blipFill>
        <p:spPr>
          <a:xfrm>
            <a:off x="6659640" y="1989000"/>
            <a:ext cx="2241360" cy="331308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Символ «череп и кости» по традиции используют, чтобы пометить ядовитые вещ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Picture 4" descr="Черепушка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60836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яд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68360" y="1700280"/>
          <a:ext cx="8147160" cy="4572000"/>
        </p:xfrm>
        <a:graphic>
          <a:graphicData uri="http://schemas.openxmlformats.org/drawingml/2006/table">
            <a:tbl>
              <a:tblPr/>
              <a:tblGrid>
                <a:gridCol w="2716200"/>
                <a:gridCol w="2927160"/>
                <a:gridCol w="2503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РТЕЛЬНАЯ ДОЗА(мкг/к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ксин ботул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ли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алловые риф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трах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жа лягушек древолаз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ц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ды клещев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тью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п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ллюски кон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неротые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челиный я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оносные пче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5" name="Picture 68" descr="Code Age Commanders art_3"/>
          <p:cNvPicPr/>
          <p:nvPr/>
        </p:nvPicPr>
        <p:blipFill>
          <a:blip r:embed="rId1"/>
          <a:stretch/>
        </p:blipFill>
        <p:spPr>
          <a:xfrm>
            <a:off x="395280" y="115920"/>
            <a:ext cx="2376360" cy="1341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9" descr="Code Age Commanders poster_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588000" y="189000"/>
            <a:ext cx="1727280" cy="1224000"/>
          </a:xfrm>
          <a:prstGeom prst="rect">
            <a:avLst/>
          </a:prstGeom>
          <a:ln w="0">
            <a:noFill/>
          </a:ln>
        </p:spPr>
      </p:pic>
      <p:sp>
        <p:nvSpPr>
          <p:cNvPr id="53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yd_p01"/>
          <p:cNvPicPr/>
          <p:nvPr/>
        </p:nvPicPr>
        <p:blipFill>
          <a:blip r:embed="rId4"/>
          <a:stretch/>
        </p:blipFill>
        <p:spPr>
          <a:xfrm>
            <a:off x="6948360" y="4149720"/>
            <a:ext cx="1714680" cy="1809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Различие ядов по действию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9200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атически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m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-яды, затрагивающие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йр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ur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ражающие нервную систему и моз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y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вреждающие мыш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rrhagins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овеносные сосуды и вызывающие крово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литические 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lysinstoxin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асные кровяные тельца (эритроци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ф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ph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п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ди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rdi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сердц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к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c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неспецифически разрушающие ткани .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i-5[1]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7415280" y="4508640"/>
            <a:ext cx="1728720" cy="23493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иск противояд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16" descr="Half Life 2 wall_09"/>
          <p:cNvPicPr/>
          <p:nvPr/>
        </p:nvPicPr>
        <p:blipFill>
          <a:blip r:embed="rId2"/>
          <a:stretch/>
        </p:blipFill>
        <p:spPr>
          <a:xfrm>
            <a:off x="6443640" y="1628640"/>
            <a:ext cx="2314440" cy="3824280"/>
          </a:xfrm>
          <a:prstGeom prst="rect">
            <a:avLst/>
          </a:prstGeom>
          <a:ln w="0">
            <a:noFill/>
          </a:ln>
        </p:spPr>
      </p:pic>
      <p:sp>
        <p:nvSpPr>
          <p:cNvPr id="55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0:57:16Z</dcterms:created>
  <dc:creator>Аня</dc:creator>
  <dc:description/>
  <dc:language>en-US</dc:language>
  <cp:lastModifiedBy>LEGION</cp:lastModifiedBy>
  <dcterms:modified xsi:type="dcterms:W3CDTF">2015-02-13T11:02:46Z</dcterms:modified>
  <cp:revision>8</cp:revision>
  <dc:subject/>
  <dc:title>ЯДЫ  и противоядия</dc:title>
</cp:coreProperties>
</file>