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98CC-A9D2-4CAA-B05F-0AC8EEED7C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-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а Ан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79C2-48ED-45B4-9183-AE4515B4B0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834A-BC82-4784-9562-8850367BAC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0EF9-68E2-4E2A-8022-2771EBD223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«череп и кости» по традиции используют, чтобы пометить ядови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8543-A025-4F54-BB3A-DD9C2E0C71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56B0-11DD-4F14-8D62-65CB46C66B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97A6-E10D-4286-B4D5-E09291E578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личие ядов по действ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атически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eam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-яды, затрагивающие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р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ur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ражающие нервную систему и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отоксичные яд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yotox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ы, повреждающие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rrhagins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овеносные сосуды и вызывающие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олитические 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aemolysinstoxins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красные кровяные тельца (эритроц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ph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ди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ardi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повреждающие 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ротоксины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ecrotoxi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, неспецифически разрушающие ткани .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356A-3C24-43D3-A338-302A34D82C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ротивоя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0F29-20E1-4E9B-82B1-CD4DABFBFD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D14E-B8F6-45DD-A1B5-FFBA72BA79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7022-E49C-4025-93CC-DDDBB89151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ABC6-D2A7-40DC-9961-D193BDBF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08AB-A374-476C-83B4-E71BEF39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0480-82E5-4848-AFC9-4BE2DE0F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2346-82FB-4D88-A491-0851C58E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EC6D-D595-49F5-983C-8F164835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F3DF-5735-452E-8B53-169EE238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4910-2D69-4ACA-BA25-82400484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187D-6CB2-4E06-A4D8-E48D1ECD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B14A-7533-462F-BC3C-CBC1683C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59E3-42CE-47F0-862B-C8DCBEFE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7539-4DC1-4DEE-9293-21528CAB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C3D5-51A1-4023-81F8-6FD842EC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C9A7-07EE-4611-9CA3-1993F64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DB33-68AF-4506-8261-1F39D89B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E123-BFD2-468E-85BF-3CC1682C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B7AA-923D-48C2-8BA4-A5BCE012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DD7E-D25B-4B44-99B1-BE66036B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9487-93A8-48E0-AF67-4D926D9A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4276-C7C2-4557-ADAF-5E2F5EDE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7AEA-F763-4CA7-BF30-316E1019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3CB8-48B6-4EA9-9BA0-A506CDCB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3399-5E11-4BD5-BA4E-15E60A69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31DE-0BAF-4CCF-92FB-25438A97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7CE6-D618-4FF8-AC62-A022BE8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BAE-0C8E-496D-B322-4BAF44B02D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C774-F184-46F4-98C7-B47F6C8023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ЯДЫ </a:t>
            </a:r>
            <a:br>
              <a:rPr sz="54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 противояд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355640" y="4293720"/>
            <a:ext cx="3375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а 9-А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а Ан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11" descr="j0186002"/>
          <p:cNvPicPr/>
          <p:nvPr/>
        </p:nvPicPr>
        <p:blipFill>
          <a:blip r:embed="rId1"/>
          <a:stretch/>
        </p:blipFill>
        <p:spPr>
          <a:xfrm>
            <a:off x="755640" y="69228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2" descr="babylon"/>
          <p:cNvPicPr/>
          <p:nvPr/>
        </p:nvPicPr>
        <p:blipFill>
          <a:blip r:embed="rId2">
            <a:lum bright="6000"/>
          </a:blip>
          <a:srcRect l="0" t="0" r="0" b="20058"/>
          <a:stretch/>
        </p:blipFill>
        <p:spPr>
          <a:xfrm>
            <a:off x="611280" y="4149720"/>
            <a:ext cx="2759040" cy="2087640"/>
          </a:xfrm>
          <a:prstGeom prst="rect">
            <a:avLst/>
          </a:prstGeom>
          <a:ln w="0">
            <a:noFill/>
          </a:ln>
        </p:spPr>
      </p:pic>
      <p:sp>
        <p:nvSpPr>
          <p:cNvPr id="5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548316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ей стране создана мощная токсикологическая служба. В результате бурного развития химической промышленности, обилия препаратов битовой химии, лекарственных и сильнодействующих средств, распространения наркомании, наличия в продаже недоброкачественных алкогольных напитков и некоторых продуктов питания количество отравлений среди россиян, к сожалению, из года в год увеличивае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тот, кто вовремя обратится к врачу-токсикологу, может быть уверен: благодаря широкому ассортименту антидотов ему будет оказана эффективная помощь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4" descr="j0240719"/>
          <p:cNvPicPr/>
          <p:nvPr/>
        </p:nvPicPr>
        <p:blipFill>
          <a:blip r:embed="rId3"/>
          <a:stretch/>
        </p:blipFill>
        <p:spPr>
          <a:xfrm>
            <a:off x="6084720" y="1773360"/>
            <a:ext cx="2590920" cy="381636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В ДРЕВНИХ МЕДИЦИНСКИХ ТРАКТАТАХ СОДЕРЖАТСЯ СВЕДЕНИЯ НЕ ТОЛЬКО О ЛЕКАРСТВАХ, НО И О ЯДОВИТЫХ СРЕДСТВАХ, КОТОРЫЕ НЕРЕДКО ИСПОЛЬЗОВАЛИСЬ В ПРЕСТУПНЫХ ЦЕЛЯХ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61927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д ( токсин) – вещество, приводящее в определенных дозах или концентрациях к расстройству или нарушению тех или иных процессов жизнедеятельности организма, к возникновению отравления ( интоксикации ) или каких-либо заболеваний, паталогических состоя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bgrd_main"/>
          <p:cNvPicPr/>
          <p:nvPr/>
        </p:nvPicPr>
        <p:blipFill>
          <a:blip r:embed="rId2"/>
          <a:stretch/>
        </p:blipFill>
        <p:spPr>
          <a:xfrm>
            <a:off x="6659640" y="1989000"/>
            <a:ext cx="2241360" cy="331308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def6"/>
                </a:solidFill>
                <a:latin typeface="Arial"/>
              </a:rPr>
              <a:t>Символ «череп и кости» по традиции используют, чтобы пометить ядовитые вещ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Черепушка"/>
          <p:cNvPicPr/>
          <p:nvPr/>
        </p:nvPicPr>
        <p:blipFill>
          <a:blip r:embed="rId1"/>
          <a:stretch/>
        </p:blipFill>
        <p:spPr>
          <a:xfrm>
            <a:off x="1187280" y="1700280"/>
            <a:ext cx="6769440" cy="460836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ядо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68360" y="1700280"/>
          <a:ext cx="8147160" cy="4572000"/>
        </p:xfrm>
        <a:graphic>
          <a:graphicData uri="http://schemas.openxmlformats.org/drawingml/2006/table">
            <a:tbl>
              <a:tblPr/>
              <a:tblGrid>
                <a:gridCol w="2716200"/>
                <a:gridCol w="2927160"/>
                <a:gridCol w="2503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РТЕЛЬНАЯ ДОЗА(мкг/к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ксин ботулиз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али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алловые риф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йп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трах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жа лягушек древолаз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иц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ды клещев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тью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орпи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отокс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ллюски кон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д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рнеротые меду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челиный я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оносные пчел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68" descr="Code Age Commanders art_3"/>
          <p:cNvPicPr/>
          <p:nvPr/>
        </p:nvPicPr>
        <p:blipFill>
          <a:blip r:embed="rId1"/>
          <a:stretch/>
        </p:blipFill>
        <p:spPr>
          <a:xfrm>
            <a:off x="395280" y="115920"/>
            <a:ext cx="2376360" cy="1341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9" descr="Code Age Commanders poster_2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189000"/>
            <a:ext cx="1727280" cy="1224000"/>
          </a:xfrm>
          <a:prstGeom prst="rect">
            <a:avLst/>
          </a:prstGeom>
          <a:ln w="0">
            <a:noFill/>
          </a:ln>
        </p:spPr>
      </p:pic>
      <p:sp>
        <p:nvSpPr>
          <p:cNvPr id="53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же в древнеегипетской фармакопее перечислены многие растительные лекарства-яды: белена, стрихнин, опий, конопля, а также полынь, ромашка, морской лу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яд была известна и синильная кислота, которую отгоняли из косточек плодов, например перс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yd_p01"/>
          <p:cNvPicPr/>
          <p:nvPr/>
        </p:nvPicPr>
        <p:blipFill>
          <a:blip r:embed="rId4"/>
          <a:stretch/>
        </p:blipFill>
        <p:spPr>
          <a:xfrm>
            <a:off x="6948360" y="4149720"/>
            <a:ext cx="1714680" cy="1809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Различие ядов по действию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9200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атически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m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-яды, затрагивающие кров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йр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ur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ражающие нервную систему и моз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отоксичные яд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yotoxic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ды, повреждающие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rrhagins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овеносные сосуды и вызывающие кровот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молитические 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emolysinstoxins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красные кровяные тельца (эритроци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ф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ph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поч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ди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rdi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повреждающие сердц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кротоксины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crotoxin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ксины, неспецифически разрушающие ткани .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i-5[1]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415280" y="4508640"/>
            <a:ext cx="1728720" cy="23493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оиск противояд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е врачи были убеждены, что если природа создала яд, то имеется и противоядие, нужно только суметь его найти, а это дело нелегк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, например, древнегреческий поэт и врач Никандр из Колофона делит все яды на две группы действующие медленно и быстро. В качестве противоядия он рекомендует нагретое молоко, теплую воду, мальву или настой львиного семени, чтобы вызвать рвоту и избежать всасывания я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дий Гален в своем сочинении «Антидоты» разделил ядовитые вещества на охлаждающие, согревающие и вызывающие гниение. Его тезис гласит: «Чтобы лечить болезни, необходимо использовать противоположное противоположны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6" descr="Half Life 2 wall_09"/>
          <p:cNvPicPr/>
          <p:nvPr/>
        </p:nvPicPr>
        <p:blipFill>
          <a:blip r:embed="rId2"/>
          <a:stretch/>
        </p:blipFill>
        <p:spPr>
          <a:xfrm>
            <a:off x="6443640" y="1628640"/>
            <a:ext cx="2314440" cy="3824280"/>
          </a:xfrm>
          <a:prstGeom prst="rect">
            <a:avLst/>
          </a:prstGeom>
          <a:ln w="0">
            <a:noFill/>
          </a:ln>
        </p:spPr>
      </p:pic>
      <p:sp>
        <p:nvSpPr>
          <p:cNvPr id="55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шли столетия, но мало что изменилось в принципах лечения отравлений. Основные средства это ротные и слабительные. Повторные приёмы рвотных средств чередуются с приёмом молока и жирных супов, ибо предполагается, что жиры нейтрализуют действие яда и не дают ему всос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19 столетия появились противоядия, не потерявшие своего значения и поныне. Самые простые антидоты соединяются с ядами, давая нерастворимую форму, что уменьшает всасывание яда в кровь из желудочнокишечного тракта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0:57:16Z</dcterms:created>
  <dc:creator>Аня</dc:creator>
  <dc:description/>
  <dc:language>en-US</dc:language>
  <cp:lastModifiedBy>LEGION</cp:lastModifiedBy>
  <dcterms:modified xsi:type="dcterms:W3CDTF">2015-02-13T11:02:46Z</dcterms:modified>
  <cp:revision>8</cp:revision>
  <dc:subject/>
  <dc:title>ЯДЫ  и противоядия</dc:title>
</cp:coreProperties>
</file>