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E122-2728-4FD5-92E1-02279E2C9E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я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-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а Ан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62AE-0E66-4252-B1E6-6F3FF902C8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й стране создана мощная токсикологическая служба. В результате бурного развития химической промышленности, обилия препаратов битовой химии, лекарственных и сильнодействующих средств, распространения наркомании, наличия в продаже недоброкачественных алкогольных напитков и некоторых продуктов питания количество отравлений среди россиян, к сожалению, из года в год увелич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тот, кто вовремя обратится к врачу-токсикологу, может быть уверен: благодаря широкому ассортименту антидотов ему будет оказана эффективная помощь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6DE4-8522-43E6-90AE-39EBF9B431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ДРЕВНИХ МЕДИЦИНСКИХ ТРАКТАТАХ СОДЕРЖАТСЯ СВЕДЕНИЯ НЕ ТОЛЬКО О ЛЕКАРСТВАХ, НО И О ЯДОВИТЫХ СРЕДСТВАХ, КОТОРЫЕ НЕРЕДКО ИСПОЛЬЗОВАЛИСЬ В ПРЕСТУПНЫХ ЦЕЛЯ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 ( токсин) – вещество, приводящее в определенных дозах или концентрациях к расстройству или нарушению тех или иных процессов жизнедеятельности организма, к возникновению отравления ( интоксикации ) или каких-либо заболеваний, паталогических состоя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2690-E5CC-4361-AE52-5500662927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«череп и кости» по традиции используют, чтобы пометить ядови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2F23-DB48-4EBF-BF96-4B4BA3996C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я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1816-989B-48A3-988D-D3B5AAB2DB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древнеегипетской фармакопее перечислены многие растительные лекарства-яды: белена, стрихнин, опий, конопля, а также полынь, ромашка, морской л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яд была известна и синильная кислота, которую отгоняли из косточек плодов, например пер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4F05-761E-4F49-A0F7-0A2DE2FB3D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ичие ядов по действ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атически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eam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-яды, затрагивающие кр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ротоксичны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ur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, поражающие нервную систему и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отоксичны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y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, повреждающие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rrhagins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кровеносные сосуды и вызывающие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литические 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lysinstoxins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красные кровяные тельца (эритроци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р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phr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п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ди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ardi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сердц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р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cr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неспецифически разрушающие ткани .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1A9B-C1CA-4E5E-AC8E-D534F79B08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противоя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врачи были убеждены, что если природа создала яд, то имеется и противоядие, нужно только суметь его найти, а это дело нелег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например, древнегреческий поэт и врач Никандр из Колофона делит все яды на две группы действующие медленно и быстро. В качестве противоядия он рекомендует нагретое молоко, теплую воду, мальву или настой львиного семени, чтобы вызвать рвоту и избежать всасывания я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AEAE-4B65-40B5-9924-4DA9ABA66D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дий Гален в своем сочинении «Антидоты» разделил ядовитые вещества на охлаждающие, согревающие и вызывающие гниение. Его тезис гласит: «Чтобы лечить болезни, необходимо использовать противоположное противоположны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7FD3-4272-4A57-AA64-D4BCE276E3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шли столетия, но мало что изменилось в принципах лечения отравлений. Основные средства это ротные и слабительные. Повторные приёмы рвотных средств чередуются с приёмом молока и жирных супов, ибо предполагается, что жиры нейтрализуют действие яда и не дают ему всос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19 столетия появились противоядия, не потерявшие своего значения и поныне. Самые простые антидоты соединяются с ядами, давая нерастворимую форму, что уменьшает всасывание яда в кровь из желудочнокишечного тракта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A453-00E0-499E-A760-059CCC4AC6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55CE-9E18-49FD-84AF-939008F9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C696-BFA1-44BF-ADC3-9C916658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375A-354A-4C65-B139-75A4DC40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D5B2-3DE7-4059-AFE8-217F3278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D52A-78BF-4092-B97A-E5EA7AB5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4CC1-7E85-4EF6-8422-76120AF5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186C-4B9A-465B-871F-0402EF73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D709-B8F9-48E4-B0B1-F78D1A69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EAB1-8372-4711-8636-C6234CBA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CA82-1676-484B-95BB-0F5F9887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5D2D-0067-4C69-84B0-DB7A6153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7BD6-EC10-4677-A818-8418FF0F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615C-A088-4A33-8F0A-1CA658FB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21B7-601C-42D4-A266-2AE7CE12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690B-AF24-441E-AA01-C2ADF7EB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77FB-5CF9-4BC8-B9BD-7C1D38E7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7741-8616-4087-8660-DC06D838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2A6D-070A-469F-9AEB-5907895E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A09E-BB3B-44A5-8C2D-DE09BFB0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C2F5-A86D-420F-9BCB-E37D0246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F3E0-9525-497B-85D3-A41B6641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B90F-2ADA-45AD-A00C-B10E2BAC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6091-1B4F-4D65-A7E2-2EF5786D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9BC8-D9B1-4D0A-93BC-8ABA121D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6593-3CED-4B63-833F-F7895E2C95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24DC-EA39-44C4-8956-3858D038A3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ЯДЫ </a:t>
            </a:r>
            <a:br>
              <a:rPr sz="5400"/>
            </a:b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и противояд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355640" y="4293720"/>
            <a:ext cx="3375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ца 9-А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а Ан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11" descr="j0186002"/>
          <p:cNvPicPr/>
          <p:nvPr/>
        </p:nvPicPr>
        <p:blipFill>
          <a:blip r:embed="rId1"/>
          <a:stretch/>
        </p:blipFill>
        <p:spPr>
          <a:xfrm>
            <a:off x="755640" y="69228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2" descr="babylon"/>
          <p:cNvPicPr/>
          <p:nvPr/>
        </p:nvPicPr>
        <p:blipFill>
          <a:blip r:embed="rId2">
            <a:lum bright="6000"/>
          </a:blip>
          <a:srcRect l="0" t="0" r="0" b="20058"/>
          <a:stretch/>
        </p:blipFill>
        <p:spPr>
          <a:xfrm>
            <a:off x="611280" y="4149720"/>
            <a:ext cx="2759040" cy="2087640"/>
          </a:xfrm>
          <a:prstGeom prst="rect">
            <a:avLst/>
          </a:prstGeom>
          <a:ln w="0">
            <a:noFill/>
          </a:ln>
        </p:spPr>
      </p:pic>
      <p:sp>
        <p:nvSpPr>
          <p:cNvPr id="5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548316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шей стране создана мощная токсикологическая служба. В результате бурного развития химической промышленности, обилия препаратов битовой химии, лекарственных и сильнодействующих средств, распространения наркомании, наличия в продаже недоброкачественных алкогольных напитков и некоторых продуктов питания количество отравлений среди россиян, к сожалению, из года в год увеличивае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тот, кто вовремя обратится к врачу-токсикологу, может быть уверен: благодаря широкому ассортименту антидотов ему будет оказана эффективная помощь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4" descr="j0240719"/>
          <p:cNvPicPr/>
          <p:nvPr/>
        </p:nvPicPr>
        <p:blipFill>
          <a:blip r:embed="rId3"/>
          <a:stretch/>
        </p:blipFill>
        <p:spPr>
          <a:xfrm>
            <a:off x="6084720" y="1773360"/>
            <a:ext cx="2590920" cy="381636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В ДРЕВНИХ МЕДИЦИНСКИХ ТРАКТАТАХ СОДЕРЖАТСЯ СВЕДЕНИЯ НЕ ТОЛЬКО О ЛЕКАРСТВАХ, НО И О ЯДОВИТЫХ СРЕДСТВАХ, КОТОРЫЕ НЕРЕДКО ИСПОЛЬЗОВАЛИСЬ В ПРЕСТУПНЫХ ЦЕЛЯХ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61927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д ( токсин) – вещество, приводящее в определенных дозах или концентрациях к расстройству или нарушению тех или иных процессов жизнедеятельности организма, к возникновению отравления ( интоксикации ) или каких-либо заболеваний, паталогических состоя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5" descr="bgrd_main"/>
          <p:cNvPicPr/>
          <p:nvPr/>
        </p:nvPicPr>
        <p:blipFill>
          <a:blip r:embed="rId2"/>
          <a:stretch/>
        </p:blipFill>
        <p:spPr>
          <a:xfrm>
            <a:off x="6659640" y="1989000"/>
            <a:ext cx="2241360" cy="331308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Символ «череп и кости» по традиции используют, чтобы пометить ядовитые веществ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Picture 4" descr="Черепушка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60836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ядо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68360" y="1700280"/>
          <a:ext cx="8147160" cy="4572000"/>
        </p:xfrm>
        <a:graphic>
          <a:graphicData uri="http://schemas.openxmlformats.org/drawingml/2006/table">
            <a:tbl>
              <a:tblPr/>
              <a:tblGrid>
                <a:gridCol w="2716200"/>
                <a:gridCol w="2927160"/>
                <a:gridCol w="25038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ЕРТЕЛЬНАЯ ДОЗА(мкг/к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ксин ботул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ктер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ли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алловые риф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п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па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трахо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жа лягушек древолаз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иц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ды клещев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тью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рпи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о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ллюски кону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д меду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неротые меду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челиный я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доносные пчел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5" name="Picture 68" descr="Code Age Commanders art_3"/>
          <p:cNvPicPr/>
          <p:nvPr/>
        </p:nvPicPr>
        <p:blipFill>
          <a:blip r:embed="rId1"/>
          <a:stretch/>
        </p:blipFill>
        <p:spPr>
          <a:xfrm>
            <a:off x="395280" y="115920"/>
            <a:ext cx="2376360" cy="1341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9" descr="Code Age Commanders poster_2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588000" y="189000"/>
            <a:ext cx="1727280" cy="1224000"/>
          </a:xfrm>
          <a:prstGeom prst="rect">
            <a:avLst/>
          </a:prstGeom>
          <a:ln w="0">
            <a:noFill/>
          </a:ln>
        </p:spPr>
      </p:pic>
      <p:sp>
        <p:nvSpPr>
          <p:cNvPr id="53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же в древнеегипетской фармакопее перечислены многие растительные лекарства-яды: белена, стрихнин, опий, конопля, а также полынь, ромашка, морской лу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яд была известна и синильная кислота, которую отгоняли из косточек плодов, например перс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yd_p01"/>
          <p:cNvPicPr/>
          <p:nvPr/>
        </p:nvPicPr>
        <p:blipFill>
          <a:blip r:embed="rId4"/>
          <a:stretch/>
        </p:blipFill>
        <p:spPr>
          <a:xfrm>
            <a:off x="6948360" y="4149720"/>
            <a:ext cx="1714680" cy="180972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Различие ядов по действию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9200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атически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am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-яды, затрагивающие кро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йротоксичны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ur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ы, поражающие нервную систему и моз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отоксичны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y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ы, повреждающие мыш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emorrhagins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кровеносные сосуды и вызывающие кровот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олитические 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emolysinstoxin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красные кровяные тельца (эритроцит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фр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phr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п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ди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rdi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сердц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кр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cr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неспецифически разрушающие ткани .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" descr="i-5[1]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7415280" y="4508640"/>
            <a:ext cx="1728720" cy="234936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оиск противояд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вние врачи были убеждены, что если природа создала яд, то имеется и противоядие, нужно только суметь его найти, а это дело нелегк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, например, древнегреческий поэт и врач Никандр из Колофона делит все яды на две группы действующие медленно и быстро. В качестве противоядия он рекомендует нагретое молоко, теплую воду, мальву или настой львиного семени, чтобы вызвать рвоту и избежать всасывания я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вдий Гален в своем сочинении «Антидоты» разделил ядовитые вещества на охлаждающие, согревающие и вызывающие гниение. Его тезис гласит: «Чтобы лечить болезни, необходимо использовать противоположное противоположны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16" descr="Half Life 2 wall_09"/>
          <p:cNvPicPr/>
          <p:nvPr/>
        </p:nvPicPr>
        <p:blipFill>
          <a:blip r:embed="rId2"/>
          <a:stretch/>
        </p:blipFill>
        <p:spPr>
          <a:xfrm>
            <a:off x="6443640" y="1628640"/>
            <a:ext cx="2314440" cy="3824280"/>
          </a:xfrm>
          <a:prstGeom prst="rect">
            <a:avLst/>
          </a:prstGeom>
          <a:ln w="0">
            <a:noFill/>
          </a:ln>
        </p:spPr>
      </p:pic>
      <p:sp>
        <p:nvSpPr>
          <p:cNvPr id="55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шли столетия, но мало что изменилось в принципах лечения отравлений. Основные средства это ротные и слабительные. Повторные приёмы рвотных средств чередуются с приёмом молока и жирных супов, ибо предполагается, что жиры нейтрализуют действие яда и не дают ему всоса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чале 19 столетия появились противоядия, не потерявшие своего значения и поныне. Самые простые антидоты соединяются с ядами, давая нерастворимую форму, что уменьшает всасывание яда в кровь из желудочнокишечного тракта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0:57:16Z</dcterms:created>
  <dc:creator>Аня</dc:creator>
  <dc:description/>
  <dc:language>en-US</dc:language>
  <cp:lastModifiedBy>LEGION</cp:lastModifiedBy>
  <dcterms:modified xsi:type="dcterms:W3CDTF">2015-02-13T11:02:46Z</dcterms:modified>
  <cp:revision>8</cp:revision>
  <dc:subject/>
  <dc:title>ЯДЫ  и противоядия</dc:title>
</cp:coreProperties>
</file>