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B754-EC78-4BCB-BF6A-A3FD01BE7B2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отивоя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9-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а Ан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9DC7-4FC1-40AC-BE51-5F170431D7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й стране создана мощная токсикологическая служба. В результате бурного развития химической промышленности, обилия препаратов битовой химии, лекарственных и сильнодействующих средств, распространения наркомании, наличия в продаже недоброкачественных алкогольных напитков и некоторых продуктов питания количество отравлений среди россиян, к сожалению, из года в год увелич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тот, кто вовремя обратится к врачу-токсикологу, может быть уверен: благодаря широкому ассортименту антидотов ему будет оказана эффективная помощь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E4C3-741C-4FA4-996E-C8223CD0D6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 ДРЕВНИХ МЕДИЦИНСКИХ ТРАКТАТАХ СОДЕРЖАТСЯ СВЕДЕНИЯ НЕ ТОЛЬКО О ЛЕКАРСТВАХ, НО И О ЯДОВИТЫХ СРЕДСТВАХ, КОТОРЫЕ НЕРЕДКО ИСПОЛЬЗОВАЛИСЬ В ПРЕСТУПНЫХ ЦЕЛЯ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 ( токсин) – вещество, приводящее в определенных дозах или концентрациях к расстройству или нарушению тех или иных процессов жизнедеятельности организма, к возникновению отравления ( интоксикации ) или каких-либо заболеваний, паталогических состоя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01A7-87DB-4914-B9AB-9B3A2731EF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вол «череп и кости» по традиции используют, чтобы пометить ядови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B4AF-F1F2-40D1-9922-C1418132130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я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10FB-227F-4EDF-8A7E-5858035076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древнеегипетской фармакопее перечислены многие растительные лекарства-яды: белена, стрихнин, опий, конопля, а также полынь, ромашка, морской л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яд была известна и синильная кислота, которую отгоняли из косточек плодов, например перс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2E9D-E95C-4ECF-A3D2-4F65B635BB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личие ядов по действ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атические яд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eamotox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-яды, затрагивающие кро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йротоксичные яд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eurotox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ы, поражающие нервную систему и 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отоксичные яд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yotox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ы, повреждающие мыш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aemorrhagins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кровеносные сосуды и вызывающие кровот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олитические 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aemolysinstoxins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красные кровяные тельца (эритроци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р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ephro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п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ди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ardio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сердц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р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ecro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неспецифически разрушающие ткани .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3613-0082-41EA-A3DB-04660F217E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противоя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е врачи были убеждены, что если природа создала яд, то имеется и противоядие, нужно только суметь его найти, а это дело нелег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например, древнегреческий поэт и врач Никандр из Колофона делит все яды на две группы действующие медленно и быстро. В качестве противоядия он рекомендует нагретое молоко, теплую воду, мальву или настой львиного семени, чтобы вызвать рвоту и избежать всасывания я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C41B-CD74-409E-A766-93518A06D4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дий Гален в своем сочинении «Антидоты» разделил ядовитые вещества на охлаждающие, согревающие и вызывающие гниение. Его тезис гласит: «Чтобы лечить болезни, необходимо использовать противоположное противоположны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85E8-A707-4799-A79A-1D070B63836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шли столетия, но мало что изменилось в принципах лечения отравлений. Основные средства это ротные и слабительные. Повторные приёмы рвотных средств чередуются с приёмом молока и жирных супов, ибо предполагается, что жиры нейтрализуют действие яда и не дают ему всос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19 столетия появились противоядия, не потерявшие своего значения и поныне. Самые простые антидоты соединяются с ядами, давая нерастворимую форму, что уменьшает всасывание яда в кровь из желудочнокишечного тракта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E546-6123-4715-BBD8-9054875F75C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3C6F8-0CA5-4200-8B24-8F4F29BB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F3E6-B3AA-49E3-A771-D2CCDF29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4A700-3B89-4037-9351-2D678AD4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E11A8-CBB0-4D50-A688-269BC0FE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58E2-7E31-4D86-93A4-4756838F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7432-9220-4314-BC02-EEE69A3F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0871-D114-446D-AEA9-1D81DC09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70DC-1919-4BDD-8ADA-ED1811B1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0A5E-2D0C-48AD-999D-080AC36A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F2C7-8478-4222-95E3-86AB05CA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EE21-9859-4CFB-986F-87C674B8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D724D-7D40-44B1-A5A7-1CC60E1B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43C3-053C-4B79-B4AD-0733C3CB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50A3-8188-4E74-9151-A120054A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F0F3-FC73-4B44-8902-E516A16D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9365-E1E4-4436-A583-B38782B9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A86E-486F-4213-A393-E565FD77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DC64-5CD1-4A15-A63D-6FD0F473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BBDB-40FF-4AB9-9614-3AC63383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41DF8-6931-4194-B593-3E9D938E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2B148-F92B-4F50-A261-B94AF487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27D9-DC1C-46E6-893F-5AC7A73C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A4966-B1AF-473F-802B-05DF06B2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B9604-00D8-439D-9013-7AEAC4EF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E023-44F8-46B4-BE80-AFDD0E3F43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E334-A20E-44A1-88F4-02814FE0856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ЯДЫ </a:t>
            </a:r>
            <a:br>
              <a:rPr sz="5400"/>
            </a:b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и противоядия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355640" y="4293720"/>
            <a:ext cx="33750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ница 9-А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да Ан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11" descr="j0186002"/>
          <p:cNvPicPr/>
          <p:nvPr/>
        </p:nvPicPr>
        <p:blipFill>
          <a:blip r:embed="rId1"/>
          <a:stretch/>
        </p:blipFill>
        <p:spPr>
          <a:xfrm>
            <a:off x="755640" y="692280"/>
            <a:ext cx="1776600" cy="18255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2" descr="babylon"/>
          <p:cNvPicPr/>
          <p:nvPr/>
        </p:nvPicPr>
        <p:blipFill>
          <a:blip r:embed="rId2">
            <a:lum bright="6000"/>
          </a:blip>
          <a:srcRect l="0" t="0" r="0" b="20058"/>
          <a:stretch/>
        </p:blipFill>
        <p:spPr>
          <a:xfrm>
            <a:off x="611280" y="4149720"/>
            <a:ext cx="2759040" cy="2087640"/>
          </a:xfrm>
          <a:prstGeom prst="rect">
            <a:avLst/>
          </a:prstGeom>
          <a:ln w="0">
            <a:noFill/>
          </a:ln>
        </p:spPr>
      </p:pic>
      <p:sp>
        <p:nvSpPr>
          <p:cNvPr id="5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548316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шей стране создана мощная токсикологическая служба. В результате бурного развития химической промышленности, обилия препаратов битовой химии, лекарственных и сильнодействующих средств, распространения наркомании, наличия в продаже недоброкачественных алкогольных напитков и некоторых продуктов питания количество отравлений среди россиян, к сожалению, из года в год увеличивает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тот, кто вовремя обратится к врачу-токсикологу, может быть уверен: благодаря широкому ассортименту антидотов ему будет оказана эффективная помощь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4" descr="j0240719"/>
          <p:cNvPicPr/>
          <p:nvPr/>
        </p:nvPicPr>
        <p:blipFill>
          <a:blip r:embed="rId3"/>
          <a:stretch/>
        </p:blipFill>
        <p:spPr>
          <a:xfrm>
            <a:off x="6084720" y="1773360"/>
            <a:ext cx="2590920" cy="3816360"/>
          </a:xfrm>
          <a:prstGeom prst="rect">
            <a:avLst/>
          </a:prstGeom>
          <a:ln w="0">
            <a:noFill/>
          </a:ln>
        </p:spPr>
      </p:pic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В ДРЕВНИХ МЕДИЦИНСКИХ ТРАКТАТАХ СОДЕРЖАТСЯ СВЕДЕНИЯ НЕ ТОЛЬКО О ЛЕКАРСТВАХ, НО И О ЯДОВИТЫХ СРЕДСТВАХ, КОТОРЫЕ НЕРЕДКО ИСПОЛЬЗОВАЛИСЬ В ПРЕСТУПНЫХ ЦЕЛЯХ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619272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д ( токсин) – вещество, приводящее в определенных дозах или концентрациях к расстройству или нарушению тех или иных процессов жизнедеятельности организма, к возникновению отравления ( интоксикации ) или каких-либо заболеваний, паталогических состоя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5" descr="bgrd_main"/>
          <p:cNvPicPr/>
          <p:nvPr/>
        </p:nvPicPr>
        <p:blipFill>
          <a:blip r:embed="rId2"/>
          <a:stretch/>
        </p:blipFill>
        <p:spPr>
          <a:xfrm>
            <a:off x="6659640" y="1989000"/>
            <a:ext cx="2241360" cy="3313080"/>
          </a:xfrm>
          <a:prstGeom prst="rect">
            <a:avLst/>
          </a:prstGeom>
          <a:ln w="0">
            <a:noFill/>
          </a:ln>
        </p:spPr>
      </p:pic>
      <p:sp>
        <p:nvSpPr>
          <p:cNvPr id="52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Символ «череп и кости» по традиции используют, чтобы пометить ядовитые вещества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1" name="Picture 4" descr="Черепушка"/>
          <p:cNvPicPr/>
          <p:nvPr/>
        </p:nvPicPr>
        <p:blipFill>
          <a:blip r:embed="rId1"/>
          <a:stretch/>
        </p:blipFill>
        <p:spPr>
          <a:xfrm>
            <a:off x="1187280" y="1700280"/>
            <a:ext cx="6769440" cy="4608360"/>
          </a:xfrm>
          <a:prstGeom prst="rect">
            <a:avLst/>
          </a:prstGeom>
          <a:ln w="0">
            <a:noFill/>
          </a:ln>
        </p:spPr>
      </p:pic>
      <p:sp>
        <p:nvSpPr>
          <p:cNvPr id="53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иды ядов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468360" y="1700280"/>
          <a:ext cx="8147160" cy="4572000"/>
        </p:xfrm>
        <a:graphic>
          <a:graphicData uri="http://schemas.openxmlformats.org/drawingml/2006/table">
            <a:tbl>
              <a:tblPr/>
              <a:tblGrid>
                <a:gridCol w="2716200"/>
                <a:gridCol w="2927160"/>
                <a:gridCol w="250380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ЧН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МЕРТЕЛЬНАЯ ДОЗА(мкг/кг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ксин ботулиз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ктер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ли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алловые риф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йп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йпа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трахо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жа лягушек древолаз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иц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ды клещеви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тью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орпи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о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ллюски кону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д меду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неротые меду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челиный я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доносные пчел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5" name="Picture 68" descr="Code Age Commanders art_3"/>
          <p:cNvPicPr/>
          <p:nvPr/>
        </p:nvPicPr>
        <p:blipFill>
          <a:blip r:embed="rId1"/>
          <a:stretch/>
        </p:blipFill>
        <p:spPr>
          <a:xfrm>
            <a:off x="395280" y="115920"/>
            <a:ext cx="2376360" cy="13413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69" descr="Code Age Commanders poster_2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588000" y="189000"/>
            <a:ext cx="1727280" cy="1224000"/>
          </a:xfrm>
          <a:prstGeom prst="rect">
            <a:avLst/>
          </a:prstGeom>
          <a:ln w="0">
            <a:noFill/>
          </a:ln>
        </p:spPr>
      </p:pic>
      <p:sp>
        <p:nvSpPr>
          <p:cNvPr id="53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же в древнеегипетской фармакопее перечислены многие растительные лекарства-яды: белена, стрихнин, опий, конопля, а также полынь, ромашка, морской лу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яд была известна и синильная кислота, которую отгоняли из косточек плодов, например перс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4" descr="yd_p01"/>
          <p:cNvPicPr/>
          <p:nvPr/>
        </p:nvPicPr>
        <p:blipFill>
          <a:blip r:embed="rId4"/>
          <a:stretch/>
        </p:blipFill>
        <p:spPr>
          <a:xfrm>
            <a:off x="6948360" y="4149720"/>
            <a:ext cx="1714680" cy="180972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Различие ядов по действию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79200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матические яд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amotoxi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-яды, затрагивающие кров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йротоксичные яд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eurotoxi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ды, поражающие нервную систему и моз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отоксичные яд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yotoxi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ды, повреждающие мыш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м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aemorrhagins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кровеносные сосуды и вызывающие кровоте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молитические 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aemolysinstoxins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красные кровяные тельца (эритроцит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фр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ephro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поч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рди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rdio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сердце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кр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ecro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неспецифически разрушающие ткани .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4" descr="i-5[1]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7415280" y="4508640"/>
            <a:ext cx="1728720" cy="2349360"/>
          </a:xfrm>
          <a:prstGeom prst="rect">
            <a:avLst/>
          </a:prstGeom>
          <a:ln w="0">
            <a:noFill/>
          </a:ln>
        </p:spPr>
      </p:pic>
      <p:sp>
        <p:nvSpPr>
          <p:cNvPr id="54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оиск противояд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евние врачи были убеждены, что если природа создала яд, то имеется и противоядие, нужно только суметь его найти, а это дело нелегк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, например, древнегреческий поэт и врач Никандр из Колофона делит все яды на две группы действующие медленно и быстро. В качестве противоядия он рекомендует нагретое молоко, теплую воду, мальву или настой львиного семени, чтобы вызвать рвоту и избежать всасывания я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627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вдий Гален в своем сочинении «Антидоты» разделил ядовитые вещества на охлаждающие, согревающие и вызывающие гниение. Его тезис гласит: «Чтобы лечить болезни, необходимо использовать противоположное противоположным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16" descr="Half Life 2 wall_09"/>
          <p:cNvPicPr/>
          <p:nvPr/>
        </p:nvPicPr>
        <p:blipFill>
          <a:blip r:embed="rId2"/>
          <a:stretch/>
        </p:blipFill>
        <p:spPr>
          <a:xfrm>
            <a:off x="6443640" y="1628640"/>
            <a:ext cx="2314440" cy="3824280"/>
          </a:xfrm>
          <a:prstGeom prst="rect">
            <a:avLst/>
          </a:prstGeom>
          <a:ln w="0">
            <a:noFill/>
          </a:ln>
        </p:spPr>
      </p:pic>
      <p:sp>
        <p:nvSpPr>
          <p:cNvPr id="55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шли столетия, но мало что изменилось в принципах лечения отравлений. Основные средства это ротные и слабительные. Повторные приёмы рвотных средств чередуются с приёмом молока и жирных супов, ибо предполагается, что жиры нейтрализуют действие яда и не дают ему всоса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чале 19 столетия появились противоядия, не потерявшие своего значения и поныне. Самые простые антидоты соединяются с ядами, давая нерастворимую форму, что уменьшает всасывание яда в кровь из желудочнокишечного тракта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10:57:16Z</dcterms:created>
  <dc:creator>Аня</dc:creator>
  <dc:description/>
  <dc:language>en-US</dc:language>
  <cp:lastModifiedBy>LEGION</cp:lastModifiedBy>
  <dcterms:modified xsi:type="dcterms:W3CDTF">2015-02-13T11:02:46Z</dcterms:modified>
  <cp:revision>8</cp:revision>
  <dc:subject/>
  <dc:title>ЯДЫ  и противоядия</dc:title>
</cp:coreProperties>
</file>