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5FF2-4BC8-459B-8C5A-136F32E56F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4635-B8F1-4B5D-807A-3FF0B098D1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, стресс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столько прочно вошел в нашу жизнь, что, употребляя его, мы перестали задумываться, что же это такое на самом деле. В переводе с английского stress - давление, нажим, напряжение. Можно найти такие определения стресса: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ва вида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Положи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трица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надолго выбивает из колеи и заметно подрывает здоровь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C296-B3A5-475C-A890-76D5BF96E5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симп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сеянн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вышенная возбудим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стоянная устало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теря чувства юм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зкое увеличение количества  выкуриваемых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гарет, с одновременно появившим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ем к алкогол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пажа сна и аппетит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худшение памя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ногда возможны, так называем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сихосоматические» боли в области головы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ны, желуд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81F2-7481-47A3-925A-8B6778A24B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9F7C-8D8C-443F-9EA1-269EFC8E5E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катор стр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ачала прочитайте, а потом смотрите на картинк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то изображены два дельфина, выпрыгивающих из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еловек находит много отличий, значит, он испытывает сильнейший стрес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мотрите на картинк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сли Вы нашли в дельфинах более двух отличий, то Вам срочно надо в отпус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45CF-C263-4CA7-8A85-F4348F571F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1676-E7D4-4048-B382-7C2527B2B2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меете ли вы справляться со стрессом?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-3 оч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Вы умеете владеть собой и, вероятно, вполне счастл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-7 оч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 и более очк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59EC-FC6B-483F-8E21-BE8620C5D0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цепты для поднятия жизненного тону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едитация и аутотренин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Четкое распределение времени на работу и отдых 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орячий шоколад, пушистый плед, удобное кресло и старая любимая книжка (лучше детская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Хорошее вино, шоколад, орехи и страстный любовник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4182-0819-46B4-92C3-023B1D99C9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он, столько сколько хочется и еще немножк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порт до изнем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Баня. Настоящая русская баня, с парилкой, вениками и прыжками в сугро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16CF-AB0E-45ED-BBEB-B59A53CBD7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Умей спокойно относиться к тому, чего не в силах измени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2B0F-531F-4472-80EE-CE278DE8A7E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ТАКОЕ СТРЕС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состояние напряжения, возникающее у человека под влиянием сильных воздействи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A176-B01E-4B11-BC13-D462D78CD6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 на рабо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моц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стре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рационный стресс (реакция организма на хирургическую операцию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травматический стресс, возникающий вследствие перенесенной травмы и.т.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F0C6-F28B-4D30-88B3-DEB91B80FE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ет быть стрессор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961E-216D-4BEB-A206-943F159866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E916-D6E1-4A0B-B349-AA5C0C8EDE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тадия тревог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D111-CB3E-486B-8980-9F6D0530FE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дия сопротивле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C152-D693-46A9-8404-75D903C91A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69DA-ED04-4EFE-8D16-D8CF98D0A1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тья (стадия истоще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дствия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7E7C-9FD8-4B76-98B8-05424292AB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A8D-E113-4C85-8E27-A438A09E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F5A-5329-4336-8032-144E6296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4DB-E3AA-4C26-8821-2EDA459B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F5C-A066-4E46-9043-FDE1F04F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CBC2-7956-47D3-9461-71AA8D9F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8D1F-672C-49DF-9650-8D29042A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9875-A6EC-4528-9A01-69CE5240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B035-3FCF-47DB-8925-FBCD34BA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8BC8-681D-434A-8251-459D979D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F8D8-C830-4135-86E1-78EE376E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61AF-6E90-450B-80E8-6ABC1B8A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C58-1D8F-4006-8D3E-FF928E32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AD64-8F8E-4727-8EB3-654AD81A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39C3-1AE4-4592-8D58-6CF94D69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3FD2-F05E-43C1-9E6E-F2E7CD57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75B2-BC6C-444C-BFE3-2ABA50B7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50F5-2FCA-465A-823F-923A2A1A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2FED8-AEC4-489A-B6E0-ECE3F49A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A3982-32BC-4C34-B39D-3DA0A857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4A924-8B08-462C-B024-FF7E8FD6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102C7-296D-4E13-8883-F05FFD66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DF7F0-9784-467F-A4D5-E272DCD9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1DE-4E7F-43AE-BA54-7C9F9F3D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B4491-072D-413B-BDC3-C00D0A27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21FEF-98DB-48B4-9DBD-A7777199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FED4B-6F3D-42DF-8FEA-AB2C90A4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D6A88-A29F-48F4-9E1E-E4D2DEB3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E60ED-ED76-4A0B-A98A-931B1A5E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4188A-4A01-4DFB-82CC-58CCD6B3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2E7B3-4F06-41E5-97C4-3F91E35A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9A40C-A87E-4A92-9BE1-96C5AEB5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8A48C-6D8A-4497-803B-8A1AC586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9B921-7798-4895-942F-03CA8C4A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C0F-6F87-4B82-B971-38B234B1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E8C80-A58C-479F-A6A3-087C5255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9C917-5F91-445A-8638-0B0205B2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AD485B-714B-44C1-8E8C-3660F7B4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99001-54B2-4961-94A4-1B3F7778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10110-3352-4A61-8BB3-8B7FE73A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8EFA0-02E0-440E-87F2-F514816C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8E88E-E6D7-4F79-BA70-56B04687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74C8B-3739-4F83-9A38-07B4837C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876B5-3D64-4321-A72C-6BCEF403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B5C-A0E0-4058-AAA7-D9C43484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D8C-E5B3-42B5-BF25-80B9BFB0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2DE-EBE6-44A0-88B5-05214394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70B-E4E0-414D-9F96-3E406ACB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974-10E9-4DBE-B21E-293BB71E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825A-665B-4B71-AB3D-4C04F5A6A8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37D0-F4F9-42DA-996F-736532935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5699-268A-4EE6-806F-B133CE3FA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2A08-DE1A-4743-9E33-0953E61C18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91880"/>
            <a:ext cx="816264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3e3ff"/>
                </a:solidFill>
                <a:latin typeface="Arial"/>
              </a:rPr>
              <a:t>Стресс, стресс!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6" descr="360"/>
          <p:cNvPicPr/>
          <p:nvPr/>
        </p:nvPicPr>
        <p:blipFill>
          <a:blip r:embed="rId1"/>
          <a:stretch/>
        </p:blipFill>
        <p:spPr>
          <a:xfrm>
            <a:off x="3075120" y="1922400"/>
            <a:ext cx="5186160" cy="3654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468360" y="241740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ереводе с английского stress - давление, нажим, напряжение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Два вида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трица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надолго выбивает из колеи и заметно подрывает здоров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сновные симпт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сеянн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вышенная возбуди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тоянная усталос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теря чувства юмор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езкое увеличение количества  выкуриваемых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гарет, с одновременно появивш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растием к алкогол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пажа сна и аппетит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худшение памят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ногда возможны, так назы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сихосоматические» боли в области головы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, желуд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1" descr="1174238951_wetcat_03"/>
          <p:cNvPicPr/>
          <p:nvPr/>
        </p:nvPicPr>
        <p:blipFill>
          <a:blip r:embed="rId1"/>
          <a:stretch/>
        </p:blipFill>
        <p:spPr>
          <a:xfrm>
            <a:off x="5292720" y="1628640"/>
            <a:ext cx="355752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4"/>
          <p:cNvSpPr/>
          <p:nvPr/>
        </p:nvSpPr>
        <p:spPr>
          <a:xfrm>
            <a:off x="684360" y="836640"/>
            <a:ext cx="431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ндикатор стрес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чала прочитайте, а потом смотрите на картин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то изображены два дельфина, выпрыгивающих из вод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человек находит много отличий, значит, он испытывает сильнейший стресс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на картинк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нашли в дельфинах более двух отличий, то Вам срочно надо в отпу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33680" y="523800"/>
            <a:ext cx="4208400" cy="600084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0640" y="333000"/>
            <a:ext cx="816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268280"/>
          <a:ext cx="8229600" cy="5477040"/>
        </p:xfrm>
        <a:graphic>
          <a:graphicData uri="http://schemas.openxmlformats.org/drawingml/2006/table">
            <a:tbl>
              <a:tblPr/>
              <a:tblGrid>
                <a:gridCol w="5407200"/>
                <a:gridCol w="931680"/>
                <a:gridCol w="932040"/>
                <a:gridCol w="958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чувствую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ам могу сделать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еня охватывает чувство безнадежности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. Я способен расслабиться в стрессовой ситуации, не прибегая для этого к успокоительным таблет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ли бы я испытывал очень сильный стресс, я бы обязательно обратился за помощью к специалист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клонен к гру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не хотелось бы стать кем-нибудь други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. Мне хотелось бы оказаться где-нибудь в другом мес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  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легко расстраиваюс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9920"/>
            <a:ext cx="8163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«Умеете ли вы справляться со стрессом?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-3 оч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Вы умеете владеть собой и, вероятно, вполне счаст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-7 оч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8 и более оч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цепты для поднятия жизненного тонуса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едитация и аутотренинг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Четкое распределение времени на работу и отдых 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орячий шоколад, пушистый плед, удобное кресло и старая любимая книжка (лучше детская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Хорошее вино, шоколад, орехи и страстный любовник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508720" y="1600200"/>
            <a:ext cx="317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30840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он, столько сколько хочется и еще немножк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рт до изнемож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Баня. Настоящая русская баня, с парилкой, вениками и прыжками в сугро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65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Умей спокойно относиться к тому, чего не в силах изменить"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73612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ЧТО ТАКОЕ СТРЕСС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состояние напряжения, возникающее у человека под влиянием сильных воздействий;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сс на рабо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логический ст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й стресс (реакция организма на хирургическую операцию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травматический стресс, возникающий вследствие перенесенной травмы и.т.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то может быть стрессоро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523880" y="9144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226" name="Picture 3" descr="j0282740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grafick_stressa"/>
          <p:cNvPicPr/>
          <p:nvPr/>
        </p:nvPicPr>
        <p:blipFill>
          <a:blip r:embed="rId2"/>
          <a:stretch/>
        </p:blipFill>
        <p:spPr>
          <a:xfrm>
            <a:off x="611280" y="2421000"/>
            <a:ext cx="4735440" cy="3249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j0282752"/>
          <p:cNvPicPr/>
          <p:nvPr/>
        </p:nvPicPr>
        <p:blipFill>
          <a:blip r:embed="rId1"/>
          <a:stretch/>
        </p:blipFill>
        <p:spPr>
          <a:xfrm>
            <a:off x="4648320" y="1712880"/>
            <a:ext cx="4038480" cy="4268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ерв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тревоги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тор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сопротивления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0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j0282737"/>
          <p:cNvPicPr/>
          <p:nvPr/>
        </p:nvPicPr>
        <p:blipFill>
          <a:blip r:embed="rId1"/>
          <a:stretch/>
        </p:blipFill>
        <p:spPr>
          <a:xfrm>
            <a:off x="4651200" y="1714680"/>
            <a:ext cx="4035600" cy="4265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ретья (стадия истощения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9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61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j0282742"/>
          <p:cNvPicPr/>
          <p:nvPr/>
        </p:nvPicPr>
        <p:blipFill>
          <a:blip r:embed="rId1"/>
          <a:stretch/>
        </p:blipFill>
        <p:spPr>
          <a:xfrm>
            <a:off x="6400800" y="1828800"/>
            <a:ext cx="1538280" cy="41911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следствия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i-tmb-0x" descr="i?id=9177747&amp;tov=5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1096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59:49Z</dcterms:created>
  <dc:creator>Esoyan L.Z.</dc:creator>
  <dc:description/>
  <dc:language>en-US</dc:language>
  <cp:lastModifiedBy>LEGION</cp:lastModifiedBy>
  <dcterms:modified xsi:type="dcterms:W3CDTF">2015-02-13T11:04:26Z</dcterms:modified>
  <cp:revision>20</cp:revision>
  <dc:subject/>
  <dc:title>Презентация PowerPoint</dc:title>
</cp:coreProperties>
</file>