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7E5F-788D-492B-BFAF-C19AC569B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DCB3-76CB-4CE4-9F65-286E6FB0DB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, стресс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столько прочно вошел в нашу жизнь, что, употребляя его, мы перестали задумываться, что же это такое на самом деле. В переводе с английского stress - давление, нажим, напряжение. Можно найти такие определения стресса: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ва вида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Положи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трицательный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ресс надолго выбивает из колеи и заметно подрывает здоровье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D31D-BD1A-4C79-B42E-9BD6DF2C67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симпто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ссеянн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вышенная возбудим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стоянная усталост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отеря чувства юмор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езкое увеличение количества  выкуриваемых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арет, с одновременно появившим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ем к алкогол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опажа сна и аппетит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худшение памя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ногда возможны, так называем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сихосоматические» боли в области головы,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ины, желудк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2D1F-0844-4FE8-AA08-10E85E0C30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8AB-0191-4EBF-A890-E3A543E8D4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дикатор стр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ачала прочитайте, а потом смотрите на картинк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фото изображены два дельфина, выпрыгивающих из во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человек находит много отличий, значит, он испытывает сильнейший стрес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мотрите на картинку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сли Вы нашли в дельфинах более двух отличий, то Вам срочно надо в отпус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3F89-C8CD-4AF4-B13E-DFDFD3CD09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9A8A-BE95-4075-8777-C643E96CF89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меете ли вы справляться со стрессом?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0-3 очк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Вы умеете владеть собой и, вероятно, вполне счастл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4-7 очк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 и более очко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E0E5-94A8-4EC9-9A1D-1555DFE00B1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Times New Roman"/>
              </a:rPr>
              <a:t>Рецепты для поднятия жизненного тонус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Медитация и аутотренин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Четкое распределение времени на работу и отдых 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Горячий шоколад, пушистый плед, удобное кресло и старая любимая книжка (лучше детская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Хорошее вино, шоколад, орехи и страстный любовник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E08-B76A-44F0-9C02-80B934070E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Сон, столько сколько хочется и еще немножк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порт до изнемож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Баня. Настоящая русская баня, с парилкой, вениками и прыжками в сугроб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EDFA-4F16-4CF2-9D09-9B040C1B15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Умей спокойно относиться к тому, чего не в силах измени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393D-C371-44EB-B4BA-462E52CD5D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ТАКОЕ СТРЕС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состояние напряжения, возникающее у человека под влиянием сильных воздействий;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03AD-313B-45A4-BF2C-30576696C0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есс на работ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моциональный стрес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ческ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стре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рационный стресс (реакция организма на хирургическую операцию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ттравматический стресс, возникающий вследствие перенесенной травмы и.т.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C6E-978B-4A0A-8DD5-D6F99B947B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может быть стрессоро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CD9-7D3A-4B0E-97E5-39DB67C91E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4EFC-F02B-4FD1-B8D6-003F1B9A44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в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тадия тревоги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7CD0-91D1-433D-929E-3010692000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тора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тадия сопротивлен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6EFA-C7C0-4DD0-A38E-5BFBC021C3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7453-9EFD-40E1-93D1-810C18E639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тья (стадия истощен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следствия ст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FB0-33C6-46CA-BA70-5856BE22D3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7A1-D790-4897-A2B2-4C1D594D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198-A639-4D3E-B224-8C45D30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5FF-0E24-44C5-A069-7837A818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940-0199-490F-AFE0-39FDC52B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A543-339D-482D-B4AC-9D98DC78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5F37-85F7-42C2-BFA6-1681596F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720-C56A-4397-997F-3CF9FE5E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DE82-9456-43B8-9F79-78C0418D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EA52-B58C-4B4A-85C0-0BEA4204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2F9E-ADC2-4504-91B7-7ADF3CEE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E179-12DC-4533-ABAF-E43C0FD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DB3C-C5FC-4766-85B9-787420B0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D8E8-D0E9-43BC-96A6-B1E72E51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92BE-9645-4DFF-95CF-C488386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18CB-881D-41E4-A94A-44ACE732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9F2D-E05F-4BDF-A673-35A8FD32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5248-BC44-4B20-8B89-3EBF87D2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62676-B4BF-42E6-99B7-0FBA4FCE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11129-B844-4043-8BF1-62178266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C45D-2A03-4B49-9BE4-9DBE1CC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B4F42-ECC9-4889-8551-B9CCB218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A9D77-9F17-4407-9251-BB80DF1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EDE-E267-4C09-9671-82BB2A3A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5DAAD-991C-499B-97E9-BC1914E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11FF7-35BA-4ECC-8A3C-B939AF61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78043-0E0D-4FC8-A4C4-66AC387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F78EF-5AB9-4220-B703-88C5CC8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2EA5D-A8B6-4E50-A5E2-2EB9D1DC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20357-202B-4573-8173-9A58F609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8A6F9-47D7-46A0-987B-C06CEBF8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F5E84-135E-4325-B1A2-661DC8A6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092E5-ABCF-4455-B8A9-935FBF3D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5DF2C-8A5C-4E12-B540-4575D5B7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E81-EE82-492E-B6A9-BD55F670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6EEAF-5034-44D0-86C5-C7A483A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23A44-E3FF-4CC5-8E88-27C34E77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249AE-6093-487B-8F42-F3B87858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DDF52-541C-418B-B5F4-4DF84F59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20156-D308-4D05-A090-28DB998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47BDA-1760-4BBB-AD6F-2421B69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CF611-EC61-425F-B897-3D397C8A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1F531-7AAB-4D88-B68C-2DCC0535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B482D-29B7-4C13-BD71-FD0F7FAC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A98-6D9F-40FC-ACF5-3238CC7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2BA-4866-4DC1-8948-E57155B7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7DB0-0F0F-4669-AF1F-0D37338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402-CD6B-4C87-9C53-A6BBAB52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88D6-9D77-476C-BA98-B3721373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41D-F4CE-441D-8251-FC5B1048C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466D-DFE6-4F5E-9393-7F85411AF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C24-69B0-49E4-9FD7-CDE19CAAB5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320E-540A-4639-96E2-0973646156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91880"/>
            <a:ext cx="816264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3e3ff"/>
                </a:solidFill>
                <a:latin typeface="Arial"/>
              </a:rPr>
              <a:t>Стресс, стресс!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3" name="Picture 6" descr="360"/>
          <p:cNvPicPr/>
          <p:nvPr/>
        </p:nvPicPr>
        <p:blipFill>
          <a:blip r:embed="rId1"/>
          <a:stretch/>
        </p:blipFill>
        <p:spPr>
          <a:xfrm>
            <a:off x="3075120" y="1922400"/>
            <a:ext cx="5186160" cy="3654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7"/>
          <p:cNvSpPr/>
          <p:nvPr/>
        </p:nvSpPr>
        <p:spPr>
          <a:xfrm>
            <a:off x="468360" y="2417400"/>
            <a:ext cx="266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переводе с английского stress - давление, нажим, напряжение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Два вида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ведет к длительному пребыванию в состоянии приподнятого настроения, что, весьма благотворно влияет на организм: повышается иммунитет, отступают болезни, человек чувствует прилив радости, отлично выглядит и замечательно себя чувствуе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Отрицательный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тресс надолго выбивает из колеи и заметно подрывает здоровье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Основные симпто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ассеянн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вышенная возбудимость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стоянная усталост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теря чувства юмор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езкое увеличение количества  выкуриваемых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гарет, с одновременно появивши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трастием к алкоголю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опажа сна и аппетит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худшение памят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огда возможны, так назы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сихосоматические» боли в области головы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ины, желуд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1" descr="1174238951_wetcat_03"/>
          <p:cNvPicPr/>
          <p:nvPr/>
        </p:nvPicPr>
        <p:blipFill>
          <a:blip r:embed="rId1"/>
          <a:stretch/>
        </p:blipFill>
        <p:spPr>
          <a:xfrm>
            <a:off x="5292720" y="1628640"/>
            <a:ext cx="3557520" cy="388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4"/>
          <p:cNvSpPr/>
          <p:nvPr/>
        </p:nvSpPr>
        <p:spPr>
          <a:xfrm>
            <a:off x="684360" y="836640"/>
            <a:ext cx="4319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3e3ff"/>
                </a:solidFill>
                <a:latin typeface="Arial"/>
              </a:rPr>
              <a:t>Если Вы обнаружили у себя пять и более из перечисленных признаков, значит, надо срочно вытаскивать себя за уши из этого болота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ердо усвойте, что вы у себя одна, а неприятностей вокруг пруд-пруди, на всех здоровья не напасешься. И, главное, жизнь такая штука, которую можно спокойно воспринимать только обладая большим чувством юмор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ндикатор стрес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0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чала прочитайте, а потом смотрите на картин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фото изображены два дельфина, выпрыгивающих из воды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ыло установлено на примере подопытной группы, несмотря на тот факт, что дельфины абсолютно идентичны, человек, находящийся в стрессовом состоянии, находит отличия в них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человек находит много отличий, значит, он испытывает сильнейший стресс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мотрите на картинк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Вы нашли в дельфинах более двух отличий, то Вам срочно надо в отпус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33680" y="523800"/>
            <a:ext cx="4208400" cy="600084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80640" y="333000"/>
            <a:ext cx="816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ЕСТ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57200" y="1268280"/>
          <a:ext cx="8229600" cy="5477040"/>
        </p:xfrm>
        <a:graphic>
          <a:graphicData uri="http://schemas.openxmlformats.org/drawingml/2006/table">
            <a:tbl>
              <a:tblPr/>
              <a:tblGrid>
                <a:gridCol w="5407200"/>
                <a:gridCol w="931680"/>
                <a:gridCol w="932040"/>
                <a:gridCol w="958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утвер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ник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чувствую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ам могу сделать себя счастлив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3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еня охватывает чувство безнадежности.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4. Я способен расслабиться в стрессовой ситуации, не прибегая для этого к успокоительным таблетка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5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Если бы я испытывал очень сильный стресс, я бы обязательно обратился за помощью к специалисту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6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склонен к груст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7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Мне хотелось бы стать кем-нибудь други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8. Мне хотелось бы оказаться где-нибудь в другом мест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9.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     </a:t>
                      </a: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Я легко расстраиваюс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3333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3ff"/>
                    </a:solidFill>
                  </a:tcPr>
                </a:tc>
              </a:tr>
            </a:tbl>
          </a:graphicData>
        </a:graphic>
      </p:graphicFrame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9920"/>
            <a:ext cx="8163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«Умеете ли вы справляться со стрессом?»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0-3 оч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Вы умеете владеть собой и, вероятно, вполне счастли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4-7 очков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Ваша способность справляться со стрессом где-то на среднем уровне. Вам полезно взять на вооружение некоторые приемы, помогающие справляться со стрес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8 и более оч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ам пока трудно бороться с жизненными невзгодами. Если вы хотите сохранить свои душевные и физические силы, вам необходимо научиться использовать более эффективные методы борьбы со стресс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Рецепты для поднятия жизненного тонуса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едитация и аутотренинг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Четкое распределение времени на работу и отдых 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Горячий шоколад, пушистый плед, удобное кресло и старая любимая книжка (лучше детская)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Хорошее вино, шоколад, орехи и страстный любовник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508720" y="1600200"/>
            <a:ext cx="3178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5508720" y="2060640"/>
            <a:ext cx="330840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475920"/>
            <a:ext cx="8675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отя бы кратковременный отпуск в теплых краях в приятной компании или в одиночестве, на Ваш вкус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он, столько сколько хочется и еще немножко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порт до изнемож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 Баня. Настоящая русская баня, с парилкой, вениками и прыжками в сугроб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Общение с природой: лес, поле, огород и симпатичными животными: кошками, собаками, лошадь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. Люди, которым Вы нужны, которые Вас любят, ценят, поддержат, поймут и развеселят в любо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765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"Умей спокойно относиться к тому, чего не в силах изменить"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ене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7361280" cy="6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ЧТО ТАКОЕ СТРЕСС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состояние напряжения, возникающее у человека под влиянием сильных воздействий;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с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- это неспецифическая защитная реакция организма в ответ на неблагоприятные изменения окружающей сре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есс на работ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моциональный стрес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логический стр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й стресс (реакция организма на хирургическую операцию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сттравматический стресс, возникающий вследствие перенесенной травмы и.т.д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Что может быть стрессором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Физические стрессоры: жар, холод, шум, огонь, уличное движение, насилие, болезни, плохие условия работы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циальные стрессоры: общественные, экономические и политические; семейные; связанные с работой, карьерой; межличностные стресс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Семейные стрессоры: распределение обязанностей, ревность, различие в системах ценностей, болезни (смерть в семье и т.д.)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1523880" y="91440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Фазы развития стресса.</a:t>
            </a:r>
            <a:endParaRPr b="0" lang="en-US" sz="2000" spc="1" strike="noStrike">
              <a:ln w="9360">
                <a:solidFill>
                  <a:srgbClr val="333399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226" name="Picture 3" descr="j0282740"/>
          <p:cNvPicPr/>
          <p:nvPr/>
        </p:nvPicPr>
        <p:blipFill>
          <a:blip r:embed="rId1"/>
          <a:stretch/>
        </p:blipFill>
        <p:spPr>
          <a:xfrm>
            <a:off x="4932360" y="206064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grafick_stressa"/>
          <p:cNvPicPr/>
          <p:nvPr/>
        </p:nvPicPr>
        <p:blipFill>
          <a:blip r:embed="rId2"/>
          <a:stretch/>
        </p:blipFill>
        <p:spPr>
          <a:xfrm>
            <a:off x="611280" y="2421000"/>
            <a:ext cx="4735440" cy="3249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8" descr="j0282752"/>
          <p:cNvPicPr/>
          <p:nvPr/>
        </p:nvPicPr>
        <p:blipFill>
          <a:blip r:embed="rId1"/>
          <a:stretch/>
        </p:blipFill>
        <p:spPr>
          <a:xfrm>
            <a:off x="4648320" y="1712880"/>
            <a:ext cx="4038480" cy="42688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ерв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тревоги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в такие моменты начинает биться чаще, пищеварение временно сдерживается. В этом состоянии человек не может находиться долго, так как уст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Вторая </a:t>
            </a:r>
            <a:br>
              <a:rPr sz="4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(стадия сопротивления)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а наступает по мере развития и продолжения стрессовой ситуации. В этой стадии человек, адаптируясь к обстоятельствам, функционирует в оптимальном режиме. Эта стадия может продолжаться сравнительно дол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j0282737"/>
          <p:cNvPicPr/>
          <p:nvPr/>
        </p:nvPicPr>
        <p:blipFill>
          <a:blip r:embed="rId1"/>
          <a:stretch/>
        </p:blipFill>
        <p:spPr>
          <a:xfrm>
            <a:off x="4651200" y="1714680"/>
            <a:ext cx="4035600" cy="42652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Третья (стадия истощения)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9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ступает, если стресс слишком силен или продолжителен. Ее признаки начинают проявляться в эмоциональной (тревога, апатия, раздражительность, психическая усталость), поведенческой (уклонение от ответственности и взаимоотношений, экстремальное поведение, пренебрежение к себе) и соматической (ухудшение здоровья, истощение, чрезмерное употребление лекарств) сферах. Потеря возможности сопротивления приводит к заболеванию, возникновению психологической травмы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42861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j0282742"/>
          <p:cNvPicPr/>
          <p:nvPr/>
        </p:nvPicPr>
        <p:blipFill>
          <a:blip r:embed="rId1"/>
          <a:stretch/>
        </p:blipFill>
        <p:spPr>
          <a:xfrm>
            <a:off x="6400800" y="1828800"/>
            <a:ext cx="1538280" cy="419112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Последствия стресс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оценкам некоторых западных экспертов, до 70% заболеваний связаны с эмоциональным стрессом. В Европе ежегодно умирают более миллиона человек вследствие стрессогенных нарушений функций сердечно-сосудис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i-tmb-0x" descr="i?id=9177747&amp;tov=5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1096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8:59:49Z</dcterms:created>
  <dc:creator>Esoyan L.Z.</dc:creator>
  <dc:description/>
  <dc:language>en-US</dc:language>
  <cp:lastModifiedBy>LEGION</cp:lastModifiedBy>
  <dcterms:modified xsi:type="dcterms:W3CDTF">2015-02-13T11:04:26Z</dcterms:modified>
  <cp:revision>20</cp:revision>
  <dc:subject/>
  <dc:title>Презентация PowerPoint</dc:title>
</cp:coreProperties>
</file>