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F4F4-9487-4BE1-9C54-0309E98E08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9E52-D774-4027-831D-27B26D9105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, стресс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столько прочно вошел в нашу жизнь, что, употребляя его, мы перестали задумываться, что же это такое на самом деле. В переводе с английского stress - давление, нажим, напряжение. Можно найти такие определения стресса: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ва вида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Положи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трица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надолго выбивает из колеи и заметно подрывает здоровь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6C4C-3692-4C62-9256-284C43CB87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симп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ссеянн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вышенная возбудим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стоянная усталость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теря чувства юмор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зкое увеличение количества  выкуриваемых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гарет, с одновременно появившим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ем к алкогол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пажа сна и аппетит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худшение памя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ногда возможны, так называемы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сихосоматические» боли в области головы,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ны, желуд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7B88-986A-4B10-BF72-B3292E56FE0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0675-A45E-4603-B5D9-E656723A3BB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дикатор стр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ачала прочитайте, а потом смотрите на картинк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то изображены два дельфина, выпрыгивающих из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еловек находит много отличий, значит, он испытывает сильнейший стрес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мотрите на картинку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сли Вы нашли в дельфинах более двух отличий, то Вам срочно надо в отпус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A8CD-5716-40A6-A75A-B5FA16E9C3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7797-9040-465F-BDEC-EBBC38CE67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меете ли вы справляться со стрессом?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0-3 оч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Вы умеете владеть собой и, вероятно, вполне счастл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4-7 оч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8 и более очк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069D-D333-4AB2-8A51-83F9AEC751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ецепты для поднятия жизненного тонус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Медитация и аутотренин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Четкое распределение времени на работу и отдых 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Горячий шоколад, пушистый плед, удобное кресло и старая любимая книжка (лучше детская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Хорошее вино, шоколад, орехи и страстный любовник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6074-7080-4759-B1C4-120754FC2D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Сон, столько сколько хочется и еще немножк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порт до изнемож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Баня. Настоящая русская баня, с парилкой, вениками и прыжками в сугро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C6B0-2459-41C3-B3B3-FF96E0940B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Умей спокойно относиться к тому, чего не в силах измени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н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024A-BE65-4D9F-A01A-148AFB7366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ТАКОЕ СТРЕС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состояние напряжения, возникающее у человека под влиянием сильных воздействий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0625-F5A5-4912-8E24-BA56D6C46CF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 на рабо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моц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стре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рационный стресс (реакция организма на хирургическую операцию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травматический стресс, возникающий вследствие перенесенной травмы и.т.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6C23-71AA-40D1-829C-D166FEC9713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ет быть стрессор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9935-6B07-4140-9BCC-993275CE54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7FB5-859F-4D6A-9334-A24F1170983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стадия тревоги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2BF5-56B0-49CD-91C4-8A58EE4BA49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тор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тадия сопротивлен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E690-493D-453B-B8F0-A80C9A9AD6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EF69-4957-4027-AC34-79E8971CEE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тья (стадия истощен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дствия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8847-C776-43EA-87AC-EADBC8AFD9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DB8-EFCA-4D98-A1F5-BEFA7307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2DD-695C-4D97-A2BA-F689244B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DA0-ABF4-4F87-8BAE-68E6CFE1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AA8-6F9B-4DF1-B174-1EB1163C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BFF9-3BFD-4158-B851-EB98F7CC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5A25-10B4-4ECF-A28D-355D1C92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0EE5-C503-4B5A-92FE-7CCF4AAE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200D-5DE7-4B1D-9F53-9A49BDE1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388B-422F-4325-81C9-C8AFCB16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9EE3-2868-49ED-ADCB-704807DC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F69C-34C5-46DF-AAAF-7FB12449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6FD-105A-4343-8DF9-F66FA213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5582-8E24-407C-9E6D-17AD366E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175F-B9C6-4F4A-8E8E-0EDB67E6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2030-2A79-4DE8-A9B8-9F6501C5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0C1B-E2FF-4913-8703-ED29E273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4E2C-3488-4107-AA4C-C014FF52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08382-C41C-4E94-8A37-F61ADC45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4E1D7-B696-4560-950A-EBBD3627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36F0F-37E4-469E-B8B4-9A4057BA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7ACD7-E31F-4D82-BAD2-EAF7F31D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9DE2E-E7B6-4FB7-89AF-A706A1D3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CF2-9297-4A0A-93D6-8571E8FE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4A863-16B3-418A-9BFC-37AF395C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93032-13BC-4959-BD0F-B6538F93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91CE7-3376-4B36-B409-A877654E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E38E7-4042-4041-A010-D26668A6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A9BD6-364D-4101-8F2F-8CF03BBA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76D87-5171-42F6-9264-A4256B36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9294B-0AE0-4F88-B19A-7DDDECDB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E95FA-6200-4671-B471-376472CB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70440-0EB4-4312-83F1-4E6E486F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26ED8-BFB0-48D5-AC8E-99BFF3BE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B8B-4451-474B-A480-59BD5853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3AE61-C5BB-408D-8AAF-B0592A81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C833B-82BB-4DC1-B22F-9C9E5061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4F8E0-7AF3-4E60-94E3-DC080CEB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D944F-3926-41FF-946A-0CDA6310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528518-E096-454C-B39F-5CE22116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BBC3D-BB66-47D9-A4F9-010924C2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16044-C662-4DB3-AF32-892FA665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3DAE4-89E6-4EFB-B894-54F5A8D1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ED6A44-5B1A-420D-BCBD-7AB04027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EBA-2BA4-47A1-B288-C33EA9C9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B474-44B3-4512-B50F-76F22FAE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713-FA7C-467F-A09B-9CFA092E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A42-FCE7-4436-85C6-61C90A4C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0A95-D202-4BF0-B888-2B0755AC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B108-C8DB-462E-8ED4-97081F3F4D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42EF-E4ED-4F8B-BC48-607A2232B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674A-E860-4AD8-B455-4C26572D5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70AF-EA98-4314-BD8F-25496AECA2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91880"/>
            <a:ext cx="816264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3e3ff"/>
                </a:solidFill>
                <a:latin typeface="Arial"/>
              </a:rPr>
              <a:t>Стресс, стресс!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3" name="Picture 6" descr="360"/>
          <p:cNvPicPr/>
          <p:nvPr/>
        </p:nvPicPr>
        <p:blipFill>
          <a:blip r:embed="rId1"/>
          <a:stretch/>
        </p:blipFill>
        <p:spPr>
          <a:xfrm>
            <a:off x="3075120" y="1922400"/>
            <a:ext cx="5186160" cy="3654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468360" y="2417400"/>
            <a:ext cx="266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переводе с английского stress - давление, нажим, напряжение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Два вида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оложи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Отрица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надолго выбивает из колеи и заметно подрывает здоровь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Основные симпто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ассеянн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вышенная возбудим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стоянная усталост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теря чувства юмор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езкое увеличение количества  выкуриваемых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гарет, с одновременно появившим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трастием к алкогол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опажа сна и аппетит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худшение памяти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ногда возможны, так называе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сихосоматические» боли в области головы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ны, желудк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11" descr="1174238951_wetcat_03"/>
          <p:cNvPicPr/>
          <p:nvPr/>
        </p:nvPicPr>
        <p:blipFill>
          <a:blip r:embed="rId1"/>
          <a:stretch/>
        </p:blipFill>
        <p:spPr>
          <a:xfrm>
            <a:off x="5292720" y="1628640"/>
            <a:ext cx="3557520" cy="388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4"/>
          <p:cNvSpPr/>
          <p:nvPr/>
        </p:nvSpPr>
        <p:spPr>
          <a:xfrm>
            <a:off x="684360" y="836640"/>
            <a:ext cx="431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Индикатор стрес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чала прочитайте, а потом смотрите на картин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фото изображены два дельфина, выпрыгивающих из вод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человек находит много отличий, значит, он испытывает сильнейший стресс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мотрите на картинк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Вы нашли в дельфинах более двух отличий, то Вам срочно надо в отпус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533680" y="523800"/>
            <a:ext cx="4208400" cy="600084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0640" y="333000"/>
            <a:ext cx="8163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ЕСТ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268280"/>
          <a:ext cx="8229600" cy="5477040"/>
        </p:xfrm>
        <a:graphic>
          <a:graphicData uri="http://schemas.openxmlformats.org/drawingml/2006/table">
            <a:tbl>
              <a:tblPr/>
              <a:tblGrid>
                <a:gridCol w="5407200"/>
                <a:gridCol w="931680"/>
                <a:gridCol w="932040"/>
                <a:gridCol w="9586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ас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ед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ник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чувствую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ам могу сделать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еня охватывает чувство безнадежности.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. Я способен расслабиться в стрессовой ситуации, не прибегая для этого к успокоительным таблетка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ли бы я испытывал очень сильный стресс, я бы обязательно обратился за помощью к специалист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6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клонен к гру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7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не хотелось бы стать кем-нибудь други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. Мне хотелось бы оказаться где-нибудь в другом мест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  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легко расстраиваюс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</a:tbl>
          </a:graphicData>
        </a:graphic>
      </p:graphicFrame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9920"/>
            <a:ext cx="8163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«Умеете ли вы справляться со стрессом?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0-3 оч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Вы умеете владеть собой и, вероятно, вполне счаст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4-7 очк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8 и более оч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ецепты для поднятия жизненного тонуса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Медитация и аутотренинг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Четкое распределение времени на работу и отдых 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Горячий шоколад, пушистый плед, удобное кресло и старая любимая книжка (лучше детская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Хорошее вино, шоколад, орехи и страстный любовник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508720" y="1600200"/>
            <a:ext cx="3178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330840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8675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Сон, столько сколько хочется и еще немножк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порт до изнеможени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 Баня. Настоящая русская баня, с парилкой, вениками и прыжками в сугро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4000" y="691920"/>
            <a:ext cx="765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"Умей спокойно относиться к тому, чего не в силах изменить"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ене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73612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ЧТО ТАКОЕ СТРЕСС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состояние напряжения, возникающее у человека под влиянием сильных воздействий;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есс на рабо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моц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логический стр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ерационный стресс (реакция организма на хирургическую операцию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травматический стресс, возникающий вследствие перенесенной травмы и.т.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Что может быть стрессоро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2"/>
          <p:cNvSpPr txBox="1"/>
          <p:nvPr/>
        </p:nvSpPr>
        <p:spPr>
          <a:xfrm>
            <a:off x="1523880" y="91440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2000" spc="1" strike="noStrike">
              <a:ln w="9360">
                <a:solidFill>
                  <a:srgbClr val="333399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226" name="Picture 3" descr="j0282740"/>
          <p:cNvPicPr/>
          <p:nvPr/>
        </p:nvPicPr>
        <p:blipFill>
          <a:blip r:embed="rId1"/>
          <a:stretch/>
        </p:blipFill>
        <p:spPr>
          <a:xfrm>
            <a:off x="4932360" y="20606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grafick_stressa"/>
          <p:cNvPicPr/>
          <p:nvPr/>
        </p:nvPicPr>
        <p:blipFill>
          <a:blip r:embed="rId2"/>
          <a:stretch/>
        </p:blipFill>
        <p:spPr>
          <a:xfrm>
            <a:off x="611280" y="2421000"/>
            <a:ext cx="4735440" cy="3249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j0282752"/>
          <p:cNvPicPr/>
          <p:nvPr/>
        </p:nvPicPr>
        <p:blipFill>
          <a:blip r:embed="rId1"/>
          <a:stretch/>
        </p:blipFill>
        <p:spPr>
          <a:xfrm>
            <a:off x="4648320" y="1712880"/>
            <a:ext cx="4038480" cy="4268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ерв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тревоги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Втор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сопротивления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0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j0282737"/>
          <p:cNvPicPr/>
          <p:nvPr/>
        </p:nvPicPr>
        <p:blipFill>
          <a:blip r:embed="rId1"/>
          <a:stretch/>
        </p:blipFill>
        <p:spPr>
          <a:xfrm>
            <a:off x="4651200" y="1714680"/>
            <a:ext cx="4035600" cy="4265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ретья (стадия истощения)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59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28616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j0282742"/>
          <p:cNvPicPr/>
          <p:nvPr/>
        </p:nvPicPr>
        <p:blipFill>
          <a:blip r:embed="rId1"/>
          <a:stretch/>
        </p:blipFill>
        <p:spPr>
          <a:xfrm>
            <a:off x="6400800" y="1828800"/>
            <a:ext cx="1538280" cy="41911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Последствия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i-tmb-0x" descr="i?id=9177747&amp;tov=5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31096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8:59:49Z</dcterms:created>
  <dc:creator>Esoyan L.Z.</dc:creator>
  <dc:description/>
  <dc:language>en-US</dc:language>
  <cp:lastModifiedBy>LEGION</cp:lastModifiedBy>
  <dcterms:modified xsi:type="dcterms:W3CDTF">2015-02-13T11:04:26Z</dcterms:modified>
  <cp:revision>20</cp:revision>
  <dc:subject/>
  <dc:title>Презентация PowerPoint</dc:title>
</cp:coreProperties>
</file>