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195D-0B5F-4A23-BD3B-15DDED366F7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. Структура заболеваемости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8EDB-9415-451F-90BD-A6335EBBE9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ификация болезней, травм и причин смерти (МКБ-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которы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и паразитарные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Нов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крови, кроветворных органов и отдельные нарушения, вовлекшие иммунный мех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эндокринной системы, расстройства питания и нарушение обмена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Психические расстройства и расстройства п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нервной системы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глаза и его придаточного аппар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уха и сосцевидного отро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системы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органов дых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- Болезни органов пищева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кожи и подкожной клетч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костно – мышечной системы и соединительной 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мочеполо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 –  Отдельные состояния, возникающие в перинатальны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Врожденные аномалии (пороки развития), деформации и хромосомные 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Симптомы, признаки и отклонения от нормы, выявленные при клинических и лабораторных исследованиях, не классифицированные в других рубри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Травмы, отравления и некоторые другие последствия воздействия внешних пр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внешние причины заболеваемости и смер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Факторы, влияющие на состояние здоровья населения и обращения в учреждения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0405-52B5-4771-AF0C-C59FDD1DA2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 вида заболеваемости (По  Ю. В. Лисицын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заболеваемость – это совокупность новых, нигде  ранее не учтенных и в первые в данном году выявленных среди населения заболеваний. По терминологии Минздрава – это общая впервые выявленная заболевае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общая заболеваемость – это первичная заболеваемость плюс заболевания, выявленные в прошлом году, по поводу которых обратились в данном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ность – общая заболеваемость или болезненность – это совокупность все имеющихся среди населения заболеваний, впервые выявленных как в данном году, так и в предыдущие годы. По существу , это накопленная заболеваемость, т.е все случаи зарегистрированных заболеваний за ряд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0223-837C-4523-87B1-29F4A427C8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всего 4, из них 2 основных, 2 дополнительных. Основные: обращаемость, медицинские осмотры. Дополнительные: по причинам смерти, по данным комплексных социально – гигиенических и клинико – социальны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3549-0104-4697-A237-59BFC353C8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ещение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аждый визит больного к врачу или врача к больному. Визит больного к врачу регистрируется с помощью талона на прием к врачу, визит врача к больному регистрируется в журнале вызовов врача на дом. На каждого жителя в год в городе сейчас приходится около 9 посещений. Посещаемость – это показатель объема медицинск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CE88-D149-4C3F-83C0-68889ADFEA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щение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ервое посещение врача по повду данного заболевания, регистрируется с помощью статистического талона уточненного диагноза, в котором ставится знак «+», если диагноз заболевания установлен впервые, и не ставится никакого знака, если по поводу данного заболевания пациент уже обращался ран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EB68-A689-4E7E-80CF-9CFBFCB1F2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причинам смертности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: врачебное свидетельство о смерти; врачебное свидетельство о перинатальной и младенческой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е требование: правильно указать причину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льдшерская справка не может быть использов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5057-4DE9-405F-9731-FF8D244CA5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ке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аллам;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м субъективного сравнения со здоровьем других лиц данного возраста и пола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8C00-29FE-4BE3-A309-8DE7C71834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ы заболеваемости по обращаемос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– все случаи первичных посещений в амбулаторно – поликлинические учреждения. Учетная форма – статистический талон уточненных диагноз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инфекционная заболеваемость. Учетная форма – экстренное извещение об инфекционном заболев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 важнейшими неэпидемическими заболеваниями. Учетная форма – специальное извещение, которое заполняется в случае установления диагноза туберкулеза, онкологического и венерического заболе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питализированная заболеваемость. Учетная форма – карта выбывшего из стациона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 с временной утратой трудоспособности. Учетная форма – больничный ли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D0E9-1B26-4F56-BB9E-D6B982F232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болеваемость по обращае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учении заболеваемости по обращаемости показатели рассчитываются обычно на 1000 человек, иногда на 10000 и на 100000 человек. Заболеваемость  с временной утратой трудоспособности принято рассчитывать на 100 работающих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о используют 4 группы показате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уровень первичной заболеваемости за год на 100 ч-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уровень первичной общей заболеваемости на 1000 ч-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труктура заболевае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ратность заболеваний – число заболеваний на 1 ч-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A410-F6B1-4F1D-A7C5-42163045C5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болеваемость по обращае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различных авторов, общая первичная заболеваемость по обращаемости в разные годы колеблется в пределах от 1000 до 1400 случаев на 1000 городского населения, причем для жителей сельской местности этот показатель несколько ниже и составляет 800-1000 случаев. Исследование середины 60 – х годов заболеваемости по обращаемости население пяти городов , расположенных в различных экономико – географических районах ( Ступино, Челябинск, Дзержинск, Копейск, Рубежное),определило заболеваемость 1275 у мужчин, 1315 – у женщ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9620-877D-4DE0-95B7-259B991509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 – ведущий показатель общественного здоровья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.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заболеваемости взрослого населения как показатель общественного здоровья.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7D4F-30C4-4DDF-9128-90EDB02A07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бликованные данные показывают, что смертность мужчин не только в целом , но и во всех возрастных группах выше по сравнению с женщинами. Так, если смертность мужчин в 1997г составила 15,0, то у женщин 12,7. Отмечается и большая интенсивность роста показателя среди мужчин в сравнении с женщинами. Только за последние 3 года показатель общей смертности у мужчин увеличился в 1,5 раза, а женщин – в 1,25 раза. Наибольший разрыв в показателях смертности мужчин и женщин выявляется в возрасте от 20 – 34 лет, когда смертность мужчин превышает тот же показатель у женщин в 4,0 – 4,5 раза. В дальнейшем с увеличением возраста различие в показателях сокращ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BF70-9E0F-421F-9F94-50564E0D71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структуры причин смерти дает наиболее полное представление о состоянии здоровья населения, отражает эффективность мероприятий, проводимых органами и учреждениями здравоохранения и государства в целом по оздоровлению населения. В течении ХХ века в экономически развитых странах произошли значительные изменения структуры смертности населения. Так , если в начале века инфекционные заболевания были одной из ведущих причин смерти, то в последнее время их доля составляет не более 2 %. В то же время в структуре причин смерти ведущее место в настоящее время принадлежит болезням системы кровообращения, несчастным случаям, новообразованиям, т.е. хроническим неэпидемическим заболевания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939B-930E-4184-82D2-19F6002B87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ABEE-D6BB-4ED4-BC40-AF5E41361E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причин смертности населения России  болезни системы кровообращения не только превалирует , но и имеет тенденцию к росту. Так если в 1990 г на эту причину приходилось 617,4 случая, то в 1999 г их число увеличилось до 815,7 случая на 100000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93F1-A171-4112-AC68-CA1922550A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последние 20 лет отмечен рост смертности от несчастных случаев, отравлений и травм почти в 2 раза в сравнении с 1980 г. Эти причины заняли 3-е место в структуре смертно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 за последние 5 лет возрастает смертность практически от всех прич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FEAA-E547-4198-B75E-5BDA8E7DCC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ое значение для претворен6ия в жизнь медико – социальных профилактических мероприятий, направленных на снижение смертности, имеет сравнительный анализ причин смертности мужчин и женщин , особенно в трудоспособном возра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47BC-CD25-4916-BE87-6A2DF99967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 мужчин в несколько раз выше по сравнению с женщинами как в целом, так и по основным причинам: болезни органов дыхания – в 6 раз; несчастные случаи, отравления и травмы – более чем в 5 раз; болезни системы кровообращения – в 4.5 раза; болезни органов пищеварения – почти в 3.5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24D1-A968-4BD8-8DC5-A433BB87C1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 в целом в нашей стране значительно выше, чем  в других странах; В 2-5 раза выше от ишемической болезни сердца, в 1.5-2 раза от злокачественных опухолей и особенно от несчастных случаев, инфекционны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8F05-260C-40B3-A2A5-DADE11C18F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впервые классифицировали боле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МКБ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году МКБ была впервые сформулирована? Как она называла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году была утверждена МКБ – 10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МКБ вступила в действ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3 основных вида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источники информации о заболеваемости? Какие из них основные, а какие дополнительны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виды заболеваемости по обращ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2 метода существуют в изучении общей заболеваем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5 болезней и поражений являются основными причинами смертей в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2414-B0C9-4AE3-957F-03F83BB11A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Кита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–  международная классификация болезней - это система группировки болезней и патологических состояний, отражающая современный этап развития медицинской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была впервые сформулирована в 1893 г как Классификация Бертильона (известный                                                    французский статистик) или Международный перечень причин смер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-10 утверждена 43-й сессией ВОЗ в 198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– 10 вступила в силу с 01.01.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заболеваемость; Первичная общая заболеваемость;  Распростран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источников 4, из них 2 основных, 2 дополнительных. Основные: обращаемость, медицинские осмотры ( посещение). Дополнительные: по причинам смерти, анке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болеваемости по обращаем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; острая инфекционная заболеваемость; заболеваемость важнейшими неэпидемическими заболеваниями; госпитализированная заболеваемость; заболеваемость с временной утратой трудоспособ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два метода  в изучении общей заболеваемости: сплошной и выборочный (более экономичны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375D-B995-4E41-AAB9-09AC321180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БОЛЕВАЕМОСТЬ – ВЕДУЩИЙ ПОКАЗАТЕЛЬ ОБЩЕСТВЕННОГО ЗДОРОВ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заболеваемости отражают реальную картину жизни населения и позволяют разрабатывать меры по охране и улучшению здоровья населения в общественном масшта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4A35-14B4-4D34-A9FF-2A786F61F1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БОЛЕВАЕМОСТЬ – ВЕДУЩИЙ ПОКАЗАТЕЛЬ ОБЩЕСТВЕННОГО ЗДОРОВ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, структура болезней, наши знания о них (этиология, патогенез) отражают классификации заболеваний, травм, которые периодически пересматри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893C-7879-432B-89A2-32E659D6EC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татистическая классификация болезней (МКБ) – это система группировки болезней и патологических состояний, отражающая современный этап развития медицинской науки. Это – система рубрик, в которые конкретные нозологические единицы включены с принятыми критер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1CC7-1FD3-4C48-9A3C-3C4F86196E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была впервые сформулирована в 1893 г как Классификация Бертильона (известный французский статистик) или Международный перечень причин смер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имеру МКБ созданы частные классификации (для отраслей и отдельных групп заболеваний). Таким образом, создана концепция «семьи» классификаций, в центре которой находится традиционная МКБ с присущими ей формами и структурами. Сама МКБ удовлетворяет потребности  в диагностической информации для общих целей, а дополнительные классификации можно использовать в сочетании с ней с учетом разных подходов к информации, особенно в плане терапевтических или хирургических процедур инвалид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2710-83AD-4DD3-BCB6-2CA7CA230F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рная Организация Здравоохранения производит пересмотр Международной   классификации болезней ( МКБ ) каждые 10 лет, чтобы привести ее в соответствии с уровнем знаний. В 1985 году состоялся 10 пересмотр, внесены изменения. Однако на практике еще не редко используют  МКБ 9-го пересмотра. В МКБ 9-го пересмотра 17 классов и 999 рубрик- названий болезней. Это два больших тома : в одном – сама классификация, в другом – название болезней по алфави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8300-562B-440C-9B17-98D22EF7F6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построена по 4 принципам. Первый принцип – принцип этиологии. По нему был построен 1 класс – «Инфекционные и паразитарные заболевания» и 17 класс – «Несчастные случаи, отравления, травмы». Второй принцип  - принцип патогенеза. По нему построен 2 класс – «Новообразования». Третий принцип – принцип локализации. По нему построено большинство классов: болезни органов дыхания, пищеварения, мочевой системы и др. Четвертый принцип – принцип общности особых состояний. Это 11 класс- « Осложнение беременности, родов и плодового период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63C7-3F86-4106-A611-EAC074B8F4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ификация болезней, травм и причин смерти (МКБ-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ласс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и паразитарные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ласс – Нов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ласс – Болезни эндокринной системы, расстройства питания и нарушение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класс – Болезни крови и кроветворн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класс – Психические расстр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 – Болезни нервной системы  и органов чув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ласс – Болезни органов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 – Болезни органов дых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 – Болезни органов пищева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 – Болезни мочеполо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 класс - Осложнения беременности, родов и послеродового пери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 класс – Болезни кожи и подкожной клетч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 класс – Болезни костно – мышечной системы и соединительной 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 класс – Врожденные аномалии, порок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 класс – Некоторые причины перинатальной заболеваемости и смертности, отдельные состояния, возникающие в перинаталь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класс  – Симптомы, признаки и неточно обозначенные 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 класс – Несчастные случаи, отравления и 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1EEE-AA06-4284-9BC6-0C8B6925BC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D888-425C-4C94-AB2F-9DD90105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B110-BF00-4C3B-B0A3-3B4690C2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44FA7-361D-4618-A1BC-BDF5483C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C5DCD-0287-4979-97DA-45005759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C7AC2-DD3B-4768-9CA0-A2BBF095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ACDE1-9F96-4BCF-98A4-DE009D6D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4F59F-ECBD-47F8-AC09-C7E88DDF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02B28-5F1A-455F-AE41-4888E5B1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E697C-4111-415F-8B57-99554725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DE568-300F-419E-BBEC-111FC878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6FE23-D1DC-46FF-9847-0F0741BC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FDDF-0FF4-4A5C-8E89-F9033FFF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02D-317E-467E-AEFC-A2AD11F3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C0D5-4808-4AF0-A142-64ADF32D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A4F5-3C2F-4ED0-A57F-7FA9E3AD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86C4-778D-452D-936E-F19CC06F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2B3B-9C4F-4098-A1EE-8B85F49F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A60E-D24E-46C4-9803-9E10E0A7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B905-5AD9-4E42-A6BE-7730ABE0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53D6-1152-4B6F-9F3C-CAC45181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BC0C-24C1-4C1A-B15F-20F0A74D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2FEC-4003-4EAE-9021-9D3DF641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053D-48BE-4C54-97D2-8D5359CC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4296-E11C-477F-8D02-BDEED04A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A25A-AF84-42D7-BF83-197C1B0D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99AE-9013-4240-997B-EDF330DD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719C5-D8D2-44E1-AB32-A74B0176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06E2F-88C5-40B1-83AA-25A78590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09E26-410C-4DEC-92AD-48546A36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B3A15-47E6-4DB4-9A48-76F4E6CE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BB155-DD8F-45C8-B154-033F1522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7440-ECF2-4550-99E0-9187DDAA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56DCE-9C0A-42A3-AC91-ABD56DD8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B8F13-45BD-4B91-B5BC-023F68CF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CAC00-8A26-4319-9EF5-4FBB3C26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8BD55-6AD3-45E5-8A0D-4D873D9E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A547B-99E8-4D9C-AE5F-C08FADD5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6CFEE-3955-4CB4-92AD-30D6A8E2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FA40D-4994-421C-BB09-7D340310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D4B24-9E37-4720-98B4-CF0EA67D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5BC59-C8BB-4036-8F71-91DB5F09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B917F-3D67-4737-BEFC-5DC65E5E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570D-D338-412C-8706-CA836223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1DF56-053B-4787-AD56-33BDFF8F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EB699-FE15-4D30-A553-A1DB0955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84A56-6071-4EFC-BF46-A849005B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B0030-494B-422E-85C8-C2F4F445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53114-9008-4B41-B6BC-F2A6EA40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AF48E-DBF2-4A39-8A7F-3A6E76D1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2C591-33BC-4E51-994B-5500544C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80045-36D5-4535-9186-AADE22E5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D0148-3153-4118-8F42-6682B36C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8D845-946B-4985-9DCA-D88030CC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910-2AF4-461F-BF28-C6D497A5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27DE1-7A09-4F26-83C1-2E0A5FC5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928BD-DDF4-440F-A9EC-60872A9D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C88E9-BE88-4C2E-AED6-8234350D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27830-6B36-4CE7-808D-5538643E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21D02-4C7D-4BCD-A016-0444C9F6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5E3EB-74B2-4BF9-B830-9A201C72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10886-2762-4D2A-AE2C-63F74611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DEC89-912F-44C9-876E-C8D39099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432EF-FFFD-4D38-8194-3C6ACA5A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8FDDF-2CC2-4B64-AECD-C407B6F6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714-6810-403B-BA9B-131CD7A5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10603-D631-4BB3-BC42-4BD7E633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D46D8-0008-42DB-85C9-B57F8ABE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C2864-A0B2-485F-A0FC-9B7D6216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43ECE-E351-401F-B954-50D08709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7825D-A592-434D-8CD1-AF04B2E3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88501-01B1-4CC9-9097-FC54647C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CB048-13F1-4F02-BBAE-FF13E2C7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F50D8-FAD4-457F-8FCE-010BBB14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D6D62-E735-4E7E-9566-E164F0E6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F7FDC-0771-4477-B84F-0420F2B1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51A6-C3B1-4E16-843A-875FE493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1FB3B-D67F-4F80-985D-64406F4B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99876-299E-4561-8197-D7DB6BA7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1B31F-D670-4A4B-A941-214A7FCF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CFF13-4DCF-43EE-97E8-8D90D555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B9539-C822-4EE2-A2D5-542C8F3A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108CB-70B9-4067-8A1F-22C2CDD0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259FE-BC10-46B3-9BDD-C63B552E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875DA-08BE-4DCC-B023-1E69F47F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F06FF-970C-41BE-880F-2FAC2F53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5AC19-C9E8-4EEF-8720-BFCA476A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7CC4-5FDA-4D62-B31F-E1F77B35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EF736-C929-43D2-A7D3-47B799C3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0DD85-81D0-404E-BBAD-379DFC6D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D47AA-4F75-4FFE-A949-5C516360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BE7AB-62E3-4AD4-BD3F-B185EC6F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66B19-A2EB-43C6-BA9C-12C793F8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CE01F-0CC3-4551-9B16-A9231F83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1FDD8-2CA7-4552-BAFE-D46CC2CA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02DEC-059D-4BDA-941C-451704A1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62948-F0D7-4424-9285-0A62C8E4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D1B1A-BD22-46BA-A920-9D3C52F9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4E06-C378-4960-AF42-A6758B27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1084B-FC28-4F9E-A145-A9D45E11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CD3DE-273E-488E-B299-BDA29D53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E8B9C-F720-4A2D-B127-7CEE4628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99710-1759-4AFB-901B-F5C7CED8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6991A-2856-4169-AA05-2B16D782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EBC67-6788-4596-8670-5D8047DB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CEC35-4553-472B-A8AB-290800B5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A3E83-D56B-4495-A8AE-6871554B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8859C-C570-4906-A244-5502AB5C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0947E-B39B-4D16-8B4D-BF5BF310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 сполучна ліні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F8C1-BDA2-40B8-937F-AD2767318F9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 сполучна ліні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 сполучна ліні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 сполучна ліні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B44D-BEAF-4797-91FF-3351084EB96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 сполучна ліні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 сполучна ліні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 сполучна ліні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6FF5-0C06-4712-9033-16385888108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 сполучна ліні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CE5D-976E-4E32-8B13-7A8B4FA5DC4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 сполучна ліні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1EFF-0D2E-4F23-BA8C-6FD9B70DE11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EE0F-991E-4E90-93D6-74A7D08A30B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 сполучна ліні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79EC-044F-4FA9-81EF-A6BA64AA97F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E5CA-969C-4FF8-887A-539604F1560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5DE9-0171-4E02-99BE-720BE6A92C2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AutoShap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лассификация болезней. Структура заболеваемости населения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AutoShape 2" descr=""/>
          <p:cNvPicPr/>
          <p:nvPr/>
        </p:nvPicPr>
        <p:blipFill>
          <a:blip r:embed="rId1"/>
          <a:stretch/>
        </p:blipFill>
        <p:spPr>
          <a:xfrm>
            <a:off x="171360" y="328680"/>
            <a:ext cx="8820360" cy="12319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</a:t>
            </a:r>
            <a:r>
              <a:rPr b="0" i="1" lang="ru-RU" sz="1200" spc="-1" strike="noStrike">
                <a:solidFill>
                  <a:srgbClr val="4e3b30"/>
                </a:solidFill>
                <a:latin typeface="Franklin Gothic Book"/>
              </a:rPr>
              <a:t>-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Некоторые</a:t>
            </a:r>
            <a:r>
              <a:rPr b="0" i="1" lang="ru-RU" sz="1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инфекционные и паразитарные болезн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Новообразова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крови, кроветворных органов и отдельные нарушения, вовлекшие иммунный механизм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эндокринной системы, расстройства питания и нарушение обмена веществ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Психические расстройства и расстройства повед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нервной системы 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глаза и его придаточного аппарата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уха и сосцевидного отростка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системы кровообращ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органов дыха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- Болезни органов пищевар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кожи и подкожной клетчатк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костно – мышечной системы и соединительной ткан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мочеполовой системы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еременность, роды и послеродовой период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 –  Отдельные состояния, возникающие в перинатальный период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Врожденные аномалии (пороки развития), деформации и хромосомные наруш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Симптомы, признаки и отклонения от нормы, выявленные при клинических и лабораторных исследованиях, не классифицированные в других рубриках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Травмы, отравления и некоторые другие последствия воздействия внешних причин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внешние причины заболеваемости и смертност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X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Факторы, влияющие на состояние здоровья населения и обращения в учреждения здравоохранения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вичная заболеваемость – это совокупность новых, нигде  ранее не учтенных и в первые в данном году выявленных среди населения заболеваний. По терминологии Минздрава – это общая впервые выявленная заболеваемость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вичная общая заболеваемость – это первичная заболеваемость плюс заболевания, выявленные в прошлом году, по поводу которых обратились в данном году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Распространенность – общая заболеваемость или болезненность – это совокупность все имеющихся среди населения заболеваний, впервые выявленных как в данном году, так и в предыдущие годы. По существу , это накопленная заболеваемость, т.е все случаи зарегистрированных заболеваний за ряд лет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х всего 4, из них 2 основных, 2 дополнительных. Основные: обращаемость, медицинские осмотры. Дополнительные: по причинам смерти, по данным комплексных социально – гигиенических и клинико – социальных исследований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Посещение –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то каждый визит больного к врачу или врача к больному. Визит больного к врачу регистрируется с помощью талона на прием к врачу, визит врача к больному регистрируется в журнале вызовов врача на дом. На каждого жителя в год в городе сейчас приходится около 9 посещений. Посещаемость – это показатель объема медицинской помощ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Обращение –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это первое посещение врача по повду данного заболевания, регистрируется с помощью статистического талона уточненного диагноза, в котором ставится знак «+», если диагноз заболевания установлен впервые, и не ставится никакого знака, если по поводу данного заболевания пациент уже обращался ранее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о причинам смертности.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окументы: врачебное свидетельство о смерти; врачебное свидетельство о перинатальной и младенческой смер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лавное требование: правильно указать причину смер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Фельдшерская справка не может быть использована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Анкетировани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 баллам;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утем субъективного сравнения со здоровьем других лиц данного возраста и пола.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бщая – все случаи первичных посещений в амбулаторно – поликлинические учреждения. Учетная форма – статистический талон уточненных диагнозов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страя инфекционная заболеваемость. Учетная форма – экстренное извещение об инфекционном заболевании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аболеваемость важнейшими неэпидемическими заболеваниями. Учетная форма – специальное извещение, которое заполняется в случае установления диагноза туберкулеза, онкологического и венерического заболевания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госпитализированная заболеваемость. Учетная форма – карта выбывшего из стационара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аболеваемость с временной утратой трудоспособности. Учетная форма – больничный лист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AutoShape 2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и изучении заболеваемости по обращаемости показатели рассчитываются обычно на 1000 человек, иногда на 10000 и на 100000 человек. Заболеваемость  с временной утратой трудоспособности принято рассчитывать на 100 работающих в год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Наиболее часто используют 4 группы показателей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1.уровень первичной заболеваемости за год на 100 ч-к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2.уровень первичной общей заболеваемости на 1000 ч-к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3.структура заболеваемост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4. Кратность заболеваний – число заболеваний на 1 ч-к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utoShape 2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 данным различных авторов, общая первичная заболеваемость по обращаемости в разные годы колеблется в пределах от 1000 до 1400 случаев на 1000 городского населения, причем для жителей сельской местности этот показатель несколько ниже и составляет 800-1000 случаев. Исследование середины 60 – х годов заболеваемости по обращаемости население пяти городов , расположенных в различных экономико – географических районах ( Ступино, Челябинск, Дзержинск, Копейск, Рубежное),определило заболеваемость 1275 у мужчин, 1315 – у женщин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AutoShap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болеваемость – ведущий показатель общественного здоровья.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лассификация болезней.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Источники информации о заболеваемости.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труктура заболеваемости взрослого населения как показатель общественного здоровья.            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Литератур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публикованные данные показывают, что смертность мужчин не только в целом , но и во всех возрастных группах выше по сравнению с женщинами. Так, если смертность мужчин в 1997г составила 15,0, то у женщин 12,7. Отмечается и большая интенсивность роста показателя среди мужчин в сравнении с женщинами. Только за последние 3 года показатель общей смертности у мужчин увеличился в 1,5 раза, а женщин – в 1,25 раза. Наибольший разрыв в показателях смертности мужчин и женщин выявляется в возрасте от 20 – 34 лет, когда смертность мужчин превышает тот же показатель у женщин в 4,0 – 4,5 раза. В дальнейшем с увеличением возраста различие в показателях сокращает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Изучение структуры причин смерти дает наиболее полное представление о состоянии здоровья населения, отражает эффективность мероприятий, проводимых органами и учреждениями здравоохранения и государства в целом по оздоровлению населения. В течении ХХ века в экономически развитых странах произошли значительные изменения структуры смертности населения. Так , если в начале века инфекционные заболевания были одной из ведущих причин смерти, то в последнее время их доля составляет не более 2 %. В то же время в структуре причин смерти ведущее место в настоящее время принадлежит болезням системы кровообращения, несчастным случаям, новообразованиям, т.е. хроническим неэпидемическим заболеваниям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и причин смертности населения России  болезни системы кровообращения не только превалирует , но и имеет тенденцию к росту. Так если в 1990 г на эту причину приходилось 617,4 случая, то в 1999 г их число увеличилось до 815,7 случая на 100000 насел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 последние 20 лет отмечен рост смертности от несчастных случаев, отравлений и травм почти в 2 раза в сравнении с 1980 г. Эти причины заняли 3-е место в структуре смертности насел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целом за последние 5 лет возрастает смертность практически от всех причи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ущественное значение для претворен6ия в жизнь медико – социальных профилактических мероприятий, направленных на снижение смертности, имеет сравнительный анализ причин смертности мужчин и женщин , особенно в трудоспособном возраст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мертность мужчин в несколько раз выше по сравнению с женщинами как в целом, так и по основным причинам: болезни органов дыхания – в 6 раз; несчастные случаи, отравления и травмы – более чем в 5 раз; болезни системы кровообращения – в 4.5 раза; болезни органов пищеварения – почти в 3.5 раз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мертность в целом в нашей стране значительно выше, чем  в других странах; В 2-5 раза выше от ишемической болезни сердца, в 1.5-2 раза от злокачественных опухолей и особенно от несчастных случаев, инфекционных заболевани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Где впервые классифицировали болезни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то такое МКБ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каком году МКБ была впервые сформулирована? Как она называлась?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каком году была утверждена МКБ – 10?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огда МКБ вступила в действие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Назовите 3 основных вида заболеваемост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аковы источники информации о заболеваемости? Какие из них основные, а какие дополнительные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ечислите виды заболеваемости по обращаемост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акие 2 метода существуют в изучении общей заболеваемости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акие 5 болезней и поражений являются основными причинами смертей в России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AutoShape 2" descr=""/>
          <p:cNvPicPr/>
          <p:nvPr/>
        </p:nvPicPr>
        <p:blipFill>
          <a:blip r:embed="rId1"/>
          <a:stretch/>
        </p:blipFill>
        <p:spPr>
          <a:xfrm>
            <a:off x="225360" y="457200"/>
            <a:ext cx="8766360" cy="100008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Древний Китай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 –  международная классификация болезней - это система группировки болезней и патологических состояний, отражающая современный этап развития медицинской науки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 была впервые сформулирована в 1893 г как Классификация Бертильона (известный                                                    французский статистик) или Международный перечень причин смертности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-10 утверждена 43-й сессией ВОЗ в 1989г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 – 10 вступила в силу с 01.01.93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Первичная заболеваемость; Первичная общая заболеваемость;  Распространенность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Всего источников 4, из них 2 основных, 2 дополнительных. Основные: обращаемость, медицинские осмотры ( посещение). Дополнительные: по причинам смерти, анкетирование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           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Виды заболеваемости по обращаемости: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общая; острая инфекционная заболеваемость; заболеваемость важнейшими неэпидемическими заболеваниями; госпитализированная заболеваемость; заболеваемость с временной утратой трудоспособности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Существует два метода  в изучении общей заболеваемости: сплошной и выборочный (более экономичный)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AutoShape 7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783640" cy="10173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казатели заболеваемости отражают реальную картину жизни населения и позволяют разрабатывать меры по охране и улучшению здоровья населения в общественном масштаб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AutoShape 2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783640" cy="10173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Характер, структура болезней, наши знания о них (этиология, патогенез) отражают классификации заболеваний, травм, которые периодически пересматриваются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еждународная статистическая классификация болезней (МКБ) – это система группировки болезней и патологических состояний, отражающая современный этап развития медицинской науки. Это – система рубрик, в которые конкретные нозологические единицы включены с принятыми критерия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КБ была впервые сформулирована в 1893 г как Классификация Бертильона (известный французский статистик) или Международный перечень причин смерт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 примеру МКБ созданы частные классификации (для отраслей и отдельных групп заболеваний). Таким образом, создана концепция «семьи» классификаций, в центре которой находится традиционная МКБ с присущими ей формами и структурами. Сама МКБ удовлетворяет потребности  в диагностической информации для общих целей, а дополнительные классификации можно использовать в сочетании с ней с учетом разных подходов к информации, особенно в плане терапевтических или хирургических процедур инвалид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семирная Организация Здравоохранения производит пересмотр Международной   классификации болезней ( МКБ ) каждые 10 лет, чтобы привести ее в соответствии с уровнем знаний. В 1985 году состоялся 10 пересмотр, внесены изменения. Однако на практике еще не редко используют  МКБ 9-го пересмотра. В МКБ 9-го пересмотра 17 классов и 999 рубрик- названий болезней. Это два больших тома : в одном – сама классификация, в другом – название болезней по алфавиту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КБ построена по 4 принципам. Первый принцип – принцип этиологии. По нему был построен 1 класс – «Инфекционные и паразитарные заболевания» и 17 класс – «Несчастные случаи, отравления, травмы». Второй принцип  - принцип патогенеза. По нему построен 2 класс – «Новообразования». Третий принцип – принцип локализации. По нему построено большинство классов: болезни органов дыхания, пищеварения, мочевой системы и др. Четвертый принцип – принцип общности особых состояний. Это 11 класс- « Осложнение беременности, родов и плодового периода»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AutoShape 2" descr=""/>
          <p:cNvPicPr/>
          <p:nvPr/>
        </p:nvPicPr>
        <p:blipFill>
          <a:blip r:embed="rId1"/>
          <a:stretch/>
        </p:blipFill>
        <p:spPr>
          <a:xfrm>
            <a:off x="171360" y="328680"/>
            <a:ext cx="8820360" cy="12319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 класс </a:t>
            </a:r>
            <a:r>
              <a:rPr b="0" i="1" lang="ru-RU" sz="1400" spc="-1" strike="noStrike">
                <a:solidFill>
                  <a:srgbClr val="4e3b30"/>
                </a:solidFill>
                <a:latin typeface="Franklin Gothic Book"/>
              </a:rPr>
              <a:t>- </a:t>
            </a: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Инфекционные и паразитарные болезн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2 класс – Новообразова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3 класс – Болезни эндокринной системы, расстройства питания и нарушение обмен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4 класс – Болезни крови и кроветворных органов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5 класс – Психические расстройств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6 класс – Болезни нервной системы  и органов чувств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7 класс – Болезни органов кровообраще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8 класс – Болезни органов дыха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9 класс – Болезни органов пищеваре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0 класс – Болезни мочеполовой системы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1 класс - Осложнения беременности, родов и послеродового период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2 класс – Болезни кожи и подкожной клетчатк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3 класс – Болезни костно – мышечной системы и соединительной ткан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4 класс – Врожденные аномалии, пороки развит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5 класс – Некоторые причины перинатальной заболеваемости и смертности, отдельные состояния, возникающие в перинатальном периоде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6 класс  – Симптомы, признаки и неточно обозначенные состоя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7 класс – Несчастные случаи, отравления и травмы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2:24:56Z</dcterms:created>
  <dc:creator>User</dc:creator>
  <dc:description/>
  <dc:language>en-US</dc:language>
  <cp:lastModifiedBy>RomaK</cp:lastModifiedBy>
  <dcterms:modified xsi:type="dcterms:W3CDTF">2014-10-31T12:56:57Z</dcterms:modified>
  <cp:revision>10</cp:revision>
  <dc:subject/>
  <dc:title>ЗАБОЛЕВАЕМОСТЬ – ВЕДУЩИЙ ПОКАЗАТЕЛЬ ОБЩЕСТВЕННОГО ЗДОРОВЬЯ</dc:title>
</cp:coreProperties>
</file>