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8353-00AD-40E2-9257-CD7AE683C4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Структура заболеваем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24BE-559E-4FFD-8D75-23D8C1026C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котор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нервной 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1A68-6D8A-4F00-9C97-2EBBA4F72F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вида заболеваемости (По  Ю. В. Лисицын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2082-C5C5-4B78-AA92-9CC9766E3C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5ADC-D562-4B34-913E-7A1A871F6D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4CF5-55EB-44F0-B46D-048A27628C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6369-F5A8-4D9A-A78D-2F1B272FBE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чинам смертност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требование: правильно указать причину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льдшерская справка не может быть использ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FB10-4524-43B0-AAE5-593E1755D5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аллам;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субъективного сравнения со здоровьем других лиц данного возраста и пола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CD1A-DC32-4225-A6B3-957D9DE71C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питализированная заболеваемость. Учетная форма – карта выбывшего из стациона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65C2-32A2-49B1-B433-24323D6ACE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о используют 4 группы показа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уровень первичной заболеваемости за год на 100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ровень первичной общей заболеваемости на 1000 ч-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уктура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ратность заболеваний – число заболеваний на 1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4097-E136-4F12-AA26-D7D82DAFC7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1321-F62F-43B6-BFE1-0505AC3CA7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CD55-E44D-49B0-9CF4-4265938EC0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0568-95F7-465E-B3A3-F1FAA5A141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E25D-99E2-4FD9-A5F1-E8F1A53D16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E4DD-127C-44F6-9DA1-B02F6B4C2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7D28-F4EC-416B-854C-75517D5C94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за последние 5 лет возрастает смертность практически от всех пр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12E6-6632-4AA3-A3EE-38BEC40CDC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0C6A-6753-4DBF-AFBF-C88BAE35D9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9C55-4989-4F84-A57E-87ECBAF018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5D6A-692B-4248-BBA1-B74D30BC43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впервые классифицировали боле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МКБ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МКБ была впервые сформулирована? Как она называла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была утверждена МКБ – 1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МКБ вступила в дей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3 основных вида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виды заболеваемости по обращ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2 метода существуют в изучении общей заболеваем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5 болезней и поражений являются основными причинами смертей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F5E6-4FB9-4038-9F19-F8745BAA2B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Кит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10 вступила в силу с 01.01.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796B-0FE5-41D9-B97F-BCC32D6685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6FD4-5379-4F08-A534-0E6B6FD2B4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91E3-5AC6-48D3-81C3-105C66A862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8924-FDA9-45A7-B180-81A1C285E8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0145-7C19-4313-8DA2-ED35801452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A917-FF84-4FAB-A178-36CB43FB79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9F6B-1FC5-47EA-85B9-709D4B3753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Болезни эндокринной системы, расстройства питания и нарушение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 – Болезни крови и кроветвор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ласс – Психические расстр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 – Болезни нервной системы  и органов чув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 – Болезни органов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 –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 - Осложнения беременности, родов и послерод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 класс – Врожденные аномалии, порок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класс  – Симптомы, признаки и неточно обозначенные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класс – Несчастные случаи, отравления и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8B03-D75E-4980-B3C9-97738F87F5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1345-F796-4A94-B929-ABBA6A89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F13-A9CE-4481-A321-29B53F78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B7707-6FC5-4D1C-A183-8FDEA743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B6F40-4F48-439A-8ED8-E45016EE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A8C18-9C60-46B2-B637-A85C12BB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BA389-E53D-4E67-AB08-D42E0C94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13230-AF7B-4502-AA30-3BB93F3A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06E7E-A477-440D-A0E3-B6B755E8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336F0-E948-47FC-ABE4-D288F13C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8820E-92A2-411E-8BA6-945D2CAA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DBFD5-38D0-404A-BD99-DC4DC18B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EC1-F2C3-4B14-BE63-EA2BCC35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8FB-543D-4B74-93F8-ABE9EE22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EC46-E88F-467E-B931-F2EC62EA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18FB-ABEE-4159-BFE7-4E8A6ABE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A6BF-3D0C-4589-8444-E888F6D1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8BC5-5435-423F-A74C-52D2EDB0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F816-89E0-4573-9457-087C929F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6CE7-9A49-4425-9B91-9F9B713D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9EF1-B85F-4BB4-BEC8-A338724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F60-78BE-4FAC-9938-6A2FD26B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9496-39DD-4426-AC2F-763DF8FB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D25F-320E-4215-A5CD-1A84F29C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81E2-A853-44BA-984E-07346E9D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749E-9725-4802-A025-EB93E424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ABCF-F146-46B9-BE5D-353E6B54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A9BD-F074-44E1-AE04-4710E0C9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4E48-3CF2-4791-91CC-A52C4B3D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2416-1E75-4AEA-91E7-2E02362C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A453-F61D-45A1-ACFF-1599BDD2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8746-3103-451F-867A-C8D7F65D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531-E83A-4A76-90B1-7ACDC133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6A8B-87AA-47A9-AC76-C919D6AB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B0D7-8B64-4E92-928A-7B4E7C4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78D8-5BEC-41B6-BDE7-0EEA428A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0B42-5784-4529-8D00-ABFB5960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DCBC-FE4E-46C9-AD59-58D3DA1C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278BC-9277-49A9-8A39-952FCB45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9B73-0084-487D-80BF-C7B830D1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9457-165C-4874-B075-4668F0AB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58659-CBE2-4A88-8959-9D43A73B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113F7-80D2-48C2-97EC-4461E9A9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843-0041-4233-A0F9-C2AFFE3A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6BBE-659A-490D-98DC-24D165D0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EDBD-229B-4592-9677-22B1A2B4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61579-F14A-40FE-81AE-94B06041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4EE9-DC06-4603-886E-7B3AEF0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5FD1-B007-4E19-8265-BEAC56FC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14103-A37E-460C-BFB9-AF2FD08C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F1596-B2FF-4DEC-9713-7BE29486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9A04B-3A3B-4498-B891-886EE1F5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DBAA3-FE56-4D95-9009-D31784EB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7B776-2FA3-438D-8BAA-E6822CDB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58A-3AAC-4C90-ACB8-42287198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9F528-38C6-433E-886E-9EA85FCE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CF7EF-328E-4C69-8156-D15880BC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E5D71-3401-4E6C-A769-A7941E9B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1548-3F86-4B23-AEF6-909DCE78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A1A4E-630A-492B-BE51-1D18F9FD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01FB8-5CEF-4539-9F77-E20293E1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6C598-CB32-4E03-B4BA-07D6A26A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EE18F-628B-4F96-A38D-E56FCADB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55B0D-EDD6-4368-86C4-C6530958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04348-E98D-4F25-888C-C5366416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262-3B3D-4159-9DB8-4A55FF04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9B762-D9A1-4B9E-94D7-A9A39B43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E4864-D8C8-4E06-B011-7DD52413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4DA1C-D787-4A26-9E8F-173469FD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CBF16-5F43-4049-9D29-6D945AFC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5ED29-01D8-4122-B2D4-18E5E459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1D3D8-28A1-4BC3-9B74-26248607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72A1B-6FD7-45B6-BE32-9AC4A1DD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B039E-33CB-495E-835E-8D1652E8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FA146-8616-4F7E-A98D-664C5F11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FE1FB-16CD-4685-AACF-093715A3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9D9-8B63-489E-9C06-62D46BC3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F95DF-9B0F-4A0E-9C5A-6284FB90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86580-E9DC-4536-A63D-997609CF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C9624-4733-4FF3-B28D-64603926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C47E3-CDDC-44B6-BAE1-F110744E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1F1C0-5810-4212-87C6-22EEA326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09B47-797B-46AC-B1C6-1EEF368C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6F82D-4549-4B83-A7A9-907F49E2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BF541-6201-456E-93FA-284AE91B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15AAC-A760-4EE1-9C38-52E0F408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03BD2-A920-4506-AB5D-978F45B0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A19-A36E-4AD8-9CFE-E1D24A47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7BF47-2870-4D9C-B141-4EC1D124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03DBD-A04E-41B9-A5B6-5EB79D34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10927-A0F1-4643-B976-141B579D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BAF47-F70E-44AA-879A-4E578706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913D-2222-4A65-8943-47928A6E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98DD9-21E2-41E2-AA9B-575573C7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BA481-98B2-4A3E-BFDB-11576823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8BE4F-6755-49BC-9895-6AE23114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835E9-F802-4B14-9396-8191ADAE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CFCAB-0961-4860-AD0C-FBB43EEE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465-A6C9-47A6-A1FE-9191E535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CB68E-CD24-425F-9D5A-652553C9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0E856-9277-4415-B2EA-3298ED6C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95EB6-AFC0-4F7F-9950-2490C85C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0D2C7-2040-40FC-A7C0-A144676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BC80E-2580-4ADB-BB60-3F8C20D6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53C73-EA13-4523-A505-355C2E25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02284-2825-4D9A-ABD3-2CBE5529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16A5E-855F-4E44-AAC8-C39D246E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40137-B10F-4ADD-9C61-EE71B517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F9A5F-A6DA-4DEC-8524-CE68054C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C972-C77F-4ECF-BD21-17F4D2A563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4FED-7E3A-4C80-A8D6-B0A46E35E7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3443-EBC6-4F39-B1CC-64B4C724882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D758-A814-4208-BE5A-3D29638D1D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F946-6F68-4278-AFD9-37352B26B72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3872-15A1-4EAD-9F28-B0AF135FE3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8927-375A-4CD5-BE6C-5A3E83F7E0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39A0-9AA6-425A-BD6D-8CA22D1652A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9563-CEE1-4710-A419-8F0274F24F1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Структура заболеваемости насел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Некоторые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Новообразов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нервной системы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органов дых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сещение –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бращение –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 причинам смертности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лавное требование: правильно указать причину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ельдшерская справка не может быть использован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нкетирова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баллам;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утем субъективного сравнения со здоровьем других лиц данного возраста и пола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оспитализированная заболеваемость. Учетная форма – карта выбывшего из стационар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иболее часто используют 4 группы показателей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.уровень первичной заболеваемости за год на 100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.уровень первичной общей заболеваемости на 1000 ч-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.структура заболеваемост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. Кратность заболеваний – число заболеваний на 1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болеваемость – ведущий показатель общественного здоровья.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сточники информации о заболеваемости.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Литератур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целом за последние 5 лет возрастает смертность практически от всех прич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де впервые классифицировали болезн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то такое МКБ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МКБ была впервые сформулирована? Как она называлась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была утверждена МКБ – 10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огда МКБ вступила в действи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зовите 3 основных вида заболев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ечислите виды заболеваемости по обращ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2 метода существуют в изучении общей заболеваемост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5 болезней и поражений являются основными причинами смертей в Росси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AutoShape 2" descr=""/>
          <p:cNvPicPr/>
          <p:nvPr/>
        </p:nvPicPr>
        <p:blipFill>
          <a:blip r:embed="rId1"/>
          <a:stretch/>
        </p:blipFill>
        <p:spPr>
          <a:xfrm>
            <a:off x="225360" y="457200"/>
            <a:ext cx="8766360" cy="10000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Древний Китай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10 вступила в силу с 01.01.93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AutoShape 7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AutoShape 2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 класс </a:t>
            </a:r>
            <a:r>
              <a:rPr b="0" i="1" lang="ru-RU" sz="14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2 класс – Новообразов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3 класс – Болезни эндокринной системы, расстройства питания и нарушение обмен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4 класс – Болезни крови и кроветворных органо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5 класс – Психические расстройств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6 класс – Болезни нервной системы  и органов чувст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7 класс – Болезни органов кровообращ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8 класс – Болезни органов дых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9 класс – Болезни органов пищевар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0 класс – Болезни мочеполовой систе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1 класс - Осложнения беременности, родов и послеродового период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2 класс – Болезни кожи и подкожной клетчатк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3 класс – Болезни костно – мышечной системы и соединительной тка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4 класс – Врожденные аномалии, пороки развит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6 класс  – Симптомы, признаки и неточно обозначенные состоя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7 класс – Несчастные случаи, отравления и трав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2:24:56Z</dcterms:created>
  <dc:creator>User</dc:creator>
  <dc:description/>
  <dc:language>en-US</dc:language>
  <cp:lastModifiedBy>RomaK</cp:lastModifiedBy>
  <dcterms:modified xsi:type="dcterms:W3CDTF">2014-10-31T12:56:57Z</dcterms:modified>
  <cp:revision>10</cp:revision>
  <dc:subject/>
  <dc:title>ЗАБОЛЕВАЕМОСТЬ – ВЕДУЩИЙ ПОКАЗАТЕЛЬ ОБЩЕСТВЕННОГО ЗДОРОВЬЯ</dc:title>
</cp:coreProperties>
</file>