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CD8F-6916-4489-8226-2AD95BDF167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1200"/>
            </a:b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1200"/>
            </a:b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2400"/>
            </a:br>
            <a:br>
              <a:rPr sz="2400"/>
            </a:br>
            <a:br>
              <a:rPr sz="1100"/>
            </a:br>
            <a:br>
              <a:rPr sz="11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207E-6761-4FE6-8E3B-6696E3961A9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CE70-6A8D-4121-B82E-4145CEEA037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A5DC-7C2D-4174-9FAB-5D51B0BBB2A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B28C-EAFE-4AAF-B629-893ABBA9EF2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0B52-CAC7-4D1F-8019-BE057F67F4A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BB05-9ED4-4E31-B395-6A05EB104B9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96F1-4212-4BE6-93EA-BD231090EF2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1CA-F506-41C4-A519-AF7169F2B21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EC8-0011-4FC4-96BD-1FBECFA438F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5001-F4B3-48FB-8DCE-8DD6748A6D9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21B6-4235-49C8-9109-E4157279B26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5CF4-34BD-420A-AA8D-068454B4B87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DFAD-EC1F-4D88-966F-F068CCB50EC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4559-B190-435F-9604-3805E2EEF0F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A7EC-9339-44E8-9668-AD9EFAD3EFC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D9BE-C5A0-41DE-8849-8D89C1BB090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ACB1-6462-42E6-9E47-13057DAC39D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4124-AB73-4104-9144-55F45D67670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9BA6-D816-481D-9601-50A839B85EB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1814-C721-4B54-A2DE-4BBA371F030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52AB-E37C-4075-B9E0-D5CB46C86F7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C796-3DEE-47C0-BB70-8A4615E695E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0403-89BD-4ACB-9530-E303B6184F0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1AFA-E22E-4DE1-B691-266AFA46D00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EE21-EDFE-4CE4-AB06-74708051E34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3BD7-A05A-47B7-80D4-92993263323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70F8-EB69-4E4D-86A1-265B83227E9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A0D-B069-4321-96F1-63AD9451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255-FDC6-4A22-B07F-49380C31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209-434A-4917-8235-40482B63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01F-A685-4B84-9B2B-11B8936A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2C3-DB47-460F-9B6A-6FEF3718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1D1-F3B3-4633-97B7-4AF0123B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4D3-602A-43BF-965E-E7B24DA6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81F-8D1F-4242-81E0-BECFBC1F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69D-C631-4F33-BC99-4C50E2EE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264-9854-4A10-9004-352084AC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897-3A13-422D-B105-5202A34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AFB-9C3B-48B0-BC34-B7314B0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F74B-411C-44E0-B56E-0F38CA4295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4B74-5982-48FB-9A69-4A99B024DE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582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резентация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Тема:</a:t>
            </a:r>
            <a:br>
              <a:rPr sz="4000"/>
            </a:b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Цирроз печени»</a:t>
            </a:r>
            <a:br>
              <a:rPr sz="5400"/>
            </a:br>
            <a:br>
              <a:rPr sz="5400"/>
            </a:br>
            <a:br>
              <a:rPr sz="2800"/>
            </a:b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2643120" y="2714760"/>
            <a:ext cx="4024440" cy="35719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5ee6"/>
                </a:solidFill>
                <a:latin typeface="Calibri"/>
              </a:rPr>
              <a:t>Клин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исит от этиологии, от степени нарушения функции печени и выраженности синдромов портальной гипертензии и печёночной недостаточ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лобы: на боли в правом подреберье и подложечной области, усиливающиеся после еды(жирной, острой) и физических нагруз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шнота, периодическая рвота, чувство сухости и горечи во рту, общая слабость, утомляемость, раздражительность, кожный зуд, похудание. У женщин – нарушение менструального цикла. У мужчин – нарушение потен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714240" y="285840"/>
            <a:ext cx="7929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ъективно: исхудание, вплоть до истощения, атрофия мускулатуры , кожа желтушно-бледная, суха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ожет быть расширение вен передней брюшной стенки, увеличение живота, выпячивание пупка, отёки нижних конечностей. Сердцебиение, глухость сердечных тонов, аритмия, одышка, повышение артериального давл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 фоне цирроза печени развивается хронический гастрит, язвенная болезнь, сахарный диабет, нарушается функция половых желез, надпочечников и развивается токсическая энцефалопатия. Она проявляется нарушением сна, головными болями, снижением памяти, дрожанием пальцев рук, апат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ечень при пальпации плотная, увеличена в размерах, с острым краем. На поздних стадиях цирроза может быть уменьшена в размера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2560"/>
            <a:ext cx="56865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Часто при циррозе развиваются ослож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овотечения из расширенных вен пищевода, или геморроидальных уз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печеночной недостаточности с исходом в печеночную к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ичная бактериальная инфекция (тяжелая пневмония, сепсис, перитон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ход цирроза печени в р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ocuments and Settings\Admin\Рабочий стол\Новая папка\i[11].jpg"/>
          <p:cNvPicPr/>
          <p:nvPr/>
        </p:nvPicPr>
        <p:blipFill>
          <a:blip r:embed="rId1"/>
          <a:stretch/>
        </p:blipFill>
        <p:spPr>
          <a:xfrm>
            <a:off x="6286680" y="2214720"/>
            <a:ext cx="28573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5ee6"/>
                </a:solidFill>
                <a:latin typeface="Calibri"/>
              </a:rPr>
              <a:t>Диагностика цирроза печен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49976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К – анемия, тромбоцитопения, лейкопения, увеличение СОЭ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АМ – протеинурия, микрогематурия,  билирубин в моч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мунологический анали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:\Documents and Settings\Admin\Рабочий стол\Новая папка\3YFZKCA02QLDTCALXCO7RCAO07E6YCAH1AJF0CAPFQ6IYCA0MD2FSCAMT2GO4CAYHAB10CAEM8XEHCACQS9ATCAYWC5CRCAZN9L0BCA12JIU0CAPBC1MOCAXTC0D8CANM4666CAM12J1LCAZ24MJ5CAARC7FN.jpg"/>
          <p:cNvPicPr/>
          <p:nvPr/>
        </p:nvPicPr>
        <p:blipFill>
          <a:blip r:embed="rId1"/>
          <a:stretch/>
        </p:blipFill>
        <p:spPr>
          <a:xfrm>
            <a:off x="6715080" y="392904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dmin\Рабочий стол\Новая папка\CHRSUCA859NR4CA7MAGTQCA4XCZH0CAE0AS4MCAEG5G7ZCA3TSXFJCAN3U7OZCA37WOOPCAWTH0PMCA2GLPOZCA36LS3LCASVEB76CAI09S12CASE3ZDOCA53BHMLCA67HE32CACKPZF2CAO8PTHFCAS95PTF.jpg"/>
          <p:cNvPicPr/>
          <p:nvPr/>
        </p:nvPicPr>
        <p:blipFill>
          <a:blip r:embed="rId2"/>
          <a:stretch/>
        </p:blipFill>
        <p:spPr>
          <a:xfrm>
            <a:off x="6858000" y="1285920"/>
            <a:ext cx="2085840" cy="15717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Маркёры вирусной инфекц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  Биохимическое исследование крови – гипербилирубинемия, диспротеинемия, за счет увеличения количества глобулинов. Повышение уровня осадочных проб – сулемовая, тимоловая. Повышение уровня трансаминаз – Ал-Ат, Ас-Ат, и щелочной фосфат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Calibri"/>
              </a:rPr>
              <a:t>Инструментальные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13920"/>
            <a:ext cx="5757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И печени и желчного пузыря(выявляется неравномерность ткани печени, увеличение размер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ая томография органов брюшной пол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стр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лоноско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:\Documents and Settings\Admin\Рабочий стол\Новая папка\p97[1].jpg"/>
          <p:cNvPicPr/>
          <p:nvPr/>
        </p:nvPicPr>
        <p:blipFill>
          <a:blip r:embed="rId1"/>
          <a:stretch/>
        </p:blipFill>
        <p:spPr>
          <a:xfrm>
            <a:off x="6429240" y="1000080"/>
            <a:ext cx="2357640" cy="2071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ункционная биопсия печени с последующим гистологическим исследованием, может проводиться во время лапароскопии или чрезкожно.  Позволяет судить об активности процесса и является важным дифференциальным критерием для отличия хронического гепатита от цирроза печ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:\Documents and Settings\Admin\Рабочий стол\Новая папка\WHUVGCANTV7S7CAOJANVPCA8WRMVMCAB3TTQHCALN563HCAUDA1R8CAPPBPI4CAGAZSN1CAGDD0I1CAS2FMYDCAE34JK5CABYV9S0CALGRY3TCAL7NFL2CAKHKIYTCAONTVMPCAJBCNHUCAVR9I85CAG3UGF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55920" cy="25005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043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Calibri"/>
              </a:rPr>
              <a:t>Лече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buClr>
                <a:srgbClr val="166cb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6cba"/>
                </a:solidFill>
                <a:latin typeface="Calibri"/>
              </a:rPr>
              <a:t>Лечебный режим. Исключается работа с физическими и психоэмоциональными нагрузками. Показан кратковременный отдых в течении дня. Исключаются гепатотоксические препараты, физиолечение и бальниолечение. В период обострения – постельный режи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2. Лечебное питание – диета № 5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Исключаются: жирные сорта мяса и рыбы, жареные блюда, копчености,  солёные и острые закуски, бобовые, щавель, шпинат, свежие фрукты, крепкий кофе, алкоголь, газированные напи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3. Противовирусное  лечение: проводиться при гепатите в фазу размножения вируса и предупреждает развитие цирроза и рака печени. Интерфероны в течении 6 месяцев (Интерферон А, Велферон, Роферон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1420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Цирроз печени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это хронический прогрессирующий процесс в печени, характеризующийся  значительным снижением количества функционирующих гепатоцитов, нарастанием фиброза, перестройкой нормальной структуры печени и развитием печёночной недостаточности и портальной гипертензи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4. Патогенетическое лечение: кортикостероиды, цитостат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5. Иммуномоделирующая терапия оказывает стимулирующее и нормализующее действие  на иммунную систему: Тималин,                 Д-пенициллин, Тимоген, Т-актив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166c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66cba"/>
                </a:solidFill>
                <a:latin typeface="Calibri"/>
              </a:rPr>
              <a:t>6. Метаболическая и коферментная терапия направлена на улучшение процессов обмена в печеночных клетках. Поливитаминные комплексы: Декамевит, Ундевит, Дуовит, витамин Е, Рибоксин, Эссенциал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7. Дезинтоксикационная терапия: Гемодез внутривенно-капельно, 5% глюкоза. Энтеросорбенты – Лактофильтрум, Фильтрум, Энтеросг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28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8. Гепатопротекторы: Корсил, Легалон, Катерг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6cba"/>
                </a:solidFill>
                <a:latin typeface="Calibri"/>
              </a:rPr>
              <a:t>9.  Лечение кровотечений из расширенных вен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6cba"/>
                </a:solidFill>
                <a:latin typeface="Calibri"/>
              </a:rPr>
              <a:t>10. Лечение отёчно-асцитического синдрома при циррозе, вначале – Верошпирон, Альдиктон, а затем в сочетании их с Урегитом, Гипотиазидом, Фуросемид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35720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Первичная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вирусного гепатита, эффективное лечение острого вирусного гепатита, рациональное питание, контроль за приёмом лекарственных препаратов, борьба с алкоголизмом, наркоман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:\Documents and Settings\Admin\Рабочий стол\Новая папка\i[2].jpg"/>
          <p:cNvPicPr/>
          <p:nvPr/>
        </p:nvPicPr>
        <p:blipFill>
          <a:blip r:embed="rId1"/>
          <a:stretch/>
        </p:blipFill>
        <p:spPr>
          <a:xfrm>
            <a:off x="6786720" y="3814920"/>
            <a:ext cx="2143080" cy="30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:\Documents and Settings\Admin\Рабочий стол\YLZSKCAGWDMHFCAN4DN4WCARUK6A7CA1QNARJCASNDQTACAM46ZR3CAGMNCHLCA90XFFACA1Z0AHOCAWCV01FCACOPAZFCAB6PV6CCAFUR588CAF8QK4ICA0J6D0ICAE2BY75CA4T46JHCA3PS653CAPB70J5.jpg"/>
          <p:cNvPicPr/>
          <p:nvPr/>
        </p:nvPicPr>
        <p:blipFill>
          <a:blip r:embed="rId2"/>
          <a:stretch/>
        </p:blipFill>
        <p:spPr>
          <a:xfrm>
            <a:off x="1143000" y="4518000"/>
            <a:ext cx="3571920" cy="2340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858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Вторичная: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филактика обострений заболевания. Ограничение физических нагрузок, правильное трудоустройство. Лечебное питание, лечение сопутствующих заболеваний ЖК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7172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ециальность 060101 «Лечебное дел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циплина «Терапия» 4 курс 7 семес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:\Documents and Settings\Admin\Рабочий стол\Новая папка\4aaf356adeb6[1].jpg"/>
          <p:cNvPicPr/>
          <p:nvPr/>
        </p:nvPicPr>
        <p:blipFill>
          <a:blip r:embed="rId1"/>
          <a:stretch/>
        </p:blipFill>
        <p:spPr>
          <a:xfrm>
            <a:off x="1857240" y="1785960"/>
            <a:ext cx="5024520" cy="4737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571680" y="4287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Calibri"/>
              </a:rPr>
              <a:t>При циррозе всегда нарушается дольковая структу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ee6"/>
                </a:solidFill>
                <a:latin typeface="Calibri"/>
              </a:rPr>
              <a:t>Этиолог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000080"/>
            <a:ext cx="6286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чины развития соответствуют причинам хронического гепати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Также цирроз печени может сформироваться на фоне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струкции желчных путей, и внутри- и внепечёночных.(врождённые пороки развития    желчевыводящих пут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фоне длительного венозного застоя в печени при хронической сердечной недостаточности(кардиальный цирроз печен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Documents and Settings\Admin\Рабочий стол\Новая папка\5M061CAJRNS5PCAO051ESCAC8DIVNCA57SSE9CAIEJG46CALK8EUSCATJHW0ICABAI9RWCAUDCG6NCA9A7SXGCA2EARDMCAHO6RLCCAKSX2SVCAEMZ98VCAZRS6AKCAT4D7ELCA5C5YGWCARRFSISCAVO2VAS.jpg"/>
          <p:cNvPicPr/>
          <p:nvPr/>
        </p:nvPicPr>
        <p:blipFill>
          <a:blip r:embed="rId1"/>
          <a:stretch/>
        </p:blipFill>
        <p:spPr>
          <a:xfrm>
            <a:off x="6492960" y="2143080"/>
            <a:ext cx="2565360" cy="24289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5ee6"/>
                </a:solidFill>
                <a:latin typeface="Calibri"/>
              </a:rPr>
              <a:t>Патоген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фактором является гибель печёночных клеток. На месте погибших клеток образуются рубцы и нарушается ток крови в до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дукты распада клеток стимулируют воспалительную реакцию. В результате нарушаются все функции печени и кровоснабжения печёночных клеток, так как плотная соединительная ткань механически сдавливает сосуды печени, в результате начинает развиваться синдром портальной гипертен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начале затрудняется венозный кровоток в самой печени, затем происходит венозный застой и варикозное расширение вен пищевода, кишечника, прямой кишки и передней брюшной стенки. Впоследствии начинает развиваться асцит и как осложнение – кровотечение из варикозно расширенных в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3399"/>
                </a:solidFill>
                <a:uFillTx/>
                <a:latin typeface="Calibri"/>
              </a:rPr>
              <a:t>Классификация циррозов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этиоло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ирус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лкого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утоимму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токс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ген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арди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холеста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ортальной гипертенз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дия 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началь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выраженной декомпенс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дии печёночной недостаточ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убкомпенсирова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декомпенсированная(вплоть до развития печёночной комы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ивность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активная ф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ре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ние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медленн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быстро прогрессирующ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стабиль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5:32Z</dcterms:created>
  <dc:creator>Admin</dc:creator>
  <dc:description/>
  <dc:language>en-US</dc:language>
  <cp:lastModifiedBy>LEGION</cp:lastModifiedBy>
  <dcterms:modified xsi:type="dcterms:W3CDTF">2015-02-13T11:06:12Z</dcterms:modified>
  <cp:revision>52</cp:revision>
  <dc:subject/>
  <dc:title>Презентация на тему: «Хронический гепатит и цирроз печени» </dc:title>
</cp:coreProperties>
</file>