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C5407-DDA5-433C-9F1F-1C89D3D7DD8F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r>
              <a:rPr b="1" i="1" lang="ru-RU" sz="1200" spc="-1" strike="noStrike">
                <a:solidFill>
                  <a:srgbClr val="0070c0"/>
                </a:solidFill>
                <a:latin typeface="Calibri"/>
              </a:rPr>
              <a:t>Презентация</a:t>
            </a:r>
            <a:br>
              <a:rPr sz="1200"/>
            </a:br>
            <a:r>
              <a:rPr b="1" lang="ru-RU" sz="1200" spc="-1" strike="noStrike" u="sng">
                <a:solidFill>
                  <a:srgbClr val="ff0000"/>
                </a:solidFill>
                <a:uFillTx/>
                <a:latin typeface="Calibri"/>
              </a:rPr>
              <a:t> Тема:</a:t>
            </a:r>
            <a:br>
              <a:rPr sz="1200"/>
            </a:br>
            <a:r>
              <a:rPr b="1" i="1" lang="ru-RU" sz="3600" spc="-1" strike="noStrike">
                <a:solidFill>
                  <a:srgbClr val="7030a0"/>
                </a:solidFill>
                <a:latin typeface="Calibri"/>
              </a:rPr>
              <a:t>«Цирроз печени»</a:t>
            </a:r>
            <a:br>
              <a:rPr sz="2400"/>
            </a:br>
            <a:br>
              <a:rPr sz="2400"/>
            </a:br>
            <a:br>
              <a:rPr sz="1100"/>
            </a:br>
            <a:br>
              <a:rPr sz="11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462A8-30E5-4746-A0F3-32203099289F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a5ee6"/>
                </a:solidFill>
                <a:latin typeface="Calibri"/>
              </a:rPr>
              <a:t>Клин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висит от этиологии, от степени нарушения функции печени и выраженности синдромов портальной гипертензии и печёночной недостаточ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Жалобы: на боли в правом подреберье и подложечной области, усиливающиеся после еды(жирной, острой) и физических нагрузо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ошнота, периодическая рвота, чувство сухости и горечи во рту, общая слабость, утомляемость, раздражительность, кожный зуд, похудание. У женщин – нарушение менструального цикла. У мужчин – нарушение потен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C36D7-207E-4AB0-96A7-B77FEB1C3A05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ъективно: исхудание, вплоть до истощения, атрофия мускулатуры , кожа желтушно-бледная, сух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ожет быть расширение вен передней брюшной стенки, увеличение живота, выпячивание пупка, отёки нижних конечностей. Сердцебиение, глухость сердечных тонов, аритмия, одышка, повышение артериального дав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 фоне цирроза печени развивается хронический гастрит, язвенная болезнь, сахарный диабет, нарушается функция половых желез, надпочечников и развивается токсическая энцефалопатия. Она проявляется нарушением сна, головными болями, снижением памяти, дрожанием пальцев рук, апати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ечень при пальпации плотная, увеличена в размерах, с острым краем. На поздних стадиях цирроза может быть уменьшена в размер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54720-CD96-4D34-978E-600FC1528F32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7030a0"/>
                </a:solidFill>
                <a:uFillTx/>
                <a:latin typeface="Calibri"/>
              </a:rPr>
              <a:t>Часто при циррозе развиваются осложн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ровотечения из расширенных вен пищевода, или геморроидальных узл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звитие печеночной недостаточности с исходом в печеночную ком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торичная бактериальная инфекция (тяжелая пневмония, сепсис, перитонит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ереход цирроза печени в ра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EAE07-6879-454D-BC66-3B24D8E736FF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0a5ee6"/>
                </a:solidFill>
                <a:latin typeface="Calibri"/>
              </a:rPr>
              <a:t>Диагностика цирроза печени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АК – анемия, тромбоцитопения, лейкопения, увеличение СОЭ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АМ – протеинурия, микрогематурия,  билирубин в моч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ммунологический анализ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C6DB9-7628-4C91-9735-89C33D4CF01B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4. Маркёры вирусной инфек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5.  Биохимическое исследование крови – гипербилирубинемия, диспротеинемия, за счет увеличения количества глобулинов. Повышение уровня осадочных проб – сулемовая, тимоловая. Повышение уровня трансаминаз – Ал-Ат, Ас-Ат, и щелочной фосфатаз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46FC7-3451-4540-92D7-CEE80D85F501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Calibri"/>
              </a:rPr>
              <a:t>Инструментальные исследования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ЗИ печени и желчного пузыря(выявляется неравномерность ткани печени, увеличение размеров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мпьютерная томография органов брюшной пол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астроскоп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лоноскоп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5D68C-7311-49A1-9200-0A61346700C0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ункционная биопсия печени с последующим гистологическим исследованием, может проводиться во время лапароскопии или чрезкожно.  Позволяет судить об активности процесса и является важным дифференциальным критерием для отличия хронического гепатита от цирроза пече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DF62C-FC47-4F31-AC5E-ABAB7E7C78CF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ff"/>
                </a:solidFill>
                <a:latin typeface="Calibri"/>
              </a:rPr>
              <a:t>Лечение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166cba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66cba"/>
                </a:solidFill>
                <a:latin typeface="Calibri"/>
              </a:rPr>
              <a:t>Лечебный режим. Исключается работа с физическими и психоэмоциональными нагрузками. Показан кратковременный отдых в течении дня. Исключаются гепатотоксические препараты, физиолечение и бальниолечение. В период обострения – постельный режи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DF30B-6C85-4968-8EE9-B607049236F8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66cba"/>
                </a:solidFill>
                <a:latin typeface="Calibri"/>
              </a:rPr>
              <a:t>2. Лечебное питание – диета № 5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66cba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166cba"/>
                </a:solidFill>
                <a:latin typeface="Calibri"/>
              </a:rPr>
              <a:t>Исключаются: жирные сорта мяса и рыбы, жареные блюда, копчености,  солёные и острые закуски, бобовые, щавель, шпинат, свежие фрукты, крепкий кофе, алкоголь, газированные напит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CE921-3676-4256-8430-DEF981983C8E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66cba"/>
                </a:solidFill>
                <a:latin typeface="Calibri"/>
              </a:rPr>
              <a:t>3. Противовирусное  лечение: проводиться при гепатите в фазу размножения вируса и предупреждает развитие цирроза и рака печени. Интерфероны в течении 6 месяцев (Интерферон А, Велферон, Роферон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CFDC8-7CF4-4469-AF10-C6D0C200E1CF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0000"/>
                </a:solidFill>
                <a:uFillTx/>
                <a:latin typeface="Calibri"/>
              </a:rPr>
              <a:t>Цирроз печени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– это хронический прогрессирующий процесс в печени, характеризующийся  значительным снижением количества функционирующих гепатоцитов, нарастанием фиброза, перестройкой нормальной структуры печени и развитием печёночной недостаточности и портальной гипертенз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81832-F90E-41FE-B760-111DD6E2BFCD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66cba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166cba"/>
                </a:solidFill>
                <a:latin typeface="Calibri"/>
              </a:rPr>
              <a:t>4. Патогенетическое лечение: кортикостероиды, цитостат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66cba"/>
                </a:solidFill>
                <a:latin typeface="Calibri"/>
              </a:rPr>
              <a:t>5. Иммуномоделирующая терапия оказывает стимулирующее и нормализующее действие  на иммунную систему: Тималин,                 Д-пенициллин, Тимоген, Т-активи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63F38-4872-42A1-AE33-8A5AABA69F02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66cba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166cba"/>
                </a:solidFill>
                <a:latin typeface="Calibri"/>
              </a:rPr>
              <a:t>6. Метаболическая и коферментная терапия направлена на улучшение процессов обмена в печеночных клетках. Поливитаминные комплексы: Декамевит, Ундевит, Дуовит, витамин Е, Рибоксин, Эссенциал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AA42F-7432-4A14-8BDF-3102A250B5D2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66cba"/>
                </a:solidFill>
                <a:latin typeface="Calibri"/>
              </a:rPr>
              <a:t>7. Дезинтоксикационная терапия: Гемодез внутривенно-капельно, 5% глюкоза. Энтеросорбенты – Лактофильтрум, Фильтрум, Энтеросгел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16FF6-B8CA-46CE-B383-7FED3821293E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66cba"/>
                </a:solidFill>
                <a:latin typeface="Calibri"/>
              </a:rPr>
              <a:t>8. Гепатопротекторы: Корсил, Легалон, Катерге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66cba"/>
                </a:solidFill>
                <a:latin typeface="Calibri"/>
              </a:rPr>
              <a:t>9.  Лечение кровотечений из расширенных ве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B1A3A-6CCC-451B-AE35-18D7B534F615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66cba"/>
                </a:solidFill>
                <a:latin typeface="Calibri"/>
              </a:rPr>
              <a:t>10. Лечение отёчно-асцитического синдрома при циррозе, вначале – Верошпирон, Альдиктон, а затем в сочетании их с Урегитом, Гипотиазидом, Фуросемид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C4F93-7D36-4519-8894-B3DA0A898A5C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Профилактик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7030a0"/>
                </a:solidFill>
                <a:uFillTx/>
                <a:latin typeface="Calibri"/>
              </a:rPr>
              <a:t>Первичная: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офилактика вирусного гепатита, эффективное лечение острого вирусного гепатита, рациональное питание, контроль за приёмом лекарственных препаратов, борьба с алкоголизмом, наркомани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24950-71F6-4C54-82BA-75B3AFFF78FA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7030a0"/>
                </a:solidFill>
                <a:uFillTx/>
                <a:latin typeface="Calibri"/>
              </a:rPr>
              <a:t>Вторичная:</a:t>
            </a:r>
            <a:r>
              <a:rPr b="0" lang="ru-RU" sz="12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филактика обострений заболевания. Ограничение физических нагрузок, правильное трудоустройство. Лечебное питание, лечение сопутствующих заболеваний ЖК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1588D-29B3-4B68-910E-69D51BFA60EE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пециальность 060101 «Лечебное дело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исциплина «Терапия» 4 курс 7 семест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A8C52-D558-4FF0-A5EC-52FD771DC7E7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99"/>
                </a:solidFill>
                <a:latin typeface="Calibri"/>
              </a:rPr>
              <a:t>При циррозе всегда нарушается дольковая структу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E3AE5-9FA6-4A3C-A20C-DBA5084F00E8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a5ee6"/>
                </a:solidFill>
                <a:latin typeface="Calibri"/>
              </a:rPr>
              <a:t>Этиология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Причины развития соответствуют причинам хронического гепатита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 u="sng">
                <a:solidFill>
                  <a:srgbClr val="000000"/>
                </a:solidFill>
                <a:uFillTx/>
                <a:latin typeface="Calibri"/>
              </a:rPr>
              <a:t>Также цирроз печени может сформироваться на фоне: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1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струкции желчных путей, и внутри- и внепечёночных.(врождённые пороки развития    желчевыводящих путей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2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фоне длительного венозного застоя в печени при хронической сердечной недостаточности(кардиальный цирроз печени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AC629-7EC6-495F-B455-0A03D83FE298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a5ee6"/>
                </a:solidFill>
                <a:latin typeface="Calibri"/>
              </a:rPr>
              <a:t>Патогенез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Основным фактором является гибель печёночных клеток. На месте погибших клеток образуются рубцы и нарушается ток крови в доль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родукты распада клеток стимулируют воспалительную реакцию. В результате нарушаются все функции печени и кровоснабжения печёночных клеток, так как плотная соединительная ткань механически сдавливает сосуды печени, в результате начинает развиваться синдром портальной гипертенз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3BB6A-C864-4363-BBD3-46C655667725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начале затрудняется венозный кровоток в самой печени, затем происходит венозный застой и варикозное расширение вен пищевода, кишечника, прямой кишки и передней брюшной стенки. Впоследствии начинает развиваться асцит и как осложнение – кровотечение из варикозно расширенных ве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A78E1-E8DE-440C-A45B-3D6D4B5C74E6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ff3399"/>
                </a:solidFill>
                <a:uFillTx/>
                <a:latin typeface="Calibri"/>
              </a:rPr>
              <a:t>Классификация циррозов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99"/>
                </a:solidFill>
                <a:latin typeface="Calibri"/>
              </a:rPr>
              <a:t>1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 этиолог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вирус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алкоголь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аутоиммун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токсиче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генетиче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кардиаль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холестатиче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A82F2-227B-4196-95A1-FAC87BE150DA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99"/>
                </a:solidFill>
                <a:latin typeface="Calibri"/>
              </a:rPr>
              <a:t>2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тадии портальной гипертенз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стадия компенс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начальной декомпенс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выраженной декомпенс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99"/>
                </a:solidFill>
                <a:latin typeface="Calibri"/>
              </a:rPr>
              <a:t>3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тадии печёночной недостаточност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компенсирован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субкомпенсирован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декомпенсированная(вплоть до развития печёночной ком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BC658-E3FB-4621-BA97-8572ED00AED8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99"/>
                </a:solidFill>
                <a:latin typeface="Calibri"/>
              </a:rPr>
              <a:t>4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ктивность процесс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активная фа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ремисс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99"/>
                </a:solidFill>
                <a:latin typeface="Calibri"/>
              </a:rPr>
              <a:t>5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чение процесс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медленно прогрессирующе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быстро прогрессирующе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стабиль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1221C-88A5-4ED7-932F-44A8F7BB2A84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677C-0EE5-4102-AF92-8A9C35BAF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EEC7-93E6-46CB-949F-3FB8C2C78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3264-6DA6-4D88-B923-08BC54101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2154-1BEF-416E-A2CB-6DB2BB61C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7E11-95BC-4BCC-B296-704620D22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A577-8EA7-4015-AB9E-641FDD332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48CF-91F3-40CF-BF9C-ABCEE36F1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7959-9930-4773-9F97-B97731AB4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773F-D942-479F-9911-B36695B40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D155-850D-4D99-9D99-06D41B0A7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DC84-B78F-40D3-BADC-591D06CAB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D05D-9148-4825-B9C2-78FA85084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DFA45-4B30-483C-98A9-2B90ABACD192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5031D-7F91-4DAD-AB8C-F8D1EB06551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520" y="0"/>
            <a:ext cx="7558200" cy="292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r>
              <a:rPr b="1" i="1" lang="ru-RU" sz="3200" spc="-1" strike="noStrike">
                <a:solidFill>
                  <a:srgbClr val="0070c0"/>
                </a:solidFill>
                <a:latin typeface="Calibri"/>
              </a:rPr>
              <a:t>Презентация</a:t>
            </a:r>
            <a:br>
              <a:rPr sz="3200"/>
            </a:br>
            <a:r>
              <a:rPr b="1" lang="ru-RU" sz="3200" spc="-1" strike="noStrike" u="sng">
                <a:solidFill>
                  <a:srgbClr val="ff0000"/>
                </a:solidFill>
                <a:uFillTx/>
                <a:latin typeface="Calibri"/>
              </a:rPr>
              <a:t> Тема:</a:t>
            </a:r>
            <a:br>
              <a:rPr sz="4000"/>
            </a:br>
            <a:r>
              <a:rPr b="1" i="1" lang="ru-RU" sz="6600" spc="-1" strike="noStrike">
                <a:solidFill>
                  <a:srgbClr val="7030a0"/>
                </a:solidFill>
                <a:latin typeface="Calibri"/>
              </a:rPr>
              <a:t>«Цирроз печени»</a:t>
            </a:r>
            <a:br>
              <a:rPr sz="5400"/>
            </a:br>
            <a:br>
              <a:rPr sz="5400"/>
            </a:br>
            <a:br>
              <a:rPr sz="2800"/>
            </a:br>
            <a:br>
              <a:rPr sz="4000"/>
            </a:b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3" descr="H:\Documents and Settings\Admin\Рабочий стол\Новая папка\4aaf356adeb6[1].jpg"/>
          <p:cNvPicPr/>
          <p:nvPr/>
        </p:nvPicPr>
        <p:blipFill>
          <a:blip r:embed="rId1"/>
          <a:stretch/>
        </p:blipFill>
        <p:spPr>
          <a:xfrm>
            <a:off x="2643120" y="2714760"/>
            <a:ext cx="4024440" cy="3571920"/>
          </a:xfrm>
          <a:prstGeom prst="rect">
            <a:avLst/>
          </a:prstGeom>
          <a:ln w="0">
            <a:noFill/>
          </a:ln>
        </p:spPr>
      </p:pic>
      <p:sp>
        <p:nvSpPr>
          <p:cNvPr id="50" name="Місце для нижнього колонтитула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a5ee6"/>
                </a:solidFill>
                <a:latin typeface="Calibri"/>
              </a:rPr>
              <a:t>Клиник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00008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Зависит от этиологии, от степени нарушения функции печени и выраженности синдромов портальной гипертензии и печёночной недостаточност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Жалобы: на боли в правом подреберье и подложечной области, усиливающиеся после еды(жирной, острой) и физических нагрузок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ошнота, периодическая рвота, чувство сухости и горечи во рту, общая слабость, утомляемость, раздражительность, кожный зуд, похудание. У женщин – нарушение менструального цикла. У мужчин – нарушение потенц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7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2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7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457200" y="642600"/>
            <a:ext cx="822960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Прямоугольник 3"/>
          <p:cNvSpPr/>
          <p:nvPr/>
        </p:nvSpPr>
        <p:spPr>
          <a:xfrm>
            <a:off x="714240" y="285840"/>
            <a:ext cx="7929720" cy="61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Объективно: исхудание, вплоть до истощения, атрофия мускулатуры , кожа желтушно-бледная, сухая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Может быть расширение вен передней брюшной стенки, увеличение живота, выпячивание пупка, отёки нижних конечностей. Сердцебиение, глухость сердечных тонов, аритмия, одышка, повышение артериального давления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На фоне цирроза печени развивается хронический гастрит, язвенная болезнь, сахарный диабет, нарушается функция половых желез, надпочечников и развивается токсическая энцефалопатия. Она проявляется нарушением сна, головными болями, снижением памяти, дрожанием пальцев рук, апатией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Печень при пальпации плотная, увеличена в размерах, с острым краем. На поздних стадиях цирроза может быть уменьшена в размерах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457200" y="142560"/>
            <a:ext cx="568656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7030a0"/>
                </a:solidFill>
                <a:uFillTx/>
                <a:latin typeface="Calibri"/>
              </a:rPr>
              <a:t>Часто при циррозе развиваются осложнения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ровотечения из расширенных вен пищевода, или геморроидальных узл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азвитие печеночной недостаточности с исходом в печеночную ком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торичная бактериальная инфекция (тяжелая пневмония, сепсис, перитонит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ереход цирроза печени в рак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H:\Documents and Settings\Admin\Рабочий стол\Новая папка\i[11].jpg"/>
          <p:cNvPicPr/>
          <p:nvPr/>
        </p:nvPicPr>
        <p:blipFill>
          <a:blip r:embed="rId1"/>
          <a:stretch/>
        </p:blipFill>
        <p:spPr>
          <a:xfrm>
            <a:off x="6286680" y="2214720"/>
            <a:ext cx="2857320" cy="3143160"/>
          </a:xfrm>
          <a:prstGeom prst="rect">
            <a:avLst/>
          </a:prstGeom>
          <a:ln w="0">
            <a:noFill/>
          </a:ln>
        </p:spPr>
      </p:pic>
      <p:sp>
        <p:nvSpPr>
          <p:cNvPr id="8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a5ee6"/>
                </a:solidFill>
                <a:latin typeface="Calibri"/>
              </a:rPr>
              <a:t>Диагностика цирроза печен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6840" y="1499760"/>
            <a:ext cx="65437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ОАК – анемия, тромбоцитопения, лейкопения, увеличение СОЭ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ОАМ – протеинурия, микрогематурия,  билирубин в моч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Иммунологический анализ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2" descr="H:\Documents and Settings\Admin\Рабочий стол\Новая папка\3YFZKCA02QLDTCALXCO7RCAO07E6YCAH1AJF0CAPFQ6IYCA0MD2FSCAMT2GO4CAYHAB10CAEM8XEHCACQS9ATCAYWC5CRCAZN9L0BCA12JIU0CAPBC1MOCAXTC0D8CANM4666CAM12J1LCAZ24MJ5CAARC7FN.jpg"/>
          <p:cNvPicPr/>
          <p:nvPr/>
        </p:nvPicPr>
        <p:blipFill>
          <a:blip r:embed="rId1"/>
          <a:stretch/>
        </p:blipFill>
        <p:spPr>
          <a:xfrm>
            <a:off x="6715080" y="3929040"/>
            <a:ext cx="2071800" cy="24703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H:\Documents and Settings\Admin\Рабочий стол\Новая папка\CHRSUCA859NR4CA7MAGTQCA4XCZH0CAE0AS4MCAEG5G7ZCA3TSXFJCAN3U7OZCA37WOOPCAWTH0PMCA2GLPOZCA36LS3LCASVEB76CAI09S12CASE3ZDOCA53BHMLCA67HE32CACKPZF2CAO8PTHFCAS95PTF.jpg"/>
          <p:cNvPicPr/>
          <p:nvPr/>
        </p:nvPicPr>
        <p:blipFill>
          <a:blip r:embed="rId2"/>
          <a:stretch/>
        </p:blipFill>
        <p:spPr>
          <a:xfrm>
            <a:off x="6858000" y="1285920"/>
            <a:ext cx="2085840" cy="1571760"/>
          </a:xfrm>
          <a:prstGeom prst="rect">
            <a:avLst/>
          </a:prstGeom>
          <a:ln w="0">
            <a:noFill/>
          </a:ln>
        </p:spPr>
      </p:pic>
      <p:sp>
        <p:nvSpPr>
          <p:cNvPr id="85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77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2" dur="770" fill="hold"/>
                                        <p:tgtEl>
                                          <p:spTgt spid="8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4" dur="77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6" dur="77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2" dur="8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3" dur="8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4" dur="8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9" dur="8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0" dur="8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1" dur="8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6" dur="8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7" dur="8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8" dur="8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4. Маркёры вирусной инфекции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5.  Биохимическое исследование крови – гипербилирубинемия, диспротеинемия, за счет увеличения количества глобулинов. Повышение уровня осадочных проб – сулемовая, тимоловая. Повышение уровня трансаминаз – Ал-Ат, Ас-Ат, и щелочной фосфатазы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ff"/>
                </a:solidFill>
                <a:latin typeface="Calibri"/>
              </a:rPr>
              <a:t>Инструментальные исследования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213920"/>
            <a:ext cx="57578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УЗИ печени и желчного пузыря(выявляется неравномерность ткани печени, увеличение размеров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омпьютерная томография органов брюшной поло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Гастроскоп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олоноскоп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H:\Documents and Settings\Admin\Рабочий стол\Новая папка\p97[1].jpg"/>
          <p:cNvPicPr/>
          <p:nvPr/>
        </p:nvPicPr>
        <p:blipFill>
          <a:blip r:embed="rId1"/>
          <a:stretch/>
        </p:blipFill>
        <p:spPr>
          <a:xfrm>
            <a:off x="6429240" y="1000080"/>
            <a:ext cx="2357640" cy="2071800"/>
          </a:xfrm>
          <a:prstGeom prst="rect">
            <a:avLst/>
          </a:prstGeom>
          <a:ln w="0">
            <a:noFill/>
          </a:ln>
        </p:spPr>
      </p:pic>
      <p:sp>
        <p:nvSpPr>
          <p:cNvPr id="91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indefinite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41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41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41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41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42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42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42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42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42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42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43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43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43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43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43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43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5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57200" y="713880"/>
            <a:ext cx="82296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ункционная биопсия печени с последующим гистологическим исследованием, может проводиться во время лапароскопии или чрезкожно.  Позволяет судить об активности процесса и является важным дифференциальным критерием для отличия хронического гепатита от цирроза печен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3" descr="H:\Documents and Settings\Admin\Рабочий стол\Новая папка\WHUVGCANTV7S7CAOJANVPCA8WRMVMCAB3TTQHCALN563HCAUDA1R8CAPPBPI4CAGAZSN1CAGDD0I1CAS2FMYDCAE34JK5CABYV9S0CALGRY3TCAL7NFL2CAKHKIYTCAONTVMPCAJBCNHUCAVR9I85CAG3UGF7.jpg"/>
          <p:cNvPicPr/>
          <p:nvPr/>
        </p:nvPicPr>
        <p:blipFill>
          <a:blip r:embed="rId1"/>
          <a:stretch/>
        </p:blipFill>
        <p:spPr>
          <a:xfrm>
            <a:off x="6429240" y="4143240"/>
            <a:ext cx="2455920" cy="2500560"/>
          </a:xfrm>
          <a:prstGeom prst="rect">
            <a:avLst/>
          </a:prstGeom>
          <a:ln w="0">
            <a:noFill/>
          </a:ln>
        </p:spPr>
      </p:pic>
      <p:sp>
        <p:nvSpPr>
          <p:cNvPr id="9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4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457200" y="356760"/>
            <a:ext cx="804384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ff"/>
                </a:solidFill>
                <a:latin typeface="Calibri"/>
              </a:rPr>
              <a:t>Лечение: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901"/>
              </a:spcBef>
              <a:buClr>
                <a:srgbClr val="166cba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66cba"/>
                </a:solidFill>
                <a:latin typeface="Calibri"/>
              </a:rPr>
              <a:t>Лечебный режим. Исключается работа с физическими и психоэмоциональными нагрузками. Показан кратковременный отдых в течении дня. Исключаются гепатотоксические препараты, физиолечение и бальниолечение. В период обострения – постельный режим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2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2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2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2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0" dur="2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2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2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457200" y="500040"/>
            <a:ext cx="82296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66cba"/>
                </a:solidFill>
                <a:latin typeface="Calibri"/>
              </a:rPr>
              <a:t>2. Лечебное питание – диета № 5.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66cba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166cba"/>
                </a:solidFill>
                <a:latin typeface="Calibri"/>
              </a:rPr>
              <a:t>Исключаются: жирные сорта мяса и рыбы, жареные блюда, копчености,  солёные и острые закуски, бобовые, щавель, шпинат, свежие фрукты, крепкий кофе, алкоголь, газированные напитки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57200" y="571320"/>
            <a:ext cx="822960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66cba"/>
                </a:solidFill>
                <a:latin typeface="Calibri"/>
              </a:rPr>
              <a:t>3. Противовирусное  лечение: проводиться при гепатите в фазу размножения вируса и предупреждает развитие цирроза и рака печени. Интерфероны в течении 6 месяцев (Интерферон А, Велферон, Роферон)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28760" y="214200"/>
            <a:ext cx="82296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 u="sng">
                <a:solidFill>
                  <a:srgbClr val="ff0000"/>
                </a:solidFill>
                <a:uFillTx/>
                <a:latin typeface="Calibri"/>
              </a:rPr>
              <a:t>Цирроз печени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– это хронический прогрессирующий процесс в печени, характеризующийся  значительным снижением количества функционирующих гепатоцитов, нарастанием фиброза, перестройкой нормальной структуры печени и развитием печёночной недостаточности и портальной гипертензии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77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" dur="77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" dur="77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" dur="77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457200" y="428760"/>
            <a:ext cx="822960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66cba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166cba"/>
                </a:solidFill>
                <a:latin typeface="Calibri"/>
              </a:rPr>
              <a:t>4. Патогенетическое лечение: кортикостероиды, цитостатики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66cba"/>
                </a:solidFill>
                <a:latin typeface="Calibri"/>
              </a:rPr>
              <a:t>5. Иммуномоделирующая терапия оказывает стимулирующее и нормализующее действие  на иммунную систему: Тималин,                 Д-пенициллин, Тимоген, Т-активин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001"/>
              </a:spcBef>
              <a:buClr>
                <a:srgbClr val="166cb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0" dur="2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2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2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2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8" dur="2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2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2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66cba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166cba"/>
                </a:solidFill>
                <a:latin typeface="Calibri"/>
              </a:rPr>
              <a:t>6. Метаболическая и коферментная терапия направлена на улучшение процессов обмена в печеночных клетках. Поливитаминные комплексы: Декамевит, Ундевит, Дуовит, витамин Е, Рибоксин, Эссенциале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457200" y="928800"/>
            <a:ext cx="82296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66cba"/>
                </a:solidFill>
                <a:latin typeface="Calibri"/>
              </a:rPr>
              <a:t>7. Дезинтоксикационная терапия: Гемодез внутривенно-капельно, 5% глюкоза. Энтеросорбенты – Лактофильтрум, Фильтрум, Энтеросгель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457200" y="42876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66cba"/>
                </a:solidFill>
                <a:latin typeface="Calibri"/>
              </a:rPr>
              <a:t>8. Гепатопротекторы: Корсил, Легалон, Катерген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66cba"/>
                </a:solidFill>
                <a:latin typeface="Calibri"/>
              </a:rPr>
              <a:t>9.  Лечение кровотечений из расширенных вен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457200" y="428760"/>
            <a:ext cx="822960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66cba"/>
                </a:solidFill>
                <a:latin typeface="Calibri"/>
              </a:rPr>
              <a:t>10. Лечение отёчно-асцитического синдрома при циррозе, вначале – Верошпирон, Альдиктон, а затем в сочетании их с Урегитом, Гипотиазидом, Фуросемидом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Профилакти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6840" y="1357200"/>
            <a:ext cx="825804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7030a0"/>
                </a:solidFill>
                <a:uFillTx/>
                <a:latin typeface="Calibri"/>
              </a:rPr>
              <a:t>Первичная: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офилактика вирусного гепатита, эффективное лечение острого вирусного гепатита, рациональное питание, контроль за приёмом лекарственных препаратов, борьба с алкоголизмом, наркомание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2" descr="H:\Documents and Settings\Admin\Рабочий стол\Новая папка\i[2].jpg"/>
          <p:cNvPicPr/>
          <p:nvPr/>
        </p:nvPicPr>
        <p:blipFill>
          <a:blip r:embed="rId1"/>
          <a:stretch/>
        </p:blipFill>
        <p:spPr>
          <a:xfrm>
            <a:off x="6786720" y="3814920"/>
            <a:ext cx="2143080" cy="30430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H:\Documents and Settings\Admin\Рабочий стол\YLZSKCAGWDMHFCAN4DN4WCARUK6A7CA1QNARJCASNDQTACAM46ZR3CAGMNCHLCA90XFFACA1Z0AHOCAWCV01FCACOPAZFCAB6PV6CCAFUR588CAF8QK4ICA0J6D0ICAE2BY75CA4T46JHCA3PS653CAPB70J5.jpg"/>
          <p:cNvPicPr/>
          <p:nvPr/>
        </p:nvPicPr>
        <p:blipFill>
          <a:blip r:embed="rId2"/>
          <a:stretch/>
        </p:blipFill>
        <p:spPr>
          <a:xfrm>
            <a:off x="1143000" y="4518000"/>
            <a:ext cx="3571920" cy="234000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9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4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0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457200" y="78588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7030a0"/>
                </a:solidFill>
                <a:uFillTx/>
                <a:latin typeface="Calibri"/>
              </a:rPr>
              <a:t>Вторичная:</a:t>
            </a:r>
            <a:r>
              <a:rPr b="0" lang="ru-RU" sz="44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офилактика обострений заболевания. Ограничение физических нагрузок, правильное трудоустройство. Лечебное питание, лечение сопутствующих заболеваний ЖКТ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457200" y="1071720"/>
            <a:ext cx="8229600" cy="242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пециальность 060101 «Лечебное дело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исциплина «Терапия» 4 курс 7 семест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3" descr="H:\Documents and Settings\Admin\Рабочий стол\Новая папка\4aaf356adeb6[1].jpg"/>
          <p:cNvPicPr/>
          <p:nvPr/>
        </p:nvPicPr>
        <p:blipFill>
          <a:blip r:embed="rId1"/>
          <a:stretch/>
        </p:blipFill>
        <p:spPr>
          <a:xfrm>
            <a:off x="1857240" y="1785960"/>
            <a:ext cx="5024520" cy="4737240"/>
          </a:xfrm>
          <a:prstGeom prst="rect">
            <a:avLst/>
          </a:prstGeom>
          <a:ln w="0">
            <a:noFill/>
          </a:ln>
        </p:spPr>
      </p:pic>
      <p:sp>
        <p:nvSpPr>
          <p:cNvPr id="54" name="Прямоугольник 4"/>
          <p:cNvSpPr/>
          <p:nvPr/>
        </p:nvSpPr>
        <p:spPr>
          <a:xfrm>
            <a:off x="571680" y="428760"/>
            <a:ext cx="7715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99"/>
                </a:solidFill>
                <a:latin typeface="Calibri"/>
              </a:rPr>
              <a:t>При циррозе всегда нарушается дольковая структур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28760" y="14292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a5ee6"/>
                </a:solidFill>
                <a:latin typeface="Calibri"/>
              </a:rPr>
              <a:t>Этиология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28760" y="1000080"/>
            <a:ext cx="628632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Причины развития соответствуют причинам хронического гепатита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Calibri"/>
              </a:rPr>
              <a:t>Также цирроз печени может сформироваться на фоне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1.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струкции желчных путей, и внутри- и внепечёночных.(врождённые пороки развития    желчевыводящих путей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2.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 фоне длительного венозного застоя в печени при хронической сердечной недостаточности(кардиальный цирроз печени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H:\Documents and Settings\Admin\Рабочий стол\Новая папка\5M061CAJRNS5PCAO051ESCAC8DIVNCA57SSE9CAIEJG46CALK8EUSCATJHW0ICABAI9RWCAUDCG6NCA9A7SXGCA2EARDMCAHO6RLCCAKSX2SVCAEMZ98VCAZRS6AKCAT4D7ELCA5C5YGWCARRFSISCAVO2VAS.jpg"/>
          <p:cNvPicPr/>
          <p:nvPr/>
        </p:nvPicPr>
        <p:blipFill>
          <a:blip r:embed="rId1"/>
          <a:stretch/>
        </p:blipFill>
        <p:spPr>
          <a:xfrm>
            <a:off x="6492960" y="2143080"/>
            <a:ext cx="2565360" cy="2428920"/>
          </a:xfrm>
          <a:prstGeom prst="rect">
            <a:avLst/>
          </a:prstGeom>
          <a:ln w="0">
            <a:noFill/>
          </a:ln>
        </p:spPr>
      </p:pic>
      <p:sp>
        <p:nvSpPr>
          <p:cNvPr id="59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" dur="2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0" dur="20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5" dur="20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0" dur="20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a5ee6"/>
                </a:solidFill>
                <a:latin typeface="Calibri"/>
              </a:rPr>
              <a:t>Патогенез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785880"/>
            <a:ext cx="82296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Основным фактором является гибель печёночных клеток. На месте погибших клеток образуются рубцы и нарушается ток крови в дольк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Продукты распада клеток стимулируют воспалительную реакцию. В результате нарушаются все функции печени и кровоснабжения печёночных клеток, так как плотная соединительная ткань механически сдавливает сосуды печени, в результате начинает развиваться синдром портальной гипертензи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5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57200" y="571320"/>
            <a:ext cx="822960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Вначале затрудняется венозный кровоток в самой печени, затем происходит венозный застой и варикозное расширение вен пищевода, кишечника, прямой кишки и передней брюшной стенки. Впоследствии начинает развиваться асцит и как осложнение – кровотечение из варикозно расширенных вен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5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 u="sng">
                <a:solidFill>
                  <a:srgbClr val="ff3399"/>
                </a:solidFill>
                <a:uFillTx/>
                <a:latin typeface="Calibri"/>
              </a:rPr>
              <a:t>Классификация циррозов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500040" y="1571400"/>
            <a:ext cx="82296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99"/>
                </a:solidFill>
                <a:latin typeface="Calibri"/>
              </a:rPr>
              <a:t>1.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 этиологи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-вирусны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-алкогольны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-аутоиммунны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-токсическ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-генетическ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-кардиальны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-холестатическ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mph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77,80,-64)"/>
                                      </p:to>
                                    </p:set>
                                    <p:set>
                                      <p:cBhvr>
                                        <p:cTn id="10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italic"/>
                                      </p:to>
                                    </p:set>
                                    <p:set>
                                      <p:cBhvr>
                                        <p:cTn id="10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1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457200" y="571320"/>
            <a:ext cx="822960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99"/>
                </a:solidFill>
                <a:latin typeface="Calibri"/>
              </a:rPr>
              <a:t>2.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тадии портальной гипертензи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-стадия компенса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-начальной декомпенса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-выраженной декомпенса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99"/>
                </a:solidFill>
                <a:latin typeface="Calibri"/>
              </a:rPr>
              <a:t>3.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тадии печёночной недостаточност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-компенсированна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-субкомпенсированна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-декомпенсированная(вплоть до развития печёночной комы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457200" y="428760"/>
            <a:ext cx="822960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99"/>
                </a:solidFill>
                <a:latin typeface="Calibri"/>
              </a:rPr>
              <a:t>4.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Активность процесс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-активная фаз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-ремисс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99"/>
                </a:solidFill>
                <a:latin typeface="Calibri"/>
              </a:rPr>
              <a:t>5.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ечение процесс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-медленно прогрессирующе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-быстро прогрессирующе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-стабильно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4T10:35:32Z</dcterms:created>
  <dc:creator>Admin</dc:creator>
  <dc:description/>
  <dc:language>en-US</dc:language>
  <cp:lastModifiedBy>LEGION</cp:lastModifiedBy>
  <dcterms:modified xsi:type="dcterms:W3CDTF">2015-02-13T11:06:12Z</dcterms:modified>
  <cp:revision>52</cp:revision>
  <dc:subject/>
  <dc:title>Презентация на тему: «Хронический гепатит и цирроз печени» </dc:title>
</cp:coreProperties>
</file>