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comments/comment3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4825" cy="9752013"/>
</p:presentation>
</file>

<file path=ppt/commentAuthors.xml><?xml version="1.0" encoding="utf-8"?>
<p:cmAuthorLst xmlns:p="http://schemas.openxmlformats.org/presentationml/2006/main">
  <p:cmAuthor id="0" name="Аня" initials="А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<Relationship Id="rId18" Type="http://schemas.openxmlformats.org/officeDocument/2006/relationships/commentAuthors" Target="commentAuthors.xml"/>
</Relationships>
</file>

<file path=ppt/comments/comment3.xml><?xml version="1.0" encoding="utf-8"?>
<p:cmLst xmlns:p="http://schemas.openxmlformats.org/presentationml/2006/main">
  <p:cm authorId="0" dt="2007-04-16T17:10:54.484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368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740D-6754-463D-B281-F14E80F46B9E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ff"/>
                </a:solidFill>
                <a:latin typeface="Calibri"/>
              </a:rPr>
              <a:t>Закаливание организма и     его влияние   на здоровье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70566-0E4F-427E-846B-13F742D488A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ff00"/>
                </a:solidFill>
                <a:uFillTx/>
                <a:latin typeface="Times New Roman"/>
              </a:rPr>
              <a:t>ВОЗДУШНЫЕ ВАН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ff33"/>
                </a:solidFill>
                <a:latin typeface="Tunga"/>
              </a:rPr>
              <a:t>Этот тип доступный каждому человеку в любое время года. Воздух действует непосредственно на наше тело. Кожу, приводит к ряду биохимических изменений в клетках тканей, раздражает кожные рецепторы нервной системы. Воздушные ванны лучше всего применять на открытом воздухе, их полезно сочетать с различными физическими упражнениями – ходьбой, бегом, гимнастикой</a:t>
            </a:r>
            <a:r>
              <a:rPr b="0" i="1" lang="ru-RU" sz="1200" spc="-1" strike="noStrike">
                <a:solidFill>
                  <a:srgbClr val="003300"/>
                </a:solidFill>
                <a:latin typeface="Tung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5EE1-D0AE-4152-B245-73E3C391D03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00"/>
                </a:solidFill>
                <a:uFillTx/>
                <a:latin typeface="Calibri"/>
              </a:rPr>
              <a:t>ОБТИР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Процедура обтирания: полотенц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губку или специальну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рукавичку из материи смачиваю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в воде и слегка отжимаю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Затем последовательн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производят обтирание ру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(в направлении от пальцев 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плечам), шеи, груди, живо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спины и ног. После этого тел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stellar"/>
              </a:rPr>
              <a:t>растирают сухим жёстким полотенцем до покраснения и появления приятного ощущения тепло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D943-E542-4ECF-A562-BC2FE5D739C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ХОЖДЕНИЕ БОСИ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Gig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Gigi"/>
              </a:rPr>
              <a:t>Хождение босиком испокон веков использовалась для профилактики и лечения многих заболеваний. Современная наука подтверждает пользу босохождения. Прогулка по свежему снегу на первых порах должна быть не более 2 – 4 минут. Ходьба босиком – это сильнейшее профилактическое и целительное средство, одна из составляющих системы здорового образа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F9182-17E3-4D25-BBDE-15EBB1B8E23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Showcard Gothic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Showcard Gothic"/>
              </a:rPr>
              <a:t>Закаливание – это повышение устойчивости организма к неблагоприятному воздействию ряда факторов окружающей среды (низкой или высокой температуры) путём систематического воздействия на организм этих факт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Showcard Gothic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Showcard Gothic"/>
              </a:rPr>
              <a:t>В основе закаливания лежит способность организма человека приспосабливаться меняющимся условием окружающей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7DD0-84BC-4FF4-A875-7EE702C1C40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unga"/>
              </a:rPr>
              <a:t>  </a:t>
            </a:r>
            <a:r>
              <a:rPr b="1" i="1" lang="ru-RU" sz="1200" spc="-1" strike="noStrike">
                <a:solidFill>
                  <a:srgbClr val="ffff00"/>
                </a:solidFill>
                <a:latin typeface="Shruti"/>
              </a:rPr>
              <a:t>Использование закаливающих процедур было известно человеку ещё в древние времена. Им в укреплении здоровья отводил большую роль Гиппократ (древнегреческий врач, реформатор античной медицины). По его мнению, особой целительной силой обладают холодовые закаливающие процедуры, а те, кто держит тело в тепле, приобретают изнеженность мышц, слабость нервов, обмороки и кровотеч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408F2-5700-4013-9BA5-84B5ECEDA95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ff"/>
                </a:solidFill>
                <a:uFillTx/>
                <a:latin typeface="Tunga"/>
              </a:rPr>
              <a:t>ОБЛИ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unga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Tunga"/>
              </a:rPr>
              <a:t>Хорошим методом закаливания является обливание холодной водой. Для этого берут 2 – 3 ведра холодной воды желаемой температуры и выливают на всё тело. Основную роль при обливании играет температурное раздражение кожи, рефлекторно оказывает тонизирующее, дыхание. После обливания тело необходимо обтереть сухим полотенц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A1C4-43CF-4341-9B32-D29A844EF5E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66ff"/>
                </a:solidFill>
                <a:uFillTx/>
                <a:latin typeface="Calibri"/>
              </a:rPr>
              <a:t>Правила закаливания: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Необходимость психологического настроя на закаливание, заинтересованность в нём . Это самый важный принци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быть  систематич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быть комплексным, что предполагает различные виды закаливания: пассивные и активные, общие местные, коллективные   индивидуальные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быть постепенным, время контакта с сильным холодом  должно увеличиваться постепен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проводиться с учётом индивидуальных особенностей организма и климатических условий конкретного регио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ffff"/>
                </a:solidFill>
                <a:latin typeface="Calibri"/>
              </a:rPr>
              <a:t>Закаливание должно быть «на грани удовольствия«, т.е. не насиловать себя чрезмерными нагрузками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B09FA-A2D2-4847-AD57-15A727DEDE3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8000"/>
                </a:solidFill>
                <a:uFillTx/>
                <a:latin typeface="Tunga"/>
              </a:rPr>
              <a:t>КУПАНИЕ В ОТКРЫТЫХ ВОДОЁМ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ff00"/>
                </a:solidFill>
                <a:latin typeface="Tunga"/>
              </a:rPr>
              <a:t>Наиболее эффективным средством закаливания является купание в открытых водоёмах. Во время купания на организм одновременно воздействует солнце, воздух и вода. Прежде чем купаться, обязательно обращайте внимание на правила безопасного поведения при купании. Купаться рекомендуется не раньше, чем через 1 – 1,5 часа после 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8322A-C050-4446-A11D-A7EDE6D1DAA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ff6600"/>
                </a:solidFill>
                <a:uFillTx/>
                <a:latin typeface="Tunga"/>
              </a:rPr>
              <a:t>МОРЖЕ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9900"/>
                </a:solidFill>
                <a:latin typeface="Tunga"/>
              </a:rPr>
              <a:t>  </a:t>
            </a:r>
            <a:r>
              <a:rPr b="0" i="1" lang="ru-RU" sz="1200" spc="-1" strike="noStrike">
                <a:solidFill>
                  <a:srgbClr val="ff6600"/>
                </a:solidFill>
                <a:latin typeface="Tunga"/>
              </a:rPr>
              <a:t>Наиболее эффективной водной процедурой является купание в ледяной воде. Однако подготовка к этому требует специальной тренировки и знаний физиологических процессов, проходящих в организме человека при купании в ледяной воде. Это высшая форма закаливания, так как в короткое время подключает к борьбе «за выживание» все органы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75450-BDBA-42D9-9738-474ED112741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3300"/>
                </a:solidFill>
                <a:uFillTx/>
                <a:latin typeface="Tunga"/>
              </a:rPr>
              <a:t>СОЛНЕЧНЫЕ</a:t>
            </a:r>
            <a:r>
              <a:rPr b="0" lang="ru-RU" sz="1200" spc="-1" strike="noStrike" u="sng">
                <a:solidFill>
                  <a:srgbClr val="ff3300"/>
                </a:solidFill>
                <a:uFillTx/>
                <a:latin typeface="Tunga"/>
              </a:rPr>
              <a:t> </a:t>
            </a:r>
            <a:r>
              <a:rPr b="0" lang="ru-RU" sz="2400" spc="-1" strike="noStrike" u="sng">
                <a:solidFill>
                  <a:srgbClr val="ff3300"/>
                </a:solidFill>
                <a:uFillTx/>
                <a:latin typeface="Tunga"/>
              </a:rPr>
              <a:t>ВАНН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ff0000"/>
                </a:solidFill>
                <a:latin typeface="Tunga"/>
              </a:rPr>
              <a:t>Этот тип закаливания следует принимать разумно, иначе вместо пользы они могут вызвать ожоги кожи, перегрев организма, солнечный удар, перевозбуждение нервной системы. Прием солнечных ванн целесообразно сочетать с водными процедурами. После приёма рекомендуется 10 – 15 минут побыть в тени, а затем принять душ или искупать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44D9-F65C-458C-891E-C83C67DDAFC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417F-BFB9-431C-AA1A-E3656C8CD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EB5F-A794-415B-BCD0-AF3404A1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DBA1-A036-4398-BE69-01564B893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2A0C-DEA6-40E1-9945-401504E4B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BA96-1681-458A-9A1C-B07CB18D0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54D2-42FF-4D47-8BA5-FF34E899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FF57A-F44F-4D69-9B32-D4230EC9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A9AF-14DF-4D80-85C0-545CA7BAE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3EAB-36DF-4596-A89C-441DEC0E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4FA5-887F-4210-AC85-8A344CEC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2DC0-B0A5-49B2-B95D-5EBE5CBE1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C522-87EA-4A48-8CC4-D34E7FDB1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41F55-5904-4E0F-926B-5F459E2289B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8000" y="1773360"/>
            <a:ext cx="3995640" cy="39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ccff"/>
                </a:solidFill>
                <a:latin typeface="Tahoma"/>
              </a:rPr>
              <a:t>Закаливание организма и     его влияние   на здоровье человека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WordArt 9"/>
          <p:cNvSpPr txBox="1"/>
          <p:nvPr/>
        </p:nvSpPr>
        <p:spPr>
          <a:xfrm>
            <a:off x="4211640" y="620640"/>
            <a:ext cx="482436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25560">
                  <a:solidFill>
                    <a:srgbClr val="3333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РЕЗЕНТАЦИЯ</a:t>
            </a:r>
            <a:endParaRPr b="1" lang="en-US" sz="1800" spc="1" strike="noStrike">
              <a:ln w="25560">
                <a:solidFill>
                  <a:srgbClr val="3333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4724280" y="5791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Составила учитель ОБЖ МОУ СОШ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№2 Ковынёва Е.П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ff00"/>
                </a:solidFill>
                <a:uFillTx/>
                <a:latin typeface="Times New Roman"/>
              </a:rPr>
              <a:t>ВОЗДУШНЫЕ ВАННЫ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66ff33"/>
                </a:solidFill>
                <a:latin typeface="Tunga"/>
              </a:rPr>
              <a:t>Этот тип доступный каждому человеку в любое время года. Воздух действует непосредственно на наше тело. Кожу, приводит к ряду биохимических изменений в клетках тканей, раздражает кожные рецепторы нервной системы. Воздушные ванны лучше всего применять на открытом воздухе, их полезно сочетать с различными физическими упражнениями – ходьбой, бегом, гимнастикой</a:t>
            </a:r>
            <a:r>
              <a:rPr b="0" i="1" lang="ru-RU" sz="3200" spc="-1" strike="noStrike">
                <a:solidFill>
                  <a:srgbClr val="003300"/>
                </a:solidFill>
                <a:latin typeface="Tung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mb dir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5564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9900"/>
                </a:solidFill>
                <a:uFillTx/>
                <a:latin typeface="Tahoma"/>
              </a:rPr>
              <a:t>ОБТИР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889308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Процедура обтирания: полотенце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губку или специальную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рукавичку из материи смачиваю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в воде и слегка отжимают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Затем последовательн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производят обтирание ру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(в направлении от пальцев 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плечам), шеи, груди, живота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спины и ног. После этого тел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astellar"/>
              </a:rPr>
              <a:t>растирают сухим жёстким полотенцем до покраснения и появления приятного ощущения тепло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1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260280"/>
            <a:ext cx="62276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e5ffff"/>
                </a:solidFill>
                <a:uFillTx/>
                <a:latin typeface="Tahoma"/>
              </a:rPr>
              <a:t>ХОЖДЕНИЕ БОСИКОМ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5580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Gigi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Gigi"/>
              </a:rPr>
              <a:t>Хождение босиком испокон веков использовалась для профилактики и лечения многих заболеваний. Современная наука подтверждает пользу босохождения. Прогулка по свежему снегу на первых порах должна быть не более 2 – 4 минут. Ходьба босиком – это сильнейшее профилактическое и целительное средство, одна из составляющих системы здорового образа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u"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98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79280" y="5589720"/>
            <a:ext cx="878544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Благодарим за внимание!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2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23640" y="549000"/>
            <a:ext cx="8351640" cy="29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Showcard Gothic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Showcard Gothic"/>
              </a:rPr>
              <a:t>Закаливание – это повышение устойчивости организма к неблагоприятному воздействию ряда факторов окружающей среды (низкой или высокой температуры) путём систематического воздействия на организм этих факторов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4149720"/>
            <a:ext cx="874872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Showcard Gothic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Showcard Gothic"/>
              </a:rPr>
              <a:t>В основе закаливания лежит способность организма человека приспосабливаться меняющимся условием окружающей ср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blinds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9280" y="692280"/>
            <a:ext cx="868680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unga"/>
              </a:rPr>
              <a:t>  </a:t>
            </a:r>
            <a:r>
              <a:rPr b="1" i="1" lang="ru-RU" sz="3200" spc="-1" strike="noStrike">
                <a:solidFill>
                  <a:srgbClr val="ffff00"/>
                </a:solidFill>
                <a:latin typeface="Shruti"/>
              </a:rPr>
              <a:t>Использование закаливающих процедур было известно человеку ещё в древние времена. Им в укреплении здоровья отводил большую роль Гиппократ (древнегреческий врач, реформатор античной медицины). По его мнению, особой целительной силой обладают холодовые закаливающие процедуры, а те, кто держит тело в тепле, приобретают изнеженность мышц, слабость нервов, обмороки и кровотечение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Organization Chart 16"/>
          <p:cNvGrpSpPr/>
          <p:nvPr/>
        </p:nvGrpSpPr>
        <p:grpSpPr>
          <a:xfrm>
            <a:off x="0" y="0"/>
            <a:ext cx="9142560" cy="6857640"/>
            <a:chOff x="0" y="0"/>
            <a:chExt cx="9142560" cy="6857640"/>
          </a:xfrm>
        </p:grpSpPr>
        <p:cxnSp>
          <p:nvCxnSpPr>
            <p:cNvPr id="58" name="_s1028"/>
            <p:cNvCxnSpPr>
              <a:stCxn id="59" idx="1"/>
              <a:endCxn id="60" idx="2"/>
            </p:cNvCxnSpPr>
            <p:nvPr/>
          </p:nvCxnSpPr>
          <p:spPr>
            <a:xfrm rot="10800000">
              <a:off x="2742120" y="595440"/>
              <a:ext cx="914760" cy="5963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1" name="_s1029"/>
            <p:cNvCxnSpPr>
              <a:stCxn id="62" idx="1"/>
              <a:endCxn id="60" idx="2"/>
            </p:cNvCxnSpPr>
            <p:nvPr/>
          </p:nvCxnSpPr>
          <p:spPr>
            <a:xfrm rot="10800000">
              <a:off x="2742120" y="595440"/>
              <a:ext cx="914760" cy="50695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3" name="_s1030"/>
            <p:cNvCxnSpPr>
              <a:stCxn id="64" idx="1"/>
              <a:endCxn id="60" idx="2"/>
            </p:cNvCxnSpPr>
            <p:nvPr/>
          </p:nvCxnSpPr>
          <p:spPr>
            <a:xfrm rot="10800000">
              <a:off x="2742120" y="595440"/>
              <a:ext cx="914760" cy="41745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5" name="_s1031"/>
            <p:cNvCxnSpPr>
              <a:stCxn id="66" idx="1"/>
              <a:endCxn id="60" idx="2"/>
            </p:cNvCxnSpPr>
            <p:nvPr/>
          </p:nvCxnSpPr>
          <p:spPr>
            <a:xfrm rot="10800000">
              <a:off x="2742120" y="595440"/>
              <a:ext cx="914760" cy="328032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7" name="_s1032"/>
            <p:cNvCxnSpPr>
              <a:stCxn id="68" idx="1"/>
              <a:endCxn id="60" idx="2"/>
            </p:cNvCxnSpPr>
            <p:nvPr/>
          </p:nvCxnSpPr>
          <p:spPr>
            <a:xfrm rot="10800000">
              <a:off x="2742120" y="595440"/>
              <a:ext cx="914760" cy="23853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69" name="_s1033"/>
            <p:cNvCxnSpPr>
              <a:stCxn id="70" idx="1"/>
              <a:endCxn id="60" idx="2"/>
            </p:cNvCxnSpPr>
            <p:nvPr/>
          </p:nvCxnSpPr>
          <p:spPr>
            <a:xfrm rot="10800000">
              <a:off x="2742120" y="595440"/>
              <a:ext cx="914760" cy="14914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71" name="_s1034"/>
            <p:cNvCxnSpPr>
              <a:stCxn id="72" idx="1"/>
              <a:endCxn id="60" idx="2"/>
            </p:cNvCxnSpPr>
            <p:nvPr/>
          </p:nvCxnSpPr>
          <p:spPr>
            <a:xfrm rot="10800000">
              <a:off x="2742120" y="595440"/>
              <a:ext cx="914760" cy="59688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60" name="_s1035"/>
            <p:cNvSpPr/>
            <p:nvPr/>
          </p:nvSpPr>
          <p:spPr>
            <a:xfrm>
              <a:off x="0" y="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4000" spc="-1" strike="noStrike">
                  <a:solidFill>
                    <a:srgbClr val="490092"/>
                  </a:solidFill>
                  <a:latin typeface="Calisto MT"/>
                </a:rPr>
                <a:t>Способы закаливания:</a:t>
              </a:r>
              <a:endParaRPr b="0" lang="en-US" sz="4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2" name="_s1036"/>
            <p:cNvSpPr/>
            <p:nvPr/>
          </p:nvSpPr>
          <p:spPr>
            <a:xfrm>
              <a:off x="3656880" y="89424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5f04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Обтира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0" name="_s1037"/>
            <p:cNvSpPr/>
            <p:nvPr/>
          </p:nvSpPr>
          <p:spPr>
            <a:xfrm>
              <a:off x="3656880" y="178884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Облива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8" name="_s1038"/>
            <p:cNvSpPr/>
            <p:nvPr/>
          </p:nvSpPr>
          <p:spPr>
            <a:xfrm>
              <a:off x="3656880" y="268344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Воздушные ванн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6" name="_s1039"/>
            <p:cNvSpPr/>
            <p:nvPr/>
          </p:nvSpPr>
          <p:spPr>
            <a:xfrm>
              <a:off x="3656880" y="357768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Солнечные ванны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4" name="_s1040"/>
            <p:cNvSpPr/>
            <p:nvPr/>
          </p:nvSpPr>
          <p:spPr>
            <a:xfrm>
              <a:off x="3656880" y="447228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490092"/>
                  </a:solidFill>
                  <a:latin typeface="Agency FB"/>
                </a:rPr>
                <a:t>Купание в открытых водоёмах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2" name="_s1041"/>
            <p:cNvSpPr/>
            <p:nvPr/>
          </p:nvSpPr>
          <p:spPr>
            <a:xfrm>
              <a:off x="3656880" y="5366880"/>
              <a:ext cx="548568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490092"/>
                  </a:solidFill>
                  <a:latin typeface="Agency FB"/>
                </a:rPr>
                <a:t>Босохожде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_s1042"/>
            <p:cNvSpPr/>
            <p:nvPr/>
          </p:nvSpPr>
          <p:spPr>
            <a:xfrm>
              <a:off x="3656880" y="6261480"/>
              <a:ext cx="5479920" cy="596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ccccff"/>
                </a:gs>
              </a:gsLst>
              <a:lin ang="5400000"/>
            </a:gradFill>
            <a:ln w="50760">
              <a:solidFill>
                <a:srgbClr val="49009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490092"/>
                  </a:solidFill>
                  <a:latin typeface="Agency FB"/>
                </a:rPr>
                <a:t>Моржевание</a:t>
              </a:r>
              <a:endParaRPr b="0" lang="en-US" sz="2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strips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38163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ccff"/>
                </a:solidFill>
                <a:uFillTx/>
                <a:latin typeface="Tunga"/>
              </a:rPr>
              <a:t>ОБЛИ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41403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ccff"/>
                </a:solidFill>
                <a:latin typeface="Tunga"/>
              </a:rPr>
              <a:t>   </a:t>
            </a:r>
            <a:r>
              <a:rPr b="0" lang="ru-RU" sz="2400" spc="-1" strike="noStrike">
                <a:solidFill>
                  <a:srgbClr val="0000ff"/>
                </a:solidFill>
                <a:latin typeface="Tunga"/>
              </a:rPr>
              <a:t>Хорошим методом закаливания является обливание холодной водой. Для этого берут 2 – 3 ведра холодной воды желаемой температуры и выливают на всё тело. Основную роль при обливании играет температурное раздражение кожи, рефлекторно оказывает тонизирующее, дыхание. После обливания тело необходимо обтереть сухим полотенц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45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66ff"/>
                </a:solidFill>
                <a:uFillTx/>
                <a:latin typeface="Tahoma"/>
              </a:rPr>
              <a:t>Правила закаливания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799308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Необходимость психологического настроя на закаливание, заинтересованность в нём . Это самый важный принцип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 систематичны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комплексным, что предполагает различные виды закаливания: пассивные и активные, общие местные, коллективные   индивидуальные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постепенным, время контакта с сильным холодом  должно увеличиваться постепенн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проводиться с учётом индивидуальных особенностей организма и климатических условий конкретного регион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-554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7ffff"/>
                </a:solidFill>
                <a:latin typeface="Tahoma"/>
              </a:rPr>
              <a:t>Закаливание должно быть «на грани удовольствия«, т.е. не насиловать себя чрезмерными нагрузками.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5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randomBa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8000"/>
                </a:solidFill>
                <a:uFillTx/>
                <a:latin typeface="Tunga"/>
              </a:rPr>
              <a:t>КУПАНИЕ В ОТКРЫТЫХ ВОДОЁМАХ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ff00"/>
                </a:solidFill>
                <a:latin typeface="Tunga"/>
              </a:rPr>
              <a:t>Наиболее эффективным средством закаливания является купание в открытых водоёмах. Во время купания на организм одновременно воздействует солнце, воздух и вода. Прежде чем купаться, обязательно обращайте внимание на правила безопасного поведения при купании. Купаться рекомендуется не раньше, чем через 1 – 1,5 часа после ед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pull dir="lu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6600"/>
                </a:solidFill>
                <a:uFillTx/>
                <a:latin typeface="Tunga"/>
              </a:rPr>
              <a:t>МОРЖЕВАНИЕ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9900"/>
                </a:solidFill>
                <a:latin typeface="Tunga"/>
              </a:rPr>
              <a:t>  </a:t>
            </a:r>
            <a:r>
              <a:rPr b="0" i="1" lang="ru-RU" sz="3200" spc="-1" strike="noStrike">
                <a:solidFill>
                  <a:srgbClr val="ff6600"/>
                </a:solidFill>
                <a:latin typeface="Tunga"/>
              </a:rPr>
              <a:t>Наиболее эффективной водной процедурой является купание в ледяной воде. Однако подготовка к этому требует специальной тренировки и знаний физиологических процессов, проходящих в организме человека при купании в ледяной воде. Это высшая форма закаливания, так как в короткое время подключает к борьбе «за выживание» все органы челове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0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3300"/>
                </a:solidFill>
                <a:uFillTx/>
                <a:latin typeface="Tunga"/>
              </a:rPr>
              <a:t>СОЛНЕЧНЫЕ</a:t>
            </a:r>
            <a:r>
              <a:rPr b="0" lang="ru-RU" sz="4400" spc="-1" strike="noStrike" u="sng">
                <a:solidFill>
                  <a:srgbClr val="ff3300"/>
                </a:solidFill>
                <a:uFillTx/>
                <a:latin typeface="Tunga"/>
              </a:rPr>
              <a:t> </a:t>
            </a:r>
            <a:r>
              <a:rPr b="0" lang="ru-RU" sz="4800" spc="-1" strike="noStrike" u="sng">
                <a:solidFill>
                  <a:srgbClr val="ff3300"/>
                </a:solidFill>
                <a:uFillTx/>
                <a:latin typeface="Tunga"/>
              </a:rPr>
              <a:t>ВАННЫ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565164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ru-RU" sz="2800" spc="-1" strike="noStrike">
                <a:solidFill>
                  <a:srgbClr val="ff0000"/>
                </a:solidFill>
                <a:latin typeface="Tunga"/>
              </a:rPr>
              <a:t>Этот тип закаливания следует принимать разумно, иначе вместо пользы они могут вызвать ожоги кожи, перегрев организма, солнечный удар, перевозбуждение нервной системы. Прием солнечных ванн целесообразно сочетать с водными процедурами. После приёма рекомендуется 10 – 15 минут побыть в тени, а затем принять душ или искупатьс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slow">
    <p:cover dir="rd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6T02:35:41Z</dcterms:created>
  <dc:creator>костян</dc:creator>
  <dc:description/>
  <dc:language>en-US</dc:language>
  <cp:lastModifiedBy>LEGION</cp:lastModifiedBy>
  <dcterms:modified xsi:type="dcterms:W3CDTF">2015-02-13T11:06:39Z</dcterms:modified>
  <cp:revision>12</cp:revision>
  <dc:subject/>
  <dc:title>Закаливание организма и его влияние на здоровье человека</dc:title>
</cp:coreProperties>
</file>