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52013"/>
</p:presentation>
</file>

<file path=ppt/commentAuthors.xml><?xml version="1.0" encoding="utf-8"?>
<p:cmAuthorLst xmlns:p="http://schemas.openxmlformats.org/presentationml/2006/main">
  <p:cmAuthor id="0" name="Аня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7-04-16T17:10:54.48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2670-7C98-4AE7-BFD1-CF8E97100E9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Закаливание организма и     его влияние  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EA69-F75E-4186-9E19-3E70E73698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1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DF2A-FF9E-476E-98F9-5BC1B09999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00"/>
                </a:solidFill>
                <a:uFillTx/>
                <a:latin typeface="Calibri"/>
              </a:rPr>
              <a:t>ОБТИ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2804-42E8-45E2-847D-66EE61E53D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ЖДЕНИЕ БОС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0A24-508D-4585-9EF1-9F362606FE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001F-8986-4863-9AFF-4F75B80ABE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unga"/>
              </a:rPr>
              <a:t>  </a:t>
            </a:r>
            <a:r>
              <a:rPr b="1" i="1" lang="ru-RU" sz="1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AE43-FF5A-4665-A2B3-60BC61A5A8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unga"/>
              </a:rPr>
              <a:t>ОБ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AC09-1977-4CDB-A226-555FED95E0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ff"/>
                </a:solidFill>
                <a:uFillTx/>
                <a:latin typeface="Calibri"/>
              </a:rPr>
              <a:t>Правила закаливани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 системат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D67E-257C-4C7B-B623-8BE842333C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9AB6-10E4-49DA-AEF6-B30B47EF09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1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76C2-7199-48D8-AFDB-C844FD3B20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3FBB-256F-4A23-AE3A-14417F8CE9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940-79FA-4EA1-9B0A-0D08E7FB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F01-B9E9-4AAE-8BC1-C749452A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6E1-414E-4FEA-B29D-126F18A5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8ED-EC77-4588-B613-9E3EB4C3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03F-DDD9-4632-B069-5DF00C47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0E5-CA04-48A8-A60F-3D6EC193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95B-429B-42E5-B25F-05A379B8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3EF-7AD4-4ECA-B4F6-80A8F23C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D36-8541-4A28-9BCE-95470073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2D9-120C-4BDC-AC90-F0A655C7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4C1-BD60-4356-BC43-0D307C8E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982-B226-43F2-82C5-D7763626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305F-39C7-4B18-98CD-3B376C0EC4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9956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Tahoma"/>
              </a:rPr>
              <a:t>Закаливание организма и     его влияние   на здоровье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4211640" y="620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РЕЗЕНТАЦИЯ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2428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ставила учитель ОБЖ МОУ СОШ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№2 Ковынёва Е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3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Tahoma"/>
              </a:rPr>
              <a:t>ОБТИР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622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ХОЖДЕНИЕ БОС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79280" y="558972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3516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414972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86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unga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16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2742120" y="595440"/>
              <a:ext cx="914760" cy="596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2742120" y="595440"/>
              <a:ext cx="914760" cy="506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2742120" y="595440"/>
              <a:ext cx="91476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31"/>
            <p:cNvCxnSpPr>
              <a:stCxn id="66" idx="1"/>
              <a:endCxn id="60" idx="2"/>
            </p:cNvCxnSpPr>
            <p:nvPr/>
          </p:nvCxnSpPr>
          <p:spPr>
            <a:xfrm rot="10800000">
              <a:off x="2742120" y="595440"/>
              <a:ext cx="91476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2"/>
            <p:cNvCxnSpPr>
              <a:stCxn id="68" idx="1"/>
              <a:endCxn id="60" idx="2"/>
            </p:cNvCxnSpPr>
            <p:nvPr/>
          </p:nvCxnSpPr>
          <p:spPr>
            <a:xfrm rot="10800000">
              <a:off x="2742120" y="595440"/>
              <a:ext cx="91476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60" idx="2"/>
            </p:cNvCxnSpPr>
            <p:nvPr/>
          </p:nvCxnSpPr>
          <p:spPr>
            <a:xfrm rot="10800000">
              <a:off x="2742120" y="595440"/>
              <a:ext cx="91476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1034"/>
            <p:cNvCxnSpPr>
              <a:stCxn id="72" idx="1"/>
              <a:endCxn id="60" idx="2"/>
            </p:cNvCxnSpPr>
            <p:nvPr/>
          </p:nvCxnSpPr>
          <p:spPr>
            <a:xfrm rot="10800000">
              <a:off x="2742120" y="595440"/>
              <a:ext cx="91476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5"/>
            <p:cNvSpPr/>
            <p:nvPr/>
          </p:nvSpPr>
          <p:spPr>
            <a:xfrm>
              <a:off x="0" y="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Calisto MT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3656880" y="8942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_s1037"/>
            <p:cNvSpPr/>
            <p:nvPr/>
          </p:nvSpPr>
          <p:spPr>
            <a:xfrm>
              <a:off x="3656880" y="17888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3656880" y="26834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39"/>
            <p:cNvSpPr/>
            <p:nvPr/>
          </p:nvSpPr>
          <p:spPr>
            <a:xfrm>
              <a:off x="3656880" y="35776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3656880" y="44722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gency FB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3656880" y="53668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42"/>
            <p:cNvSpPr/>
            <p:nvPr/>
          </p:nvSpPr>
          <p:spPr>
            <a:xfrm>
              <a:off x="3656880" y="6261480"/>
              <a:ext cx="547992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gency FB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unga"/>
              </a:rPr>
              <a:t>ОБЛИ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ung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Tahoma"/>
              </a:rPr>
              <a:t>Правила закалива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79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 системат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3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35:41Z</dcterms:created>
  <dc:creator>костян</dc:creator>
  <dc:description/>
  <dc:language>en-US</dc:language>
  <cp:lastModifiedBy>LEGION</cp:lastModifiedBy>
  <dcterms:modified xsi:type="dcterms:W3CDTF">2015-02-13T11:06:39Z</dcterms:modified>
  <cp:revision>12</cp:revision>
  <dc:subject/>
  <dc:title>Закаливание организма и его влияние на здоровье человека</dc:title>
</cp:coreProperties>
</file>