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7CC9-5312-43F8-8B0C-BC0FE8716D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FFD9-8940-4249-896F-59FDF7AA79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9D69-55CA-4E64-92F1-E3334EC001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5E6D-498F-4929-B2A8-C4D121B889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22E7-8A33-4B06-A809-99958190E8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8677-D08C-487A-BB9E-08A8651C0B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02F5-C64D-4070-A6C6-E9D6B5C22E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1DC0-E470-45ED-981B-664C91D17E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1200"/>
            </a:b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594A-DDA7-468C-BDCF-7D4231DCE1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55D3-18DC-4CEE-8E0D-B2837C9569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66D5-8003-4B09-AE5F-5C0469A408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52ED-4955-462D-ABB5-CB3ECBC87E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62FE-C748-4EF4-B165-D4BF845560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DE82-9E7B-49E4-B13E-B1A216BA87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8E9-979C-437B-A16F-17B36AB4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539-482B-4E1F-971F-80040FF7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4EB-74D9-4FA9-A79A-9A3D30A2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F63-40F0-4334-8DDA-AED839F4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057-68E5-4DF1-BDE7-222E3DCD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790-EFC6-4CE4-A9FB-D4A1A570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C5C-2163-4A66-AD6E-5A3C3265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ECE5-EBEC-45B3-8BB5-3DA69326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3C47-6BA9-43D5-9D7E-5C249ABF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CC5-37BD-4B3B-BDD6-61AF8832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7BF-EE96-49FB-83E7-39E3C9DF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50D-3FD5-405C-A592-20890258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795D-AC2E-4E5B-8A8C-8D474B5FA8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484360" y="4221000"/>
            <a:ext cx="655344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Материал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еница МОУ «СОШ»198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ротас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итель Яппарова Татьяна Владими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07-Adie--Shelter.mp3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pidInfo-212-Krapivnica"/>
          <p:cNvPicPr/>
          <p:nvPr/>
        </p:nvPicPr>
        <p:blipFill>
          <a:blip r:embed="rId2"/>
          <a:stretch/>
        </p:blipFill>
        <p:spPr>
          <a:xfrm>
            <a:off x="2268360" y="2781360"/>
            <a:ext cx="4321440" cy="36925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33_2"/>
          <p:cNvPicPr/>
          <p:nvPr/>
        </p:nvPicPr>
        <p:blipFill>
          <a:blip r:embed="rId2"/>
          <a:stretch/>
        </p:blipFill>
        <p:spPr>
          <a:xfrm>
            <a:off x="2700360" y="306864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4-3"/>
          <p:cNvPicPr/>
          <p:nvPr/>
        </p:nvPicPr>
        <p:blipFill>
          <a:blip r:embed="rId2"/>
          <a:stretch/>
        </p:blipFill>
        <p:spPr>
          <a:xfrm>
            <a:off x="1835280" y="1844640"/>
            <a:ext cx="5256000" cy="39276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Organization Chart 66"/>
          <p:cNvGrpSpPr/>
          <p:nvPr/>
        </p:nvGrpSpPr>
        <p:grpSpPr>
          <a:xfrm>
            <a:off x="1187280" y="1268280"/>
            <a:ext cx="5760720" cy="3128400"/>
            <a:chOff x="1187280" y="1268280"/>
            <a:chExt cx="5760720" cy="3128400"/>
          </a:xfrm>
        </p:grpSpPr>
        <p:cxnSp>
          <p:nvCxnSpPr>
            <p:cNvPr id="108" name="_s1028"/>
            <p:cNvCxnSpPr>
              <a:stCxn id="109" idx="4"/>
              <a:endCxn id="110" idx="3"/>
            </p:cNvCxnSpPr>
            <p:nvPr/>
          </p:nvCxnSpPr>
          <p:spPr>
            <a:xfrm flipV="1">
              <a:off x="2540880" y="3223080"/>
              <a:ext cx="284040" cy="823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3" idx="3"/>
            </p:cNvCxnSpPr>
            <p:nvPr/>
          </p:nvCxnSpPr>
          <p:spPr>
            <a:xfrm flipV="1" rot="16200000">
              <a:off x="5191200" y="1363320"/>
              <a:ext cx="391680" cy="176436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4" name="_s1030"/>
            <p:cNvCxnSpPr>
              <a:stCxn id="115" idx="0"/>
              <a:endCxn id="113" idx="3"/>
            </p:cNvCxnSpPr>
            <p:nvPr/>
          </p:nvCxnSpPr>
          <p:spPr>
            <a:xfrm flipV="1" rot="16200000">
              <a:off x="4350960" y="2203560"/>
              <a:ext cx="391680" cy="8352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6" name="_s1031"/>
            <p:cNvCxnSpPr>
              <a:stCxn id="110" idx="0"/>
              <a:endCxn id="113" idx="3"/>
            </p:cNvCxnSpPr>
            <p:nvPr/>
          </p:nvCxnSpPr>
          <p:spPr>
            <a:xfrm flipH="1" flipV="1" rot="5400000">
              <a:off x="3510720" y="1446480"/>
              <a:ext cx="391680" cy="159804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13" name="_s1032"/>
            <p:cNvSpPr/>
            <p:nvPr/>
          </p:nvSpPr>
          <p:spPr>
            <a:xfrm>
              <a:off x="3826800" y="126828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Ле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214596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Нетрадиционн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медицин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4"/>
            <p:cNvSpPr/>
            <p:nvPr/>
          </p:nvSpPr>
          <p:spPr>
            <a:xfrm>
              <a:off x="382680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Лекарствен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парат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5"/>
            <p:cNvSpPr/>
            <p:nvPr/>
          </p:nvSpPr>
          <p:spPr>
            <a:xfrm>
              <a:off x="550764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дотвращ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контакта с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аллерген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6"/>
            <p:cNvSpPr/>
            <p:nvPr/>
          </p:nvSpPr>
          <p:spPr>
            <a:xfrm>
              <a:off x="1187280" y="3614760"/>
              <a:ext cx="143892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Иглоукалыва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82" descr="acupuncture-to-body1"/>
          <p:cNvPicPr/>
          <p:nvPr/>
        </p:nvPicPr>
        <p:blipFill>
          <a:blip r:embed="rId2"/>
          <a:stretch/>
        </p:blipFill>
        <p:spPr>
          <a:xfrm>
            <a:off x="395280" y="4545000"/>
            <a:ext cx="2521080" cy="1681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3" descr="014"/>
          <p:cNvPicPr/>
          <p:nvPr/>
        </p:nvPicPr>
        <p:blipFill>
          <a:blip r:embed="rId3"/>
          <a:stretch/>
        </p:blipFill>
        <p:spPr>
          <a:xfrm>
            <a:off x="3348000" y="3429000"/>
            <a:ext cx="2158920" cy="14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4" descr="enc_entry_4767"/>
          <p:cNvPicPr/>
          <p:nvPr/>
        </p:nvPicPr>
        <p:blipFill>
          <a:blip r:embed="rId4"/>
          <a:stretch/>
        </p:blipFill>
        <p:spPr>
          <a:xfrm>
            <a:off x="5724360" y="4524480"/>
            <a:ext cx="3060720" cy="17222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alreakcia"/>
          <p:cNvPicPr/>
          <p:nvPr/>
        </p:nvPicPr>
        <p:blipFill>
          <a:blip r:embed="rId1"/>
          <a:stretch/>
        </p:blipFill>
        <p:spPr>
          <a:xfrm>
            <a:off x="611280" y="85680"/>
            <a:ext cx="7921440" cy="67723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755640" y="260280"/>
            <a:ext cx="838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8000" y="0"/>
            <a:ext cx="91440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Book Antiqua"/>
              </a:rPr>
              <a:t>Берегите Ваше здоровь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8000" y="5229360"/>
            <a:ext cx="8139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5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6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>
            <a:hlinkClick r:id="rId2" action="ppaction://hlinksldjump"/>
          </p:cNvPr>
          <p:cNvSpPr/>
          <p:nvPr/>
        </p:nvSpPr>
        <p:spPr>
          <a:xfrm>
            <a:off x="147636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>
            <a:hlinkClick r:id="rId3" action="ppaction://hlinksldjump"/>
          </p:cNvPr>
          <p:cNvSpPr/>
          <p:nvPr/>
        </p:nvSpPr>
        <p:spPr>
          <a:xfrm>
            <a:off x="1476360" y="350028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>
            <a:hlinkClick r:id="rId4" action="ppaction://hlinksldjump"/>
          </p:cNvPr>
          <p:cNvSpPr/>
          <p:nvPr/>
        </p:nvSpPr>
        <p:spPr>
          <a:xfrm>
            <a:off x="147636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>
            <a:hlinkClick r:id="rId5" action="ppaction://hlinksldjump"/>
          </p:cNvPr>
          <p:cNvSpPr/>
          <p:nvPr/>
        </p:nvSpPr>
        <p:spPr>
          <a:xfrm>
            <a:off x="1476360" y="486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ма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>
            <a:hlinkClick r:id="rId6" action="ppaction://hlinksldjump"/>
          </p:cNvPr>
          <p:cNvSpPr/>
          <p:nvPr/>
        </p:nvSpPr>
        <p:spPr>
          <a:xfrm>
            <a:off x="147636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1476360" y="616572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ъюнктив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507672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л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5076720" y="342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пив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507672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507672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5076720" y="479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4"/>
          <p:cNvSpPr/>
          <p:nvPr/>
        </p:nvSpPr>
        <p:spPr>
          <a:xfrm>
            <a:off x="5076720" y="623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268360" y="2205000"/>
            <a:ext cx="4175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0" y="836640"/>
            <a:ext cx="914400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95280" y="2133720"/>
            <a:ext cx="4248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15458424"/>
          <p:cNvPicPr/>
          <p:nvPr/>
        </p:nvPicPr>
        <p:blipFill>
          <a:blip r:embed="rId1"/>
          <a:stretch/>
        </p:blipFill>
        <p:spPr>
          <a:xfrm>
            <a:off x="5219640" y="1700280"/>
            <a:ext cx="317520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9b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0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ig_3612"/>
          <p:cNvPicPr/>
          <p:nvPr/>
        </p:nvPicPr>
        <p:blipFill>
          <a:blip r:embed="rId1"/>
          <a:stretch/>
        </p:blipFill>
        <p:spPr>
          <a:xfrm>
            <a:off x="1403280" y="2708280"/>
            <a:ext cx="6337440" cy="3801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0" y="9810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чужеродные вещества, которые, поступая в организм, становятся основной причиной аллергических реакци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68360" y="1989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топический дермат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68360" y="254952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68360" y="31114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6734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468360" y="42354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68360" y="4797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топический дермат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2738883_f520"/>
          <p:cNvPicPr/>
          <p:nvPr/>
        </p:nvPicPr>
        <p:blipFill>
          <a:blip r:embed="rId2"/>
          <a:stretch/>
        </p:blipFill>
        <p:spPr>
          <a:xfrm>
            <a:off x="1476360" y="2924280"/>
            <a:ext cx="5616720" cy="3143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0" y="907920"/>
            <a:ext cx="914400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хроническое аллергическое заболевание кожи, развитие которого связано как с наследственной предрасположенностью, так и с воздействием целого ряда неблагоприятных факторов внешне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nose1"/>
          <p:cNvPicPr/>
          <p:nvPr/>
        </p:nvPicPr>
        <p:blipFill>
          <a:blip r:embed="rId2"/>
          <a:stretch/>
        </p:blipFill>
        <p:spPr>
          <a:xfrm>
            <a:off x="1979640" y="3068640"/>
            <a:ext cx="4824360" cy="32781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on"/>
          <p:cNvPicPr/>
          <p:nvPr/>
        </p:nvPicPr>
        <p:blipFill>
          <a:blip r:embed="rId2"/>
          <a:stretch/>
        </p:blipFill>
        <p:spPr>
          <a:xfrm>
            <a:off x="1692360" y="2997360"/>
            <a:ext cx="4968720" cy="3311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43971412"/>
          <p:cNvPicPr/>
          <p:nvPr/>
        </p:nvPicPr>
        <p:blipFill>
          <a:blip r:embed="rId2"/>
          <a:stretch/>
        </p:blipFill>
        <p:spPr>
          <a:xfrm>
            <a:off x="2627280" y="342900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13:13:13Z</dcterms:created>
  <dc:creator>User</dc:creator>
  <dc:description/>
  <dc:language>en-US</dc:language>
  <cp:lastModifiedBy>LEGION</cp:lastModifiedBy>
  <dcterms:modified xsi:type="dcterms:W3CDTF">2015-02-13T11:07:29Z</dcterms:modified>
  <cp:revision>12</cp:revision>
  <dc:subject/>
  <dc:title>Аллергология</dc:title>
</cp:coreProperties>
</file>