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730D-7E59-4104-9B1B-67B7CD3B35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E5C1-64C7-44CE-B0EA-88F5F125F7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рапивниц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Это появление на коже волдырей разного размера, похожих на высыпания после ожога крапивой, сопровождающихся кожным зудом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8B25-B862-4E31-967F-8D568909D2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ищевая аллерг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У людей с пищевой аллергией возникает ухудшение самочувствия после употребления определенных продуктов питания, которые у других не вызывают отрицательных реакци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C078-57EC-4DCC-B528-6F3DBD7801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ook Antiqua"/>
              </a:rPr>
              <a:t>Признаки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 алл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E3A3-13E0-4252-973C-9AFDCAAF5F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Методы лечения алл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BD8C-38B2-4DCC-8984-D80AB12018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Благодарю за</a:t>
            </a:r>
            <a:r>
              <a:rPr b="1" i="1" lang="ru-RU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596C-09C7-4FE1-8FF3-6F03DA7405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- раздел медицины, изучающий аллергические заболевания, механизмы их возникновения и развития, методы их профилактики и лечения.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3439-D178-4ABF-945F-134BB496D4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Что такое аллергия?</a:t>
            </a:r>
            <a:br>
              <a:rPr sz="1200"/>
            </a:b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Аллергия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это необычная повышенная чувствительность к различным веществам, которые у большинства людей не вызывают болезненных реа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C3E4-7DA0-40C4-BF5B-5E0B113255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Book Antiqua"/>
              </a:rPr>
              <a:t>Аллерг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7B5D-D8EE-486B-994E-C256268F74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92E0-8974-444D-B1C8-8CC64D2985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Виды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аллерг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рин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Для аллергического ринита характерны водянистые выделения из носа, затруднение носового дыхания, чихание, зуд в области носа, снижение обоня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C3A0-2335-4EFA-83FF-54CBE63D78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К основным проявлениям аллергического конъюнктивита относятся зуд в области глаз, ощущение «песка» в глазах, слезотечение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светобоязнь, жжение глаз, покраснение и отек ве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2480-DAF6-439F-A09C-CBE6115B9E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оллиноз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Название «поллиноз» происходит от латинского слова pollen – пыльца, так как болезнь вызывает пыльца растений. Когда-то поллиноз называли сенной лихорадкой, считая, что причиной развития заболевания является сен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0085-AF18-4EC2-AC1B-53363CA347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63C-5515-42C3-A592-A9EAB216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983-074C-44E4-926F-DE1AEC13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86F0-00BA-4BC9-90AB-E0884557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011-D1B6-420E-8F12-A15E57A9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95E-E6ED-4227-90B4-4205B854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EBD-2C81-424B-BF92-B1DB3088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0B6-3E0E-41B0-B6DC-FBEBCD64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374-11C4-4FDA-8D65-9CDAC68E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448-612B-4B14-8CFE-00A269A1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FCCC-F8F5-4585-B813-BBAF9FDA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B67-C51F-41DD-990F-6A02FC3F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913-28DC-4317-A779-A1F8A353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BC3D-49EC-403A-9F57-AEBE3F015F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484360" y="4221000"/>
            <a:ext cx="655344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Материал 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ченица МОУ «СОШ»198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ротасов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читель Яппарова Татьяна Владимир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07-Adie--Shelter.mp3" descr=""/>
          <p:cNvPicPr/>
          <p:nvPr/>
        </p:nvPicPr>
        <p:blipFill>
          <a:blip r:embed="rId2"/>
          <a:stretch/>
        </p:blipFill>
        <p:spPr>
          <a:xfrm>
            <a:off x="250920" y="494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Крапивниц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Это появление на коже волдырей разного размера, похожих на высыпания после ожога крапивой, сопровождающихся кожным зудом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pidInfo-212-Krapivnica"/>
          <p:cNvPicPr/>
          <p:nvPr/>
        </p:nvPicPr>
        <p:blipFill>
          <a:blip r:embed="rId2"/>
          <a:stretch/>
        </p:blipFill>
        <p:spPr>
          <a:xfrm>
            <a:off x="2268360" y="2781360"/>
            <a:ext cx="4321440" cy="36925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Пищевая аллерг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У людей с пищевой аллергией возникает ухудшение самочувствия после употребления определенных продуктов питания, которые у других не вызывают отрицательных реакци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33_2"/>
          <p:cNvPicPr/>
          <p:nvPr/>
        </p:nvPicPr>
        <p:blipFill>
          <a:blip r:embed="rId2"/>
          <a:stretch/>
        </p:blipFill>
        <p:spPr>
          <a:xfrm>
            <a:off x="2700360" y="306864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 Antiqua"/>
              </a:rPr>
              <a:t>Признаки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аллерг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4-3"/>
          <p:cNvPicPr/>
          <p:nvPr/>
        </p:nvPicPr>
        <p:blipFill>
          <a:blip r:embed="rId2"/>
          <a:stretch/>
        </p:blipFill>
        <p:spPr>
          <a:xfrm>
            <a:off x="1835280" y="1844640"/>
            <a:ext cx="5256000" cy="39276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Методы лечения аллерг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Organization Chart 66"/>
          <p:cNvGrpSpPr/>
          <p:nvPr/>
        </p:nvGrpSpPr>
        <p:grpSpPr>
          <a:xfrm>
            <a:off x="1187280" y="1268280"/>
            <a:ext cx="5760720" cy="3128400"/>
            <a:chOff x="1187280" y="1268280"/>
            <a:chExt cx="5760720" cy="3128400"/>
          </a:xfrm>
        </p:grpSpPr>
        <p:cxnSp>
          <p:nvCxnSpPr>
            <p:cNvPr id="108" name="_s1028"/>
            <p:cNvCxnSpPr>
              <a:stCxn id="109" idx="4"/>
              <a:endCxn id="110" idx="3"/>
            </p:cNvCxnSpPr>
            <p:nvPr/>
          </p:nvCxnSpPr>
          <p:spPr>
            <a:xfrm flipV="1">
              <a:off x="2540880" y="3223080"/>
              <a:ext cx="284040" cy="8233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3" idx="3"/>
            </p:cNvCxnSpPr>
            <p:nvPr/>
          </p:nvCxnSpPr>
          <p:spPr>
            <a:xfrm flipV="1" rot="16200000">
              <a:off x="5191200" y="1363320"/>
              <a:ext cx="391680" cy="176436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4" name="_s1030"/>
            <p:cNvCxnSpPr>
              <a:stCxn id="115" idx="0"/>
              <a:endCxn id="113" idx="3"/>
            </p:cNvCxnSpPr>
            <p:nvPr/>
          </p:nvCxnSpPr>
          <p:spPr>
            <a:xfrm flipV="1" rot="16200000">
              <a:off x="4350960" y="2203560"/>
              <a:ext cx="391680" cy="8352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6" name="_s1031"/>
            <p:cNvCxnSpPr>
              <a:stCxn id="110" idx="0"/>
              <a:endCxn id="113" idx="3"/>
            </p:cNvCxnSpPr>
            <p:nvPr/>
          </p:nvCxnSpPr>
          <p:spPr>
            <a:xfrm flipH="1" flipV="1" rot="5400000">
              <a:off x="3510720" y="1446480"/>
              <a:ext cx="391680" cy="159804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13" name="_s1032"/>
            <p:cNvSpPr/>
            <p:nvPr/>
          </p:nvSpPr>
          <p:spPr>
            <a:xfrm>
              <a:off x="3826800" y="126828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Ле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214596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Нетрадиционн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медицин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4"/>
            <p:cNvSpPr/>
            <p:nvPr/>
          </p:nvSpPr>
          <p:spPr>
            <a:xfrm>
              <a:off x="382680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Лекарствен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препарат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5"/>
            <p:cNvSpPr/>
            <p:nvPr/>
          </p:nvSpPr>
          <p:spPr>
            <a:xfrm>
              <a:off x="550764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Предотвраще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контакта с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аллерген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6"/>
            <p:cNvSpPr/>
            <p:nvPr/>
          </p:nvSpPr>
          <p:spPr>
            <a:xfrm>
              <a:off x="1187280" y="3614760"/>
              <a:ext cx="143892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Иглоукалыва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82" descr="acupuncture-to-body1"/>
          <p:cNvPicPr/>
          <p:nvPr/>
        </p:nvPicPr>
        <p:blipFill>
          <a:blip r:embed="rId2"/>
          <a:stretch/>
        </p:blipFill>
        <p:spPr>
          <a:xfrm>
            <a:off x="395280" y="4545000"/>
            <a:ext cx="2521080" cy="1681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3" descr="014"/>
          <p:cNvPicPr/>
          <p:nvPr/>
        </p:nvPicPr>
        <p:blipFill>
          <a:blip r:embed="rId3"/>
          <a:stretch/>
        </p:blipFill>
        <p:spPr>
          <a:xfrm>
            <a:off x="3348000" y="3429000"/>
            <a:ext cx="2158920" cy="14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4" descr="enc_entry_4767"/>
          <p:cNvPicPr/>
          <p:nvPr/>
        </p:nvPicPr>
        <p:blipFill>
          <a:blip r:embed="rId4"/>
          <a:stretch/>
        </p:blipFill>
        <p:spPr>
          <a:xfrm>
            <a:off x="5724360" y="4524480"/>
            <a:ext cx="3060720" cy="17222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alreakcia"/>
          <p:cNvPicPr/>
          <p:nvPr/>
        </p:nvPicPr>
        <p:blipFill>
          <a:blip r:embed="rId1"/>
          <a:stretch/>
        </p:blipFill>
        <p:spPr>
          <a:xfrm>
            <a:off x="611280" y="85680"/>
            <a:ext cx="7921440" cy="67723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755640" y="260280"/>
            <a:ext cx="838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8000" y="0"/>
            <a:ext cx="91440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Book Antiqua"/>
              </a:rPr>
              <a:t>Берегите Ваше здоровь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8000" y="5229360"/>
            <a:ext cx="8139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Благодарю за</a:t>
            </a:r>
            <a:r>
              <a:rPr b="1" i="1" lang="ru-RU" sz="4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5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6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>
            <a:hlinkClick r:id="rId2" action="ppaction://hlinksldjump"/>
          </p:cNvPr>
          <p:cNvSpPr/>
          <p:nvPr/>
        </p:nvSpPr>
        <p:spPr>
          <a:xfrm>
            <a:off x="1476360" y="285264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ле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>
            <a:hlinkClick r:id="rId3" action="ppaction://hlinksldjump"/>
          </p:cNvPr>
          <p:cNvSpPr/>
          <p:nvPr/>
        </p:nvSpPr>
        <p:spPr>
          <a:xfrm>
            <a:off x="1476360" y="350028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лерг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>
            <a:hlinkClick r:id="rId4" action="ppaction://hlinksldjump"/>
          </p:cNvPr>
          <p:cNvSpPr/>
          <p:nvPr/>
        </p:nvSpPr>
        <p:spPr>
          <a:xfrm>
            <a:off x="1476360" y="414972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>
            <a:hlinkClick r:id="rId5" action="ppaction://hlinksldjump"/>
          </p:cNvPr>
          <p:cNvSpPr/>
          <p:nvPr/>
        </p:nvSpPr>
        <p:spPr>
          <a:xfrm>
            <a:off x="1476360" y="486900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ма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>
            <a:hlinkClick r:id="rId6" action="ppaction://hlinksldjump"/>
          </p:cNvPr>
          <p:cNvSpPr/>
          <p:nvPr/>
        </p:nvSpPr>
        <p:spPr>
          <a:xfrm>
            <a:off x="1476360" y="551664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1476360" y="616572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ъюнктив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5076720" y="285264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ли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5076720" y="342900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пив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5076720" y="414972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5076720" y="551664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2"/>
          <p:cNvSpPr/>
          <p:nvPr/>
        </p:nvSpPr>
        <p:spPr>
          <a:xfrm>
            <a:off x="5076720" y="479736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4"/>
          <p:cNvSpPr/>
          <p:nvPr/>
        </p:nvSpPr>
        <p:spPr>
          <a:xfrm>
            <a:off x="5076720" y="623736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268360" y="2205000"/>
            <a:ext cx="4175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0" y="836640"/>
            <a:ext cx="914400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- раздел медицины, изучающий аллергические заболевания, механизмы их возникновения и развития, методы их профилактики и лечения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 Antiqua"/>
              </a:rPr>
              <a:t>Что такое аллергия?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95280" y="2133720"/>
            <a:ext cx="42480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 Antiqua"/>
              </a:rPr>
              <a:t>Аллерг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это необычная повышенная чувствительность к различным веществам, которые у большинства людей не вызывают болезненных реак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15458424"/>
          <p:cNvPicPr/>
          <p:nvPr/>
        </p:nvPicPr>
        <p:blipFill>
          <a:blip r:embed="rId1"/>
          <a:stretch/>
        </p:blipFill>
        <p:spPr>
          <a:xfrm>
            <a:off x="5219640" y="1700280"/>
            <a:ext cx="3175200" cy="44956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9b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0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3300"/>
                </a:solidFill>
                <a:latin typeface="Book Antiqua"/>
              </a:rPr>
              <a:t>Аллерге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ig_3612"/>
          <p:cNvPicPr/>
          <p:nvPr/>
        </p:nvPicPr>
        <p:blipFill>
          <a:blip r:embed="rId1"/>
          <a:stretch/>
        </p:blipFill>
        <p:spPr>
          <a:xfrm>
            <a:off x="1403280" y="2708280"/>
            <a:ext cx="6337440" cy="38019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0" y="981000"/>
            <a:ext cx="9144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Book Antiqua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993300"/>
                </a:solidFill>
                <a:latin typeface="Book Antiqua"/>
              </a:rPr>
              <a:t>чужеродные вещества, которые, поступая в организм, становятся основной причиной аллергических реакци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Book Antiqua"/>
              </a:rPr>
              <a:t>Виды </a:t>
            </a:r>
            <a:r>
              <a:rPr b="0" lang="ru-RU" sz="7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Book Antiqua"/>
              </a:rPr>
              <a:t>аллергии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68360" y="1989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топический дермат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68360" y="254952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рин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68360" y="311148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6734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оллино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468360" y="42354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рапивни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68360" y="4797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ищев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топический дермат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2738883_f520"/>
          <p:cNvPicPr/>
          <p:nvPr/>
        </p:nvPicPr>
        <p:blipFill>
          <a:blip r:embed="rId2"/>
          <a:stretch/>
        </p:blipFill>
        <p:spPr>
          <a:xfrm>
            <a:off x="1476360" y="2924280"/>
            <a:ext cx="5616720" cy="3143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0" y="907920"/>
            <a:ext cx="914400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хроническое аллергическое заболевание кожи, развитие которого связано как с наследственной предрасположенностью, так и с воздействием целого ряда неблагоприятных факторов внешне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ллергический рини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Для аллергического ринита характерны водянистые выделения из носа, затруднение носового дыхания, чихание, зуд в области носа, снижение обоня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nose1"/>
          <p:cNvPicPr/>
          <p:nvPr/>
        </p:nvPicPr>
        <p:blipFill>
          <a:blip r:embed="rId2"/>
          <a:stretch/>
        </p:blipFill>
        <p:spPr>
          <a:xfrm>
            <a:off x="1979640" y="3068640"/>
            <a:ext cx="4824360" cy="32781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 основным проявлениям аллергического конъюнктивита относятся зуд в области глаз, ощущение «песка» в глазах, слезотечение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светобоязнь, жжение глаз, покраснение и отек век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on"/>
          <p:cNvPicPr/>
          <p:nvPr/>
        </p:nvPicPr>
        <p:blipFill>
          <a:blip r:embed="rId2"/>
          <a:stretch/>
        </p:blipFill>
        <p:spPr>
          <a:xfrm>
            <a:off x="1692360" y="2997360"/>
            <a:ext cx="4968720" cy="3311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Поллиноз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Название «поллиноз» происходит от латинского слова pollen – пыльца, так как болезнь вызывает пыльца растений. Когда-то поллиноз называли сенной лихорадкой, считая, что причиной развития заболевания является сено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43971412"/>
          <p:cNvPicPr/>
          <p:nvPr/>
        </p:nvPicPr>
        <p:blipFill>
          <a:blip r:embed="rId2"/>
          <a:stretch/>
        </p:blipFill>
        <p:spPr>
          <a:xfrm>
            <a:off x="2627280" y="342900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13:13:13Z</dcterms:created>
  <dc:creator>User</dc:creator>
  <dc:description/>
  <dc:language>en-US</dc:language>
  <cp:lastModifiedBy>LEGION</cp:lastModifiedBy>
  <dcterms:modified xsi:type="dcterms:W3CDTF">2015-02-13T11:07:29Z</dcterms:modified>
  <cp:revision>12</cp:revision>
  <dc:subject/>
  <dc:title>Аллергология</dc:title>
</cp:coreProperties>
</file>