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0E1E-2D88-44A9-BFD3-9A045EA4F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8BDB-C2B1-4E00-AACF-6031D9A7A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61F9-27AF-43BF-A3E2-2574C8DFC8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748F-0DDC-42A5-B797-FB1202FCD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91A4-0DC6-4DE0-B128-38D7F1D585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620-41C8-48D5-A4F4-1ACB0A815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221-084C-4A67-8043-65A007B3E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E55-9BD7-407C-AB48-E2FBCC224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1200"/>
            </a:br>
            <a:r>
              <a:rPr b="1" i="1" lang="ru-RU" sz="18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D13D-5D1A-4A74-B5D1-710125A54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AC9-3316-4962-9778-DC43435E4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3DAF-C6C2-49A2-9BCE-254709A76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41D-7E80-4416-8EFD-DBFED400C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988-4DC5-494E-B332-10D5ACC740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2972-AFB1-4C5C-82D3-1623C13ED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EB5-9AFD-4491-BC11-BB6285F4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2D8-728C-42D7-8489-C630E82E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BD6-248B-4A9A-9785-D149A938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644-F545-4548-B86F-4E1D01BE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EEC7-B3A4-427C-B481-51093E0E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E92-D3B9-4D3B-97C2-E1069D6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430-05C8-465A-AEF5-6985E2C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2A4-F9CD-4282-8F68-67E698CC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70F-1BEF-4420-AABE-14F6464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DAD-596D-4D7D-B423-59CFD88F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B07-31D8-46BE-90F3-3E90884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19E-049E-4510-9B08-3BD3F65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BD9D-782A-436E-AF24-1EE8F0636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484360" y="4221000"/>
            <a:ext cx="65534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териал подгото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еница МОУ «СОШ»198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ротасова Анаста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читель Яппарова Татьяна Владимир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7-Adie--Shelter.mp3" descr=""/>
          <p:cNvPicPr/>
          <p:nvPr/>
        </p:nvPicPr>
        <p:blipFill>
          <a:blip r:embed="rId2"/>
          <a:stretch/>
        </p:blipFill>
        <p:spPr>
          <a:xfrm>
            <a:off x="25092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Крапивниц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появление на коже волдырей разного размера, похожих на высыпания после ожога крапивой, сопровождающихся кожным зудо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SpidInfo-212-Krapivnica"/>
          <p:cNvPicPr/>
          <p:nvPr/>
        </p:nvPicPr>
        <p:blipFill>
          <a:blip r:embed="rId2"/>
          <a:stretch/>
        </p:blipFill>
        <p:spPr>
          <a:xfrm>
            <a:off x="2268360" y="2781360"/>
            <a:ext cx="4321440" cy="36925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ищевая аллерг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У людей с пищевой аллергией возникает ухудшение самочувствия после употребления определенных продуктов питания, которые у других не вызывают отрицательных реакц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33_2"/>
          <p:cNvPicPr/>
          <p:nvPr/>
        </p:nvPicPr>
        <p:blipFill>
          <a:blip r:embed="rId2"/>
          <a:stretch/>
        </p:blipFill>
        <p:spPr>
          <a:xfrm>
            <a:off x="2700360" y="306864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Признаки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аллерг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4-3"/>
          <p:cNvPicPr/>
          <p:nvPr/>
        </p:nvPicPr>
        <p:blipFill>
          <a:blip r:embed="rId2"/>
          <a:stretch/>
        </p:blipFill>
        <p:spPr>
          <a:xfrm>
            <a:off x="1835280" y="1844640"/>
            <a:ext cx="5256000" cy="39276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Методы лечения аллерг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Organization Chart 66"/>
          <p:cNvGrpSpPr/>
          <p:nvPr/>
        </p:nvGrpSpPr>
        <p:grpSpPr>
          <a:xfrm>
            <a:off x="1187280" y="1268280"/>
            <a:ext cx="5760720" cy="3128400"/>
            <a:chOff x="1187280" y="1268280"/>
            <a:chExt cx="5760720" cy="3128400"/>
          </a:xfrm>
        </p:grpSpPr>
        <p:cxnSp>
          <p:nvCxnSpPr>
            <p:cNvPr id="108" name="_s1028"/>
            <p:cNvCxnSpPr>
              <a:stCxn id="109" idx="4"/>
              <a:endCxn id="110" idx="3"/>
            </p:cNvCxnSpPr>
            <p:nvPr/>
          </p:nvCxnSpPr>
          <p:spPr>
            <a:xfrm flipV="1">
              <a:off x="2540880" y="3223080"/>
              <a:ext cx="284040" cy="8233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3" idx="3"/>
            </p:cNvCxnSpPr>
            <p:nvPr/>
          </p:nvCxnSpPr>
          <p:spPr>
            <a:xfrm flipV="1" rot="16200000">
              <a:off x="5191200" y="1363320"/>
              <a:ext cx="391680" cy="176436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4" name="_s1030"/>
            <p:cNvCxnSpPr>
              <a:stCxn id="115" idx="0"/>
              <a:endCxn id="113" idx="3"/>
            </p:cNvCxnSpPr>
            <p:nvPr/>
          </p:nvCxnSpPr>
          <p:spPr>
            <a:xfrm flipV="1" rot="16200000">
              <a:off x="4350960" y="2203560"/>
              <a:ext cx="391680" cy="8352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6" name="_s1031"/>
            <p:cNvCxnSpPr>
              <a:stCxn id="110" idx="0"/>
              <a:endCxn id="113" idx="3"/>
            </p:cNvCxnSpPr>
            <p:nvPr/>
          </p:nvCxnSpPr>
          <p:spPr>
            <a:xfrm flipH="1" flipV="1" rot="5400000">
              <a:off x="3510720" y="1446480"/>
              <a:ext cx="391680" cy="1598040"/>
            </a:xfrm>
            <a:prstGeom prst="bentConnector3">
              <a:avLst>
                <a:gd name="adj1" fmla="val 29254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3826800" y="126828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Ле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214596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Нетрадиционна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медици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382680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Лекарственны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параты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5"/>
            <p:cNvSpPr/>
            <p:nvPr/>
          </p:nvSpPr>
          <p:spPr>
            <a:xfrm>
              <a:off x="5507640" y="2441520"/>
              <a:ext cx="144036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Предотвращ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контакта с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аллергенам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187280" y="3614760"/>
              <a:ext cx="1438920" cy="781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omic Sans MS"/>
                </a:rPr>
                <a:t>Иглоукалыва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82" descr="acupuncture-to-body1"/>
          <p:cNvPicPr/>
          <p:nvPr/>
        </p:nvPicPr>
        <p:blipFill>
          <a:blip r:embed="rId2"/>
          <a:stretch/>
        </p:blipFill>
        <p:spPr>
          <a:xfrm>
            <a:off x="395280" y="4545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3" descr="014"/>
          <p:cNvPicPr/>
          <p:nvPr/>
        </p:nvPicPr>
        <p:blipFill>
          <a:blip r:embed="rId3"/>
          <a:stretch/>
        </p:blipFill>
        <p:spPr>
          <a:xfrm>
            <a:off x="3348000" y="3429000"/>
            <a:ext cx="2158920" cy="14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4" descr="enc_entry_4767"/>
          <p:cNvPicPr/>
          <p:nvPr/>
        </p:nvPicPr>
        <p:blipFill>
          <a:blip r:embed="rId4"/>
          <a:stretch/>
        </p:blipFill>
        <p:spPr>
          <a:xfrm>
            <a:off x="5724360" y="4524480"/>
            <a:ext cx="3060720" cy="17222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alreakcia"/>
          <p:cNvPicPr/>
          <p:nvPr/>
        </p:nvPicPr>
        <p:blipFill>
          <a:blip r:embed="rId1"/>
          <a:stretch/>
        </p:blipFill>
        <p:spPr>
          <a:xfrm>
            <a:off x="611280" y="85680"/>
            <a:ext cx="7921440" cy="67723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55640" y="260280"/>
            <a:ext cx="838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0"/>
            <a:ext cx="9144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Book Antiqua"/>
              </a:rPr>
              <a:t>Берегите Ваше здоровь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8000" y="5229360"/>
            <a:ext cx="813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Благодарю за</a:t>
            </a:r>
            <a:r>
              <a:rPr b="1" i="1" lang="ru-RU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Book Antiqua"/>
              </a:rPr>
              <a:t>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5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олог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>
            <a:hlinkClick r:id="rId2" action="ppaction://hlinksldjump"/>
          </p:cNvPr>
          <p:cNvSpPr/>
          <p:nvPr/>
        </p:nvSpPr>
        <p:spPr>
          <a:xfrm>
            <a:off x="147636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>
            <a:hlinkClick r:id="rId3" action="ppaction://hlinksldjump"/>
          </p:cNvPr>
          <p:cNvSpPr/>
          <p:nvPr/>
        </p:nvSpPr>
        <p:spPr>
          <a:xfrm>
            <a:off x="1476360" y="350028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rId4" action="ppaction://hlinksldjump"/>
          </p:cNvPr>
          <p:cNvSpPr/>
          <p:nvPr/>
        </p:nvSpPr>
        <p:spPr>
          <a:xfrm>
            <a:off x="147636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5" action="ppaction://hlinksldjump"/>
          </p:cNvPr>
          <p:cNvSpPr/>
          <p:nvPr/>
        </p:nvSpPr>
        <p:spPr>
          <a:xfrm>
            <a:off x="1476360" y="486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6" action="ppaction://hlinksldjump"/>
          </p:cNvPr>
          <p:cNvSpPr/>
          <p:nvPr/>
        </p:nvSpPr>
        <p:spPr>
          <a:xfrm>
            <a:off x="147636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1476360" y="616572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ъюнкти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5076720" y="2852640"/>
            <a:ext cx="2303640" cy="50508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462" h="21600">
                <a:moveTo>
                  <a:pt x="0" y="0"/>
                </a:moveTo>
                <a:lnTo>
                  <a:pt x="98462" y="0"/>
                </a:lnTo>
                <a:lnTo>
                  <a:pt x="98462" y="21600"/>
                </a:lnTo>
                <a:lnTo>
                  <a:pt x="0" y="21600"/>
                </a:lnTo>
                <a:close/>
              </a:path>
              <a:path fill="lightenLess" w="98462" h="21600">
                <a:moveTo>
                  <a:pt x="0" y="0"/>
                </a:moveTo>
                <a:lnTo>
                  <a:pt x="98462" y="0"/>
                </a:lnTo>
                <a:lnTo>
                  <a:pt x="97062" y="1400"/>
                </a:lnTo>
                <a:lnTo>
                  <a:pt x="1400" y="1400"/>
                </a:lnTo>
                <a:close/>
              </a:path>
              <a:path fill="darken" w="98462" h="21600">
                <a:moveTo>
                  <a:pt x="98462" y="0"/>
                </a:moveTo>
                <a:lnTo>
                  <a:pt x="98462" y="21600"/>
                </a:lnTo>
                <a:lnTo>
                  <a:pt x="97062" y="20200"/>
                </a:lnTo>
                <a:lnTo>
                  <a:pt x="97062" y="1400"/>
                </a:lnTo>
                <a:close/>
              </a:path>
              <a:path fill="darkenLess" w="98462" h="21600">
                <a:moveTo>
                  <a:pt x="98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062" y="20200"/>
                </a:lnTo>
                <a:close/>
              </a:path>
              <a:path fill="lighten" w="98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ли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5076720" y="342900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пив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5076720" y="414972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щ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5076720" y="551664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>
            <a:off x="5076720" y="479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4"/>
          <p:cNvSpPr/>
          <p:nvPr/>
        </p:nvSpPr>
        <p:spPr>
          <a:xfrm>
            <a:off x="5076720" y="6237360"/>
            <a:ext cx="2303640" cy="504720"/>
          </a:xfrm>
          <a:custGeom>
            <a:avLst/>
            <a:gdLst>
              <a:gd name="textAreaLeft" fmla="*/ 32400 w 2303640"/>
              <a:gd name="textAreaRight" fmla="*/ 2271240 w 230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32" h="21600">
                <a:moveTo>
                  <a:pt x="0" y="0"/>
                </a:moveTo>
                <a:lnTo>
                  <a:pt x="98532" y="0"/>
                </a:lnTo>
                <a:lnTo>
                  <a:pt x="98532" y="21600"/>
                </a:lnTo>
                <a:lnTo>
                  <a:pt x="0" y="21600"/>
                </a:lnTo>
                <a:close/>
              </a:path>
              <a:path fill="lightenLess" w="98532" h="21600">
                <a:moveTo>
                  <a:pt x="0" y="0"/>
                </a:moveTo>
                <a:lnTo>
                  <a:pt x="98532" y="0"/>
                </a:lnTo>
                <a:lnTo>
                  <a:pt x="97132" y="1400"/>
                </a:lnTo>
                <a:lnTo>
                  <a:pt x="1400" y="1400"/>
                </a:lnTo>
                <a:close/>
              </a:path>
              <a:path fill="darken" w="98532" h="21600">
                <a:moveTo>
                  <a:pt x="98532" y="0"/>
                </a:moveTo>
                <a:lnTo>
                  <a:pt x="98532" y="21600"/>
                </a:lnTo>
                <a:lnTo>
                  <a:pt x="97132" y="20200"/>
                </a:lnTo>
                <a:lnTo>
                  <a:pt x="97132" y="1400"/>
                </a:lnTo>
                <a:close/>
              </a:path>
              <a:path fill="darkenLess" w="98532" h="21600">
                <a:moveTo>
                  <a:pt x="98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32" y="20200"/>
                </a:lnTo>
                <a:close/>
              </a:path>
              <a:path fill="lighten" w="98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eaffd5"/>
              </a:gs>
              <a:gs pos="100000">
                <a:srgbClr val="9999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268360" y="2205000"/>
            <a:ext cx="417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0" y="836640"/>
            <a:ext cx="9144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- раздел медицины, изучающий аллергические заболевания, механизмы их возникновения и развития, методы их профилактики и лечения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 Antiqua"/>
              </a:rPr>
              <a:t>Что такое аллергия?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95280" y="2133720"/>
            <a:ext cx="4248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 Antiqua"/>
              </a:rPr>
              <a:t>Аллерг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это необычная повышенная чувствительность к различным веществам, которые у большинства людей не вызывают болезненных реак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15458424"/>
          <p:cNvPicPr/>
          <p:nvPr/>
        </p:nvPicPr>
        <p:blipFill>
          <a:blip r:embed="rId1"/>
          <a:stretch/>
        </p:blipFill>
        <p:spPr>
          <a:xfrm>
            <a:off x="5219640" y="1700280"/>
            <a:ext cx="31752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9b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0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Book Antiqua"/>
              </a:rPr>
              <a:t>Аллерге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ig_3612"/>
          <p:cNvPicPr/>
          <p:nvPr/>
        </p:nvPicPr>
        <p:blipFill>
          <a:blip r:embed="rId1"/>
          <a:stretch/>
        </p:blipFill>
        <p:spPr>
          <a:xfrm>
            <a:off x="1403280" y="2708280"/>
            <a:ext cx="6337440" cy="380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0" y="981000"/>
            <a:ext cx="91440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993300"/>
                </a:solidFill>
                <a:latin typeface="Book Antiqua"/>
              </a:rPr>
              <a:t>чужеродные вещества, которые, поступая в организм, становятся основной причиной аллергических реакц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Виды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7200" spc="-1" strike="noStrike" u="sng">
                <a:solidFill>
                  <a:srgbClr val="000000"/>
                </a:solidFill>
                <a:uFillTx/>
                <a:latin typeface="Book Antiqua"/>
              </a:rPr>
              <a:t>аллерги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1989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топический дермат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8360" y="254952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рин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68360" y="31114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6734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оллино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468360" y="42354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рапивни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4797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shelf Symbol 7"/>
                <a:ea typeface="Bookshelf Symbol 7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Пищ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аллерг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топический дермат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738883_f520"/>
          <p:cNvPicPr/>
          <p:nvPr/>
        </p:nvPicPr>
        <p:blipFill>
          <a:blip r:embed="rId2"/>
          <a:stretch/>
        </p:blipFill>
        <p:spPr>
          <a:xfrm>
            <a:off x="1476360" y="2924280"/>
            <a:ext cx="5616720" cy="314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0" y="907920"/>
            <a:ext cx="914400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хроническое аллергическое заболевание кожи, развитие которого связано как с наследственной предрасположенностью, так и с воздействием целого ряда неблагоприятных факторов внешней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Аллергический рин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Для аллергического ринита характерны водянистые выделения из носа, затруднение носового дыхания, чихание, зуд в области носа, снижение обоня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nose1"/>
          <p:cNvPicPr/>
          <p:nvPr/>
        </p:nvPicPr>
        <p:blipFill>
          <a:blip r:embed="rId2"/>
          <a:stretch/>
        </p:blipFill>
        <p:spPr>
          <a:xfrm>
            <a:off x="1979640" y="3068640"/>
            <a:ext cx="4824360" cy="3278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 Antiqua"/>
              </a:rPr>
              <a:t>Аллергический конъюнктивит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К основным проявлениям аллергического конъюнктивита относятся зуд в области глаз, ощущение «песка» в глазах, слезотечение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светобоязнь, жжение глаз, покраснение и отек век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on"/>
          <p:cNvPicPr/>
          <p:nvPr/>
        </p:nvPicPr>
        <p:blipFill>
          <a:blip r:embed="rId2"/>
          <a:stretch/>
        </p:blipFill>
        <p:spPr>
          <a:xfrm>
            <a:off x="1692360" y="2997360"/>
            <a:ext cx="496872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Поллиноз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Название «поллиноз» происходит от латинского слова pollen – пыльца, так как болезнь вызывает пыльца растений. Когда-то поллиноз называли сенной лихорадкой, считая, что причиной развития заболевания является се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43971412"/>
          <p:cNvPicPr/>
          <p:nvPr/>
        </p:nvPicPr>
        <p:blipFill>
          <a:blip r:embed="rId2"/>
          <a:stretch/>
        </p:blipFill>
        <p:spPr>
          <a:xfrm>
            <a:off x="2627280" y="342900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13:13:13Z</dcterms:created>
  <dc:creator>User</dc:creator>
  <dc:description/>
  <dc:language>en-US</dc:language>
  <cp:lastModifiedBy>LEGION</cp:lastModifiedBy>
  <dcterms:modified xsi:type="dcterms:W3CDTF">2015-02-13T11:07:29Z</dcterms:modified>
  <cp:revision>12</cp:revision>
  <dc:subject/>
  <dc:title>Аллергология</dc:title>
</cp:coreProperties>
</file>