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CBE6-9346-4C6B-B3FF-DF61D9212F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дисциплине: «Основы сестринского де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Филатова А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7414-7350-4D18-BEC0-B5BD9059A9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онятие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Я – комплекс мероприятий, направленный на уничтожение в дезинфицируемом объекте патогенных и условно-патогенных микро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C340-ECE2-46A7-9251-F63841E45B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9FF6-9C5D-4437-AA37-3C77DFA3D3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Мето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E42F-4362-49B4-91DD-575D9981CF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Химические средства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2046-3A93-40EA-B314-BEC5ADF1D7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особы использования дезинфекта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55D0-A44D-488C-8A98-65DA5D9643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Меры предосторожности при работе с дезинфекта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аботе с дезинфектантами допускаются лица, достигшие 18-и лет и прошедшие инструктаж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допускаются лица с повышенной чувствительностью к применяемым химическим сред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езинфектантами работают только в средствах индивидуальной защи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разводят в специальных комнатах – санитарных комна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разводят в специальной таре, промаркированной, с плотной крыш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хранят в фирменной упаковке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ресыпание, переливание недопустим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должны храниться в недоступном для пациента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1967-8D0E-4DDE-9972-41BB3B3124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бор и хранение медицинских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F574-415F-483D-96C7-6B4C3D3125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исок используем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4BCF-534A-467A-B6C6-153F1268BD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432B-7DC6-4A1E-B875-915198F9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CCB0-D18E-414A-84E5-33ECFE83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1A96-AC90-47B0-8170-98E1C809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574-01F3-48B9-B98D-238B60DB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4823-5A69-402C-BADB-76971D05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C3BE-5009-4784-9FA7-3B123A24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72A0-6A53-41AD-9ECE-A1585DBC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42DE-BAEE-4281-80C5-CF9F228F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EEC2-33B0-4CAB-A1D9-3F6027EB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68E7-15BA-4E72-BD20-7600C1D9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9D07-DF07-47B0-9689-EF70276F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2F6-D341-4870-8693-ADF64B34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835D-93CE-45DF-9884-20D3AC5A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EDFE-BD1B-4CD5-ABFC-AA57C70E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699F-4196-47F3-A7E4-F9563EE8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3794-C2C0-4765-BE07-45074534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F604-ECBD-4F4E-A7D2-EDA15D7D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06863-E009-440C-8391-501AD339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1ED1B-5E52-4F65-8860-634C625B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1334A-8766-4334-B4C6-8D680A85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235DD-697C-4C7D-9611-B1AA7986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0C97B-09A5-421A-81E8-6FCE99D8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512-138E-45E4-B394-DC53A06C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DC703-69B9-43C5-AA5E-D432A55E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2A17C-5EBC-4960-85DC-0AD49BA6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272F3-B2B0-465F-9070-E75474EF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EF1C8-DFCF-4AC4-9A69-A3B1B191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4F398-5532-48C9-A93A-1319979D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37EA6-F1C6-4A4A-ACDE-BD956188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AD49D-65DD-40AD-8526-2BEE752F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395A6-5B8A-42CC-B190-78AB2A8E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9C4B6-0B7E-4197-B90E-A6C2007A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C38A0-037B-4C91-BCC4-FD56FE0F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6BC-FA31-46A2-B6F6-6CF91794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44139-1BAF-4A2B-BE2B-A15F208C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61C29-3B15-4F58-BD7F-89B2B4AF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54CB1-EF71-44B6-83C1-E0A26E06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9F345-AF8A-4AFC-9E1A-F6AC7974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91912-475A-4EC8-A58E-392A908B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3D3D6-C9AD-4E6E-A683-69ADEA35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50662-A5DE-4DD9-93BB-EF3D6D64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27D30-355B-42E7-8C0D-33572915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BEDE6-44A6-49F1-A018-76017292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FC77D-036F-4DED-9EA0-2D48D194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390-5931-4BB3-B0E6-AADEB805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12188-352D-4E5F-9D8F-46F037BA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00902-7448-40D7-AFBA-681D2EE8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4F98E-BE65-4ED6-BC2E-374FBB25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545DC-7C7D-47D7-B5C9-EC4CC737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412E7-C6E3-459C-938E-35DE8583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D4EA6-B995-45D2-8B50-0F33E360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5E7FE-978B-4657-9182-A18F5356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DFF72-EAEA-421C-9BFC-0CCFF60B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D704D-076C-441D-954F-E3C1D0CE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6A437-F388-49D5-ABB7-FE672867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1AF-F5AE-4A9F-8713-4701BE9B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74123-87CB-4DC4-8D0F-49605436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F5B02-4DEF-4759-B741-DD27EC3E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F4030-D5BE-40E2-85F6-2720ADFF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56F78-E138-4A66-A1FF-C3750C3C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B574B-B519-44ED-A84D-54D8F2AA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23785-6F84-4579-9EAE-3D06B520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CFBD1-9994-4AA0-B954-33AE2895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7A0F0-CD3D-43A0-BE88-549B6B3B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E7B76-4448-4429-A6B8-D60F1730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374BB-1B8C-4157-B8A8-E9A437E1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FDD-ACA4-40A3-9627-03467C9E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594B4-0848-4557-B1C5-B47B519E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FC5C4-B89D-4B20-ABFF-C5AF99D4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D89EA-3E01-466E-ABF0-5410ACC5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EE3B0-7895-422A-B8F0-34E18534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491B7-BEDB-4147-9AD7-2D38A264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A949B-37E7-40B0-88FB-3704B74A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F1AD3-657C-44EE-92B2-B9ED465F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307CE-867B-4A78-9BE3-ABEEAD85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EAFB3-F07A-4503-89E5-3C26477D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AC651-60C2-4396-8C78-800FD802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E58-68BB-45D0-B382-62C883E2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CBD91-4CCC-49A2-ABD2-00DE859F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66F74-0276-4078-A34F-54172420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85A13-DC94-4E62-8BB8-BC4C6D4E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E7BEF-DF70-47F8-9875-A698F0FB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80686-3572-4787-A75A-EBF21E77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242-E36A-41CD-85D9-AC5B85BD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F949-E63D-4D6E-8AE6-F647D8B90D8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6409-2C9E-42E2-A291-3032D6DFDFA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5567-2004-4820-BCF2-70E944EB544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46F8-1703-46D4-85D2-2380AF20627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AD3D-D017-4A4C-9C9D-9A1A185B252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D910-B399-4C33-9AD0-6E18B2C9206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A459-298D-4F01-925A-D6566CED597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111B-B827-42E6-AFF2-E170375D53F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9D02-5166-42C2-91D6-0CAE235A71B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187F-F6BD-4BF5-BCD3-F13E6B3B8E2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C856-0F9C-44EE-B1D5-0E394F60554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A03D-21D2-47AC-A34E-993D571BF5E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9A4B-9BB8-4A94-A3CC-0C3876AFECD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4F73-5640-4E05-B19E-443ECE761B5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3" descr="7.jpg"/>
          <p:cNvPicPr/>
          <p:nvPr/>
        </p:nvPicPr>
        <p:blipFill>
          <a:blip r:embed="rId1"/>
          <a:stretch/>
        </p:blipFill>
        <p:spPr>
          <a:xfrm>
            <a:off x="1071720" y="2928960"/>
            <a:ext cx="5047920" cy="37861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ЗИНФЕК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432080" y="1848960"/>
            <a:ext cx="771192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резентация по дисциплине: «Основы сестринского дел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Автор: Филатова А.С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6143760" y="60721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екция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нятие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ЗИНФЕКЦИЯ – комплекс мероприятий, направленный на уничтожение в дезинфицируемом объекте патогенных и условно-патогенных микроорганизм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Рисунок 3" descr="8.jpg"/>
          <p:cNvPicPr/>
          <p:nvPr/>
        </p:nvPicPr>
        <p:blipFill>
          <a:blip r:embed="rId1"/>
          <a:stretch/>
        </p:blipFill>
        <p:spPr>
          <a:xfrm>
            <a:off x="1285920" y="3830760"/>
            <a:ext cx="7858080" cy="286380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2857680" y="1357200"/>
            <a:ext cx="43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ДЕЗИНФ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1071720" y="19288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офилак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5643720" y="19288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Очаг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6"/>
          <p:cNvSpPr/>
          <p:nvPr/>
        </p:nvSpPr>
        <p:spPr>
          <a:xfrm>
            <a:off x="1143000" y="292896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оматическое отделение стацион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1143000" y="41432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Амбулаторное лечеб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385776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ку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6357960" y="257184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ключ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0"/>
          <p:cNvSpPr/>
          <p:nvPr/>
        </p:nvSpPr>
        <p:spPr>
          <a:xfrm>
            <a:off x="4000680" y="3357720"/>
            <a:ext cx="207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изводится многократно до госпитализации в домашних условиях и Л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1"/>
          <p:cNvSpPr/>
          <p:nvPr/>
        </p:nvSpPr>
        <p:spPr>
          <a:xfrm>
            <a:off x="6215040" y="342900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арелки, ложки, дверные ручки, туалет, па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2"/>
          <p:cNvSpPr/>
          <p:nvPr/>
        </p:nvSpPr>
        <p:spPr>
          <a:xfrm>
            <a:off x="6286680" y="4714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изводится однокра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Прямая со стрелкой 14"/>
          <p:cNvCxnSpPr/>
          <p:nvPr/>
        </p:nvCxnSpPr>
        <p:spPr>
          <a:xfrm flipH="1">
            <a:off x="2999880" y="1714680"/>
            <a:ext cx="1966320" cy="2433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6" name="Прямая со стрелкой 15"/>
          <p:cNvCxnSpPr/>
          <p:nvPr/>
        </p:nvCxnSpPr>
        <p:spPr>
          <a:xfrm>
            <a:off x="5000400" y="1714320"/>
            <a:ext cx="1929240" cy="21492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7" name="Прямая со стрелкой 20"/>
          <p:cNvCxnSpPr/>
          <p:nvPr/>
        </p:nvCxnSpPr>
        <p:spPr>
          <a:xfrm flipH="1">
            <a:off x="2428560" y="2214720"/>
            <a:ext cx="2160" cy="786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8" name="Прямая со стрелкой 23"/>
          <p:cNvCxnSpPr/>
          <p:nvPr/>
        </p:nvCxnSpPr>
        <p:spPr>
          <a:xfrm flipH="1">
            <a:off x="3142440" y="2214720"/>
            <a:ext cx="2520" cy="20718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9" name="Прямая со стрелкой 25"/>
          <p:cNvCxnSpPr/>
          <p:nvPr/>
        </p:nvCxnSpPr>
        <p:spPr>
          <a:xfrm flipH="1">
            <a:off x="5143320" y="2214720"/>
            <a:ext cx="1894320" cy="3578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0" name="Прямая со стрелкой 27"/>
          <p:cNvCxnSpPr/>
          <p:nvPr/>
        </p:nvCxnSpPr>
        <p:spPr>
          <a:xfrm>
            <a:off x="7214760" y="2214720"/>
            <a:ext cx="715320" cy="3578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1" name="Прямая со стрелкой 29"/>
          <p:cNvCxnSpPr/>
          <p:nvPr/>
        </p:nvCxnSpPr>
        <p:spPr>
          <a:xfrm flipH="1">
            <a:off x="4857480" y="28573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2" name="Прямая со стрелкой 31"/>
          <p:cNvCxnSpPr/>
          <p:nvPr/>
        </p:nvCxnSpPr>
        <p:spPr>
          <a:xfrm flipH="1">
            <a:off x="7357680" y="28573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3" name="Прямая со стрелкой 32"/>
          <p:cNvCxnSpPr/>
          <p:nvPr/>
        </p:nvCxnSpPr>
        <p:spPr>
          <a:xfrm flipH="1">
            <a:off x="7357680" y="42145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5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етоды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Прямоугольник 2"/>
          <p:cNvSpPr/>
          <p:nvPr/>
        </p:nvSpPr>
        <p:spPr>
          <a:xfrm>
            <a:off x="1143000" y="1928880"/>
            <a:ext cx="328608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ХА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тирка, проветривание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5500800" y="1928880"/>
            <a:ext cx="328608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ФИЗ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Воздействие низкими и высокими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, лучистой энерг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4"/>
          <p:cNvSpPr/>
          <p:nvPr/>
        </p:nvSpPr>
        <p:spPr>
          <a:xfrm>
            <a:off x="3286080" y="3643200"/>
            <a:ext cx="328608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ХИМ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Обработка химическими дезинфекта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трелка вниз 5"/>
          <p:cNvSpPr/>
          <p:nvPr/>
        </p:nvSpPr>
        <p:spPr>
          <a:xfrm>
            <a:off x="3429000" y="1071720"/>
            <a:ext cx="357120" cy="7855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трелка вниз 6"/>
          <p:cNvSpPr/>
          <p:nvPr/>
        </p:nvSpPr>
        <p:spPr>
          <a:xfrm>
            <a:off x="6858000" y="1071720"/>
            <a:ext cx="357120" cy="7855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трелка вниз 7"/>
          <p:cNvSpPr/>
          <p:nvPr/>
        </p:nvSpPr>
        <p:spPr>
          <a:xfrm>
            <a:off x="4714920" y="1071720"/>
            <a:ext cx="357120" cy="25002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8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3" name="Прямая со стрелкой 22"/>
          <p:cNvCxnSpPr>
            <a:stCxn id="364" idx="2"/>
            <a:endCxn id="365" idx="0"/>
          </p:cNvCxnSpPr>
          <p:nvPr/>
        </p:nvCxnSpPr>
        <p:spPr>
          <a:xfrm flipH="1">
            <a:off x="2820600" y="1869840"/>
            <a:ext cx="2037600" cy="3702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6" name="Прямая со стрелкой 24"/>
          <p:cNvCxnSpPr>
            <a:stCxn id="364" idx="2"/>
            <a:endCxn id="367" idx="0"/>
          </p:cNvCxnSpPr>
          <p:nvPr/>
        </p:nvCxnSpPr>
        <p:spPr>
          <a:xfrm>
            <a:off x="4856760" y="1869840"/>
            <a:ext cx="1965960" cy="3702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8" name="Прямая со стрелкой 20"/>
          <p:cNvCxnSpPr>
            <a:stCxn id="364" idx="2"/>
            <a:endCxn id="369" idx="0"/>
          </p:cNvCxnSpPr>
          <p:nvPr/>
        </p:nvCxnSpPr>
        <p:spPr>
          <a:xfrm>
            <a:off x="4856760" y="1869840"/>
            <a:ext cx="1965960" cy="2631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0" name="Прямая со стрелкой 16"/>
          <p:cNvCxnSpPr>
            <a:stCxn id="364" idx="2"/>
            <a:endCxn id="371" idx="0"/>
          </p:cNvCxnSpPr>
          <p:nvPr/>
        </p:nvCxnSpPr>
        <p:spPr>
          <a:xfrm flipH="1">
            <a:off x="2891880" y="1869840"/>
            <a:ext cx="1965960" cy="27021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Химические средства дезинфекци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3357720" y="15001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7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1071720" y="2214720"/>
            <a:ext cx="32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Галлоидо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Хлорсодержащ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рганические хлорсодержащие соеди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основе бр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основе изоцианур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5357880" y="2214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ислород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5429160" y="32860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Поверхностно-активные вещества (ПАВ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7"/>
          <p:cNvSpPr/>
          <p:nvPr/>
        </p:nvSpPr>
        <p:spPr>
          <a:xfrm>
            <a:off x="1285920" y="457200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Гуанид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1214280" y="55720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Альдегид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5214960" y="55720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Спи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0"/>
          <p:cNvSpPr/>
          <p:nvPr/>
        </p:nvSpPr>
        <p:spPr>
          <a:xfrm>
            <a:off x="5214960" y="4500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Фенол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Прямая со стрелкой 12"/>
          <p:cNvCxnSpPr>
            <a:stCxn id="364" idx="2"/>
            <a:endCxn id="373" idx="0"/>
          </p:cNvCxnSpPr>
          <p:nvPr/>
        </p:nvCxnSpPr>
        <p:spPr>
          <a:xfrm flipH="1">
            <a:off x="2677320" y="1869840"/>
            <a:ext cx="2180520" cy="345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7" name="Прямая со стрелкой 14"/>
          <p:cNvCxnSpPr>
            <a:stCxn id="364" idx="2"/>
            <a:endCxn id="374" idx="0"/>
          </p:cNvCxnSpPr>
          <p:nvPr/>
        </p:nvCxnSpPr>
        <p:spPr>
          <a:xfrm>
            <a:off x="4857840" y="1869840"/>
            <a:ext cx="2108880" cy="345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8" name="Прямая со стрелкой 18"/>
          <p:cNvCxnSpPr>
            <a:stCxn id="364" idx="2"/>
            <a:endCxn id="375" idx="0"/>
          </p:cNvCxnSpPr>
          <p:nvPr/>
        </p:nvCxnSpPr>
        <p:spPr>
          <a:xfrm>
            <a:off x="4857840" y="1869840"/>
            <a:ext cx="2180160" cy="1416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79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особы использования дезинфектант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1143000" y="1928880"/>
            <a:ext cx="750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РОШ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ГРУ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СЫП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ТИР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3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еры предосторожности при работе с дезинфектанта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 работе с дезинфектантами допускаются лица, достигшие 18-и лет и прошедшие инструктаж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 допускаются лица с повышенной чувствительностью к применяемым химическим средствам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 дезинфектантами работают только в средствах индивидуальной защиты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разводят в специальных комнатах – санитарных комнатах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разводят в специальной таре, промаркированной, с плотной крышко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хранят в фирменной упаковке.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ересыпание, переливание недопустимо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должны храниться в недоступном для пациента мест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бор и хранение медицинских отход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071720" y="14288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лассификация отхо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1071720" y="1785960"/>
            <a:ext cx="7858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) Отходы, не имеющие контакта с БЖ –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неопасные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 ним относятся: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ищевые, мебель, инвентар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Утилизируются в многоразовые емкости или пакеты бел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пас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тенциально инфицированные, загрязненные кровью. Отходы из операционных, патологоанатомических отделений, с микроорганизмами 3-го и 4-го классов собираются в пакеты желт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Чрезвычайно опас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тходы, контактирующие с больными с особо опасными инфекциями; отходы из лабораторий, работающих с микробами 1 – 4-х классов; отходы микологических и физиатрических больниц; отходы пациентов с анаэробными инфекциями. Утилизируются в контейнеры красного цвета с надписью «Чрезвычайно опасные отход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тходы, близкие к промышленным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сроченные лекарства, дезинфицирующие средства; цитостатики, ртутьсодержащие предметы. Утилизируются в бесцветные пак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диоактив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се виды отходов, содержащие радиоактивные компоненты. Утилизируются в контейнеры чер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Не разрешается пересыпать отходы из одной тары в другую, ставить пакеты с нагревательными приборам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8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исок используемой литератур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TextBox 2"/>
          <p:cNvSpPr/>
          <p:nvPr/>
        </p:nvSpPr>
        <p:spPr>
          <a:xfrm>
            <a:off x="1071720" y="1571760"/>
            <a:ext cx="79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ухина С.А., Тарановская И.И. – Практическое руководство к предмету «Основы Сестринского Дела». Москва, ИК «Родник», 19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2:30:23Z</dcterms:created>
  <dc:creator>Филатова А.С. </dc:creator>
  <dc:description>http://ppt.3dn.ru</dc:description>
  <dc:language>en-US</dc:language>
  <cp:lastModifiedBy>LEGION</cp:lastModifiedBy>
  <dcterms:modified xsi:type="dcterms:W3CDTF">2015-02-13T11:09:52Z</dcterms:modified>
  <cp:revision>12</cp:revision>
  <dc:subject>Сестринское дело</dc:subject>
  <dc:title>ДЕЗИНФЕКЦИЯ</dc:title>
</cp:coreProperties>
</file>