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3313-47A7-4F02-9BEF-5DD3481BED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дисциплине: «Основы сестринско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Филатова А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C044-279A-4A66-A547-A57A734440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онятие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B94-0269-4BFB-BABE-89DBCD716B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62B0-64C1-41E6-A1CB-5E5AE1C4AF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то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F523-5203-4FB5-9E8A-45F730CF3C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Химические сред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C6D3-DA3E-4018-8373-4DFD8F95E0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особы использования дезинфект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6B4C-4EF0-4936-A2F9-CCF1152CDE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ры предосторожности при работе с дезинфекта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те с дезинфектантами допускаются лица, достигшие 18-и лет и прошедшие инструктаж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езинфектантами работают только в средствах индивидуальной защи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ых комнатах – санитарных комна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ой таре, промаркированной, с плотной крыш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хранят в фирменной упаковке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сыпание, переливание недопустим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должны храниться в недоступном для пациента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C988-4422-4FA3-977A-90DAB937DB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бор и хранение медицинских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9484-3F16-49CA-A7AB-A72E24E6A9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D279-0063-43AF-B29C-7159EE4003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752-CB4F-4226-A37B-A43C515E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5E2-7FF5-4015-B7B0-AED3F477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A7C-77CD-4460-A284-8762D16F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DA9-13D5-43B8-9450-EA8560DB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00EC-A6E5-46E9-A7FA-6F6802BF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2574-C28B-4661-BE5B-35380557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4534-9F6A-44A6-AF98-3BE42DDC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5C9A-0B3C-46AE-86BC-073BDD39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EDB7-7273-4601-A1FF-8CB692CC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73E3-A968-4B67-B801-8863CE0D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4624-1335-40D6-8EA7-2BE9449F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6E1-8118-473E-B6E9-D297FF25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1009-64B7-4443-8E2B-0326788F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4A44-0C05-4B81-958E-7FBDB6E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C4A7-8938-4E45-924C-10B915EC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D51B-AA28-4580-9EC9-E7272DBD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9244-4311-49AE-98C6-231C3550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5225-6043-4446-9842-A4C49047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09E63-4F1F-43F6-82F7-29915F87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B68C-BF5C-4E46-B129-117D9B50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4BF3-435B-433E-B0C5-09B667DC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DBCB-E412-4D4A-B584-833B6601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2B9-CDDB-45BD-8B7E-9958DF7A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0FEE8-1B81-47DF-9792-298C14E3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67A3-50E6-488F-8A06-E401BDB2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F271-C936-4034-A5AA-4A72CA5D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803C-7730-4520-93EC-1A386689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47EA-50A7-44AF-ACB5-030F2D23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346F-9064-4202-B7BD-A4F300DA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FDE9-7BFC-4443-A3FF-7E0DE0CC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73A5-80F8-4187-874A-52170EC5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276E-9873-48FA-8A8A-6B6B2298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C5469-512D-4038-B20E-CD122FFC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8DE-A47B-43B3-97EE-C4488782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74394-9B8D-41E6-9BC4-0FC36BB2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A2ED-4F15-40B5-881B-EE53396C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7D05-1AD4-499C-918B-A6116C04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9DF2-BE51-4C1D-8FA0-75CCCB8D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ABCB-C833-404C-9BD0-75904872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F43FE-CDFA-4066-8660-02641160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465D9-D1A3-46CD-8EDB-24D8581B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029F-F928-4BE8-9D9B-345D91EB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681D-4701-45D0-A2B0-17C652A4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446E-4922-4341-B7E3-A114A3D7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EA9-7F9D-4C2E-BE2E-51E1A20B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85D26-83EF-421D-9CD1-84EDF83C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2F1D-B250-4A4E-9215-9B30B884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9FCF-908B-47A4-9B98-16C22C5C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5A2CB-08E6-4838-8C75-99C5D39E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18F06-E742-4673-8E7D-2150C65E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B2AB4-0A43-4873-84B9-3226DA6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6B618-4E7B-485C-9867-EC728863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17FD2-77D1-4400-85A6-8248BCD5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B1198-334C-4E2F-8E92-038F7DC3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1F7BE-B508-4016-9C7A-8887C0AA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D25-13C0-4EE6-881A-8DB9B558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3C30E-7EB4-4991-82A3-5836C102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9FCA4-5C74-4C4A-8666-06B29C8C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84D66-3D42-4E3F-8797-62466C83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3E10-7882-4409-9A7B-B2F2DE2A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F0636-495F-4E17-8312-AD8562C9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9BE0F-7B4E-4ACD-9D2D-A3DBF3EE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8DD83-CEE4-4524-8B74-C6437696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2AA8C-62E6-4B9B-8F08-29DFE81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9E7D0-4E69-40C1-B705-A421B71D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563D1-7514-4EA4-86F5-3F7C3F1F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1FE-528D-498C-B0CF-3B232DFE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34EB6-F46A-430C-B541-BCC7C69B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1BFA-0898-49D8-A820-361FAF30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118A1-7EDB-4524-98CA-74F89019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F7165-E730-45A9-9AFE-E117D5EE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4E3F2-6D70-4BFA-BA3D-7F990DEE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48BC3-1461-48A1-860E-F1096DA9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772A-278C-4D9A-A25D-EFF47560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76213-FF32-4136-9ECC-8C1A20D7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9254D-5D00-42B9-9F6F-77D00048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B849E-6084-4A54-BAC3-8DC81B88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6AC-4A5A-4AED-ABAF-EEF4C739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17740-7E0C-4890-ADF1-F3B3002D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40FBF-9884-4B2C-8BBE-A9EF722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04C46-4E7C-409D-9C9A-05063379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E7E5-0546-42F2-85C8-567EA07B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0A65F-3332-4F9F-BD3A-D19F07E2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15C-4AF7-4812-AF2C-4CADD43C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8F7C-DE02-4D48-B8B6-926DFD7D831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27DF-97E3-461F-8F19-65D8AC8564D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CAEF-B787-470A-AFDD-8FDC3E716AD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0389-4BB5-4C3D-A7DC-DB8D16DE216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EBAF-12E7-4A50-8F25-E22BD2D43BF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B21D-95C6-4A30-9C3F-237B6B29BF0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CAD4-9CD5-4F44-AFEF-2AEC9198E97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C476-0F9E-4513-80B8-88CBC15480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E93A-210F-4E35-85C9-6A57E6DD9C6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91DC-4DE0-443B-A383-7C024B2D25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0840-4182-4568-8C78-571B3C470A6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60AA-3564-43A4-B502-0AACF6C555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630F-B291-4DB4-A38C-7462D8ECEAD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E649-608F-4445-897E-6A8F161467B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7.jpg"/>
          <p:cNvPicPr/>
          <p:nvPr/>
        </p:nvPicPr>
        <p:blipFill>
          <a:blip r:embed="rId1"/>
          <a:stretch/>
        </p:blipFill>
        <p:spPr>
          <a:xfrm>
            <a:off x="1071720" y="2928960"/>
            <a:ext cx="504792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ЗИНФ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7711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езентация по дисциплине: «Основы сестринского де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 Филатова А.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143760" y="6072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кци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8.jpg"/>
          <p:cNvPicPr/>
          <p:nvPr/>
        </p:nvPicPr>
        <p:blipFill>
          <a:blip r:embed="rId1"/>
          <a:stretch/>
        </p:blipFill>
        <p:spPr>
          <a:xfrm>
            <a:off x="1285920" y="3830760"/>
            <a:ext cx="7858080" cy="286380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857680" y="13572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ЕЗИНФ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1071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643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Оча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143000" y="29289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оматическое отделение стацио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143000" y="4143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мбулаторное лечеб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85776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6357960" y="2571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люч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000680" y="3357720"/>
            <a:ext cx="207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многократно до госпитализации в домашних условиях и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6215040" y="3429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релки, ложки, дверные ручки, туалет,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6286680" y="471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однок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14"/>
          <p:cNvCxnSpPr/>
          <p:nvPr/>
        </p:nvCxnSpPr>
        <p:spPr>
          <a:xfrm flipH="1">
            <a:off x="2999880" y="1714680"/>
            <a:ext cx="1966320" cy="2433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15"/>
          <p:cNvCxnSpPr/>
          <p:nvPr/>
        </p:nvCxnSpPr>
        <p:spPr>
          <a:xfrm>
            <a:off x="5000400" y="1714320"/>
            <a:ext cx="1929240" cy="2149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7" name="Прямая со стрелкой 20"/>
          <p:cNvCxnSpPr/>
          <p:nvPr/>
        </p:nvCxnSpPr>
        <p:spPr>
          <a:xfrm flipH="1">
            <a:off x="2428560" y="2214720"/>
            <a:ext cx="2160" cy="786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8" name="Прямая со стрелкой 23"/>
          <p:cNvCxnSpPr/>
          <p:nvPr/>
        </p:nvCxnSpPr>
        <p:spPr>
          <a:xfrm flipH="1">
            <a:off x="3142440" y="2214720"/>
            <a:ext cx="2520" cy="2071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25"/>
          <p:cNvCxnSpPr/>
          <p:nvPr/>
        </p:nvCxnSpPr>
        <p:spPr>
          <a:xfrm flipH="1">
            <a:off x="5143320" y="2214720"/>
            <a:ext cx="1894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0" name="Прямая со стрелкой 27"/>
          <p:cNvCxnSpPr/>
          <p:nvPr/>
        </p:nvCxnSpPr>
        <p:spPr>
          <a:xfrm>
            <a:off x="7214760" y="2214720"/>
            <a:ext cx="715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/>
          <p:nvPr/>
        </p:nvCxnSpPr>
        <p:spPr>
          <a:xfrm flipH="1">
            <a:off x="48574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31"/>
          <p:cNvCxnSpPr/>
          <p:nvPr/>
        </p:nvCxnSpPr>
        <p:spPr>
          <a:xfrm flipH="1">
            <a:off x="73576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32"/>
          <p:cNvCxnSpPr/>
          <p:nvPr/>
        </p:nvCxnSpPr>
        <p:spPr>
          <a:xfrm flipH="1">
            <a:off x="7357680" y="42145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1143000" y="1928880"/>
            <a:ext cx="3286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ХА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тирка, проветрива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500800" y="192888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Воздействие низкими и высокими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, лучистой энер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3286080" y="364320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Обработка химическими дезинфекта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3429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6"/>
          <p:cNvSpPr/>
          <p:nvPr/>
        </p:nvSpPr>
        <p:spPr>
          <a:xfrm>
            <a:off x="6858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4714920" y="1071720"/>
            <a:ext cx="357120" cy="25002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Прямая со стрелкой 22"/>
          <p:cNvCxnSpPr>
            <a:stCxn id="364" idx="2"/>
            <a:endCxn id="365" idx="0"/>
          </p:cNvCxnSpPr>
          <p:nvPr/>
        </p:nvCxnSpPr>
        <p:spPr>
          <a:xfrm flipH="1">
            <a:off x="2820600" y="1869840"/>
            <a:ext cx="203760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6" name="Прямая со стрелкой 24"/>
          <p:cNvCxnSpPr>
            <a:stCxn id="364" idx="2"/>
            <a:endCxn id="367" idx="0"/>
          </p:cNvCxnSpPr>
          <p:nvPr/>
        </p:nvCxnSpPr>
        <p:spPr>
          <a:xfrm>
            <a:off x="4856760" y="1869840"/>
            <a:ext cx="196596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8" name="Прямая со стрелкой 20"/>
          <p:cNvCxnSpPr>
            <a:stCxn id="364" idx="2"/>
            <a:endCxn id="369" idx="0"/>
          </p:cNvCxnSpPr>
          <p:nvPr/>
        </p:nvCxnSpPr>
        <p:spPr>
          <a:xfrm>
            <a:off x="4856760" y="1869840"/>
            <a:ext cx="1965960" cy="2631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0" name="Прямая со стрелкой 16"/>
          <p:cNvCxnSpPr>
            <a:stCxn id="364" idx="2"/>
            <a:endCxn id="371" idx="0"/>
          </p:cNvCxnSpPr>
          <p:nvPr/>
        </p:nvCxnSpPr>
        <p:spPr>
          <a:xfrm flipH="1">
            <a:off x="2891880" y="1869840"/>
            <a:ext cx="1965960" cy="27021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Химические средства дезинфек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357720" y="1500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071720" y="2214720"/>
            <a:ext cx="32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аллоид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лорсодержа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рганические хлорсодержащие соед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бр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изоциан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5357880" y="2214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ислоро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9160" y="32860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верхностно-активные вещества (ПА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285920" y="45720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уани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21428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Альдеги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521496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5214960" y="4500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Фенол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Прямая со стрелкой 12"/>
          <p:cNvCxnSpPr>
            <a:stCxn id="364" idx="2"/>
            <a:endCxn id="373" idx="0"/>
          </p:cNvCxnSpPr>
          <p:nvPr/>
        </p:nvCxnSpPr>
        <p:spPr>
          <a:xfrm flipH="1">
            <a:off x="2677320" y="1869840"/>
            <a:ext cx="218052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7" name="Прямая со стрелкой 14"/>
          <p:cNvCxnSpPr>
            <a:stCxn id="364" idx="2"/>
            <a:endCxn id="374" idx="0"/>
          </p:cNvCxnSpPr>
          <p:nvPr/>
        </p:nvCxnSpPr>
        <p:spPr>
          <a:xfrm>
            <a:off x="4857840" y="1869840"/>
            <a:ext cx="210888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8" name="Прямая со стрелкой 18"/>
          <p:cNvCxnSpPr>
            <a:stCxn id="364" idx="2"/>
            <a:endCxn id="375" idx="0"/>
          </p:cNvCxnSpPr>
          <p:nvPr/>
        </p:nvCxnSpPr>
        <p:spPr>
          <a:xfrm>
            <a:off x="4857840" y="1869840"/>
            <a:ext cx="2180160" cy="1416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особы использования дезинфектан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143000" y="192888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Г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СЫП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Р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ры предосторожности при работе с дезинфектант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работе с дезинфектантами допускаются лица, достигшие 18-и лет и прошедшие инструктаж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дезинфектантами работают только в средствах индивидуальной защит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ых комнатах – санитарных комната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ой таре, промаркированной, с плотной крышко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хранят в фирменной упаковке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ересыпание, переливание недопустим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должны храниться в недоступном для пациента ме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бор и хранение медицинских отх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071720" y="14288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лассификация от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071720" y="17859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Отходы, не имеющие контакта с БЖ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опасные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ним относятся: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ищевые, мебель, инвентар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тилизируются в многоразовые емкости или пакеты бе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тенциально инфицированные, загрязненные кровью. Отходы из операционных, патологоанатомических отделений, с микроорганизмами 3-го и 4-го классов собираются в пакеты желт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резвычайно 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ходы, контактирующие с больными с особо опасными инфекциями; отходы из лабораторий, работающих с микробами 1 – 4-х классов; отходы микологических и физиатрических больниц; отходы пациентов с анаэробными инфекциями. Утилизируются в контейнеры красного цвета с надписью «Чрезвычайно опасные отх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ходы, близкие к промышленным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роченные лекарства, дезинфицирующие средства; цитостатики, ртутьсодержащие предметы. Утилизируются в бесцветные п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диоактив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 виды отходов, содержащие радиоактивные компоненты. Утилизируются в контейнеры че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е разрешается пересыпать отходы из одной тары в другую, ставить пакеты с нагревательными прибора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сок используемой литерату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1071720" y="157176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ухина С.А., Тарановская И.И. – Практическое руководство к предмету «Основы Сестринского Дела». Москва, ИК «Родник», 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23Z</dcterms:created>
  <dc:creator>Филатова А.С. </dc:creator>
  <dc:description>http://ppt.3dn.ru</dc:description>
  <dc:language>en-US</dc:language>
  <cp:lastModifiedBy>LEGION</cp:lastModifiedBy>
  <dcterms:modified xsi:type="dcterms:W3CDTF">2015-02-13T11:09:52Z</dcterms:modified>
  <cp:revision>12</cp:revision>
  <dc:subject>Сестринское дело</dc:subject>
  <dc:title>ДЕЗИНФЕКЦИЯ</dc:title>
</cp:coreProperties>
</file>