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351E-3FD9-4327-B864-12FF81BFC3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-ЧУМА ХХІ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DEAB-8DE3-41B0-8202-498DAD3A7AF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вероз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ернозный туберкулез - клиническая форма туберкулеза, которая характеризуется наличием эластичной каверны, без перифокального воспаления и без очагов отсева. Эта форма протекает малосимптомно, часто без общих проявлений и диагностируется без труда, если этот больной прослежен в период образования этой кавер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DFFF-C8C0-4B26-8AB5-44BF67E03FE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при СП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ПИДе туберкулез протекает в милиарной форме. Милиарный туберкулез - туберкулез с образованием туберкулезных бугорков в различных органах.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аги поражения ( гранулемы ) представлены желтоватыми бугорками диаметром 1-2 мм, напоминающими просяные зерны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76C4-BCFE-45F9-963B-FC31FADFBE3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в Укра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90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сяч населения Украины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3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случая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99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сяч населения Украины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54,3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случая туберкуле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000 –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67538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ьных туберкулез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о от туберкулеза умирает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10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ьных – эт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80 – 9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% от умерших в Украине от всех инфекционных и паразитарных болез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в Украине насчитывается окол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26 - 27 тыся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ельскохозяйственных животных, больных туберкулезом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BF1D-241E-4990-8CBB-28AA66692B2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alibri"/>
              </a:rPr>
              <a:t>Существуют тысячи болезней, но здоровье бывает только одно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libri"/>
              </a:rPr>
              <a:t>(Карл Людвиг Берне)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3CCC-2287-4FC0-85F7-5398AA1BBB7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Возбудитель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озбудителями туберкулёза являются микобактерии — кислотоустойчивые бактерии рода Mycobacterium. Всего известно 74 вида микобактерий. Они широко распространены в почве, воде, среди людей и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F51B-5D8F-48DC-95AD-A573064B3D3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ИНИЧЕСКИ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лего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F479-3FE9-4583-A644-AC1FC75E9B1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О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34B5-0385-41B8-A3D4-ACB2529EE08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и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нтгенограмма легких больного, перенесшего первичный туберкулез легких. Заметны обызвествленные очаги Гона в верхушке и корне правого лег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ый туберкулез развивается при первой встрече организма с возбудителем. В районах с высокой распространенностью туберкулеза этой формой заболевания часто страдают де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4403-B623-4158-A3DF-3D1FA9D9115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тори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ый туберкулез представляет собой результат реинфекции или реактивации эндогенной инфекции, сохранявшейся в латентном состоянии. Болеют им преимущественно взрослые. Поражаются обычно верхушечные и задние сегменты верхних долей легких (более высокая концентрация кислорода способствует там росту микобактерии)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5594-6810-466D-A574-8CB1774ECEB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ДИССЕМЕНИРОВ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Ы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22EC-46E1-4D74-8A31-C8018EF6C6E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АГОВ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ильтрирован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ильтрат - фокус воспаления, в котором преобладает экссудативная фаза воспаления. А раз преобладает экссудация, то бурно растет инфильтрация - то есть вокруг этого фокуса воспаления идет приход лимфоцитов и лейкоцитов.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AC5A-9EE0-432F-B4C2-4A1564272AD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уберкулема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ма - это клиническая форма туберкулеза, характеризующаяся наличием в легком округлого образования, представляющего собой казеозные массы, продуктивное воспаление и фибро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мы – это как правило следствие, исход инфильтративного туберкулеза, но также туберкулома может сформироваться при диссеминированном туберкулезе, где имеются инфильтраты достаточно больших разме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A9DF-90CB-4B26-9F7A-C69383F6ED8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2873-B8E3-411C-955D-292D4903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754C-D0EE-4A33-AEB9-98523159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C13C-DEFC-40C1-BDDB-26967593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65F0-29A4-4631-A8B8-6C308485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17FF8-3CBC-40E5-8D94-63C904C0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FA67E-0ED1-49B3-8E6A-CFE9ABCD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9D92A-E509-474D-B650-F6A5C5D4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CFEF8-62D0-4879-A77D-56EE4C26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580A7-FE06-4CFC-BFC6-D8168186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2058D-BE37-4A8D-8F2E-75DBA175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D83B0-1CB5-47F2-82E2-C8081E53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F1AC-E753-434F-A1DB-33E6B348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F1E6A-8508-4B2E-A158-06B4324B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65E96-425E-4D7A-9808-2C96D614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B426A-F3B5-40E4-8E8F-CA25D2F7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906A1-D97F-446A-B40E-4630F524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6D132-37E9-463B-BBBA-88CCE69D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324FD-AA54-462A-859E-DB64FBD3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2A5BB-BC9F-456A-A909-83221297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440B6-977A-40DC-AA5B-CAD72270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D8841-B8B4-46E8-A3F3-CBBBA618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1343B-3329-4C98-8CD4-05EA4C4D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DC09-F15D-4355-8682-8A6A6847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26291-5FB3-4B02-9CD8-0C8B80E6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85E13-62C0-4B29-A7CE-0544E438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AC53B-743A-4F09-B271-D5EA6E8B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78F2E-D1A1-481D-B1C1-E3B79460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1C7D9-BB5D-4507-A65B-20DD90C1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8C120-0C54-486C-873F-27616636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4C4B8-6BED-46BC-AA62-53B1EE34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8BEEA6-6D25-4D48-A6DD-A4DAD0FE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EE061B-A40E-4123-A950-2F01134E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366711-3907-48F6-9E22-A37BE80B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FCDB-02F1-43C0-A95F-C8CB747C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348E02-1FCB-4499-B062-C3890037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C3060C-DECD-47A0-835F-7598A68A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8A62BC-CD7F-4881-965E-65602B04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4B03AC-E812-41FF-8C20-B48D221B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8F472E-1F43-43FD-9FA7-202A38DB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E4520B-4A4A-4356-93BB-D1D442F0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D065EA-F8E0-4541-849B-4DDDAB9F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E88A35-24EB-40F9-B35D-83BE9F03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E37878-D7DC-4777-A3B8-23C19611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20C7-CFAE-4A38-A412-69090B80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8597-821D-43B2-B686-7F6D815A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2BDA-032E-45A2-A93B-809818F0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E72D-4BE6-42CA-A436-F0E4B2B6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B73F-167A-46B2-AFD9-EC97A702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8EF1-AA9E-438A-8F0A-2A4479193D9E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A4DC-E83C-4037-ABF2-1D53B6A309FF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b2b2b2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ED5D-4285-4D51-B502-DC195935D741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A202-1387-4DF6-AB28-8511290882BA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7BAA-B1B2-4C51-BB66-2AB2B70FC4C9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2807-6AA0-46F0-8159-12B3EDA1F118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EBCF-21DE-49C9-9B98-4A8B29F06275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7EAA-5255-4A12-B365-C193446437DF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826920" y="836640"/>
            <a:ext cx="749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ТУБЕРКУЛЕЗ -ЧУМА ХХІ ВЕ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Окраска карболовым&#10;фуксином"/>
          <p:cNvPicPr/>
          <p:nvPr/>
        </p:nvPicPr>
        <p:blipFill>
          <a:blip r:embed="rId1"/>
          <a:stretch/>
        </p:blipFill>
        <p:spPr>
          <a:xfrm>
            <a:off x="3571920" y="28576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627280" y="404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вероз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4" descr="Картинка 4 из 31"/>
          <p:cNvPicPr/>
          <p:nvPr/>
        </p:nvPicPr>
        <p:blipFill>
          <a:blip r:embed="rId1"/>
          <a:stretch/>
        </p:blipFill>
        <p:spPr>
          <a:xfrm>
            <a:off x="4788000" y="1484280"/>
            <a:ext cx="4103640" cy="32227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755640" y="1268280"/>
            <a:ext cx="37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вернозный туберкулез - клиническая форма туберкулеза, которая характеризуется наличием эластичной каверны, без перифокального воспаления и без очагов отсева. Эта форма протекает малосимптомно, часто без общих проявлений и диагностируется без труда, если этот больной прослежен в период образования этой кавер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835280" y="1052640"/>
            <a:ext cx="53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2627280" y="333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Туберкулез при СПИ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8"/>
          <p:cNvGrpSpPr/>
          <p:nvPr/>
        </p:nvGrpSpPr>
        <p:grpSpPr>
          <a:xfrm>
            <a:off x="395280" y="981000"/>
            <a:ext cx="3313080" cy="2529000"/>
            <a:chOff x="395280" y="981000"/>
            <a:chExt cx="3313080" cy="2529000"/>
          </a:xfrm>
        </p:grpSpPr>
        <p:pic>
          <p:nvPicPr>
            <p:cNvPr id="251" name="Picture 4" descr=""/>
            <p:cNvPicPr/>
            <p:nvPr/>
          </p:nvPicPr>
          <p:blipFill>
            <a:blip r:embed="rId1"/>
            <a:stretch/>
          </p:blipFill>
          <p:spPr>
            <a:xfrm>
              <a:off x="395280" y="981000"/>
              <a:ext cx="3313080" cy="22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6"/>
            <p:cNvSpPr/>
            <p:nvPr/>
          </p:nvSpPr>
          <p:spPr>
            <a:xfrm>
              <a:off x="971640" y="314172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Энфизема легких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10"/>
          <p:cNvGrpSpPr/>
          <p:nvPr/>
        </p:nvGrpSpPr>
        <p:grpSpPr>
          <a:xfrm>
            <a:off x="395280" y="3500280"/>
            <a:ext cx="3313080" cy="2803320"/>
            <a:chOff x="395280" y="3500280"/>
            <a:chExt cx="3313080" cy="2803320"/>
          </a:xfrm>
        </p:grpSpPr>
        <p:pic>
          <p:nvPicPr>
            <p:cNvPr id="254" name="Picture 5" descr=""/>
            <p:cNvPicPr/>
            <p:nvPr/>
          </p:nvPicPr>
          <p:blipFill>
            <a:blip r:embed="rId2"/>
            <a:stretch/>
          </p:blipFill>
          <p:spPr>
            <a:xfrm>
              <a:off x="395280" y="3500280"/>
              <a:ext cx="331308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9"/>
            <p:cNvSpPr/>
            <p:nvPr/>
          </p:nvSpPr>
          <p:spPr>
            <a:xfrm>
              <a:off x="395280" y="566100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Туберкулезные гранулемы в печен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Text Box 11"/>
          <p:cNvSpPr/>
          <p:nvPr/>
        </p:nvSpPr>
        <p:spPr>
          <a:xfrm>
            <a:off x="3851280" y="1052640"/>
            <a:ext cx="446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СПИДе туберкулез протекает в милиарной форме. Милиарный туберкулез - туберкулез с образованием туберкулезных бугорков в различных органах.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аги поражения ( гранулемы ) представлены желтоватыми бугорками диаметром 1-2 мм, напоминающими просяные зерныш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Місце для нижнього колонтитула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 flipV="1" rot="10800000">
            <a:off x="1476360" y="47448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обенности клинического течения туберкулеза у ВИЧ-инфициров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468360" y="213372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оксикационный синдром длится недели и меся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076720" y="450864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оксикационный синдром появляется раньше, чем.бронхолегоч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468360" y="443700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ериферические лимфатические узлы увеличены неравномерно, несимметрич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3059280" y="2997360"/>
            <a:ext cx="282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тойкая и длительная анемия (гемоглобин &lt; 90 г/л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5724360" y="2133720"/>
            <a:ext cx="28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епатомегалия (всегда при милиарном туберкулез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Рисунок 10" descr="саркома Капоши"/>
          <p:cNvPicPr/>
          <p:nvPr/>
        </p:nvPicPr>
        <p:blipFill>
          <a:blip r:embed="rId1"/>
          <a:stretch/>
        </p:blipFill>
        <p:spPr>
          <a:xfrm>
            <a:off x="826920" y="692280"/>
            <a:ext cx="7380360" cy="4879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getImage"/>
          <p:cNvPicPr/>
          <p:nvPr/>
        </p:nvPicPr>
        <p:blipFill>
          <a:blip r:embed="rId2"/>
          <a:stretch/>
        </p:blipFill>
        <p:spPr>
          <a:xfrm>
            <a:off x="4708440" y="404640"/>
            <a:ext cx="4435560" cy="5977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getImage"/>
          <p:cNvPicPr/>
          <p:nvPr/>
        </p:nvPicPr>
        <p:blipFill>
          <a:blip r:embed="rId3"/>
          <a:srcRect l="10746" t="0" r="31519" b="-218"/>
          <a:stretch/>
        </p:blipFill>
        <p:spPr>
          <a:xfrm>
            <a:off x="0" y="404640"/>
            <a:ext cx="4716360" cy="597708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755640" y="1052640"/>
            <a:ext cx="66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90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ысяч населения Украины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3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ых случая туберкуле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99 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ысяч населения Украины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54,3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ых случая туберкуле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826920" y="2928960"/>
            <a:ext cx="75614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00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67538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ольных туберкулез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жегодно от туберкулеза умирает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00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ольных – это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80 – 9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% от умерших в Украине от всех инфекционных и паразитарных болезн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916360" y="3333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Туберкулез в Укра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826920" y="4797360"/>
            <a:ext cx="6697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же в Украине насчитывается окол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26 - 27 тыся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ельскохозяйственных животных, больных туберкулезом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3"/>
          <p:cNvSpPr/>
          <p:nvPr/>
        </p:nvSpPr>
        <p:spPr>
          <a:xfrm>
            <a:off x="611280" y="333360"/>
            <a:ext cx="77770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Существуют тысячи болезней, но здоровье бывает только одно.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(Карл Людвиг Берне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11"/>
          <p:cNvGrpSpPr/>
          <p:nvPr/>
        </p:nvGrpSpPr>
        <p:grpSpPr>
          <a:xfrm>
            <a:off x="1692360" y="4076640"/>
            <a:ext cx="6191280" cy="1838880"/>
            <a:chOff x="1692360" y="4076640"/>
            <a:chExt cx="6191280" cy="1838880"/>
          </a:xfrm>
        </p:grpSpPr>
        <p:sp>
          <p:nvSpPr>
            <p:cNvPr id="275" name="Text Box 4"/>
            <p:cNvSpPr/>
            <p:nvPr/>
          </p:nvSpPr>
          <p:spPr>
            <a:xfrm>
              <a:off x="3275280" y="4076640"/>
              <a:ext cx="19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Авторы работы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8"/>
            <p:cNvSpPr/>
            <p:nvPr/>
          </p:nvSpPr>
          <p:spPr>
            <a:xfrm>
              <a:off x="5004000" y="4724280"/>
              <a:ext cx="287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Черепанская Виктор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ченица 10 класс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имназии №13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.Кие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10"/>
            <p:cNvSpPr/>
            <p:nvPr/>
          </p:nvSpPr>
          <p:spPr>
            <a:xfrm>
              <a:off x="1692360" y="4724280"/>
              <a:ext cx="259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Белоус Ирин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ченица 10 класс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имназии №13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.Кие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Окраска карболовым&#10;фуксином"/>
          <p:cNvPicPr/>
          <p:nvPr/>
        </p:nvPicPr>
        <p:blipFill>
          <a:blip r:embed="rId1"/>
          <a:stretch/>
        </p:blipFill>
        <p:spPr>
          <a:xfrm>
            <a:off x="714240" y="1428840"/>
            <a:ext cx="3786480" cy="37861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2411280" y="333360"/>
            <a:ext cx="40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озбудитель туберкуле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5000760" y="1357200"/>
            <a:ext cx="3571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збудителями туберкулёза являются микобактерии — кислотоустойчивые бактерии рода Mycobacterium. Всего известно 74 вида микобактерий. Они широко распространены в почве, воде, среди людей и живот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700360" y="333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ИНИЧЕСКИЕ ФО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11280" y="2492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гл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2627280" y="836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елего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900000" y="119700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органов пищеварительной систем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076720" y="155736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органов мочеполовой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395280" y="386064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центральной нервной системы и мозговых оболочек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4716360" y="278136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костей и сустав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284720" y="4365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ко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Рисунок 7" descr=""/>
          <p:cNvPicPr/>
          <p:nvPr/>
        </p:nvPicPr>
        <p:blipFill>
          <a:blip r:embed="rId1"/>
          <a:stretch/>
        </p:blipFill>
        <p:spPr>
          <a:xfrm>
            <a:off x="539640" y="5084640"/>
            <a:ext cx="2449800" cy="1314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4140360" y="5013360"/>
            <a:ext cx="1871640" cy="14112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8" descr=""/>
          <p:cNvPicPr/>
          <p:nvPr/>
        </p:nvPicPr>
        <p:blipFill>
          <a:blip r:embed="rId3"/>
          <a:stretch/>
        </p:blipFill>
        <p:spPr>
          <a:xfrm>
            <a:off x="8101080" y="2924280"/>
            <a:ext cx="882720" cy="1224000"/>
          </a:xfrm>
          <a:prstGeom prst="rect">
            <a:avLst/>
          </a:prstGeom>
          <a:ln w="0">
            <a:noFill/>
          </a:ln>
        </p:spPr>
      </p:pic>
      <p:pic>
        <p:nvPicPr>
          <p:cNvPr id="195" name="ipf2hB1RU8aF1T2GM:" descr="http://t1.gstatic.com/images?q=tbn:2hB1RU8aF1T2GM:http://www.nedug.ru/lib/lit/opht/01nov/opht40/p61.jpg"/>
          <p:cNvPicPr/>
          <p:nvPr/>
        </p:nvPicPr>
        <p:blipFill>
          <a:blip r:embed="rId4"/>
          <a:stretch/>
        </p:blipFill>
        <p:spPr>
          <a:xfrm>
            <a:off x="1403280" y="2997360"/>
            <a:ext cx="1297080" cy="8380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" descr="Рис. 1а). Макроскопическая картина вскрытой брюшной полости при гнойном перитоните: абсцессы с подведенными к ним дренажами."/>
          <p:cNvPicPr/>
          <p:nvPr/>
        </p:nvPicPr>
        <p:blipFill>
          <a:blip r:embed="rId5"/>
          <a:stretch/>
        </p:blipFill>
        <p:spPr>
          <a:xfrm>
            <a:off x="7236000" y="472428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2843280" y="404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ГО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 flipH="1">
            <a:off x="2411280" y="765000"/>
            <a:ext cx="1656000" cy="86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5219640" y="765000"/>
            <a:ext cx="158436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684360" y="321300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Диссеминированный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распространенны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5724360" y="2565360"/>
            <a:ext cx="21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чаговый (ограниченны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6510960" y="5949000"/>
            <a:ext cx="201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3774240" y="5372640"/>
            <a:ext cx="26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ильтратив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7020000" y="43657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вероз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324000" y="1557360"/>
            <a:ext cx="31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ичный туберкулезный комплек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6227640" y="155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торич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 flipH="1">
            <a:off x="2916360" y="765000"/>
            <a:ext cx="1582560" cy="230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4859280" y="765000"/>
            <a:ext cx="1225440" cy="1727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5795640" y="3213000"/>
            <a:ext cx="863640" cy="2087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6948360" y="3213000"/>
            <a:ext cx="0" cy="2664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7237440" y="3213000"/>
            <a:ext cx="863640" cy="1224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38"/>
          <p:cNvGrpSpPr/>
          <p:nvPr/>
        </p:nvGrpSpPr>
        <p:grpSpPr>
          <a:xfrm>
            <a:off x="755640" y="765000"/>
            <a:ext cx="3600360" cy="4479480"/>
            <a:chOff x="755640" y="765000"/>
            <a:chExt cx="3600360" cy="4479480"/>
          </a:xfrm>
        </p:grpSpPr>
        <p:pic>
          <p:nvPicPr>
            <p:cNvPr id="215" name="Picture 32" descr="r2_55"/>
            <p:cNvPicPr/>
            <p:nvPr/>
          </p:nvPicPr>
          <p:blipFill>
            <a:blip r:embed="rId1"/>
            <a:stretch/>
          </p:blipFill>
          <p:spPr>
            <a:xfrm>
              <a:off x="826920" y="765000"/>
              <a:ext cx="3333960" cy="31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33"/>
            <p:cNvSpPr/>
            <p:nvPr/>
          </p:nvSpPr>
          <p:spPr>
            <a:xfrm>
              <a:off x="755640" y="3933720"/>
              <a:ext cx="36003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ffff"/>
                  </a:solidFill>
                  <a:latin typeface="Arial"/>
                </a:rPr>
                <a:t>Рентгенограмма легких больного, перенесшего первичный туберкулез легких. Заметны обызвествленные очаги Гона в верхушке и корне правого легкого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Text Box 35"/>
          <p:cNvSpPr/>
          <p:nvPr/>
        </p:nvSpPr>
        <p:spPr>
          <a:xfrm>
            <a:off x="4643280" y="907920"/>
            <a:ext cx="3889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ичный туберкулез развивается при первой встрече организма с возбудителем. В районах с высокой распространенностью туберкулеза этой формой заболевания часто страдают де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37" descr="http://www.minzdrav.by/med/common/art3/privivki.jpg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4716360" y="3500280"/>
            <a:ext cx="3168720" cy="26496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9"/>
          <p:cNvSpPr/>
          <p:nvPr/>
        </p:nvSpPr>
        <p:spPr>
          <a:xfrm>
            <a:off x="2916360" y="189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и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2700360" y="404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и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8"/>
          <p:cNvGrpSpPr/>
          <p:nvPr/>
        </p:nvGrpSpPr>
        <p:grpSpPr>
          <a:xfrm>
            <a:off x="4572000" y="1125360"/>
            <a:ext cx="4249800" cy="4046400"/>
            <a:chOff x="4572000" y="1125360"/>
            <a:chExt cx="4249800" cy="4046400"/>
          </a:xfrm>
        </p:grpSpPr>
        <p:pic>
          <p:nvPicPr>
            <p:cNvPr id="223" name="Picture 6" descr="Рис. 13а). Рентгенограмма органов грудной клетки в прямой проекции &#10;больной фиброзно-кавернозным туберкулезом правого легкого и &#10;левосторонней казеозной пневмонией: левое легкое уменьшено в объеме, &#10;диффузно затенено, в верхних его отделах определяются множественные &#10;полости распада (1); правое легкое увеличено в объеме, в средних его &#10;отделах определяются очаги отсева (2), на уровне второго межреберного &#10;промежутка — каверна (3); тень средостения смещена влево."/>
            <p:cNvPicPr/>
            <p:nvPr/>
          </p:nvPicPr>
          <p:blipFill>
            <a:blip r:embed="rId1"/>
            <a:stretch/>
          </p:blipFill>
          <p:spPr>
            <a:xfrm>
              <a:off x="4645080" y="1125360"/>
              <a:ext cx="410544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7"/>
            <p:cNvSpPr/>
            <p:nvPr/>
          </p:nvSpPr>
          <p:spPr>
            <a:xfrm>
              <a:off x="4572000" y="4438440"/>
              <a:ext cx="424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Рентгенограмма органов грудной клетки в прямой проекции больного вторичным туберкулезом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Text Box 10"/>
          <p:cNvSpPr/>
          <p:nvPr/>
        </p:nvSpPr>
        <p:spPr>
          <a:xfrm>
            <a:off x="611280" y="125892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39640" y="1052640"/>
            <a:ext cx="39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ичный туберкулез представляет собой результат реинфекции или реактивации эндогенной инфекции, сохранявшейся в латентном состоянии. Болеют им преимущественно взрослые. Поражаются обычно верхушечные и задние сегменты верхних долей легких (более высокая концентрация кислорода способствует там росту микобактерии)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8" descr="s320x240"/>
          <p:cNvPicPr/>
          <p:nvPr/>
        </p:nvPicPr>
        <p:blipFill>
          <a:blip r:embed="rId2"/>
          <a:stretch/>
        </p:blipFill>
        <p:spPr>
          <a:xfrm>
            <a:off x="4643280" y="1000080"/>
            <a:ext cx="4500720" cy="4324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tuberinfleftlung"/>
          <p:cNvPicPr/>
          <p:nvPr/>
        </p:nvPicPr>
        <p:blipFill>
          <a:blip r:embed="rId3"/>
          <a:stretch/>
        </p:blipFill>
        <p:spPr>
          <a:xfrm>
            <a:off x="4500720" y="1285920"/>
            <a:ext cx="4286160" cy="442908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979640" y="333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ДИССЕМЕНИРОВА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ris8-Kniga"/>
          <p:cNvPicPr/>
          <p:nvPr/>
        </p:nvPicPr>
        <p:blipFill>
          <a:blip r:embed="rId1"/>
          <a:stretch/>
        </p:blipFill>
        <p:spPr>
          <a:xfrm>
            <a:off x="684360" y="981000"/>
            <a:ext cx="3887640" cy="33544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684360" y="4724280"/>
            <a:ext cx="55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1763640" y="9079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ильтрирован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6" descr="ris13-Kniga"/>
          <p:cNvPicPr/>
          <p:nvPr/>
        </p:nvPicPr>
        <p:blipFill>
          <a:blip r:embed="rId1"/>
          <a:stretch/>
        </p:blipFill>
        <p:spPr>
          <a:xfrm>
            <a:off x="4500720" y="1916280"/>
            <a:ext cx="4319280" cy="35906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7"/>
          <p:cNvSpPr/>
          <p:nvPr/>
        </p:nvSpPr>
        <p:spPr>
          <a:xfrm>
            <a:off x="2484360" y="333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ЧАГОВ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611280" y="1916280"/>
            <a:ext cx="3889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ильтрат - фокус воспаления, в котором преобладает экссудативная фаза воспаления. А раз преобладает экссудация, то бурно растет инфильтрация - то есть вокруг этого фокуса воспаления идет приход лимфоцитов и лейкоцитов.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987640" y="333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уберкулема лег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755640" y="119700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а - это клиническая форма туберкулеза, характеризующаяся наличием в легком округлого образования, представляющего собой казеозные массы, продуктивное воспаление и фибр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211640" y="2852640"/>
            <a:ext cx="4032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ы – это как правило следствие, исход инфильтративного туберкулеза, но также туберкулома может сформироваться при диссеминированном туберкулезе, где имеются инфильтраты достаточно больших раз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7" descr="http://www.med-web.ru/img/ris12-Kniga.jpg"/>
          <p:cNvPicPr/>
          <p:nvPr/>
        </p:nvPicPr>
        <p:blipFill>
          <a:blip r:embed="rId1"/>
          <a:stretch/>
        </p:blipFill>
        <p:spPr>
          <a:xfrm>
            <a:off x="324000" y="2781360"/>
            <a:ext cx="3887640" cy="32209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2:49:53Z</dcterms:created>
  <dc:creator>белоус</dc:creator>
  <dc:description/>
  <dc:language>en-US</dc:language>
  <cp:lastModifiedBy>LEGION</cp:lastModifiedBy>
  <dcterms:modified xsi:type="dcterms:W3CDTF">2015-02-13T11:11:23Z</dcterms:modified>
  <cp:revision>29</cp:revision>
  <dc:subject/>
  <dc:title>ТУБЕРКУЛЕЗ-ЧУМА ХХІ ВЕКА</dc:title>
</cp:coreProperties>
</file>