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C820-5642-4089-8E0E-CF9547B3A2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-ЧУМА ХХІ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C473-811A-4B2F-9810-A9F532A1433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вероз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ернозный туберкулез - клиническая форма туберкулеза, которая характеризуется наличием эластичной каверны, без перифокального воспаления и без очагов отсева. Эта форма протекает малосимптомно, часто без общих проявлений и диагностируется без труда, если этот больной прослежен в период образования этой кавер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681F-AA85-4BEB-AFFD-C23C52FDF3D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при СП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ПИДе туберкулез протекает в милиарной форме. Милиарный туберкулез - туберкулез с образованием туберкулезных бугорков в различных органах.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аги поражения ( гранулемы ) представлены желтоватыми бугорками диаметром 1-2 мм, напоминающими просяные зерны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598A-B6B6-4818-A81C-0D04BB3F1F0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в Укра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90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сяч населения Укра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3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случая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99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сяч населения Укра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54,3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случая туберкуле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000 –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67538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ьных туберкулез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о от туберкулеза умирает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10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ьных – эт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80 – 9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% от умерших в Украине от всех инфекционных и паразитарных болез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в Украине насчитывается окол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26 - 27 тыся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ельскохозяйственных животных, больных туберкулезом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06AA-8B7A-46FA-A554-6514F7E5605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alibri"/>
              </a:rPr>
              <a:t>Существуют тысячи болезней, но здоровье бывает только одно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libri"/>
              </a:rPr>
              <a:t>(Карл Людвиг Берне)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9594-DD60-4D77-9EB5-D0FB8F83263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Возбудитель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озбудителями туберкулёза являются микобактерии — кислотоустойчивые бактерии рода Mycobacterium. Всего известно 74 вида микобактерий. Они широко распространены в почве, воде, среди людей и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AE85-3EA9-40A5-9717-441ED8EDD1A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ИНИЧЕСКИ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лего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7A21-BA87-447B-953A-75F1EF9E675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О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3DE8-2A4E-4AE3-9AFA-E011CA972A2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и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нтгенограмма легких больного, перенесшего первичный туберкулез легких. Заметны обызвествленные очаги Гона в верхушке и корне правого лег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ый туберкулез развивается при первой встрече организма с возбудителем. В районах с высокой распространенностью туберкулеза этой формой заболевания часто страдают де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A413-16AF-45DE-B27B-8101F6AD300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тори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ый туберкулез представляет собой результат реинфекции или реактивации эндогенной инфекции, сохранявшейся в латентном состоянии. Болеют им преимущественно взрослые. Поражаются обычно верхушечные и задние сегменты верхних долей легких (более высокая концентрация кислорода способствует там росту микобактерии)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3D41-57E3-4B85-996D-CB855247D30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ДИССЕМЕНИРОВ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Ы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55E9-AD86-424F-B38A-91EFF0E9601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АГОВ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ильтрирован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ильтрат - фокус воспаления, в котором преобладает экссудативная фаза воспаления. А раз преобладает экссудация, то бурно растет инфильтрация - то есть вокруг этого фокуса воспаления идет приход лимфоцитов и лейкоцитов.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9E9F-56CA-4648-9CB5-644746F367D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уберкулема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ма - это клиническая форма туберкулеза, характеризующаяся наличием в легком округлого образования, представляющего собой казеозные массы, продуктивное воспаление и фибро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мы – это как правило следствие, исход инфильтративного туберкулеза, но также туберкулома может сформироваться при диссеминированном туберкулезе, где имеются инфильтраты достаточно больших разме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BA6B-ADDE-49EC-9B29-D9F5D0EC244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27E-0CBF-40F5-A122-266BDDB0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0C0F-F166-4261-A958-612F8FC0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F2C-2EE8-4A84-B6E9-23B8612C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6A9-DF28-4FE0-8D7F-779783C2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19A68-49D5-4113-A1D0-A246ADA1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5CF15-B157-4291-804B-842E355B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E5E9E-5697-4FB4-BC18-DF9300D7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D7E0E-AD4F-4FA1-B03B-80C5B6EB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ADEFA-5EA4-4CE6-B3BF-EBB9773B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55D00-D436-47B8-9D70-1F5C4F75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B1B84-9901-414A-8E3C-2E4F9C2C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F294-AB39-44B8-AE48-FB4E48E7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9C664-A8B0-47E7-AA75-D3CD2250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D7724-D413-4048-93B0-31D9E90E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ED4AB-5FC0-470A-8AEB-2F929B4F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4752E-DAA8-4635-9B6F-7E24C70A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99763-A5FE-4E8F-A123-A5EBECE1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E4CE9-81B0-4818-90EC-DFA3018D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9193C-90FB-448E-97CF-016AA4F0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9AB86-2B17-4183-BE35-8866EEE1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8D668-BE5B-491A-9E61-7982C578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4746A-737E-410A-BB36-E28E70EA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D28-4F7B-4454-988E-C137ED5F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3A827-8AEC-45D5-9A28-C0E9F071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D4BC2-4E3D-48ED-A04B-ADA99B66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DD88D-43DD-4F69-A7E6-955AE3F3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9D59C-F5EB-4266-8388-30D0857A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C5AD7-C72C-4D0E-A607-456AF1F0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C5FD1-51C0-4780-B844-5B878C9C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14ECB-315B-4E7A-8C31-0EB3E78C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657EE8-23D7-4E8F-B4EF-B2CCA452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EF7F1D-B0B7-405B-B40E-AF5D1A9B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CABE95-E822-4DD7-9EAF-5635821F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743A-A08D-412F-800C-6B5E976C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752C74-AC85-40C4-992E-D56A9FE8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9B00E3-546A-4A42-818C-571764A6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D2DC6E-E32A-43A4-BE82-C5487F97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C9427F-DCB0-4370-92FB-61772D77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594EB2-4153-42FC-A6A1-31E9FBBC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C3D504-9D91-42F0-80E4-8A059A20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40DE78-F8B7-4CFD-83A7-E496C6D0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D021F4-9013-4BBC-B9D1-6D218D2B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5D04B1-BD5D-4C8A-8B53-AA0201FE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30B1-2173-4E75-9036-85D07D07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9B5A-A360-4503-8F3B-326976F0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EA24-8150-4B69-ABAF-0C4C2BBD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905C-05C4-4581-AF38-6D02ADB7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5833-432A-4B5D-8938-5D94E0B4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3B58-BEA1-414C-8032-9D0BA9D48357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CF66-8DF2-4E36-B19F-4957BA731A69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b2b2b2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98FF-3DAE-48D2-8919-B4E3C206549A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5419-970F-4AA7-B29A-B7A0732EF3EF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7A17-CA0A-48C1-8084-1D142B563F4E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FFE3-7630-45AF-B7F0-FC89BD81535E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D0CE-F79F-423A-B5D4-80699345CC41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365D-0ECA-48ED-B06D-A5F0F6A8EEC5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826920" y="836640"/>
            <a:ext cx="74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ТУБЕРКУЛЕЗ -ЧУМА ХХІ ВЕ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Окраска карболовым&#10;фуксином"/>
          <p:cNvPicPr/>
          <p:nvPr/>
        </p:nvPicPr>
        <p:blipFill>
          <a:blip r:embed="rId1"/>
          <a:stretch/>
        </p:blipFill>
        <p:spPr>
          <a:xfrm>
            <a:off x="3571920" y="28576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627280" y="404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вероз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4" descr="Картинка 4 из 31"/>
          <p:cNvPicPr/>
          <p:nvPr/>
        </p:nvPicPr>
        <p:blipFill>
          <a:blip r:embed="rId1"/>
          <a:stretch/>
        </p:blipFill>
        <p:spPr>
          <a:xfrm>
            <a:off x="4788000" y="1484280"/>
            <a:ext cx="4103640" cy="32227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755640" y="1268280"/>
            <a:ext cx="37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вернозный туберкулез - клиническая форма туберкулеза, которая характеризуется наличием эластичной каверны, без перифокального воспаления и без очагов отсева. Эта форма протекает малосимптомно, часто без общих проявлений и диагностируется без труда, если этот больной прослежен в период образования этой кавер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835280" y="1052640"/>
            <a:ext cx="53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2627280" y="333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Туберкулез при СПИ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8"/>
          <p:cNvGrpSpPr/>
          <p:nvPr/>
        </p:nvGrpSpPr>
        <p:grpSpPr>
          <a:xfrm>
            <a:off x="395280" y="981000"/>
            <a:ext cx="3313080" cy="2529000"/>
            <a:chOff x="395280" y="981000"/>
            <a:chExt cx="3313080" cy="2529000"/>
          </a:xfrm>
        </p:grpSpPr>
        <p:pic>
          <p:nvPicPr>
            <p:cNvPr id="251" name="Picture 4" descr=""/>
            <p:cNvPicPr/>
            <p:nvPr/>
          </p:nvPicPr>
          <p:blipFill>
            <a:blip r:embed="rId1"/>
            <a:stretch/>
          </p:blipFill>
          <p:spPr>
            <a:xfrm>
              <a:off x="395280" y="981000"/>
              <a:ext cx="3313080" cy="22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6"/>
            <p:cNvSpPr/>
            <p:nvPr/>
          </p:nvSpPr>
          <p:spPr>
            <a:xfrm>
              <a:off x="971640" y="314172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Энфизема легких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10"/>
          <p:cNvGrpSpPr/>
          <p:nvPr/>
        </p:nvGrpSpPr>
        <p:grpSpPr>
          <a:xfrm>
            <a:off x="395280" y="3500280"/>
            <a:ext cx="3313080" cy="2803320"/>
            <a:chOff x="395280" y="3500280"/>
            <a:chExt cx="3313080" cy="2803320"/>
          </a:xfrm>
        </p:grpSpPr>
        <p:pic>
          <p:nvPicPr>
            <p:cNvPr id="254" name="Picture 5" descr=""/>
            <p:cNvPicPr/>
            <p:nvPr/>
          </p:nvPicPr>
          <p:blipFill>
            <a:blip r:embed="rId2"/>
            <a:stretch/>
          </p:blipFill>
          <p:spPr>
            <a:xfrm>
              <a:off x="395280" y="3500280"/>
              <a:ext cx="331308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9"/>
            <p:cNvSpPr/>
            <p:nvPr/>
          </p:nvSpPr>
          <p:spPr>
            <a:xfrm>
              <a:off x="395280" y="566100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Туберкулезные гранулемы в печен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Text Box 11"/>
          <p:cNvSpPr/>
          <p:nvPr/>
        </p:nvSpPr>
        <p:spPr>
          <a:xfrm>
            <a:off x="3851280" y="1052640"/>
            <a:ext cx="446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СПИДе туберкулез протекает в милиарной форме. Милиарный туберкулез - туберкулез с образованием туберкулезных бугорков в различных органах.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аги поражения ( гранулемы ) представлены желтоватыми бугорками диаметром 1-2 мм, напоминающими просяные зерныш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Місце для нижнього колонтитула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 flipV="1" rot="10800000">
            <a:off x="1476360" y="47448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обенности клинического течения туберкулеза у ВИЧ-инфициров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468360" y="213372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оксикационный синдром длится недели и меся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076720" y="450864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оксикационный синдром появляется раньше, чем.бронхолегоч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468360" y="443700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ериферические лимфатические узлы увеличены неравномерно, несимметрич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3059280" y="2997360"/>
            <a:ext cx="282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тойкая и длительная анемия (гемоглобин &lt; 90 г/л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5724360" y="213372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епатомегалия (всегда при милиарном туберкулез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Рисунок 10" descr="саркома Капоши"/>
          <p:cNvPicPr/>
          <p:nvPr/>
        </p:nvPicPr>
        <p:blipFill>
          <a:blip r:embed="rId1"/>
          <a:stretch/>
        </p:blipFill>
        <p:spPr>
          <a:xfrm>
            <a:off x="826920" y="692280"/>
            <a:ext cx="7380360" cy="4879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getImage"/>
          <p:cNvPicPr/>
          <p:nvPr/>
        </p:nvPicPr>
        <p:blipFill>
          <a:blip r:embed="rId2"/>
          <a:stretch/>
        </p:blipFill>
        <p:spPr>
          <a:xfrm>
            <a:off x="4708440" y="404640"/>
            <a:ext cx="4435560" cy="5977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getImage"/>
          <p:cNvPicPr/>
          <p:nvPr/>
        </p:nvPicPr>
        <p:blipFill>
          <a:blip r:embed="rId3"/>
          <a:srcRect l="10746" t="0" r="31519" b="-218"/>
          <a:stretch/>
        </p:blipFill>
        <p:spPr>
          <a:xfrm>
            <a:off x="0" y="404640"/>
            <a:ext cx="4716360" cy="597708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755640" y="1052640"/>
            <a:ext cx="66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90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ысяч населения Украины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ых случая туберкуле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99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ысяч населения Украины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54,3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ых случая туберкуле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826920" y="2928960"/>
            <a:ext cx="75614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00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67538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ольных туберкулез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жегодно от туберкулеза умирает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00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ольных – это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80 – 9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% от умерших в Украине от всех инфекционных и паразитарных болезн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916360" y="3333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Туберкулез в Укра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826920" y="4797360"/>
            <a:ext cx="6697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же в Украине насчитывается окол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26 - 27 тыся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ельскохозяйственных животных, больных туберкулезом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3"/>
          <p:cNvSpPr/>
          <p:nvPr/>
        </p:nvSpPr>
        <p:spPr>
          <a:xfrm>
            <a:off x="611280" y="333360"/>
            <a:ext cx="77770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Существуют тысячи болезней, но здоровье бывает только одно.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(Карл Людвиг Берне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11"/>
          <p:cNvGrpSpPr/>
          <p:nvPr/>
        </p:nvGrpSpPr>
        <p:grpSpPr>
          <a:xfrm>
            <a:off x="1692360" y="4076640"/>
            <a:ext cx="6191280" cy="1838880"/>
            <a:chOff x="1692360" y="4076640"/>
            <a:chExt cx="6191280" cy="1838880"/>
          </a:xfrm>
        </p:grpSpPr>
        <p:sp>
          <p:nvSpPr>
            <p:cNvPr id="275" name="Text Box 4"/>
            <p:cNvSpPr/>
            <p:nvPr/>
          </p:nvSpPr>
          <p:spPr>
            <a:xfrm>
              <a:off x="3275280" y="4076640"/>
              <a:ext cx="19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Авторы работы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5004000" y="4724280"/>
              <a:ext cx="287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Черепанская Виктор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ченица 10 класс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имназии №13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.Кие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10"/>
            <p:cNvSpPr/>
            <p:nvPr/>
          </p:nvSpPr>
          <p:spPr>
            <a:xfrm>
              <a:off x="1692360" y="4724280"/>
              <a:ext cx="259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Белоус Ирин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ченица 10 класс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имназии №13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.Кие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Окраска карболовым&#10;фуксином"/>
          <p:cNvPicPr/>
          <p:nvPr/>
        </p:nvPicPr>
        <p:blipFill>
          <a:blip r:embed="rId1"/>
          <a:stretch/>
        </p:blipFill>
        <p:spPr>
          <a:xfrm>
            <a:off x="714240" y="1428840"/>
            <a:ext cx="3786480" cy="37861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2411280" y="333360"/>
            <a:ext cx="40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озбудитель туберкуле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5000760" y="1357200"/>
            <a:ext cx="3571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збудителями туберкулёза являются микобактерии — кислотоустойчивые бактерии рода Mycobacterium. Всего известно 74 вида микобактерий. Они широко распространены в почве, воде, среди людей и живот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700360" y="333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ИНИЧЕСКИЕ ФО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11280" y="2492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гл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2627280" y="836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елего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900000" y="119700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органов пищеварительной систем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076720" y="155736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органов мочеполовой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395280" y="386064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центральной нервной системы и мозговых оболочек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4716360" y="278136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костей и сустав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284720" y="4365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ко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Рисунок 7" descr=""/>
          <p:cNvPicPr/>
          <p:nvPr/>
        </p:nvPicPr>
        <p:blipFill>
          <a:blip r:embed="rId1"/>
          <a:stretch/>
        </p:blipFill>
        <p:spPr>
          <a:xfrm>
            <a:off x="539640" y="5084640"/>
            <a:ext cx="2449800" cy="1314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4140360" y="5013360"/>
            <a:ext cx="1871640" cy="14112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8" descr=""/>
          <p:cNvPicPr/>
          <p:nvPr/>
        </p:nvPicPr>
        <p:blipFill>
          <a:blip r:embed="rId3"/>
          <a:stretch/>
        </p:blipFill>
        <p:spPr>
          <a:xfrm>
            <a:off x="8101080" y="2924280"/>
            <a:ext cx="882720" cy="1224000"/>
          </a:xfrm>
          <a:prstGeom prst="rect">
            <a:avLst/>
          </a:prstGeom>
          <a:ln w="0">
            <a:noFill/>
          </a:ln>
        </p:spPr>
      </p:pic>
      <p:pic>
        <p:nvPicPr>
          <p:cNvPr id="195" name="ipf2hB1RU8aF1T2GM:" descr="http://t1.gstatic.com/images?q=tbn:2hB1RU8aF1T2GM:http://www.nedug.ru/lib/lit/opht/01nov/opht40/p61.jpg"/>
          <p:cNvPicPr/>
          <p:nvPr/>
        </p:nvPicPr>
        <p:blipFill>
          <a:blip r:embed="rId4"/>
          <a:stretch/>
        </p:blipFill>
        <p:spPr>
          <a:xfrm>
            <a:off x="1403280" y="2997360"/>
            <a:ext cx="1297080" cy="8380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" descr="Рис. 1а). Макроскопическая картина вскрытой брюшной полости при гнойном перитоните: абсцессы с подведенными к ним дренажами."/>
          <p:cNvPicPr/>
          <p:nvPr/>
        </p:nvPicPr>
        <p:blipFill>
          <a:blip r:embed="rId5"/>
          <a:stretch/>
        </p:blipFill>
        <p:spPr>
          <a:xfrm>
            <a:off x="7236000" y="472428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2843280" y="404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ГО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 flipH="1">
            <a:off x="2411280" y="765000"/>
            <a:ext cx="1656000" cy="86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5219640" y="765000"/>
            <a:ext cx="158436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684360" y="321300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Диссеминированный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распространенны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5724360" y="2565360"/>
            <a:ext cx="21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чаговый (ограниченны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6510960" y="5949000"/>
            <a:ext cx="201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3774240" y="5372640"/>
            <a:ext cx="26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ильтратив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7020000" y="43657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вероз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324000" y="1557360"/>
            <a:ext cx="31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ичный туберкулезный комплек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6227640" y="155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торич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 flipH="1">
            <a:off x="2916360" y="765000"/>
            <a:ext cx="1582560" cy="230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4859280" y="765000"/>
            <a:ext cx="1225440" cy="1727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5795640" y="3213000"/>
            <a:ext cx="863640" cy="2087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6948360" y="3213000"/>
            <a:ext cx="0" cy="2664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7237440" y="3213000"/>
            <a:ext cx="863640" cy="1224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38"/>
          <p:cNvGrpSpPr/>
          <p:nvPr/>
        </p:nvGrpSpPr>
        <p:grpSpPr>
          <a:xfrm>
            <a:off x="755640" y="765000"/>
            <a:ext cx="3600360" cy="4479480"/>
            <a:chOff x="755640" y="765000"/>
            <a:chExt cx="3600360" cy="4479480"/>
          </a:xfrm>
        </p:grpSpPr>
        <p:pic>
          <p:nvPicPr>
            <p:cNvPr id="215" name="Picture 32" descr="r2_55"/>
            <p:cNvPicPr/>
            <p:nvPr/>
          </p:nvPicPr>
          <p:blipFill>
            <a:blip r:embed="rId1"/>
            <a:stretch/>
          </p:blipFill>
          <p:spPr>
            <a:xfrm>
              <a:off x="826920" y="765000"/>
              <a:ext cx="3333960" cy="31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33"/>
            <p:cNvSpPr/>
            <p:nvPr/>
          </p:nvSpPr>
          <p:spPr>
            <a:xfrm>
              <a:off x="755640" y="3933720"/>
              <a:ext cx="36003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ffff"/>
                  </a:solidFill>
                  <a:latin typeface="Arial"/>
                </a:rPr>
                <a:t>Рентгенограмма легких больного, перенесшего первичный туберкулез легких. Заметны обызвествленные очаги Гона в верхушке и корне правого легкого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Text Box 35"/>
          <p:cNvSpPr/>
          <p:nvPr/>
        </p:nvSpPr>
        <p:spPr>
          <a:xfrm>
            <a:off x="4643280" y="907920"/>
            <a:ext cx="3889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ичный туберкулез развивается при первой встрече организма с возбудителем. В районах с высокой распространенностью туберкулеза этой формой заболевания часто страдают де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37" descr="http://www.minzdrav.by/med/common/art3/privivki.jpg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4716360" y="3500280"/>
            <a:ext cx="3168720" cy="26496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9"/>
          <p:cNvSpPr/>
          <p:nvPr/>
        </p:nvSpPr>
        <p:spPr>
          <a:xfrm>
            <a:off x="2916360" y="189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и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2700360" y="404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и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8"/>
          <p:cNvGrpSpPr/>
          <p:nvPr/>
        </p:nvGrpSpPr>
        <p:grpSpPr>
          <a:xfrm>
            <a:off x="4572000" y="1125360"/>
            <a:ext cx="4249800" cy="4046400"/>
            <a:chOff x="4572000" y="1125360"/>
            <a:chExt cx="4249800" cy="4046400"/>
          </a:xfrm>
        </p:grpSpPr>
        <p:pic>
          <p:nvPicPr>
            <p:cNvPr id="223" name="Picture 6" descr="Рис. 13а). Рентгенограмма органов грудной клетки в прямой проекции &#10;больной фиброзно-кавернозным туберкулезом правого легкого и &#10;левосторонней казеозной пневмонией: левое легкое уменьшено в объеме, &#10;диффузно затенено, в верхних его отделах определяются множественные &#10;полости распада (1); правое легкое увеличено в объеме, в средних его &#10;отделах определяются очаги отсева (2), на уровне второго межреберного &#10;промежутка — каверна (3); тень средостения смещена влево."/>
            <p:cNvPicPr/>
            <p:nvPr/>
          </p:nvPicPr>
          <p:blipFill>
            <a:blip r:embed="rId1"/>
            <a:stretch/>
          </p:blipFill>
          <p:spPr>
            <a:xfrm>
              <a:off x="4645080" y="1125360"/>
              <a:ext cx="410544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7"/>
            <p:cNvSpPr/>
            <p:nvPr/>
          </p:nvSpPr>
          <p:spPr>
            <a:xfrm>
              <a:off x="4572000" y="4438440"/>
              <a:ext cx="424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Рентгенограмма органов грудной клетки в прямой проекции больного вторичным туберкулезом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Text Box 10"/>
          <p:cNvSpPr/>
          <p:nvPr/>
        </p:nvSpPr>
        <p:spPr>
          <a:xfrm>
            <a:off x="611280" y="125892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39640" y="1052640"/>
            <a:ext cx="39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ичный туберкулез представляет собой результат реинфекции или реактивации эндогенной инфекции, сохранявшейся в латентном состоянии. Болеют им преимущественно взрослые. Поражаются обычно верхушечные и задние сегменты верхних долей легких (более высокая концентрация кислорода способствует там росту микобактерии)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8" descr="s320x240"/>
          <p:cNvPicPr/>
          <p:nvPr/>
        </p:nvPicPr>
        <p:blipFill>
          <a:blip r:embed="rId2"/>
          <a:stretch/>
        </p:blipFill>
        <p:spPr>
          <a:xfrm>
            <a:off x="4643280" y="1000080"/>
            <a:ext cx="4500720" cy="4324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tuberinfleftlung"/>
          <p:cNvPicPr/>
          <p:nvPr/>
        </p:nvPicPr>
        <p:blipFill>
          <a:blip r:embed="rId3"/>
          <a:stretch/>
        </p:blipFill>
        <p:spPr>
          <a:xfrm>
            <a:off x="4500720" y="1285920"/>
            <a:ext cx="4286160" cy="442908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979640" y="333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ДИССЕМЕНИРОВА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ris8-Kniga"/>
          <p:cNvPicPr/>
          <p:nvPr/>
        </p:nvPicPr>
        <p:blipFill>
          <a:blip r:embed="rId1"/>
          <a:stretch/>
        </p:blipFill>
        <p:spPr>
          <a:xfrm>
            <a:off x="684360" y="981000"/>
            <a:ext cx="3887640" cy="33544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684360" y="4724280"/>
            <a:ext cx="55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1763640" y="9079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ильтрирован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6" descr="ris13-Kniga"/>
          <p:cNvPicPr/>
          <p:nvPr/>
        </p:nvPicPr>
        <p:blipFill>
          <a:blip r:embed="rId1"/>
          <a:stretch/>
        </p:blipFill>
        <p:spPr>
          <a:xfrm>
            <a:off x="4500720" y="1916280"/>
            <a:ext cx="4319280" cy="35906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7"/>
          <p:cNvSpPr/>
          <p:nvPr/>
        </p:nvSpPr>
        <p:spPr>
          <a:xfrm>
            <a:off x="2484360" y="333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ЧАГОВ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611280" y="1916280"/>
            <a:ext cx="3889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ильтрат - фокус воспаления, в котором преобладает экссудативная фаза воспаления. А раз преобладает экссудация, то бурно растет инфильтрация - то есть вокруг этого фокуса воспаления идет приход лимфоцитов и лейкоцитов.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987640" y="333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уберкулема лег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755640" y="119700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а - это клиническая форма туберкулеза, характеризующаяся наличием в легком округлого образования, представляющего собой казеозные массы, продуктивное воспаление и фибр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211640" y="2852640"/>
            <a:ext cx="4032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ы – это как правило следствие, исход инфильтративного туберкулеза, но также туберкулома может сформироваться при диссеминированном туберкулезе, где имеются инфильтраты достаточно больших раз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7" descr="http://www.med-web.ru/img/ris12-Kniga.jpg"/>
          <p:cNvPicPr/>
          <p:nvPr/>
        </p:nvPicPr>
        <p:blipFill>
          <a:blip r:embed="rId1"/>
          <a:stretch/>
        </p:blipFill>
        <p:spPr>
          <a:xfrm>
            <a:off x="324000" y="2781360"/>
            <a:ext cx="3887640" cy="32209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2:49:53Z</dcterms:created>
  <dc:creator>белоус</dc:creator>
  <dc:description/>
  <dc:language>en-US</dc:language>
  <cp:lastModifiedBy>LEGION</cp:lastModifiedBy>
  <dcterms:modified xsi:type="dcterms:W3CDTF">2015-02-13T11:11:23Z</dcterms:modified>
  <cp:revision>29</cp:revision>
  <dc:subject/>
  <dc:title>ТУБЕРКУЛЕЗ-ЧУМА ХХІ ВЕКА</dc:title>
</cp:coreProperties>
</file>