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8F2E-08DD-4C94-81E4-DBF0C40B08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-ЧУМА ХХІ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D8B6-2D51-4027-B296-F07A692AF2B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вероз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8984-6497-4537-A4B9-ED790971EC9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при СПИ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D789-54A5-4233-A8F6-4F91D72BE35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Туберкулез в Укра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0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999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1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сяч населения Украины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54,3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х случая туберкуле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00 –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67538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туберкуле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годно от туберкулеза умирает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1000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льных –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80 – 90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 от умерших в Украине от всех инфекционных и паразитарных болез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в Украине насчитывается около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26 - 27 тыся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ельскохозяйственных животных, больных туберкулезом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8615-DBF6-4101-B1E7-53A50020112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0000"/>
                </a:solidFill>
                <a:latin typeface="Calibri"/>
              </a:rPr>
              <a:t>Существуют тысячи болезней, но здоровье бывает только одно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00" spc="-1" strike="noStrike">
                <a:solidFill>
                  <a:srgbClr val="000000"/>
                </a:solidFill>
                <a:latin typeface="Calibri"/>
              </a:rPr>
              <a:t>(Карл Людвиг Берне)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851C-874F-4265-8CD3-5E8F6D5F1A4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Возбудитель туберкул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7C8F-7A40-4E80-8540-106E564BB6C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ИНИЧЕСКИ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1D5F-A5DD-43A4-BABF-C8EF5A39044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О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96D3-56C2-4A67-BAD3-97FE82152A2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305C-771B-43B6-AAB0-986FC642818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7E1E-A384-4C78-A8CE-0603B6807C2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ДИССЕМЕНИРОВ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Ы</a:t>
            </a: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02D7-7FEE-4C8B-8EED-00B51EBD8E7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АГОВ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ильтрированный туберкул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7A6B-9F5E-4025-9FA0-764A4F5C4ED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беркулема лег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98DE-3B94-4B4F-80FA-27D3E4D56C2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5D4-408D-4B76-B229-8CDD19DD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9399-2315-450A-BC72-E3A0F18D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6260-14E8-4D76-B89B-F291C09A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E76-D5E2-47EA-9C1D-39BE64C9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25B12-C307-4ADD-A575-FAE170B4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17565-1403-4E20-AF57-9138AD0D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A298B-2EB1-49A7-ACBD-BA6B2ADA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75CB3-C127-4F8E-9944-FFC5BF69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39580-DE3F-44E4-9840-162C8C56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68C72-F058-443A-9362-0E2C895B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04BBC-6FF5-47C3-A12C-15BF53EF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2A69-A4ED-4C11-BB39-19C46156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95299-0557-42AD-85B3-13A2BD40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F75D1-C15F-445C-8887-5EA852B2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6BC1C-AE8C-475B-83E3-A86DE952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C0C5E-13A8-429E-969B-EBE3F968F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8C80C-B907-4DFD-94F3-FE7F873B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1D4A7-C2EC-46E8-9E06-EB2437DC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DBAD5-DB76-486D-BABF-AB24B9FE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98CCF-64D7-4A3E-9351-36CE135D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4FD45-0E82-47C5-A8EF-7C373E4C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978F6-444E-4CCF-BA94-07B08257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61A-8248-495D-97FC-D3E5957C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8AC2F-142A-4459-BC65-81A7E0F8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06016-0617-4C88-A3D4-2ED20B32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77E63-5B91-4957-9DB6-9DCBECDB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7E1B7-473B-4112-A5C5-99B602CC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B3D6-73D4-48D6-9206-053897BF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471F9-57AC-4D7A-8038-9DDC8368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4B4CB-51D0-47C6-85B2-CDDAB242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6039F1-0020-4929-8470-665E3C63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4868E2-0F64-48B2-8981-FC8A090A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A02FD7-B865-4AA8-A875-BD58321F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36A-5D7A-4AE2-82AF-7C543B99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E22972-E4A5-49ED-82AB-D80E91F3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2669F-E948-43C2-B707-CB3CD7B2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B473EB-6EEE-416B-AF52-5D225B43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DD4B31-C4D5-42F3-B94F-B1ADBB62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EBE7E3-AB01-496D-A106-D2ED49F4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8DA11-0478-4BDA-BAF4-4FDBDB5C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6A84D-1B58-46C5-BE22-54DAF047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B9169F-B573-47C4-9F98-C4D0C21A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AF4CD6-598E-4433-B111-237E5958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A393-9D70-4E15-9F3A-4635AD8F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FB2-AEF1-44DC-B1E6-24CB9188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FADF-D6FA-4883-8F3D-97D2E2C6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7D9B-FBB9-48DE-9A30-C308E8F6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319-DC5A-4468-A470-7E00E503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1ABF-8012-45FD-BE59-EFC2E28345D9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9DC0-F145-43E2-BFB9-797BEDCC1D35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b2b2b2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EC9A-129A-4362-99FA-EEF8F9E18637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8878-1B83-4560-9D6F-1AF4B8E5DB6F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EF45-3B75-42BD-966D-B206130FF0A1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EB19-C2B2-4616-807C-A754E5A60AB9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7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2b2b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82828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c9c9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93AF-7AE3-434E-8DD0-ABB22649B882}" type="slidenum">
              <a:rPr b="0" lang="ru-RU" sz="1600" spc="-1" strike="noStrike">
                <a:solidFill>
                  <a:srgbClr val="f8f8f8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57A3-9140-431C-8E12-0A8388C2463D}" type="datetime">
              <a:rPr b="0" lang="ru-RU" sz="1200" spc="-1" strike="noStrike">
                <a:solidFill>
                  <a:srgbClr val="f8f8f8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826920" y="83664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ffff"/>
                </a:solidFill>
                <a:latin typeface="Arial"/>
              </a:rPr>
              <a:t>ТУБЕРКУЛЕЗ -ЧУМА ХХІ ВЕК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3571920" y="28576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627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вероз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Картинка 4 из 31"/>
          <p:cNvPicPr/>
          <p:nvPr/>
        </p:nvPicPr>
        <p:blipFill>
          <a:blip r:embed="rId1"/>
          <a:stretch/>
        </p:blipFill>
        <p:spPr>
          <a:xfrm>
            <a:off x="4788000" y="1484280"/>
            <a:ext cx="4103640" cy="32227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6"/>
          <p:cNvSpPr/>
          <p:nvPr/>
        </p:nvSpPr>
        <p:spPr>
          <a:xfrm>
            <a:off x="755640" y="1268280"/>
            <a:ext cx="37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нозный туберкулез - клиническая форма туберкулеза, которая характеризуется наличием эластичной каверны, без перифокального воспаления и без очагов отсева. Эта форма протекает малосимптомно, часто без общих проявлений и диагностируется без труда, если этот больной прослежен в период образования этой кавер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835280" y="1052640"/>
            <a:ext cx="532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2627280" y="333360"/>
            <a:ext cx="42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при СПИ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395280" y="981000"/>
            <a:ext cx="3313080" cy="2529000"/>
            <a:chOff x="395280" y="981000"/>
            <a:chExt cx="3313080" cy="2529000"/>
          </a:xfrm>
        </p:grpSpPr>
        <p:pic>
          <p:nvPicPr>
            <p:cNvPr id="251" name="Picture 4" descr=""/>
            <p:cNvPicPr/>
            <p:nvPr/>
          </p:nvPicPr>
          <p:blipFill>
            <a:blip r:embed="rId1"/>
            <a:stretch/>
          </p:blipFill>
          <p:spPr>
            <a:xfrm>
              <a:off x="395280" y="981000"/>
              <a:ext cx="3313080" cy="22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Text Box 6"/>
            <p:cNvSpPr/>
            <p:nvPr/>
          </p:nvSpPr>
          <p:spPr>
            <a:xfrm>
              <a:off x="971640" y="314172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Энфизема легких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Group 10"/>
          <p:cNvGrpSpPr/>
          <p:nvPr/>
        </p:nvGrpSpPr>
        <p:grpSpPr>
          <a:xfrm>
            <a:off x="395280" y="3500280"/>
            <a:ext cx="3313080" cy="2803320"/>
            <a:chOff x="395280" y="3500280"/>
            <a:chExt cx="3313080" cy="2803320"/>
          </a:xfrm>
        </p:grpSpPr>
        <p:pic>
          <p:nvPicPr>
            <p:cNvPr id="254" name="Picture 5" descr=""/>
            <p:cNvPicPr/>
            <p:nvPr/>
          </p:nvPicPr>
          <p:blipFill>
            <a:blip r:embed="rId2"/>
            <a:stretch/>
          </p:blipFill>
          <p:spPr>
            <a:xfrm>
              <a:off x="395280" y="3500280"/>
              <a:ext cx="3313080" cy="216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9"/>
            <p:cNvSpPr/>
            <p:nvPr/>
          </p:nvSpPr>
          <p:spPr>
            <a:xfrm>
              <a:off x="395280" y="566100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Arial"/>
                </a:rPr>
                <a:t>Туберкулезные гранулемы в печен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11"/>
          <p:cNvSpPr/>
          <p:nvPr/>
        </p:nvSpPr>
        <p:spPr>
          <a:xfrm>
            <a:off x="3851280" y="1052640"/>
            <a:ext cx="446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СПИДе туберкулез протекает в милиарной форме. Милиарный туберкулез - туберкулез с образованием туберкулезных бугорков в различных органах.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аги поражения ( гранулемы ) представлены желтоватыми бугорками диаметром 1-2 мм, напоминающими просяные зерныш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 flipV="1" rot="10800000">
            <a:off x="1476360" y="47448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обенности клинического течения туберкулеза у ВИЧ-инфициров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68360" y="213372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длится недели и месяц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5076720" y="45086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нтоксикационный синдром появляется раньше, чем.бронхолегоч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468360" y="443700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ериферические лимфатические узлы увеличены неравномерно, несимметричн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59280" y="2997360"/>
            <a:ext cx="282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тойкая и длительная анемия (гемоглобин &lt; 90 г/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5724360" y="2133720"/>
            <a:ext cx="28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епатомегалия (всегда при милиарном туберкулез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Рисунок 10" descr="саркома Капоши"/>
          <p:cNvPicPr/>
          <p:nvPr/>
        </p:nvPicPr>
        <p:blipFill>
          <a:blip r:embed="rId1"/>
          <a:stretch/>
        </p:blipFill>
        <p:spPr>
          <a:xfrm>
            <a:off x="826920" y="692280"/>
            <a:ext cx="7380360" cy="4879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getImage"/>
          <p:cNvPicPr/>
          <p:nvPr/>
        </p:nvPicPr>
        <p:blipFill>
          <a:blip r:embed="rId2"/>
          <a:stretch/>
        </p:blipFill>
        <p:spPr>
          <a:xfrm>
            <a:off x="4708440" y="404640"/>
            <a:ext cx="4435560" cy="5977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getImage"/>
          <p:cNvPicPr/>
          <p:nvPr/>
        </p:nvPicPr>
        <p:blipFill>
          <a:blip r:embed="rId3"/>
          <a:srcRect l="10746" t="0" r="31519" b="-218"/>
          <a:stretch/>
        </p:blipFill>
        <p:spPr>
          <a:xfrm>
            <a:off x="0" y="404640"/>
            <a:ext cx="4716360" cy="597708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755640" y="1052640"/>
            <a:ext cx="662472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0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99 -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тысяч населения Украины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54,3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вых случая туберкуле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826920" y="2928960"/>
            <a:ext cx="7561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00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67538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туберкулез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жегодно от туберкулеза умирает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000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больных – это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80 – 9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% от умерших в Украине от всех инфекционных и паразитарных болезн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916360" y="3333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Туберкулез в Укра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826920" y="4797360"/>
            <a:ext cx="6697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в Украине насчитывается окол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26 - 27 тысяч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ельскохозяйственных животных, больных туберкулезом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Місце для нижнього колонтитула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3"/>
          <p:cNvSpPr/>
          <p:nvPr/>
        </p:nvSpPr>
        <p:spPr>
          <a:xfrm>
            <a:off x="611280" y="333360"/>
            <a:ext cx="77770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ff"/>
                </a:solidFill>
                <a:latin typeface="Arial"/>
              </a:rPr>
              <a:t>Существуют тысячи болезней, но здоровье бывает только одно.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(Карл Людвиг Берне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11"/>
          <p:cNvGrpSpPr/>
          <p:nvPr/>
        </p:nvGrpSpPr>
        <p:grpSpPr>
          <a:xfrm>
            <a:off x="1692360" y="4076640"/>
            <a:ext cx="6191280" cy="1838880"/>
            <a:chOff x="1692360" y="4076640"/>
            <a:chExt cx="6191280" cy="1838880"/>
          </a:xfrm>
        </p:grpSpPr>
        <p:sp>
          <p:nvSpPr>
            <p:cNvPr id="275" name="Text Box 4"/>
            <p:cNvSpPr/>
            <p:nvPr/>
          </p:nvSpPr>
          <p:spPr>
            <a:xfrm>
              <a:off x="3275280" y="4076640"/>
              <a:ext cx="19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Авторы работы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Text Box 8"/>
            <p:cNvSpPr/>
            <p:nvPr/>
          </p:nvSpPr>
          <p:spPr>
            <a:xfrm>
              <a:off x="5004000" y="4724280"/>
              <a:ext cx="28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Черепанская Виктор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Text Box 10"/>
            <p:cNvSpPr/>
            <p:nvPr/>
          </p:nvSpPr>
          <p:spPr>
            <a:xfrm>
              <a:off x="1692360" y="4724280"/>
              <a:ext cx="259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Белоус Ирин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ченица 10 класс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имназии №13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Г.Киев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8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Окраска карболовым&#10;фуксином"/>
          <p:cNvPicPr/>
          <p:nvPr/>
        </p:nvPicPr>
        <p:blipFill>
          <a:blip r:embed="rId1"/>
          <a:stretch/>
        </p:blipFill>
        <p:spPr>
          <a:xfrm>
            <a:off x="714240" y="1428840"/>
            <a:ext cx="3786480" cy="37861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"/>
          <p:cNvSpPr/>
          <p:nvPr/>
        </p:nvSpPr>
        <p:spPr>
          <a:xfrm>
            <a:off x="2411280" y="333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озбудитель туберкуле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5000760" y="1357200"/>
            <a:ext cx="3571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збудителями туберкулёза являются микобактерии — кислотоустойчивые бактерии рода Mycobacterium. Всего известно 74 вида микобактерий. Они широко распространены в почве, воде, среди людей и живот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700360" y="33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ИНИЧЕСКИЕ ФО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11280" y="2492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гл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2627280" y="836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900000" y="1197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пищеварительной систем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076720" y="155736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органов мочеполовой сист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95280" y="3860640"/>
            <a:ext cx="424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центральной нервной системы и мозговых оболочек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4716360" y="2781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стей и сустав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84720" y="4365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Туберкулез кож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7" descr=""/>
          <p:cNvPicPr/>
          <p:nvPr/>
        </p:nvPicPr>
        <p:blipFill>
          <a:blip r:embed="rId1"/>
          <a:stretch/>
        </p:blipFill>
        <p:spPr>
          <a:xfrm>
            <a:off x="539640" y="5084640"/>
            <a:ext cx="2449800" cy="1314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4140360" y="5013360"/>
            <a:ext cx="1871640" cy="14112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8" descr=""/>
          <p:cNvPicPr/>
          <p:nvPr/>
        </p:nvPicPr>
        <p:blipFill>
          <a:blip r:embed="rId3"/>
          <a:stretch/>
        </p:blipFill>
        <p:spPr>
          <a:xfrm>
            <a:off x="8101080" y="2924280"/>
            <a:ext cx="882720" cy="1224000"/>
          </a:xfrm>
          <a:prstGeom prst="rect">
            <a:avLst/>
          </a:prstGeom>
          <a:ln w="0">
            <a:noFill/>
          </a:ln>
        </p:spPr>
      </p:pic>
      <p:pic>
        <p:nvPicPr>
          <p:cNvPr id="195" name="ipf2hB1RU8aF1T2GM:" descr="http://t1.gstatic.com/images?q=tbn:2hB1RU8aF1T2GM:http://www.nedug.ru/lib/lit/opht/01nov/opht40/p61.jpg"/>
          <p:cNvPicPr/>
          <p:nvPr/>
        </p:nvPicPr>
        <p:blipFill>
          <a:blip r:embed="rId4"/>
          <a:stretch/>
        </p:blipFill>
        <p:spPr>
          <a:xfrm>
            <a:off x="1403280" y="2997360"/>
            <a:ext cx="1297080" cy="8380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1" descr="Рис. 1а). Макроскопическая картина вскрытой брюшной полости при гнойном перитоните: абсцессы с подведенными к ним дренажами."/>
          <p:cNvPicPr/>
          <p:nvPr/>
        </p:nvPicPr>
        <p:blipFill>
          <a:blip r:embed="rId5"/>
          <a:stretch/>
        </p:blipFill>
        <p:spPr>
          <a:xfrm>
            <a:off x="7236000" y="472428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2843280" y="404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ЕГО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 flipH="1">
            <a:off x="2411280" y="765000"/>
            <a:ext cx="1656000" cy="86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5219640" y="765000"/>
            <a:ext cx="158436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684360" y="3213000"/>
            <a:ext cx="29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Диссеминированный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распространенн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5724360" y="2565360"/>
            <a:ext cx="21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аговый (ограниченны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19"/>
          <p:cNvSpPr/>
          <p:nvPr/>
        </p:nvSpPr>
        <p:spPr>
          <a:xfrm>
            <a:off x="6510960" y="5949000"/>
            <a:ext cx="201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3774240" y="5372640"/>
            <a:ext cx="266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ивны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7"/>
          <p:cNvSpPr/>
          <p:nvPr/>
        </p:nvSpPr>
        <p:spPr>
          <a:xfrm>
            <a:off x="7020000" y="436572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вероз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324000" y="155736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й туберкулезный комплекс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6227640" y="155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торич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 flipH="1">
            <a:off x="2916360" y="765000"/>
            <a:ext cx="1582560" cy="2303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8"/>
          <p:cNvSpPr/>
          <p:nvPr/>
        </p:nvSpPr>
        <p:spPr>
          <a:xfrm>
            <a:off x="4859280" y="765000"/>
            <a:ext cx="1225440" cy="1727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5795640" y="3213000"/>
            <a:ext cx="863640" cy="2087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Line 7"/>
          <p:cNvSpPr/>
          <p:nvPr/>
        </p:nvSpPr>
        <p:spPr>
          <a:xfrm>
            <a:off x="6948360" y="3213000"/>
            <a:ext cx="0" cy="266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7237440" y="3213000"/>
            <a:ext cx="863640" cy="12240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6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38"/>
          <p:cNvGrpSpPr/>
          <p:nvPr/>
        </p:nvGrpSpPr>
        <p:grpSpPr>
          <a:xfrm>
            <a:off x="755640" y="765000"/>
            <a:ext cx="3600360" cy="4479480"/>
            <a:chOff x="755640" y="765000"/>
            <a:chExt cx="3600360" cy="4479480"/>
          </a:xfrm>
        </p:grpSpPr>
        <p:pic>
          <p:nvPicPr>
            <p:cNvPr id="215" name="Picture 32" descr="r2_55"/>
            <p:cNvPicPr/>
            <p:nvPr/>
          </p:nvPicPr>
          <p:blipFill>
            <a:blip r:embed="rId1"/>
            <a:stretch/>
          </p:blipFill>
          <p:spPr>
            <a:xfrm>
              <a:off x="826920" y="765000"/>
              <a:ext cx="3333960" cy="316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33"/>
            <p:cNvSpPr/>
            <p:nvPr/>
          </p:nvSpPr>
          <p:spPr>
            <a:xfrm>
              <a:off x="755640" y="3933720"/>
              <a:ext cx="36003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ffffff"/>
                  </a:solidFill>
                  <a:latin typeface="Arial"/>
                </a:rPr>
                <a:t>Рентгенограмма легких больного, перенесшего первичный туберкулез легких. Заметны обызвествленные очаги Гона в верхушке и корне правого легкого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Text Box 35"/>
          <p:cNvSpPr/>
          <p:nvPr/>
        </p:nvSpPr>
        <p:spPr>
          <a:xfrm>
            <a:off x="4643280" y="907920"/>
            <a:ext cx="3889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ичный туберкулез развивается при первой встрече организма с возбудителем. В районах с высокой распространенностью туберкулеза этой формой заболевания часто страдают де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37" descr="http://www.minzdrav.by/med/common/art3/privivki.jpg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4716360" y="3500280"/>
            <a:ext cx="3168720" cy="2649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39"/>
          <p:cNvSpPr/>
          <p:nvPr/>
        </p:nvSpPr>
        <p:spPr>
          <a:xfrm>
            <a:off x="2916360" y="189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2700360" y="40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торич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4572000" y="1125360"/>
            <a:ext cx="4249800" cy="4046400"/>
            <a:chOff x="4572000" y="1125360"/>
            <a:chExt cx="4249800" cy="4046400"/>
          </a:xfrm>
        </p:grpSpPr>
        <p:pic>
          <p:nvPicPr>
            <p:cNvPr id="223" name="Picture 6" descr="Рис. 13а). Рентгенограмма органов грудной клетки в прямой проекции &#10;больной фиброзно-кавернозным туберкулезом правого легкого и &#10;левосторонней казеозной пневмонией: левое легкое уменьшено в объеме, &#10;диффузно затенено, в верхних его отделах определяются множественные &#10;полости распада (1); правое легкое увеличено в объеме, в средних его &#10;отделах определяются очаги отсева (2), на уровне второго межреберного &#10;промежутка — каверна (3); тень средостения смещена влево."/>
            <p:cNvPicPr/>
            <p:nvPr/>
          </p:nvPicPr>
          <p:blipFill>
            <a:blip r:embed="rId1"/>
            <a:stretch/>
          </p:blipFill>
          <p:spPr>
            <a:xfrm>
              <a:off x="4645080" y="1125360"/>
              <a:ext cx="410544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Text Box 7"/>
            <p:cNvSpPr/>
            <p:nvPr/>
          </p:nvSpPr>
          <p:spPr>
            <a:xfrm>
              <a:off x="4572000" y="4438440"/>
              <a:ext cx="4249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Arial"/>
                </a:rPr>
                <a:t>Рентгенограмма органов грудной клетки в прямой проекции больного вторичным туберкулезом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Text Box 10"/>
          <p:cNvSpPr/>
          <p:nvPr/>
        </p:nvSpPr>
        <p:spPr>
          <a:xfrm>
            <a:off x="611280" y="125892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39640" y="1052640"/>
            <a:ext cx="39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торичный туберкулез представляет собой результат реинфекции или реактивации эндогенной инфекции, сохранявшейся в латентном состоянии. Болеют им преимущественно взрослые. Поражаются обычно верхушечные и задние сегменты верхних долей легких (более высокая концентрация кислорода способствует там росту микобактерии)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s320x240"/>
          <p:cNvPicPr/>
          <p:nvPr/>
        </p:nvPicPr>
        <p:blipFill>
          <a:blip r:embed="rId2"/>
          <a:stretch/>
        </p:blipFill>
        <p:spPr>
          <a:xfrm>
            <a:off x="4643280" y="1000080"/>
            <a:ext cx="4500720" cy="4324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tuberinfleftlung"/>
          <p:cNvPicPr/>
          <p:nvPr/>
        </p:nvPicPr>
        <p:blipFill>
          <a:blip r:embed="rId3"/>
          <a:stretch/>
        </p:blipFill>
        <p:spPr>
          <a:xfrm>
            <a:off x="4500720" y="1285920"/>
            <a:ext cx="4286160" cy="44290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979640" y="333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ДИССЕМЕНИРОВАН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5" descr="ris8-Kniga"/>
          <p:cNvPicPr/>
          <p:nvPr/>
        </p:nvPicPr>
        <p:blipFill>
          <a:blip r:embed="rId1"/>
          <a:stretch/>
        </p:blipFill>
        <p:spPr>
          <a:xfrm>
            <a:off x="684360" y="981000"/>
            <a:ext cx="3887640" cy="33544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9"/>
          <p:cNvSpPr/>
          <p:nvPr/>
        </p:nvSpPr>
        <p:spPr>
          <a:xfrm>
            <a:off x="684360" y="47242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4"/>
          <p:cNvSpPr/>
          <p:nvPr/>
        </p:nvSpPr>
        <p:spPr>
          <a:xfrm>
            <a:off x="1763640" y="9079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ильтрированн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6" descr="ris13-Kniga"/>
          <p:cNvPicPr/>
          <p:nvPr/>
        </p:nvPicPr>
        <p:blipFill>
          <a:blip r:embed="rId1"/>
          <a:stretch/>
        </p:blipFill>
        <p:spPr>
          <a:xfrm>
            <a:off x="4500720" y="1916280"/>
            <a:ext cx="4319280" cy="35906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2484360" y="33336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ЧАГОВЫЙ ТУБЕРКУЛЕ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611280" y="1916280"/>
            <a:ext cx="388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ильтрат - фокус воспаления, в котором преобладает экссудативная фаза воспаления. А раз преобладает экссудация, то бурно растет инфильтрация - то есть вокруг этого фокуса воспаления идет приход лимфоцитов и лейкоцитов.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987640" y="33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уберкулема лег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755640" y="119700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а - это клиническая форма туберкулеза, характеризующаяся наличием в легком округлого образования, представляющего собой казеозные массы, продуктивное воспаление и фиброз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211640" y="2852640"/>
            <a:ext cx="403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уберкулемы – это как правило следствие, исход инфильтративного туберкулеза, но также туберкулома может сформироваться при диссеминированном туберкулезе, где имеются инфильтраты достаточно больших разме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http://www.med-web.ru/img/ris12-Kniga.jpg"/>
          <p:cNvPicPr/>
          <p:nvPr/>
        </p:nvPicPr>
        <p:blipFill>
          <a:blip r:embed="rId1"/>
          <a:stretch/>
        </p:blipFill>
        <p:spPr>
          <a:xfrm>
            <a:off x="324000" y="2781360"/>
            <a:ext cx="3887640" cy="32209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4T12:49:53Z</dcterms:created>
  <dc:creator>белоус</dc:creator>
  <dc:description/>
  <dc:language>en-US</dc:language>
  <cp:lastModifiedBy>LEGION</cp:lastModifiedBy>
  <dcterms:modified xsi:type="dcterms:W3CDTF">2015-02-13T11:11:23Z</dcterms:modified>
  <cp:revision>29</cp:revision>
  <dc:subject/>
  <dc:title>ТУБЕРКУЛЕЗ-ЧУМА ХХІ ВЕКА</dc:title>
</cp:coreProperties>
</file>