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83EE-DD64-49E5-B6A3-5962890AA35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борты. О вреде абортов</a:t>
            </a: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C827-FEF5-4BB6-8674-C75D098AC18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CAD7-64C7-47D5-A310-394B62B87EC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494A-B593-44B6-A937-3B229546A67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E336-5499-4FF3-B189-C673813DED2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spcBef>
                <a:spcPts val="524"/>
              </a:spcBef>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DD66-23C4-45C4-BF12-3C0FA39985E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CED4-0435-48EE-8523-B2E3E78DF92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ED3B-EF86-4DD9-BF0C-2E24BC80A04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DE88-90C5-46E0-8609-AF924B2C0504}"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E6ED-ED31-4329-97FB-5E7AE1264A1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C2C9-0D2F-45FD-A66A-82FCD7487DB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8C8F-08CF-4C7D-A82D-A21439AE557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1FEAB-AAB0-4604-ABB7-A31A06CC8B4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A433-6DD0-4E06-95C8-4B2420B6F93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5C84-D752-43AA-8CE8-9D160BBC384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0270-E86C-4E09-8B7D-5BC32DB6109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61DAF-828A-4EBD-9D12-F0B43868F88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AC06E-991D-4852-9129-743B842171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CDCD1-B119-441F-95F7-BE61DF66C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C1805-5318-4596-AD33-9D2A4A9C2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E2BD6-5877-4DF0-8AAF-BE4EBA333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C26773-554F-4430-9D4F-41A826465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02880-E710-498D-9C9D-DC242FA76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A1488-9B10-4AA6-BC22-45DFA6B54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52D7B-C71F-4F97-B1FB-FB8C9F7A3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37388-B12C-41A5-9661-196223E14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21978-65E1-44F4-AB11-5B235EED5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CA388-1D4D-42F5-9DF2-4CAB7F7A6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0E2AD-BAF2-45BF-A98F-4D3AD9F32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FE3C5-442F-4D81-AA6B-E7F933A33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2D047-14B8-4DD1-B542-8880E4F5F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DED4A-8CC4-4BB9-8253-5619B23B9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C158F6-A1D5-4E0B-85C5-D80859756F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9F70B-BCFF-4196-A94A-E51785161F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246AFBD-05D0-4DB5-9BF2-BA87D26571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4DF954-273F-4023-9300-7536A9DC8C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6D227C0-41E7-4679-8006-03742A330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989EDC1-A2DF-4CD4-86AC-F24D763FD0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7310A2-E889-4D99-AD56-78B8DC347B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2FE77-1595-4991-993F-BB7DBA493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21ACCC-1324-450C-A74C-9C125B60DF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4D5525-4013-497F-867C-C0D7B463F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65E103-359E-4952-83A8-84936ADAFF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EAF05B-32DA-4F2E-B006-0DD7C3EC6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242EA27-6F54-48E3-9DFB-B6E689B7C1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61BCAB2-F772-4554-827B-DA7F013FA7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897724F-19F1-4712-98BF-3A9226B19F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E28EA46-42E5-4A6E-8766-BC5F6C4A613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ADF379-29E6-4B21-BF31-BE543C97A6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25AFFF-2099-4162-8E9A-6023993DC21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02F57-2A38-49D7-9860-ABBC4C153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28AFCF-6FC0-4FC9-A3A4-D2AE5494391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732FD8-A685-490B-BD59-253883E7AC1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798B53-5851-4F49-A57B-420240B2B78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1DC729-AADD-4FDC-AE98-F80BC3FA67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7A5600-2A3B-4FDB-8A7A-8FEE4ECFBA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0AEC16-229B-47A0-B36A-5AF9BF9EFEF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90BB78-F2A6-4DF4-95B8-C33F60BA69A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ED6F0E2-1971-405B-B6D0-06D2E99D3F1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82992E2-F66B-4460-9988-693C70D6E01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8E255A-2553-4FAA-AED7-8C4937BAFD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137C6-E7A5-462C-AEA1-177C8A346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A2CFF9-47AB-432B-8B4A-36D6E7A157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E6B67A-FFD6-4351-9E37-45E758FD3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D237B-E38D-4A3E-99ED-DD0A14278B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76F94A-CE6D-4E6A-B768-24BD41C619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13F946-1510-489C-81DD-0FDEA9E620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A25EBB-5D38-4461-B48A-280F02AE2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1D24A-CE75-4B35-AB1C-EA803F2B5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DD633-7CA4-4258-8C94-B3108781FB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D4F1E2-B841-4D1F-8B42-014C40007F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39EECF-6C97-4E33-8B25-B67DF455C8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A7E50-FFAF-4FE8-9FE7-C45EF5C23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5B818C-039A-4C14-B858-EC2C97CF18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5AAF3D-20AF-46A9-BF95-9C17B53854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80C9B1-797A-4BCB-809A-D05D4C6863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FF98E1-9394-46F1-A20D-771E268CDB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F94B82-D8F0-4A84-8E71-462E7C68D5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93AC08-0B52-45F2-BE03-B16DBA4505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D50DC-AAB6-4A6B-A99A-6C3DDDD546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31291-CE71-448D-852B-B3475CD4E0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8BC69-1BC1-40F2-8A03-E70062B1CD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28006-2D59-4CC4-9683-76FBBD544E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8D863-2E43-4EA4-9D9B-4E26FD0D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800F4B-0855-4D7B-AB38-6350F2B14C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7CFAEB-4E87-4D7D-B06C-3274C65662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5750D8-E2D5-478B-9E2F-F4635E507D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B284E-7848-4F73-96BB-7D4E2C9BB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6D7BD-8D4D-4CCC-AA00-0985CABDD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2BDD1-4E0F-4A3E-98A2-3883D0474EF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597B-7FC9-4D3C-9B93-5C5E4A82DE1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6266-25E3-4B14-985B-F2E4F131BE1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F942-C319-48AA-B206-9ED331AB3FA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8F0BC-4718-4417-968C-AA0ABC72B12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71C46-835C-4FE3-A990-C89FECAAD5C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00040" y="21420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ahoma"/>
              </a:rPr>
              <a:t>Аборты. О вреде абортов</a:t>
            </a:r>
            <a:endParaRPr b="0" lang="en-US" sz="4400" spc="-1" strike="noStrike">
              <a:solidFill>
                <a:srgbClr val="ffffff"/>
              </a:solidFill>
              <a:latin typeface="Tahoma"/>
            </a:endParaRPr>
          </a:p>
        </p:txBody>
      </p:sp>
      <p:pic>
        <p:nvPicPr>
          <p:cNvPr id="353" name="Picture 5" descr="mini_abort1sm"/>
          <p:cNvPicPr/>
          <p:nvPr/>
        </p:nvPicPr>
        <p:blipFill>
          <a:blip r:embed="rId1"/>
          <a:stretch/>
        </p:blipFill>
        <p:spPr>
          <a:xfrm>
            <a:off x="2428920" y="2143080"/>
            <a:ext cx="4429080" cy="3321000"/>
          </a:xfrm>
          <a:prstGeom prst="rect">
            <a:avLst/>
          </a:prstGeom>
          <a:ln w="0">
            <a:noFill/>
          </a:ln>
        </p:spPr>
      </p:pic>
      <p:sp>
        <p:nvSpPr>
          <p:cNvPr id="3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5" descr="abort9sm"/>
          <p:cNvPicPr/>
          <p:nvPr/>
        </p:nvPicPr>
        <p:blipFill>
          <a:blip r:embed="rId1"/>
          <a:stretch/>
        </p:blipFill>
        <p:spPr>
          <a:xfrm>
            <a:off x="0" y="0"/>
            <a:ext cx="9144000" cy="6858000"/>
          </a:xfrm>
          <a:prstGeom prst="rect">
            <a:avLst/>
          </a:prstGeom>
          <a:ln w="0">
            <a:noFill/>
          </a:ln>
        </p:spPr>
      </p:pic>
      <p:sp>
        <p:nvSpPr>
          <p:cNvPr id="3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7"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8" name="Picture 4" descr="Солевой аборт"/>
          <p:cNvPicPr/>
          <p:nvPr/>
        </p:nvPicPr>
        <p:blipFill>
          <a:blip r:embed="rId1"/>
          <a:stretch/>
        </p:blipFill>
        <p:spPr>
          <a:xfrm>
            <a:off x="611280" y="2205000"/>
            <a:ext cx="1571400" cy="1457280"/>
          </a:xfrm>
          <a:prstGeom prst="rect">
            <a:avLst/>
          </a:prstGeom>
          <a:ln w="0">
            <a:noFill/>
          </a:ln>
        </p:spPr>
      </p:pic>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1"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3" name="Picture 7" descr="http://www.aborti.ru/UserFiles/Image/posters/salt.gif"/>
          <p:cNvPicPr/>
          <p:nvPr/>
        </p:nvPicPr>
        <p:blipFill>
          <a:blip r:embed="rId1"/>
          <a:stretch/>
        </p:blipFill>
        <p:spPr>
          <a:xfrm>
            <a:off x="0" y="0"/>
            <a:ext cx="9220320" cy="685800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6"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7" name="Picture 8" descr="24"/>
          <p:cNvPicPr/>
          <p:nvPr/>
        </p:nvPicPr>
        <p:blipFill>
          <a:blip r:embed="rId1"/>
          <a:stretch/>
        </p:blipFill>
        <p:spPr>
          <a:xfrm rot="20147400">
            <a:off x="250920" y="5949720"/>
            <a:ext cx="952560" cy="618840"/>
          </a:xfrm>
          <a:prstGeom prst="rect">
            <a:avLst/>
          </a:prstGeom>
          <a:ln w="0">
            <a:noFill/>
          </a:ln>
        </p:spPr>
      </p:pic>
      <p:pic>
        <p:nvPicPr>
          <p:cNvPr id="408" name="Picture 7" descr="13"/>
          <p:cNvPicPr/>
          <p:nvPr/>
        </p:nvPicPr>
        <p:blipFill>
          <a:blip r:embed="rId2"/>
          <a:stretch/>
        </p:blipFill>
        <p:spPr>
          <a:xfrm rot="19982400">
            <a:off x="826920" y="1197000"/>
            <a:ext cx="952560" cy="628560"/>
          </a:xfrm>
          <a:prstGeom prst="rect">
            <a:avLst/>
          </a:prstGeom>
          <a:ln w="0">
            <a:noFill/>
          </a:ln>
        </p:spPr>
      </p:pic>
      <p:pic>
        <p:nvPicPr>
          <p:cNvPr id="409" name="Picture 6" descr="23"/>
          <p:cNvPicPr/>
          <p:nvPr/>
        </p:nvPicPr>
        <p:blipFill>
          <a:blip r:embed="rId3"/>
          <a:stretch/>
        </p:blipFill>
        <p:spPr>
          <a:xfrm>
            <a:off x="4140360" y="5950080"/>
            <a:ext cx="952200" cy="714240"/>
          </a:xfrm>
          <a:prstGeom prst="rect">
            <a:avLst/>
          </a:prstGeom>
          <a:ln w="0">
            <a:noFill/>
          </a:ln>
        </p:spPr>
      </p:pic>
      <p:pic>
        <p:nvPicPr>
          <p:cNvPr id="410" name="Picture 5" descr="36"/>
          <p:cNvPicPr/>
          <p:nvPr/>
        </p:nvPicPr>
        <p:blipFill>
          <a:blip r:embed="rId4"/>
          <a:stretch/>
        </p:blipFill>
        <p:spPr>
          <a:xfrm rot="1379400">
            <a:off x="7596000" y="1052640"/>
            <a:ext cx="952200" cy="933480"/>
          </a:xfrm>
          <a:prstGeom prst="rect">
            <a:avLst/>
          </a:prstGeom>
          <a:ln w="0">
            <a:noFill/>
          </a:ln>
        </p:spPr>
      </p:pic>
      <p:pic>
        <p:nvPicPr>
          <p:cNvPr id="411" name="Picture 4" descr="91"/>
          <p:cNvPicPr/>
          <p:nvPr/>
        </p:nvPicPr>
        <p:blipFill>
          <a:blip r:embed="rId5"/>
          <a:stretch/>
        </p:blipFill>
        <p:spPr>
          <a:xfrm rot="17880600">
            <a:off x="8100720" y="5733360"/>
            <a:ext cx="685800" cy="952560"/>
          </a:xfrm>
          <a:prstGeom prst="rect">
            <a:avLst/>
          </a:prstGeom>
          <a:ln w="0">
            <a:noFill/>
          </a:ln>
        </p:spPr>
      </p:pic>
      <p:sp>
        <p:nvSpPr>
          <p:cNvPr id="412"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19"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2"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5"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6"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29"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2"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5"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6"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6"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39"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59"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2"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3" name="Picture 9" descr="pg225smp"/>
          <p:cNvPicPr/>
          <p:nvPr/>
        </p:nvPicPr>
        <p:blipFill>
          <a:blip r:embed="rId1"/>
          <a:stretch/>
        </p:blipFill>
        <p:spPr>
          <a:xfrm>
            <a:off x="5940360" y="1413000"/>
            <a:ext cx="2143080" cy="2143080"/>
          </a:xfrm>
          <a:prstGeom prst="rect">
            <a:avLst/>
          </a:prstGeom>
          <a:ln w="0">
            <a:noFill/>
          </a:ln>
        </p:spPr>
      </p:pic>
      <p:sp>
        <p:nvSpPr>
          <p:cNvPr id="3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5" descr="mini_abort1sm"/>
          <p:cNvPicPr/>
          <p:nvPr/>
        </p:nvPicPr>
        <p:blipFill>
          <a:blip r:embed="rId1"/>
          <a:stretch/>
        </p:blipFill>
        <p:spPr>
          <a:xfrm>
            <a:off x="0" y="-19080"/>
            <a:ext cx="9144000" cy="6858000"/>
          </a:xfrm>
          <a:prstGeom prst="rect">
            <a:avLst/>
          </a:prstGeom>
          <a:ln w="0">
            <a:noFill/>
          </a:ln>
        </p:spPr>
      </p:pic>
      <p:sp>
        <p:nvSpPr>
          <p:cNvPr id="3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8"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69"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0"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1"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2"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3"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4"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5"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5" descr="abort23sm"/>
          <p:cNvPicPr/>
          <p:nvPr/>
        </p:nvPicPr>
        <p:blipFill>
          <a:blip r:embed="rId1"/>
          <a:stretch/>
        </p:blipFill>
        <p:spPr>
          <a:xfrm>
            <a:off x="0" y="0"/>
            <a:ext cx="9144000" cy="6853320"/>
          </a:xfrm>
          <a:prstGeom prst="rect">
            <a:avLst/>
          </a:prstGeom>
          <a:ln w="0">
            <a:noFill/>
          </a:ln>
        </p:spPr>
      </p:pic>
      <p:sp>
        <p:nvSpPr>
          <p:cNvPr id="382"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3"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4"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5"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6"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89"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2"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5-02-13T11:12:32Z</dcterms:modified>
  <cp:revision>7</cp:revision>
  <dc:subject/>
  <dc:title>Аборт как социально-медицинская проблема</dc:title>
</cp:coreProperties>
</file>