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1E9F-E31E-4621-B472-524ABEC0EA0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НОРЕЯ</a:t>
            </a:r>
            <a:endParaRPr b="0" lang="en-US" sz="1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Болкунова Наталья</a:t>
            </a:r>
            <a:endParaRPr b="0" lang="en-US" sz="1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еминар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32DA-C5CC-4E71-A927-8036613C970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Зоны поражения при заражении гонореей</a:t>
            </a:r>
            <a:br>
              <a:rPr sz="1200"/>
            </a:br>
            <a:endParaRPr b="0" lang="en-US" sz="1200" spc="-1" strike="noStrike">
              <a:solidFill>
                <a:srgbClr val="000000"/>
              </a:solidFill>
              <a:latin typeface="Calibri"/>
            </a:endParaRPr>
          </a:p>
          <a:p>
            <a:pPr>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У женщин:</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 - фаллопиева труб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2 - матк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3 - шейка матки</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4 - перешеек матки</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5 - мочеиспускательный канал</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6 - влагалище</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7 - малые половые губы</a:t>
            </a:r>
            <a:endParaRPr b="0" lang="en-US" sz="1200" spc="-1" strike="noStrike">
              <a:solidFill>
                <a:srgbClr val="000000"/>
              </a:solidFill>
              <a:latin typeface="Calibri"/>
            </a:endParaRPr>
          </a:p>
          <a:p>
            <a:pPr>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У мужчин:</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 - мочевой пузырь</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2 - семявыводящий проток</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3 - семенной пузырёк</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4 - предстательная желез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5 - мочеиспускательный канал</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6 - придаток яичк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7 - яичко</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1A19-6C8A-4431-BD1C-9462D7436E6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сложнения гонореи</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 женщ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спаление придатков, с последующей закупоркой маточных труб, что ведет к повышению вероятности возникновения трубной беременности, невынашивания беременности или бесплодию.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истит (воспаление мочевого пузыр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о-гнойный цервиц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 мужч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атит (воспаление предстательной желез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иктура уретр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сплод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пидидимит (воспаление придатка яич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 редких осложнений (около 1%) нужно отметить диссеминированную гонококковую инфекцию (ДГ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ГИ развивается в результате распространения инфекции от гениталий к другим органам и система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ГИ проявляется повышением температуры, возникают поражения кожи, суставов (артрит), внутренней выстилки полостей сердца (эндокардит), может развиться воспаление мозговых оболочек (менингит).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лечения ДГИ применяют различные схемы антибактериальной терап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EEF1-5612-40A2-B505-0258BA254D9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Особенности гонореи женщин</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езависимо от длительности остается </a:t>
            </a:r>
            <a:r>
              <a:rPr b="1" lang="ru-RU" sz="1200" spc="-1" strike="noStrike">
                <a:solidFill>
                  <a:srgbClr val="c0504d"/>
                </a:solidFill>
                <a:latin typeface="Calibri"/>
              </a:rPr>
              <a:t>субъективно бессимптомным</a:t>
            </a:r>
            <a:r>
              <a:rPr b="0" lang="ru-RU" sz="1200" spc="-1" strike="noStrike">
                <a:solidFill>
                  <a:srgbClr val="000000"/>
                </a:solidFill>
                <a:latin typeface="Calibri"/>
              </a:rPr>
              <a:t>. Durel (1957) называет такую гонорею "немой". Частота субъективно асимптомной гонореи составляет от 75-77,6%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колько реже гонорея с самого начала протекает вяло (так называемая торпидная гонорея), воспалительные явления в гениталиях почти отсутствуют. Торпидное течение гонореи обусловлено снижением реактивности макроорганизма, изменением биологических свойств гонококков, особенно под влиянием антибиотикотерап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й из причин вялого течения гонореи может быть понижение функции яичников, которое проявляется снижением экскреции суммы эстрогенов и их фракций . С. А. Артемьев (1954) отмечал, что большую роль в торпидном течении гонореи у женщин играют неадекватные дозы сульфаниламидов, которые снижают вирулентность гонококков и остроту воспалительного процесса. Немаловажное значение имеет и образование L-форм гонококка . Такие больные очень опасны в эпидемиологическом отношен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EAB8-515D-4095-A443-CD04A689CA2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Особенности гонореи женщин</a:t>
            </a: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Второй особенностью</a:t>
            </a:r>
            <a:r>
              <a:rPr b="0" lang="ru-RU" sz="1600" spc="-1" strike="noStrike">
                <a:solidFill>
                  <a:srgbClr val="000000"/>
                </a:solidFill>
                <a:latin typeface="Calibri"/>
              </a:rPr>
              <a:t> гонореи у женщин является то, что она часто протекает как </a:t>
            </a:r>
            <a:r>
              <a:rPr b="0" lang="ru-RU" sz="1600" spc="-1" strike="noStrike" u="sng">
                <a:solidFill>
                  <a:srgbClr val="c0504d"/>
                </a:solidFill>
                <a:uFillTx/>
                <a:latin typeface="Calibri"/>
              </a:rPr>
              <a:t>смешанная инфекция</a:t>
            </a:r>
            <a:r>
              <a:rPr b="0" lang="ru-RU" sz="1600" spc="-1" strike="noStrike">
                <a:solidFill>
                  <a:srgbClr val="000000"/>
                </a:solidFill>
                <a:latin typeface="Calibri"/>
              </a:rPr>
              <a:t> </a:t>
            </a:r>
            <a:endParaRPr b="0" lang="en-US" sz="16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заболевание обусловлено гонококками и влагалищными трихомонадами у 70-80% больных </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гонококки в ассоциации с влагалищной трихомонадой обнаруживаются у 96% больных острой восходящей гонореей и у 46-50% беременных, больных. При электронно-микроскопическом исследовании было установлено, что при смешанной гонорейно-трихомонадной инфекции происходит фагоцитоз гонококков влагалищными трихомонадами (эндоцитобиоз). "Переживание" гонококками антибиотикотерапии и их размножение в трихомонадах позволяют рассматривать трихомонаду как резервуар гонококковой инфекции. </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мешанная гонорейно-кандидозная инфекция выявляется у 19,8-30% обследуемых. Одновременное заболевание гонореей, кандидозом и трихомонозом диагностируется у 10,8% больных</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еобходимо помнить о возможности одновременного заражения гонореей и сифилисом</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четание гонореи с уреаплазменной инфекцией в 40-80% случаев </a:t>
            </a: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мешанная инфекция изменяет клиническое течение гонореи, затрудняет ее диагностику, приводит к удлинению инкубационного периода, постгонорейным процессам и рецидивам, что требует многократных лабораторных исследований с провокациями и культуральной диагностикой</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2DF3-704F-4E60-8B28-709D94FBD9F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Особенности гонореи женщин</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Отличительной чертой гонореи у женщин</a:t>
            </a:r>
            <a:r>
              <a:rPr b="0" lang="ru-RU" sz="1200" spc="-1" strike="noStrike">
                <a:solidFill>
                  <a:srgbClr val="000000"/>
                </a:solidFill>
                <a:latin typeface="Calibri"/>
              </a:rPr>
              <a:t> является то, что в момент заражения </a:t>
            </a:r>
            <a:r>
              <a:rPr b="0" lang="ru-RU" sz="1200" spc="-1" strike="noStrike" u="sng">
                <a:solidFill>
                  <a:srgbClr val="000000"/>
                </a:solidFill>
                <a:uFillTx/>
                <a:latin typeface="Calibri"/>
              </a:rPr>
              <a:t>инфицируется сразу или последовательно несколько органов</a:t>
            </a:r>
            <a:r>
              <a:rPr b="0" lang="ru-RU" sz="1200" spc="-1" strike="noStrike">
                <a:solidFill>
                  <a:srgbClr val="000000"/>
                </a:solidFill>
                <a:latin typeface="Calibri"/>
              </a:rPr>
              <a:t>, т. е. у 60-62,8% развивается </a:t>
            </a:r>
            <a:r>
              <a:rPr b="0" lang="ru-RU" sz="1200" spc="-1" strike="noStrike" u="sng">
                <a:solidFill>
                  <a:srgbClr val="c0504d"/>
                </a:solidFill>
                <a:uFillTx/>
                <a:latin typeface="Calibri"/>
              </a:rPr>
              <a:t>многоочаговое пораж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и удается обнаружить только в отделяемом уретры у 8-14%, только в цервикальном канале - у 31,7-23,3%, только в отделяемом больших вестибулярных желез - у 0,1% и только в нижнем отрезке прямой кишки - у 0,3-5,2% больны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рейное поражение уретры, шейки матки и прямой кишки чаще не вызывает заметных общих явлений, переход процесса за внутренний зев на тело матки и ее придатки обычно сопровождается более или менее значительными нарушениями общего состояния: болями внизу живота, повышением температуры, изменением гемограм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е течение заболевания дало повод выделить </a:t>
            </a:r>
            <a:r>
              <a:rPr b="1" i="1" lang="ru-RU" sz="1200" spc="-1" strike="noStrike">
                <a:solidFill>
                  <a:srgbClr val="000000"/>
                </a:solidFill>
                <a:latin typeface="Calibri"/>
              </a:rPr>
              <a:t>гонорею нижнего отдела</a:t>
            </a:r>
            <a:r>
              <a:rPr b="0" lang="ru-RU" sz="1200" spc="-1" strike="noStrike">
                <a:solidFill>
                  <a:srgbClr val="000000"/>
                </a:solidFill>
                <a:latin typeface="Calibri"/>
              </a:rPr>
              <a:t> (уретрит, парауретрит, бартолинит, вестибулит, цервицит, эндоцервицит, проктит) и </a:t>
            </a:r>
            <a:r>
              <a:rPr b="1" i="1" lang="ru-RU" sz="1200" spc="-1" strike="noStrike">
                <a:solidFill>
                  <a:srgbClr val="000000"/>
                </a:solidFill>
                <a:latin typeface="Calibri"/>
              </a:rPr>
              <a:t>гонорею верхнего отдела половых органов</a:t>
            </a:r>
            <a:r>
              <a:rPr b="0" lang="ru-RU" sz="1200" spc="-1" strike="noStrike">
                <a:solidFill>
                  <a:srgbClr val="000000"/>
                </a:solidFill>
                <a:latin typeface="Calibri"/>
              </a:rPr>
              <a:t>, или восходящую гонорею (эндометрит, метроэндометрит, аднексит, пельвиоперитон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колеблется от 3 до 5 дней, но в последнее время нередко равен 14-15 дням. Женщина часто не может указать дату инфицирования из-за бессимптомности процесс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AB35-F10C-447D-BFD0-000CBBBF4C0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бследование женщин</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бследовании женщин изучаются </a:t>
            </a:r>
            <a:r>
              <a:rPr b="1" lang="ru-RU" sz="1200" spc="-1" strike="noStrike">
                <a:solidFill>
                  <a:srgbClr val="4f81bd"/>
                </a:solidFill>
                <a:latin typeface="Calibri"/>
              </a:rPr>
              <a:t>анамнестические данные</a:t>
            </a:r>
            <a:r>
              <a:rPr b="0" lang="ru-RU" sz="1200" spc="-1" strike="noStrike">
                <a:solidFill>
                  <a:srgbClr val="000000"/>
                </a:solidFill>
                <a:latin typeface="Calibri"/>
              </a:rPr>
              <a:t>; обращают внимание на развитие воспалительного процесса вскоре после начала половой жизни или случайной половой связи, на появление выделений из гениталий, боли внизу живота после менструации, родов или аборта, повышение температуры тела, увеличение СОЭ, появление ациклических кровотечений, бесплод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едование больной начинается с </a:t>
            </a:r>
            <a:r>
              <a:rPr b="1" lang="ru-RU" sz="1200" spc="-1" strike="noStrike">
                <a:solidFill>
                  <a:srgbClr val="4f81bd"/>
                </a:solidFill>
                <a:latin typeface="Calibri"/>
              </a:rPr>
              <a:t>осмотра</a:t>
            </a:r>
            <a:r>
              <a:rPr b="0" lang="ru-RU" sz="1200" spc="-1" strike="noStrike">
                <a:solidFill>
                  <a:srgbClr val="4f81bd"/>
                </a:solidFill>
                <a:latin typeface="Calibri"/>
              </a:rPr>
              <a:t> и </a:t>
            </a:r>
            <a:r>
              <a:rPr b="1" lang="ru-RU" sz="1200" spc="-1" strike="noStrike">
                <a:solidFill>
                  <a:srgbClr val="4f81bd"/>
                </a:solidFill>
                <a:latin typeface="Calibri"/>
              </a:rPr>
              <a:t>пальпации</a:t>
            </a:r>
            <a:r>
              <a:rPr b="1" lang="ru-RU" sz="1200" spc="-1" strike="noStrike">
                <a:solidFill>
                  <a:srgbClr val="000000"/>
                </a:solidFill>
                <a:latin typeface="Calibri"/>
              </a:rPr>
              <a:t> </a:t>
            </a:r>
            <a:r>
              <a:rPr b="0" lang="ru-RU" sz="1200" spc="-1" strike="noStrike">
                <a:solidFill>
                  <a:srgbClr val="000000"/>
                </a:solidFill>
                <a:latin typeface="Calibri"/>
              </a:rPr>
              <a:t>брюшной стенки, определения симптома Щеткина-Блюмберга, осмотра покровов вульвы и слизистой оболочки преддверия (наличие эрозий). Определяют состояние паховых лимфатических узлов, их безболезн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осмотре уретры</a:t>
            </a:r>
            <a:r>
              <a:rPr b="0" lang="ru-RU" sz="1200" spc="-1" strike="noStrike">
                <a:solidFill>
                  <a:srgbClr val="000000"/>
                </a:solidFill>
                <a:latin typeface="Calibri"/>
              </a:rPr>
              <a:t> отмечаются ее отечность, гиперемия губок, наличие парауретральных ходов. Инфильтрация уретры определяется при ее пальпации через влагалище по направлению к лобку. После массажа появляются выделения. Мазки берут после обтирания губок уретры стерильной ватой тупой ушной ложечкой, введенной на глубину 0,5-1 см. Отделяемое наносится тонким мазком параллельно на два предметных стекла в виде буквы "U"</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е </a:t>
            </a:r>
            <a:r>
              <a:rPr b="1" lang="ru-RU" sz="1200" spc="-1" strike="noStrike">
                <a:solidFill>
                  <a:srgbClr val="4f81bd"/>
                </a:solidFill>
                <a:latin typeface="Calibri"/>
              </a:rPr>
              <a:t>вестибулярные железы</a:t>
            </a:r>
            <a:r>
              <a:rPr b="0" lang="ru-RU" sz="1200" spc="-1" strike="noStrike">
                <a:solidFill>
                  <a:srgbClr val="000000"/>
                </a:solidFill>
                <a:latin typeface="Calibri"/>
              </a:rPr>
              <a:t> пальпируются указательным пальцем, введенным за гимен, а большой палец той же руки помещается над выводным протоком. Появившиеся выделения берут для анализа. Мазок делают в виде буквы "В" рядом с мазком из уретры. При осмотре обращают внимание на гиперемию устьев протока железы, его уплотнение, болезн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5B97-71D1-4050-9BC4-9BFCAC5F3F6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бследование женщин</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81bd"/>
                </a:solidFill>
                <a:latin typeface="Calibri"/>
              </a:rPr>
              <a:t>Влагалище</a:t>
            </a:r>
            <a:r>
              <a:rPr b="1" lang="ru-RU" sz="1200" spc="-1" strike="noStrike">
                <a:solidFill>
                  <a:srgbClr val="000000"/>
                </a:solidFill>
                <a:latin typeface="Calibri"/>
              </a:rPr>
              <a:t> </a:t>
            </a:r>
            <a:r>
              <a:rPr b="0" lang="ru-RU" sz="1200" spc="-1" strike="noStrike">
                <a:solidFill>
                  <a:srgbClr val="000000"/>
                </a:solidFill>
                <a:latin typeface="Calibri"/>
              </a:rPr>
              <a:t>осматривается в зеркалах. Отмечают гиперемию слизистой оболочки, наличие эрозий, их характер, цвет выделений. Для исследования на влагалищные трихомонады отделяемое из области заднего свода берут ложечкой, а для анализа на дрожжеподобные грибы рода Candida делают легкий соскоб со стенок влагалища. Затем осматривают шейку матки: ее форму, наличие эрозий, место их расположения, характер выделений. Обтерев шейку матки стерильным ватным шариком, длинным гинекологическим пинцетом, введенным в цервикальный канал на глубину 0,5-1 см, захватывают пристеночную слизь и наносят ее на те же стекла в виде буквы «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бимануальном исследовании</a:t>
            </a:r>
            <a:r>
              <a:rPr b="0" lang="ru-RU" sz="1200" spc="-1" strike="noStrike">
                <a:solidFill>
                  <a:srgbClr val="000000"/>
                </a:solidFill>
                <a:latin typeface="Calibri"/>
              </a:rPr>
              <a:t> определяют положение тела матки, ее размер, консистенцию, болезненность. Далее определяют величину, форму, консистенцию, болезненность придатков матки и наличие спаек. При пальпации параметрия отмечают наличие тяжей, инфильтратов, их располож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обследовании области прямой кишки</a:t>
            </a:r>
            <a:r>
              <a:rPr b="0" lang="ru-RU" sz="1200" spc="-1" strike="noStrike">
                <a:solidFill>
                  <a:srgbClr val="000000"/>
                </a:solidFill>
                <a:latin typeface="Calibri"/>
              </a:rPr>
              <a:t> обращают внимание на отечность складок наружного сфинктера, гиперемию, характер отделяемого. Промывные воды берут катетером с двойным током. Из полученной жидкости со дна стакана пинцетом вылавливают комочки гноя и слизи, которые растирают между двумя предметными стеклами или наносят на стекла в виде буквы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050C-ADCD-44AA-8ED2-2CFCC9C90C1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Обследование женщин</a:t>
            </a: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виду трудности обнаружения гонококков при бактериоскопическом исследовании выделений необходимо сделать посев, а затем провести различные провокации, которые основаны на раздражении тканей с целью выявления инфекции в скрытых очагах</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няются следующие виды провокаций:</a:t>
            </a:r>
            <a:endParaRPr b="0" lang="en-US" sz="16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Химическая провокация</a:t>
            </a:r>
            <a:r>
              <a:rPr b="0" lang="ru-RU" sz="1400" spc="-1" strike="noStrike">
                <a:solidFill>
                  <a:srgbClr val="000000"/>
                </a:solidFill>
                <a:latin typeface="Calibri"/>
              </a:rPr>
              <a:t> - смазывание уретры на глубину 1-2 см и нижнего отрезка прямой кишки на глубину 4 см 1-2% раствором нитрата серебра или раствором Люголя на глицерине, а цервикального канала - на глубину 1-1,5 см 5% раствором нитрата серебра</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Биологическая провокация</a:t>
            </a:r>
            <a:r>
              <a:rPr b="0" lang="ru-RU" sz="1400" spc="-1" strike="noStrike">
                <a:solidFill>
                  <a:srgbClr val="000000"/>
                </a:solidFill>
                <a:latin typeface="Calibri"/>
              </a:rPr>
              <a:t> - внутримышечно вводят гонококковую вакцину в дозе 500 млн. микробных тел (перед применением гоновакцину взбалтывают) или вводят одновременно гоновакцину с пирогеналом (200 МПД). Если до провокации гоновакцина применялась во время лечения, то назначают двойную терапевтическую дозу, но не более 2 млрд микробных тел; в стационаре можно вводить гоновакцину регионарно - в подслизистый слой шейки матки и уретры (всего 100 млн. микробных тел)</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Термическая провокация</a:t>
            </a:r>
            <a:r>
              <a:rPr b="0" lang="ru-RU" sz="1400" spc="-1" strike="noStrike">
                <a:solidFill>
                  <a:srgbClr val="000000"/>
                </a:solidFill>
                <a:latin typeface="Calibri"/>
              </a:rPr>
              <a:t> - проводят индуктотермию в течение 3 дней по 15-20 мин. Отделяемое берут для исследования ежедневно через 1 ч после прогревания. </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Физиологической провокацией</a:t>
            </a:r>
            <a:r>
              <a:rPr b="0" lang="ru-RU" sz="1400" spc="-1" strike="noStrike">
                <a:solidFill>
                  <a:srgbClr val="000000"/>
                </a:solidFill>
                <a:latin typeface="Calibri"/>
              </a:rPr>
              <a:t> служит менструация (в дни наибольшего кровотечения берут мазки)</a:t>
            </a: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600" spc="-1" strike="noStrike">
                <a:solidFill>
                  <a:srgbClr val="000000"/>
                </a:solidFill>
                <a:latin typeface="Calibri"/>
              </a:rPr>
              <a:t>Лучшие результаты наблюдаются после комбинированной провокации: химической, биологической и термической. Мазки берут через 24, 48 и 72 ч после провокаций. Диагноз гонореи ставят лишь после обнаружения гонококков</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3969-F673-4D74-87A6-20FB93C0D28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Гонорея и беременность</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стойные явления в органах малого таза, развивающиеся во время беременности, определяют своеобразие гонореи у беременных. Только 30% беременных, больных гонореей, жалуются на бели, дизурические явления. Эти нарушения у большинства больных скоро проходят и не становятся поводом для обращения к врачу. Несмотря на отсутствие жалоб, у большинства больных удается обнаружить довольно выраженные воспаления в уретре, шейке матки, прямой кишке и т. 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ейка матки поражается гонококком у всех беременных, уретра - у 74%, полость матки - у 20,5%, прямая кишка - у 16,35%, бартолиновы железы - у 7,45%. Следует помнить, что после введения влагалищного зеркала берут отделяемое, вытекающее из цервикального канала, не вводя пинцета в канал, и делают мазок и посев. У беременных при хронической гонорее бактериологический метод в 3 раза эффективнее бактериоскопического. Мазки и посев из шейки матки следует брать на 5-6-й день после род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34BB-C504-4C0D-A9F9-F4AE78AFB45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Гонорея и беременность</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стром эндометрите в результате очагового развития гонорейного процесса зачатие возможно, но в дальнейшем вследствие децидуального эндометрита яйцеклетка отторгается и происходит выкидыш в ранние сроки. При заражении гонореей после 4 месяца беременности проникающие в матку гонококки встречают препятствие и прерывания беременности, как правило, не происход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выявленная своевременно гонорея угрожает женщине послеродовыми осложнениями: внутренний маточный зев открыт до 3-7-го дня после родов, что способствует у 12-30% больных проникновению гонококков в матку и ее придатки, где имеется в изобилии питательный материал, особенно при задержке лох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ет смешанной инфекции, то температура тела повышается не раньше чем через 5-7 дней, чему способствуют закрытие внутреннего зева и застой отделяемого. Гонорея послеродового периода клинически может протекать как гонорейный эндометрит, иногда проявляется обильными буро-гнойными лохиями, матка становится болезненной, температура тела повышается. На 2-3-й неделе после родов гонококки могут проникнуть в трубы и на брюшин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177C-6928-48A6-95B9-12B2BAD9697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Определение</a:t>
            </a:r>
            <a:endParaRPr b="0" lang="en-US" sz="32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Гонорея</a:t>
            </a:r>
            <a:r>
              <a:rPr b="0" lang="ru-RU" sz="2400" spc="-1" strike="noStrike">
                <a:solidFill>
                  <a:srgbClr val="000000"/>
                </a:solidFill>
                <a:latin typeface="Calibri"/>
              </a:rPr>
              <a:t> - это инфекционное заболевание, передающееся преимущественно половым путем (контактный путь - при передаче от матери к новорожденному в родах), характеризующееся поражением слизистых мочеиспукательного канала и цервикального канала, что проявляется нарушением мочеиспускания (в основном у мужчин) и воспалением шейки матки - у женщин</a:t>
            </a:r>
            <a:endParaRPr b="0" lang="en-US" sz="24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онорея распространена в основном среди лиц 20-30 лет, однако может встречаться в любом возрасте</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FA0F-B769-4539-97F8-2AD56B215A0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Лечение беременных </a:t>
            </a:r>
            <a:br>
              <a:rPr sz="2800"/>
            </a:b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ечение беременных осуществляется в условиях стационара на любом сроке гестации антибактериальными препаратами, не оказывающими влияния на плод</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епаратами выбора при беременности являются некоторые цефалоспорины, макролиды, спектиномицин, бензилпенициллин. Противопоказаны тетрациклины, фторхинолоны, аминогликозиды</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нение иммуномодулирующих и биостимулирующих препаратов при гонококковой инфекции должно быть строго обоснованным</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 установлению критерия излеченности гонореи приступают через 7-10 дней после завершения курса лечения. </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f81bd"/>
                </a:solidFill>
                <a:latin typeface="Calibri"/>
              </a:rPr>
              <a:t>Критериями излеченности</a:t>
            </a:r>
            <a:r>
              <a:rPr b="0" lang="ru-RU" sz="1600" spc="-1" strike="noStrike">
                <a:solidFill>
                  <a:srgbClr val="000000"/>
                </a:solidFill>
                <a:latin typeface="Calibri"/>
              </a:rPr>
              <a:t> являются:</a:t>
            </a:r>
            <a:endParaRPr b="0" lang="en-US" sz="16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сутствие субъективных и объективных симптомов заболевания</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рицательные результаты микроскопического и культурального исследований</a:t>
            </a: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 наличии клинико-лабораторных данных, свидетельствующих о сохранении воспалительного процесса, рекомендуется повторное обследование с обязательным культуральным исследованием и исключением сопутствующих инфекций</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онококки, обнаруженные после проведенного лечения, чаще всего являются следствием реинфекции. При установлении рецидива гонореи необходимо осуществлять культуральное исследование с определением чувствительности гонококка к антибиотикам</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7A91-01C8-43E9-95CE-F37779897F4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Лечение беременных </a:t>
            </a:r>
            <a:br>
              <a:rPr sz="2000"/>
            </a:b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ие годы появились данные, свидетельствующие о возможности сокращения сроков клинико-лабораторного наблюдения за женщинами после полноценного лечения гонококковой инфек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 назначения антибактериальных препаратов по поводу гонореи следует осуществлять серологическое обследование на сифилис. Учитывая эпидемиологическую ситуацию в стране с заболеваемостью сифилисом, при невозможности серологического обследования на сифилис половых партнеров повторное серологическое обследование больного гонореей проводится через 3 месяц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ечении гонореи с неустановленным источником заражения следует преимущественно применять препараты, обладающие активностью и в отношении Т. pallidum, т. е. оказывающие превентивное противосифилитическое действие (цефтриаксон, азитромиц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ые партнеры больных гонореей подлежат обследованию и лечению, если половой контакт имел место за 30 дней до появления симптомов заболевания у пациента. В случае субъективно бессимптомного течения гонореи обследованию и лечению подлежат половые партнеры, имевшие половой контакт в течение 60 дней до установления диагноза гоноре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едованию подлежат дети, если у их матерей или у лиц, осуществляющих уход за ними, обнаруживается гоноре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17C0-10DD-4542-9BA1-F7865D54A66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Лабораторная диагностика</a:t>
            </a:r>
            <a:r>
              <a:rPr b="1" lang="ru-RU" sz="2000" spc="-1" strike="noStrike">
                <a:solidFill>
                  <a:srgbClr val="000000"/>
                </a:solidFill>
                <a:latin typeface="Calibri"/>
              </a:rPr>
              <a:t> </a:t>
            </a:r>
            <a:br>
              <a:rPr sz="2000"/>
            </a:b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з гонореи подтверждается на основании лабораторного обнаружения гонококка с типичными морфологическими и тинкториальными свойствами, обнаружения антигена гонококка или нуклеиновой кислоты в клинических образцах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выявления гонококка используется микроскопическое и культуральное исследование (у девочек и женщин старше 60 лет - только культуральное, с определением ферментативных свойств гонокок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сть использования различных методов провокации в настоящее время вызывает обоснованные сомнения и является предметом проведения специальных научных исследова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1DAA-2D09-45F5-AB98-56A3C04913B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Бактериоскоп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актериоскопия </a:t>
            </a:r>
            <a:r>
              <a:rPr b="0" lang="ru-RU" sz="1200" spc="-1" strike="noStrike">
                <a:solidFill>
                  <a:srgbClr val="000000"/>
                </a:solidFill>
                <a:latin typeface="Calibri"/>
              </a:rPr>
              <a:t> весьма  эффективна при острой гонорее, при качественной подготовке больного к исследованию, правильном взятии анализ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е отрицательного результата показано повторное исследование в течение 3 последующих дней с использованием провок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каждого очага для бактериоскопии берут мазки на два стекла: один для ориентировочного исследования после окраски метиленовым синим, другой - для окраски по способу Грама, что позволяет дифференцировать грамположительные и грамотрицательные микроорганиз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арактерный признак гонореи при бактериоскопии ("в мазке") -  внутриклеточно  расположенные грамотрицательные диплококки, причём каждый из кокков имеет бобовидную форм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8425-ABDB-4857-9C69-0BDA741FD84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Электронная микроскопия (ЭМ)</a:t>
            </a:r>
            <a:endParaRPr b="0" lang="en-US" sz="3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пособ регистрации малоразмерных физических объектов, в которой медиатором (передатчиком) информации является поток электронов, а не свет, как в световом микроскопе</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Из этого следует две важные особенности электронной микроскопии:</a:t>
            </a:r>
            <a:endParaRPr b="0" lang="en-US" sz="16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 </a:t>
            </a:r>
            <a:r>
              <a:rPr b="0" lang="ru-RU" sz="1400" spc="-1" strike="noStrike" u="sng">
                <a:solidFill>
                  <a:srgbClr val="000000"/>
                </a:solidFill>
                <a:uFillTx/>
                <a:latin typeface="Calibri"/>
              </a:rPr>
              <a:t>более высокая разрешающая способность</a:t>
            </a:r>
            <a:r>
              <a:rPr b="0" lang="ru-RU" sz="1400" spc="-1" strike="noStrike">
                <a:solidFill>
                  <a:srgbClr val="000000"/>
                </a:solidFill>
                <a:latin typeface="Calibri"/>
              </a:rPr>
              <a:t>. Известно, что разрешающая способность напрямую зависит от длины волны, а длина волны электронного излучения значительно короче длины световых волн</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2) </a:t>
            </a:r>
            <a:r>
              <a:rPr b="0" lang="ru-RU" sz="1400" spc="-1" strike="noStrike" u="sng">
                <a:solidFill>
                  <a:srgbClr val="000000"/>
                </a:solidFill>
                <a:uFillTx/>
                <a:latin typeface="Calibri"/>
              </a:rPr>
              <a:t>Изображение, рисуемое электронами, чёрно-белое</a:t>
            </a:r>
            <a:r>
              <a:rPr b="0" lang="ru-RU" sz="1400" spc="-1" strike="noStrike">
                <a:solidFill>
                  <a:srgbClr val="000000"/>
                </a:solidFill>
                <a:latin typeface="Calibri"/>
              </a:rPr>
              <a:t> (ведь цвет - это определённая длина световой волны). Поэтому настоящие фотографии, сделанные с помощью электронной микроскопии - чёрно-белые.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уществует две разновидности ЭМ</a:t>
            </a:r>
            <a:r>
              <a:rPr b="0" lang="ru-RU" sz="1600" spc="-1" strike="noStrike">
                <a:solidFill>
                  <a:srgbClr val="000000"/>
                </a:solidFill>
                <a:latin typeface="Calibri"/>
              </a:rPr>
              <a:t>: трансмиссивная электронная микроскопия (ТЭМ) и сканирующая электронная микроскопия (СЭМ).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ервом случае изображение как бы рассматривается в проходящем потоке электронов (подобно обычному световому микроскопу). Поэтому  </a:t>
            </a:r>
            <a:r>
              <a:rPr b="1" lang="ru-RU" sz="1600" spc="-1" strike="noStrike">
                <a:solidFill>
                  <a:srgbClr val="000000"/>
                </a:solidFill>
                <a:latin typeface="Calibri"/>
              </a:rPr>
              <a:t>ТЭМ</a:t>
            </a:r>
            <a:r>
              <a:rPr b="0" lang="ru-RU" sz="1600" spc="-1" strike="noStrike">
                <a:solidFill>
                  <a:srgbClr val="000000"/>
                </a:solidFill>
                <a:latin typeface="Calibri"/>
              </a:rPr>
              <a:t> в деталях раскрывает  </a:t>
            </a:r>
            <a:r>
              <a:rPr b="1" lang="ru-RU" sz="1600" spc="-1" strike="noStrike">
                <a:solidFill>
                  <a:srgbClr val="000000"/>
                </a:solidFill>
                <a:latin typeface="Calibri"/>
              </a:rPr>
              <a:t>внутреннее строение </a:t>
            </a:r>
            <a:r>
              <a:rPr b="0" lang="ru-RU" sz="1600" spc="-1" strike="noStrike">
                <a:solidFill>
                  <a:srgbClr val="000000"/>
                </a:solidFill>
                <a:latin typeface="Calibri"/>
              </a:rPr>
              <a:t>исследуемого объект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ри сканирующей электронной микроскопии объект исследуется в отражённом свете, поэтому </a:t>
            </a:r>
            <a:r>
              <a:rPr b="1" lang="ru-RU" sz="1600" spc="-1" strike="noStrike">
                <a:solidFill>
                  <a:srgbClr val="000000"/>
                </a:solidFill>
                <a:latin typeface="Calibri"/>
              </a:rPr>
              <a:t>СЭМ</a:t>
            </a:r>
            <a:r>
              <a:rPr b="0" lang="ru-RU" sz="1600" spc="-1" strike="noStrike">
                <a:solidFill>
                  <a:srgbClr val="000000"/>
                </a:solidFill>
                <a:latin typeface="Calibri"/>
              </a:rPr>
              <a:t> позволяет в подробностях разглядеть </a:t>
            </a:r>
            <a:r>
              <a:rPr b="1" lang="ru-RU" sz="1600" spc="-1" strike="noStrike">
                <a:solidFill>
                  <a:srgbClr val="000000"/>
                </a:solidFill>
                <a:latin typeface="Calibri"/>
              </a:rPr>
              <a:t>поверхность</a:t>
            </a:r>
            <a:r>
              <a:rPr b="0" lang="ru-RU" sz="1600" spc="-1" strike="noStrike">
                <a:solidFill>
                  <a:srgbClr val="000000"/>
                </a:solidFill>
                <a:latin typeface="Calibri"/>
              </a:rPr>
              <a:t> исследуемого объект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872F-DD49-4377-A129-2F1A5CB3F2B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Электронная микроскопия</a:t>
            </a:r>
            <a:br>
              <a:rPr sz="2400"/>
            </a:b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Характерная, используемая как важный критерий диагностики форма гонококка  - диплококк (парный кокк), реже - тетракокк. Связана с особенностями деления гонококка. Диплококк сравнивают с кофейными зёрнами или почками, обращёнными вогнутыми сторонами друг к друг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E729-CB31-4A31-AA1A-2AA1BBA0BBE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Электронная микроскопия</a:t>
            </a: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утриклеточно расположенные диплококки - важнейший признак гонококков. Даже поглощённые (фагоцитированные) лейкоцитами гонококки жизнеспособны и размножаются. Находясь внутри лейкоцитов, эпителиальных клеток, или поглотивших их трихомонад, гонококки защищены от действия антибиотиков </a:t>
            </a: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4BFB-39A7-4482-91FC-5A2DD5E4CF0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Лабораторная диагностик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стерто протекающей и хронической гонорее, когда в отделяемом слизистых оболочек количество гонококков незначительно, эффективность бактериоскопии па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этом случае после первого исследования проводят комбинированную провокацию с последующим 3-дневным бактериоскопическом исследов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получении отрицательного результата целесообразно исследование культуральным метод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241B-25E4-4CF7-91AD-CC9913D877A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Культуральная диагностика</a:t>
            </a:r>
            <a:r>
              <a:rPr b="0" lang="ru-RU" sz="1800" spc="-1" strike="noStrike">
                <a:solidFill>
                  <a:srgbClr val="c0504d"/>
                </a:solidFill>
                <a:latin typeface="Calibri"/>
              </a:rPr>
              <a:t> ("культура", "посев")</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ещение взятого у больного материала на специальные питательные среды, состав которых подобран так, чтобы для выявляемого возбудителя создавались максимально благоприятные условия для развития и размножения. Появление специфических для возбудителя колоний (зон роста) свидетельствует о его присутствии в материале, взятом для исследования. Дополнительно "выращенных в культуре" возбудителей могут исследовать под микроскопом, оценивать на устойчивость к различным группам антибиотиков, "перевивать" на среды с другим составом для исследования ферментативных свойств и т.п.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ется  при неоднократном получении отрицательного результата при бактериоскопическом исследовании при подозрении на гонорею, наличии в мазке похожих на гонококк микроорганизмов, установлении излеченности гонореи ("контроль излеченности"), подтверждение гонорейного процесса у детей и обследование больных трихомониазом после л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5F16-3F45-4053-93B3-03E27CBFADF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Полимеразная цепная реакция (ПЦР)</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возрастает значение </a:t>
            </a:r>
            <a:r>
              <a:rPr b="1" lang="ru-RU" sz="1200" spc="-1" strike="noStrike">
                <a:solidFill>
                  <a:srgbClr val="000000"/>
                </a:solidFill>
                <a:latin typeface="Calibri"/>
              </a:rPr>
              <a:t>молекулярно-биологических методов</a:t>
            </a:r>
            <a:r>
              <a:rPr b="0" lang="ru-RU" sz="1200" spc="-1" strike="noStrike">
                <a:solidFill>
                  <a:srgbClr val="000000"/>
                </a:solidFill>
                <a:latin typeface="Calibri"/>
              </a:rPr>
              <a:t> для диагностики гонореи. Особенно ценен метод ПЦР для выявления хронической, стёртой, вялотекущей, лечёной гонореи, когда меняются свойства гонококка и, вызывая патологические процессы в организме, он тем не менее "отказывается" расти на питательных средах, и тем самым, "выдавать" себя. В последнее время ПЦР - диагностику стали использовать для идентификации штаммов микроорганизмов с генетической устойчивостью к антибиотикам (тетрациклину, эритромицину), что представляет серьёзную эпидемиологическую проблем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ЦР</a:t>
            </a:r>
            <a:r>
              <a:rPr b="0" lang="ru-RU" sz="1200" spc="-1" strike="noStrike">
                <a:solidFill>
                  <a:srgbClr val="000000"/>
                </a:solidFill>
                <a:latin typeface="Calibri"/>
              </a:rPr>
              <a:t> - молекулярно-биологический метод, выявляющий наличие специфических участков ДНК и РНК. Представляет собой циклический процесс увеличения в геометрической прогрессии числа  копий ограниченного синтетическими олигонуклеотидами (праймерами) определенного фрагмента ДНК, протекающий под воздействием термостабильной ДНК-полимеразы, при строго заданных температурных и временных режимах. Используется, в частности, для обнаружения возбудителей различных заболеваний. Отличается исключительно высокой чувствительностью и специфичностью. Оказалась настолько значимой для медицины и биологии, что в 1993 г. за открытие этого метода Кэри Б. Мюллис был удостоен Нобелевской прем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724F-ADC8-4C6C-A57D-5BD0B17D5E6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Классификация</a:t>
            </a:r>
            <a:endParaRPr b="0" lang="en-US" sz="32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лассификация гонореи включает следующие формы:</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веж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стр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достр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ял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Хроническ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атентная (асимптомн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F57A-6371-40B8-9E69-04A8C845BA1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Лечение</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пешного лечения гонореи необходимо применять антибиотики или антибактериальные препарат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ройти полный курс лечения обоим партнер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вступать в половые отношения до полного окончания леч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сохранились симптомы, то необходимо повторное обследова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и, обнаруженные после лечения, скорее, будут связаны с повторным заражением, чем с неэффективностью проведенной терап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нщинам рекомендуется повторное обследование через 3-4 месяца после окончания лечения, из-за высокой частоты повторного инфицир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FD24-E8EB-448F-9E92-6C4437CBCF0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Профилактик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ое воздерж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ые отношения с одним неинфицированным партн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ние презервативов, с исключением любого контакта с возможно инфицированными слизисты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2D17-D286-4628-82FE-76F4DCD6565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B5C63-3602-41A9-99E8-08407A73A64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Возбудитель гонореи</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 Neisseria gonorrhoe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з семейства Neisseriace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да Neisse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амоотрицательный бобовидный диплокок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икроорганизм внешним видом похожий на зерна коф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л открыт в 1879 году известным исследователем Альбертом Нейсс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BA37-0D4C-410F-A202-E6DDCBD2C16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Пути заражения</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распространенный путь заражения – половой. Хотя заражение возможно при любом контакте слизистых здорового человека с секретом слизистых или спермой инфицированного челове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оятность заразится при оральном сексе несколько ниже, но не исключен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зится гонореей бытовым путем достаточно сложно, хотя бактерия может сохраняться на неповрежденной, сухой коже около 4 часов</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рея передается от больной матери к ребенку при прохождении через родовые пути, что может привести к развитию заболеваний глаз, пневмонии и другим серьезным состояния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Полное излечение от гонореи не исключает повторного зараж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3A04-F6AD-46D9-9E99-B3EF743D1DA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504d"/>
                </a:solidFill>
                <a:latin typeface="Calibri"/>
              </a:rPr>
              <a:t>Инкубационный период гонореи</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женщин – от 5 до 10 су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мужчин обычно составляет от 2 до 5 су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бленнорее - от нескольких часов до 2-3 дне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46CD-EC45-4271-9AA7-F73B7D0821C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Симптомы</a:t>
            </a:r>
            <a:r>
              <a:rPr b="1" lang="ru-RU" sz="3200" spc="-1" strike="noStrike">
                <a:solidFill>
                  <a:srgbClr val="000000"/>
                </a:solidFill>
                <a:latin typeface="Calibri"/>
              </a:rPr>
              <a:t> </a:t>
            </a:r>
            <a:r>
              <a:rPr b="1" lang="ru-RU" sz="3200" spc="-1" strike="noStrike">
                <a:solidFill>
                  <a:srgbClr val="c0504d"/>
                </a:solidFill>
                <a:latin typeface="Calibri"/>
              </a:rPr>
              <a:t>гонореи</a:t>
            </a:r>
            <a:endParaRPr b="0" lang="en-US" sz="32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Симптомы гонореи у женщин:</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желтовато-белые выделения из влагалища </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езненность и чувство жжения при мочеиспускании</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ровянистые выделения в межменструальный период</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ь в нижних отделах живота и пояснице</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дискомфорт при половом акте</a:t>
            </a:r>
            <a:endParaRPr b="0" lang="en-US" sz="1900" spc="-1" strike="noStrike">
              <a:solidFill>
                <a:srgbClr val="000000"/>
              </a:solidFill>
              <a:latin typeface="Calibri"/>
            </a:endParaRPr>
          </a:p>
          <a:p>
            <a:pPr lvl="1" marL="457200" indent="0" algn="ctr">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0504d"/>
                </a:solidFill>
                <a:latin typeface="Calibri"/>
              </a:rPr>
              <a:t>  </a:t>
            </a:r>
            <a:endParaRPr b="0" lang="en-US" sz="1900" spc="-1" strike="noStrike">
              <a:solidFill>
                <a:srgbClr val="000000"/>
              </a:solidFill>
              <a:latin typeface="Calibri"/>
            </a:endParaRPr>
          </a:p>
          <a:p>
            <a:pPr lvl="1" marL="457200" indent="0" algn="ctr">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0504d"/>
                </a:solidFill>
                <a:latin typeface="Calibri"/>
              </a:rPr>
              <a:t>У большинства женщин инфекция протекает бессимптомно!</a:t>
            </a:r>
            <a:endParaRPr b="0" lang="en-US" sz="19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A676-7C3F-4EE1-B356-497EE148FA7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Симптомы</a:t>
            </a:r>
            <a:r>
              <a:rPr b="1" lang="ru-RU" sz="1200" spc="-1" strike="noStrike">
                <a:solidFill>
                  <a:srgbClr val="000000"/>
                </a:solidFill>
                <a:latin typeface="Calibri"/>
              </a:rPr>
              <a:t> </a:t>
            </a:r>
            <a:r>
              <a:rPr b="1" lang="ru-RU" sz="1200" spc="-1" strike="noStrike">
                <a:solidFill>
                  <a:srgbClr val="c0504d"/>
                </a:solidFill>
                <a:latin typeface="Calibri"/>
              </a:rPr>
              <a:t>гонореи</a:t>
            </a:r>
            <a:endParaRPr b="0" lang="en-US" sz="12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мптомы гонореи у мужчин:</a:t>
            </a:r>
            <a:endParaRPr b="0" lang="en-US" sz="20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желтовато-белые выделения из мочеиспускательного канала </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ь и чувство жжения при мочеиспускании</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астые позывы на мочеиспускание</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езненность и припухлость яичек</a:t>
            </a:r>
            <a:endParaRPr b="0" lang="en-US" sz="1900" spc="-1" strike="noStrike">
              <a:solidFill>
                <a:srgbClr val="000000"/>
              </a:solidFill>
              <a:latin typeface="Calibri"/>
            </a:endParaRPr>
          </a:p>
          <a:p>
            <a:pPr lvl="1" marL="457200"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0504d"/>
                </a:solidFill>
                <a:latin typeface="Calibri"/>
              </a:rPr>
              <a:t>   </a:t>
            </a:r>
            <a:endParaRPr b="0" lang="en-US" sz="1700" spc="-1" strike="noStrike">
              <a:solidFill>
                <a:srgbClr val="000000"/>
              </a:solidFill>
              <a:latin typeface="Calibri"/>
            </a:endParaRPr>
          </a:p>
          <a:p>
            <a:pPr lvl="1" marL="457200"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0504d"/>
                </a:solidFill>
                <a:latin typeface="Calibri"/>
              </a:rPr>
              <a:t>Нередко протекает бессимптомно!</a:t>
            </a:r>
            <a:endParaRPr b="0" lang="en-US" sz="1700" spc="-1" strike="noStrike">
              <a:solidFill>
                <a:srgbClr val="000000"/>
              </a:solidFill>
              <a:latin typeface="Calibri"/>
            </a:endParaRPr>
          </a:p>
          <a:p>
            <a:pPr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3AEF-641D-4482-BB56-D65615689C3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Симптомы</a:t>
            </a:r>
            <a:r>
              <a:rPr b="1" lang="ru-RU" sz="1600" spc="-1" strike="noStrike">
                <a:solidFill>
                  <a:srgbClr val="000000"/>
                </a:solidFill>
                <a:latin typeface="Calibri"/>
              </a:rPr>
              <a:t> </a:t>
            </a:r>
            <a:r>
              <a:rPr b="1" lang="ru-RU" sz="1600" spc="-1" strike="noStrike">
                <a:solidFill>
                  <a:srgbClr val="c0504d"/>
                </a:solidFill>
                <a:latin typeface="Calibri"/>
              </a:rPr>
              <a:t>гонореи</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фарингит (поражение глотки) часто протекает бессимптомно. Иногда он проявляется болью в гор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проктит (поражение прямой кишки) обычно протекает бессимптомно. Возможна боль в прямой кишке, зуд и выделения из прямой кишк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фарингит и гонококковый проктит встречаются как у мужчин (преимущественно гомосексуальной и бисексуальной ориентации), так и у женщин</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F549-F76D-4746-851C-50BEAC3CC53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D1930B-901F-4E54-9392-9BE6C82E46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F3EC25-4282-41E1-A251-C3F0194229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CD0670-E9BE-4E76-83EB-C181FB57B3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C2629B-8EC5-48EE-A7C9-F49662548F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D021B1-8EA9-42E0-B1A5-B0B30F23C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75EAB-0E9B-4B24-8465-9FC527369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D9979-E765-4F19-BCCF-B32216008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53E11-F386-4A3D-855A-4EEA7CBB6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CD3F0-95EC-4351-B2B9-2EF7AA1D8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B3303-418D-4093-86AD-503A7D462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D16FD-586B-4888-BDDD-9E0158CED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6B5E92-15B8-405A-878C-409394C19A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BFAF9-6A9A-45D4-9ED1-6099E42D5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F3F53-FE7C-4257-984C-EA57266F2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B0A56-794A-42BE-8F1E-32C5B1AB3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32735-448D-4995-A34A-623DAC7A3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3A5B3-7F49-4CB1-9C5A-828B181BF8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C057E1-0AD3-4C58-BC31-1B02E98DF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4976DF-A858-4564-B1D7-DBAF4FB08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A33CBC-C98A-46A7-89D3-120A8E51C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8A65F7-1277-4E77-B5F7-48C2FEFBE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793BB4-525A-409D-AC9B-F494272D7C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CC43BA-C3AE-4C54-93C1-597955E339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541EFD-525E-4464-BCE3-ECEBD833C35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point.org</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07CA-134F-477D-AF27-821D6D0BCA40}"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point.org</a:t>
            </a:r>
            <a:endParaRPr b="0" lang="en-US" sz="1200" spc="-1" strike="noStrike">
              <a:solidFill>
                <a:srgbClr val="ffffff"/>
              </a:solidFill>
              <a:latin typeface="Times New Roman"/>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006D-414A-4619-A887-F2C91BDEEEDF}"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76720" y="2060280"/>
            <a:ext cx="3959280" cy="12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ffff"/>
                </a:solidFill>
                <a:latin typeface="Arial"/>
              </a:rPr>
              <a:t>ГОНОРЕЯ</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ecff"/>
                </a:solidFill>
                <a:latin typeface="Arial"/>
              </a:rPr>
              <a:t>Болкунова Наталья</a:t>
            </a:r>
            <a:endParaRPr b="0" lang="en-US" sz="2600" spc="-1" strike="noStrike">
              <a:solidFill>
                <a:srgbClr val="ffffff"/>
              </a:solidFill>
              <a:latin typeface="Arial"/>
            </a:endParaRPr>
          </a:p>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ecff"/>
                </a:solidFill>
                <a:latin typeface="Arial"/>
              </a:rPr>
              <a:t>Семинар № 3</a:t>
            </a:r>
            <a:endParaRPr b="0" lang="en-US" sz="2600" spc="-1" strike="noStrike">
              <a:solidFill>
                <a:srgbClr val="ffffff"/>
              </a:solidFill>
              <a:latin typeface="Arial"/>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92000" y="83664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Зоны поражения при заражении гонореей</a:t>
            </a:r>
            <a:br>
              <a:rPr sz="3200"/>
            </a:br>
            <a:endParaRPr b="0" lang="en-US" sz="3200" spc="-1" strike="noStrike">
              <a:solidFill>
                <a:srgbClr val="ffffff"/>
              </a:solidFill>
              <a:latin typeface="Arial"/>
            </a:endParaRPr>
          </a:p>
        </p:txBody>
      </p:sp>
      <p:pic>
        <p:nvPicPr>
          <p:cNvPr id="152" name="Picture 5" descr="04gonoreya"/>
          <p:cNvPicPr/>
          <p:nvPr/>
        </p:nvPicPr>
        <p:blipFill>
          <a:blip r:embed="rId1"/>
          <a:stretch/>
        </p:blipFill>
        <p:spPr>
          <a:xfrm>
            <a:off x="755640" y="1844640"/>
            <a:ext cx="2028960" cy="4124520"/>
          </a:xfrm>
          <a:prstGeom prst="rect">
            <a:avLst/>
          </a:prstGeom>
          <a:ln w="0">
            <a:noFill/>
          </a:ln>
        </p:spPr>
      </p:pic>
      <p:sp>
        <p:nvSpPr>
          <p:cNvPr id="153" name="Rectangle 7"/>
          <p:cNvSpPr/>
          <p:nvPr/>
        </p:nvSpPr>
        <p:spPr>
          <a:xfrm>
            <a:off x="2987640" y="1788840"/>
            <a:ext cx="5977080" cy="4483080"/>
          </a:xfrm>
          <a:prstGeom prst="rect">
            <a:avLst/>
          </a:prstGeom>
          <a:noFill/>
          <a:ln w="0">
            <a:noFill/>
          </a:ln>
        </p:spPr>
        <p:style>
          <a:lnRef idx="0"/>
          <a:fillRef idx="0"/>
          <a:effectRef idx="0"/>
          <a:fontRef idx="minor"/>
        </p:style>
        <p:txBody>
          <a:bodyPr lIns="90000" rIns="90000" tIns="46800" bIns="46800" anchor="ctr">
            <a:spAutoFit/>
          </a:bodyPr>
          <a:p>
            <a:pPr>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У женщин:</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1 - фаллопиева труб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2 - матк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3 - шейка матки</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 - перешеек матки</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5 - мочеиспускательный канал</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6 - влагалище</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7 - малые половые губы</a:t>
            </a:r>
            <a:endParaRPr b="0" lang="en-US" sz="1800" spc="-1" strike="noStrike">
              <a:solidFill>
                <a:srgbClr val="ffffff"/>
              </a:solidFill>
              <a:latin typeface="Arial"/>
            </a:endParaRPr>
          </a:p>
          <a:p>
            <a:pPr>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У мужчин:</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1 - мочевой пузырь</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2 - семявыводящий проток</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3 - семенной пузырёк</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 - предстательная желез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5 - мочеиспускательный канал</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6 - придаток яичк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7 - яичко</a:t>
            </a:r>
            <a:endParaRPr b="0" lang="en-US" sz="1800" spc="-1" strike="noStrike">
              <a:solidFill>
                <a:srgbClr val="ffffff"/>
              </a:solidFill>
              <a:latin typeface="Arial"/>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6840"/>
            <a:ext cx="701028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сложнения гонореи</a:t>
            </a:r>
            <a:endParaRPr b="0" lang="en-US" sz="3200" spc="-1" strike="noStrike">
              <a:solidFill>
                <a:srgbClr val="ffffff"/>
              </a:solidFill>
              <a:latin typeface="Arial"/>
            </a:endParaRPr>
          </a:p>
        </p:txBody>
      </p:sp>
      <p:sp>
        <p:nvSpPr>
          <p:cNvPr id="156" name="PlaceHolder 2"/>
          <p:cNvSpPr>
            <a:spLocks noGrp="1"/>
          </p:cNvSpPr>
          <p:nvPr>
            <p:ph/>
          </p:nvPr>
        </p:nvSpPr>
        <p:spPr>
          <a:xfrm>
            <a:off x="971640" y="1557000"/>
            <a:ext cx="7921440" cy="5040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 женщ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оспаление придатков, с последующей закупоркой маточных труб, что ведет к повышению вероятности возникновения трубной беременности, невынашивания беременности или бесплодию.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Цистит (воспаление мочевого пузыря)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лизисто-гнойный цервицит</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 мужч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статит (воспаление предстательной железы)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триктура уретры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сплодие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Эпидидимит (воспаление придатка яичка)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з редких осложнений (около 1%) нужно отметить диссеминированную гонококковую инфекцию (ДГ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ГИ развивается в результате распространения инфекции от гениталий к другим органам и системам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ГИ проявляется повышением температуры, возникают поражения кожи, суставов (артрит), внутренней выстилки полостей сердца (эндокардит), может развиться воспаление мозговых оболочек (менингит).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ля лечения ДГИ применяют различные схемы антибактериальной терапии.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692000" y="549000"/>
            <a:ext cx="70102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собенности гонореи женщин</a:t>
            </a:r>
            <a:endParaRPr b="0" lang="en-US" sz="3200" spc="-1" strike="noStrike">
              <a:solidFill>
                <a:srgbClr val="ffffff"/>
              </a:solidFill>
              <a:latin typeface="Arial"/>
            </a:endParaRPr>
          </a:p>
        </p:txBody>
      </p:sp>
      <p:sp>
        <p:nvSpPr>
          <p:cNvPr id="159" name="PlaceHolder 2"/>
          <p:cNvSpPr>
            <a:spLocks noGrp="1"/>
          </p:cNvSpPr>
          <p:nvPr>
            <p:ph/>
          </p:nvPr>
        </p:nvSpPr>
        <p:spPr>
          <a:xfrm>
            <a:off x="971280" y="1699920"/>
            <a:ext cx="7715160" cy="432252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болевание независимо от длительности остается </a:t>
            </a:r>
            <a:r>
              <a:rPr b="1" lang="ru-RU" sz="1800" spc="-1" strike="noStrike">
                <a:solidFill>
                  <a:srgbClr val="ccecff"/>
                </a:solidFill>
                <a:latin typeface="Arial"/>
              </a:rPr>
              <a:t>субъективно бессимптомным</a:t>
            </a:r>
            <a:r>
              <a:rPr b="0" lang="ru-RU" sz="1800" spc="-1" strike="noStrike">
                <a:solidFill>
                  <a:srgbClr val="ffffff"/>
                </a:solidFill>
                <a:latin typeface="Arial"/>
              </a:rPr>
              <a:t>. Durel (1957) называет такую гонорею "немой". Частота субъективно асимптомной гонореи составляет от 75-77,6%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сколько реже гонорея с самого начала протекает вяло (так называемая торпидная гонорея), воспалительные явления в гениталиях почти отсутствуют. Торпидное течение гонореи обусловлено снижением реактивности макроорганизма, изменением биологических свойств гонококков, особенно под влиянием антибиотикотерапии</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дной из причин вялого течения гонореи может быть понижение функции яичников, которое проявляется снижением экскреции суммы эстрогенов и их фракций . С. А. Артемьев (1954) отмечал, что большую роль в торпидном течении гонореи у женщин играют неадекватные дозы сульфаниламидов, которые снижают вирулентность гонококков и остроту воспалительного процесса. Немаловажное значение имеет и образование L-форм гонококка . Такие больные очень опасны в эпидемиологическом отношении</a:t>
            </a:r>
            <a:endParaRPr b="0" lang="en-US" sz="1800" spc="-1" strike="noStrike">
              <a:solidFill>
                <a:srgbClr val="ffffff"/>
              </a:solidFill>
              <a:latin typeface="Arial"/>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92280"/>
            <a:ext cx="7010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собенности гонореи женщин</a:t>
            </a:r>
            <a:endParaRPr b="0" lang="en-US" sz="2800" spc="-1" strike="noStrike">
              <a:solidFill>
                <a:srgbClr val="ffffff"/>
              </a:solidFill>
              <a:latin typeface="Arial"/>
            </a:endParaRPr>
          </a:p>
        </p:txBody>
      </p:sp>
      <p:sp>
        <p:nvSpPr>
          <p:cNvPr id="162" name="PlaceHolder 2"/>
          <p:cNvSpPr>
            <a:spLocks noGrp="1"/>
          </p:cNvSpPr>
          <p:nvPr>
            <p:ph/>
          </p:nvPr>
        </p:nvSpPr>
        <p:spPr>
          <a:xfrm>
            <a:off x="1042560" y="1341360"/>
            <a:ext cx="7643880" cy="5516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Второй особенностью</a:t>
            </a:r>
            <a:r>
              <a:rPr b="0" lang="ru-RU" sz="1600" spc="-1" strike="noStrike">
                <a:solidFill>
                  <a:srgbClr val="ffffff"/>
                </a:solidFill>
                <a:latin typeface="Arial"/>
              </a:rPr>
              <a:t> гонореи у женщин является то, что она часто протекает как </a:t>
            </a:r>
            <a:r>
              <a:rPr b="0" lang="ru-RU" sz="1600" spc="-1" strike="noStrike" u="sng">
                <a:solidFill>
                  <a:srgbClr val="ccecff"/>
                </a:solidFill>
                <a:uFillTx/>
                <a:latin typeface="Arial"/>
              </a:rPr>
              <a:t>смешанная инфекция</a:t>
            </a:r>
            <a:r>
              <a:rPr b="0" lang="ru-RU"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 </a:t>
            </a:r>
            <a:r>
              <a:rPr b="0" lang="ru-RU" sz="1500" spc="-1" strike="noStrike">
                <a:solidFill>
                  <a:srgbClr val="ffffff"/>
                </a:solidFill>
                <a:latin typeface="Arial"/>
              </a:rPr>
              <a:t>заболевание обусловлено гонококками и влагалищными трихомонадами у 70-80% больных </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гонококки в ассоциации с влагалищной трихомонадой обнаруживаются у 96% больных острой восходящей гонореей и у 46-50% беременных, больных. При электронно-микроскопическом исследовании было установлено, что при смешанной гонорейно-трихомонадной инфекции происходит фагоцитоз гонококков влагалищными трихомонадами (эндоцитобиоз). "Переживание" гонококками антибиотикотерапии и их размножение в трихомонадах позволяют рассматривать трихомонаду как резервуар гонококковой инфекции. </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мешанная гонорейно-кандидозная инфекция выявляется у 19,8-30% обследуемых. Одновременное заболевание гонореей, кандидозом и трихомонозом диагностируется у 10,8% больных</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необходимо помнить о возможности одновременного заражения гонореей и сифилисом</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очетание гонореи с уреаплазменной инфекцией в 40-80% случаев </a:t>
            </a:r>
            <a:endParaRPr b="0" lang="en-US" sz="15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мешанная инфекция изменяет клиническое течение гонореи, затрудняет ее диагностику, приводит к удлинению инкубационного периода, постгонорейным процессам и рецидивам, что требует многократных лабораторных исследований с провокациями и культуральной диагностикой</a:t>
            </a:r>
            <a:endParaRPr b="0" lang="en-US" sz="1600" spc="-1" strike="noStrike">
              <a:solidFill>
                <a:srgbClr val="ffffff"/>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08000" y="620280"/>
            <a:ext cx="6778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собенности гонореи женщин</a:t>
            </a:r>
            <a:endParaRPr b="0" lang="en-US" sz="2800" spc="-1" strike="noStrike">
              <a:solidFill>
                <a:srgbClr val="ffffff"/>
              </a:solidFill>
              <a:latin typeface="Arial"/>
            </a:endParaRPr>
          </a:p>
        </p:txBody>
      </p:sp>
      <p:sp>
        <p:nvSpPr>
          <p:cNvPr id="165" name="PlaceHolder 2"/>
          <p:cNvSpPr>
            <a:spLocks noGrp="1"/>
          </p:cNvSpPr>
          <p:nvPr>
            <p:ph/>
          </p:nvPr>
        </p:nvSpPr>
        <p:spPr>
          <a:xfrm>
            <a:off x="1042560" y="1557360"/>
            <a:ext cx="7634520" cy="5300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Отличительной чертой гонореи у женщин</a:t>
            </a:r>
            <a:r>
              <a:rPr b="0" lang="ru-RU" sz="1600" spc="-1" strike="noStrike">
                <a:solidFill>
                  <a:srgbClr val="ffffff"/>
                </a:solidFill>
                <a:latin typeface="Arial"/>
              </a:rPr>
              <a:t> является то, что в момент заражения </a:t>
            </a:r>
            <a:r>
              <a:rPr b="0" lang="ru-RU" sz="1600" spc="-1" strike="noStrike" u="sng">
                <a:solidFill>
                  <a:srgbClr val="ffffff"/>
                </a:solidFill>
                <a:uFillTx/>
                <a:latin typeface="Arial"/>
              </a:rPr>
              <a:t>инфицируется сразу или последовательно несколько органов</a:t>
            </a:r>
            <a:r>
              <a:rPr b="0" lang="ru-RU" sz="1600" spc="-1" strike="noStrike">
                <a:solidFill>
                  <a:srgbClr val="ffffff"/>
                </a:solidFill>
                <a:latin typeface="Arial"/>
              </a:rPr>
              <a:t>, т. е. у 60-62,8% развивается </a:t>
            </a:r>
            <a:r>
              <a:rPr b="0" lang="ru-RU" sz="1600" spc="-1" strike="noStrike" u="sng">
                <a:solidFill>
                  <a:srgbClr val="ccecff"/>
                </a:solidFill>
                <a:uFillTx/>
                <a:latin typeface="Arial"/>
              </a:rPr>
              <a:t>многоочаговое поражен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кокки удается обнаружить только в отделяемом уретры у 8-14%, только в цервикальном канале - у 31,7-23,3%, только в отделяемом больших вестибулярных желез - у 0,1% и только в нижнем отрезке прямой кишки - у 0,3-5,2% больных</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рейное поражение уретры, шейки матки и прямой кишки чаще не вызывает заметных общих явлений, переход процесса за внутренний зев на тело матки и ее придатки обычно сопровождается более или менее значительными нарушениями общего состояния: болями внизу живота, повышением температуры, изменением гемограмм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акое течение заболевания дало повод выделить </a:t>
            </a:r>
            <a:r>
              <a:rPr b="1" i="1" lang="ru-RU" sz="1600" spc="-1" strike="noStrike">
                <a:solidFill>
                  <a:srgbClr val="ffffff"/>
                </a:solidFill>
                <a:latin typeface="Arial"/>
              </a:rPr>
              <a:t>гонорею нижнего отдела</a:t>
            </a:r>
            <a:r>
              <a:rPr b="0" lang="ru-RU" sz="1600" spc="-1" strike="noStrike">
                <a:solidFill>
                  <a:srgbClr val="ffffff"/>
                </a:solidFill>
                <a:latin typeface="Arial"/>
              </a:rPr>
              <a:t> (уретрит, парауретрит, бартолинит, вестибулит, цервицит, эндоцервицит, проктит) и </a:t>
            </a:r>
            <a:r>
              <a:rPr b="1" i="1" lang="ru-RU" sz="1600" spc="-1" strike="noStrike">
                <a:solidFill>
                  <a:srgbClr val="ffffff"/>
                </a:solidFill>
                <a:latin typeface="Arial"/>
              </a:rPr>
              <a:t>гонорею верхнего отдела половых органов</a:t>
            </a:r>
            <a:r>
              <a:rPr b="0" lang="ru-RU" sz="1600" spc="-1" strike="noStrike">
                <a:solidFill>
                  <a:srgbClr val="ffffff"/>
                </a:solidFill>
                <a:latin typeface="Arial"/>
              </a:rPr>
              <a:t>, или восходящую гонорею (эндометрит, метроэндометрит, аднексит, пельвиоперитонит)</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кубационный период колеблется от 3 до 5 дней, но в последнее время нередко равен 14-15 дням. Женщина часто не может указать дату инфицирования из-за бессимптомности процесса</a:t>
            </a:r>
            <a:endParaRPr b="0" lang="en-US" sz="1600" spc="-1" strike="noStrike">
              <a:solidFill>
                <a:srgbClr val="ffffff"/>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620640"/>
            <a:ext cx="7010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следование женщин</a:t>
            </a:r>
            <a:endParaRPr b="0" lang="en-US" sz="3200" spc="-1" strike="noStrike">
              <a:solidFill>
                <a:srgbClr val="ffffff"/>
              </a:solidFill>
              <a:latin typeface="Arial"/>
            </a:endParaRPr>
          </a:p>
        </p:txBody>
      </p:sp>
      <p:sp>
        <p:nvSpPr>
          <p:cNvPr id="168" name="PlaceHolder 2"/>
          <p:cNvSpPr>
            <a:spLocks noGrp="1"/>
          </p:cNvSpPr>
          <p:nvPr>
            <p:ph/>
          </p:nvPr>
        </p:nvSpPr>
        <p:spPr>
          <a:xfrm>
            <a:off x="971640" y="1449360"/>
            <a:ext cx="7802640" cy="5408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обследовании женщин изучаются </a:t>
            </a:r>
            <a:r>
              <a:rPr b="1" lang="ru-RU" sz="1600" spc="-1" strike="noStrike">
                <a:solidFill>
                  <a:srgbClr val="0078f0"/>
                </a:solidFill>
                <a:latin typeface="Arial"/>
              </a:rPr>
              <a:t>анамнестические данные</a:t>
            </a:r>
            <a:r>
              <a:rPr b="0" lang="ru-RU" sz="1600" spc="-1" strike="noStrike">
                <a:solidFill>
                  <a:srgbClr val="ffffff"/>
                </a:solidFill>
                <a:latin typeface="Arial"/>
              </a:rPr>
              <a:t>; обращают внимание на развитие воспалительного процесса вскоре после начала половой жизни или случайной половой связи, на появление выделений из гениталий, боли внизу живота после менструации, родов или аборта, повышение температуры тела, увеличение СОЭ, появление ациклических кровотечений, бесплод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следование больной начинается с </a:t>
            </a:r>
            <a:r>
              <a:rPr b="1" lang="ru-RU" sz="1600" spc="-1" strike="noStrike">
                <a:solidFill>
                  <a:srgbClr val="0078f0"/>
                </a:solidFill>
                <a:latin typeface="Arial"/>
              </a:rPr>
              <a:t>осмотра</a:t>
            </a:r>
            <a:r>
              <a:rPr b="0" lang="ru-RU" sz="1600" spc="-1" strike="noStrike">
                <a:solidFill>
                  <a:srgbClr val="0078f0"/>
                </a:solidFill>
                <a:latin typeface="Arial"/>
              </a:rPr>
              <a:t> и </a:t>
            </a:r>
            <a:r>
              <a:rPr b="1" lang="ru-RU" sz="1600" spc="-1" strike="noStrike">
                <a:solidFill>
                  <a:srgbClr val="0078f0"/>
                </a:solidFill>
                <a:latin typeface="Arial"/>
              </a:rPr>
              <a:t>пальпации</a:t>
            </a:r>
            <a:r>
              <a:rPr b="1" lang="ru-RU" sz="1600" spc="-1" strike="noStrike">
                <a:solidFill>
                  <a:srgbClr val="ffffff"/>
                </a:solidFill>
                <a:latin typeface="Arial"/>
              </a:rPr>
              <a:t> </a:t>
            </a:r>
            <a:r>
              <a:rPr b="0" lang="ru-RU" sz="1600" spc="-1" strike="noStrike">
                <a:solidFill>
                  <a:srgbClr val="ffffff"/>
                </a:solidFill>
                <a:latin typeface="Arial"/>
              </a:rPr>
              <a:t>брюшной стенки, определения симптома Щеткина-Блюмберга, осмотра покровов вульвы и слизистой оболочки преддверия (наличие эрозий). Определяют состояние паховых лимфатических узлов, их безболезненность</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осмотре уретры</a:t>
            </a:r>
            <a:r>
              <a:rPr b="0" lang="ru-RU" sz="1600" spc="-1" strike="noStrike">
                <a:solidFill>
                  <a:srgbClr val="ffffff"/>
                </a:solidFill>
                <a:latin typeface="Arial"/>
              </a:rPr>
              <a:t> отмечаются ее отечность, гиперемия губок, наличие парауретральных ходов. Инфильтрация уретры определяется при ее пальпации через влагалище по направлению к лобку. После массажа появляются выделения. Мазки берут после обтирания губок уретры стерильной ватой тупой ушной ложечкой, введенной на глубину 0,5-1 см. Отделяемое наносится тонким мазком параллельно на два предметных стекла в виде буквы "U"</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ольные </a:t>
            </a:r>
            <a:r>
              <a:rPr b="1" lang="ru-RU" sz="1600" spc="-1" strike="noStrike">
                <a:solidFill>
                  <a:srgbClr val="0078f0"/>
                </a:solidFill>
                <a:latin typeface="Arial"/>
              </a:rPr>
              <a:t>вестибулярные железы</a:t>
            </a:r>
            <a:r>
              <a:rPr b="0" lang="ru-RU" sz="1600" spc="-1" strike="noStrike">
                <a:solidFill>
                  <a:srgbClr val="ffffff"/>
                </a:solidFill>
                <a:latin typeface="Arial"/>
              </a:rPr>
              <a:t> пальпируются указательным пальцем, введенным за гимен, а большой палец той же руки помещается над выводным протоком. Появившиеся выделения берут для анализа. Мазок делают в виде буквы "В" рядом с мазком из уретры. При осмотре обращают внимание на гиперемию устьев протока железы, его уплотнение, болезненность</a:t>
            </a:r>
            <a:endParaRPr b="0" lang="en-US" sz="1600" spc="-1" strike="noStrike">
              <a:solidFill>
                <a:srgbClr val="ffffff"/>
              </a:solidFill>
              <a:latin typeface="Arial"/>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160" y="620280"/>
            <a:ext cx="70102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следование женщин</a:t>
            </a:r>
            <a:endParaRPr b="0" lang="en-US" sz="3200" spc="-1" strike="noStrike">
              <a:solidFill>
                <a:srgbClr val="ffffff"/>
              </a:solidFill>
              <a:latin typeface="Arial"/>
            </a:endParaRPr>
          </a:p>
        </p:txBody>
      </p:sp>
      <p:sp>
        <p:nvSpPr>
          <p:cNvPr id="171" name="PlaceHolder 2"/>
          <p:cNvSpPr>
            <a:spLocks noGrp="1"/>
          </p:cNvSpPr>
          <p:nvPr>
            <p:ph/>
          </p:nvPr>
        </p:nvSpPr>
        <p:spPr>
          <a:xfrm>
            <a:off x="1042560" y="1557000"/>
            <a:ext cx="7643880" cy="482436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8f0"/>
                </a:solidFill>
                <a:latin typeface="Arial"/>
              </a:rPr>
              <a:t>Влагалище</a:t>
            </a:r>
            <a:r>
              <a:rPr b="1" lang="ru-RU" sz="1600" spc="-1" strike="noStrike">
                <a:solidFill>
                  <a:srgbClr val="ffffff"/>
                </a:solidFill>
                <a:latin typeface="Arial"/>
              </a:rPr>
              <a:t> </a:t>
            </a:r>
            <a:r>
              <a:rPr b="0" lang="ru-RU" sz="1600" spc="-1" strike="noStrike">
                <a:solidFill>
                  <a:srgbClr val="ffffff"/>
                </a:solidFill>
                <a:latin typeface="Arial"/>
              </a:rPr>
              <a:t>осматривается в зеркалах. Отмечают гиперемию слизистой оболочки, наличие эрозий, их характер, цвет выделений. Для исследования на влагалищные трихомонады отделяемое из области заднего свода берут ложечкой, а для анализа на дрожжеподобные грибы рода Candida делают легкий соскоб со стенок влагалища. Затем осматривают шейку матки: ее форму, наличие эрозий, место их расположения, характер выделений. Обтерев шейку матки стерильным ватным шариком, длинным гинекологическим пинцетом, введенным в цервикальный канал на глубину 0,5-1 см, захватывают пристеночную слизь и наносят ее на те же стекла в виде буквы «С»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бимануальном исследовании</a:t>
            </a:r>
            <a:r>
              <a:rPr b="0" lang="ru-RU" sz="1600" spc="-1" strike="noStrike">
                <a:solidFill>
                  <a:srgbClr val="ffffff"/>
                </a:solidFill>
                <a:latin typeface="Arial"/>
              </a:rPr>
              <a:t> определяют положение тела матки, ее размер, консистенцию, болезненность. Далее определяют величину, форму, консистенцию, болезненность придатков матки и наличие спаек. При пальпации параметрия отмечают наличие тяжей, инфильтратов, их расположен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обследовании области прямой кишки</a:t>
            </a:r>
            <a:r>
              <a:rPr b="0" lang="ru-RU" sz="1600" spc="-1" strike="noStrike">
                <a:solidFill>
                  <a:srgbClr val="ffffff"/>
                </a:solidFill>
                <a:latin typeface="Arial"/>
              </a:rPr>
              <a:t> обращают внимание на отечность складок наружного сфинктера, гиперемию, характер отделяемого. Промывные воды берут катетером с двойным током. Из полученной жидкости со дна стакана пинцетом вылавливают комочки гноя и слизи, которые растирают между двумя предметными стеклами или наносят на стекла в виде буквы «R»</a:t>
            </a:r>
            <a:endParaRPr b="0" lang="en-US" sz="16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63640" y="549360"/>
            <a:ext cx="701064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бследование женщин</a:t>
            </a:r>
            <a:endParaRPr b="0" lang="en-US" sz="2800" spc="-1" strike="noStrike">
              <a:solidFill>
                <a:srgbClr val="ffffff"/>
              </a:solidFill>
              <a:latin typeface="Arial"/>
            </a:endParaRPr>
          </a:p>
        </p:txBody>
      </p:sp>
      <p:sp>
        <p:nvSpPr>
          <p:cNvPr id="174" name="PlaceHolder 2"/>
          <p:cNvSpPr>
            <a:spLocks noGrp="1"/>
          </p:cNvSpPr>
          <p:nvPr>
            <p:ph/>
          </p:nvPr>
        </p:nvSpPr>
        <p:spPr>
          <a:xfrm>
            <a:off x="1403280" y="1196640"/>
            <a:ext cx="7499520" cy="504036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виду трудности обнаружения гонококков при бактериоскопическом исследовании выделений необходимо сделать посев, а затем провести различные провокации, которые основаны на раздражении тканей с целью выявления инфекции в скрытых очагах</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яются следующие виды провокаций:</a:t>
            </a:r>
            <a:endParaRPr b="0" lang="en-US" sz="16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Химическая провокация</a:t>
            </a:r>
            <a:r>
              <a:rPr b="0" lang="ru-RU" sz="1400" spc="-1" strike="noStrike">
                <a:solidFill>
                  <a:srgbClr val="ffffff"/>
                </a:solidFill>
                <a:latin typeface="Arial"/>
              </a:rPr>
              <a:t> - смазывание уретры на глубину 1-2 см и нижнего отрезка прямой кишки на глубину 4 см 1-2% раствором нитрата серебра или раствором Люголя на глицерине, а цервикального канала - на глубину 1-1,5 см 5% раствором нитрата серебра</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Биологическая провокация</a:t>
            </a:r>
            <a:r>
              <a:rPr b="0" lang="ru-RU" sz="1400" spc="-1" strike="noStrike">
                <a:solidFill>
                  <a:srgbClr val="ffffff"/>
                </a:solidFill>
                <a:latin typeface="Arial"/>
              </a:rPr>
              <a:t> - внутримышечно вводят гонококковую вакцину в дозе 500 млн. микробных тел (перед применением гоновакцину взбалтывают) или вводят одновременно гоновакцину с пирогеналом (200 МПД). Если до провокации гоновакцина применялась во время лечения, то назначают двойную терапевтическую дозу, но не более 2 млрд микробных тел; в стационаре можно вводить гоновакцину регионарно - в подслизистый слой шейки матки и уретры (всего 100 млн. микробных тел)</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Термическая провокация</a:t>
            </a:r>
            <a:r>
              <a:rPr b="0" lang="ru-RU" sz="1400" spc="-1" strike="noStrike">
                <a:solidFill>
                  <a:srgbClr val="ffffff"/>
                </a:solidFill>
                <a:latin typeface="Arial"/>
              </a:rPr>
              <a:t> - проводят индуктотермию в течение 3 дней по 15-20 мин. Отделяемое берут для исследования ежедневно через 1 ч после прогревания. </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Физиологической провокацией</a:t>
            </a:r>
            <a:r>
              <a:rPr b="0" lang="ru-RU" sz="1400" spc="-1" strike="noStrike">
                <a:solidFill>
                  <a:srgbClr val="ffffff"/>
                </a:solidFill>
                <a:latin typeface="Arial"/>
              </a:rPr>
              <a:t> служит менструация (в дни наибольшего кровотечения берут мазки)</a:t>
            </a:r>
            <a:endParaRPr b="0" lang="en-US" sz="14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600" spc="-1" strike="noStrike">
                <a:solidFill>
                  <a:srgbClr val="ffffff"/>
                </a:solidFill>
                <a:latin typeface="Arial"/>
              </a:rPr>
              <a:t>Лучшие результаты наблюдаются после комбинированной провокации: химической, биологической и термической. Мазки берут через 24, 48 и 72 ч после провокаций. Диагноз гонореи ставят лишь после обнаружения гонококков</a:t>
            </a:r>
            <a:endParaRPr b="0" lang="en-US" sz="1600" spc="-1" strike="noStrike">
              <a:solidFill>
                <a:srgbClr val="ffffff"/>
              </a:solidFill>
              <a:latin typeface="Arial"/>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07640" y="549360"/>
            <a:ext cx="67122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Гонорея и беременность</a:t>
            </a:r>
            <a:r>
              <a:rPr b="0" lang="ru-RU" sz="3500" spc="-1" strike="noStrike">
                <a:solidFill>
                  <a:srgbClr val="ffffff"/>
                </a:solidFill>
                <a:latin typeface="Arial"/>
              </a:rPr>
              <a:t> </a:t>
            </a:r>
            <a:endParaRPr b="0" lang="en-US" sz="3500" spc="-1" strike="noStrike">
              <a:solidFill>
                <a:srgbClr val="ffffff"/>
              </a:solidFill>
              <a:latin typeface="Arial"/>
            </a:endParaRPr>
          </a:p>
        </p:txBody>
      </p:sp>
      <p:sp>
        <p:nvSpPr>
          <p:cNvPr id="177" name="PlaceHolder 2"/>
          <p:cNvSpPr>
            <a:spLocks noGrp="1"/>
          </p:cNvSpPr>
          <p:nvPr>
            <p:ph/>
          </p:nvPr>
        </p:nvSpPr>
        <p:spPr>
          <a:xfrm>
            <a:off x="684000" y="1412640"/>
            <a:ext cx="8002440" cy="5445000"/>
          </a:xfrm>
          <a:prstGeom prst="rect">
            <a:avLst/>
          </a:prstGeom>
          <a:noFill/>
          <a:ln w="0">
            <a:noFill/>
          </a:ln>
        </p:spPr>
        <p:txBody>
          <a:bodyPr anchor="t">
            <a:normAutofit/>
          </a:bodyPr>
          <a:p>
            <a:pPr marL="343080" indent="-343080">
              <a:lnSpc>
                <a:spcPct val="9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Застойные явления в органах малого таза, развивающиеся во время беременности, определяют своеобразие гонореи у беременных. Только 30% беременных, больных гонореей, жалуются на бели, дизурические явления. Эти нарушения у большинства больных скоро проходят и не становятся поводом для обращения к врачу. Несмотря на отсутствие жалоб, у большинства больных удается обнаружить довольно выраженные воспаления в уретре, шейке матки, прямой кишке и т. д. </a:t>
            </a:r>
            <a:endParaRPr b="0" lang="en-US" sz="1900" spc="-1" strike="noStrike">
              <a:solidFill>
                <a:srgbClr val="ffffff"/>
              </a:solidFill>
              <a:latin typeface="Arial"/>
            </a:endParaRPr>
          </a:p>
          <a:p>
            <a:pPr marL="343080" indent="-343080">
              <a:lnSpc>
                <a:spcPct val="9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Шейка матки поражается гонококком у всех беременных, уретра - у 74%, полость матки - у 20,5%, прямая кишка - у 16,35%, бартолиновы железы - у 7,45%. Следует помнить, что после введения влагалищного зеркала берут отделяемое, вытекающее из цервикального канала, не вводя пинцета в канал, и делают мазок и посев. У беременных при хронической гонорее бактериологический метод в 3 раза эффективнее бактериоскопического. Мазки и посев из шейки матки следует брать на 5-6-й день после родов</a:t>
            </a:r>
            <a:endParaRPr b="0" lang="en-US" sz="1900" spc="-1" strike="noStrike">
              <a:solidFill>
                <a:srgbClr val="ffffff"/>
              </a:solidFill>
              <a:latin typeface="Arial"/>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47640" y="692280"/>
            <a:ext cx="701064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Гонорея и беременность</a:t>
            </a:r>
            <a:endParaRPr b="0" lang="en-US" sz="2800" spc="-1" strike="noStrike">
              <a:solidFill>
                <a:srgbClr val="ffffff"/>
              </a:solidFill>
              <a:latin typeface="Arial"/>
            </a:endParaRPr>
          </a:p>
        </p:txBody>
      </p:sp>
      <p:sp>
        <p:nvSpPr>
          <p:cNvPr id="180" name="PlaceHolder 2"/>
          <p:cNvSpPr>
            <a:spLocks noGrp="1"/>
          </p:cNvSpPr>
          <p:nvPr>
            <p:ph/>
          </p:nvPr>
        </p:nvSpPr>
        <p:spPr>
          <a:xfrm>
            <a:off x="971640" y="1601280"/>
            <a:ext cx="7859520" cy="525636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остром эндометрите в результате очагового развития гонорейного процесса зачатие возможно, но в дальнейшем вследствие децидуального эндометрита яйцеклетка отторгается и происходит выкидыш в ранние сроки. При заражении гонореей после 4 месяца беременности проникающие в матку гонококки встречают препятствие и прерывания беременности, как правило, не происходит</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 выявленная своевременно гонорея угрожает женщине послеродовыми осложнениями: внутренний маточный зев открыт до 3-7-го дня после родов, что способствует у 12-30% больных проникновению гонококков в матку и ее придатки, где имеется в изобилии питательный материал, особенно при задержке лохий</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нет смешанной инфекции, то температура тела повышается не раньше чем через 5-7 дней, чему способствуют закрытие внутреннего зева и застой отделяемого. Гонорея послеродового периода клинически может протекать как гонорейный эндометрит, иногда проявляется обильными буро-гнойными лохиями, матка становится болезненной, температура тела повышается. На 2-3-й неделе после родов гонококки могут проникнуть в трубы и на брюшину</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пределение</a:t>
            </a:r>
            <a:endParaRPr b="0" lang="en-US" sz="3200" spc="-1" strike="noStrike">
              <a:solidFill>
                <a:srgbClr val="ffffff"/>
              </a:solidFill>
              <a:latin typeface="Arial"/>
            </a:endParaRPr>
          </a:p>
        </p:txBody>
      </p:sp>
      <p:sp>
        <p:nvSpPr>
          <p:cNvPr id="125" name="PlaceHolder 2"/>
          <p:cNvSpPr>
            <a:spLocks noGrp="1"/>
          </p:cNvSpPr>
          <p:nvPr>
            <p:ph/>
          </p:nvPr>
        </p:nvSpPr>
        <p:spPr>
          <a:xfrm>
            <a:off x="684000" y="1700280"/>
            <a:ext cx="8280360" cy="4395600"/>
          </a:xfrm>
          <a:prstGeom prst="rect">
            <a:avLst/>
          </a:prstGeom>
          <a:noFill/>
          <a:ln w="0">
            <a:noFill/>
          </a:ln>
        </p:spPr>
        <p:txBody>
          <a:bodyPr anchor="t">
            <a:normAutofit/>
          </a:bodyPr>
          <a:p>
            <a:pPr lvl="1" marL="743040" indent="-28584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Гонорея</a:t>
            </a:r>
            <a:r>
              <a:rPr b="0" lang="ru-RU" sz="2400" spc="-1" strike="noStrike">
                <a:solidFill>
                  <a:srgbClr val="ffffff"/>
                </a:solidFill>
                <a:latin typeface="Arial"/>
              </a:rPr>
              <a:t> - это инфекционное заболевание, передающееся преимущественно половым путем (контактный путь - при передаче от матери к новорожденному в родах), характеризующееся поражением слизистых мочеиспукательного канала и цервикального канала, что проявляется нарушением мочеиспускания (в основном у мужчин) и воспалением шейки матки - у женщин</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рея распространена в основном среди лиц 20-30 лет, однако может встречаться в любом возрасте</a:t>
            </a:r>
            <a:endParaRPr b="0" lang="en-US" sz="2400" spc="-1" strike="noStrike">
              <a:solidFill>
                <a:srgbClr val="ffffff"/>
              </a:solidFill>
              <a:latin typeface="Arial"/>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160" y="764640"/>
            <a:ext cx="701028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ечение беременных </a:t>
            </a:r>
            <a:br>
              <a:rPr sz="2800"/>
            </a:br>
            <a:endParaRPr b="0" lang="en-US" sz="2800" spc="-1" strike="noStrike">
              <a:solidFill>
                <a:srgbClr val="ffffff"/>
              </a:solidFill>
              <a:latin typeface="Arial"/>
            </a:endParaRPr>
          </a:p>
        </p:txBody>
      </p:sp>
      <p:sp>
        <p:nvSpPr>
          <p:cNvPr id="183" name="PlaceHolder 2"/>
          <p:cNvSpPr>
            <a:spLocks noGrp="1"/>
          </p:cNvSpPr>
          <p:nvPr>
            <p:ph/>
          </p:nvPr>
        </p:nvSpPr>
        <p:spPr>
          <a:xfrm>
            <a:off x="1116000" y="1268280"/>
            <a:ext cx="7570800" cy="48276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Лечение беременных осуществляется в условиях стационара на любом сроке гестации антибактериальными препаратами, не оказывающими влияния на плод</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епаратами выбора при беременности являются некоторые цефалоспорины, макролиды, спектиномицин, бензилпенициллин. Противопоказаны тетрациклины, фторхинолоны, аминогликозид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ение иммуномодулирующих и биостимулирующих препаратов при гонококковой инфекции должно быть строго обоснованным</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 установлению критерия излеченности гонореи приступают через 7-10 дней после завершения курса лечения.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8f0"/>
                </a:solidFill>
                <a:latin typeface="Arial"/>
              </a:rPr>
              <a:t>Критериями излеченности</a:t>
            </a:r>
            <a:r>
              <a:rPr b="0" lang="ru-RU" sz="1600" spc="-1" strike="noStrike">
                <a:solidFill>
                  <a:srgbClr val="ffffff"/>
                </a:solidFill>
                <a:latin typeface="Arial"/>
              </a:rPr>
              <a:t> являются:</a:t>
            </a:r>
            <a:endParaRPr b="0" lang="en-US" sz="16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тсутствие субъективных и объективных симптомов заболевания</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трицательные результаты микроскопического и культурального исследований</a:t>
            </a:r>
            <a:endParaRPr b="0" lang="en-US" sz="15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наличии клинико-лабораторных данных, свидетельствующих о сохранении воспалительного процесса, рекомендуется повторное обследование с обязательным культуральным исследованием и исключением сопутствующих инфекций</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кокки, обнаруженные после проведенного лечения, чаще всего являются следствием реинфекции. При установлении рецидива гонореи необходимо осуществлять культуральное исследование с определением чувствительности гонококка к антибиотикам</a:t>
            </a:r>
            <a:endParaRPr b="0" lang="en-US" sz="1600" spc="-1" strike="noStrike">
              <a:solidFill>
                <a:srgbClr val="ffffff"/>
              </a:solidFill>
              <a:latin typeface="Arial"/>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692000" y="692280"/>
            <a:ext cx="70102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ечение беременных </a:t>
            </a:r>
            <a:br>
              <a:rPr sz="2800"/>
            </a:br>
            <a:endParaRPr b="0" lang="en-US" sz="2800" spc="-1" strike="noStrike">
              <a:solidFill>
                <a:srgbClr val="ffffff"/>
              </a:solidFill>
              <a:latin typeface="Arial"/>
            </a:endParaRPr>
          </a:p>
        </p:txBody>
      </p:sp>
      <p:sp>
        <p:nvSpPr>
          <p:cNvPr id="186" name="PlaceHolder 2"/>
          <p:cNvSpPr>
            <a:spLocks noGrp="1"/>
          </p:cNvSpPr>
          <p:nvPr>
            <p:ph/>
          </p:nvPr>
        </p:nvSpPr>
        <p:spPr>
          <a:xfrm>
            <a:off x="1116000" y="1557360"/>
            <a:ext cx="7570800" cy="48960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следние годы появились данные, свидетельствующие о возможности сокращения сроков клинико-лабораторного наблюдения за женщинами после полноценного лечения гонококковой инфекци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о назначения антибактериальных препаратов по поводу гонореи следует осуществлять серологическое обследование на сифилис. Учитывая эпидемиологическую ситуацию в стране с заболеваемостью сифилисом, при невозможности серологического обследования на сифилис половых партнеров повторное серологическое обследование больного гонореей проводится через 3 месяца</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лечении гонореи с неустановленным источником заражения следует преимущественно применять препараты, обладающие активностью и в отношении Т. pallidum, т. е. оказывающие превентивное противосифилитическое действие (цефтриаксон, азитромиц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ловые партнеры больных гонореей подлежат обследованию и лечению, если половой контакт имел место за 30 дней до появления симптомов заболевания у пациента. В случае субъективно бессимптомного течения гонореи обследованию и лечению подлежат половые партнеры, имевшие половой контакт в течение 60 дней до установления диагноза гонореи.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следованию подлежат дети, если у их матерей или у лиц, осуществляющих уход за ними, обнаруживается гонорея</a:t>
            </a:r>
            <a:endParaRPr b="0" lang="en-US" sz="1600" spc="-1" strike="noStrike">
              <a:solidFill>
                <a:srgbClr val="ffffff"/>
              </a:solidFill>
              <a:latin typeface="Arial"/>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92000" y="764640"/>
            <a:ext cx="701028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абораторная диагностика</a:t>
            </a:r>
            <a:r>
              <a:rPr b="1" lang="ru-RU" sz="3500" spc="-1" strike="noStrike">
                <a:solidFill>
                  <a:srgbClr val="ffffff"/>
                </a:solidFill>
                <a:latin typeface="Arial"/>
              </a:rPr>
              <a:t> </a:t>
            </a:r>
            <a:br>
              <a:rPr sz="3500"/>
            </a:br>
            <a:endParaRPr b="0" lang="en-US" sz="3500" spc="-1" strike="noStrike">
              <a:solidFill>
                <a:srgbClr val="ffffff"/>
              </a:solidFill>
              <a:latin typeface="Arial"/>
            </a:endParaRPr>
          </a:p>
        </p:txBody>
      </p:sp>
      <p:sp>
        <p:nvSpPr>
          <p:cNvPr id="189" name="PlaceHolder 2"/>
          <p:cNvSpPr>
            <a:spLocks noGrp="1"/>
          </p:cNvSpPr>
          <p:nvPr>
            <p:ph/>
          </p:nvPr>
        </p:nvSpPr>
        <p:spPr>
          <a:xfrm>
            <a:off x="1042920" y="1628640"/>
            <a:ext cx="7608960" cy="482472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иагноз гонореи подтверждается на основании лабораторного обнаружения гонококка с типичными морфологическими и тинкториальными свойствами, обнаружения антигена гонококка или нуклеиновой кислоты в клинических образцах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выявления гонококка используется микроскопическое и культуральное исследование (у девочек и женщин старше 60 лет - только культуральное, с определением ферментативных свойств гонокок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есообразность использования различных методов провокации в настоящее время вызывает обоснованные сомнения и является предметом проведения специальных научных исследований</a:t>
            </a:r>
            <a:endParaRPr b="0" lang="en-US" sz="20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Бактериоскопия</a:t>
            </a:r>
            <a:endParaRPr b="0" lang="en-US" sz="3200" spc="-1" strike="noStrike">
              <a:solidFill>
                <a:srgbClr val="ffffff"/>
              </a:solidFill>
              <a:latin typeface="Arial"/>
            </a:endParaRPr>
          </a:p>
        </p:txBody>
      </p:sp>
      <p:sp>
        <p:nvSpPr>
          <p:cNvPr id="192" name="PlaceHolder 2"/>
          <p:cNvSpPr>
            <a:spLocks noGrp="1"/>
          </p:cNvSpPr>
          <p:nvPr>
            <p:ph/>
          </p:nvPr>
        </p:nvSpPr>
        <p:spPr>
          <a:xfrm>
            <a:off x="755280" y="1557360"/>
            <a:ext cx="4349880" cy="5300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Бактериоскопия </a:t>
            </a:r>
            <a:r>
              <a:rPr b="0" lang="ru-RU" sz="1600" spc="-1" strike="noStrike">
                <a:solidFill>
                  <a:srgbClr val="ffffff"/>
                </a:solidFill>
                <a:latin typeface="Arial"/>
              </a:rPr>
              <a:t> весьма  эффективна при острой гонорее, при качественной подготовке больного к исследованию, правильном взятии анализа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случае отрицательного результата показано повторное исследование в течение 3 последующих дней с использованием провокаци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з каждого очага для бактериоскопии берут мазки на два стекла: один для ориентировочного исследования после окраски метиленовым синим, другой - для окраски по способу Грама, что позволяет дифференцировать грамположительные и грамотрицательные микроорганизм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Характерный признак гонореи при бактериоскопии ("в мазке") -  внутриклеточно  расположенные грамотрицательные диплококки, причём каждый из кокков имеет бобовидную форму</a:t>
            </a:r>
            <a:endParaRPr b="0" lang="en-US" sz="1600" spc="-1" strike="noStrike">
              <a:solidFill>
                <a:srgbClr val="ffffff"/>
              </a:solidFill>
              <a:latin typeface="Arial"/>
            </a:endParaRPr>
          </a:p>
        </p:txBody>
      </p:sp>
      <p:pic>
        <p:nvPicPr>
          <p:cNvPr id="193" name="Picture 5" descr="nn"/>
          <p:cNvPicPr/>
          <p:nvPr/>
        </p:nvPicPr>
        <p:blipFill>
          <a:blip r:embed="rId1"/>
          <a:stretch/>
        </p:blipFill>
        <p:spPr>
          <a:xfrm>
            <a:off x="5292720" y="1628640"/>
            <a:ext cx="3456000" cy="2762280"/>
          </a:xfrm>
          <a:prstGeom prst="rect">
            <a:avLst/>
          </a:prstGeom>
          <a:ln w="0">
            <a:noFill/>
          </a:ln>
        </p:spPr>
      </p:pic>
      <p:sp>
        <p:nvSpPr>
          <p:cNvPr id="194" name="Rectangle 6"/>
          <p:cNvSpPr/>
          <p:nvPr/>
        </p:nvSpPr>
        <p:spPr>
          <a:xfrm>
            <a:off x="5292720" y="4508640"/>
            <a:ext cx="3635280" cy="1374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N</a:t>
            </a:r>
            <a:r>
              <a:rPr b="0" lang="ru-RU" sz="1400" spc="-1" strike="noStrike">
                <a:solidFill>
                  <a:srgbClr val="ffffff"/>
                </a:solidFill>
                <a:latin typeface="Arial"/>
              </a:rPr>
              <a:t> - нейтрофильные лейкоциты. Хорошо видны их сегментированные ядра, цитоплазма практически не видна</a:t>
            </a: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Gn </a:t>
            </a:r>
            <a:r>
              <a:rPr b="0" lang="ru-RU" sz="1400" spc="-1" strike="noStrike">
                <a:solidFill>
                  <a:srgbClr val="ffffff"/>
                </a:solidFill>
                <a:latin typeface="Arial"/>
              </a:rPr>
              <a:t>- гонококки, заполняя лейкоциты изнутри, обрисовывают контуры последних</a:t>
            </a:r>
            <a:endParaRPr b="0" lang="en-US" sz="1400" spc="-1" strike="noStrike">
              <a:solidFill>
                <a:srgbClr val="ffffff"/>
              </a:solidFill>
              <a:latin typeface="Arial"/>
            </a:endParaRPr>
          </a:p>
        </p:txBody>
      </p:sp>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676160" y="457200"/>
            <a:ext cx="701028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 (ЭМ)</a:t>
            </a:r>
            <a:endParaRPr b="0" lang="en-US" sz="3200" spc="-1" strike="noStrike">
              <a:solidFill>
                <a:srgbClr val="ffffff"/>
              </a:solidFill>
              <a:latin typeface="Arial"/>
            </a:endParaRPr>
          </a:p>
        </p:txBody>
      </p:sp>
      <p:sp>
        <p:nvSpPr>
          <p:cNvPr id="197" name="PlaceHolder 2"/>
          <p:cNvSpPr>
            <a:spLocks noGrp="1"/>
          </p:cNvSpPr>
          <p:nvPr>
            <p:ph/>
          </p:nvPr>
        </p:nvSpPr>
        <p:spPr>
          <a:xfrm>
            <a:off x="1332000" y="1125000"/>
            <a:ext cx="7634160" cy="597708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пособ регистрации малоразмерных физических объектов, в которой медиатором (передатчиком) информации является поток электронов, а не свет, как в световом микроскопе</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Из этого следует две важные особенности электронной микроскопии:</a:t>
            </a:r>
            <a:endParaRPr b="0" lang="en-US" sz="16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a:t>
            </a:r>
            <a:r>
              <a:rPr b="0" lang="ru-RU" sz="1400" spc="-1" strike="noStrike" u="sng">
                <a:solidFill>
                  <a:srgbClr val="ffffff"/>
                </a:solidFill>
                <a:uFillTx/>
                <a:latin typeface="Arial"/>
              </a:rPr>
              <a:t>более высокая разрешающая способность</a:t>
            </a:r>
            <a:r>
              <a:rPr b="0" lang="ru-RU" sz="1400" spc="-1" strike="noStrike">
                <a:solidFill>
                  <a:srgbClr val="ffffff"/>
                </a:solidFill>
                <a:latin typeface="Arial"/>
              </a:rPr>
              <a:t>. Известно, что разрешающая способность напрямую зависит от длины волны, а длина волны электронного излучения значительно короче длины световых волн</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2) </a:t>
            </a:r>
            <a:r>
              <a:rPr b="0" lang="ru-RU" sz="1400" spc="-1" strike="noStrike" u="sng">
                <a:solidFill>
                  <a:srgbClr val="ffffff"/>
                </a:solidFill>
                <a:uFillTx/>
                <a:latin typeface="Arial"/>
              </a:rPr>
              <a:t>Изображение, рисуемое электронами, чёрно-белое</a:t>
            </a:r>
            <a:r>
              <a:rPr b="0" lang="ru-RU" sz="1400" spc="-1" strike="noStrike">
                <a:solidFill>
                  <a:srgbClr val="ffffff"/>
                </a:solidFill>
                <a:latin typeface="Arial"/>
              </a:rPr>
              <a:t> (ведь цвет - это определённая длина световой волны). Поэтому настоящие фотографии, сделанные с помощью электронной микроскопии - чёрно-белые. </a:t>
            </a: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уществует две разновидности ЭМ</a:t>
            </a:r>
            <a:r>
              <a:rPr b="0" lang="ru-RU" sz="1600" spc="-1" strike="noStrike">
                <a:solidFill>
                  <a:srgbClr val="ffffff"/>
                </a:solidFill>
                <a:latin typeface="Arial"/>
              </a:rPr>
              <a:t>: трансмиссивная электронная микроскопия (ТЭМ) и сканирующая электронная микроскопия (СЭМ).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ервом случае изображение как бы рассматривается в проходящем потоке электронов (подобно обычному световому микроскопу). Поэтому  </a:t>
            </a:r>
            <a:r>
              <a:rPr b="1" lang="ru-RU" sz="1600" spc="-1" strike="noStrike">
                <a:solidFill>
                  <a:srgbClr val="ffffff"/>
                </a:solidFill>
                <a:latin typeface="Arial"/>
              </a:rPr>
              <a:t>ТЭМ</a:t>
            </a:r>
            <a:r>
              <a:rPr b="0" lang="ru-RU" sz="1600" spc="-1" strike="noStrike">
                <a:solidFill>
                  <a:srgbClr val="ffffff"/>
                </a:solidFill>
                <a:latin typeface="Arial"/>
              </a:rPr>
              <a:t> в деталях раскрывает  </a:t>
            </a:r>
            <a:r>
              <a:rPr b="1" lang="ru-RU" sz="1600" spc="-1" strike="noStrike">
                <a:solidFill>
                  <a:srgbClr val="ffffff"/>
                </a:solidFill>
                <a:latin typeface="Arial"/>
              </a:rPr>
              <a:t>внутреннее строение </a:t>
            </a:r>
            <a:r>
              <a:rPr b="0" lang="ru-RU" sz="1600" spc="-1" strike="noStrike">
                <a:solidFill>
                  <a:srgbClr val="ffffff"/>
                </a:solidFill>
                <a:latin typeface="Arial"/>
              </a:rPr>
              <a:t>исследуемого объекта</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ри сканирующей электронной микроскопии объект исследуется в отражённом свете, поэтому </a:t>
            </a:r>
            <a:r>
              <a:rPr b="1" lang="ru-RU" sz="1600" spc="-1" strike="noStrike">
                <a:solidFill>
                  <a:srgbClr val="ffffff"/>
                </a:solidFill>
                <a:latin typeface="Arial"/>
              </a:rPr>
              <a:t>СЭМ</a:t>
            </a:r>
            <a:r>
              <a:rPr b="0" lang="ru-RU" sz="1600" spc="-1" strike="noStrike">
                <a:solidFill>
                  <a:srgbClr val="ffffff"/>
                </a:solidFill>
                <a:latin typeface="Arial"/>
              </a:rPr>
              <a:t> позволяет в подробностях разглядеть </a:t>
            </a:r>
            <a:r>
              <a:rPr b="1" lang="ru-RU" sz="1600" spc="-1" strike="noStrike">
                <a:solidFill>
                  <a:srgbClr val="ffffff"/>
                </a:solidFill>
                <a:latin typeface="Arial"/>
              </a:rPr>
              <a:t>поверхность</a:t>
            </a:r>
            <a:r>
              <a:rPr b="0" lang="ru-RU" sz="1600" spc="-1" strike="noStrike">
                <a:solidFill>
                  <a:srgbClr val="ffffff"/>
                </a:solidFill>
                <a:latin typeface="Arial"/>
              </a:rPr>
              <a:t> исследуемого объекта</a:t>
            </a:r>
            <a:endParaRPr b="0" lang="en-US" sz="1600" spc="-1" strike="noStrike">
              <a:solidFill>
                <a:srgbClr val="ffffff"/>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a:t>
            </a:r>
            <a:br>
              <a:rPr sz="3200"/>
            </a:br>
            <a:endParaRPr b="0" lang="en-US" sz="3200" spc="-1" strike="noStrike">
              <a:solidFill>
                <a:srgbClr val="ffffff"/>
              </a:solidFill>
              <a:latin typeface="Arial"/>
            </a:endParaRPr>
          </a:p>
        </p:txBody>
      </p:sp>
      <p:sp>
        <p:nvSpPr>
          <p:cNvPr id="200" name="PlaceHolder 2"/>
          <p:cNvSpPr>
            <a:spLocks noGrp="1"/>
          </p:cNvSpPr>
          <p:nvPr>
            <p:ph/>
          </p:nvPr>
        </p:nvSpPr>
        <p:spPr>
          <a:xfrm>
            <a:off x="3995280" y="1197000"/>
            <a:ext cx="4753080" cy="194472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600" spc="-1" strike="noStrike">
                <a:solidFill>
                  <a:srgbClr val="ffffff"/>
                </a:solidFill>
                <a:latin typeface="Arial"/>
              </a:rPr>
              <a:t>Характерная, используемая как важный критерий диагностики форма гонококка  - диплококк (парный кокк), реже - тетракокк. Связана с особенностями деления гонококка. Диплококк сравнивают с кофейными зёрнами или почками, обращёнными вогнутыми сторонами друг к другу</a:t>
            </a:r>
            <a:endParaRPr b="0" lang="en-US" sz="1600" spc="-1" strike="noStrike">
              <a:solidFill>
                <a:srgbClr val="ffffff"/>
              </a:solidFill>
              <a:latin typeface="Arial"/>
            </a:endParaRPr>
          </a:p>
        </p:txBody>
      </p:sp>
      <p:pic>
        <p:nvPicPr>
          <p:cNvPr id="201" name="Picture 10" descr="Пили на поверхности гонококка, электронная микроскопия, ТЭМ"/>
          <p:cNvPicPr/>
          <p:nvPr/>
        </p:nvPicPr>
        <p:blipFill>
          <a:blip r:embed="rId1"/>
          <a:stretch/>
        </p:blipFill>
        <p:spPr>
          <a:xfrm>
            <a:off x="4356000" y="4221000"/>
            <a:ext cx="3108600" cy="1646280"/>
          </a:xfrm>
          <a:prstGeom prst="rect">
            <a:avLst/>
          </a:prstGeom>
          <a:ln w="0">
            <a:noFill/>
          </a:ln>
        </p:spPr>
      </p:pic>
      <p:sp>
        <p:nvSpPr>
          <p:cNvPr id="202" name="Rectangle 4"/>
          <p:cNvSpPr/>
          <p:nvPr/>
        </p:nvSpPr>
        <p:spPr>
          <a:xfrm>
            <a:off x="395280" y="3933720"/>
            <a:ext cx="4284720" cy="1872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600" spc="-1" strike="noStrike">
                <a:solidFill>
                  <a:srgbClr val="ffffff"/>
                </a:solidFill>
                <a:latin typeface="Arial"/>
              </a:rPr>
              <a:t>На поверхности гонококка находятся нити - </a:t>
            </a:r>
            <a:r>
              <a:rPr b="1" lang="ru-RU" sz="1600" spc="-1" strike="noStrike">
                <a:solidFill>
                  <a:srgbClr val="ffffff"/>
                </a:solidFill>
                <a:latin typeface="Arial"/>
              </a:rPr>
              <a:t>пили</a:t>
            </a:r>
            <a:r>
              <a:rPr b="0" lang="ru-RU" sz="1600" spc="-1" strike="noStrike">
                <a:solidFill>
                  <a:srgbClr val="ffffff"/>
                </a:solidFill>
                <a:latin typeface="Arial"/>
              </a:rPr>
              <a:t>, содержащие ДНК. "Отвечают"  за вирулентность ("заразность"),  устойчивость к антибиотикам, прикрепление к клеткам организма-хозяина, в частности к эпителию маточных труб и мочеиспускательного канала</a:t>
            </a:r>
            <a:endParaRPr b="0" lang="en-US" sz="1600" spc="-1" strike="noStrike">
              <a:solidFill>
                <a:srgbClr val="ffffff"/>
              </a:solidFill>
              <a:latin typeface="Arial"/>
            </a:endParaRPr>
          </a:p>
        </p:txBody>
      </p:sp>
      <p:pic>
        <p:nvPicPr>
          <p:cNvPr id="203" name="Picture 6" descr="Диплококк - электронная микроскопия, ТЭМ"/>
          <p:cNvPicPr/>
          <p:nvPr/>
        </p:nvPicPr>
        <p:blipFill>
          <a:blip r:embed="rId2"/>
          <a:stretch/>
        </p:blipFill>
        <p:spPr>
          <a:xfrm>
            <a:off x="1476360" y="1197000"/>
            <a:ext cx="2303640" cy="1897200"/>
          </a:xfrm>
          <a:prstGeom prst="rect">
            <a:avLst/>
          </a:prstGeom>
          <a:ln w="0">
            <a:noFill/>
          </a:ln>
        </p:spPr>
      </p:pic>
      <p:sp>
        <p:nvSpPr>
          <p:cNvPr id="204" name="Rectangle 7"/>
          <p:cNvSpPr/>
          <p:nvPr/>
        </p:nvSpPr>
        <p:spPr>
          <a:xfrm>
            <a:off x="2049840" y="3141720"/>
            <a:ext cx="11484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ТЭМ  х 50000</a:t>
            </a:r>
            <a:endParaRPr b="0" lang="en-US" sz="1200" spc="-1" strike="noStrike">
              <a:solidFill>
                <a:srgbClr val="ffffff"/>
              </a:solidFill>
              <a:latin typeface="Arial"/>
            </a:endParaRPr>
          </a:p>
        </p:txBody>
      </p:sp>
      <p:sp>
        <p:nvSpPr>
          <p:cNvPr id="205" name="Rectangle 8"/>
          <p:cNvSpPr/>
          <p:nvPr/>
        </p:nvSpPr>
        <p:spPr>
          <a:xfrm>
            <a:off x="5578920" y="5877000"/>
            <a:ext cx="114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ТЭМ  х 95000</a:t>
            </a:r>
            <a:endParaRPr b="0" lang="en-US" sz="1200" spc="-1" strike="noStrike">
              <a:solidFill>
                <a:srgbClr val="ffffff"/>
              </a:solidFill>
              <a:latin typeface="Arial"/>
            </a:endParaRPr>
          </a:p>
        </p:txBody>
      </p:sp>
      <p:pic>
        <p:nvPicPr>
          <p:cNvPr id="206" name="Picture 13" descr="Пили на поверхности гонококков"/>
          <p:cNvPicPr/>
          <p:nvPr/>
        </p:nvPicPr>
        <p:blipFill>
          <a:blip r:embed="rId3"/>
          <a:stretch/>
        </p:blipFill>
        <p:spPr>
          <a:xfrm>
            <a:off x="6948360" y="3068640"/>
            <a:ext cx="1944720" cy="1528920"/>
          </a:xfrm>
          <a:prstGeom prst="rect">
            <a:avLst/>
          </a:prstGeom>
          <a:ln w="0">
            <a:noFill/>
          </a:ln>
        </p:spPr>
      </p:pic>
      <p:sp>
        <p:nvSpPr>
          <p:cNvPr id="207" name="Rectangle 15"/>
          <p:cNvSpPr/>
          <p:nvPr/>
        </p:nvSpPr>
        <p:spPr>
          <a:xfrm>
            <a:off x="7524720" y="4652280"/>
            <a:ext cx="1403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или на поверхности гонококка.</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r>
              <a:rPr b="1" lang="ru-RU" sz="1200" spc="-1" strike="noStrike">
                <a:solidFill>
                  <a:srgbClr val="ffffff"/>
                </a:solidFill>
                <a:latin typeface="Arial"/>
              </a:rPr>
              <a:t>СЭМ  х12000</a:t>
            </a:r>
            <a:endParaRPr b="0" lang="en-US" sz="1200" spc="-1" strike="noStrike">
              <a:solidFill>
                <a:srgbClr val="ffffff"/>
              </a:solidFill>
              <a:latin typeface="Arial"/>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457200"/>
            <a:ext cx="70102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a:t>
            </a:r>
            <a:endParaRPr b="0" lang="en-US" sz="3200" spc="-1" strike="noStrike">
              <a:solidFill>
                <a:srgbClr val="ffffff"/>
              </a:solidFill>
              <a:latin typeface="Arial"/>
            </a:endParaRPr>
          </a:p>
        </p:txBody>
      </p:sp>
      <p:sp>
        <p:nvSpPr>
          <p:cNvPr id="210" name="PlaceHolder 2"/>
          <p:cNvSpPr>
            <a:spLocks noGrp="1"/>
          </p:cNvSpPr>
          <p:nvPr>
            <p:ph/>
          </p:nvPr>
        </p:nvSpPr>
        <p:spPr>
          <a:xfrm>
            <a:off x="1186920" y="1412640"/>
            <a:ext cx="5256360" cy="173484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нутриклеточно расположенные диплококки - важнейший признак гонококков. Даже поглощённые (фагоцитированные) лейкоцитами гонококки жизнеспособны и размножаются. Находясь внутри лейкоцитов, эпителиальных клеток, или поглотивших их трихомонад, гонококки защищены от действия антибиотиков </a:t>
            </a:r>
            <a:endParaRPr b="0" lang="en-US" sz="1600" spc="-1" strike="noStrike">
              <a:solidFill>
                <a:srgbClr val="ffffff"/>
              </a:solidFill>
              <a:latin typeface="Arial"/>
            </a:endParaRPr>
          </a:p>
        </p:txBody>
      </p:sp>
      <p:pic>
        <p:nvPicPr>
          <p:cNvPr id="211" name="Picture 7" descr="Фагоцитоз гонококков нейтрофильными лейкоцитами"/>
          <p:cNvPicPr/>
          <p:nvPr/>
        </p:nvPicPr>
        <p:blipFill>
          <a:blip r:embed="rId1"/>
          <a:stretch/>
        </p:blipFill>
        <p:spPr>
          <a:xfrm>
            <a:off x="6300720" y="1341360"/>
            <a:ext cx="2627280" cy="1781280"/>
          </a:xfrm>
          <a:prstGeom prst="rect">
            <a:avLst/>
          </a:prstGeom>
          <a:ln w="0">
            <a:noFill/>
          </a:ln>
        </p:spPr>
      </p:pic>
      <p:sp>
        <p:nvSpPr>
          <p:cNvPr id="212" name="Rectangle 4"/>
          <p:cNvSpPr/>
          <p:nvPr/>
        </p:nvSpPr>
        <p:spPr>
          <a:xfrm>
            <a:off x="7236000" y="3120840"/>
            <a:ext cx="10778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ЭМ, х 8000 </a:t>
            </a:r>
            <a:endParaRPr b="0" lang="en-US" sz="1200" spc="-1" strike="noStrike">
              <a:solidFill>
                <a:srgbClr val="ffffff"/>
              </a:solidFill>
              <a:latin typeface="Arial"/>
            </a:endParaRPr>
          </a:p>
        </p:txBody>
      </p:sp>
      <p:sp>
        <p:nvSpPr>
          <p:cNvPr id="213" name="Rectangle 10"/>
          <p:cNvSpPr/>
          <p:nvPr/>
        </p:nvSpPr>
        <p:spPr>
          <a:xfrm>
            <a:off x="3203640" y="3632400"/>
            <a:ext cx="56894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 действием неблагоприятных факторов гонококки переходят в так называемую L-форму, своеобразный анабиоз, вовремя которого они малочувствительны к антибиотику, вызвавшему их образование. L-формы гонококков обнаруживаются при скрытой  и хронической гонорее. Не диагностируются микроскопически (в "мазке"), но определяются при посеве и, что точнее,  при проведении ПЦР ("ДНК-диагностика")</a:t>
            </a:r>
            <a:endParaRPr b="0" lang="en-US" sz="1600" spc="-1" strike="noStrike">
              <a:solidFill>
                <a:srgbClr val="ffffff"/>
              </a:solidFill>
              <a:latin typeface="Arial"/>
            </a:endParaRPr>
          </a:p>
        </p:txBody>
      </p:sp>
      <p:pic>
        <p:nvPicPr>
          <p:cNvPr id="214" name="Picture 12" descr="L-формы гонококков"/>
          <p:cNvPicPr/>
          <p:nvPr/>
        </p:nvPicPr>
        <p:blipFill>
          <a:blip r:embed="rId2"/>
          <a:stretch/>
        </p:blipFill>
        <p:spPr>
          <a:xfrm>
            <a:off x="468360" y="3573360"/>
            <a:ext cx="2374920" cy="1938600"/>
          </a:xfrm>
          <a:prstGeom prst="rect">
            <a:avLst/>
          </a:prstGeom>
          <a:ln w="0">
            <a:noFill/>
          </a:ln>
        </p:spPr>
      </p:pic>
      <p:sp>
        <p:nvSpPr>
          <p:cNvPr id="215" name="Rectangle 15"/>
          <p:cNvSpPr/>
          <p:nvPr/>
        </p:nvSpPr>
        <p:spPr>
          <a:xfrm>
            <a:off x="1041480" y="5589000"/>
            <a:ext cx="1207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ЭМ, х 20000 </a:t>
            </a:r>
            <a:endParaRPr b="0" lang="en-US" sz="1200" spc="-1" strike="noStrike">
              <a:solidFill>
                <a:srgbClr val="ffffff"/>
              </a:solidFill>
              <a:latin typeface="Arial"/>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692000" y="620280"/>
            <a:ext cx="701028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абораторная диагностика</a:t>
            </a:r>
            <a:endParaRPr b="0" lang="en-US" sz="3200" spc="-1" strike="noStrike">
              <a:solidFill>
                <a:srgbClr val="ffffff"/>
              </a:solidFill>
              <a:latin typeface="Arial"/>
            </a:endParaRPr>
          </a:p>
        </p:txBody>
      </p:sp>
      <p:sp>
        <p:nvSpPr>
          <p:cNvPr id="218" name="PlaceHolder 2"/>
          <p:cNvSpPr>
            <a:spLocks noGrp="1"/>
          </p:cNvSpPr>
          <p:nvPr>
            <p:ph/>
          </p:nvPr>
        </p:nvSpPr>
        <p:spPr>
          <a:xfrm>
            <a:off x="1116000" y="1628280"/>
            <a:ext cx="7570800" cy="446724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стерто протекающей и хронической гонорее, когда в отделяемом слизистых оболочек количество гонококков незначительно, эффективность бактериоскопии падает</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этом случае после первого исследования проводят комбинированную провокацию с последующим 3-дневным бактериоскопическом исследованием</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 получении отрицательного результата целесообразно исследование культуральным методом</a:t>
            </a:r>
            <a:endParaRPr b="0" lang="en-US" sz="2400" spc="-1" strike="noStrike">
              <a:solidFill>
                <a:srgbClr val="ffffff"/>
              </a:solidFill>
              <a:latin typeface="Arial"/>
            </a:endParaRPr>
          </a:p>
        </p:txBody>
      </p:sp>
      <p:sp>
        <p:nvSpPr>
          <p:cNvPr id="2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620640"/>
            <a:ext cx="7216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Культуральная диагностика</a:t>
            </a:r>
            <a:r>
              <a:rPr b="0" lang="ru-RU" sz="3200" spc="-1" strike="noStrike">
                <a:solidFill>
                  <a:srgbClr val="ccecff"/>
                </a:solidFill>
                <a:latin typeface="Arial"/>
              </a:rPr>
              <a:t> ("культура", "посев")</a:t>
            </a:r>
            <a:endParaRPr b="0" lang="en-US" sz="3200" spc="-1" strike="noStrike">
              <a:solidFill>
                <a:srgbClr val="ffffff"/>
              </a:solidFill>
              <a:latin typeface="Arial"/>
            </a:endParaRPr>
          </a:p>
        </p:txBody>
      </p:sp>
      <p:sp>
        <p:nvSpPr>
          <p:cNvPr id="221" name="PlaceHolder 2"/>
          <p:cNvSpPr>
            <a:spLocks noGrp="1"/>
          </p:cNvSpPr>
          <p:nvPr>
            <p:ph/>
          </p:nvPr>
        </p:nvSpPr>
        <p:spPr>
          <a:xfrm>
            <a:off x="1042560" y="1628280"/>
            <a:ext cx="7643880" cy="4464360"/>
          </a:xfrm>
          <a:prstGeom prst="rect">
            <a:avLst/>
          </a:prstGeom>
          <a:noFill/>
          <a:ln w="0">
            <a:noFill/>
          </a:ln>
        </p:spPr>
        <p:txBody>
          <a:bodyPr anchor="t">
            <a:normAutofit fontScale="97000"/>
          </a:bodyPr>
          <a:p>
            <a:pPr marL="332640" indent="-33264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омещение взятого у больного материала на специальные питательные среды, состав которых подобран так, чтобы для выявляемого возбудителя создавались максимально благоприятные условия для развития и размножения. Появление специфических для возбудителя колоний (зон роста) свидетельствует о его присутствии в материале, взятом для исследования. Дополнительно "выращенных в культуре" возбудителей могут исследовать под микроскопом, оценивать на устойчивость к различным группам антибиотиков, "перевивать" на среды с другим составом для исследования ферментативных свойств и т.п. </a:t>
            </a:r>
            <a:endParaRPr b="0" lang="en-US" sz="1900" spc="-1" strike="noStrike">
              <a:solidFill>
                <a:srgbClr val="ffffff"/>
              </a:solidFill>
              <a:latin typeface="Arial"/>
            </a:endParaRPr>
          </a:p>
          <a:p>
            <a:pPr marL="3326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рименяется  при неоднократном получении отрицательного результата при бактериоскопическом исследовании при подозрении на гонорею, наличии в мазке похожих на гонококк микроорганизмов, установлении излеченности гонореи ("контроль излеченности"), подтверждение гонорейного процесса у детей и обследование больных трихомониазом после лечения</a:t>
            </a:r>
            <a:endParaRPr b="0" lang="en-US" sz="1900" spc="-1" strike="noStrike">
              <a:solidFill>
                <a:srgbClr val="ffffff"/>
              </a:solidFill>
              <a:latin typeface="Arial"/>
            </a:endParaRPr>
          </a:p>
        </p:txBody>
      </p:sp>
      <p:sp>
        <p:nvSpPr>
          <p:cNvPr id="2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692000" y="404280"/>
            <a:ext cx="70102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Полимеразная цепная реакция (ПЦР)</a:t>
            </a:r>
            <a:endParaRPr b="0" lang="en-US" sz="2800" spc="-1" strike="noStrike">
              <a:solidFill>
                <a:srgbClr val="ffffff"/>
              </a:solidFill>
              <a:latin typeface="Arial"/>
            </a:endParaRPr>
          </a:p>
        </p:txBody>
      </p:sp>
      <p:sp>
        <p:nvSpPr>
          <p:cNvPr id="224" name="PlaceHolder 2"/>
          <p:cNvSpPr>
            <a:spLocks noGrp="1"/>
          </p:cNvSpPr>
          <p:nvPr>
            <p:ph/>
          </p:nvPr>
        </p:nvSpPr>
        <p:spPr>
          <a:xfrm>
            <a:off x="1042920" y="1557360"/>
            <a:ext cx="7848720" cy="561672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следнее время возрастает значение </a:t>
            </a:r>
            <a:r>
              <a:rPr b="1" lang="ru-RU" sz="1600" spc="-1" strike="noStrike">
                <a:solidFill>
                  <a:srgbClr val="ffffff"/>
                </a:solidFill>
                <a:latin typeface="Arial"/>
              </a:rPr>
              <a:t>молекулярно-биологических методов</a:t>
            </a:r>
            <a:r>
              <a:rPr b="0" lang="ru-RU" sz="1600" spc="-1" strike="noStrike">
                <a:solidFill>
                  <a:srgbClr val="ffffff"/>
                </a:solidFill>
                <a:latin typeface="Arial"/>
              </a:rPr>
              <a:t> для диагностики гонореи. Особенно ценен метод ПЦР для выявления хронической, стёртой, вялотекущей, лечёной гонореи, когда меняются свойства гонококка и, вызывая патологические процессы в организме, он тем не менее "отказывается" расти на питательных средах, и тем самым, "выдавать" себя. В последнее время ПЦР - диагностику стали использовать для идентификации штаммов микроорганизмов с генетической устойчивостью к антибиотикам (тетрациклину, эритромицину), что представляет серьёзную эпидемиологическую проблему</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ЦР</a:t>
            </a:r>
            <a:r>
              <a:rPr b="0" lang="ru-RU" sz="1600" spc="-1" strike="noStrike">
                <a:solidFill>
                  <a:srgbClr val="ffffff"/>
                </a:solidFill>
                <a:latin typeface="Arial"/>
              </a:rPr>
              <a:t> - молекулярно-биологический метод, выявляющий наличие специфических участков ДНК и РНК. Представляет собой циклический процесс увеличения в геометрической прогрессии числа  копий ограниченного синтетическими олигонуклеотидами (праймерами) определенного фрагмента ДНК, протекающий под воздействием термостабильной ДНК-полимеразы, при строго заданных температурных и временных режимах. Используется, в частности, для обнаружения возбудителей различных заболеваний. Отличается исключительно высокой чувствительностью и специфичностью. Оказалась настолько значимой для медицины и биологии, что в 1993 г. за открытие этого метода Кэри Б. Мюллис был удостоен Нобелевской премии</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Классификация</a:t>
            </a:r>
            <a:endParaRPr b="0" lang="en-US" sz="3200" spc="-1" strike="noStrike">
              <a:solidFill>
                <a:srgbClr val="ffffff"/>
              </a:solidFill>
              <a:latin typeface="Arial"/>
            </a:endParaRPr>
          </a:p>
        </p:txBody>
      </p:sp>
      <p:sp>
        <p:nvSpPr>
          <p:cNvPr id="128" name="PlaceHolder 2"/>
          <p:cNvSpPr>
            <a:spLocks noGrp="1"/>
          </p:cNvSpPr>
          <p:nvPr>
            <p:ph/>
          </p:nvPr>
        </p:nvSpPr>
        <p:spPr>
          <a:xfrm>
            <a:off x="1618920" y="1700280"/>
            <a:ext cx="70102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ассификация гонореи включает следующие форм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веж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тр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остр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ялая гонорея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роническая гонорея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атентная (асимптомная) гонорея </a:t>
            </a:r>
            <a:endParaRPr b="0" lang="en-US" sz="2400" spc="-1" strike="noStrike">
              <a:solidFill>
                <a:srgbClr val="ffffff"/>
              </a:solidFill>
              <a:latin typeface="Arial"/>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676160" y="456840"/>
            <a:ext cx="701028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ечение</a:t>
            </a:r>
            <a:endParaRPr b="0" lang="en-US" sz="3200" spc="-1" strike="noStrike">
              <a:solidFill>
                <a:srgbClr val="ffffff"/>
              </a:solidFill>
              <a:latin typeface="Arial"/>
            </a:endParaRPr>
          </a:p>
        </p:txBody>
      </p:sp>
      <p:sp>
        <p:nvSpPr>
          <p:cNvPr id="227" name="PlaceHolder 2"/>
          <p:cNvSpPr>
            <a:spLocks noGrp="1"/>
          </p:cNvSpPr>
          <p:nvPr>
            <p:ph/>
          </p:nvPr>
        </p:nvSpPr>
        <p:spPr>
          <a:xfrm>
            <a:off x="1403280" y="1483920"/>
            <a:ext cx="7283520" cy="482436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успешного лечения гонореи необходимо применять антибиотики или антибактериальные препараты</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обходимо пройти полный курс лечения обоим партнерам</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вступать в половые отношения до полного окончания лечения</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сохранились симптомы, то необходимо повторное обследование</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фекции, обнаруженные после лечения, скорее, будут связаны с повторным заражением, чем с неэффективностью проведенной терапии</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Женщинам рекомендуется повторное обследование через 3-4 месяца после окончания лечения, из-за высокой частоты повторного инфицирования</a:t>
            </a:r>
            <a:endParaRPr b="0" lang="en-US" sz="2000" spc="-1" strike="noStrike">
              <a:solidFill>
                <a:srgbClr val="ffffff"/>
              </a:solidFill>
              <a:latin typeface="Arial"/>
            </a:endParaRPr>
          </a:p>
        </p:txBody>
      </p:sp>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403280" y="836280"/>
            <a:ext cx="701064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рофилактика</a:t>
            </a:r>
            <a:endParaRPr b="0" lang="en-US" sz="3200" spc="-1" strike="noStrike">
              <a:solidFill>
                <a:srgbClr val="ffffff"/>
              </a:solidFill>
              <a:latin typeface="Arial"/>
            </a:endParaRPr>
          </a:p>
        </p:txBody>
      </p:sp>
      <p:sp>
        <p:nvSpPr>
          <p:cNvPr id="230" name="PlaceHolder 2"/>
          <p:cNvSpPr>
            <a:spLocks noGrp="1"/>
          </p:cNvSpPr>
          <p:nvPr>
            <p:ph/>
          </p:nvPr>
        </p:nvSpPr>
        <p:spPr>
          <a:xfrm>
            <a:off x="1547640" y="1844280"/>
            <a:ext cx="7010640" cy="3816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овое воздержание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овые отношения с одним неинфицированным партнером</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ользование презервативов, с исключением любого контакта с возможно инфицированными слизистыми</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56000" y="1371600"/>
            <a:ext cx="62071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пасибо за внимание!</a:t>
            </a:r>
            <a:endParaRPr b="0" lang="en-US" sz="4400" spc="-1" strike="noStrike">
              <a:solidFill>
                <a:srgbClr val="ffffff"/>
              </a:solidFill>
              <a:latin typeface="Arial"/>
            </a:endParaRPr>
          </a:p>
        </p:txBody>
      </p:sp>
      <p:sp>
        <p:nvSpPr>
          <p:cNvPr id="233" name="PlaceHolder 2"/>
          <p:cNvSpPr>
            <a:spLocks noGrp="1"/>
          </p:cNvSpPr>
          <p:nvPr>
            <p:ph type="subTitle"/>
          </p:nvPr>
        </p:nvSpPr>
        <p:spPr>
          <a:xfrm>
            <a:off x="2971440" y="4267080"/>
            <a:ext cx="5791320" cy="14479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2600" spc="-1" strike="noStrike">
              <a:solidFill>
                <a:srgbClr val="ffffff"/>
              </a:solidFill>
              <a:latin typeface="Arial"/>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18920" y="620640"/>
            <a:ext cx="701028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Возбудитель гонореи</a:t>
            </a:r>
            <a:endParaRPr b="0" lang="en-US" sz="3200" spc="-1" strike="noStrike">
              <a:solidFill>
                <a:srgbClr val="ffffff"/>
              </a:solidFill>
              <a:latin typeface="Arial"/>
            </a:endParaRPr>
          </a:p>
        </p:txBody>
      </p:sp>
      <p:sp>
        <p:nvSpPr>
          <p:cNvPr id="131" name="PlaceHolder 2"/>
          <p:cNvSpPr>
            <a:spLocks noGrp="1"/>
          </p:cNvSpPr>
          <p:nvPr>
            <p:ph/>
          </p:nvPr>
        </p:nvSpPr>
        <p:spPr>
          <a:xfrm>
            <a:off x="611280" y="1773360"/>
            <a:ext cx="8532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 Neisseria gonorrhoea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з семейства Neisseriacea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ода Neisseri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грамоотрицательный бобовидный диплококк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икроорганизм внешним видом похожий на зерна кофе</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ыл открыт в 1879 году известным исследователем Альбертом Нейссером</a:t>
            </a:r>
            <a:endParaRPr b="0" lang="en-US" sz="2400" spc="-1" strike="noStrike">
              <a:solidFill>
                <a:srgbClr val="ffffff"/>
              </a:solidFill>
              <a:latin typeface="Arial"/>
            </a:endParaRPr>
          </a:p>
        </p:txBody>
      </p:sp>
      <p:pic>
        <p:nvPicPr>
          <p:cNvPr id="132" name="Picture 5" descr="возбудитель гонореи - гонококк"/>
          <p:cNvPicPr/>
          <p:nvPr/>
        </p:nvPicPr>
        <p:blipFill>
          <a:blip r:embed="rId1"/>
          <a:stretch/>
        </p:blipFill>
        <p:spPr>
          <a:xfrm>
            <a:off x="6084720" y="1700280"/>
            <a:ext cx="2159280" cy="14475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92000" y="620640"/>
            <a:ext cx="701028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ути заражения</a:t>
            </a:r>
            <a:endParaRPr b="0" lang="en-US" sz="3200" spc="-1" strike="noStrike">
              <a:solidFill>
                <a:srgbClr val="ffffff"/>
              </a:solidFill>
              <a:latin typeface="Arial"/>
            </a:endParaRPr>
          </a:p>
        </p:txBody>
      </p:sp>
      <p:sp>
        <p:nvSpPr>
          <p:cNvPr id="135" name="PlaceHolder 2"/>
          <p:cNvSpPr>
            <a:spLocks noGrp="1"/>
          </p:cNvSpPr>
          <p:nvPr>
            <p:ph/>
          </p:nvPr>
        </p:nvSpPr>
        <p:spPr>
          <a:xfrm>
            <a:off x="1116000" y="1699920"/>
            <a:ext cx="7586640" cy="460836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иболее распространенный путь заражения – половой. Хотя заражение возможно при любом контакте слизистых здорового человека с секретом слизистых или спермой инфицированного челове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роятность заразится при оральном сексе несколько ниже, но не исключена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разится гонореей бытовым путем достаточно сложно, хотя бактерия может сохраняться на неповрежденной, сухой коже около 4 часов</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онорея передается от больной матери к ребенку при прохождении через родовые пути, что может привести к развитию заболеваний глаз, пневмонии и другим серьезным состояниям</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лное излечение от гонореи не исключает повторного заражения!</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92000" y="62028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Инкубационный период гонореи</a:t>
            </a:r>
            <a:endParaRPr b="0" lang="en-US" sz="3200" spc="-1" strike="noStrike">
              <a:solidFill>
                <a:srgbClr val="ffffff"/>
              </a:solidFill>
              <a:latin typeface="Arial"/>
            </a:endParaRPr>
          </a:p>
        </p:txBody>
      </p:sp>
      <p:sp>
        <p:nvSpPr>
          <p:cNvPr id="138" name="PlaceHolder 2"/>
          <p:cNvSpPr>
            <a:spLocks noGrp="1"/>
          </p:cNvSpPr>
          <p:nvPr>
            <p:ph/>
          </p:nvPr>
        </p:nvSpPr>
        <p:spPr>
          <a:xfrm>
            <a:off x="1692000" y="177336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 женщин – от 5 до 10 суто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 мужчин обычно составляет от 2 до 5 суто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 бленнорее - от нескольких часов до 2-3 дней</a:t>
            </a:r>
            <a:br>
              <a:rPr sz="2800"/>
            </a:b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620280"/>
            <a:ext cx="701028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имптомы</a:t>
            </a:r>
            <a:r>
              <a:rPr b="1" lang="ru-RU" sz="3200" spc="-1" strike="noStrike">
                <a:solidFill>
                  <a:srgbClr val="ffffff"/>
                </a:solidFill>
                <a:latin typeface="Arial"/>
              </a:rPr>
              <a:t> </a:t>
            </a:r>
            <a:r>
              <a:rPr b="1" lang="ru-RU" sz="3200" spc="-1" strike="noStrike">
                <a:solidFill>
                  <a:srgbClr val="ccecff"/>
                </a:solidFill>
                <a:latin typeface="Arial"/>
              </a:rPr>
              <a:t>гонореи</a:t>
            </a:r>
            <a:endParaRPr b="0" lang="en-US" sz="3200" spc="-1" strike="noStrike">
              <a:solidFill>
                <a:srgbClr val="ffffff"/>
              </a:solidFill>
              <a:latin typeface="Arial"/>
            </a:endParaRPr>
          </a:p>
        </p:txBody>
      </p:sp>
      <p:sp>
        <p:nvSpPr>
          <p:cNvPr id="141" name="PlaceHolder 2"/>
          <p:cNvSpPr>
            <a:spLocks noGrp="1"/>
          </p:cNvSpPr>
          <p:nvPr>
            <p:ph/>
          </p:nvPr>
        </p:nvSpPr>
        <p:spPr>
          <a:xfrm>
            <a:off x="4787640" y="1628640"/>
            <a:ext cx="4187880" cy="4392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Симптомы гонореи у женщин:</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желтовато-белые выделения из влагалища </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езненность и чувство жжения при мочеиспускании</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кровянистые выделения в межменструальный период</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ь в нижних отделах живота и пояснице</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дискомфорт при половом акте</a:t>
            </a:r>
            <a:endParaRPr b="0" lang="en-US" sz="1900" spc="-1" strike="noStrike">
              <a:solidFill>
                <a:srgbClr val="ffffff"/>
              </a:solidFill>
              <a:latin typeface="Arial"/>
            </a:endParaRPr>
          </a:p>
          <a:p>
            <a:pPr lvl="1" marL="7430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cecff"/>
                </a:solidFill>
                <a:latin typeface="Arial"/>
              </a:rPr>
              <a:t>  </a:t>
            </a:r>
            <a:endParaRPr b="0" lang="en-US" sz="1900" spc="-1" strike="noStrike">
              <a:solidFill>
                <a:srgbClr val="ffffff"/>
              </a:solidFill>
              <a:latin typeface="Arial"/>
            </a:endParaRPr>
          </a:p>
          <a:p>
            <a:pPr lvl="1" marL="7430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cecff"/>
                </a:solidFill>
                <a:latin typeface="Arial"/>
              </a:rPr>
              <a:t>У большинства женщин инфекция протекает бессимптомно!</a:t>
            </a:r>
            <a:endParaRPr b="0" lang="en-US" sz="1900" spc="-1" strike="noStrike">
              <a:solidFill>
                <a:srgbClr val="ffffff"/>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pic>
        <p:nvPicPr>
          <p:cNvPr id="142" name="Picture 11" descr="hh"/>
          <p:cNvPicPr/>
          <p:nvPr/>
        </p:nvPicPr>
        <p:blipFill>
          <a:blip r:embed="rId1"/>
          <a:stretch/>
        </p:blipFill>
        <p:spPr>
          <a:xfrm>
            <a:off x="1187280" y="2205000"/>
            <a:ext cx="3429000" cy="3373560"/>
          </a:xfrm>
          <a:prstGeom prst="rect">
            <a:avLst/>
          </a:prstGeom>
          <a:ln w="0">
            <a:noFill/>
          </a:ln>
        </p:spPr>
      </p:pic>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ccecff"/>
                </a:solidFill>
                <a:latin typeface="Arial"/>
              </a:rPr>
              <a:t>Симптомы</a:t>
            </a:r>
            <a:r>
              <a:rPr b="1" lang="ru-RU" sz="3900" spc="-1" strike="noStrike">
                <a:solidFill>
                  <a:srgbClr val="ffffff"/>
                </a:solidFill>
                <a:latin typeface="Arial"/>
              </a:rPr>
              <a:t> </a:t>
            </a:r>
            <a:r>
              <a:rPr b="1" lang="ru-RU" sz="3900" spc="-1" strike="noStrike">
                <a:solidFill>
                  <a:srgbClr val="ccecff"/>
                </a:solidFill>
                <a:latin typeface="Arial"/>
              </a:rPr>
              <a:t>гонореи</a:t>
            </a:r>
            <a:endParaRPr b="0" lang="en-US" sz="3900" spc="-1" strike="noStrike">
              <a:solidFill>
                <a:srgbClr val="ffffff"/>
              </a:solidFill>
              <a:latin typeface="Arial"/>
            </a:endParaRPr>
          </a:p>
        </p:txBody>
      </p:sp>
      <p:sp>
        <p:nvSpPr>
          <p:cNvPr id="145" name="PlaceHolder 2"/>
          <p:cNvSpPr>
            <a:spLocks noGrp="1"/>
          </p:cNvSpPr>
          <p:nvPr>
            <p:ph/>
          </p:nvPr>
        </p:nvSpPr>
        <p:spPr>
          <a:xfrm>
            <a:off x="1676160" y="1981080"/>
            <a:ext cx="3429000" cy="4114800"/>
          </a:xfrm>
          <a:prstGeom prst="rect">
            <a:avLst/>
          </a:prstGeom>
          <a:noFill/>
          <a:ln w="0">
            <a:noFill/>
          </a:ln>
        </p:spPr>
        <p:txBody>
          <a:bodyPr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имптомы гонореи у мужчин:</a:t>
            </a:r>
            <a:endParaRPr b="0" lang="en-US" sz="20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желтовато-белые выделения из мочеиспускательного канала </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ь и чувство жжения при мочеиспускании</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частые позывы на мочеиспускание</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езненность и припухлость яичек</a:t>
            </a:r>
            <a:endParaRPr b="0" lang="en-US" sz="1900" spc="-1" strike="noStrike">
              <a:solidFill>
                <a:srgbClr val="ffffff"/>
              </a:solidFill>
              <a:latin typeface="Arial"/>
            </a:endParaRPr>
          </a:p>
          <a:p>
            <a:pPr lvl="1" marL="74304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cecff"/>
                </a:solidFill>
                <a:latin typeface="Arial"/>
              </a:rPr>
              <a:t>   </a:t>
            </a:r>
            <a:endParaRPr b="0" lang="en-US" sz="1700" spc="-1" strike="noStrike">
              <a:solidFill>
                <a:srgbClr val="ffffff"/>
              </a:solidFill>
              <a:latin typeface="Arial"/>
            </a:endParaRPr>
          </a:p>
          <a:p>
            <a:pPr lvl="1" marL="74304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cecff"/>
                </a:solidFill>
                <a:latin typeface="Arial"/>
              </a:rPr>
              <a:t>Нередко протекает бессимптомно!</a:t>
            </a:r>
            <a:endParaRPr b="0" lang="en-US" sz="1700" spc="-1" strike="noStrike">
              <a:solidFill>
                <a:srgbClr val="ffffff"/>
              </a:solidFill>
              <a:latin typeface="Arial"/>
            </a:endParaRPr>
          </a:p>
          <a:p>
            <a:pPr marL="343080" indent="0" algn="ctr">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pic>
        <p:nvPicPr>
          <p:cNvPr id="146" name="Picture 9" descr="gg"/>
          <p:cNvPicPr/>
          <p:nvPr/>
        </p:nvPicPr>
        <p:blipFill>
          <a:blip r:embed="rId1"/>
          <a:stretch/>
        </p:blipFill>
        <p:spPr>
          <a:xfrm>
            <a:off x="5292720" y="1916280"/>
            <a:ext cx="3051360" cy="411480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17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имптомы</a:t>
            </a:r>
            <a:r>
              <a:rPr b="1" lang="ru-RU" sz="3200" spc="-1" strike="noStrike">
                <a:solidFill>
                  <a:srgbClr val="ffffff"/>
                </a:solidFill>
                <a:latin typeface="Arial"/>
              </a:rPr>
              <a:t> </a:t>
            </a:r>
            <a:r>
              <a:rPr b="1" lang="ru-RU" sz="3200" spc="-1" strike="noStrike">
                <a:solidFill>
                  <a:srgbClr val="ccecff"/>
                </a:solidFill>
                <a:latin typeface="Arial"/>
              </a:rPr>
              <a:t>гонореи</a:t>
            </a:r>
            <a:endParaRPr b="0" lang="en-US" sz="3200" spc="-1" strike="noStrike">
              <a:solidFill>
                <a:srgbClr val="ffffff"/>
              </a:solidFill>
              <a:latin typeface="Arial"/>
            </a:endParaRPr>
          </a:p>
        </p:txBody>
      </p:sp>
      <p:sp>
        <p:nvSpPr>
          <p:cNvPr id="149" name="PlaceHolder 2"/>
          <p:cNvSpPr>
            <a:spLocks noGrp="1"/>
          </p:cNvSpPr>
          <p:nvPr>
            <p:ph/>
          </p:nvPr>
        </p:nvSpPr>
        <p:spPr>
          <a:xfrm>
            <a:off x="971640" y="1844280"/>
            <a:ext cx="7488000" cy="418644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a:t>
            </a:r>
            <a:r>
              <a:rPr b="0" lang="ru-RU" sz="2400" spc="-1" strike="noStrike">
                <a:solidFill>
                  <a:srgbClr val="ffffff"/>
                </a:solidFill>
                <a:latin typeface="Arial"/>
              </a:rPr>
              <a:t>фарингит (поражение глотки) часто протекает бессимптомно. Иногда он проявляется болью в горле</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проктит (поражение прямой кишки) обычно протекает бессимптомно. Возможна боль в прямой кишке, зуд и выделения из прямой кишки</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фарингит и гонококковый проктит встречаются как у мужчин (преимущественно гомосексуальной и бисексуальной ориентации), так и у женщин</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8T06:56:14Z</dcterms:created>
  <dc:creator>Наталья</dc:creator>
  <dc:description/>
  <dc:language>en-US</dc:language>
  <cp:lastModifiedBy>LEGION</cp:lastModifiedBy>
  <dcterms:modified xsi:type="dcterms:W3CDTF">2015-02-13T11:13:53Z</dcterms:modified>
  <cp:revision>84</cp:revision>
  <dc:subject/>
  <dc:title>ГОНОРЕЯ</dc:title>
</cp:coreProperties>
</file>