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2E60-7728-414C-A0FE-485EA449013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54f32.htm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bd465.htm" TargetMode="External"/><Relationship Id="rId3" Type="http://schemas.openxmlformats.org/officeDocument/2006/relationships/hyperlink" Target="http://humbio.ru/humbio/physiology/000997ac.htm" TargetMode="External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1256e5.htm" TargetMode="External"/><Relationship Id="rId3" Type="http://schemas.openxmlformats.org/officeDocument/2006/relationships/hyperlink" Target="http://humbio.ru/humbio/immunology/imm-gal/00045fb3.htm" TargetMode="External"/><Relationship Id="rId4" Type="http://schemas.openxmlformats.org/officeDocument/2006/relationships/slide" Target="../slides/slide7.xml"/><Relationship Id="rId5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bbe9.htm" TargetMode="External"/><Relationship Id="rId2" Type="http://schemas.openxmlformats.org/officeDocument/2006/relationships/hyperlink" Target="http://humbio.ru/humbio/immunology/imm-gal/0009a383.htm" TargetMode="External"/><Relationship Id="rId3" Type="http://schemas.openxmlformats.org/officeDocument/2006/relationships/hyperlink" Target="http://humbio.ru/humbio/immunology/imm-gal/00093dd0.htm" TargetMode="External"/><Relationship Id="rId4" Type="http://schemas.openxmlformats.org/officeDocument/2006/relationships/hyperlink" Target="http://humbio.ru/humbio/immunology/imm-gal/00154e33.htm" TargetMode="External"/><Relationship Id="rId5" Type="http://schemas.openxmlformats.org/officeDocument/2006/relationships/hyperlink" Target="http://humbio.ru/humbio/immunology/imm-gal/000b13fc.htm" TargetMode="External"/><Relationship Id="rId6" Type="http://schemas.openxmlformats.org/officeDocument/2006/relationships/slide" Target="../slides/slide9.xml"/><Relationship Id="rId7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унолог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3C26-613D-4706-BF23-39E4E4C419C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го внимания заслуживают взгляды Бернета на иммунитет как на такую реакцию организма, которая отличает все "свое" от всего "чужого". После доказательств Питером Медаваром иммунной природы отторжения чужеродного трансплантата и накопления фактов по иммунологии злокачественных новообразований стало очевидным, что иммунная реакция развивается не только на микробные антигены, но и тогда, когда имеются любые, пусть незначительные антигенные различия между организмом и тем биологическим материалом (трансплантатом, злокачественной опухолью), с которым встречается организм.  Строго говоря, ученые прошлого, включая Мечникова, понимали, что предназначение иммунитета - не только борьба с инфекционными агентами. Однако интересы иммунологов первой половины нашего столетия концентрировались в основном на разработке проблем инфекционной патологии. Необходимо было время, чтобы естественный ход научного познания позволил выдвинуть концепцию роли иммунитета в индивидуальном развитии. И автором нового обобщения был Бер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2BB9-2D85-4437-9B98-661D3A40256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вклад в становление современной иммунологии внесли также Роберт Кох (Robert Koch; 1843-1910), открывший возбудитель туберкулеза и описавший кожную туберкулиновую реакцию; Жюль Борде (Jules Bordet; 1870-1961), сделавший важный вклад в понимание комплемент -зависимого лизиса бактерий; Карл Ландштейнер (Karl Landsteiner; 1868-1943), получивший Нобелевскую премию за открытие групп крови и разработавший подходы к изучению тонкой специфичности антител с помощью гаптенов; Родни Портер (Rodney Porter; 1917-1985) и Джеральд Эдельман (Gerald Edelman; 1929), изучившие структуру антител; Джордж Снелл (George Snell), Барух Венацерраф (Baruj Benacerraf) и Жан Доссе (Jean Dausset), описавшие главный комплекс гистосовместимости у животных и человека и открывшие гены иммунного от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231A-116C-40A3-B421-5EA28149650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как определенное направление исследований возникла из практической необходимости борьбы с инфекционными заболева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тся свидетельства тому, что первые прививки оспы проводили в Китае за тысячу лет до Рождества Христова. Инокуляция содержимого оспенных пустул здоровым людям с целью их защиты от острой формы заболевания распространилась затем в Индию, Малую Азию, Европу, на Кавказ. Однако прием искусственного заражения натуральной (человеческой) оспой не во всех случаях давал положительные результаты. Иногда после инокуляции отмечалась острая форма заболевания и даже смер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EBDD-634D-4DC3-B3DB-4BAB0CEA85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мену инокуляции пришел метод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вакцин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т лат. vacca - корова), разработанный в конце XVIIIв. английским врачом Э.Дженнером (E.Jenner). Он обратил внимание на тот факт, что молочницы, ухаживавшие за больными животными, иногда заболевали в крайне слабой форме оспой коров, но при этом никогда не болели натуральной оспой. Подобное наблюдение давало в руки исследователя реальную возможность борьбы с болезнью людей. В 1796г., через 30 лет после начала своих изысканий, Э.Дженнер решился апробировать метод вакцинации коровьей оспой. Эксперимент прошел успешно, и с тех пор способ вакцинации по Э.Дженнеру нашел широкое применение во все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05DA-CE4E-44FC-B8B9-9A4B2044BB2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 инфекционной иммунологии связывают с именем выдающегося французского ученого Луи Пастера (Louis Paster). Первый шаг к целенаправленному поиску вакцинных препаратов, создающих устойчивый иммунитет к инфекции, был сделан после хорошо известного наблюдения Пастера над патогенностью возбудителя куриной холеры. Было показано, что заражение кур ослабленной (аттенуированной) культурой возбудителя создает невосприимчивость к патогенному микробу (1880г). В 1881г. Пастер продемонстрировал эффективный подход к иммунизации коров против сибирской язвы, а в 1885г. ему удалось показать возможность защиты людей от беше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65FA-F9D2-4AB4-A95D-B301CBF2C70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40-50-м годам нашего столетия принципы вакцинации, заложенные Пастером, нашли свое проявление в создании целого арсенала вакцин против самого широкого набора инфекционных заболе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Пастер считается основателем инфекционной иммунологии, он ничего не знал о факторах, включенных в процесс защиты от инфекции. Первыми, кто пролил свет на один из механизмов невосприимчивости к инфекции, были Беринг (Behring) и Китазато (Kitasato). Они продемонстрировали, что сыворотка от мышей, предварительно иммунизированных столбнячным токсином, введенная интактным животным, защищает последних от смертельной дозы токсина. Образовавшийся в результате иммунизации сывороточный фактор - антитоксин - представлял собой первое обнаруженное специфическо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антите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Работы этих ученых положили начало изучению механизм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гуморального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E83D-8A42-447F-87BD-E7EF56F6BFB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83 году он сделал первое сообщение по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агоцитарной (клеточной) теории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съезде врачей и естествоиспытателей в Одессе. Мечников утверждал тогда, что способность подвижных клеток беспозвоночных животных поглощать пищевые частицы, т.е. участвовать в пищеварении, есть фактически их способность поглощать вообще все "чужое", не свойственное организму: различных микробов, инертных частиц, отмирающих частей тела. У человека также есть амебоидные подвижные клетк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крофа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нейтрофи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Но "едят" они пищу особого рода - патогенных микробов. Эволюция сохранила поглотительную способность амебоидных клеток от одноклеточных животных до высших позвоночных, включая человека. Однако функция этих клеток у высокоорганизованных многоклеточных стала иной - это борьба с микробной агресс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60FC-F234-4B9E-8DC2-39C12E54A16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ллельно с Мечниковым разрабатывал свою теорию иммунной защиты от инфекции немецкий фармаколог Пауль Эрлих. Он знал о том факте, что в сыворотке крови животных, зараженных бактериями, появляются белковые вещества, способные убивать патогенные микроорганизмы. Эти вещества впоследствии были названы им "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антител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". Самое характерное свойство антител - это их ярко выраженная специфичность. Образовавшись как защитное средство против одного микроорганизма, они нейтрализуют и разрушают только его, оставаясь безразличными к другим. Пытаясь понять это явление специфичности, Эрлих выдвинул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теорию "боковых цепей"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которой антитела в виде рецепторов предсуществуют на поверхности клеток. При это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антиг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кроорганизмов выступает в качестве селективного фактора. Вступив в контакт со специфическим рецептором, он обеспечивает усиленную продукцию и выход в циркуляцию только этого конкретного рецептора (антител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0D58-8148-4982-B107-9E07041844D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зорливость Эрлиха поражает, поскольку с некоторыми изменениями эта в целом умозрительная теория подтвердилась в настоящее врем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еори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клеточ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фагоцитарная)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гумор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 период своего возникновения стояли на антагонистических позициях. Школы Мечникова и Эрлиха боролись за научную истину, не подозревая, что каждый удар и каждое его парирование сближало противников. В 1908г. обоим ученым одновременно была присуждена Нобелевская прем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15AA-9FE3-45A4-AD79-FBC4958FCDF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он в значительной степени определил лицо современной иммунологии. Рассматривая иммунитет как реакцию, направленную на дифференциацию всего "своего" от всего "чужого", он поднял вопрос о значении иммунных механизмов в поддержании генетической целостности организма в период индивидуального (онтогенетического) развития. Именно Бернет обратил внимание н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имфоц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к на основного участника специфического иммунного реагирования, дав ему название "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иммуноц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". Именно Бернет предсказал, а англичанин Питер Медавар и чех Милан Гашек экспериментально подтвердили состояние, противоположное иммунной реактивност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толеран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Именно Бернет указал на особую рол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тим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формировании иммунного ответа. И наконец, Бернет остался в истории иммунологии как создател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клонально-селекционной теории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Формула такой теории проста: один клон лимфоцитов способен реагировать только на одну конкретную антигенную специфическую детерминан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04EA-9C6D-42CA-B9FC-91BEE582F61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A42E0-A729-4A6D-9787-F4B476E7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F8C1C-C8D0-4747-89CF-2BD702CC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5BB26-0735-41C4-BC30-3BA13918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78E91-D631-4DA5-9989-F7653BAC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4502-FFF6-4A24-B091-BBB315E9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6404-7418-4A1D-A176-7CA874F1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6EC1-8FF1-48EC-87A8-541E8AEC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6ABC-644E-4AEA-9269-326BB5A5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1190-E1E3-4E05-B251-9B03257E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909C-A2D2-42C0-8C36-DDCFAD59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0585-8FE9-415D-BBCA-BB968239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F1224-75CD-4D51-B57D-C2659B88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18F0-A8F8-4905-A577-ECB02C77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3D84-2664-4A8C-AD36-055D2AD2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BD15-2827-4CD3-BEA3-6323EF4C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0C45-F1ED-446A-B62D-D559D5C5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4E31-37FF-41B8-938A-1D7CDE65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CB8D-7E27-4677-BF74-C2180105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78B8-6830-4951-8A17-9B621563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72E56-0C21-4C47-B2AE-BAD6C460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6FECB-BEBE-43BD-AB85-A07CA444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D075C-737B-462D-9590-29BBAB0D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B385A-5005-4C46-B57D-7A441884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C94F3-8F1D-44F6-A9DC-6CEE83C2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5D76-626F-4CD2-BF35-0E753CA0CAB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E9C6-DC3B-4AED-B14C-17141925F4D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28_&#1092;&#1077;&#1074;&#1088;&#1072;&#1083;&#1103;" TargetMode="External"/><Relationship Id="rId4" Type="http://schemas.openxmlformats.org/officeDocument/2006/relationships/hyperlink" Target="http://ru.wikipedia.org/wiki/1915" TargetMode="External"/><Relationship Id="rId5" Type="http://schemas.openxmlformats.org/officeDocument/2006/relationships/hyperlink" Target="http://ru.wikipedia.org/wiki/&#1056;&#1080;&#1086;-&#1076;&#1077;-&#1046;&#1072;&#1085;&#1077;&#1081;&#1088;&#1086;" TargetMode="External"/><Relationship Id="rId6" Type="http://schemas.openxmlformats.org/officeDocument/2006/relationships/hyperlink" Target="http://ru.wikipedia.org/wiki/2_&#1086;&#1082;&#1090;&#1103;&#1073;&#1088;&#1103;" TargetMode="External"/><Relationship Id="rId7" Type="http://schemas.openxmlformats.org/officeDocument/2006/relationships/hyperlink" Target="http://ru.wikipedia.org/wiki/1987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3eaa.htm" TargetMode="External"/><Relationship Id="rId2" Type="http://schemas.openxmlformats.org/officeDocument/2006/relationships/hyperlink" Target="http://humbio.ru/humbio/immunology/imm-gal/0006290a.htm" TargetMode="External"/><Relationship Id="rId3" Type="http://schemas.openxmlformats.org/officeDocument/2006/relationships/hyperlink" Target="http://humbio.ru/humbio/immunology/imm-gal/00049f5d.htm" TargetMode="External"/><Relationship Id="rId4" Type="http://schemas.openxmlformats.org/officeDocument/2006/relationships/hyperlink" Target="http://humbio.ru/humbio/immunology/imm-gal/0007256e.htm" TargetMode="External"/><Relationship Id="rId5" Type="http://schemas.openxmlformats.org/officeDocument/2006/relationships/hyperlink" Target="http://humbio.ru/humbio/immunology/imm-gal/0001499b.htm" TargetMode="External"/><Relationship Id="rId6" Type="http://schemas.openxmlformats.org/officeDocument/2006/relationships/hyperlink" Target="http://upload.wikimedia.org/wikipedia/commons/8/8d/RobertKoch_cropped.jpg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54f32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2/Louis_Pasteu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bd465.htm" TargetMode="External"/><Relationship Id="rId3" Type="http://schemas.openxmlformats.org/officeDocument/2006/relationships/hyperlink" Target="http://humbio.ru/humbio/physiology/000997ac.htm" TargetMode="External"/><Relationship Id="rId4" Type="http://schemas.openxmlformats.org/officeDocument/2006/relationships/hyperlink" Target="http://upload.wikimedia.org/wikipedia/commons/4/4f/Ilja_Iljitsch_Metschnikow_Nadar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humbio.ru/humbio/immunology/imm-gal/0008008e.ht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1256e5.htm" TargetMode="External"/><Relationship Id="rId3" Type="http://schemas.openxmlformats.org/officeDocument/2006/relationships/hyperlink" Target="http://humbio.ru/humbio/immunology/imm-gal/00045fb3.htm" TargetMode="External"/><Relationship Id="rId4" Type="http://schemas.openxmlformats.org/officeDocument/2006/relationships/hyperlink" Target="http://upload.wikimedia.org/wikipedia/commons/4/45/Paul_Ehrlich.pn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hyperlink" Target="http://upload.wikimedia.org/wikipedia/commons/d/d6/Paul_Ehrlich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bbe9.htm" TargetMode="External"/><Relationship Id="rId2" Type="http://schemas.openxmlformats.org/officeDocument/2006/relationships/hyperlink" Target="http://humbio.ru/humbio/immunology/imm-gal/0009a383.htm" TargetMode="External"/><Relationship Id="rId3" Type="http://schemas.openxmlformats.org/officeDocument/2006/relationships/hyperlink" Target="http://humbio.ru/humbio/immunology/imm-gal/00093dd0.htm" TargetMode="External"/><Relationship Id="rId4" Type="http://schemas.openxmlformats.org/officeDocument/2006/relationships/hyperlink" Target="http://humbio.ru/humbio/immunology/imm-gal/00154e33.htm" TargetMode="External"/><Relationship Id="rId5" Type="http://schemas.openxmlformats.org/officeDocument/2006/relationships/hyperlink" Target="http://humbio.ru/humbio/immunology/imm-gal/000b13fc.htm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cc"/>
                </a:solidFill>
                <a:latin typeface="Tahoma"/>
              </a:rPr>
              <a:t>Иммунология</a:t>
            </a:r>
            <a:br>
              <a:rPr sz="8000"/>
            </a:b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572000" y="6488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тель Большаков С. 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843280" y="549000"/>
            <a:ext cx="5843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обого внимания заслуживают взгляды Бернета на иммунитет как на такую реакцию организма, которая отличает все "свое" от всего "чужого". После доказательств Питером Медаваром иммунной природы отторжения чужеродного трансплантата и накопления фактов по иммунологии злокачественных новообразований стало очевидным, что иммунная реакция развивается не только на микробные антигены, но и тогда, когда имеются любые, пусть незначительные антигенные различия между организмом и тем биологическим материалом (трансплантатом, злокачественной опухолью), с которым встречается организм.  Строго говоря, ученые прошлого, включая Мечникова, понимали, что предназначение иммунитета - не только борьба с инфекционными агентами. Однако интересы иммунологов первой половины нашего столетия концентрировались в основном на разработке проблем инфекционной патологии. Необходимо было время, чтобы естественный ход научного познания позволил выдвинуть концепцию роли иммунитета в индивидуальном развитии. И автором нового обобщения был Берне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7" descr="Питер Медавар (Peter Medawar)"/>
          <p:cNvPicPr/>
          <p:nvPr/>
        </p:nvPicPr>
        <p:blipFill>
          <a:blip r:embed="rId1"/>
          <a:stretch/>
        </p:blipFill>
        <p:spPr>
          <a:xfrm>
            <a:off x="324000" y="549360"/>
            <a:ext cx="2431800" cy="3024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9"/>
          <p:cNvSpPr/>
          <p:nvPr/>
        </p:nvSpPr>
        <p:spPr>
          <a:xfrm>
            <a:off x="250920" y="3689640"/>
            <a:ext cx="288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тер Брайан Медава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2"/>
              </a:rPr>
              <a:t>англ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Sir Peter Brian Medawar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(р.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3"/>
              </a:rPr>
              <a:t>28 феврал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4"/>
              </a:rPr>
              <a:t>191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5"/>
              </a:rPr>
              <a:t>Рио-де-Жанейр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у.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6"/>
              </a:rPr>
              <a:t>2 октябр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7"/>
              </a:rPr>
              <a:t>1987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— английский биолог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ьшой вклад в становление современной иммунологии внесли также Роберт Кох (Robert Koch; 1843-1910), открывший возбудитель туберкулеза и описавший кожную туберкулиновую реакцию; Жюль Борде (Jules Bordet; 1870-1961), сделавший важный вклад в пониман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комплемен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зависимого лизиса бактерий; Карл Ландштейнер (Karl Landsteiner; 1868-1943), получивший Нобелевскую премию за открытие групп крови и разработавший подходы к изучению тонкой специфичности антител с помощью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аптен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 Родни Портер (Rodney Porter; 1917-1985) и Джеральд Эдельман (Gerald Edelman; 1929), изучившие структуру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антите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 Джордж Снелл (George Snell), Барух Венацерраф (Baruj Benacerraf) и Жан Доссе (Jean Dausset), описавш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главный комплекс гистосовместим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у животных и человека и открывш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гены иммунного отв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7" descr="Файл:RobertKoch cropped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0920" y="476280"/>
            <a:ext cx="1981080" cy="25146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613440" y="3357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берт Ко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мунология как определенное направление исследований возникла из практической необходимости борьбы с инфекционными заболевания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ются свидетельства тому, что первые прививки оспы проводили в Китае за тысячу лет до Рождества Христова. Инокуляция содержимого оспенных пустул здоровым людям с целью их защиты от острой формы заболевания распространилась затем в Индию, Малую Азию, Европу, на Кавказ. Однако прием искусственного заражения натуральной (человеческой) оспой не во всех случаях давал положительные результаты. Иногда после инокуляции отмечалась острая форма заболевания и даже смер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4000" y="404640"/>
            <a:ext cx="512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мену инокуляции пришел метод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вакцин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от лат. vacca - корова), разработанный в конце XVIIIв. английским врачом Э.Дженнером (E.Jenner). Он обратил внимание на тот факт, что молочницы, ухаживавшие за больными животными, иногда заболевали в крайне слабой форме оспой коров, но при этом никогда не болели натуральной оспой. Подобное наблюдение давало в руки исследователя реальную возможность борьбы с болезнью людей. В 1796г., через 30 лет после начала своих изысканий, Э.Дженнер решился апробировать метод вакцинации коровьей оспой. Эксперимент прошел успешно, и с тех пор способ вакцинации по Э.Дженнеру нашел широкое применение во всем мир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6" descr="ospa3"/>
          <p:cNvPicPr/>
          <p:nvPr/>
        </p:nvPicPr>
        <p:blipFill>
          <a:blip r:embed="rId2"/>
          <a:stretch/>
        </p:blipFill>
        <p:spPr>
          <a:xfrm>
            <a:off x="324000" y="476280"/>
            <a:ext cx="3233520" cy="3816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1252800" y="45813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E.Jen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24000" y="404280"/>
            <a:ext cx="476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ждение инфекционной иммунологии связывают с именем выдающегося французского ученого Луи Пастера (Louis Paster). Первый шаг к целенаправленному поиску вакцинных препаратов, создающих устойчивый иммунитет к инфекции, был сделан после хорошо известного наблюдения Пастера над патогенностью возбудителя куриной холеры. Было показано, что заражение кур ослабленной (аттенуированной) культурой возбудителя создает невосприимчивость к патогенному микробу (1880г). В 1881г. Пастер продемонстрировал эффективный подход к иммунизации коров против сибирской язвы, а в 1885г. ему удалось показать возможность защиты людей от бешен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Файл:Louis Pasteu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76280"/>
            <a:ext cx="357156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 40-50-м годам нашего столетия принципы вакцинации, заложенные Пастером, нашли свое проявление в создании целого арсенала вакцин против самого широкого набора инфекционных заболева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тя Пастер считается основателем инфекционной иммунологии, он ничего не знал о факторах, включенных в процесс защиты от инфекции. Первыми, кто пролил свет на один из механизмов невосприимчивости к инфекции, были Беринг (Behring) и Китазато (Kitasato). Они продемонстрировали, что сыворотка от мышей, предварительно иммунизированных столбнячным токсином, введенная интактным животным, защищает последних от смертельной дозы токсина. Образовавшийся в результате иммунизации сывороточный фактор - антитоксин - представлял собой первое обнаруженное специфическо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антител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Работы этих ученых положили начало изучению механизмов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уморального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2565360"/>
            <a:ext cx="8686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83 году он сделал первое сообщение по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фагоцитарной (клеточной) теории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съезде врачей и естествоиспытателей в Одессе. Мечников утверждал тогда, что способность подвижных клеток беспозвоночных животных поглощать пищевые частицы, т.е. участвовать в пищеварении, есть фактически их способность поглощать вообще все "чужое", не свойственное организму: различных микробов, инертных частиц, отмирающих частей тела. У человека также есть амебоидные подвижные клетк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макрофаг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нейтрофил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Но "едят" они пищу особого рода - патогенных микробов. Эволюция сохранила поглотительную способность амебоидных клеток от одноклеточных животных до высших позвоночных, включая человека. Однако функция этих клеток у высокоорганизованных многоклеточных стала иной - это борьба с микробной агресси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Файл:Ilja Iljitsch Metschnikow Nadar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260280"/>
            <a:ext cx="3024000" cy="2154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3995640" y="260280"/>
            <a:ext cx="419112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 истоков познания вопросов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клеточного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тоял русский биолог-эволюционист Илья Мечн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908000" y="549000"/>
            <a:ext cx="6778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раллельно с Мечниковым разрабатывал свою теорию иммунной защиты от инфекции немецкий фармаколог Пауль Эрлих. Он знал о том факте, что в сыворотке крови животных, зараженных бактериями, появляются белковые вещества, способные убивать патогенные микроорганизмы. Эти вещества впоследствии были названы им "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 антитела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". Самое характерное свойство антител - это их ярко выраженная специфичность. Образовавшись как защитное средство против одного микроорганизма, они нейтрализуют и разрушают только его, оставаясь безразличными к другим. Пытаясь понять это явление специфичности, Эрлих выдвинул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теорию "боковых цепей"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по которой антитела в виде рецепторов предсуществуют на поверхности клеток. При этом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антиге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микроорганизмов выступает в качестве селективного фактора. Вступив в контакт со специфическим рецептором, он обеспечивает усиленную продукцию и выход в циркуляцию только этого конкретного рецептора (антитела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7" descr="Файл:Paul Ehrlich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960" y="1557360"/>
            <a:ext cx="1689120" cy="23893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780000" y="404280"/>
            <a:ext cx="4906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зорливость Эрлиха поражает, поскольку с некоторыми изменениями эта в целом умозрительная теория подтвердилась в настоящее врем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е теори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клеточ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фагоцитарная) и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умораль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в период своего возникновения стояли на антагонистических позициях. Школы Мечникова и Эрлиха боролись за научную истину, не подозревая, что каждый удар и каждое его парирование сближало противников. В 1908г. обоим ученым одновременно была присуждена Нобелевская прем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7" descr="Файл:Paul Ehrlich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476280"/>
            <a:ext cx="3247920" cy="3600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324000" y="4109040"/>
            <a:ext cx="354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уль Эрлих. Портрет на банкноте в 200 марок 1996 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700000" y="475920"/>
            <a:ext cx="59864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енно он в значительной степени определил лицо современной иммунологии. Рассматривая иммунитет как реакцию, направленную на дифференциацию всего "своего" от всего "чужого", он поднял вопрос о значении иммунных механизмов в поддержании генетической целостности организма в период индивидуального (онтогенетического) развития. Именно Бернет обратил внимание на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лимфоци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как на основного участника специфического иммунного реагирования, дав ему название "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 иммуноци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". Именно Бернет предсказал, а англичанин Питер Медавар и чех Милан Гашек экспериментально подтвердили состояние, противоположное иммунной реактивност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толерант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Именно Бернет указал на особую роль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тиму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формировании иммунного ответа. И наконец, Бернет остался в истории иммунологии как создатель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клонально-селекционной теории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Формула такой теории проста: один клон лимфоцитов способен реагировать только на одну конкретную антигенную специфическую детерминант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3b92a30ca276c"/>
          <p:cNvPicPr/>
          <p:nvPr/>
        </p:nvPicPr>
        <p:blipFill>
          <a:blip r:embed="rId6"/>
          <a:stretch/>
        </p:blipFill>
        <p:spPr>
          <a:xfrm>
            <a:off x="468360" y="476280"/>
            <a:ext cx="2090520" cy="3024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9"/>
          <p:cNvSpPr/>
          <p:nvPr/>
        </p:nvSpPr>
        <p:spPr>
          <a:xfrm>
            <a:off x="179280" y="3716280"/>
            <a:ext cx="273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ый этап развития иммунологии связан в первую очередь с именем выдающегося австралийского ученого М.Бернета (Macfarlane Burnet; 1899-1985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7:28:07Z</dcterms:created>
  <dc:creator>User</dc:creator>
  <dc:description/>
  <dc:language>en-US</dc:language>
  <cp:lastModifiedBy>LEGION</cp:lastModifiedBy>
  <dcterms:modified xsi:type="dcterms:W3CDTF">2015-02-13T11:14:20Z</dcterms:modified>
  <cp:revision>9</cp:revision>
  <dc:subject/>
  <dc:title>Иммунология: исторический обзор </dc:title>
</cp:coreProperties>
</file>