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4AD5-40DC-48F2-828F-A1A51CB979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54f32.htm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bd465.htm" TargetMode="External"/><Relationship Id="rId3" Type="http://schemas.openxmlformats.org/officeDocument/2006/relationships/hyperlink" Target="http://humbio.ru/humbio/physiology/000997ac.htm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1256e5.htm" TargetMode="External"/><Relationship Id="rId3" Type="http://schemas.openxmlformats.org/officeDocument/2006/relationships/hyperlink" Target="http://humbio.ru/humbio/immunology/imm-gal/00045fb3.htm" TargetMode="External"/><Relationship Id="rId4" Type="http://schemas.openxmlformats.org/officeDocument/2006/relationships/slide" Target="../slides/slide7.xml"/><Relationship Id="rId5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bbe9.htm" TargetMode="External"/><Relationship Id="rId2" Type="http://schemas.openxmlformats.org/officeDocument/2006/relationships/hyperlink" Target="http://humbio.ru/humbio/immunology/imm-gal/0009a383.htm" TargetMode="External"/><Relationship Id="rId3" Type="http://schemas.openxmlformats.org/officeDocument/2006/relationships/hyperlink" Target="http://humbio.ru/humbio/immunology/imm-gal/00093dd0.htm" TargetMode="External"/><Relationship Id="rId4" Type="http://schemas.openxmlformats.org/officeDocument/2006/relationships/hyperlink" Target="http://humbio.ru/humbio/immunology/imm-gal/00154e33.htm" TargetMode="External"/><Relationship Id="rId5" Type="http://schemas.openxmlformats.org/officeDocument/2006/relationships/hyperlink" Target="http://humbio.ru/humbio/immunology/imm-gal/000b13fc.htm" TargetMode="External"/><Relationship Id="rId6" Type="http://schemas.openxmlformats.org/officeDocument/2006/relationships/slide" Target="../slides/slide9.xml"/><Relationship Id="rId7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1860-DEDD-4C97-A87C-0142BF2976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го внимания заслуживают взгляды Бернета на иммунитет как на такую реакцию организма, которая отличает все "свое" от всего "чужого". После доказательств Питером Медаваром иммунной природы отторжения чужеродного трансплантата и накопления фактов по иммунологии злокачественных новообразований стало очевидным, что иммунная реакция развивается не только на микробные антигены, но и тогда, когда имеются любые, пусть незначительные антигенные различия между организмом и тем биологическим материалом (трансплантатом, злокачественной опухолью), с которым встречается организм.  Строго говоря, ученые прошлого, включая Мечникова, понимали, что предназначение иммунитета - не только борьба с инфекционными агентами. Однако интересы иммунологов первой половины нашего столетия концентрировались в основном на разработке проблем инфекционной патологии. Необходимо было время, чтобы естественный ход научного познания позволил выдвинуть концепцию роли иммунитета в индивидуальном развитии. И автором нового обобщения был Бер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06C4-9FC5-4063-A97F-43DF2FBC16A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вклад в становление современной иммунологии внесли также Роберт Кох (Robert Koch; 1843-1910), открывший возбудитель туберкулеза и описавший кожную туберкулиновую реакцию; Жюль Борде (Jules Bordet; 1870-1961), сделавший важный вклад в понимание комплемент -зависимого лизиса бактерий; Карл Ландштейнер (Karl Landsteiner; 1868-1943), получивший Нобелевскую премию за открытие групп крови и разработавший подходы к изучению тонкой специфичности антител с помощью гаптенов; Родни Портер (Rodney Porter; 1917-1985) и Джеральд Эдельман (Gerald Edelman; 1929), изучившие структуру антител; Джордж Снелл (George Snell), Барух Венацерраф (Baruj Benacerraf) и Жан Доссе (Jean Dausset), описавшие главный комплекс гистосовместимости у животных и человека и открывшие гены иммунного от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AF92-C80D-4E31-9B51-289BBEFF3E3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как определенное направление исследований возникла из практической необходимости борьбы с инфекционными заболев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тся свидетельства тому, что первые прививки оспы проводили в Китае за тысячу лет до Рождества Христова. Инокуляция содержимого оспенных пустул здоровым людям с целью их защиты от острой формы заболевания распространилась затем в Индию, Малую Азию, Европу, на Кавказ. Однако прием искусственного заражения натуральной (человеческой) оспой не во всех случаях давал положительные результаты. Иногда после инокуляции отмечалась острая форма заболевания и даже смер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5009-0924-44E1-8444-E12A85B9CF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мену инокуляции пришел метод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вакцин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т лат. vacca - корова), разработанный в конце XVIIIв. английским врачом Э.Дженнером (E.Jenner). Он обратил внимание на тот факт, что молочницы, ухаживавшие за больными животными, иногда заболевали в крайне слабой форме оспой коров, но при этом никогда не болели натуральной оспой. Подобное наблюдение давало в руки исследователя реальную возможность борьбы с болезнью людей. В 1796г., через 30 лет после начала своих изысканий, Э.Дженнер решился апробировать метод вакцинации коровьей оспой. Эксперимент прошел успешно, и с тех пор способ вакцинации по Э.Дженнеру нашел широкое применение во все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9428-CFFC-49A2-9A50-42C5E910334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 инфекционной иммунологии связывают с именем выдающегося французского ученого Луи Пастера (Louis Paster). Первый шаг к целенаправленному поиску вакцинных препаратов, создающих устойчивый иммунитет к инфекции, был сделан после хорошо известного наблюдения Пастера над патогенностью возбудителя куриной холеры. Было показано, что заражение кур ослабленной (аттенуированной) культурой возбудителя создает невосприимчивость к патогенному микробу (1880г). В 1881г. Пастер продемонстрировал эффективный подход к иммунизации коров против сибирской язвы, а в 1885г. ему удалось показать возможность защиты людей от беше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3787-0844-4351-B5FD-A3E14E3FBA1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40-50-м годам нашего столетия принципы вакцинации, заложенные Пастером, нашли свое проявление в создании целого арсенала вакцин против самого широкого набора инфекционных заболе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астер считается основателем инфекционной иммунологии, он ничего не знал о факторах, включенных в процесс защиты от инфекции. Первыми, кто пролил свет на один из механизмов невосприимчивости к инфекции, были Беринг (Behring) и Китазато (Kitasato). Они продемонстрировали, что сыворотка от мышей, предварительно иммунизированных столбнячным токсином, введенная интактным животным, защищает последних от смертельной дозы токсина. Образовавшийся в результате иммунизации сывороточный фактор - антитоксин - представлял собой первое обнаруженное специфическо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нтите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Работы этих ученых положили начало изучению механизм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уморального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C365-BBF7-4685-A6F6-62148A1A04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3 году он сделал первое сообщение п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агоцитарной (клеточной) теории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съезде врачей и естествоиспытателей в Одессе. Мечников утверждал тогда, что способность подвижных клеток беспозвоночных животных поглощать пищевые частицы, т.е. участвовать в пищеварении, есть фактически их способность поглощать вообще все "чужое", не свойственное организму: различных микробов, инертных частиц, отмирающих частей тела. У человека также есть амебоидные подвижные клетк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крофа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ейтрофи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Но "едят" они пищу особого рода - патогенных микробов. Эволюция сохранила поглотительную способность амебоидных клеток от одноклеточных животных до высших позвоночных, включая человека. Однако функция этих клеток у высокоорганизованных многоклеточных стала иной - это борьба с микробной агресс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AFF0-B89A-49F3-A428-D9B60C5BBE9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ллельно с Мечниковым разрабатывал свою теорию иммунной защиты от инфекции немецкий фармаколог Пауль Эрлих. Он знал о том факте, что в сыворотке крови животных, зараженных бактериями, появляются белковые вещества, способные убивать патогенные микроорганизмы. Эти вещества впоследствии были названы им "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антител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". Самое характерное свойство антител - это их ярко выраженная специфичность. Образовавшись как защитное средство против одного микроорганизма, они нейтрализуют и разрушают только его, оставаясь безразличными к другим. Пытаясь понять это явление специфичности, Эрлих выдвинул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еорию "боковых цепей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которой антитела в виде рецепторов предсуществуют на поверхности клеток. При это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нтиг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кроорганизмов выступает в качестве селективного фактора. Вступив в контакт со специфическим рецептором, он обеспечивает усиленную продукцию и выход в циркуляцию только этого конкретного рецептора (антител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D91D-E4BE-4F60-9787-D0FFE776D7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зорливость Эрлиха поражает, поскольку с некоторыми изменениями эта в целом умозрительная теория подтвердилась в настоящее врем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еори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клеточ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фагоцитарная)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умор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 период своего возникновения стояли на антагонистических позициях. Школы Мечникова и Эрлиха боролись за научную истину, не подозревая, что каждый удар и каждое его парирование сближало противников. В 1908г. обоим ученым одновременно была присуждена Нобелевская прем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CE7A-6F90-432F-876D-E8DDA14C7BE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он в значительной степени определил лицо современной иммунологии. Рассматривая иммунитет как реакцию, направленную на дифференциацию всего "своего" от всего "чужого", он поднял вопрос о значении иммунных механизмов в поддержании генетической целостности организма в период индивидуального (онтогенетического) развития. Именно Бернет обратил внимание н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имфоц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к на основного участника специфического иммунного реагирования, дав ему название "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иммуноц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". Именно Бернет предсказал, а англичанин Питер Медавар и чех Милан Гашек экспериментально подтвердили состояние, противоположное иммунной реактивност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толеран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Именно Бернет указал на особую рол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тим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формировании иммунного ответа. И наконец, Бернет остался в истории иммунологии как создател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лонально-селекционной теории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Формула такой теории проста: один клон лимфоцитов способен реагировать только на одну конкретную антигенную специфическую детерминан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A7DE-D9E4-4B17-9914-F07AC4FE5EA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194A4-6DCA-42BB-8B5A-5C7DDC96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F4504-4296-4692-83AD-B3A6A2B2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9F7C-FFD4-4789-9016-DA96457A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7AAD4-0379-4033-A64B-833B9FF0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8232-3362-4CC6-BCEB-4148462A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B536-DE7A-41E7-A62A-8A6731FD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08A5-1B43-4737-BDF1-7C372743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7FB9-5400-4E0D-8DD2-77B68399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6D37-BE7D-452B-8DE1-5D5CDB84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3909-82B7-4B03-914B-5D0C2E6A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CC03-08DE-4A58-A49A-B93E28DE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DFEB8-296E-4C09-9FFA-ACACDE15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9804-F013-432C-8D57-0D981219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22A3-B7CF-45D1-9C60-F3921F2C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436A-2A18-4463-814D-4462081B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EC4C-1EDB-4518-8A0B-58B46FFE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F278-21C0-459A-BD7D-1D89B3C7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33E7-3698-4F1D-A773-27401417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DFFB-A5D9-4265-A816-75C4A652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E32C3-E472-4914-9A49-82AB8A01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7AA14-D525-416B-89B5-25A4288F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176A4-0757-4584-90DC-3482AD65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3F2F-C0A1-454E-A72E-415EEED0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465CA-1AFF-4233-AF60-0C489324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D48B-793A-4309-BE8E-BAF1A04B1DE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41AB-25EA-4FE6-9FBD-0DD6AF579A9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28_&#1092;&#1077;&#1074;&#1088;&#1072;&#1083;&#1103;" TargetMode="External"/><Relationship Id="rId4" Type="http://schemas.openxmlformats.org/officeDocument/2006/relationships/hyperlink" Target="http://ru.wikipedia.org/wiki/1915" TargetMode="External"/><Relationship Id="rId5" Type="http://schemas.openxmlformats.org/officeDocument/2006/relationships/hyperlink" Target="http://ru.wikipedia.org/wiki/&#1056;&#1080;&#1086;-&#1076;&#1077;-&#1046;&#1072;&#1085;&#1077;&#1081;&#1088;&#1086;" TargetMode="External"/><Relationship Id="rId6" Type="http://schemas.openxmlformats.org/officeDocument/2006/relationships/hyperlink" Target="http://ru.wikipedia.org/wiki/2_&#1086;&#1082;&#1090;&#1103;&#1073;&#1088;&#1103;" TargetMode="External"/><Relationship Id="rId7" Type="http://schemas.openxmlformats.org/officeDocument/2006/relationships/hyperlink" Target="http://ru.wikipedia.org/wiki/1987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3eaa.htm" TargetMode="External"/><Relationship Id="rId2" Type="http://schemas.openxmlformats.org/officeDocument/2006/relationships/hyperlink" Target="http://humbio.ru/humbio/immunology/imm-gal/0006290a.htm" TargetMode="External"/><Relationship Id="rId3" Type="http://schemas.openxmlformats.org/officeDocument/2006/relationships/hyperlink" Target="http://humbio.ru/humbio/immunology/imm-gal/00049f5d.htm" TargetMode="External"/><Relationship Id="rId4" Type="http://schemas.openxmlformats.org/officeDocument/2006/relationships/hyperlink" Target="http://humbio.ru/humbio/immunology/imm-gal/0007256e.htm" TargetMode="External"/><Relationship Id="rId5" Type="http://schemas.openxmlformats.org/officeDocument/2006/relationships/hyperlink" Target="http://humbio.ru/humbio/immunology/imm-gal/0001499b.htm" TargetMode="External"/><Relationship Id="rId6" Type="http://schemas.openxmlformats.org/officeDocument/2006/relationships/hyperlink" Target="http://upload.wikimedia.org/wikipedia/commons/8/8d/RobertKoch_cropped.jpg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54f32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2/Louis_Pasteu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bd465.htm" TargetMode="External"/><Relationship Id="rId3" Type="http://schemas.openxmlformats.org/officeDocument/2006/relationships/hyperlink" Target="http://humbio.ru/humbio/physiology/000997ac.htm" TargetMode="External"/><Relationship Id="rId4" Type="http://schemas.openxmlformats.org/officeDocument/2006/relationships/hyperlink" Target="http://upload.wikimedia.org/wikipedia/commons/4/4f/Ilja_Iljitsch_Metschnikow_Nadar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humbio.ru/humbio/immunology/imm-gal/0008008e.ht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1256e5.htm" TargetMode="External"/><Relationship Id="rId3" Type="http://schemas.openxmlformats.org/officeDocument/2006/relationships/hyperlink" Target="http://humbio.ru/humbio/immunology/imm-gal/00045fb3.htm" TargetMode="External"/><Relationship Id="rId4" Type="http://schemas.openxmlformats.org/officeDocument/2006/relationships/hyperlink" Target="http://upload.wikimedia.org/wikipedia/commons/4/45/Paul_Ehrlich.pn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hyperlink" Target="http://upload.wikimedia.org/wikipedia/commons/d/d6/Paul_Ehrlich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bbe9.htm" TargetMode="External"/><Relationship Id="rId2" Type="http://schemas.openxmlformats.org/officeDocument/2006/relationships/hyperlink" Target="http://humbio.ru/humbio/immunology/imm-gal/0009a383.htm" TargetMode="External"/><Relationship Id="rId3" Type="http://schemas.openxmlformats.org/officeDocument/2006/relationships/hyperlink" Target="http://humbio.ru/humbio/immunology/imm-gal/00093dd0.htm" TargetMode="External"/><Relationship Id="rId4" Type="http://schemas.openxmlformats.org/officeDocument/2006/relationships/hyperlink" Target="http://humbio.ru/humbio/immunology/imm-gal/00154e33.htm" TargetMode="External"/><Relationship Id="rId5" Type="http://schemas.openxmlformats.org/officeDocument/2006/relationships/hyperlink" Target="http://humbio.ru/humbio/immunology/imm-gal/000b13fc.htm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cc"/>
                </a:solidFill>
                <a:latin typeface="Tahoma"/>
              </a:rPr>
              <a:t>Иммунология</a:t>
            </a:r>
            <a:br>
              <a:rPr sz="8000"/>
            </a:b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572000" y="6488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тель Большаков С. 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843280" y="549000"/>
            <a:ext cx="5843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обого внимания заслуживают взгляды Бернета на иммунитет как на такую реакцию организма, которая отличает все "свое" от всего "чужого". После доказательств Питером Медаваром иммунной природы отторжения чужеродного трансплантата и накопления фактов по иммунологии злокачественных новообразований стало очевидным, что иммунная реакция развивается не только на микробные антигены, но и тогда, когда имеются любые, пусть незначительные антигенные различия между организмом и тем биологическим материалом (трансплантатом, злокачественной опухолью), с которым встречается организм.  Строго говоря, ученые прошлого, включая Мечникова, понимали, что предназначение иммунитета - не только борьба с инфекционными агентами. Однако интересы иммунологов первой половины нашего столетия концентрировались в основном на разработке проблем инфекционной патологии. Необходимо было время, чтобы естественный ход научного познания позволил выдвинуть концепцию роли иммунитета в индивидуальном развитии. И автором нового обобщения был Берне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7" descr="Питер Медавар (Peter Medawar)"/>
          <p:cNvPicPr/>
          <p:nvPr/>
        </p:nvPicPr>
        <p:blipFill>
          <a:blip r:embed="rId1"/>
          <a:stretch/>
        </p:blipFill>
        <p:spPr>
          <a:xfrm>
            <a:off x="324000" y="549360"/>
            <a:ext cx="2431800" cy="3024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9"/>
          <p:cNvSpPr/>
          <p:nvPr/>
        </p:nvSpPr>
        <p:spPr>
          <a:xfrm>
            <a:off x="250920" y="3689640"/>
            <a:ext cx="288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тер Брайан Медава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2"/>
              </a:rPr>
              <a:t>англ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Sir Peter Brian Medawa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(р.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3"/>
              </a:rPr>
              <a:t>28 февра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4"/>
              </a:rPr>
              <a:t>191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5"/>
              </a:rPr>
              <a:t>Рио-де-Жанейр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у.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6"/>
              </a:rPr>
              <a:t>2 октябр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7"/>
              </a:rPr>
              <a:t>198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— английский биоло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ьшой вклад в становление современной иммунологии внесли также Роберт Кох (Robert Koch; 1843-1910), открывший возбудитель туберкулеза и описавший кожную туберкулиновую реакцию; Жюль Борде (Jules Bordet; 1870-1961), сделавший важный вклад в пониман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комплемен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зависимого лизиса бактерий; Карл Ландштейнер (Karl Landsteiner; 1868-1943), получивший Нобелевскую премию за открытие групп крови и разработавший подходы к изучению тонкой специфичности антител с помощью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аптен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Родни Портер (Rodney Porter; 1917-1985) и Джеральд Эдельман (Gerald Edelman; 1929), изучившие структуру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нтите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Джордж Снелл (George Snell), Барух Венацерраф (Baruj Benacerraf) и Жан Доссе (Jean Dausset), описавш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главный комплекс гистосовместим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у животных и человека и открывш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гены иммунного отв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7" descr="Файл:RobertKoch cropped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476280"/>
            <a:ext cx="1981080" cy="25146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613440" y="3357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берт Ко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мунология как определенное направление исследований возникла из практической необходимости борьбы с инфекционными заболевания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ются свидетельства тому, что первые прививки оспы проводили в Китае за тысячу лет до Рождества Христова. Инокуляция содержимого оспенных пустул здоровым людям с целью их защиты от острой формы заболевания распространилась затем в Индию, Малую Азию, Европу, на Кавказ. Однако прием искусственного заражения натуральной (человеческой) оспой не во всех случаях давал положительные результаты. Иногда после инокуляции отмечалась острая форма заболевания и даже смер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4000" y="404640"/>
            <a:ext cx="512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мену инокуляции пришел метод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вакцин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от лат. vacca - корова), разработанный в конце XVIIIв. английским врачом Э.Дженнером (E.Jenner). Он обратил внимание на тот факт, что молочницы, ухаживавшие за больными животными, иногда заболевали в крайне слабой форме оспой коров, но при этом никогда не болели натуральной оспой. Подобное наблюдение давало в руки исследователя реальную возможность борьбы с болезнью людей. В 1796г., через 30 лет после начала своих изысканий, Э.Дженнер решился апробировать метод вакцинации коровьей оспой. Эксперимент прошел успешно, и с тех пор способ вакцинации по Э.Дженнеру нашел широкое применение во всем мир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ospa3"/>
          <p:cNvPicPr/>
          <p:nvPr/>
        </p:nvPicPr>
        <p:blipFill>
          <a:blip r:embed="rId2"/>
          <a:stretch/>
        </p:blipFill>
        <p:spPr>
          <a:xfrm>
            <a:off x="324000" y="476280"/>
            <a:ext cx="3233520" cy="3816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252800" y="45813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E.Jen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24000" y="404280"/>
            <a:ext cx="476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ждение инфекционной иммунологии связывают с именем выдающегося французского ученого Луи Пастера (Louis Paster). Первый шаг к целенаправленному поиску вакцинных препаратов, создающих устойчивый иммунитет к инфекции, был сделан после хорошо известного наблюдения Пастера над патогенностью возбудителя куриной холеры. Было показано, что заражение кур ослабленной (аттенуированной) культурой возбудителя создает невосприимчивость к патогенному микробу (1880г). В 1881г. Пастер продемонстрировал эффективный подход к иммунизации коров против сибирской язвы, а в 1885г. ему удалось показать возможность защиты людей от бешен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Файл:Louis Pasteu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76280"/>
            <a:ext cx="357156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 40-50-м годам нашего столетия принципы вакцинации, заложенные Пастером, нашли свое проявление в создании целого арсенала вакцин против самого широкого набора инфекционных заболева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тя Пастер считается основателем инфекционной иммунологии, он ничего не знал о факторах, включенных в процесс защиты от инфекции. Первыми, кто пролил свет на один из механизмов невосприимчивости к инфекции, были Беринг (Behring) и Китазато (Kitasato). Они продемонстрировали, что сыворотка от мышей, предварительно иммунизированных столбнячным токсином, введенная интактным животным, защищает последних от смертельной дозы токсина. Образовавшийся в результате иммунизации сывороточный фактор - антитоксин - представлял собой первое обнаруженное специфическо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антител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Работы этих ученых положили начало изучению механизмов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уморального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565360"/>
            <a:ext cx="8686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83 году он сделал первое сообщение по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фагоцитарной (клеточной) теории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съезде врачей и естествоиспытателей в Одессе. Мечников утверждал тогда, что способность подвижных клеток беспозвоночных животных поглощать пищевые частицы, т.е. участвовать в пищеварении, есть фактически их способность поглощать вообще все "чужое", не свойственное организму: различных микробов, инертных частиц, отмирающих частей тела. У человека также есть амебоидные подвижные клетк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макрофаг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нейтрофил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Но "едят" они пищу особого рода - патогенных микробов. Эволюция сохранила поглотительную способность амебоидных клеток от одноклеточных животных до высших позвоночных, включая человека. Однако функция этих клеток у высокоорганизованных многоклеточных стала иной - это борьба с микробной агресси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Файл:Ilja Iljitsch Metschnikow Nada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260280"/>
            <a:ext cx="3024000" cy="2154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995640" y="260280"/>
            <a:ext cx="419112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 истоков познания вопросов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клеточного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тоял русский биолог-эволюционист Илья Меч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908000" y="549000"/>
            <a:ext cx="6778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аллельно с Мечниковым разрабатывал свою теорию иммунной защиты от инфекции немецкий фармаколог Пауль Эрлих. Он знал о том факте, что в сыворотке крови животных, зараженных бактериями, появляются белковые вещества, способные убивать патогенные микроорганизмы. Эти вещества впоследствии были названы им "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 антител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". Самое характерное свойство антител - это их ярко выраженная специфичность. Образовавшись как защитное средство против одного микроорганизма, они нейтрализуют и разрушают только его, оставаясь безразличными к другим. Пытаясь понять это явление специфичности, Эрлих выдвинул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теорию "боковых цепей"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о которой антитела в виде рецепторов предсуществуют на поверхности клеток. При этом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нтиге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микроорганизмов выступает в качестве селективного фактора. Вступив в контакт со специфическим рецептором, он обеспечивает усиленную продукцию и выход в циркуляцию только этого конкретного рецептора (антитела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Файл:Paul Ehrlich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960" y="1557360"/>
            <a:ext cx="1689120" cy="23893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780000" y="404280"/>
            <a:ext cx="4906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зорливость Эрлиха поражает, поскольку с некоторыми изменениями эта в целом умозрительная теория подтвердилась в настоящее врем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е теори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клеточ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фагоцитарная) и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умораль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в период своего возникновения стояли на антагонистических позициях. Школы Мечникова и Эрлиха боролись за научную истину, не подозревая, что каждый удар и каждое его парирование сближало противников. В 1908г. обоим ученым одновременно была присуждена Нобелевская прем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7" descr="Файл:Paul Ehrlic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476280"/>
            <a:ext cx="3247920" cy="3600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324000" y="4109040"/>
            <a:ext cx="354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уль Эрлих. Портрет на банкноте в 200 марок 1996 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700000" y="475920"/>
            <a:ext cx="5986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нно он в значительной степени определил лицо современной иммунологии. Рассматривая иммунитет как реакцию, направленную на дифференциацию всего "своего" от всего "чужого", он поднял вопрос о значении иммунных механизмов в поддержании генетической целостности организма в период индивидуального (онтогенетического) развития. Именно Бернет обратил внимание на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лимфоци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как на основного участника специфического иммунного реагирования, дав ему название "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 иммуноци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". Именно Бернет предсказал, а англичанин Питер Медавар и чех Милан Гашек экспериментально подтвердили состояние, противоположное иммунной реактивност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толерант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Именно Бернет указал на особую роль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тиму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формировании иммунного ответа. И наконец, Бернет остался в истории иммунологии как создатель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клонально-селекционной теории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Формула такой теории проста: один клон лимфоцитов способен реагировать только на одну конкретную антигенную специфическую детерминант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3b92a30ca276c"/>
          <p:cNvPicPr/>
          <p:nvPr/>
        </p:nvPicPr>
        <p:blipFill>
          <a:blip r:embed="rId6"/>
          <a:stretch/>
        </p:blipFill>
        <p:spPr>
          <a:xfrm>
            <a:off x="468360" y="476280"/>
            <a:ext cx="2090520" cy="3024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179280" y="3716280"/>
            <a:ext cx="27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ый этап развития иммунологии связан в первую очередь с именем выдающегося австралийского ученого М.Бернета (Macfarlane Burnet; 1899-1985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7:28:07Z</dcterms:created>
  <dc:creator>User</dc:creator>
  <dc:description/>
  <dc:language>en-US</dc:language>
  <cp:lastModifiedBy>LEGION</cp:lastModifiedBy>
  <dcterms:modified xsi:type="dcterms:W3CDTF">2015-02-13T11:14:20Z</dcterms:modified>
  <cp:revision>9</cp:revision>
  <dc:subject/>
  <dc:title>Иммунология: исторический обзор </dc:title>
</cp:coreProperties>
</file>