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73F6-CF63-4E17-AE27-E4123AFD29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slide" Target="../slides/slide7.xml"/><Relationship Id="rId5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slide" Target="../slides/slide9.xml"/><Relationship Id="rId7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2EB4-200F-4C2F-A556-D5917710A7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839C-3738-461B-A55B-57D72EDC75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комплемент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гаптенов; Родни Портер (Rodney Porter; 1917-1985) и Джеральд Эдельман (Gerald Edelman; 1929), изучившие структуру антител; Джордж Снелл (George Snell), Барух Венацерраф (Baruj Benacerraf) и Жан Доссе (Jean Dausset), описавшие главный комплекс гистосовместимости у животных и человека и открывшие гены иммунно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9D61-F0DF-4BF3-AD95-0F4E90D23D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9131-1E64-48E9-AFB3-A6DF239961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мену инокуляции пришел метод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акц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D9D1-A290-4084-B434-B0AB235B2E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DBFD-4C17-4FD2-AFE9-E9A911CDD0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нтите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боты этих ученых положили начало изучению механизм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ого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EEB9-0D8E-4324-8092-09551260FA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3 году он сделал первое сообщение п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агоцитарной (клеточной)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крофа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ейтрофи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F811-9595-451C-A871-ACD76C0BA9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антител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орию "боковых цепей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нтиг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83F1-9D19-48A4-AD0D-01E7C8E643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еори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леточ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фагоцитарная)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3921-5773-42F7-8D3E-9D5DEAA587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имф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иммун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олеран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Именно Бернет указал на особую ро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и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лонально-селекционной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A3AF-BFD2-47EE-95E6-7942FAB37E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A657-43CB-4F4D-A500-910DD31E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8F36-0E84-4934-97BC-7A02A6BE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C808-216F-45B1-A6C0-D06BDE33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0482E-0909-492B-8A0E-88BB7720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9904-C5ED-4012-9CF7-A73DC566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174D-8285-4931-9065-0674A8B4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C42F-AC40-4C09-90BC-4F49775A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7ED7-AD0F-42C9-9196-7E5B2E2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C03A-740B-4950-8CB9-A2B945B2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B902-8AE5-4B6B-B254-C5AC3A7E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ACD7-CCCC-42B1-87D1-BDE084E1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FC91-B848-4EB2-BB47-9379BEAB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F069-3548-46A0-B03B-12B37DE4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E6E5-7AC9-4A30-9166-F6557738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7C1-48B5-427E-A1E4-FF2828DF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4DC6-62CC-41D0-9CBB-0A98DBC8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CE1A-58D2-4FFC-B1B2-F5C86514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3FE3-269B-4BD5-B014-538480CC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7F62-5C38-4B26-BB94-8928E509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F46E-7EF8-46AE-8843-92F4BA91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86106-63A8-4A01-B094-9D457FB7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2102-C2FB-4DF0-8D75-86D5722F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0157-A3A1-4EB2-A355-6B561527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5C120-A2E3-48A3-8778-4ED37F1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2A2B-3EAD-4FAD-85F9-43DC67E876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AFBF-7FEC-42BD-A221-FEBADE720D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28_&#1092;&#1077;&#1074;&#1088;&#1072;&#1083;&#1103;" TargetMode="External"/><Relationship Id="rId4" Type="http://schemas.openxmlformats.org/officeDocument/2006/relationships/hyperlink" Target="http://ru.wikipedia.org/wiki/1915" TargetMode="External"/><Relationship Id="rId5" Type="http://schemas.openxmlformats.org/officeDocument/2006/relationships/hyperlink" Target="http://ru.wikipedia.org/wiki/&#1056;&#1080;&#1086;-&#1076;&#1077;-&#1046;&#1072;&#1085;&#1077;&#1081;&#1088;&#1086;" TargetMode="External"/><Relationship Id="rId6" Type="http://schemas.openxmlformats.org/officeDocument/2006/relationships/hyperlink" Target="http://ru.wikipedia.org/wiki/2_&#1086;&#1082;&#1090;&#1103;&#1073;&#1088;&#1103;" TargetMode="External"/><Relationship Id="rId7" Type="http://schemas.openxmlformats.org/officeDocument/2006/relationships/hyperlink" Target="http://ru.wikipedia.org/wiki/1987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3eaa.htm" TargetMode="External"/><Relationship Id="rId2" Type="http://schemas.openxmlformats.org/officeDocument/2006/relationships/hyperlink" Target="http://humbio.ru/humbio/immunology/imm-gal/0006290a.htm" TargetMode="External"/><Relationship Id="rId3" Type="http://schemas.openxmlformats.org/officeDocument/2006/relationships/hyperlink" Target="http://humbio.ru/humbio/immunology/imm-gal/00049f5d.htm" TargetMode="External"/><Relationship Id="rId4" Type="http://schemas.openxmlformats.org/officeDocument/2006/relationships/hyperlink" Target="http://humbio.ru/humbio/immunology/imm-gal/0007256e.htm" TargetMode="External"/><Relationship Id="rId5" Type="http://schemas.openxmlformats.org/officeDocument/2006/relationships/hyperlink" Target="http://humbio.ru/humbio/immunology/imm-gal/0001499b.htm" TargetMode="External"/><Relationship Id="rId6" Type="http://schemas.openxmlformats.org/officeDocument/2006/relationships/hyperlink" Target="http://upload.wikimedia.org/wikipedia/commons/8/8d/RobertKoch_cropped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2/Louis_Pasteu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hyperlink" Target="http://upload.wikimedia.org/wikipedia/commons/4/4f/Ilja_Iljitsch_Metschnikow_Nadar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humbio.ru/humbio/immunology/imm-gal/0008008e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hyperlink" Target="http://upload.wikimedia.org/wikipedia/commons/4/45/Paul_Ehrlich.pn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hyperlink" Target="http://upload.wikimedia.org/wikipedia/commons/d/d6/Paul_Ehrlich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ahoma"/>
              </a:rPr>
              <a:t>Иммунология</a:t>
            </a: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572000" y="6488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тель Большаков С.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43280" y="549000"/>
            <a:ext cx="5843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7" descr="Питер Медавар (Peter Medawar)"/>
          <p:cNvPicPr/>
          <p:nvPr/>
        </p:nvPicPr>
        <p:blipFill>
          <a:blip r:embed="rId1"/>
          <a:stretch/>
        </p:blipFill>
        <p:spPr>
          <a:xfrm>
            <a:off x="324000" y="549360"/>
            <a:ext cx="2431800" cy="30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250920" y="3689640"/>
            <a:ext cx="288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тер Брайан Медава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Sir Peter Brian Medawa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(р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28 февра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4"/>
              </a:rPr>
              <a:t>19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Рио-де-Жанейр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у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6"/>
              </a:rPr>
              <a:t>2 октябр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7"/>
              </a:rPr>
              <a:t>198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— английский биоло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омплеме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апте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Родни Портер (Rodney Porter; 1917-1985) и Джеральд Эдельман (Gerald Edelman; 1929), изучившие структуру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те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Джордж Снелл (George Snell), Барух Венацерраф (Baruj Benacerraf) и Жан Доссе (Jean Dausset), описа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главный комплекс гистосовместим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 животных и человека и откры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гены иммунного отв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Файл:RobertKoch cropped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47628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613440" y="3357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ерт Ко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мену инокуляции пришел метод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акцин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ospa3"/>
          <p:cNvPicPr/>
          <p:nvPr/>
        </p:nvPicPr>
        <p:blipFill>
          <a:blip r:embed="rId2"/>
          <a:stretch/>
        </p:blipFill>
        <p:spPr>
          <a:xfrm>
            <a:off x="324000" y="476280"/>
            <a:ext cx="3233520" cy="3816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252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E.Je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4000" y="404280"/>
            <a:ext cx="476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Файл:Louis Pasteu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357156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антите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Работы этих ученых положили начало изучению механизм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83 году он сделал первое сообщение по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агоцитарной (клеточной)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крофаг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нейтрофи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Файл:Ilja Iljitsch Metschnikow Nada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0280"/>
            <a:ext cx="3024000" cy="2154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95640" y="260280"/>
            <a:ext cx="41911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истоков познания вопрос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клеточ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оял русский биолог-эволюционист Илья Меч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08000" y="549000"/>
            <a:ext cx="67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 антите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теорию "боковых цепей"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ге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Файл:Paul Ehrlich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960" y="1557360"/>
            <a:ext cx="1689120" cy="23893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780000" y="404280"/>
            <a:ext cx="490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е теори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леточ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фагоцитарная)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Файл:Paul Ehrli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76280"/>
            <a:ext cx="3247920" cy="3600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324000" y="4109040"/>
            <a:ext cx="35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уль Эрлих. Портрет на банкноте в 200 марок 1996 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700000" y="475920"/>
            <a:ext cx="5986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имф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 иммун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толерант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менно Бернет указал на особую ро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тиму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онально-селекционной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3b92a30ca276c"/>
          <p:cNvPicPr/>
          <p:nvPr/>
        </p:nvPicPr>
        <p:blipFill>
          <a:blip r:embed="rId6"/>
          <a:stretch/>
        </p:blipFill>
        <p:spPr>
          <a:xfrm>
            <a:off x="468360" y="476280"/>
            <a:ext cx="209052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79280" y="371628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этап развития иммунологии связан в первую очередь с именем выдающегося австралийского ученого М.Бернета (Macfarlane Burnet; 1899-198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28:07Z</dcterms:created>
  <dc:creator>User</dc:creator>
  <dc:description/>
  <dc:language>en-US</dc:language>
  <cp:lastModifiedBy>LEGION</cp:lastModifiedBy>
  <dcterms:modified xsi:type="dcterms:W3CDTF">2015-02-13T11:14:20Z</dcterms:modified>
  <cp:revision>9</cp:revision>
  <dc:subject/>
  <dc:title>Иммунология: исторический обзор </dc:title>
</cp:coreProperties>
</file>