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A272C-DEAB-4B36-B9E5-D10604766E9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54f32.htm" TargetMode="External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49f5d.htm" TargetMode="External"/><Relationship Id="rId2" Type="http://schemas.openxmlformats.org/officeDocument/2006/relationships/hyperlink" Target="http://humbio.ru/humbio/immunology/imm-gal/0007ceb2.htm" TargetMode="External"/><Relationship Id="rId3" Type="http://schemas.openxmlformats.org/officeDocument/2006/relationships/slide" Target="../slides/slide5.xml"/><Relationship Id="rId4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8008e.htm" TargetMode="External"/><Relationship Id="rId2" Type="http://schemas.openxmlformats.org/officeDocument/2006/relationships/hyperlink" Target="http://humbio.ru/humbio/immunology/imm-gal/000bd465.htm" TargetMode="External"/><Relationship Id="rId3" Type="http://schemas.openxmlformats.org/officeDocument/2006/relationships/hyperlink" Target="http://humbio.ru/humbio/physiology/000997ac.htm" TargetMode="External"/><Relationship Id="rId4" Type="http://schemas.openxmlformats.org/officeDocument/2006/relationships/slide" Target="../slides/slide6.xml"/><Relationship Id="rId5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49f5d.htm" TargetMode="External"/><Relationship Id="rId2" Type="http://schemas.openxmlformats.org/officeDocument/2006/relationships/hyperlink" Target="http://humbio.ru/humbio/immunology/imm-gal/001256e5.htm" TargetMode="External"/><Relationship Id="rId3" Type="http://schemas.openxmlformats.org/officeDocument/2006/relationships/hyperlink" Target="http://humbio.ru/humbio/immunology/imm-gal/00045fb3.htm" TargetMode="External"/><Relationship Id="rId4" Type="http://schemas.openxmlformats.org/officeDocument/2006/relationships/slide" Target="../slides/slide7.xml"/><Relationship Id="rId5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8008e.htm" TargetMode="External"/><Relationship Id="rId2" Type="http://schemas.openxmlformats.org/officeDocument/2006/relationships/hyperlink" Target="http://humbio.ru/humbio/immunology/imm-gal/0007ceb2.htm" TargetMode="External"/><Relationship Id="rId3" Type="http://schemas.openxmlformats.org/officeDocument/2006/relationships/slide" Target="../slides/slide8.xml"/><Relationship Id="rId4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bbbe9.htm" TargetMode="External"/><Relationship Id="rId2" Type="http://schemas.openxmlformats.org/officeDocument/2006/relationships/hyperlink" Target="http://humbio.ru/humbio/immunology/imm-gal/0009a383.htm" TargetMode="External"/><Relationship Id="rId3" Type="http://schemas.openxmlformats.org/officeDocument/2006/relationships/hyperlink" Target="http://humbio.ru/humbio/immunology/imm-gal/00093dd0.htm" TargetMode="External"/><Relationship Id="rId4" Type="http://schemas.openxmlformats.org/officeDocument/2006/relationships/hyperlink" Target="http://humbio.ru/humbio/immunology/imm-gal/00154e33.htm" TargetMode="External"/><Relationship Id="rId5" Type="http://schemas.openxmlformats.org/officeDocument/2006/relationships/hyperlink" Target="http://humbio.ru/humbio/immunology/imm-gal/000b13fc.htm" TargetMode="External"/><Relationship Id="rId6" Type="http://schemas.openxmlformats.org/officeDocument/2006/relationships/slide" Target="../slides/slide9.xml"/><Relationship Id="rId7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ммунолог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CBE07-B2D1-4306-9390-A021CB2B25E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ого внимания заслуживают взгляды Бернета на иммунитет как на такую реакцию организма, которая отличает все "свое" от всего "чужого". После доказательств Питером Медаваром иммунной природы отторжения чужеродного трансплантата и накопления фактов по иммунологии злокачественных новообразований стало очевидным, что иммунная реакция развивается не только на микробные антигены, но и тогда, когда имеются любые, пусть незначительные антигенные различия между организмом и тем биологическим материалом (трансплантатом, злокачественной опухолью), с которым встречается организм.  Строго говоря, ученые прошлого, включая Мечникова, понимали, что предназначение иммунитета - не только борьба с инфекционными агентами. Однако интересы иммунологов первой половины нашего столетия концентрировались в основном на разработке проблем инфекционной патологии. Необходимо было время, чтобы естественный ход научного познания позволил выдвинуть концепцию роли иммунитета в индивидуальном развитии. И автором нового обобщения был Берн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00F5-FCC6-4839-8496-6DFB1775D3F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й вклад в становление современной иммунологии внесли также Роберт Кох (Robert Koch; 1843-1910), открывший возбудитель туберкулеза и описавший кожную туберкулиновую реакцию; Жюль Борде (Jules Bordet; 1870-1961), сделавший важный вклад в понимание комплемент -зависимого лизиса бактерий; Карл Ландштейнер (Karl Landsteiner; 1868-1943), получивший Нобелевскую премию за открытие групп крови и разработавший подходы к изучению тонкой специфичности антител с помощью гаптенов; Родни Портер (Rodney Porter; 1917-1985) и Джеральд Эдельман (Gerald Edelman; 1929), изучившие структуру антител; Джордж Снелл (George Snell), Барух Венацерраф (Baruj Benacerraf) и Жан Доссе (Jean Dausset), описавшие главный комплекс гистосовместимости у животных и человека и открывшие гены иммунного отве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024C9-A566-48C3-A20D-0471E4C8B36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мунология как определенное направление исследований возникла из практической необходимости борьбы с инфекционными заболевани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ются свидетельства тому, что первые прививки оспы проводили в Китае за тысячу лет до Рождества Христова. Инокуляция содержимого оспенных пустул здоровым людям с целью их защиты от острой формы заболевания распространилась затем в Индию, Малую Азию, Европу, на Кавказ. Однако прием искусственного заражения натуральной (человеческой) оспой не во всех случаях давал положительные результаты. Иногда после инокуляции отмечалась острая форма заболевания и даже смер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EF5AF-F8A8-4D49-990E-C200C88DCAE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мену инокуляции пришел метод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вакцин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от лат. vacca - корова), разработанный в конце XVIIIв. английским врачом Э.Дженнером (E.Jenner). Он обратил внимание на тот факт, что молочницы, ухаживавшие за больными животными, иногда заболевали в крайне слабой форме оспой коров, но при этом никогда не болели натуральной оспой. Подобное наблюдение давало в руки исследователя реальную возможность борьбы с болезнью людей. В 1796г., через 30 лет после начала своих изысканий, Э.Дженнер решился апробировать метод вакцинации коровьей оспой. Эксперимент прошел успешно, и с тех пор способ вакцинации по Э.Дженнеру нашел широкое применение во всем ми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B56C9-7D90-4AAC-ABCB-05F84CCAA75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ждение инфекционной иммунологии связывают с именем выдающегося французского ученого Луи Пастера (Louis Paster). Первый шаг к целенаправленному поиску вакцинных препаратов, создающих устойчивый иммунитет к инфекции, был сделан после хорошо известного наблюдения Пастера над патогенностью возбудителя куриной холеры. Было показано, что заражение кур ослабленной (аттенуированной) культурой возбудителя создает невосприимчивость к патогенному микробу (1880г). В 1881г. Пастер продемонстрировал эффективный подход к иммунизации коров против сибирской язвы, а в 1885г. ему удалось показать возможность защиты людей от бешен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5ED84-8D94-4FFF-88B6-82173FEA1C7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40-50-м годам нашего столетия принципы вакцинации, заложенные Пастером, нашли свое проявление в создании целого арсенала вакцин против самого широкого набора инфекционных заболева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тя Пастер считается основателем инфекционной иммунологии, он ничего не знал о факторах, включенных в процесс защиты от инфекции. Первыми, кто пролил свет на один из механизмов невосприимчивости к инфекции, были Беринг (Behring) и Китазато (Kitasato). Они продемонстрировали, что сыворотка от мышей, предварительно иммунизированных столбнячным токсином, введенная интактным животным, защищает последних от смертельной дозы токсина. Образовавшийся в результате иммунизации сывороточный фактор - антитоксин - представлял собой первое обнаруженное специфическое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антител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Работы этих ученых положили начало изучению механизмо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гуморального иммуните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CB7B6-AF7E-45EB-A011-D4C34B531BD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83 году он сделал первое сообщение по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фагоцитарной (клеточной) теории иммуните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 съезде врачей и естествоиспытателей в Одессе. Мечников утверждал тогда, что способность подвижных клеток беспозвоночных животных поглощать пищевые частицы, т.е. участвовать в пищеварении, есть фактически их способность поглощать вообще все "чужое", не свойственное организму: различных микробов, инертных частиц, отмирающих частей тела. У человека также есть амебоидные подвижные клетки -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макрофа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нейтрофил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Но "едят" они пищу особого рода - патогенных микробов. Эволюция сохранила поглотительную способность амебоидных клеток от одноклеточных животных до высших позвоночных, включая человека. Однако функция этих клеток у высокоорганизованных многоклеточных стала иной - это борьба с микробной агресси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9BCE-E641-4A21-94CE-F1410722CA1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ллельно с Мечниковым разрабатывал свою теорию иммунной защиты от инфекции немецкий фармаколог Пауль Эрлих. Он знал о том факте, что в сыворотке крови животных, зараженных бактериями, появляются белковые вещества, способные убивать патогенные микроорганизмы. Эти вещества впоследствии были названы им "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 антител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". Самое характерное свойство антител - это их ярко выраженная специфичность. Образовавшись как защитное средство против одного микроорганизма, они нейтрализуют и разрушают только его, оставаясь безразличными к другим. Пытаясь понять это явление специфичности, Эрлих выдвинул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теорию "боковых цепей"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о которой антитела в виде рецепторов предсуществуют на поверхности клеток. При этом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антиге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икроорганизмов выступает в качестве селективного фактора. Вступив в контакт со специфическим рецептором, он обеспечивает усиленную продукцию и выход в циркуляцию только этого конкретного рецептора (антител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B9821-2EAF-4248-87DD-4294C943479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зорливость Эрлиха поражает, поскольку с некоторыми изменениями эта в целом умозрительная теория подтвердилась в настоящее врем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е теории -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клеточн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фагоцитарная) и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гуморальн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в период своего возникновения стояли на антагонистических позициях. Школы Мечникова и Эрлиха боролись за научную истину, не подозревая, что каждый удар и каждое его парирование сближало противников. В 1908г. обоим ученым одновременно была присуждена Нобелевская прем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EC163-0A07-497A-8315-F6FE5FB0EE4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нно он в значительной степени определил лицо современной иммунологии. Рассматривая иммунитет как реакцию, направленную на дифференциацию всего "своего" от всего "чужого", он поднял вопрос о значении иммунных механизмов в поддержании генетической целостности организма в период индивидуального (онтогенетического) развития. Именно Бернет обратил внимание на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лимфоци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ак на основного участника специфического иммунного реагирования, дав ему название "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 иммуноци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". Именно Бернет предсказал, а англичанин Питер Медавар и чех Милан Гашек экспериментально подтвердили состояние, противоположное иммунной реактивности -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толерант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Именно Бернет указал на особую роль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тимус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формировании иммунного ответа. И наконец, Бернет остался в истории иммунологии как создатель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клонально-селекционной теории иммуните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Формула такой теории проста: один клон лимфоцитов способен реагировать только на одну конкретную антигенную специфическую детерминант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935FC-74C5-40AD-BD4F-1A19BD8FD23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F73D1-501F-4AC9-BF79-B0F5F1383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3188E-FFB6-4A72-A2F5-F912B2736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07641-73D8-4A6E-BB42-F8B133B1D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1F303-BAAE-4C3B-ACBB-AEAC973C7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0283A-9E4A-420C-91DC-C854F8AEC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A2F72-7AAC-4CA8-B057-9CCBA93DD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4BAAC-A83B-46F9-AC91-29A43F0FB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2FAAA-5D78-4604-BDFE-B7D973D71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14493-8E32-40EA-B752-50F02EEBD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DBA34-B5F6-48EE-BE37-817CCA0A2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76BC3-B6DF-401D-BCE5-6DCC7DD5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95A06-E590-4B7E-A519-3BD87FB6C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425CD-35C2-40D8-89E8-1BB90D38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34BEF-453D-44B5-A296-5608B422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9C1E5-9BE0-4833-95AB-9E9ECBBC5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250CB-8EEA-41C2-B5EE-80DE260B3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6C483-9E25-4DA1-A683-6376BC8D0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36D55-DEB3-426D-8786-968A5CBC2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82FBB-487D-40D6-B57F-560D22958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204AC-6077-44C0-8080-889E2F48E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1B0F1-8CDF-4147-897C-9B8C44970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42662-9F3C-416F-BA5B-A86BF0C2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B5235-4C71-45AA-A0BF-AE774BC3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56948-BE1F-41D1-B240-F7351642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5FEC4-2D2C-46BB-8A93-7A04117B5AB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65BDB-5340-4453-B888-9D9C1A0AABF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ru.wikipedia.org/wiki/&#1040;&#1085;&#1075;&#1083;&#1080;&#1081;&#1089;&#1082;&#1080;&#1081;_&#1103;&#1079;&#1099;&#1082;" TargetMode="External"/><Relationship Id="rId3" Type="http://schemas.openxmlformats.org/officeDocument/2006/relationships/hyperlink" Target="http://ru.wikipedia.org/wiki/28_&#1092;&#1077;&#1074;&#1088;&#1072;&#1083;&#1103;" TargetMode="External"/><Relationship Id="rId4" Type="http://schemas.openxmlformats.org/officeDocument/2006/relationships/hyperlink" Target="http://ru.wikipedia.org/wiki/1915" TargetMode="External"/><Relationship Id="rId5" Type="http://schemas.openxmlformats.org/officeDocument/2006/relationships/hyperlink" Target="http://ru.wikipedia.org/wiki/&#1056;&#1080;&#1086;-&#1076;&#1077;-&#1046;&#1072;&#1085;&#1077;&#1081;&#1088;&#1086;" TargetMode="External"/><Relationship Id="rId6" Type="http://schemas.openxmlformats.org/officeDocument/2006/relationships/hyperlink" Target="http://ru.wikipedia.org/wiki/2_&#1086;&#1082;&#1090;&#1103;&#1073;&#1088;&#1103;" TargetMode="External"/><Relationship Id="rId7" Type="http://schemas.openxmlformats.org/officeDocument/2006/relationships/hyperlink" Target="http://ru.wikipedia.org/wiki/1987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b3eaa.htm" TargetMode="External"/><Relationship Id="rId2" Type="http://schemas.openxmlformats.org/officeDocument/2006/relationships/hyperlink" Target="http://humbio.ru/humbio/immunology/imm-gal/0006290a.htm" TargetMode="External"/><Relationship Id="rId3" Type="http://schemas.openxmlformats.org/officeDocument/2006/relationships/hyperlink" Target="http://humbio.ru/humbio/immunology/imm-gal/00049f5d.htm" TargetMode="External"/><Relationship Id="rId4" Type="http://schemas.openxmlformats.org/officeDocument/2006/relationships/hyperlink" Target="http://humbio.ru/humbio/immunology/imm-gal/0007256e.htm" TargetMode="External"/><Relationship Id="rId5" Type="http://schemas.openxmlformats.org/officeDocument/2006/relationships/hyperlink" Target="http://humbio.ru/humbio/immunology/imm-gal/0001499b.htm" TargetMode="External"/><Relationship Id="rId6" Type="http://schemas.openxmlformats.org/officeDocument/2006/relationships/hyperlink" Target="http://upload.wikimedia.org/wikipedia/commons/8/8d/RobertKoch_cropped.jpg" TargetMode="External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54f32.htm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4/42/Louis_Pasteur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49f5d.htm" TargetMode="External"/><Relationship Id="rId2" Type="http://schemas.openxmlformats.org/officeDocument/2006/relationships/hyperlink" Target="http://humbio.ru/humbio/immunology/imm-gal/0007ceb2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8008e.htm" TargetMode="External"/><Relationship Id="rId2" Type="http://schemas.openxmlformats.org/officeDocument/2006/relationships/hyperlink" Target="http://humbio.ru/humbio/immunology/imm-gal/000bd465.htm" TargetMode="External"/><Relationship Id="rId3" Type="http://schemas.openxmlformats.org/officeDocument/2006/relationships/hyperlink" Target="http://humbio.ru/humbio/physiology/000997ac.htm" TargetMode="External"/><Relationship Id="rId4" Type="http://schemas.openxmlformats.org/officeDocument/2006/relationships/hyperlink" Target="http://upload.wikimedia.org/wikipedia/commons/4/4f/Ilja_Iljitsch_Metschnikow_Nadar.jpg" TargetMode="External"/><Relationship Id="rId5" Type="http://schemas.openxmlformats.org/officeDocument/2006/relationships/image" Target="../media/image3.jpeg"/><Relationship Id="rId6" Type="http://schemas.openxmlformats.org/officeDocument/2006/relationships/hyperlink" Target="http://humbio.ru/humbio/immunology/imm-gal/0008008e.htm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49f5d.htm" TargetMode="External"/><Relationship Id="rId2" Type="http://schemas.openxmlformats.org/officeDocument/2006/relationships/hyperlink" Target="http://humbio.ru/humbio/immunology/imm-gal/001256e5.htm" TargetMode="External"/><Relationship Id="rId3" Type="http://schemas.openxmlformats.org/officeDocument/2006/relationships/hyperlink" Target="http://humbio.ru/humbio/immunology/imm-gal/00045fb3.htm" TargetMode="External"/><Relationship Id="rId4" Type="http://schemas.openxmlformats.org/officeDocument/2006/relationships/hyperlink" Target="http://upload.wikimedia.org/wikipedia/commons/4/45/Paul_Ehrlich.png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8008e.htm" TargetMode="External"/><Relationship Id="rId2" Type="http://schemas.openxmlformats.org/officeDocument/2006/relationships/hyperlink" Target="http://humbio.ru/humbio/immunology/imm-gal/0007ceb2.htm" TargetMode="External"/><Relationship Id="rId3" Type="http://schemas.openxmlformats.org/officeDocument/2006/relationships/hyperlink" Target="http://upload.wikimedia.org/wikipedia/commons/d/d6/Paul_Ehrlich.jpg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bbbe9.htm" TargetMode="External"/><Relationship Id="rId2" Type="http://schemas.openxmlformats.org/officeDocument/2006/relationships/hyperlink" Target="http://humbio.ru/humbio/immunology/imm-gal/0009a383.htm" TargetMode="External"/><Relationship Id="rId3" Type="http://schemas.openxmlformats.org/officeDocument/2006/relationships/hyperlink" Target="http://humbio.ru/humbio/immunology/imm-gal/00093dd0.htm" TargetMode="External"/><Relationship Id="rId4" Type="http://schemas.openxmlformats.org/officeDocument/2006/relationships/hyperlink" Target="http://humbio.ru/humbio/immunology/imm-gal/00154e33.htm" TargetMode="External"/><Relationship Id="rId5" Type="http://schemas.openxmlformats.org/officeDocument/2006/relationships/hyperlink" Target="http://humbio.ru/humbio/immunology/imm-gal/000b13fc.htm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0040" y="1928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cc"/>
                </a:solidFill>
                <a:latin typeface="Tahoma"/>
              </a:rPr>
              <a:t>Иммунология</a:t>
            </a:r>
            <a:br>
              <a:rPr sz="8000"/>
            </a:b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4572000" y="6488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ставитель Большаков С. 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2843280" y="549000"/>
            <a:ext cx="58435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собого внимания заслуживают взгляды Бернета на иммунитет как на такую реакцию организма, которая отличает все "свое" от всего "чужого". После доказательств Питером Медаваром иммунной природы отторжения чужеродного трансплантата и накопления фактов по иммунологии злокачественных новообразований стало очевидным, что иммунная реакция развивается не только на микробные антигены, но и тогда, когда имеются любые, пусть незначительные антигенные различия между организмом и тем биологическим материалом (трансплантатом, злокачественной опухолью), с которым встречается организм.  Строго говоря, ученые прошлого, включая Мечникова, понимали, что предназначение иммунитета - не только борьба с инфекционными агентами. Однако интересы иммунологов первой половины нашего столетия концентрировались в основном на разработке проблем инфекционной патологии. Необходимо было время, чтобы естественный ход научного познания позволил выдвинуть концепцию роли иммунитета в индивидуальном развитии. И автором нового обобщения был Бернет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7" descr="Питер Медавар (Peter Medawar)"/>
          <p:cNvPicPr/>
          <p:nvPr/>
        </p:nvPicPr>
        <p:blipFill>
          <a:blip r:embed="rId1"/>
          <a:stretch/>
        </p:blipFill>
        <p:spPr>
          <a:xfrm>
            <a:off x="324000" y="549360"/>
            <a:ext cx="2431800" cy="30240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9"/>
          <p:cNvSpPr/>
          <p:nvPr/>
        </p:nvSpPr>
        <p:spPr>
          <a:xfrm>
            <a:off x="250920" y="3689640"/>
            <a:ext cx="2881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итер Брайан Медавар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Arial"/>
                <a:hlinkClick r:id="rId2"/>
              </a:rPr>
              <a:t>англ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Sir Peter Brian Medawar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 (р.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Arial"/>
                <a:hlinkClick r:id="rId3"/>
              </a:rPr>
              <a:t>28 феврал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Arial"/>
                <a:hlinkClick r:id="rId4"/>
              </a:rPr>
              <a:t>1915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Arial"/>
                <a:hlinkClick r:id="rId5"/>
              </a:rPr>
              <a:t>Рио-де-Жанейро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— у.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Arial"/>
                <a:hlinkClick r:id="rId6"/>
              </a:rPr>
              <a:t>2 октябр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Arial"/>
                <a:hlinkClick r:id="rId7"/>
              </a:rPr>
              <a:t>1987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 — английский биолог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700000" y="476280"/>
            <a:ext cx="5986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ольшой вклад в становление современной иммунологии внесли также Роберт Кох (Robert Koch; 1843-1910), открывший возбудитель туберкулеза и описавший кожную туберкулиновую реакцию; Жюль Борде (Jules Bordet; 1870-1961), сделавший важный вклад в понимание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комплемент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-зависимого лизиса бактерий; Карл Ландштейнер (Karl Landsteiner; 1868-1943), получивший Нобелевскую премию за открытие групп крови и разработавший подходы к изучению тонкой специфичности антител с помощью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гаптенов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; Родни Портер (Rodney Porter; 1917-1985) и Джеральд Эдельман (Gerald Edelman; 1929), изучившие структуру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антител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; Джордж Снелл (George Snell), Барух Венацерраф (Baruj Benacerraf) и Жан Доссе (Jean Dausset), описавшие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4"/>
              </a:rPr>
              <a:t>главный комплекс гистосовместимост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у животных и человека и открывшие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5"/>
              </a:rPr>
              <a:t>гены иммунного ответ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7" descr="Файл:RobertKoch cropped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50920" y="476280"/>
            <a:ext cx="1981080" cy="25146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8"/>
          <p:cNvSpPr/>
          <p:nvPr/>
        </p:nvSpPr>
        <p:spPr>
          <a:xfrm>
            <a:off x="613440" y="33577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берт Ко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ммунология как определенное направление исследований возникла из практической необходимости борьбы с инфекционными заболеваниям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меются свидетельства тому, что первые прививки оспы проводили в Китае за тысячу лет до Рождества Христова. Инокуляция содержимого оспенных пустул здоровым людям с целью их защиты от острой формы заболевания распространилась затем в Индию, Малую Азию, Европу, на Кавказ. Однако прием искусственного заражения натуральной (человеческой) оспой не во всех случаях давал положительные результаты. Иногда после инокуляции отмечалась острая форма заболевания и даже смерть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564000" y="404640"/>
            <a:ext cx="51228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 смену инокуляции пришел метод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вакцинаци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(от лат. vacca - корова), разработанный в конце XVIIIв. английским врачом Э.Дженнером (E.Jenner). Он обратил внимание на тот факт, что молочницы, ухаживавшие за больными животными, иногда заболевали в крайне слабой форме оспой коров, но при этом никогда не болели натуральной оспой. Подобное наблюдение давало в руки исследователя реальную возможность борьбы с болезнью людей. В 1796г., через 30 лет после начала своих изысканий, Э.Дженнер решился апробировать метод вакцинации коровьей оспой. Эксперимент прошел успешно, и с тех пор способ вакцинации по Э.Дженнеру нашел широкое применение во всем мир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6" descr="ospa3"/>
          <p:cNvPicPr/>
          <p:nvPr/>
        </p:nvPicPr>
        <p:blipFill>
          <a:blip r:embed="rId2"/>
          <a:stretch/>
        </p:blipFill>
        <p:spPr>
          <a:xfrm>
            <a:off x="324000" y="476280"/>
            <a:ext cx="3233520" cy="38163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7"/>
          <p:cNvSpPr/>
          <p:nvPr/>
        </p:nvSpPr>
        <p:spPr>
          <a:xfrm>
            <a:off x="1252800" y="458136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E.Jenn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924000" y="404280"/>
            <a:ext cx="4762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ождение инфекционной иммунологии связывают с именем выдающегося французского ученого Луи Пастера (Louis Paster). Первый шаг к целенаправленному поиску вакцинных препаратов, создающих устойчивый иммунитет к инфекции, был сделан после хорошо известного наблюдения Пастера над патогенностью возбудителя куриной холеры. Было показано, что заражение кур ослабленной (аттенуированной) культурой возбудителя создает невосприимчивость к патогенному микробу (1880г). В 1881г. Пастер продемонстрировал эффективный подход к иммунизации коров против сибирской язвы, а в 1885г. ему удалось показать возможность защиты людей от бешенств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7" descr="Файл:Louis Pasteu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476280"/>
            <a:ext cx="3571560" cy="432108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95280" y="1052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 40-50-м годам нашего столетия принципы вакцинации, заложенные Пастером, нашли свое проявление в создании целого арсенала вакцин против самого широкого набора инфекционных заболевани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Хотя Пастер считается основателем инфекционной иммунологии, он ничего не знал о факторах, включенных в процесс защиты от инфекции. Первыми, кто пролил свет на один из механизмов невосприимчивости к инфекции, были Беринг (Behring) и Китазато (Kitasato). Они продемонстрировали, что сыворотка от мышей, предварительно иммунизированных столбнячным токсином, введенная интактным животным, защищает последних от смертельной дозы токсина. Образовавшийся в результате иммунизации сывороточный фактор - антитоксин - представлял собой первое обнаруженное специфическое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антитело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Работы этих ученых положили начало изучению механизмов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гуморального иммунитет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2565360"/>
            <a:ext cx="86868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1883 году он сделал первое сообщение по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фагоцитарной (клеточной) теории иммунитет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на съезде врачей и естествоиспытателей в Одессе. Мечников утверждал тогда, что способность подвижных клеток беспозвоночных животных поглощать пищевые частицы, т.е. участвовать в пищеварении, есть фактически их способность поглощать вообще все "чужое", не свойственное организму: различных микробов, инертных частиц, отмирающих частей тела. У человека также есть амебоидные подвижные клетки -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макрофаг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нейтрофилы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Но "едят" они пищу особого рода - патогенных микробов. Эволюция сохранила поглотительную способность амебоидных клеток от одноклеточных животных до высших позвоночных, включая человека. Однако функция этих клеток у высокоорганизованных многоклеточных стала иной - это борьба с микробной агрессие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7" descr="Файл:Ilja Iljitsch Metschnikow Nadar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11280" y="260280"/>
            <a:ext cx="3024000" cy="215424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8"/>
          <p:cNvSpPr/>
          <p:nvPr/>
        </p:nvSpPr>
        <p:spPr>
          <a:xfrm>
            <a:off x="3995640" y="260280"/>
            <a:ext cx="4191120" cy="13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 истоков познания вопросов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6"/>
              </a:rPr>
              <a:t>клеточного иммунитет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стоял русский биолог-эволюционист Илья Мечник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908000" y="549000"/>
            <a:ext cx="67788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араллельно с Мечниковым разрабатывал свою теорию иммунной защиты от инфекции немецкий фармаколог Пауль Эрлих. Он знал о том факте, что в сыворотке крови животных, зараженных бактериями, появляются белковые вещества, способные убивать патогенные микроорганизмы. Эти вещества впоследствии были названы им "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 антителам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". Самое характерное свойство антител - это их ярко выраженная специфичность. Образовавшись как защитное средство против одного микроорганизма, они нейтрализуют и разрушают только его, оставаясь безразличными к другим. Пытаясь понять это явление специфичности, Эрлих выдвинул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теорию "боковых цепей"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по которой антитела в виде рецепторов предсуществуют на поверхности клеток. При этом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антиге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микроорганизмов выступает в качестве селективного фактора. Вступив в контакт со специфическим рецептором, он обеспечивает усиленную продукцию и выход в циркуляцию только этого конкретного рецептора (антитела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7" descr="Файл:Paul Ehrlich.pn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9960" y="1557360"/>
            <a:ext cx="1689120" cy="238932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780000" y="404280"/>
            <a:ext cx="49068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зорливость Эрлиха поражает, поскольку с некоторыми изменениями эта в целом умозрительная теория подтвердилась в настоящее врем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ве теории -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клеточна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(фагоцитарная) и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гуморальна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- в период своего возникновения стояли на антагонистических позициях. Школы Мечникова и Эрлиха боролись за научную истину, не подозревая, что каждый удар и каждое его парирование сближало противников. В 1908г. обоим ученым одновременно была присуждена Нобелевская преми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7" descr="Файл:Paul Ehrlich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5280" y="476280"/>
            <a:ext cx="3247920" cy="36003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8"/>
          <p:cNvSpPr/>
          <p:nvPr/>
        </p:nvSpPr>
        <p:spPr>
          <a:xfrm>
            <a:off x="324000" y="4109040"/>
            <a:ext cx="354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ауль Эрлих. Портрет на банкноте в 200 марок 1996 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2700000" y="475920"/>
            <a:ext cx="598644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менно он в значительной степени определил лицо современной иммунологии. Рассматривая иммунитет как реакцию, направленную на дифференциацию всего "своего" от всего "чужого", он поднял вопрос о значении иммунных механизмов в поддержании генетической целостности организма в период индивидуального (онтогенетического) развития. Именно Бернет обратил внимание на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лимфоцит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как на основного участника специфического иммунного реагирования, дав ему название "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 иммуноцит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". Именно Бернет предсказал, а англичанин Питер Медавар и чех Милан Гашек экспериментально подтвердили состояние, противоположное иммунной реактивности -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толерантност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Именно Бернет указал на особую роль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4"/>
              </a:rPr>
              <a:t>тимус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в формировании иммунного ответа. И наконец, Бернет остался в истории иммунологии как создатель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5"/>
              </a:rPr>
              <a:t>клонально-селекционной теории иммунитет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Формула такой теории проста: один клон лимфоцитов способен реагировать только на одну конкретную антигенную специфическую детерминанту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7" descr="3b92a30ca276c"/>
          <p:cNvPicPr/>
          <p:nvPr/>
        </p:nvPicPr>
        <p:blipFill>
          <a:blip r:embed="rId6"/>
          <a:stretch/>
        </p:blipFill>
        <p:spPr>
          <a:xfrm>
            <a:off x="468360" y="476280"/>
            <a:ext cx="2090520" cy="30240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9"/>
          <p:cNvSpPr/>
          <p:nvPr/>
        </p:nvSpPr>
        <p:spPr>
          <a:xfrm>
            <a:off x="179280" y="3716280"/>
            <a:ext cx="2737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вый этап развития иммунологии связан в первую очередь с именем выдающегося австралийского ученого М.Бернета (Macfarlane Burnet; 1899-1985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07:28:07Z</dcterms:created>
  <dc:creator>User</dc:creator>
  <dc:description/>
  <dc:language>en-US</dc:language>
  <cp:lastModifiedBy>LEGION</cp:lastModifiedBy>
  <dcterms:modified xsi:type="dcterms:W3CDTF">2015-02-13T11:14:20Z</dcterms:modified>
  <cp:revision>9</cp:revision>
  <dc:subject/>
  <dc:title>Иммунология: исторический обзор </dc:title>
</cp:coreProperties>
</file>