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2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71C1-5BC6-4965-9F0A-0E32FF602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5BE5-FF3F-4AAE-8BE9-CA770A8C6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шибки питания, ведущие к возникновению болезней желудочно-кишечного тра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 еди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ы едим слишком жир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ы неправильно выбираем 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 пьем слишком м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ы едим неправи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ы едим слишком много слад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ы неправильно готов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ы слишком часто лакомим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ы слишком мало знаем о пит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06EE-7E22-46D1-A4DF-FD60EC7FD5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равила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рное питание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ща должна иметь привлекательный вид, приятный запах и вку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азнообразное пит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меренность в 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ть не торопя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облюдение правил личной гиги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F37-620E-4C4F-A784-8D5E6EA0F2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зменения, которым подвергается пища в органах пищевари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пищевод – продвижение пищи в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3BC2-2AB0-43DD-9A97-8B7ACBC24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2191-6B7C-4A32-B68A-67EFBE5A76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432-2917-4454-A3E7-E1D42CB91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5CB3-EE4E-4B78-98E6-F8AE2FE58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истные инваз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гельминтами происходит фекально-оральным путем через р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з-за прямых контактов с землей, пес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загрязненные предм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рез продукты пит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редством насекомых (мух, тараканов, муравье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контакты с животными (собаки, кош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2B0-5134-4999-A91A-0A093494E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ым синдромом при глистной инвазии является дисфункция Ж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устойчивый ст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евой синд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е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ыжка, тошнота, быстрое насы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амых частых проявлений глистной инвазии является алл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ениями интоксикации при гельминтозах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ипение зуб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ражительность, капризность, агресс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633-F8A5-4F8F-BED7-6DEEFB935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удочно-кишечные инфе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11DD-A9DB-4339-8769-24A6ABA32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ытье рук с мылом после уборной, контактов с животными или с зем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Термическая обработка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т те условия, которые помогут избежать желудочно-кишечных инфекци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C929-2504-49D8-8958-E00FC7721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27E-8B12-49DA-99FF-BFC76614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9BE-4AF0-4E4D-95F7-B88DE91D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F0A-3E02-4FA8-A060-223B0C10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A5B-69D6-40DD-9F73-7EF93DDE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BB8-26FD-4C23-ACEA-0BDA31F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980-8283-4BDA-84DA-32160CD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6AA-1C9B-461D-9FA7-E0B387D7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BC9-8E9F-4EFA-99C2-71D172B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2DB-EF76-4728-B34F-42AEE34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E24-304C-4D53-8CA3-A0B157E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00F-61EF-4F7E-9FE3-5100C0D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D4C-F158-41D3-98A8-5B4A2BE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C72-7D5C-4963-BDFC-743500BAA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ишечная инф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71760" y="6071760"/>
            <a:ext cx="61149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соста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«СОШ №15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Энгель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делец М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392436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шибки питания, ведущие к возникновению болезней желудочно-кишечного тра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1640" y="206064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 еди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ы едим слишком жир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Мы неправильно выбираем е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 пьем слишком м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Мы едим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ы едим слишком много сладк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ы неправильно готов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Мы слишком часто лаком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Мы слишком мало знаем о п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089080" cy="187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6659640" y="3716280"/>
            <a:ext cx="2087640" cy="2962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ные правил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228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егулярное пита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ща должна иметь привлекательный вид, приятный запах и вк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азнообразное пит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меренность в 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Есть не торопя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облюдение правил личной гиги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951280" cy="21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1692360" y="3573360"/>
            <a:ext cx="2503440" cy="2881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102280" cy="6381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292720" y="910800"/>
            <a:ext cx="3851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ротовая полость – апробация, смачивание, обезвреживание, измельчение пищи, расщепление углев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пищевод – продвижение пищи в желуд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желудок – механическая переработка, обеззараживание пищи, расщепление белков и частичное – жи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-перстная кишка – расщепление белков, жиров и углеводов под действием поджелудочного сока и жел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нкий кишечник – расщепление белков и углеводов, избирательное всасывание питательных веществ в кровь и лимф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толстый кишечник – всасывание воды, формирование каловых масс, переваривание клетчатки, синтез вита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, которым подвергается пища в органах пищеваритель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ое отравление может вызываться различными микроорганизмами, чаще всего это сальмонеллы, палочки ботулизма, холерный вибрион, дизентерийная пал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1694160" y="39337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мон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808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580000" y="393372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очки боту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797080" y="63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ный виб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2879640" cy="1942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044000" y="630864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зентерий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24000" y="1268280"/>
            <a:ext cx="5219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я в организм, бактерии выделяют яд, который вызывает острое воспаление слизистой желудка, тонкой и толст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инается заболевание достаточно быстро. Уже через 2-4 часа после еды наблюдаются первые симптомы: тошнота, чувство слабости, позднее – обильная рвота, понос. Нередко возникает повышение температуры, головная б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 чувствительны к пищевым отравлениям дети, лица пожилого возраста и больные желудочно-кишечными заболеваниями. У них отравление нередко протекает в более тяжел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8360" y="98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екция передается через зараженные пищевые продукты – мясо, рыбу, молоко, салат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09708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0970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>
            <a:off x="1692360" y="4292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истные инв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жение гельминтами происходит фекально-оральным путем через ро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з-за прямых контактов с землей, пес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загрязненные предм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з продукты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редством насекомых (мух, тараканов, муравь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ез контакты с животными (собаки, кош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человека к человеку заражение может происходить острицами в детских коллективах (детские сады) через игрушки, а также через постельное бел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735280" cy="32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873160" cy="3240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640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сты могут создавать проблемы со здоровьем и усугублять имеющиеся нарушения, в том числе реализовать неблагоприятные наследственные предрасполо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ым синдромом при глистной инвазии является дисфункция Ж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еустойчивый сту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олевой синд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еор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ыжка, тошнота, быстрое насы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самых частых проявлений глистной инвазии является аллер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ями интоксикации при гельминтозах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аппетита, нарушение ночного сна (беспокойство, звуки во сне или частые пробуж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ение зуб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ьность, капризность, агресс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льминты ослабляют работу иммунной системы, вследствие чего могут возникнуть частые респираторные заболевания, гнойничковые или грибковые поражения кожи и слизистых оболочек, кариес зу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16036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удочно-кишечные инф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жать пищевые отравления и глистные инвазии можно, соблюдая правила личной гигиены, режим и сроки хранения продуктов, технологию приготовления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4859280" y="455292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1476360" y="4554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3635280" y="1916280"/>
            <a:ext cx="1513080" cy="2447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788000" y="476280"/>
            <a:ext cx="4114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Мытье рук с мылом после уборной, контактов с животными или с зем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бработка игрушек мыльным раствором и обработка пола обязательно с моющими средствами примерно один раз в 10-14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бработка с мылом овощей и фруктов перед употреблением; ягоды (клубника, малина и др.) предварительно заливают чистой водой, затем ее сливают и промывают плоды проточной в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Термическая обработка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те условия, которые помогут избежать желудочно-кишечных инфек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17492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51:53Z</dcterms:created>
  <dc:creator>Admin</dc:creator>
  <dc:description/>
  <dc:language>en-US</dc:language>
  <cp:lastModifiedBy>LEGION</cp:lastModifiedBy>
  <dcterms:modified xsi:type="dcterms:W3CDTF">2015-02-13T11:14:50Z</dcterms:modified>
  <cp:revision>15</cp:revision>
  <dc:subject/>
  <dc:title>Слайд 1</dc:title>
</cp:coreProperties>
</file>