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22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7ACD-9A21-43B0-A500-DF9D94CD97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6AFA-7E0C-46CA-937A-BD4BC1E898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шибки питания, ведущие к возникновению болезней желудочно-кишечного трак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 еди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ы едим слишком жир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ы неправильно выбираем 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 пье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ы едим неправи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ы едим слишком много слад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ы неправильно готов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ы слишком часто лакомим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ы слишком мало знаем о пит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782A-95CE-4D5A-A9D5-D7A4E0D5C4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равила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рное питание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ща должна иметь привлекательный вид, приятный запах и вку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азнообразное пит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меренность в 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ть не торопя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облюдение правил личной гиги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7A39-2802-4771-8299-E2263C9125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зменения, которым подвергается пища в органах пищевари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пищевод – продвижение пищи в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6BB5-3EAA-41B1-98E5-4BABF7F0A9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2E65-53DD-4CE2-BD9E-37F4730255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1AD2-5BD0-412E-BFB9-EB0A02F068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D4CE-98BB-4915-A4F4-4F7557B8BF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истные инваз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гельминтами происходит фекально-оральным путем через р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з-за прямых контактов с землей, пес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загрязненные предм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продукты пит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редством насекомых (мух, тараканов, муравье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контакты с животными (собаки, кош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456A-A56F-467F-BD0C-6C33520B2B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ым синдромом при глистной инвазии является дисфункция Ж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устойчивый ст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евой синд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е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ыжка, тошнота, быстрое насы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амых частых проявлений глистной инвазии является алл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ениями интоксикации при гельминтозах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ипение зуб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ражительность, капризность, агресс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549C-C392-4C8F-8380-342DAF88DE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05EB-7100-4A5C-AEF2-C187ED1E93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тье рук с мылом после уборной, контактов с животными или с зем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Термическая обработка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т те условия, которые помогут избежать желудочно-кишечных инфекций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9D64-2FB3-42CD-959A-EE1E4F6B6E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DAD-2BE2-475C-B9ED-D472AE5B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A7E-1EC0-48F6-A7D2-595C78F7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F32-2600-4979-8398-96EA540B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0AF-F3F2-41CF-B8E0-91944226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0A5-90C5-42EA-9DFC-4B736469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1BD-BF3A-4690-B779-C9870FF7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916-B4A2-47BA-9151-CEECD33B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28E-DBD1-4572-A994-2D487CF6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405-2106-4FF5-AE68-091E4598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476-CACC-4789-A46F-3FE22380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A96-54B1-4FC3-A3C8-D08EF2C2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702-AE9A-459B-AEC7-3E225437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1E84-F179-40D0-9B9A-221909A434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71760" y="6071760"/>
            <a:ext cx="611496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43120" y="2286000"/>
            <a:ext cx="3924360" cy="3670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шибки питания, ведущие к возникновению болезней желудочно-кишечного трак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71640" y="206064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 еди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ы едим слишком жир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ы неправильно выбираем е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 пье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ы едим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ы едим слишком много сладк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ы неправильно готов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Мы слишком часто лакомим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Мы слишком мало знаем о п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089080" cy="187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20890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>
            <a:off x="6659640" y="3716280"/>
            <a:ext cx="2087640" cy="2962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ные правила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228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егулярное питани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ща должна иметь привлекательный вид, приятный запах и вк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азнообразное пит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меренность в 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Есть не торопя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облюдение правил личной гиги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951280" cy="21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1692360" y="3573360"/>
            <a:ext cx="2503440" cy="2881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102280" cy="638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292720" y="910800"/>
            <a:ext cx="3851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пищевод – продвижение пищи в желуд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, которым подвергается пища в органах пищеварительного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1694160" y="3933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ьмон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5580000" y="393372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очки боту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797080" y="6308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ный вибр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2879640" cy="1942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1044000" y="630864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зентерий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24000" y="1268280"/>
            <a:ext cx="521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98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екция передается через зараженные пищевые продукты – мясо, рыбу, молоко, салат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097080" cy="230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4"/>
          <a:stretch/>
        </p:blipFill>
        <p:spPr>
          <a:xfrm>
            <a:off x="1692360" y="429264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истные инв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36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жение гельминтами происходит фекально-оральным путем через ро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з-за прямых контактов с землей, пес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загрязненные предм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продукты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редством насекомых (мух, тараканов, муравь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ез контакты с животными (собаки, кош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2735280" cy="32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873160" cy="3240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6408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ым синдромом при глистной инвазии является дисфункция Ж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еустойчивый сту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олевой синд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еор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ыжка, тошнота, быстрое насы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самых частых проявлений глистной инвазии является аллер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ями интоксикации при гельминтозах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ение зуб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ьность, капризность, агресс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160720" cy="23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16036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2843280" cy="2303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592360" cy="24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4859280" y="455292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1476360" y="455436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3635280" y="1916280"/>
            <a:ext cx="1513080" cy="2447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788000" y="476280"/>
            <a:ext cx="4114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тье рук с мылом после уборной, контактов с животными или с зем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ермическая обработка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те условия, которые помогут избежать желудочно-кишечных инфекц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76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417492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9:51:53Z</dcterms:created>
  <dc:creator>Admin</dc:creator>
  <dc:description/>
  <dc:language>en-US</dc:language>
  <cp:lastModifiedBy>LEGION</cp:lastModifiedBy>
  <dcterms:modified xsi:type="dcterms:W3CDTF">2015-02-13T11:14:50Z</dcterms:modified>
  <cp:revision>15</cp:revision>
  <dc:subject/>
  <dc:title>Слайд 1</dc:title>
</cp:coreProperties>
</file>