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2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5BD8-11C0-4A25-8257-4D223B8EE9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A54B-6B82-48CF-8482-B4A282104A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шибки питания, ведущие к возникновению болезней желудочно-кишечного трак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 еди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ы едим слишком жир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ы неправильно выбираем 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 пье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ы едим неправи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ы едим слишком много слад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ы неправильно готов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ы слишком часто лакомим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ы слишком мало знаем о пит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8E12-356F-483B-A163-2C404DE610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равила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рное питание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ща должна иметь привлекательный вид, приятный запах и вку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азнообразное пит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меренность в 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ть не торопя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облюдение правил личной гиги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C375-11CA-4D22-8D67-8630AE9FA2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зменения, которым подвергается пища в органах пищевари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пищевод – продвижение пищи в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9A0D-467D-41CE-B38E-CAFC1B2ED3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83F8-3C10-4226-A9EA-DB9A3A1C14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AA18-8F82-4E23-B070-BF5712D93E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B686-6431-479A-884F-C1BD1FDA8B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истные инваз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гельминтами происходит фекально-оральным путем через р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з-за прямых контактов с землей, пес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загрязненные предм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продукты пит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редством насекомых (мух, тараканов, муравье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контакты с животными (собаки, кош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C87B-4399-41AC-9BEB-B0070A2E5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ым синдромом при глистной инвазии является дисфункция Ж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устойчивый ст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евой синд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ыжка, тошнота, быстрое насы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амых частых проявлений глистной инвазии является алл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ениями интоксикации при гельминтозах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ипение зуб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ражительность, капризность, агресс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740A-F9A9-49A2-B990-9CCEF4856A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5D9F-2B17-4111-91BA-69BC86C8C9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тье рук с мылом после уборной, контактов с животными или с зем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Термическая обработка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т те условия, которые помогут избежать желудочно-кишечных инфекци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1DCE-3903-4727-A737-980F3723ED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043-3099-4C84-BFBE-5000789D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DE3-F588-4D2C-82F3-A1D099A3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E9C-200C-4386-BC5F-DD6A587E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78A-02F9-4B59-9E18-2E39FB90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59B-77F3-4B26-AEB8-2C631253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D4D-CFBF-4E23-B02C-D92AC9C3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46F-314E-479C-A836-AA83405F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FA0-8C1A-418A-A2A2-C48095AA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736-E8E7-4D55-BC4C-FAB313B0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C1A-8564-4A7D-94C2-F103715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DBD-9A01-41C6-A516-91CFD65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1D2-D9E2-4CC4-8A59-2EBA3A0E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29FA-CB6E-4112-8DCF-0CBFA27CE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6071760"/>
            <a:ext cx="611496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3924360" cy="3670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шибки питания, ведущие к возникновению болезней желудочно-кишечного тра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71640" y="206064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 еди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ы едим слишком жи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ы неправильно выбираем е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 пье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ы едим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ы едим слишком много слад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ы неправильно готов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Мы слишком часто лакомим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Мы слишком мало знаем о п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08908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6659640" y="3716280"/>
            <a:ext cx="2087640" cy="2962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ые правил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228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егулярное пита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ща должна иметь привлекательный вид, приятный запах и вк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азнообразное пит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меренность в 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Есть не торопя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облюдение правил личной гиги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951280" cy="21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2503440" cy="2881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102280" cy="638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292720" y="910800"/>
            <a:ext cx="3851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ищевод – продвижение пищи в желуд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, которым подвергается пища в органах пищеваритель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694160" y="3933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мон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580000" y="393372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очки боту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797080" y="63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ный виб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2879640" cy="1942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1044000" y="630864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зентерий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521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98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екция передается через зараженные пищевые продукты – мясо, рыбу, молоко, салат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0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истные инв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жение гельминтами происходит фекально-оральным путем через ро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з-за прямых контактов с землей, пес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загрязненные предм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продукты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редством насекомых (мух, тараканов, муравь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ез контакты с животными (собаки, кош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735280" cy="32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873160" cy="3240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640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ым синдромом при глистной инвазии является дисфункция Ж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устойчивый сту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олевой синд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еор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ыжка, тошнота, быстрое насы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самых частых проявлений глистной инвазии является аллер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ями интоксикации при гельминтозах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ение зуб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ость, капризность, агресс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16036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843280" cy="230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4859280" y="455292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476360" y="455436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3635280" y="1916280"/>
            <a:ext cx="1513080" cy="2447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788000" y="476280"/>
            <a:ext cx="4114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тье рук с мылом после уборной, контактов с животными или с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рмическая обработка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те условия, которые помогут избежать желудочно-кишечных инфек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417492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51:53Z</dcterms:created>
  <dc:creator>Admin</dc:creator>
  <dc:description/>
  <dc:language>en-US</dc:language>
  <cp:lastModifiedBy>LEGION</cp:lastModifiedBy>
  <dcterms:modified xsi:type="dcterms:W3CDTF">2015-02-13T11:14:50Z</dcterms:modified>
  <cp:revision>15</cp:revision>
  <dc:subject/>
  <dc:title>Слайд 1</dc:title>
</cp:coreProperties>
</file>