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DA55-E47F-48DB-9F57-FAC6B4F738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1163-F3E5-49C7-8760-D59097D858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политических институтов на экономическую жизн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1440-F8FE-4982-81A0-C2AC300AD8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3068-460B-49E7-BEC3-4791903AB0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9912-1EBB-4896-99CB-209D8E720A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2842-E0A1-4899-A095-7980DE6AF6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1BF7-A68D-4B33-A2F0-7797449112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Какая схема в большей мере отражает соотношение государства и экономической сферы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2836-A515-42A4-B028-7DAB18563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ем соглас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5857-FC5D-43F4-B94C-CDA9C7416F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80F4-4D26-474B-80EF-AD695C8D08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7962-D53A-41D5-93CB-E7185AEE5C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C748-AA7B-412D-974D-7B0B8B1D4E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C5E-AC3D-44DB-8A4F-711F8197F9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3173-CAFA-43A8-9B3E-D95F0C0268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E2CB-2773-4D61-AED4-F47A298502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4A48-3C7C-4EE9-A439-F6FA801A41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D9A7-DC76-4598-858D-55476AD0B1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A0A-181D-469A-B399-D5A72A99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3BF-1CB7-40B2-B5AE-7744C15F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521-055E-4FDD-85E4-E2D5114D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F8A-C525-4356-9166-63681424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CB7-FB7C-42A9-BD19-C3BF2A24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729-6549-477A-B719-8ECB0D4A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0CE-3669-4E49-A8E5-A5DA6402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DD4-9633-4D4E-9BC7-B68AE785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4E9-A510-4D74-8720-A0FDF9B0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322-F39C-4798-9F66-82F08586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E92-24B1-4B2F-967A-C2B3E46D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11F-1EAA-4774-BB0A-06E0EF96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7A6F-ED45-42EE-9D8D-AFD2D42177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3559-BA3D-4EFC-AC56-8EC1620F0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с двумя скругленными противолежащими углами 5"/>
          <p:cNvSpPr/>
          <p:nvPr/>
        </p:nvSpPr>
        <p:spPr>
          <a:xfrm>
            <a:off x="1214280" y="1571760"/>
            <a:ext cx="6429600" cy="1643040"/>
          </a:xfrm>
          <a:custGeom>
            <a:avLst/>
            <a:gdLst/>
            <a:ahLst/>
            <a:rect l="l" t="t" r="r" b="b"/>
            <a:pathLst>
              <a:path w="6429375" h="1643063">
                <a:moveTo>
                  <a:pt x="273849" y="0"/>
                </a:moveTo>
                <a:lnTo>
                  <a:pt x="6429375" y="0"/>
                </a:lnTo>
                <a:lnTo>
                  <a:pt x="6429375" y="0"/>
                </a:lnTo>
                <a:lnTo>
                  <a:pt x="6429375" y="1369214"/>
                </a:lnTo>
                <a:cubicBezTo>
                  <a:pt x="6429375" y="1520457"/>
                  <a:pt x="6306769" y="1643063"/>
                  <a:pt x="6155526" y="1643063"/>
                </a:cubicBezTo>
                <a:lnTo>
                  <a:pt x="0" y="1643063"/>
                </a:lnTo>
                <a:lnTo>
                  <a:pt x="0" y="1643063"/>
                </a:lnTo>
                <a:lnTo>
                  <a:pt x="0" y="273849"/>
                </a:lnTo>
                <a:cubicBezTo>
                  <a:pt x="0" y="122606"/>
                  <a:pt x="122606" y="0"/>
                  <a:pt x="273849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335240" y="1798560"/>
            <a:ext cx="6175080" cy="2425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TextBox 5"/>
          <p:cNvGrpSpPr/>
          <p:nvPr/>
        </p:nvGrpSpPr>
        <p:grpSpPr>
          <a:xfrm>
            <a:off x="1085760" y="1133640"/>
            <a:ext cx="6326280" cy="1122120"/>
            <a:chOff x="1085760" y="1133640"/>
            <a:chExt cx="6326280" cy="1122120"/>
          </a:xfrm>
        </p:grpSpPr>
        <p:pic>
          <p:nvPicPr>
            <p:cNvPr id="128" name="TextBox 5" descr=""/>
            <p:cNvPicPr/>
            <p:nvPr/>
          </p:nvPicPr>
          <p:blipFill>
            <a:blip r:embed="rId2"/>
            <a:stretch/>
          </p:blipFill>
          <p:spPr>
            <a:xfrm>
              <a:off x="1085760" y="1133640"/>
              <a:ext cx="63262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43000" y="1214280"/>
              <a:ext cx="621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лияние политических институтов на экономическую жизнь государ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6"/>
          <p:cNvSpPr/>
          <p:nvPr/>
        </p:nvSpPr>
        <p:spPr>
          <a:xfrm>
            <a:off x="1571760" y="221472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85840" y="3286080"/>
            <a:ext cx="214308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571840" y="3286080"/>
            <a:ext cx="164304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357800" y="3286080"/>
            <a:ext cx="157140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6143760" y="3286080"/>
            <a:ext cx="242892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5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428760" y="1071720"/>
            <a:ext cx="707220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785880" y="2214720"/>
            <a:ext cx="14288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357280" y="2714760"/>
            <a:ext cx="15717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3786120" y="2143080"/>
            <a:ext cx="17859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5643720" y="2571840"/>
            <a:ext cx="17143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285840" y="3786120"/>
            <a:ext cx="83581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714680" y="4929120"/>
            <a:ext cx="5286240" cy="1191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тирание культурных разли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ый 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6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785880" y="1571760"/>
            <a:ext cx="707220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85880" y="2928960"/>
            <a:ext cx="707220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14240" y="4000680"/>
            <a:ext cx="71438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714240" y="5000760"/>
            <a:ext cx="71438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7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Схема 5" descr=""/>
          <p:cNvPicPr/>
          <p:nvPr/>
        </p:nvPicPr>
        <p:blipFill>
          <a:blip r:embed="rId2"/>
          <a:stretch/>
        </p:blipFill>
        <p:spPr>
          <a:xfrm>
            <a:off x="274680" y="609480"/>
            <a:ext cx="7534080" cy="944640"/>
          </a:xfrm>
          <a:prstGeom prst="rect">
            <a:avLst/>
          </a:prstGeom>
          <a:ln w="0">
            <a:noFill/>
          </a:ln>
        </p:spPr>
      </p:pic>
      <p:sp>
        <p:nvSpPr>
          <p:cNvPr id="169" name="Овал 7"/>
          <p:cNvSpPr/>
          <p:nvPr/>
        </p:nvSpPr>
        <p:spPr>
          <a:xfrm>
            <a:off x="214200" y="1714680"/>
            <a:ext cx="2643480" cy="7142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8"/>
          <p:cNvSpPr/>
          <p:nvPr/>
        </p:nvSpPr>
        <p:spPr>
          <a:xfrm>
            <a:off x="2928960" y="1714680"/>
            <a:ext cx="2786040" cy="642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9"/>
          <p:cNvSpPr/>
          <p:nvPr/>
        </p:nvSpPr>
        <p:spPr>
          <a:xfrm>
            <a:off x="500040" y="3500280"/>
            <a:ext cx="2286000" cy="7858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0"/>
          <p:cNvSpPr/>
          <p:nvPr/>
        </p:nvSpPr>
        <p:spPr>
          <a:xfrm>
            <a:off x="2500200" y="3429000"/>
            <a:ext cx="221472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"/>
          <p:cNvSpPr/>
          <p:nvPr/>
        </p:nvSpPr>
        <p:spPr>
          <a:xfrm>
            <a:off x="500040" y="5072040"/>
            <a:ext cx="2928960" cy="1214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2"/>
          <p:cNvSpPr/>
          <p:nvPr/>
        </p:nvSpPr>
        <p:spPr>
          <a:xfrm>
            <a:off x="1714680" y="5357880"/>
            <a:ext cx="1714320" cy="5713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3"/>
          <p:cNvSpPr/>
          <p:nvPr/>
        </p:nvSpPr>
        <p:spPr>
          <a:xfrm>
            <a:off x="5214960" y="2643120"/>
            <a:ext cx="3214800" cy="10717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5"/>
          <p:cNvSpPr/>
          <p:nvPr/>
        </p:nvSpPr>
        <p:spPr>
          <a:xfrm>
            <a:off x="6643800" y="2786040"/>
            <a:ext cx="178596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6"/>
          <p:cNvSpPr/>
          <p:nvPr/>
        </p:nvSpPr>
        <p:spPr>
          <a:xfrm>
            <a:off x="4857840" y="4357800"/>
            <a:ext cx="2571840" cy="8571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7"/>
          <p:cNvSpPr/>
          <p:nvPr/>
        </p:nvSpPr>
        <p:spPr>
          <a:xfrm>
            <a:off x="5000760" y="4929120"/>
            <a:ext cx="235728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6" descr=""/>
          <p:cNvPicPr/>
          <p:nvPr/>
        </p:nvPicPr>
        <p:blipFill>
          <a:blip r:embed="rId2"/>
          <a:stretch/>
        </p:blipFill>
        <p:spPr>
          <a:xfrm>
            <a:off x="573120" y="725400"/>
            <a:ext cx="7431120" cy="1712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571680" y="2214720"/>
            <a:ext cx="692928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714240" y="4357800"/>
            <a:ext cx="792972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000080" y="857160"/>
            <a:ext cx="62150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928800" y="1928880"/>
            <a:ext cx="6500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добиться высокого уровня развития и процве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000080" y="2571840"/>
            <a:ext cx="64296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епень обеспечения населения товарами и услугами, необходимыми для комфортного и безопасн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857160" y="3714840"/>
            <a:ext cx="300060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хват в процессе войн территорий и богатства других народов с богат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572000" y="3714840"/>
            <a:ext cx="3071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тор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амый б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тот, кто не умеет пользоваться тем, чем располагает» (П. Бу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0"/>
          <p:cNvCxnSpPr/>
          <p:nvPr/>
        </p:nvCxnSpPr>
        <p:spPr>
          <a:xfrm>
            <a:off x="4070880" y="1571760"/>
            <a:ext cx="108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/>
          <p:nvPr/>
        </p:nvCxnSpPr>
        <p:spPr>
          <a:xfrm>
            <a:off x="4070880" y="228600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6"/>
          <p:cNvCxnSpPr/>
          <p:nvPr/>
        </p:nvCxnSpPr>
        <p:spPr>
          <a:xfrm flipH="1">
            <a:off x="2069280" y="3501720"/>
            <a:ext cx="252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Прямая со стрелкой 18"/>
          <p:cNvCxnSpPr/>
          <p:nvPr/>
        </p:nvCxnSpPr>
        <p:spPr>
          <a:xfrm flipH="1">
            <a:off x="6286320" y="3500280"/>
            <a:ext cx="2160" cy="2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Box 19"/>
          <p:cNvSpPr/>
          <p:nvPr/>
        </p:nvSpPr>
        <p:spPr>
          <a:xfrm>
            <a:off x="1285920" y="5357880"/>
            <a:ext cx="614376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на душу насел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тель эффективного развит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1"/>
          <p:cNvCxnSpPr/>
          <p:nvPr/>
        </p:nvCxnSpPr>
        <p:spPr>
          <a:xfrm flipH="1">
            <a:off x="2641320" y="5216040"/>
            <a:ext cx="216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Прямая со стрелкой 23"/>
          <p:cNvCxnSpPr/>
          <p:nvPr/>
        </p:nvCxnSpPr>
        <p:spPr>
          <a:xfrm flipH="1">
            <a:off x="5928480" y="5214600"/>
            <a:ext cx="108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57120" y="1071720"/>
            <a:ext cx="74296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928800" y="1714680"/>
            <a:ext cx="6858000" cy="231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57120" y="4357800"/>
            <a:ext cx="33577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929040" y="4357800"/>
            <a:ext cx="43578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214280" y="1500120"/>
            <a:ext cx="621540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571760" y="2428920"/>
            <a:ext cx="5357520" cy="1008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эконом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 влия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уровень жизн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 flipH="1">
            <a:off x="4285440" y="221436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Box 8"/>
          <p:cNvSpPr/>
          <p:nvPr/>
        </p:nvSpPr>
        <p:spPr>
          <a:xfrm>
            <a:off x="1214280" y="4357800"/>
            <a:ext cx="6500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и способы перехода России к рыночной экономике превратили бедность в серьезн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ое условие ее решения – экономический р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0"/>
          <p:cNvCxnSpPr/>
          <p:nvPr/>
        </p:nvCxnSpPr>
        <p:spPr>
          <a:xfrm flipH="1">
            <a:off x="4285440" y="3429000"/>
            <a:ext cx="2520" cy="9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324000" y="1378080"/>
            <a:ext cx="7503840" cy="23828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00040" y="1428840"/>
            <a:ext cx="292896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номика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рождае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материальных 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я жиль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и вовлеч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щин в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42960" y="642960"/>
            <a:ext cx="607212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857760" y="1428840"/>
            <a:ext cx="285732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родонаселение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эконом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общей числен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т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пов роста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8"/>
          <p:cNvCxnSpPr/>
          <p:nvPr/>
        </p:nvCxnSpPr>
        <p:spPr>
          <a:xfrm flipH="1">
            <a:off x="3569400" y="1500120"/>
            <a:ext cx="2520" cy="1858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99" name="Прямая со стрелкой 10"/>
          <p:cNvCxnSpPr/>
          <p:nvPr/>
        </p:nvCxnSpPr>
        <p:spPr>
          <a:xfrm flipV="1">
            <a:off x="3711960" y="1499760"/>
            <a:ext cx="2520" cy="19310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00" name="TextBox 11"/>
          <p:cNvSpPr/>
          <p:nvPr/>
        </p:nvSpPr>
        <p:spPr>
          <a:xfrm>
            <a:off x="571680" y="3714840"/>
            <a:ext cx="60721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экономики и состояния здоровья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71680" y="4357800"/>
            <a:ext cx="30715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ор хороше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4000680" y="4357800"/>
            <a:ext cx="421452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бое состояние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производительност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ение продолжительности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6" descr=""/>
          <p:cNvPicPr/>
          <p:nvPr/>
        </p:nvPicPr>
        <p:blipFill>
          <a:blip r:embed="rId2"/>
          <a:stretch/>
        </p:blipFill>
        <p:spPr>
          <a:xfrm>
            <a:off x="360360" y="1365120"/>
            <a:ext cx="7424640" cy="2627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857160" y="714240"/>
            <a:ext cx="621504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85840" y="1857240"/>
            <a:ext cx="2643120" cy="33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071880" y="1857240"/>
            <a:ext cx="2928960" cy="283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6143760" y="1857240"/>
            <a:ext cx="2714400" cy="3111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642960" y="5572080"/>
            <a:ext cx="8001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928800" y="1357200"/>
            <a:ext cx="6858000" cy="1800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857160" y="3643200"/>
            <a:ext cx="7500960" cy="1373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44:06Z</dcterms:created>
  <dc:creator>Марина</dc:creator>
  <dc:description/>
  <dc:language>en-US</dc:language>
  <cp:lastModifiedBy>LEGION</cp:lastModifiedBy>
  <dcterms:modified xsi:type="dcterms:W3CDTF">2014-11-10T10:50:10Z</dcterms:modified>
  <cp:revision>14</cp:revision>
  <dc:subject/>
  <dc:title>Слайд 1</dc:title>
</cp:coreProperties>
</file>