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2AC2-8AAC-4800-88C1-723EA88891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AE25-96BC-4605-B094-43148074CB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политических институтов на экономическую жизн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DA7C-ED86-4793-B550-013D3F004A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85D6-8043-4EAF-BCC2-3435DFF517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CB89-28DF-4ABC-A26D-23227AA5BC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лияние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88EC-BD6D-49EF-8D87-C02750F4C6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300D-77D1-4406-A0DD-A8CECBD3BD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Какая схема в большей мере отражает соотношение государства и экономической сферы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7477-ACA1-42F6-BBD9-11B1384C07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кем соглас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C42D-1568-4241-B7F8-C07FB05C61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052F-4147-458E-A996-E9911F39BF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CFF-08F0-46D7-8A81-BEA9AC2064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EBF1-35D0-4FF8-BA5B-40EB988931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социаль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609B-EA38-4C08-98F7-45340098DD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A28E-38B1-4ABA-90F9-729D9F219E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ка и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5E6D-673E-436A-91D0-94D86BAC99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2C4A-3D2A-4325-B97A-2C36958DAD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16D8-7B22-4F9A-8275-9AE93A5C65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FD9-B018-4675-B48E-0145C03F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035-2F9E-4077-95F1-E4E18613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B5B-B707-4D64-9967-539D9989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872A-FC80-40A5-ADDC-76E89A05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D976-C149-40B5-BDB4-9EDC98CB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8F4-6B65-4BDF-BD81-9CA2489E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FA4-16F0-498B-B66D-A62FB406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965-0FD7-4113-847A-E39416E8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B24-6C20-4688-B3E2-A504549E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5CB-A19D-4AE6-9A13-10B5D119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AA6-F91D-4E15-AE34-F5DF055D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47E-1CA4-4F4F-9C12-9B04897D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896D-0164-4089-B62C-9537D2ABC4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BB25-0CB8-439E-9B78-7D9509C60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с двумя скругленными противолежащими углами 5"/>
          <p:cNvSpPr/>
          <p:nvPr/>
        </p:nvSpPr>
        <p:spPr>
          <a:xfrm>
            <a:off x="1214280" y="1571760"/>
            <a:ext cx="6429600" cy="1643040"/>
          </a:xfrm>
          <a:custGeom>
            <a:avLst/>
            <a:gdLst/>
            <a:ahLst/>
            <a:rect l="l" t="t" r="r" b="b"/>
            <a:pathLst>
              <a:path w="6429375" h="1643063">
                <a:moveTo>
                  <a:pt x="273849" y="0"/>
                </a:moveTo>
                <a:lnTo>
                  <a:pt x="6429375" y="0"/>
                </a:lnTo>
                <a:lnTo>
                  <a:pt x="6429375" y="0"/>
                </a:lnTo>
                <a:lnTo>
                  <a:pt x="6429375" y="1369214"/>
                </a:lnTo>
                <a:cubicBezTo>
                  <a:pt x="6429375" y="1520457"/>
                  <a:pt x="6306769" y="1643063"/>
                  <a:pt x="6155526" y="1643063"/>
                </a:cubicBezTo>
                <a:lnTo>
                  <a:pt x="0" y="1643063"/>
                </a:lnTo>
                <a:lnTo>
                  <a:pt x="0" y="1643063"/>
                </a:lnTo>
                <a:lnTo>
                  <a:pt x="0" y="273849"/>
                </a:lnTo>
                <a:cubicBezTo>
                  <a:pt x="0" y="122606"/>
                  <a:pt x="122606" y="0"/>
                  <a:pt x="273849" y="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2"/>
          <a:stretch/>
        </p:blipFill>
        <p:spPr>
          <a:xfrm>
            <a:off x="1335240" y="1798560"/>
            <a:ext cx="6175080" cy="2425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TextBox 5"/>
          <p:cNvGrpSpPr/>
          <p:nvPr/>
        </p:nvGrpSpPr>
        <p:grpSpPr>
          <a:xfrm>
            <a:off x="1085760" y="1133640"/>
            <a:ext cx="6326280" cy="1122120"/>
            <a:chOff x="1085760" y="1133640"/>
            <a:chExt cx="6326280" cy="1122120"/>
          </a:xfrm>
        </p:grpSpPr>
        <p:pic>
          <p:nvPicPr>
            <p:cNvPr id="128" name="TextBox 5" descr=""/>
            <p:cNvPicPr/>
            <p:nvPr/>
          </p:nvPicPr>
          <p:blipFill>
            <a:blip r:embed="rId2"/>
            <a:stretch/>
          </p:blipFill>
          <p:spPr>
            <a:xfrm>
              <a:off x="1085760" y="1133640"/>
              <a:ext cx="632628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43000" y="1214280"/>
              <a:ext cx="621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Calibri"/>
                </a:rPr>
                <a:t>Влияние политических институтов на экономическую жизнь государ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Box 6"/>
          <p:cNvSpPr/>
          <p:nvPr/>
        </p:nvSpPr>
        <p:spPr>
          <a:xfrm>
            <a:off x="1571760" y="221472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ыночная экономика дает основу для поддержания </a:t>
            </a:r>
            <a:r>
              <a:rPr b="1" lang="ru-RU" sz="2000" spc="-1" strike="noStrike">
                <a:solidFill>
                  <a:srgbClr val="632523"/>
                </a:solidFill>
                <a:latin typeface="Calibri"/>
              </a:rPr>
              <a:t>демократии, правового государства, гражданского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285840" y="3286080"/>
            <a:ext cx="214308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ается возможность попасть под  власть безответственного работодателя или организации, предоставляется право вы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571840" y="3286080"/>
            <a:ext cx="164304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ловек учится ответственному отношению к своему делу, окружающим, принятию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4357800" y="3286080"/>
            <a:ext cx="157140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ыночная экономика заинтересована в существовании в рамках 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6143760" y="3286080"/>
            <a:ext cx="2428920" cy="22885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ными единицами гражданского общества в экономической сфере являются частные предприятия, кооператив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TextBox 5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3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428760" y="1071720"/>
            <a:ext cx="7072200" cy="94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alibri"/>
              </a:rPr>
              <a:t>Экономическая деятельность создает материальную основу для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785880" y="2214720"/>
            <a:ext cx="142884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357280" y="2714760"/>
            <a:ext cx="15717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3786120" y="2143080"/>
            <a:ext cx="178596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5643720" y="2571840"/>
            <a:ext cx="1714320" cy="3682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285840" y="3786120"/>
            <a:ext cx="835812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лияние процессов глобализации, происходящих в мировой экономике, на куль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1714680" y="4929120"/>
            <a:ext cx="5286240" cy="1191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Стирание культурных разли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10253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Calibri"/>
              </a:rPr>
              <a:t>Культурный 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TextBox 6" descr=""/>
          <p:cNvPicPr/>
          <p:nvPr/>
        </p:nvPicPr>
        <p:blipFill>
          <a:blip r:embed="rId2"/>
          <a:stretch/>
        </p:blipFill>
        <p:spPr>
          <a:xfrm>
            <a:off x="500040" y="1652760"/>
            <a:ext cx="7431120" cy="26272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4"/>
          <p:cNvSpPr/>
          <p:nvPr/>
        </p:nvSpPr>
        <p:spPr>
          <a:xfrm>
            <a:off x="785880" y="1571760"/>
            <a:ext cx="707220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ультура определяет творческую направленность экономической деятельности общества и людей в процессе производства и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85880" y="2928960"/>
            <a:ext cx="707220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арактер и результативность производственной деятельности зависят от уровня развития экономических эле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714240" y="4000680"/>
            <a:ext cx="71438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убокое воздействие на экономику оказывает наука, которая стала главной движущей силой экономического прогр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714240" y="5000760"/>
            <a:ext cx="71438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левидение – важнейшее средство экономической информации. Например, телевизио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7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Схема 5" descr=""/>
          <p:cNvPicPr/>
          <p:nvPr/>
        </p:nvPicPr>
        <p:blipFill>
          <a:blip r:embed="rId2"/>
          <a:stretch/>
        </p:blipFill>
        <p:spPr>
          <a:xfrm>
            <a:off x="274680" y="609480"/>
            <a:ext cx="7534080" cy="944640"/>
          </a:xfrm>
          <a:prstGeom prst="rect">
            <a:avLst/>
          </a:prstGeom>
          <a:ln w="0">
            <a:noFill/>
          </a:ln>
        </p:spPr>
      </p:pic>
      <p:sp>
        <p:nvSpPr>
          <p:cNvPr id="169" name="Овал 7"/>
          <p:cNvSpPr/>
          <p:nvPr/>
        </p:nvSpPr>
        <p:spPr>
          <a:xfrm>
            <a:off x="214200" y="1714680"/>
            <a:ext cx="2643480" cy="7142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8"/>
          <p:cNvSpPr/>
          <p:nvPr/>
        </p:nvSpPr>
        <p:spPr>
          <a:xfrm>
            <a:off x="2928960" y="1714680"/>
            <a:ext cx="2786040" cy="6426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Овал 9"/>
          <p:cNvSpPr/>
          <p:nvPr/>
        </p:nvSpPr>
        <p:spPr>
          <a:xfrm>
            <a:off x="500040" y="3500280"/>
            <a:ext cx="2286000" cy="7858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10"/>
          <p:cNvSpPr/>
          <p:nvPr/>
        </p:nvSpPr>
        <p:spPr>
          <a:xfrm>
            <a:off x="2500200" y="3429000"/>
            <a:ext cx="2214720" cy="785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1"/>
          <p:cNvSpPr/>
          <p:nvPr/>
        </p:nvSpPr>
        <p:spPr>
          <a:xfrm>
            <a:off x="500040" y="5072040"/>
            <a:ext cx="2928960" cy="1214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2"/>
          <p:cNvSpPr/>
          <p:nvPr/>
        </p:nvSpPr>
        <p:spPr>
          <a:xfrm>
            <a:off x="1714680" y="5357880"/>
            <a:ext cx="1714320" cy="5713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3"/>
          <p:cNvSpPr/>
          <p:nvPr/>
        </p:nvSpPr>
        <p:spPr>
          <a:xfrm>
            <a:off x="5214960" y="2643120"/>
            <a:ext cx="3214800" cy="107172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5"/>
          <p:cNvSpPr/>
          <p:nvPr/>
        </p:nvSpPr>
        <p:spPr>
          <a:xfrm>
            <a:off x="6643800" y="2786040"/>
            <a:ext cx="1785960" cy="642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16"/>
          <p:cNvSpPr/>
          <p:nvPr/>
        </p:nvSpPr>
        <p:spPr>
          <a:xfrm>
            <a:off x="4857840" y="4357800"/>
            <a:ext cx="2571840" cy="85716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17"/>
          <p:cNvSpPr/>
          <p:nvPr/>
        </p:nvSpPr>
        <p:spPr>
          <a:xfrm>
            <a:off x="5000760" y="4929120"/>
            <a:ext cx="2357280" cy="928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TextBox 6" descr=""/>
          <p:cNvPicPr/>
          <p:nvPr/>
        </p:nvPicPr>
        <p:blipFill>
          <a:blip r:embed="rId2"/>
          <a:stretch/>
        </p:blipFill>
        <p:spPr>
          <a:xfrm>
            <a:off x="573120" y="725400"/>
            <a:ext cx="7431120" cy="17128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571680" y="2214720"/>
            <a:ext cx="6929280" cy="11912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ристотель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«Цель государства – это совместное продвижение государства и экономических действий к высокому качеству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714240" y="4357800"/>
            <a:ext cx="792972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Конфуций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гда государство управляется согласно с разумом, постыдны бедность и нужда ; когда государство не управляется согласно с разумом, то постыдны богатства и поче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000080" y="857160"/>
            <a:ext cx="621504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ажнейший показатель и результат экономической жизни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928800" y="1928880"/>
            <a:ext cx="6500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добиться высокого уровня развития и процвета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000080" y="2571840"/>
            <a:ext cx="64296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жизн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тепень обеспечения населения товарами и услугами, необходимыми для комфортного и безопасного суще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857160" y="3714840"/>
            <a:ext cx="300060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хват в процессе войн территорий и богатства других народов с богатыми ресур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572000" y="3714840"/>
            <a:ext cx="3071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торая точка з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Самый бе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тот, кто не умеет пользоваться тем, чем располагает» (П. Буа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Прямая со стрелкой 10"/>
          <p:cNvCxnSpPr/>
          <p:nvPr/>
        </p:nvCxnSpPr>
        <p:spPr>
          <a:xfrm>
            <a:off x="4070880" y="1571760"/>
            <a:ext cx="10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13"/>
          <p:cNvCxnSpPr/>
          <p:nvPr/>
        </p:nvCxnSpPr>
        <p:spPr>
          <a:xfrm>
            <a:off x="4070880" y="228600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6"/>
          <p:cNvCxnSpPr/>
          <p:nvPr/>
        </p:nvCxnSpPr>
        <p:spPr>
          <a:xfrm flipH="1">
            <a:off x="2069280" y="3501720"/>
            <a:ext cx="252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Прямая со стрелкой 18"/>
          <p:cNvCxnSpPr/>
          <p:nvPr/>
        </p:nvCxnSpPr>
        <p:spPr>
          <a:xfrm flipH="1">
            <a:off x="6286320" y="3500280"/>
            <a:ext cx="2160" cy="21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19"/>
          <p:cNvSpPr/>
          <p:nvPr/>
        </p:nvSpPr>
        <p:spPr>
          <a:xfrm>
            <a:off x="1285920" y="5357880"/>
            <a:ext cx="6143760" cy="642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на душу населен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азатель эффективного развития эконо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 стрелкой 21"/>
          <p:cNvCxnSpPr/>
          <p:nvPr/>
        </p:nvCxnSpPr>
        <p:spPr>
          <a:xfrm flipH="1">
            <a:off x="2641320" y="5216040"/>
            <a:ext cx="2160" cy="143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23"/>
          <p:cNvCxnSpPr/>
          <p:nvPr/>
        </p:nvCxnSpPr>
        <p:spPr>
          <a:xfrm flipH="1">
            <a:off x="5928480" y="5214600"/>
            <a:ext cx="1080" cy="14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2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357120" y="1071720"/>
            <a:ext cx="7429680" cy="3988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ВП – показатель уровня благосостояния , или уровня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28800" y="1714680"/>
            <a:ext cx="6858000" cy="2319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жизни в широком смыс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ключает следующие показ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вень здоровья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стоя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ь неравномерности распределения доходов в общ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упность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житочный миним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ООН – индекс человеческого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57120" y="4357800"/>
            <a:ext cx="335772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ровень благо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т от соверш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их механиз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елен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ци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ргов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3929040" y="4357800"/>
            <a:ext cx="435780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чины низкой эффективности эконом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ревш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зкий уровень квалификации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точительное использование природных богат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214280" y="1500120"/>
            <a:ext cx="6215400" cy="7038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неэффективности эконом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рта б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1571760" y="2428920"/>
            <a:ext cx="5357520" cy="1008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вень экономического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о влия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уровень жизн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Прямая со стрелкой 7"/>
          <p:cNvCxnSpPr/>
          <p:nvPr/>
        </p:nvCxnSpPr>
        <p:spPr>
          <a:xfrm flipH="1">
            <a:off x="4285440" y="2214360"/>
            <a:ext cx="2520" cy="214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TextBox 8"/>
          <p:cNvSpPr/>
          <p:nvPr/>
        </p:nvSpPr>
        <p:spPr>
          <a:xfrm>
            <a:off x="1214280" y="4357800"/>
            <a:ext cx="6500880" cy="1465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вод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и способы перехода России к рыночной экономике превратили бедность в серьезную пробл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условие ее решения – экономический ро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0"/>
          <p:cNvCxnSpPr/>
          <p:nvPr/>
        </p:nvCxnSpPr>
        <p:spPr>
          <a:xfrm flipH="1">
            <a:off x="4285440" y="3429000"/>
            <a:ext cx="2520" cy="929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4" descr=""/>
          <p:cNvPicPr/>
          <p:nvPr/>
        </p:nvPicPr>
        <p:blipFill>
          <a:blip r:embed="rId2"/>
          <a:stretch/>
        </p:blipFill>
        <p:spPr>
          <a:xfrm>
            <a:off x="324000" y="1378080"/>
            <a:ext cx="7503840" cy="23828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00040" y="1428840"/>
            <a:ext cx="292896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ономика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рождае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материальных 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я жиль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пени вовле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енщин в произв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642960" y="642960"/>
            <a:ext cx="6072120" cy="6426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общей численности населения и темпов его роста с экономическим развитием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857760" y="1428840"/>
            <a:ext cx="2857320" cy="20142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родонаселение вли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уровень эконом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вис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общей числен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тности насе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пов роста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Прямая со стрелкой 8"/>
          <p:cNvCxnSpPr/>
          <p:nvPr/>
        </p:nvCxnSpPr>
        <p:spPr>
          <a:xfrm flipH="1">
            <a:off x="3569400" y="1500120"/>
            <a:ext cx="2520" cy="1858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99" name="Прямая со стрелкой 10"/>
          <p:cNvCxnSpPr/>
          <p:nvPr/>
        </p:nvCxnSpPr>
        <p:spPr>
          <a:xfrm flipV="1">
            <a:off x="3711960" y="1499760"/>
            <a:ext cx="2520" cy="19310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00" name="TextBox 11"/>
          <p:cNvSpPr/>
          <p:nvPr/>
        </p:nvSpPr>
        <p:spPr>
          <a:xfrm>
            <a:off x="571680" y="3714840"/>
            <a:ext cx="60721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заимосвязь экономики и состояния здоровья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71680" y="4357800"/>
            <a:ext cx="307152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тая эконо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тор хорошего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000680" y="4357800"/>
            <a:ext cx="4214520" cy="9169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лабое состояние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 производительности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кращение продолжительности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TextBox 6" descr=""/>
          <p:cNvPicPr/>
          <p:nvPr/>
        </p:nvPicPr>
        <p:blipFill>
          <a:blip r:embed="rId2"/>
          <a:stretch/>
        </p:blipFill>
        <p:spPr>
          <a:xfrm>
            <a:off x="360360" y="1365120"/>
            <a:ext cx="7424640" cy="2627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1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857160" y="714240"/>
            <a:ext cx="621504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32523"/>
                </a:solidFill>
                <a:latin typeface="Calibri"/>
              </a:rPr>
              <a:t>В помощь рыночной экономике государство реализует следующие политические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85840" y="1857240"/>
            <a:ext cx="2643120" cy="3385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Свободное развитие 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социальная и экономическая категория. Чем выше ценится свобода отдельного человека в обществе, тем более значимой восприним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свобода в государ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071880" y="1857240"/>
            <a:ext cx="2928960" cy="283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Правовой 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правового порядка предусматривает прежде всего обеспечение с помощью законов права на собственность и ее защиту, на свободу предпринимательской деятельности, на систему хозяйствен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6143760" y="1857240"/>
            <a:ext cx="2714400" cy="31114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нешняя и внутренняя 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ние институтов для поддержания общественного порядка в стране, а также наличие профессионально подготовленной армии, способной защитить страну от нападения изв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42960" y="5572080"/>
            <a:ext cx="800100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жнейшая задача государств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храна и поддержание в национальной экономике конкуре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2" descr="D:\Марина\УРОКИ\ФОНОВЫЕ РИСУНКИ и РАМКИ\13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928800" y="1357200"/>
            <a:ext cx="6858000" cy="1800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государственной поли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спечение полной занят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аведливое распределение дохо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щита природного комп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857160" y="3643200"/>
            <a:ext cx="7500960" cy="13737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ажнейшая функц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разработка оптимальной национальной стратегии эконом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7:44:06Z</dcterms:created>
  <dc:creator>Марина</dc:creator>
  <dc:description/>
  <dc:language>en-US</dc:language>
  <cp:lastModifiedBy>LEGION</cp:lastModifiedBy>
  <dcterms:modified xsi:type="dcterms:W3CDTF">2014-11-10T10:50:10Z</dcterms:modified>
  <cp:revision>14</cp:revision>
  <dc:subject/>
  <dc:title>Слайд 1</dc:title>
</cp:coreProperties>
</file>