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7C49-00A1-4863-8598-6781FACA43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7B1E-F77B-418F-A866-42E26E58C8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политических институтов на экономическую жизнь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дает основу для поддержания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демократии, правового государства, гражданск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 возможность попасть под  власть безответственного работодателя или организации, предоставляется право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учится ответственному отношению к своему делу, окружающим, принятию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заинтересована в существовании в рамках правов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ми единицами гражданского общества в экономической сфере являются частные предприятия, кооператив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FE54-B902-4603-95B3-5DD1579668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BF6A-A89A-4C96-8759-DED3974DF9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кономическая деятельность создает материальную основу дл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лияние процессов глобализации, происходящих в мировой экономике, на культ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BA2B-D162-4FD4-A950-38AD1EEFFB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3958-70A8-4192-907B-4EDF8E3C67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 определяет творческую направленность экономической деятельности общества и людей в процессе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 и результативность производственной деятельности зависят от уровня развития экономически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убокое воздействие на экономику оказывает наука, которая стала главной движущей силой экономического прог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евидение – важнейшее средство экономической информации. Например, телевизионная рекл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C107-D538-49FE-8A09-8E26C3841C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Какая схема в большей мере отражает соотношение государства и экономической сферы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1669-9C00-451A-A68A-6DEBFA23E5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ем соглас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ристотел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«Цель государства – это совместное продвижение государства и экономических действий к высокому качеству жиз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нфуций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Когда государство управляется согласно с разумом, постыдны бедность и нужда ; когда государство не управляется согласно с разумом, то постыдны богатства и поче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0AA4-45A5-47FF-8FA6-5CE73FB702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важнейший показатель и результат экономической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8A72-7F64-40A9-BB27-F014BD3BDD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П – показатель уровня благосостояния , или уровня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ровень жизни в широком смыс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следующие показат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доровь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равномерности распределения доходов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точный миним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ОН – индекс челове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благо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соверш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механиз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я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ы низкой эффективности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ревш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уровень квалификации кад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чительное использование природных богат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D56C-E672-4ECC-B845-34BF97BB11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неэффективности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06E6-799F-4439-A4A4-126E799D1D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социаль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0926-1206-4313-8B88-6756E5340F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связь общей численности населения и темпов его роста с экономическим развитием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D9B8-6944-4482-8C35-1130A8D297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86D7-68D4-4F12-8AA1-E6021C5A77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 помощь рыночной экономике государство реализует следующие политическ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Свободное развитие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циальная и экономическая категория. Чем выше ценится свобода отдельного человека в обществе, тем более значимой восприним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бода в государ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овой поря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равового порядка предусматривает прежде всего обеспечение с помощью законов права на собственность и ее защиту, на свободу предпринимательской деятельности, на систему хозяйственных до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нешняя и внутрення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нститутов для поддержания общественного порядка в стране, а также наличие профессионально подготовленной армии, способной защитить страну от нападения изв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ейшая задача государства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и поддержание в национальной экономике конкур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FA48-E94B-4F9B-AC4B-D677206237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государствен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олной занят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распределение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иродного комплек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ейшая функ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разработка оптимальной национальной стратегии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A669-FD8C-40F3-854C-76D462E00F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051-4D1C-42D4-BBCF-08CA16CF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FEC-8FE2-4E72-978B-31FC7787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157-F739-48E4-9FA6-3DDB9BC7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957-0E61-45D3-9781-505BD977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1F0-CC61-49A5-AE40-E4C5CCB7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E68-445E-46E4-A5DC-8E414B8E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546-8C8A-4CFE-AA00-BD45435B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3D9-6F75-4460-B79D-1A15A688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BA6-4483-4E7F-9051-3EE4DE28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161-5BBE-4F02-89DB-24AC5BF9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1104-2208-4FA6-953F-F47F5FA1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65A-2137-41C7-BB05-F12FC8F9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F8FD-6D0F-4C88-A0F4-8DEC1E3AC7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AFA2-55D3-4720-8DD6-3973E3AD4F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с двумя скругленными противолежащими углами 5"/>
          <p:cNvSpPr/>
          <p:nvPr/>
        </p:nvSpPr>
        <p:spPr>
          <a:xfrm>
            <a:off x="1214280" y="1571760"/>
            <a:ext cx="6429600" cy="1643040"/>
          </a:xfrm>
          <a:custGeom>
            <a:avLst/>
            <a:gdLst/>
            <a:ahLst/>
            <a:rect l="l" t="t" r="r" b="b"/>
            <a:pathLst>
              <a:path w="6429375" h="1643063">
                <a:moveTo>
                  <a:pt x="273849" y="0"/>
                </a:moveTo>
                <a:lnTo>
                  <a:pt x="6429375" y="0"/>
                </a:lnTo>
                <a:lnTo>
                  <a:pt x="6429375" y="0"/>
                </a:lnTo>
                <a:lnTo>
                  <a:pt x="6429375" y="1369214"/>
                </a:lnTo>
                <a:cubicBezTo>
                  <a:pt x="6429375" y="1520457"/>
                  <a:pt x="6306769" y="1643063"/>
                  <a:pt x="6155526" y="1643063"/>
                </a:cubicBezTo>
                <a:lnTo>
                  <a:pt x="0" y="1643063"/>
                </a:lnTo>
                <a:lnTo>
                  <a:pt x="0" y="1643063"/>
                </a:lnTo>
                <a:lnTo>
                  <a:pt x="0" y="273849"/>
                </a:lnTo>
                <a:cubicBezTo>
                  <a:pt x="0" y="122606"/>
                  <a:pt x="122606" y="0"/>
                  <a:pt x="273849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1335240" y="1798560"/>
            <a:ext cx="6175080" cy="2425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TextBox 5"/>
          <p:cNvGrpSpPr/>
          <p:nvPr/>
        </p:nvGrpSpPr>
        <p:grpSpPr>
          <a:xfrm>
            <a:off x="1085760" y="1133640"/>
            <a:ext cx="6326280" cy="1122120"/>
            <a:chOff x="1085760" y="1133640"/>
            <a:chExt cx="6326280" cy="1122120"/>
          </a:xfrm>
        </p:grpSpPr>
        <p:pic>
          <p:nvPicPr>
            <p:cNvPr id="128" name="TextBox 5" descr=""/>
            <p:cNvPicPr/>
            <p:nvPr/>
          </p:nvPicPr>
          <p:blipFill>
            <a:blip r:embed="rId2"/>
            <a:stretch/>
          </p:blipFill>
          <p:spPr>
            <a:xfrm>
              <a:off x="1085760" y="1133640"/>
              <a:ext cx="632628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43000" y="1214280"/>
              <a:ext cx="621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Влияние политических институтов на экономическую жизнь государ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6"/>
          <p:cNvSpPr/>
          <p:nvPr/>
        </p:nvSpPr>
        <p:spPr>
          <a:xfrm>
            <a:off x="1571760" y="221472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ыночная экономика дает основу для поддержания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демократии, правового государства, гражданского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285840" y="3286080"/>
            <a:ext cx="214308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кращается возможность попасть под  власть безответственного работодателя или организации, предоставляется право 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571840" y="3286080"/>
            <a:ext cx="164304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к учится ответственному отношению к своему делу, окружающим, принятию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4357800" y="3286080"/>
            <a:ext cx="157140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ночная экономика заинтересована в существовании в рамках 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6143760" y="3286080"/>
            <a:ext cx="242892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ными единицами гражданского общества в экономической сфере являются частные предприятия, кооператив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8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TextBox 5" descr=""/>
          <p:cNvPicPr/>
          <p:nvPr/>
        </p:nvPicPr>
        <p:blipFill>
          <a:blip r:embed="rId2"/>
          <a:stretch/>
        </p:blipFill>
        <p:spPr>
          <a:xfrm>
            <a:off x="500040" y="1652760"/>
            <a:ext cx="7431120" cy="2627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3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428760" y="1071720"/>
            <a:ext cx="707220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Экономическая деятельность создает материальную основу для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785880" y="2214720"/>
            <a:ext cx="142884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2357280" y="2714760"/>
            <a:ext cx="15717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3786120" y="2143080"/>
            <a:ext cx="17859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5643720" y="2571840"/>
            <a:ext cx="171432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285840" y="3786120"/>
            <a:ext cx="835812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лияние процессов глобализации, происходящих в мировой экономике, на культ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1714680" y="4929120"/>
            <a:ext cx="5286240" cy="1191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тирание культурных разли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Культур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Культурный 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4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6" descr=""/>
          <p:cNvPicPr/>
          <p:nvPr/>
        </p:nvPicPr>
        <p:blipFill>
          <a:blip r:embed="rId2"/>
          <a:stretch/>
        </p:blipFill>
        <p:spPr>
          <a:xfrm>
            <a:off x="500040" y="1652760"/>
            <a:ext cx="7431120" cy="2627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785880" y="1571760"/>
            <a:ext cx="707220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льтура определяет творческую направленность экономической деятельности общества и людей в процессе производства и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785880" y="2928960"/>
            <a:ext cx="707220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арактер и результативность производственной деятельности зависят от уровня развития экономических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714240" y="4000680"/>
            <a:ext cx="714384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убокое воздействие на экономику оказывает наука, которая стала главной движущей силой экономического прогр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714240" y="5000760"/>
            <a:ext cx="714384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левидение – важнейшее средство экономической информации. Например, телевизио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7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Схема 5" descr=""/>
          <p:cNvPicPr/>
          <p:nvPr/>
        </p:nvPicPr>
        <p:blipFill>
          <a:blip r:embed="rId2"/>
          <a:stretch/>
        </p:blipFill>
        <p:spPr>
          <a:xfrm>
            <a:off x="274680" y="609480"/>
            <a:ext cx="7534080" cy="944640"/>
          </a:xfrm>
          <a:prstGeom prst="rect">
            <a:avLst/>
          </a:prstGeom>
          <a:ln w="0">
            <a:noFill/>
          </a:ln>
        </p:spPr>
      </p:pic>
      <p:sp>
        <p:nvSpPr>
          <p:cNvPr id="169" name="Овал 7"/>
          <p:cNvSpPr/>
          <p:nvPr/>
        </p:nvSpPr>
        <p:spPr>
          <a:xfrm>
            <a:off x="214200" y="1714680"/>
            <a:ext cx="2643480" cy="71424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8"/>
          <p:cNvSpPr/>
          <p:nvPr/>
        </p:nvSpPr>
        <p:spPr>
          <a:xfrm>
            <a:off x="2928960" y="1714680"/>
            <a:ext cx="2786040" cy="642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9"/>
          <p:cNvSpPr/>
          <p:nvPr/>
        </p:nvSpPr>
        <p:spPr>
          <a:xfrm>
            <a:off x="500040" y="3500280"/>
            <a:ext cx="2286000" cy="7858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0"/>
          <p:cNvSpPr/>
          <p:nvPr/>
        </p:nvSpPr>
        <p:spPr>
          <a:xfrm>
            <a:off x="2500200" y="3429000"/>
            <a:ext cx="221472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1"/>
          <p:cNvSpPr/>
          <p:nvPr/>
        </p:nvSpPr>
        <p:spPr>
          <a:xfrm>
            <a:off x="500040" y="5072040"/>
            <a:ext cx="2928960" cy="1214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2"/>
          <p:cNvSpPr/>
          <p:nvPr/>
        </p:nvSpPr>
        <p:spPr>
          <a:xfrm>
            <a:off x="1714680" y="5357880"/>
            <a:ext cx="1714320" cy="5713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уд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3"/>
          <p:cNvSpPr/>
          <p:nvPr/>
        </p:nvSpPr>
        <p:spPr>
          <a:xfrm>
            <a:off x="5214960" y="2643120"/>
            <a:ext cx="3214800" cy="10717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5"/>
          <p:cNvSpPr/>
          <p:nvPr/>
        </p:nvSpPr>
        <p:spPr>
          <a:xfrm>
            <a:off x="6643800" y="2786040"/>
            <a:ext cx="178596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16"/>
          <p:cNvSpPr/>
          <p:nvPr/>
        </p:nvSpPr>
        <p:spPr>
          <a:xfrm>
            <a:off x="4857840" y="4357800"/>
            <a:ext cx="2571840" cy="8571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7"/>
          <p:cNvSpPr/>
          <p:nvPr/>
        </p:nvSpPr>
        <p:spPr>
          <a:xfrm>
            <a:off x="5000760" y="4929120"/>
            <a:ext cx="235728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 6" descr=""/>
          <p:cNvPicPr/>
          <p:nvPr/>
        </p:nvPicPr>
        <p:blipFill>
          <a:blip r:embed="rId2"/>
          <a:stretch/>
        </p:blipFill>
        <p:spPr>
          <a:xfrm>
            <a:off x="573120" y="725400"/>
            <a:ext cx="7431120" cy="17128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571680" y="2214720"/>
            <a:ext cx="692928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ристотель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«Цель государства – это совместное продвижение государства и экономических действий к высокому качеству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714240" y="4357800"/>
            <a:ext cx="7929720" cy="1557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фуций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огда государство управляется согласно с разумом, постыдны бедность и нужда ; когда государство не управляется согласно с разумом, то постыдны богатства и поче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000080" y="857160"/>
            <a:ext cx="621504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важнейший показатель и результат экономической жизни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928800" y="1928880"/>
            <a:ext cx="6500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добиться высокого уровня развития и процвет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000080" y="2571840"/>
            <a:ext cx="64296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тепень обеспечения населения товарами и услугами, необходимыми для комфортного и безопасно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857160" y="3714840"/>
            <a:ext cx="300060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 точка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хват в процессе войн территорий и богатства других народов с богатыми ресур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572000" y="3714840"/>
            <a:ext cx="307188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торая точка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амый бе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тот, кто не умеет пользоваться тем, чем располагает» (П. Буа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10"/>
          <p:cNvCxnSpPr/>
          <p:nvPr/>
        </p:nvCxnSpPr>
        <p:spPr>
          <a:xfrm>
            <a:off x="4070880" y="1571760"/>
            <a:ext cx="108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3"/>
          <p:cNvCxnSpPr/>
          <p:nvPr/>
        </p:nvCxnSpPr>
        <p:spPr>
          <a:xfrm>
            <a:off x="4070880" y="228600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16"/>
          <p:cNvCxnSpPr/>
          <p:nvPr/>
        </p:nvCxnSpPr>
        <p:spPr>
          <a:xfrm flipH="1">
            <a:off x="2069280" y="3501720"/>
            <a:ext cx="252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Прямая со стрелкой 18"/>
          <p:cNvCxnSpPr/>
          <p:nvPr/>
        </p:nvCxnSpPr>
        <p:spPr>
          <a:xfrm flipH="1">
            <a:off x="6286320" y="3500280"/>
            <a:ext cx="2160" cy="21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Box 19"/>
          <p:cNvSpPr/>
          <p:nvPr/>
        </p:nvSpPr>
        <p:spPr>
          <a:xfrm>
            <a:off x="1285920" y="5357880"/>
            <a:ext cx="614376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 на душу насел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затель эффективного развития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1"/>
          <p:cNvCxnSpPr/>
          <p:nvPr/>
        </p:nvCxnSpPr>
        <p:spPr>
          <a:xfrm flipH="1">
            <a:off x="2641320" y="5216040"/>
            <a:ext cx="216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Прямая со стрелкой 23"/>
          <p:cNvCxnSpPr/>
          <p:nvPr/>
        </p:nvCxnSpPr>
        <p:spPr>
          <a:xfrm flipH="1">
            <a:off x="5928480" y="5214600"/>
            <a:ext cx="108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2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357120" y="1071720"/>
            <a:ext cx="742968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ВП – показатель уровня благосостояния , или уровня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928800" y="1714680"/>
            <a:ext cx="6858000" cy="231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вень жизни в широком смы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ключает следующие показ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здоровья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ояние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пень неравномерности распределения доходов в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ность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житочный миним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ОН – индекс челове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57120" y="4357800"/>
            <a:ext cx="33577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благо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соверш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номических механизм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елен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ргов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3929040" y="4357800"/>
            <a:ext cx="43578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чины низкой эффективности эконом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ревш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зкий уровень квалификации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точительное использование природных богат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1214280" y="1500120"/>
            <a:ext cx="6215400" cy="703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неэффективности эконом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571760" y="2428920"/>
            <a:ext cx="5357520" cy="1008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вень эконом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 влия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уровень жизн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7"/>
          <p:cNvCxnSpPr/>
          <p:nvPr/>
        </p:nvCxnSpPr>
        <p:spPr>
          <a:xfrm flipH="1">
            <a:off x="4285440" y="2214360"/>
            <a:ext cx="252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TextBox 8"/>
          <p:cNvSpPr/>
          <p:nvPr/>
        </p:nvSpPr>
        <p:spPr>
          <a:xfrm>
            <a:off x="1214280" y="4357800"/>
            <a:ext cx="650088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во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 и способы перехода России к рыночной экономике превратили бедность в серьезн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ое условие ее решения – экономический ро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0"/>
          <p:cNvCxnSpPr/>
          <p:nvPr/>
        </p:nvCxnSpPr>
        <p:spPr>
          <a:xfrm flipH="1">
            <a:off x="4285440" y="3429000"/>
            <a:ext cx="2520" cy="929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324000" y="1378080"/>
            <a:ext cx="7503840" cy="23828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4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00040" y="1428840"/>
            <a:ext cx="2928960" cy="20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номика вли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вень рождае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виси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материальных 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я жиль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пени вовлеч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нщин в произ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642960" y="642960"/>
            <a:ext cx="607212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ь общей численности населения и темпов его роста с экономическим развитием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857760" y="1428840"/>
            <a:ext cx="2857320" cy="20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родонаселение вли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вень эконом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вис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общей численности насе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тности насе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мпов роста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Прямая со стрелкой 8"/>
          <p:cNvCxnSpPr/>
          <p:nvPr/>
        </p:nvCxnSpPr>
        <p:spPr>
          <a:xfrm flipH="1">
            <a:off x="3569400" y="1500120"/>
            <a:ext cx="2520" cy="1858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99" name="Прямая со стрелкой 10"/>
          <p:cNvCxnSpPr/>
          <p:nvPr/>
        </p:nvCxnSpPr>
        <p:spPr>
          <a:xfrm flipV="1">
            <a:off x="3711960" y="1499760"/>
            <a:ext cx="2520" cy="19310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00" name="TextBox 11"/>
          <p:cNvSpPr/>
          <p:nvPr/>
        </p:nvSpPr>
        <p:spPr>
          <a:xfrm>
            <a:off x="571680" y="3714840"/>
            <a:ext cx="60721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ь экономики и состояния здоровья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571680" y="4357800"/>
            <a:ext cx="307152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ая 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ктор хорошего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4000680" y="4357800"/>
            <a:ext cx="421452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бое состояние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 производительности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кращение продолжительности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6" descr=""/>
          <p:cNvPicPr/>
          <p:nvPr/>
        </p:nvPicPr>
        <p:blipFill>
          <a:blip r:embed="rId2"/>
          <a:stretch/>
        </p:blipFill>
        <p:spPr>
          <a:xfrm>
            <a:off x="360360" y="1365120"/>
            <a:ext cx="7424640" cy="26272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1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857160" y="714240"/>
            <a:ext cx="621504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 помощь рыночной экономике государство реализует следующие политические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85840" y="1857240"/>
            <a:ext cx="2643120" cy="33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Свободное развитие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социальная и экономическая категория. Чем выше ценится свобода отдельного человека в обществе, тем более значимой воспринима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вобода в государ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071880" y="1857240"/>
            <a:ext cx="2928960" cy="283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Правовой 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правового порядка предусматривает прежде всего обеспечение с помощью законов права на собственность и ее защиту, на свободу предпринимательской деятельности, на систему хозяйственн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6143760" y="1857240"/>
            <a:ext cx="2714400" cy="3111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нешняя и внутренняя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институтов для поддержания общественного порядка в стране, а также наличие профессионально подготовленной армии, способной защитить страну от нападения из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642960" y="5572080"/>
            <a:ext cx="8001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жнейшая задача государств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храна и поддержание в национальной экономике конкур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928800" y="1357200"/>
            <a:ext cx="6858000" cy="1800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государственной поли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ение полной занят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аведливое распределение дох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щита природного комплек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857160" y="3643200"/>
            <a:ext cx="7500960" cy="13737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жнейшая функц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азработка оптимальной национальной стратегии эконом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44:06Z</dcterms:created>
  <dc:creator>Марина</dc:creator>
  <dc:description/>
  <dc:language>en-US</dc:language>
  <cp:lastModifiedBy>LEGION</cp:lastModifiedBy>
  <dcterms:modified xsi:type="dcterms:W3CDTF">2014-11-10T10:50:10Z</dcterms:modified>
  <cp:revision>14</cp:revision>
  <dc:subject/>
  <dc:title>Слайд 1</dc:title>
</cp:coreProperties>
</file>