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4C5C-07F9-4E0B-B17E-07BAC0E269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8A25-75B2-46BE-A712-2C7243BDD0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ние политических институтов на экономическую жизнь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 дает основу для поддержания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демократии, правового государства, гражданск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ается возможность попасть под  власть безответственного работодателя или организации, предоставляется право вы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учится ответственному отношению к своему делу, окружающим, принятию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 заинтересована в существовании в рамках правового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ыми единицами гражданского общества в экономической сфере являются частные предприятия, кооперативы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ADBD-1A81-450E-9A5A-9631CA8588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ка и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9AD1-6FEB-4E1D-B73F-90DB80DC6B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Экономическая деятельность создает материальную основу для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лияние процессов глобализации, происходящих в мировой экономике, на культу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7AA2-3AAF-46F1-B76C-F79BDABF9E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ние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258E-C4DC-4482-8827-2804E68FB4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а определяет творческую направленность экономической деятельности общества и людей в процессе производства и потреб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арактер и результативность производственной деятельности зависят от уровня развития экономически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убокое воздействие на экономику оказывает наука, которая стала главной движущей силой экономического прогр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левидение – важнейшее средство экономической информации. Например, телевизионная рекла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0A7D-87F9-403E-A054-BC48E3333F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Какая схема в большей мере отражает соотношение государства и экономической сферы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155E-6170-4A14-BDC0-AD2A992820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кем соглас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Аристотель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«Цель государства – это совместное продвижение государства и экономических действий к высокому качеству жизн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онфуций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Когда государство управляется согласно с разумом, постыдны бедность и нужда ; когда государство не управляется согласно с разумом, то постыдны богатства и поче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13C7-2B04-4AD5-82F0-C18D37E735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вень жизн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важнейший показатель и результат экономической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750E-2686-4340-ABB7-1F64A7B54A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П – показатель уровня благосостояния , или уровня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ровень жизни в широком смыс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 следующие показат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здоровья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неравномерности распределения доходов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житочный миним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ОН – индекс челове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вень благососто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т от соверше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х механиз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я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чины низкой эффективности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ревши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й уровень квалификации кад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очительное использование природных богат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26F3-D861-45FB-A7D5-405A2C6454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ствие неэффективности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а бе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A5EA-4966-423F-9D30-C3B8FB924B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ка и социальн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49B1-F61A-416F-B284-365042A543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аимосвязь общей численности населения и темпов его роста с экономическим развитием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FC84-2889-46D1-96DC-BCF12B250D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ка и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2A74-09A0-4954-98FA-9A0F3E6718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 помощь рыночной экономике государство реализует следующие политические 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Свободное развитие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циальная и экономическая категория. Чем выше ценится свобода отдельного человека в обществе, тем более значимой воспринима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вобода в государ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Правовой поряд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правового порядка предусматривает прежде всего обеспечение с помощью законов права на собственность и ее защиту, на свободу предпринимательской деятельности, на систему хозяйственных догов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нешняя и внутренняя 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нститутов для поддержания общественного порядка в стране, а также наличие профессионально подготовленной армии, способной защитить страну от нападения изв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жнейшая задача государства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и поддержание в национальной экономике конкур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15CF-8B2D-41FC-9BBF-DBB124A940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государствен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олной занят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е распределение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природного комплек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жнейшая функ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разработка оптимальной национальной стратегии эконом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E9DC-144B-4A9E-A1C1-6EC8DB0BE9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10DC-A2B0-458B-832C-250A5942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9A5F-71D8-405A-B7E6-DA9B7D43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6248-B1D8-48A8-B274-3715F839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CC0C-425D-43E1-A9AA-1F290995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01CB-66AD-4864-9964-4778AE4C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5D19-9864-4B7D-8F46-88EFCECA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A8B5-10D3-456C-97CC-8A775D18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E032-20FA-4C00-8310-225C42A5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0BCE-3F53-47AE-B422-A0DCE4D5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AF4D-481C-4E6C-B023-9598AB80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BD54-CD7A-4CAB-B33D-9E09F7AC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965D-8D6C-497F-AB70-A77D9015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9614-37E5-4199-8917-816637AC85E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BCBA-B600-4815-A829-42419B442E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с двумя скругленными противолежащими углами 5"/>
          <p:cNvSpPr/>
          <p:nvPr/>
        </p:nvSpPr>
        <p:spPr>
          <a:xfrm>
            <a:off x="1214280" y="1571760"/>
            <a:ext cx="6429600" cy="1643040"/>
          </a:xfrm>
          <a:custGeom>
            <a:avLst/>
            <a:gdLst/>
            <a:ahLst/>
            <a:rect l="l" t="t" r="r" b="b"/>
            <a:pathLst>
              <a:path w="6429375" h="1643063">
                <a:moveTo>
                  <a:pt x="273849" y="0"/>
                </a:moveTo>
                <a:lnTo>
                  <a:pt x="6429375" y="0"/>
                </a:lnTo>
                <a:lnTo>
                  <a:pt x="6429375" y="0"/>
                </a:lnTo>
                <a:lnTo>
                  <a:pt x="6429375" y="1369214"/>
                </a:lnTo>
                <a:cubicBezTo>
                  <a:pt x="6429375" y="1520457"/>
                  <a:pt x="6306769" y="1643063"/>
                  <a:pt x="6155526" y="1643063"/>
                </a:cubicBezTo>
                <a:lnTo>
                  <a:pt x="0" y="1643063"/>
                </a:lnTo>
                <a:lnTo>
                  <a:pt x="0" y="1643063"/>
                </a:lnTo>
                <a:lnTo>
                  <a:pt x="0" y="273849"/>
                </a:lnTo>
                <a:cubicBezTo>
                  <a:pt x="0" y="122606"/>
                  <a:pt x="122606" y="0"/>
                  <a:pt x="273849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1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6" descr=""/>
          <p:cNvPicPr/>
          <p:nvPr/>
        </p:nvPicPr>
        <p:blipFill>
          <a:blip r:embed="rId2"/>
          <a:stretch/>
        </p:blipFill>
        <p:spPr>
          <a:xfrm>
            <a:off x="1335240" y="1798560"/>
            <a:ext cx="6175080" cy="24256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6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" name="TextBox 5"/>
          <p:cNvGrpSpPr/>
          <p:nvPr/>
        </p:nvGrpSpPr>
        <p:grpSpPr>
          <a:xfrm>
            <a:off x="1085760" y="1133640"/>
            <a:ext cx="6326280" cy="1122120"/>
            <a:chOff x="1085760" y="1133640"/>
            <a:chExt cx="6326280" cy="1122120"/>
          </a:xfrm>
        </p:grpSpPr>
        <p:pic>
          <p:nvPicPr>
            <p:cNvPr id="128" name="TextBox 5" descr=""/>
            <p:cNvPicPr/>
            <p:nvPr/>
          </p:nvPicPr>
          <p:blipFill>
            <a:blip r:embed="rId2"/>
            <a:stretch/>
          </p:blipFill>
          <p:spPr>
            <a:xfrm>
              <a:off x="1085760" y="1133640"/>
              <a:ext cx="632628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143000" y="1214280"/>
              <a:ext cx="621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Влияние политических институтов на экономическую жизнь государ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Box 6"/>
          <p:cNvSpPr/>
          <p:nvPr/>
        </p:nvSpPr>
        <p:spPr>
          <a:xfrm>
            <a:off x="1571760" y="2214720"/>
            <a:ext cx="521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ыночная экономика дает основу для поддержания 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демократии, правового государства, гражданского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285840" y="3286080"/>
            <a:ext cx="2143080" cy="22885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кращается возможность попасть под  власть безответственного работодателя или организации, предоставляется право вы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2571840" y="3286080"/>
            <a:ext cx="1643040" cy="22885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ловек учится ответственному отношению к своему делу, окружающим, принятию ре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4357800" y="3286080"/>
            <a:ext cx="1571400" cy="22885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ыночная экономика заинтересована в существовании в рамках правового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6143760" y="3286080"/>
            <a:ext cx="2428920" cy="22885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уктурными единицами гражданского общества в экономической сфере являются частные предприятия, кооперативы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8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TextBox 5" descr=""/>
          <p:cNvPicPr/>
          <p:nvPr/>
        </p:nvPicPr>
        <p:blipFill>
          <a:blip r:embed="rId2"/>
          <a:stretch/>
        </p:blipFill>
        <p:spPr>
          <a:xfrm>
            <a:off x="500040" y="1652760"/>
            <a:ext cx="7431120" cy="26272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3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428760" y="1071720"/>
            <a:ext cx="7072200" cy="94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Экономическая деятельность создает материальную основу для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785880" y="2214720"/>
            <a:ext cx="142884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2357280" y="2714760"/>
            <a:ext cx="157176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3786120" y="2143080"/>
            <a:ext cx="178596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5643720" y="2571840"/>
            <a:ext cx="171432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285840" y="3786120"/>
            <a:ext cx="8358120" cy="825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Влияние процессов глобализации, происходящих в мировой экономике, на культ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0"/>
          <p:cNvSpPr/>
          <p:nvPr/>
        </p:nvSpPr>
        <p:spPr>
          <a:xfrm>
            <a:off x="1714680" y="4929120"/>
            <a:ext cx="5286240" cy="11912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Стирание культурных разли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Культур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Культурный об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4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TextBox 6" descr=""/>
          <p:cNvPicPr/>
          <p:nvPr/>
        </p:nvPicPr>
        <p:blipFill>
          <a:blip r:embed="rId2"/>
          <a:stretch/>
        </p:blipFill>
        <p:spPr>
          <a:xfrm>
            <a:off x="500040" y="1652760"/>
            <a:ext cx="7431120" cy="26272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785880" y="1571760"/>
            <a:ext cx="7072200" cy="916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ультура определяет творческую направленность экономической деятельности общества и людей в процессе производства и потре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785880" y="2928960"/>
            <a:ext cx="707220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арактер и результативность производственной деятельности зависят от уровня развития экономических эле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714240" y="4000680"/>
            <a:ext cx="714384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лубокое воздействие на экономику оказывает наука, которая стала главной движущей силой экономического прогр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714240" y="5000760"/>
            <a:ext cx="714384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левидение – важнейшее средство экономической информации. Например, телевизио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7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Схема 5" descr=""/>
          <p:cNvPicPr/>
          <p:nvPr/>
        </p:nvPicPr>
        <p:blipFill>
          <a:blip r:embed="rId2"/>
          <a:stretch/>
        </p:blipFill>
        <p:spPr>
          <a:xfrm>
            <a:off x="274680" y="609480"/>
            <a:ext cx="7534080" cy="944640"/>
          </a:xfrm>
          <a:prstGeom prst="rect">
            <a:avLst/>
          </a:prstGeom>
          <a:ln w="0">
            <a:noFill/>
          </a:ln>
        </p:spPr>
      </p:pic>
      <p:sp>
        <p:nvSpPr>
          <p:cNvPr id="169" name="Овал 7"/>
          <p:cNvSpPr/>
          <p:nvPr/>
        </p:nvSpPr>
        <p:spPr>
          <a:xfrm>
            <a:off x="214200" y="1714680"/>
            <a:ext cx="2643480" cy="71424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8"/>
          <p:cNvSpPr/>
          <p:nvPr/>
        </p:nvSpPr>
        <p:spPr>
          <a:xfrm>
            <a:off x="2928960" y="1714680"/>
            <a:ext cx="2786040" cy="642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 9"/>
          <p:cNvSpPr/>
          <p:nvPr/>
        </p:nvSpPr>
        <p:spPr>
          <a:xfrm>
            <a:off x="500040" y="3500280"/>
            <a:ext cx="2286000" cy="78588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10"/>
          <p:cNvSpPr/>
          <p:nvPr/>
        </p:nvSpPr>
        <p:spPr>
          <a:xfrm>
            <a:off x="2500200" y="3429000"/>
            <a:ext cx="2214720" cy="785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11"/>
          <p:cNvSpPr/>
          <p:nvPr/>
        </p:nvSpPr>
        <p:spPr>
          <a:xfrm>
            <a:off x="500040" y="5072040"/>
            <a:ext cx="2928960" cy="1214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коном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12"/>
          <p:cNvSpPr/>
          <p:nvPr/>
        </p:nvSpPr>
        <p:spPr>
          <a:xfrm>
            <a:off x="1714680" y="5357880"/>
            <a:ext cx="1714320" cy="57132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осуд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р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13"/>
          <p:cNvSpPr/>
          <p:nvPr/>
        </p:nvSpPr>
        <p:spPr>
          <a:xfrm>
            <a:off x="5214960" y="2643120"/>
            <a:ext cx="3214800" cy="107172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15"/>
          <p:cNvSpPr/>
          <p:nvPr/>
        </p:nvSpPr>
        <p:spPr>
          <a:xfrm>
            <a:off x="6643800" y="2786040"/>
            <a:ext cx="1785960" cy="642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Эконом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16"/>
          <p:cNvSpPr/>
          <p:nvPr/>
        </p:nvSpPr>
        <p:spPr>
          <a:xfrm>
            <a:off x="4857840" y="4357800"/>
            <a:ext cx="2571840" cy="8571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17"/>
          <p:cNvSpPr/>
          <p:nvPr/>
        </p:nvSpPr>
        <p:spPr>
          <a:xfrm>
            <a:off x="5000760" y="4929120"/>
            <a:ext cx="235728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TextBox 6" descr=""/>
          <p:cNvPicPr/>
          <p:nvPr/>
        </p:nvPicPr>
        <p:blipFill>
          <a:blip r:embed="rId2"/>
          <a:stretch/>
        </p:blipFill>
        <p:spPr>
          <a:xfrm>
            <a:off x="573120" y="725400"/>
            <a:ext cx="7431120" cy="17128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571680" y="2214720"/>
            <a:ext cx="6929280" cy="1191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ристотель: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«Цель государства – это совместное продвижение государства и экономических действий к высокому качеству жиз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"/>
          <p:cNvSpPr/>
          <p:nvPr/>
        </p:nvSpPr>
        <p:spPr>
          <a:xfrm>
            <a:off x="714240" y="4357800"/>
            <a:ext cx="7929720" cy="1557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онфуций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Когда государство управляется согласно с разумом, постыдны бедность и нужда ; когда государство не управляется согласно с разумом, то постыдны богатства и поче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1000080" y="857160"/>
            <a:ext cx="621504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ень жиз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важнейший показатель и результат экономической жизни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928800" y="1928880"/>
            <a:ext cx="6500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добиться высокого уровня развития и процвет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1000080" y="2571840"/>
            <a:ext cx="64296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ень жиз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степень обеспечения населения товарами и услугами, необходимыми для комфортного и безопасного сущес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857160" y="3714840"/>
            <a:ext cx="3000600" cy="1465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вая точка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хват в процессе войн территорий и богатства других народов с богатыми ресурс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4572000" y="3714840"/>
            <a:ext cx="3071880" cy="1465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торая точка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Самый бе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тот, кто не умеет пользоваться тем, чем располагает» (П. Буа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Прямая со стрелкой 10"/>
          <p:cNvCxnSpPr/>
          <p:nvPr/>
        </p:nvCxnSpPr>
        <p:spPr>
          <a:xfrm>
            <a:off x="4070880" y="1571760"/>
            <a:ext cx="108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13"/>
          <p:cNvCxnSpPr/>
          <p:nvPr/>
        </p:nvCxnSpPr>
        <p:spPr>
          <a:xfrm>
            <a:off x="4070880" y="228600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16"/>
          <p:cNvCxnSpPr/>
          <p:nvPr/>
        </p:nvCxnSpPr>
        <p:spPr>
          <a:xfrm flipH="1">
            <a:off x="2069280" y="3501720"/>
            <a:ext cx="2520" cy="2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Прямая со стрелкой 18"/>
          <p:cNvCxnSpPr/>
          <p:nvPr/>
        </p:nvCxnSpPr>
        <p:spPr>
          <a:xfrm flipH="1">
            <a:off x="6286320" y="3500280"/>
            <a:ext cx="2160" cy="21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TextBox 19"/>
          <p:cNvSpPr/>
          <p:nvPr/>
        </p:nvSpPr>
        <p:spPr>
          <a:xfrm>
            <a:off x="1285920" y="5357880"/>
            <a:ext cx="6143760" cy="642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аловой внутренний продукт (ВВП) на душу населе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казатель эффективного развития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21"/>
          <p:cNvCxnSpPr/>
          <p:nvPr/>
        </p:nvCxnSpPr>
        <p:spPr>
          <a:xfrm flipH="1">
            <a:off x="2641320" y="5216040"/>
            <a:ext cx="2160" cy="143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Прямая со стрелкой 23"/>
          <p:cNvCxnSpPr/>
          <p:nvPr/>
        </p:nvCxnSpPr>
        <p:spPr>
          <a:xfrm flipH="1">
            <a:off x="5928480" y="5214600"/>
            <a:ext cx="1080" cy="14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2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357120" y="1071720"/>
            <a:ext cx="7429680" cy="398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ВП – показатель уровня благосостояния , или уровня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928800" y="1714680"/>
            <a:ext cx="6858000" cy="2319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овень жизни в широком смыс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ключает следующие показа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здоровья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ояние окружающе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епень неравномерности распределения доходов в обще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упность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житочный миним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ООН – индекс человеческого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357120" y="4357800"/>
            <a:ext cx="335772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ень благо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висит от соверш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ономических механизм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деления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еци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ргов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3929040" y="4357800"/>
            <a:ext cx="435780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чины низкой эффективности эконом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ревши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зкий уровень квалификации кад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точительное использование природных богат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0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1214280" y="1500120"/>
            <a:ext cx="6215400" cy="7038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ствие неэффективности эконом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рта бе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1571760" y="2428920"/>
            <a:ext cx="5357520" cy="1008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овательно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овень экономического развит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мо влияе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уровень жизн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Прямая со стрелкой 7"/>
          <p:cNvCxnSpPr/>
          <p:nvPr/>
        </p:nvCxnSpPr>
        <p:spPr>
          <a:xfrm flipH="1">
            <a:off x="4285440" y="2214360"/>
            <a:ext cx="2520" cy="214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TextBox 8"/>
          <p:cNvSpPr/>
          <p:nvPr/>
        </p:nvSpPr>
        <p:spPr>
          <a:xfrm>
            <a:off x="1214280" y="4357800"/>
            <a:ext cx="6500880" cy="1465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вод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ловия и способы перехода России к рыночной экономике превратили бедность в серьезную пробл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ное условие ее решения – экономический ро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10"/>
          <p:cNvCxnSpPr/>
          <p:nvPr/>
        </p:nvCxnSpPr>
        <p:spPr>
          <a:xfrm flipH="1">
            <a:off x="4285440" y="3429000"/>
            <a:ext cx="2520" cy="929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4" descr=""/>
          <p:cNvPicPr/>
          <p:nvPr/>
        </p:nvPicPr>
        <p:blipFill>
          <a:blip r:embed="rId2"/>
          <a:stretch/>
        </p:blipFill>
        <p:spPr>
          <a:xfrm>
            <a:off x="324000" y="1378080"/>
            <a:ext cx="7503840" cy="23828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4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00040" y="1428840"/>
            <a:ext cx="2928960" cy="2014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кономика влия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уровень рождаем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виси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материальных бла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ения жиль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епени вовлече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енщин в произв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642960" y="642960"/>
            <a:ext cx="607212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заимосвязь общей численности населения и темпов его роста с экономическим развитием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3857760" y="1428840"/>
            <a:ext cx="2857320" cy="2014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родонаселение влия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уровень эконом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вис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общей численности насе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отности насе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мпов роста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Прямая со стрелкой 8"/>
          <p:cNvCxnSpPr/>
          <p:nvPr/>
        </p:nvCxnSpPr>
        <p:spPr>
          <a:xfrm flipH="1">
            <a:off x="3569400" y="1500120"/>
            <a:ext cx="2520" cy="18583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99" name="Прямая со стрелкой 10"/>
          <p:cNvCxnSpPr/>
          <p:nvPr/>
        </p:nvCxnSpPr>
        <p:spPr>
          <a:xfrm flipV="1">
            <a:off x="3711960" y="1499760"/>
            <a:ext cx="2520" cy="19310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100" name="TextBox 11"/>
          <p:cNvSpPr/>
          <p:nvPr/>
        </p:nvSpPr>
        <p:spPr>
          <a:xfrm>
            <a:off x="571680" y="3714840"/>
            <a:ext cx="60721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заимосвязь экономики и состояния здоровья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571680" y="4357800"/>
            <a:ext cx="307152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итая 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актор хорошего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4000680" y="4357800"/>
            <a:ext cx="4214520" cy="916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лабое состояние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ижение производительности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кращение продолжительности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6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TextBox 6" descr=""/>
          <p:cNvPicPr/>
          <p:nvPr/>
        </p:nvPicPr>
        <p:blipFill>
          <a:blip r:embed="rId2"/>
          <a:stretch/>
        </p:blipFill>
        <p:spPr>
          <a:xfrm>
            <a:off x="360360" y="1365120"/>
            <a:ext cx="7424640" cy="26272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1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857160" y="714240"/>
            <a:ext cx="6215040" cy="825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В помощь рыночной экономике государство реализует следующие политические 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285840" y="1857240"/>
            <a:ext cx="2643120" cy="3385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Свободное развитие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социальная и экономическая категория. Чем выше ценится свобода отдельного человека в обществе, тем более значимой воспринимаетс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вобода в государ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3071880" y="1857240"/>
            <a:ext cx="2928960" cy="283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Правовой поря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ие правового порядка предусматривает прежде всего обеспечение с помощью законов права на собственность и ее защиту, на свободу предпринимательской деятельности, на систему хозяйственных догов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6143760" y="1857240"/>
            <a:ext cx="2714400" cy="31114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Внешняя и внутренняя без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ие институтов для поддержания общественного порядка в стране, а также наличие профессионально подготовленной армии, способной защитить страну от нападения из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642960" y="5572080"/>
            <a:ext cx="800100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ажнейшая задача государств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храна и поддержание в национальной экономике конкуре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0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928800" y="1357200"/>
            <a:ext cx="6858000" cy="18003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 государственной полит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еспечение полной занят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раведливое распределение дохо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щита природного комплек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857160" y="3643200"/>
            <a:ext cx="7500960" cy="13737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ажнейшая функц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разработка оптимальной национальной стратегии эконом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7:44:06Z</dcterms:created>
  <dc:creator>Марина</dc:creator>
  <dc:description/>
  <dc:language>en-US</dc:language>
  <cp:lastModifiedBy>LEGION</cp:lastModifiedBy>
  <dcterms:modified xsi:type="dcterms:W3CDTF">2014-11-10T10:50:10Z</dcterms:modified>
  <cp:revision>14</cp:revision>
  <dc:subject/>
  <dc:title>Слайд 1</dc:title>
</cp:coreProperties>
</file>