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39C5-47D3-421D-A6D9-8C8C33E85D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утомлени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В.А Ковалё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988-B6BC-4453-BCEA-CA3F08D6134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ссаж активных точек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ж точек на висках на ли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уголка глаза снаружи до козелка на ушной ракови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ижения паль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ообраз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исующими букву “с”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 - 15 с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Затем выполня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ирание переносиц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близко к уголкам глаз, по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глаз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линии крыльев но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дбровные д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низу ближе к перенос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2DF5-F803-4C8F-9FD6-26806204C82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енажер “Флажок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цвет использовать и когда? В понедельник используетс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рас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еле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, как и в среду. Затем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уб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иолето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1865-5B7D-415E-A6A8-68402CA119B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для тренажёра «Флаж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Восьмер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ется мед­ленно, рисуется восьмерка, лежащая на б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Ромбик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Пил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FFFD-F41B-47E1-B0BA-A033A8CDFFC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ажёр «Видеоазиму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несколько вариантов тренажер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большой, для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то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веши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с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могает  снять зрительное уто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F62A-1686-4AA4-A842-E1388E1E49D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а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бежать взором зелены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бежать взором диагональ из угла в угол. Поочередно кажд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ертикаль и горизонталь в той же дозиров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BD04-8BD1-4A38-9D6F-66856A7834C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«Чт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BA65-9AEC-45B7-A382-598F27AFFCE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класс «Окружающий мир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на тему «Если хочешь быть здоров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1BA-27FC-4063-95C3-12DBE7DEA7A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840-3DDA-4ADC-B915-14D4A415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58B-C3A6-47FD-9A0A-1613CABE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58D-861A-44D4-BFE3-B96D5324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01B-584C-4326-8243-6A5AFBEC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FA8A-1E6C-4747-8D0A-7DB66195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C4E8-4FBD-4773-9B17-9651069D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E43A-9499-4FCA-BA7D-ADEF9155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17BD-5C10-474F-8C5E-CEDCD88F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A684-1106-4898-8ED7-024742CE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CB7A-CA49-424A-A0D8-D2D914D1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1B40-3DDE-4153-A088-2863470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E73-353B-4630-8EB6-7C910A97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5842-BF71-4ADF-B01A-7BA6BD84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BF7B-15A9-4C76-97B7-6865392F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B7AD-1EA5-4DF4-AC1A-BF7AD25B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D5C7-17B2-4CEF-8577-351C9BBA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D1DB-06DD-4798-B153-8A231623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830-1AB3-4D39-BA99-6C6D31BF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15A-6268-4840-9B49-006CD5A0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FCD-F39D-4703-B8FC-DCC56577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304-A709-4A95-8AC1-315BAF06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C8A-9F78-4C8D-B88D-92C1CC0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D40-49A0-45C0-B699-4F84796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03C-9E3B-4C98-ABD5-AC8C4CD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1534-E03C-4783-81D1-9993526390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903D-3399-4D70-8E81-9A52DB84B0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631280" cy="297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филактика утомления гл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а В.А Ковалё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ассаж активных точек л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ж точек на висках на ли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уголка глаза снаружи до козелка на ушной раков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ижения пальц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угообраз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исующими букву “с”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мя - 15 с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Затем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ирание переносиц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остаточно близко к уголкам глаз, потом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глаз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линии крыльев носа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дбровные дуг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низу ближе к переноси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Тренажер “Флажок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цвет использовать и когда? В понедельник использу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цвет, как и в среду. Затем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Восьмерка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олняется мед­ленно, рисуется восьмерка, лежащая на б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Ромбик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Пила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ражнения для тренажёра «Флажо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енажёр «Видеоазиму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жно быть несколько вариантов тренажера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небольшой, для работы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сто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г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вешивает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дос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могает  снять зрительное утомлен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видеоазиму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хема упраж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2803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Оббежать взором зеленый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Оббежать взором диагональ из угла в угол. Поочередно кажд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ертикаль и горизонталь в той же дозировк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класс «Чт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класс «Окружающий мир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на тему «Если хочешь быть здоров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9:02:16Z</dcterms:created>
  <dc:creator>Admin</dc:creator>
  <dc:description/>
  <dc:language>en-US</dc:language>
  <cp:lastModifiedBy>LEGION</cp:lastModifiedBy>
  <dcterms:modified xsi:type="dcterms:W3CDTF">2015-02-13T11:15:19Z</dcterms:modified>
  <cp:revision>7</cp:revision>
  <dc:subject/>
  <dc:title>Профилактика зрительного утомления и нарушений зрения у учащихся массовой школы  </dc:title>
</cp:coreProperties>
</file>