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9938-5A9F-4920-B9BA-8559E29204D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утомления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 В.А Ковалё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C307-A35E-4FE1-87E8-4E7358F8DAA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ассаж активных точек 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саж точек на висках на лини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 уголка глаза снаружи до козелка на ушной раковин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собой точности при наложении больших пальцев на височную область не требуется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ижения пальц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гут бы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угообразны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рисующими букву “с”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ремя - 15 се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Затем выполняю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тирание переносиц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остаточно близко к уголкам глаз, пот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 глаз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линии крыльев носа 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дбровные ду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низу ближе к переносиц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CBA1-50C5-4F36-83B0-49BB4F7119E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енажер “Флажок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применить для тренировки аккомодации. Дети следят за ним в глубину от себя и к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цвет использовать и когда? В понедельник используется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крас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 флажка, дети еще утомлены после субботнего и воскресного отдыха. Во вторник пойде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желт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еле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цвет, как и в среду. Затем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голуб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фиолетов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5CF5-2BFC-4314-BE43-CC3CF61408E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пражнения для тренажёра «Флажо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пражнение «Восьмерка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полняется мед­ленно, рисуется восьмерка, лежащая на бо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пражнение «Ромбик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ленно нарисовать в воздухе ромб, стоящий острым углом вниз по вертикали. Делать 10 - 15 рисунк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пражнение «Пила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гаясь перед передним рядом парт, рисовать над головами детей рисунок пилы, четко прорабатывая углы внизу и вверху. Делать 1 мину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D604-CA0B-4CB6-A848-04E29B71200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ажёр «Видеоазиму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 быть несколько вариантов тренажера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ебольшой, для работ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стол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парте. Это тогда, когда мы много работаем в классе или в группе глазами, т.е. читаем или пишем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вешива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доск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середине. Он используется для тренировки глаз на дальнем, но привычном для ребенка расстоянии с его рабочего постоянного места в классе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омогает  снять зрительное утомл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47A3-4A32-42FD-B735-64A5D64180F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хема упраж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ббежать только взором, не двигая головой, красный прямоугольник. Дозировка для школьников - 4 движения полного цикла. В первом классе - 7, затем добавляется по одному на каждый возраст. Взрослым даем 2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бежать взором зеленый прямоуголь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ббежать взором диагональ из угла в угол. Поочередно кажд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ертикаль и горизонталь в той же дозиров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2098-BFDD-4657-A1E0-078B56C3F4F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класс «Чте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ция: Если произведения написаны русскими писателями – ведем глазами вверх, если это зарубежные произведения – ведем вни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иемыш», «Русь», «Собачье счастье», «Стихи о березе»,«Волк», «Чинк», «Выскочка», «Моя Родина», «Тимур и его команда», «Заячьи лап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8BEF-E68F-4152-83D2-009FF1BDC15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класс «Окружающий мир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на тему «Если хочешь быть здоров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ция: Называются утверждения: если верно, то ведем глазами вверх, если нет - ведем вни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день надо закаляться. Нужно чаще гулять на улице. Когда на улице холодно, можно выходить в одних шортах или платье. Когда находишься на улице нужно стоять неподвижно. Закаляться надо в одеяле. На улице надо играть в подвижные игры. На улицу лучше вообще никогда не ход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EA8D-D17D-4328-95BE-3A4ADB7603D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988F-7AD3-4CEF-8B2C-9F483D465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5C55-DB9B-4D29-92C8-A0BF861C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9821-DDC3-494F-82F0-573FC9CA1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06EE-713F-4B6C-A653-232FFA86D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EFD8-4607-4A1A-B0B4-26D50F4BC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2AA4-F29C-47B6-AFC9-273E47FC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A9BC-DE6B-4BBC-B85F-3A9A52CB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23B4-87B4-45CB-B970-31EE9699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E10F-B97D-4FFC-B2CC-14CE5A3B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2A19-F8AF-40F4-A0EE-1D45CF5F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01CE-1ACB-4953-8771-9E6CC553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B97F-D84B-4458-8739-80BDB51F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6734-FC7A-4A4C-AD88-7EDF823A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2356-BEE8-429C-8D0A-408A2F3F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4E8B-0244-416A-8352-DFD35E91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697D-F2BB-4796-8F38-D9D732A8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6C76-3B7E-4D34-81EA-11EEDFB6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9074-8CA4-4FED-991A-7A72D915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CED1-2435-4060-8ADB-85594FD6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8CC3-4F2C-4CD2-87E6-3BAC8BE8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B1DD-2DE4-44FD-A340-E7356A92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C87B-D367-4069-B8E5-866A60EC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19DC-807A-4649-9E28-9A079B42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AC02-3F3C-4119-A53C-AF551775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02BC-E370-4EB6-A31D-18DF46159C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0A56-EEF5-4073-9B9E-29B0CB8640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631280" cy="2979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Профилактика утомления глаз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етодика В.А Ковалё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Массаж активных точек лиц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ассаж точек на висках на линии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 уголка глаза снаружи до козелка на ушной раковин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Особой точности при наложении больших пальцев на височную область не требуется,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вижения пальцам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могут быть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ругообразным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ли рисующими букву “с”.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ремя - 15 сек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Затем выполняются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тирание переносицы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достаточно близко к уголкам глаз, потом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д глазам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на линии крыльев носа и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дбровные дуг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снизу ближе к переносиц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Тренажер “Флажок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жно применить для тренировки аккомодации. Дети следят за ним в глубину от себя и к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кой цвет использовать и когда? В понедельник используется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красный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цвет флажка, дети еще утомлены после субботнего и воскресного отдыха. Во вторник пойдет </a:t>
            </a: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желты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ли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зелены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цвет, как и в среду. Затем 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голубо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800" spc="-1" strike="noStrike">
                <a:solidFill>
                  <a:srgbClr val="800080"/>
                </a:solidFill>
                <a:latin typeface="Comic Sans MS"/>
              </a:rPr>
              <a:t>фиолетовы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Упражнение «Восьмерка»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ыполняется мед­ленно, рисуется восьмерка, лежащая на бок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Упражнение «Ромбик»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едленно нарисовать в воздухе ромб, стоящий острым углом вниз по вертикали. Делать 10 - 15 рисунков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Упражнение «Пила»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вигаясь перед передним рядом парт, рисовать над головами детей рисунок пилы, четко прорабатывая углы внизу и вверху. Делать 1 минут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199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Упражнения для тренажёра «Флажок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ренажёр «Видеоазимут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олжно быть несколько вариантов тренажера.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дин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небольшой, для работы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 стол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ли парте. Это тогда, когда мы много работаем в классе или в группе глазами, т.е. читаем или пишем.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руго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ывешивается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 доск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осередине. Он используется для тренировки глаз на дальнем, но привычном для ребенка расстоянии с его рабочего постоянного места в классе.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омогает  снять зрительное утомлени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видеоазимут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Схема упражнен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4920" y="1828440"/>
            <a:ext cx="828036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Оббежать только взором, не двигая головой, красный прямоугольник. Дозировка для школьников - 4 движения полного цикла. В первом классе - 7, затем добавляется по одному на каждый возраст. Взрослым даем 25 раз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 Оббежать взором зеленый прямоугольни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 Оббежать взором диагональ из угла в угол. Поочередно кажду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. Вертикаль и горизонталь в той же дозировке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3 класс «Чтение»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струкция: Если произведения написаны русскими писателями – ведем глазами вверх, если это зарубежные произведения – ведем вниз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Приемыш», «Русь», «Собачье счастье», «Стихи о березе»,«Волк», «Чинк», «Выскочка», «Моя Родина», «Тимур и его команда», «Заячьи лапы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631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1 класс «Окружающий мир»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рок на тему «Если хочешь быть здоров…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нструкция: Называются утверждения: если верно, то ведем глазами вверх, если нет - ведем вниз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аждый день надо закаляться. Нужно чаще гулять на улице. Когда на улице холодно, можно выходить в одних шортах или платье. Когда находишься на улице нужно стоять неподвижно. Закаляться надо в одеяле. На улице надо играть в подвижные игры. На улицу лучше вообще никогда не ходи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9:02:16Z</dcterms:created>
  <dc:creator>Admin</dc:creator>
  <dc:description/>
  <dc:language>en-US</dc:language>
  <cp:lastModifiedBy>LEGION</cp:lastModifiedBy>
  <dcterms:modified xsi:type="dcterms:W3CDTF">2015-02-13T11:15:19Z</dcterms:modified>
  <cp:revision>7</cp:revision>
  <dc:subject/>
  <dc:title>Профилактика зрительного утомления и нарушений зрения у учащихся массовой школы  </dc:title>
</cp:coreProperties>
</file>