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6E60-016C-4076-8790-CB27FF97FA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утомления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В.А Ковалё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6454-5BA9-47EC-8667-5F8E9800D6A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ассаж активных точек 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саж точек на висках на лини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 уголка глаза снаружи до козелка на ушной раковин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ижения пальц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гут быт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ообразны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рисующими букву “с”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ремя - 15 се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Затем выполняю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ирание переносиц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остаточно близко к уголкам глаз, пот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глаз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линии крыльев носа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дбровные ду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низу ближе к переносиц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89A5-00BF-40F4-A4E9-C4E867F0EEF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ренажер “Флажок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цвет использовать и когда? В понедельник используется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крас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еле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, как и в среду. Затем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уб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фиолето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D9BD-FFB1-43F3-898D-529863EF9BDD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ражнения для тренажёра «Флажо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Восьмерк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полняется мед­ленно, рисуется восьмерка, лежащая на б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Ромбик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«Пила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14DA-C114-4688-80AF-99D364FA1472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ажёр «Видеоазиму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 быть несколько вариантов тренажер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большой, для работы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сто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ывешиваетс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ос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могает  снять зрительное утомл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CD4F-A846-4D6D-8A9B-F7642910CEB3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хема упраж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бежать взором зелены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ббежать взором диагональ из угла в угол. Поочередно кажд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ертикаль и горизонталь в той же дозиров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DF69-CEE2-466A-A95B-DE7C4AF19B31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класс «Чт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61B0-4005-4FED-B885-13CA32FF8F44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класс «Окружающий мир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на тему «Если хочешь быть здоров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8DD-AC50-4FB3-8D17-CFC8F64CCFFE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B57-477E-4A1B-B9DE-141FDD26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67F-CF36-4893-ADE0-4290DF85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E536-6A77-4EE0-94B1-F91755DD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EDD-6AC2-430F-A7CC-63E3805D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241F-8933-4A9A-91C0-E3E92277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F5A5-1519-49EA-8016-D59A74C6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891F-ACF6-42B6-84EE-0313260E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7300-BD2A-4BCF-B7DB-FE0DC80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F56D-ECB5-4A0D-A273-F515F36C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BECE2-AF1F-42DA-82D8-7D620D69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3F6E-D1B2-4AFB-825A-F496BF73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0B6-7643-4BDA-BDE7-60B44852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B80B-7D62-46C3-A00F-E404E87F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4040-EE39-4B38-9DB4-1CC12F48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E762-788C-4DD7-8D14-74815FD3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75F7-064E-421A-B830-C9CB3C97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F74F-D4D8-48CB-B642-80B11BA8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E9E8-2751-441F-945F-503574F5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0E1-7A0D-4F3C-B5DF-83E85319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E17-148B-42C4-BB45-E4A7B75E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0D7-F697-42CB-88C2-38A1CB816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7360-CF78-4F2E-ADCC-51F375BD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D00F-6B58-46AF-984B-F20B9801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684-A31E-48CA-9141-514DF62A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BBCB-96BF-47DB-BE98-0D5B35AEF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80AE-43E9-44B3-91A4-DD99B00E1B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631280" cy="2979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Профилактика утомления гла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тодика В.А Ковалёв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Массаж активных точек лиц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ассаж точек на висках на лини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 уголка глаза снаружи до козелка на ушной раковине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собой точности при наложении больших пальцев на височную область не требуется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вижения пальц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могут быть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ругообразны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ли рисующими букву “с”.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ремя - 15 сек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Затем выполняются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тирание переносицы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достаточно близко к уголкам глаз, потом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 глазам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линии крыльев носа и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дбровные дуг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снизу ближе к переносице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Тренажер “Флажок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ожно применить для тренировки аккомодации. Дети следят за ним в глубину от себя и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ой цвет использовать и когда? В понедельник использу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расный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цвет флажка, дети еще утомлены после субботнего и воскресного отдыха. Во вторник пойдет </a:t>
            </a:r>
            <a:r>
              <a:rPr b="0" lang="ru-RU" sz="2800" spc="-1" strike="noStrike">
                <a:solidFill>
                  <a:srgbClr val="ffff00"/>
                </a:solidFill>
                <a:latin typeface="Comic Sans MS"/>
              </a:rPr>
              <a:t>желт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цвет, как и в среду. Затем </a:t>
            </a:r>
            <a:r>
              <a:rPr b="0" lang="ru-RU" sz="2800" spc="-1" strike="noStrike">
                <a:solidFill>
                  <a:srgbClr val="703dff"/>
                </a:solidFill>
                <a:latin typeface="Comic Sans MS"/>
              </a:rPr>
              <a:t>голуб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ru-RU" sz="2800" spc="-1" strike="noStrike">
                <a:solidFill>
                  <a:srgbClr val="800080"/>
                </a:solidFill>
                <a:latin typeface="Comic Sans MS"/>
              </a:rPr>
              <a:t>фиолетовы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Восьмерка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полняется мед­ленно, рисуется восьмерка, лежащая на б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Ромбик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едленно нарисовать в воздухе ромб, стоящий острым углом вниз по вертикали. Делать 10 - 15 рисунков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Упражнение «Пила»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вигаясь перед передним рядом парт, рисовать над головами детей рисунок пилы, четко прорабатывая углы внизу и вверху. Делать 1 минут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пражнения для тренажёра «Флажок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ренажёр «Видеоазимут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олжно быть несколько вариантов тренажера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ин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небольшой, для работы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стол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или парте. Это тогда, когда мы много работаем в классе или в группе глазами, т.е. читаем или пишем.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ругой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ывешивается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доск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осередине. Он используется для тренировки глаз на дальнем, но привычном для ребенка расстоянии с его рабочего постоянного места в классе.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могает  снять зрительное утомлени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видеоазимут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хема упраж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82803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Оббежать только взором, не двигая головой, красный прямоугольник. Дозировка для школьников - 4 движения полного цикла. В первом классе - 7, затем добавляется по одному на каждый возраст. Взрослым даем 25 раз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Оббежать взором зеленый прямоугольни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Оббежать взором диагональ из угла в угол. Поочередно каждую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Вертикаль и горизонталь в той же дозировке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3 класс «Чтение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нструкция: Если произведения написаны русскими писателями – ведем глазами вверх, если это зарубежные произведения – ведем вниз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Приемыш», «Русь», «Собачье счастье», «Стихи о березе»,«Волк», «Чинк», «Выскочка», «Моя Родина», «Тимур и его команда», «Заячьи лап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31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 класс «Окружающий мир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рок на тему «Если хочешь быть здоров…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нструкция: Называются утверждения: если верно, то ведем глазами вверх, если нет - ведем вниз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аждый день надо закаляться. Нужно чаще гулять на улице. Когда на улице холодно, можно выходить в одних шортах или платье. Когда находишься на улице нужно стоять неподвижно. Закаляться надо в одеяле. На улице надо играть в подвижные игры. На улицу лучше вообще никогда не ходи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9:02:16Z</dcterms:created>
  <dc:creator>Admin</dc:creator>
  <dc:description/>
  <dc:language>en-US</dc:language>
  <cp:lastModifiedBy>LEGION</cp:lastModifiedBy>
  <dcterms:modified xsi:type="dcterms:W3CDTF">2015-02-13T11:15:19Z</dcterms:modified>
  <cp:revision>7</cp:revision>
  <dc:subject/>
  <dc:title>Профилактика зрительного утомления и нарушений зрения у учащихся массовой школы  </dc:title>
</cp:coreProperties>
</file>