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319A-146D-4DC9-8075-2FA4F6EE55C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утомления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В.А Ковалё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6C05-1542-4950-9F68-E6CF4F0C4CC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ассаж активных точек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саж точек на висках на лин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уголка глаза снаружи до козелка на ушной раковин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собой точности при наложении больших пальцев на височную область не требуется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ижения пальц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гут бы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угообразны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рисующими букву “с”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емя - 15 се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Затем выполняю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тирание переносиц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статочно близко к уголкам глаз, пот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глаз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линии крыльев носа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дбровные ду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низу ближе к переноси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9C9B-55EB-4018-AFC7-ECE153C9A16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енажер “Флажок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применить для тренировки аккомодации. Дети следят за ним в глубину от себя и к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цвет использовать и когда? В понедельник используется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рас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флажка, дети еще утомлены после субботнего и воскресного отдыха. Во вторник пойде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желт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еле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цвет, как и в среду. Затем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голуб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фиолетов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4F4D-E21E-4BC7-827A-4CACFBE4609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ражнения для тренажёра «Флажо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«Восьмерк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полняется мед­ленно, рисуется восьмерка, лежащая на б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«Ромбик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ленно нарисовать в воздухе ромб, стоящий острым углом вниз по вертикали. Делать 10 - 15 рисунк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«Пила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гаясь перед передним рядом парт, рисовать над головами детей рисунок пилы, четко прорабатывая углы внизу и вверху. Делать 1 мину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F44A-1A04-426A-AD03-DCBD9D4B19B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ажёр «Видеоазиму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быть несколько вариантов тренажер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большой, для работ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тол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парте. Это тогда, когда мы много работаем в классе или в группе глазами, т.е. читаем или пишем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вешива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дос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середине. Он используется для тренировки глаз на дальнем, но привычном для ребенка расстоянии с его рабочего постоянного места в классе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могает  снять зрительное утом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2446-D30C-402D-B150-8E41A860385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хема упраж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бежать только взором, не двигая головой, красный прямоугольник. Дозировка для школьников - 4 движения полного цикла. В первом классе - 7, затем добавляется по одному на каждый возраст. Взрослым даем 2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бежать взором зеленый прямоуголь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бежать взором диагональ из угла в угол. Поочередно кажд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ертикаль и горизонталь в той же дозиров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CB12-93C5-45AA-A6DB-62F5DAF7C2B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ласс «Чт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: Если произведения написаны русскими писателями – ведем глазами вверх, если это зарубежные произведения – ведем вн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иемыш», «Русь», «Собачье счастье», «Стихи о березе»,«Волк», «Чинк», «Выскочка», «Моя Родина», «Тимур и его команда», «Заячьи лап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59F3-F211-4408-A54E-6579349A7D9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класс «Окружающий мир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на тему «Если хочешь быть здоров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: Называются утверждения: если верно, то ведем глазами вверх, если нет - ведем вн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день надо закаляться. Нужно чаще гулять на улице. Когда на улице холодно, можно выходить в одних шортах или платье. Когда находишься на улице нужно стоять неподвижно. Закаляться надо в одеяле. На улице надо играть в подвижные игры. На улицу лучше вообще никогда не ход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7E10-4516-4860-8F36-68287E815A1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52A9-7EEC-4796-97EF-A7505F8A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876E-CE1E-41A1-9AE2-C7222F53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8CD-9038-4A76-94B0-5E580EA0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F5BE-BE92-4108-885C-887DC3C0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BEFF-0B14-4469-B5F2-164D5539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B3D5-9720-4C68-96F7-DF6B438D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286C-364C-4312-9283-00E4AD02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7F13-9DFF-4516-BCC8-E5603712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48E6-EF0F-4C0C-BEF4-C0E208DC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990D-C700-4799-8BED-B9466B3A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E7F0-18C2-4FAF-BA64-373768DC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E8AA-83E3-4600-BB2A-72278383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1F47-5D13-47C2-9EEC-A4429124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A554-0953-4C9C-8AA0-75A5075F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A10E-EFC6-44EA-98E9-01B2E667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ACB4-88C6-46AC-9410-3317BA23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FBDE-0078-4E6B-AFA6-27F1B14D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D100-2848-4EBE-AA6E-B92B970B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5BED-6081-4BC7-97C8-9B377C8A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D2BE-2166-4D5E-8FBE-71CE8438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292-6957-4158-B271-228DECC2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81B-053B-4E31-AB50-5530A225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B949-07C2-496A-9842-1B537ADF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DF20-91AA-423D-BA96-E94475F4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EB8E-0766-439C-9414-E542D1E991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2F47-E5D1-4B3E-A6C2-508C769F8A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631280" cy="2979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рофилактика утомления глаз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тодика В.А Ковалё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Массаж активных точек лиц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ссаж точек на висках на лини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 уголка глаза снаружи до козелка на ушной раковин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Особой точности при наложении больших пальцев на височную область не требуется,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вижения пальца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огут быть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ругообразны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ли рисующими букву “с”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ремя - 15 се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Затем выполняются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тирание переносиц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достаточно близко к уголкам глаз, потом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д глаза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 линии крыльев носа 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дбровные дуг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низу ближе к переносиц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Тренажер “Флажок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жно применить для тренировки аккомодации. Дети следят за ним в глубину от себя и к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ой цвет использовать и когда? В понедельник используется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расный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цвет флажка, дети еще утомлены после субботнего и воскресного отдыха. Во вторник пойдет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желт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зелен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цвет, как и в среду. Затем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голубо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800" spc="-1" strike="noStrike">
                <a:solidFill>
                  <a:srgbClr val="800080"/>
                </a:solidFill>
                <a:latin typeface="Comic Sans MS"/>
              </a:rPr>
              <a:t>фиолетов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пражнение «Восьмерка»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полняется мед­ленно, рисуется восьмерка, лежащая на бо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пражнение «Ромбик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дленно нарисовать в воздухе ромб, стоящий острым углом вниз по вертикали. Делать 10 - 15 рисунков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пражнение «Пила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вигаясь перед передним рядом парт, рисовать над головами детей рисунок пилы, четко прорабатывая углы внизу и вверху. Делать 1 мину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199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пражнения для тренажёра «Флажок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ренажёр «Видеоазимут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олжно быть несколько вариантов тренажера.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дин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небольшой, для работы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стол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ли парте. Это тогда, когда мы много работаем в классе или в группе глазами, т.е. читаем или пишем.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руго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вешивается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доск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осередине. Он используется для тренировки глаз на дальнем, но привычном для ребенка расстоянии с его рабочего постоянного места в классе.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омогает  снять зрительное утомлени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видеоазимут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хема упражн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4920" y="1828440"/>
            <a:ext cx="828036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Оббежать только взором, не двигая головой, красный прямоугольник. Дозировка для школьников - 4 движения полного цикла. В первом классе - 7, затем добавляется по одному на каждый возраст. Взрослым даем 25 раз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Оббежать взором зеленый прямоугольни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Оббежать взором диагональ из угла в угол. Поочередно кажду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Вертикаль и горизонталь в той же дозировк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 класс «Чтение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струкция: Если произведения написаны русскими писателями – ведем глазами вверх, если это зарубежные произведения – ведем вниз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Приемыш», «Русь», «Собачье счастье», «Стихи о березе»,«Волк», «Чинк», «Выскочка», «Моя Родина», «Тимур и его команда», «Заячьи лапы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31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 класс «Окружающий мир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рок на тему «Если хочешь быть здоров…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струкция: Называются утверждения: если верно, то ведем глазами вверх, если нет - ведем вниз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ждый день надо закаляться. Нужно чаще гулять на улице. Когда на улице холодно, можно выходить в одних шортах или платье. Когда находишься на улице нужно стоять неподвижно. Закаляться надо в одеяле. На улице надо играть в подвижные игры. На улицу лучше вообще никогда не ходи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9:02:16Z</dcterms:created>
  <dc:creator>Admin</dc:creator>
  <dc:description/>
  <dc:language>en-US</dc:language>
  <cp:lastModifiedBy>LEGION</cp:lastModifiedBy>
  <dcterms:modified xsi:type="dcterms:W3CDTF">2015-02-13T11:15:19Z</dcterms:modified>
  <cp:revision>7</cp:revision>
  <dc:subject/>
  <dc:title>Профилактика зрительного утомления и нарушений зрения у учащихся массовой школы  </dc:title>
</cp:coreProperties>
</file>