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3E29-3D7B-4D8B-A027-E5D6841A199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утомления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ка В.А Ковалё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3B84-7106-464D-BF52-3663F058567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ассаж активных точек 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саж точек на висках на лини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 уголка глаза снаружи до козелка на ушной раковин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собой точности при наложении больших пальцев на височную область не требуется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ижения пальц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гут бы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угообразны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рисующими букву “с”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ремя - 15 се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Затем выполняю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тирание переносиц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остаточно близко к уголкам глаз, пот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 глаз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линии крыльев носа 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дбровные ду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низу ближе к переносиц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822A-DB10-4311-8157-909613640C3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ренажер “Флажок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применить для тренировки аккомодации. Дети следят за ним в глубину от себя и к с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цвет использовать и когда? В понедельник используется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красн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 флажка, дети еще утомлены после субботнего и воскресного отдыха. Во вторник пойде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желт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еле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цвет, как и в среду. Затем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голуб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фиолетов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BA80-002B-4677-862A-7BA5F45C9BD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пражнения для тренажёра «Флажок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пражнение «Восьмерка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полняется мед­ленно, рисуется восьмерка, лежащая на бо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пражнение «Ромбик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ленно нарисовать в воздухе ромб, стоящий острым углом вниз по вертикали. Делать 10 - 15 рисунк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пражнение «Пила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гаясь перед передним рядом парт, рисовать над головами детей рисунок пилы, четко прорабатывая углы внизу и вверху. Делать 1 мину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6C93-6700-4E53-B8DB-5F9FA377538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ажёр «Видеоазиму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 быть несколько вариантов тренажера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ебольшой, для работ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стол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парте. Это тогда, когда мы много работаем в классе или в группе глазами, т.е. читаем или пишем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г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вешива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доск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середине. Он используется для тренировки глаз на дальнем, но привычном для ребенка расстоянии с его рабочего постоянного места в классе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омогает  снять зрительное утомл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C59D-D317-453A-86DF-8959C59572D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хема упраж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ббежать только взором, не двигая головой, красный прямоугольник. Дозировка для школьников - 4 движения полного цикла. В первом классе - 7, затем добавляется по одному на каждый возраст. Взрослым даем 2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бежать взором зеленый прямоуголь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ббежать взором диагональ из угла в угол. Поочередно кажд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ертикаль и горизонталь в той же дозиров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B5A1-F5C8-4390-B3F0-3C06E4E5BB5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класс «Чте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ция: Если произведения написаны русскими писателями – ведем глазами вверх, если это зарубежные произведения – ведем вни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иемыш», «Русь», «Собачье счастье», «Стихи о березе»,«Волк», «Чинк», «Выскочка», «Моя Родина», «Тимур и его команда», «Заячьи лап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7B2A-74D3-4E57-9382-66B9CF1D97B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класс «Окружающий мир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на тему «Если хочешь быть здоров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ция: Называются утверждения: если верно, то ведем глазами вверх, если нет - ведем вни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день надо закаляться. Нужно чаще гулять на улице. Когда на улице холодно, можно выходить в одних шортах или платье. Когда находишься на улице нужно стоять неподвижно. Закаляться надо в одеяле. На улице надо играть в подвижные игры. На улицу лучше вообще никогда не ход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F130-5F3C-4CFC-AEEC-789FD4E0EAF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F44F-FE39-4701-8E9E-0CBB4CBD5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AD1C-8F9A-4A8F-B89F-6CAA795E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E84C-9FAB-4B34-ABB3-8504FB02B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B0A1-287B-4824-A3B6-A1A4344D4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B010-C04B-4735-A393-08AB8F98B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96AF-D40A-427A-BED2-071A6019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77CB-B587-48E4-8FB2-88C6FAB3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5E8B-61B8-4315-AFAF-24B09BDD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4053-8216-4B1E-A698-7C612BDD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084C-E594-4B6B-93AC-C3CA5100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21A9-D6AE-4523-9182-855A7B58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CB4E-BC97-471A-ADB2-44B044B6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6841-28FF-49A6-8677-BA0A4576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65BC-09B7-42D9-86DA-6BE7EC84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2774-AB66-4260-8806-F2C3E534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C6F4-A832-4F1E-8FD1-E96A0DA02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FD45-7A43-48F4-A003-5E46BF7E1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AC4E-5B88-419B-8E00-21B7C391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1E72-754F-42A0-85BF-E09DC03F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53BC-CF8E-46D8-A1D3-DAEB6215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DF3D-CF60-48CF-8906-3CA37929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5E74-DC16-463B-BEFC-E51116BC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90D7-5A51-4B33-B31B-F3D84D23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6369-CE17-42D2-B7C4-92B9A132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B801-2C31-41E2-8530-4B1BA924FF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5626-F1BD-40A6-9E17-A71015A441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631280" cy="29797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Профилактика утомления глаз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етодика В.А Ковалё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Массаж активных точек лиц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ассаж точек на висках на линии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 уголка глаза снаружи до козелка на ушной раковин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Особой точности при наложении больших пальцев на височную область не требуется,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вижения пальцам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могут быть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ругообразным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ли рисующими букву “с”.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ремя - 15 сек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Затем выполняются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тирание переносицы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достаточно близко к уголкам глаз, потом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д глазам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на линии крыльев носа и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дбровные дуг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снизу ближе к переносиц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Тренажер “Флажок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ожно применить для тренировки аккомодации. Дети следят за ним в глубину от себя и к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кой цвет использовать и когда? В понедельник используется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красный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цвет флажка, дети еще утомлены после субботнего и воскресного отдыха. Во вторник пойдет </a:t>
            </a: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желты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ли 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зелены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цвет, как и в среду. Затем 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голубо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800" spc="-1" strike="noStrike">
                <a:solidFill>
                  <a:srgbClr val="800080"/>
                </a:solidFill>
                <a:latin typeface="Comic Sans MS"/>
              </a:rPr>
              <a:t>фиолетовы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Упражнение «Восьмерка»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ыполняется мед­ленно, рисуется восьмерка, лежащая на бок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Упражнение «Ромбик»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едленно нарисовать в воздухе ромб, стоящий острым углом вниз по вертикали. Делать 10 - 15 рисунков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Упражнение «Пила»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вигаясь перед передним рядом парт, рисовать над головами детей рисунок пилы, четко прорабатывая углы внизу и вверху. Делать 1 минут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1992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Упражнения для тренажёра «Флажок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ренажёр «Видеоазимут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олжно быть несколько вариантов тренажера.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дин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небольшой, для работы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 стол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ли парте. Это тогда, когда мы много работаем в классе или в группе глазами, т.е. читаем или пишем.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руго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ывешивается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 доск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посередине. Он используется для тренировки глаз на дальнем, но привычном для ребенка расстоянии с его рабочего постоянного места в классе.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омогает  снять зрительное утомлени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видеоазимут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Схема упражнен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4920" y="1828440"/>
            <a:ext cx="828036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 Оббежать только взором, не двигая головой, красный прямоугольник. Дозировка для школьников - 4 движения полного цикла. В первом классе - 7, затем добавляется по одному на каждый возраст. Взрослым даем 25 раз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 Оббежать взором зеленый прямоугольни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 Оббежать взором диагональ из угла в угол. Поочередно кажду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. Вертикаль и горизонталь в той же дозировке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3 класс «Чтение»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нструкция: Если произведения написаны русскими писателями – ведем глазами вверх, если это зарубежные произведения – ведем вниз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Приемыш», «Русь», «Собачье счастье», «Стихи о березе»,«Волк», «Чинк», «Выскочка», «Моя Родина», «Тимур и его команда», «Заячьи лапы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6312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1 класс «Окружающий мир»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рок на тему «Если хочешь быть здоров…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нструкция: Называются утверждения: если верно, то ведем глазами вверх, если нет - ведем вниз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аждый день надо закаляться. Нужно чаще гулять на улице. Когда на улице холодно, можно выходить в одних шортах или платье. Когда находишься на улице нужно стоять неподвижно. Закаляться надо в одеяле. На улице надо играть в подвижные игры. На улицу лучше вообще никогда не ходи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9:02:16Z</dcterms:created>
  <dc:creator>Admin</dc:creator>
  <dc:description/>
  <dc:language>en-US</dc:language>
  <cp:lastModifiedBy>LEGION</cp:lastModifiedBy>
  <dcterms:modified xsi:type="dcterms:W3CDTF">2015-02-13T11:15:19Z</dcterms:modified>
  <cp:revision>7</cp:revision>
  <dc:subject/>
  <dc:title>Профилактика зрительного утомления и нарушений зрения у учащихся массовой школы  </dc:title>
</cp:coreProperties>
</file>