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2.jpeg" ContentType="image/jpeg"/>
  <Override PartName="/ppt/media/image13.png" ContentType="image/png"/>
  <Override PartName="/ppt/media/image48.png" ContentType="image/png"/>
  <Override PartName="/ppt/media/image5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984F-F21F-44D7-8861-A4ACF76A25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F92-240D-4C0A-BA4D-671F167B78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я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а тяжести, 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– коэффициент силы тяжести, Н/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– масса тела, 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а тяжести, действующая на тело, прямо пропорциональна массе эт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1197-3135-4258-92B9-487664CF97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эффициенты силы тяжести, Н/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Объясните, почему сила тяжести на экваторе меньше силы тяжести на полюсах Зем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Будет ли сила тяжести на вершине горы меньше, чем у её поднож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0EA2-343B-457B-B197-0D47E2B44C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величивается с увеличением массы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зависит от места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измеряется в килограм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Земле везде одинак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меньшается при удалении от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поверхности всех планет одинак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действует тольк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8730-00C0-437E-90DF-3A3813A5F8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нято говор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На тело действует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К телу приложена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A00E-9E38-4F3C-A81A-470C04F8EE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2217"/>
                </a:solidFill>
                <a:latin typeface="Cambria"/>
              </a:rPr>
              <a:t>Сила, действующая на тело, может изменить не тольк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скорость всего тела, </a:t>
            </a:r>
            <a:r>
              <a:rPr b="1" lang="ru-RU" sz="1200" spc="-1" strike="noStrike">
                <a:solidFill>
                  <a:srgbClr val="4e1610"/>
                </a:solidFill>
                <a:latin typeface="Cambria"/>
              </a:rPr>
              <a:t>но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 и его отдельны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A581-A6D3-4F2A-9660-95FCDE78AF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мера взаимодействия т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воздействия силы тела могут изменить скорость или деформиро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физическ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е можно изме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векторн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а характеризуется на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2D83-B8CB-435B-8301-5235108790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произойдет, если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уронили поклажу из ру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подбросили вверх мя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бросили в горизонтальном направлении пал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AE73-055F-4640-BF23-80F89B0BE7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Некоторые примеры воздействия силы притяжения к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F056-AEBD-455D-88B2-8A07BE959A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итяжение существует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емлей и телами, находящимис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Притяжение всех тел Вселенной друг к другу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Всемирным тягот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се тела притягиваются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632A-C0C5-42C0-9E91-28FD81589A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Силы притяжения между телами тем больше, чем больше массы эти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ы притяжения между телами уменьшаются, если увеличивается расстояние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2331-FFFB-41E8-A971-1C99722940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означение силы тяжести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тя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правление силы тяжести: </a:t>
            </a:r>
            <a:r>
              <a:rPr b="1" lang="ru-RU" sz="1100" spc="-1" strike="noStrike">
                <a:solidFill>
                  <a:srgbClr val="c00000"/>
                </a:solidFill>
                <a:latin typeface="Calibri"/>
              </a:rPr>
              <a:t>вертикально вни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940B-0732-4BC6-8FD8-CB55F7B896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EC2-E116-440B-8E7B-17989EDA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23C-77C9-472F-B9D1-8904CEBC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32C-31F1-45E6-8003-B346E4C4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545-ECB9-43F1-9F1D-F09405B2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7DEC-946A-4286-90E3-60F0496C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0C94-14FD-4506-91E9-721A8FD6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CA6A-6DD7-4786-8FBA-A7E8CC1A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46DD-60EB-49E6-8604-E922D328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CCE9-4754-4607-BBBA-83F953E0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9B6C-E864-493B-AAB9-7BBFDDC1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F6C1-C939-472F-9876-79B26594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944-F747-4E04-B231-279A8525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4B93-9E8A-4BC2-909D-5429285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F867-2C3D-4009-92AB-ECB66A4A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40AF-6D5E-4945-9BD6-B2B9BD49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E7E0-33C9-49EC-BE84-A46B44D1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DE64-205E-4601-949B-4BE998F7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4FD7-E263-4A6D-A2E3-52B73383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2151B-6768-42B4-8E70-E1DA6361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1BA4-80C3-406F-B297-EAA29537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1B0C-0EBD-4050-9771-9CCA55A1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2CF5-BA63-48B9-8981-B2B31F9D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BE9-BEA6-497F-B57B-2CD03656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3820-F4B0-4624-8EBE-D0890F2B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6728-858F-42D0-9782-8D8DB0E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2CA3-43F9-4A56-BE29-A1EBE573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2331-EFED-47C1-88C8-75A521B6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DAF7-6182-4BEC-831F-60906CA8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83D6-39D0-4041-BA80-65A93C93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8B5D-13F6-4029-A466-AC840EC8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E9722-EE02-40AA-8DDB-8AE853E3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DCA8-E16F-4149-8489-9CBFBCF4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8312-7ED8-46F2-936C-4483AE9D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B55-5EAC-4B34-8015-72D0A625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3D94A-DE16-4DBA-964C-5C3E48E8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11B68-9AE0-41E0-9E39-FC2CE279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70344-B1ED-47E3-873A-8FAC7EFF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F89E4-6A30-4BE2-9B53-02D6F94F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DDBF-AE56-485F-9C35-2F2894D6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8667D-DB8A-41B7-8036-87B04C12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9894-9429-41C1-88E3-E95F5CB3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79571-F0F7-4A49-88E4-4D015C00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767B4-DD80-48A5-92C1-ECD6AD45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6BC50-51D3-4DE4-843B-6B2C0192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3DE-46D3-4C2B-9FC0-337967F7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0A72D-5105-4102-9789-ACFBC2F2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CEAD9-0828-482C-BB7F-CB003FA4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B706-C0F2-47DE-AD9F-D5A73F53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34C37-388B-41FE-8A2F-5BA04231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5A6B8-3590-4EF8-9F4F-A56E8DB7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298DF-A01D-4F49-8C9D-A50FBCB4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E19B4-6B16-459A-9866-D5810F52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E02EB-5DE1-4E45-BE10-FCB67F39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33334-8123-4F4A-8352-E4F3CF8A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B1BA-AE44-43B9-B5A3-4CE1B649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093-8E1D-4EA1-A08C-9F9C9615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24ABF-B842-4812-AE8C-3CD20A2A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A07-74BD-4493-B59E-3268A31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4A8-3BF6-4307-A796-9CBC7DE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ECA-A140-40EE-90BC-8AADFB91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28C8-4DC7-46FE-8EAB-E2DAF965129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B3DB-2573-48EB-8160-5680C5D86CE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EDA1-678B-4F41-AC89-9D398736FFA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F86E-482B-4456-958A-34FBEEE0E1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49C0-D848-44CC-B7DC-09E25EEADDF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4147200" y="50846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905120" y="595008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математики и информатики Тивяко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, г.Светлый Калинин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8000" y="206064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яж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сила тяжести, Н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g– коэффициент силы тяжести, Н/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m– масса тела, 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ила тяжести, действующая на тело, прямо пропорциональна массе этого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21" name="Овал 3"/>
          <p:cNvGrpSpPr/>
          <p:nvPr/>
        </p:nvGrpSpPr>
        <p:grpSpPr>
          <a:xfrm>
            <a:off x="1347840" y="158760"/>
            <a:ext cx="6375240" cy="1670040"/>
            <a:chOff x="1347840" y="158760"/>
            <a:chExt cx="6375240" cy="1670040"/>
          </a:xfrm>
        </p:grpSpPr>
        <p:pic>
          <p:nvPicPr>
            <p:cNvPr id="322" name="Овал 3" descr=""/>
            <p:cNvPicPr/>
            <p:nvPr/>
          </p:nvPicPr>
          <p:blipFill>
            <a:blip r:embed="rId1"/>
            <a:stretch/>
          </p:blipFill>
          <p:spPr>
            <a:xfrm>
              <a:off x="1347840" y="158760"/>
              <a:ext cx="63752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"/>
            <p:cNvSpPr/>
            <p:nvPr/>
          </p:nvSpPr>
          <p:spPr>
            <a:xfrm>
              <a:off x="2320920" y="417600"/>
              <a:ext cx="4430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F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тяж</a:t>
              </a: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 = g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Прямоугольник 5"/>
          <p:cNvSpPr/>
          <p:nvPr/>
        </p:nvSpPr>
        <p:spPr>
          <a:xfrm>
            <a:off x="395280" y="4724280"/>
            <a:ext cx="8424720" cy="161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величится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велич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массы тел одинаковы, то одинаковы и действующие на них силы тя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то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Коэффициенты силы тяжести, Н/кг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6" name="Picture 25" descr=""/>
          <p:cNvPicPr/>
          <p:nvPr/>
        </p:nvPicPr>
        <p:blipFill>
          <a:blip r:embed="rId1"/>
          <a:stretch/>
        </p:blipFill>
        <p:spPr>
          <a:xfrm rot="21151800">
            <a:off x="971640" y="1125000"/>
            <a:ext cx="2790720" cy="22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TextBox 4"/>
          <p:cNvSpPr/>
          <p:nvPr/>
        </p:nvSpPr>
        <p:spPr>
          <a:xfrm>
            <a:off x="978480" y="1341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Л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Прямоугольник 5"/>
          <p:cNvGrpSpPr/>
          <p:nvPr/>
        </p:nvGrpSpPr>
        <p:grpSpPr>
          <a:xfrm>
            <a:off x="2846520" y="2425680"/>
            <a:ext cx="903240" cy="609480"/>
            <a:chOff x="2846520" y="2425680"/>
            <a:chExt cx="903240" cy="609480"/>
          </a:xfrm>
        </p:grpSpPr>
        <p:pic>
          <p:nvPicPr>
            <p:cNvPr id="3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846520" y="242568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6"/>
            <p:cNvSpPr/>
            <p:nvPr/>
          </p:nvSpPr>
          <p:spPr>
            <a:xfrm>
              <a:off x="3022920" y="249228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1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26" descr=""/>
          <p:cNvPicPr/>
          <p:nvPr/>
        </p:nvPicPr>
        <p:blipFill>
          <a:blip r:embed="rId3"/>
          <a:stretch/>
        </p:blipFill>
        <p:spPr>
          <a:xfrm rot="618000">
            <a:off x="5281200" y="1196640"/>
            <a:ext cx="302904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Прямоугольник 7"/>
          <p:cNvSpPr/>
          <p:nvPr/>
        </p:nvSpPr>
        <p:spPr>
          <a:xfrm>
            <a:off x="551808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Прямоугольник 8"/>
          <p:cNvGrpSpPr/>
          <p:nvPr/>
        </p:nvGrpSpPr>
        <p:grpSpPr>
          <a:xfrm>
            <a:off x="7169040" y="2712960"/>
            <a:ext cx="901800" cy="609840"/>
            <a:chOff x="7169040" y="2712960"/>
            <a:chExt cx="901800" cy="609840"/>
          </a:xfrm>
        </p:grpSpPr>
        <p:pic>
          <p:nvPicPr>
            <p:cNvPr id="33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169040" y="2712960"/>
              <a:ext cx="9018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1"/>
            <p:cNvSpPr/>
            <p:nvPr/>
          </p:nvSpPr>
          <p:spPr>
            <a:xfrm>
              <a:off x="7332120" y="278136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3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27" descr=""/>
          <p:cNvPicPr/>
          <p:nvPr/>
        </p:nvPicPr>
        <p:blipFill>
          <a:blip r:embed="rId5"/>
          <a:stretch/>
        </p:blipFill>
        <p:spPr>
          <a:xfrm rot="520800">
            <a:off x="609120" y="3989520"/>
            <a:ext cx="2808360" cy="209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7" name="Прямоугольник 10"/>
          <p:cNvSpPr/>
          <p:nvPr/>
        </p:nvSpPr>
        <p:spPr>
          <a:xfrm>
            <a:off x="837720" y="40766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Юп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Прямоугольник 11"/>
          <p:cNvGrpSpPr/>
          <p:nvPr/>
        </p:nvGrpSpPr>
        <p:grpSpPr>
          <a:xfrm>
            <a:off x="2408400" y="5450040"/>
            <a:ext cx="828360" cy="609480"/>
            <a:chOff x="2408400" y="5450040"/>
            <a:chExt cx="828360" cy="609480"/>
          </a:xfrm>
        </p:grpSpPr>
        <p:pic>
          <p:nvPicPr>
            <p:cNvPr id="339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2408400" y="5450040"/>
              <a:ext cx="828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6"/>
            <p:cNvSpPr/>
            <p:nvPr/>
          </p:nvSpPr>
          <p:spPr>
            <a:xfrm>
              <a:off x="2567520" y="551664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28" descr=""/>
          <p:cNvPicPr/>
          <p:nvPr/>
        </p:nvPicPr>
        <p:blipFill>
          <a:blip r:embed="rId7"/>
          <a:stretch/>
        </p:blipFill>
        <p:spPr>
          <a:xfrm rot="21169200">
            <a:off x="4341600" y="3751200"/>
            <a:ext cx="300816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42" name="Прямоугольник 14"/>
          <p:cNvGrpSpPr/>
          <p:nvPr/>
        </p:nvGrpSpPr>
        <p:grpSpPr>
          <a:xfrm>
            <a:off x="6675480" y="5754600"/>
            <a:ext cx="2035080" cy="835200"/>
            <a:chOff x="6675480" y="5754600"/>
            <a:chExt cx="2035080" cy="835200"/>
          </a:xfrm>
        </p:grpSpPr>
        <p:pic>
          <p:nvPicPr>
            <p:cNvPr id="343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6675480" y="5754600"/>
              <a:ext cx="20350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0"/>
            <p:cNvSpPr/>
            <p:nvPr/>
          </p:nvSpPr>
          <p:spPr>
            <a:xfrm>
              <a:off x="6732720" y="5805360"/>
              <a:ext cx="192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полюсах - 9,8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рямоугольник 15"/>
          <p:cNvGrpSpPr/>
          <p:nvPr/>
        </p:nvGrpSpPr>
        <p:grpSpPr>
          <a:xfrm>
            <a:off x="6924600" y="4529160"/>
            <a:ext cx="2024280" cy="841320"/>
            <a:chOff x="6924600" y="4529160"/>
            <a:chExt cx="2024280" cy="841320"/>
          </a:xfrm>
        </p:grpSpPr>
        <p:pic>
          <p:nvPicPr>
            <p:cNvPr id="346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6924600" y="4529160"/>
              <a:ext cx="2024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3"/>
            <p:cNvSpPr/>
            <p:nvPr/>
          </p:nvSpPr>
          <p:spPr>
            <a:xfrm>
              <a:off x="7020000" y="4581360"/>
              <a:ext cx="18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экваторе - 9,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рямоугольник 17"/>
          <p:cNvGrpSpPr/>
          <p:nvPr/>
        </p:nvGrpSpPr>
        <p:grpSpPr>
          <a:xfrm>
            <a:off x="-55440" y="1884240"/>
            <a:ext cx="9285120" cy="3065760"/>
            <a:chOff x="-55440" y="1884240"/>
            <a:chExt cx="9285120" cy="3065760"/>
          </a:xfrm>
        </p:grpSpPr>
        <p:pic>
          <p:nvPicPr>
            <p:cNvPr id="349" name="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-55440" y="1884240"/>
              <a:ext cx="92851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6"/>
            <p:cNvSpPr/>
            <p:nvPr/>
          </p:nvSpPr>
          <p:spPr>
            <a:xfrm>
              <a:off x="0" y="1916280"/>
              <a:ext cx="914400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Объясните, почему сила тяжести на экваторе меньше силы тяжести на полюсах Зем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Будет ли сила тяжести на вершине горы меньше, чем у её поднож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434 0.10509 E">
                                      <p:cBhvr>
                                        <p:cTn id="14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58560" y="1628280"/>
            <a:ext cx="8785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величивается с увеличением массы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зависит от места наблюд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измеряется в килограмма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Земле везде одинаков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меньшается при удалении от поверхности Земл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поверхности всех планет одинакова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действует только на Земл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52" name="TextBox 2"/>
          <p:cNvGrpSpPr/>
          <p:nvPr/>
        </p:nvGrpSpPr>
        <p:grpSpPr>
          <a:xfrm>
            <a:off x="-55440" y="536400"/>
            <a:ext cx="9254880" cy="689040"/>
            <a:chOff x="-55440" y="536400"/>
            <a:chExt cx="9254880" cy="689040"/>
          </a:xfrm>
        </p:grpSpPr>
        <p:pic>
          <p:nvPicPr>
            <p:cNvPr id="353" name="TextBox 2" descr=""/>
            <p:cNvPicPr/>
            <p:nvPr/>
          </p:nvPicPr>
          <p:blipFill>
            <a:blip r:embed="rId1"/>
            <a:stretch/>
          </p:blipFill>
          <p:spPr>
            <a:xfrm>
              <a:off x="-55440" y="536400"/>
              <a:ext cx="9254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4"/>
            <p:cNvSpPr/>
            <p:nvPr/>
          </p:nvSpPr>
          <p:spPr>
            <a:xfrm>
              <a:off x="0" y="62064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80d9b"/>
                  </a:solidFill>
                  <a:latin typeface="Cambria"/>
                </a:rPr>
                <a:t>Найди верные утвержд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01636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TextBox 2"/>
          <p:cNvSpPr/>
          <p:nvPr/>
        </p:nvSpPr>
        <p:spPr>
          <a:xfrm>
            <a:off x="484200" y="26028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имеры взаимодейств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214488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1" name="TextBox 5"/>
          <p:cNvSpPr/>
          <p:nvPr/>
        </p:nvSpPr>
        <p:spPr>
          <a:xfrm>
            <a:off x="250920" y="314172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ие тела взаимодействуют между соб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 направлением движения мяча, при воздействии на него ногой мальч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мяч имел бы меньшую массу, то скорость полета была бы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о скоростью тележки, когда ребенок начинает толкать ее силь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24000" y="5805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вод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корость тела меняется при взаимодействии его с другими те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215892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44" name="Группа 10"/>
          <p:cNvGrpSpPr/>
          <p:nvPr/>
        </p:nvGrpSpPr>
        <p:grpSpPr>
          <a:xfrm>
            <a:off x="250920" y="3068640"/>
            <a:ext cx="8642160" cy="3529080"/>
            <a:chOff x="250920" y="3068640"/>
            <a:chExt cx="8642160" cy="3529080"/>
          </a:xfrm>
        </p:grpSpPr>
        <p:grpSp>
          <p:nvGrpSpPr>
            <p:cNvPr id="245" name="Прямоугольник 8"/>
            <p:cNvGrpSpPr/>
            <p:nvPr/>
          </p:nvGrpSpPr>
          <p:grpSpPr>
            <a:xfrm>
              <a:off x="250920" y="3068640"/>
              <a:ext cx="8642160" cy="3529080"/>
              <a:chOff x="250920" y="3068640"/>
              <a:chExt cx="8642160" cy="3529080"/>
            </a:xfrm>
          </p:grpSpPr>
          <p:pic>
            <p:nvPicPr>
              <p:cNvPr id="246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920" y="3068640"/>
                <a:ext cx="8642160" cy="35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1"/>
              <p:cNvSpPr/>
              <p:nvPr/>
            </p:nvSpPr>
            <p:spPr>
              <a:xfrm>
                <a:off x="305640" y="3100320"/>
                <a:ext cx="8532360" cy="34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TextBox 9"/>
            <p:cNvGrpSpPr/>
            <p:nvPr/>
          </p:nvGrpSpPr>
          <p:grpSpPr>
            <a:xfrm>
              <a:off x="2230920" y="3801600"/>
              <a:ext cx="4314960" cy="2355480"/>
              <a:chOff x="2230920" y="3801600"/>
              <a:chExt cx="4314960" cy="2355480"/>
            </a:xfrm>
          </p:grpSpPr>
          <p:pic>
            <p:nvPicPr>
              <p:cNvPr id="249" name="TextBox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0920" y="3801600"/>
                <a:ext cx="431496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Text Box 14"/>
              <p:cNvSpPr/>
              <p:nvPr/>
            </p:nvSpPr>
            <p:spPr>
              <a:xfrm>
                <a:off x="2367720" y="3868560"/>
                <a:ext cx="4123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mbria"/>
                  </a:rPr>
                  <a:t>Принято говорить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На тело действует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Cambria"/>
                  </a:rPr>
                  <a:t>ил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К телу приложена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1" name="Picture 5" descr=""/>
          <p:cNvPicPr/>
          <p:nvPr/>
        </p:nvPicPr>
        <p:blipFill>
          <a:blip r:embed="rId6"/>
          <a:stretch/>
        </p:blipFill>
        <p:spPr>
          <a:xfrm>
            <a:off x="2340000" y="907920"/>
            <a:ext cx="201600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TextBox 2"/>
          <p:cNvGrpSpPr/>
          <p:nvPr/>
        </p:nvGrpSpPr>
        <p:grpSpPr>
          <a:xfrm>
            <a:off x="628560" y="189000"/>
            <a:ext cx="8174160" cy="1353960"/>
            <a:chOff x="628560" y="189000"/>
            <a:chExt cx="8174160" cy="1353960"/>
          </a:xfrm>
        </p:grpSpPr>
        <p:pic>
          <p:nvPicPr>
            <p:cNvPr id="253" name="TextBox 2" descr=""/>
            <p:cNvPicPr/>
            <p:nvPr/>
          </p:nvPicPr>
          <p:blipFill>
            <a:blip r:embed="rId1"/>
            <a:stretch/>
          </p:blipFill>
          <p:spPr>
            <a:xfrm>
              <a:off x="628560" y="189000"/>
              <a:ext cx="817416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684360" y="260280"/>
              <a:ext cx="806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42217"/>
                  </a:solidFill>
                  <a:latin typeface="Cambria"/>
                </a:rPr>
                <a:t>Сила, действующая на тело, может изменить не только 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скорость всего тела, </a:t>
              </a:r>
              <a:r>
                <a:rPr b="1" lang="ru-RU" sz="2400" spc="-1" strike="noStrike">
                  <a:solidFill>
                    <a:srgbClr val="4e1610"/>
                  </a:solidFill>
                  <a:latin typeface="Cambria"/>
                </a:rPr>
                <a:t>но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 и его отдельных час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9"/>
          <p:cNvGrpSpPr/>
          <p:nvPr/>
        </p:nvGrpSpPr>
        <p:grpSpPr>
          <a:xfrm>
            <a:off x="684360" y="1773360"/>
            <a:ext cx="8621280" cy="1942920"/>
            <a:chOff x="684360" y="1773360"/>
            <a:chExt cx="8621280" cy="1942920"/>
          </a:xfrm>
        </p:grpSpPr>
        <p:pic>
          <p:nvPicPr>
            <p:cNvPr id="256" name="Picture 4" descr=""/>
            <p:cNvPicPr/>
            <p:nvPr/>
          </p:nvPicPr>
          <p:blipFill>
            <a:blip r:embed="rId2"/>
            <a:stretch/>
          </p:blipFill>
          <p:spPr>
            <a:xfrm>
              <a:off x="7596000" y="2349000"/>
              <a:ext cx="1709640" cy="136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Группа 6"/>
            <p:cNvGrpSpPr/>
            <p:nvPr/>
          </p:nvGrpSpPr>
          <p:grpSpPr>
            <a:xfrm>
              <a:off x="684360" y="1773360"/>
              <a:ext cx="8064000" cy="1724040"/>
              <a:chOff x="684360" y="1773360"/>
              <a:chExt cx="8064000" cy="1724040"/>
            </a:xfrm>
          </p:grpSpPr>
          <p:sp>
            <p:nvSpPr>
              <p:cNvPr id="258" name="TextBox 3"/>
              <p:cNvSpPr/>
              <p:nvPr/>
            </p:nvSpPr>
            <p:spPr>
              <a:xfrm>
                <a:off x="3924360" y="1917720"/>
                <a:ext cx="4824000" cy="1191240"/>
              </a:xfrm>
              <a:prstGeom prst="rect">
                <a:avLst/>
              </a:prstGeom>
              <a:noFill/>
              <a:ln w="9360">
                <a:solidFill>
                  <a:srgbClr val="d348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9240c"/>
                    </a:solidFill>
                    <a:latin typeface="Arial"/>
                  </a:rPr>
                  <a:t>Деформация тела – любое изменение формы и размера тел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9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1773360"/>
                <a:ext cx="2730240" cy="172404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</p:grpSp>
      <p:grpSp>
        <p:nvGrpSpPr>
          <p:cNvPr id="260" name="Группа 12"/>
          <p:cNvGrpSpPr/>
          <p:nvPr/>
        </p:nvGrpSpPr>
        <p:grpSpPr>
          <a:xfrm>
            <a:off x="5724360" y="3933720"/>
            <a:ext cx="2965680" cy="2157480"/>
            <a:chOff x="5724360" y="3933720"/>
            <a:chExt cx="2965680" cy="2157480"/>
          </a:xfrm>
        </p:grpSpPr>
        <p:pic>
          <p:nvPicPr>
            <p:cNvPr id="261" name="Picture 6" descr=""/>
            <p:cNvPicPr/>
            <p:nvPr/>
          </p:nvPicPr>
          <p:blipFill>
            <a:blip r:embed="rId4"/>
            <a:stretch/>
          </p:blipFill>
          <p:spPr>
            <a:xfrm>
              <a:off x="7164000" y="3933720"/>
              <a:ext cx="15260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11"/>
            <p:cNvSpPr/>
            <p:nvPr/>
          </p:nvSpPr>
          <p:spPr>
            <a:xfrm>
              <a:off x="5724360" y="4078080"/>
              <a:ext cx="1584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9240c"/>
                  </a:solidFill>
                  <a:latin typeface="Arial"/>
                </a:rPr>
                <a:t>Веревка провисла, когда на ней стал резвиться  котенок</a:t>
              </a:r>
              <a:r>
                <a:rPr b="0" lang="ru-RU" sz="2000" spc="-1" strike="noStrike">
                  <a:solidFill>
                    <a:srgbClr val="69240c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18"/>
          <p:cNvGrpSpPr/>
          <p:nvPr/>
        </p:nvGrpSpPr>
        <p:grpSpPr>
          <a:xfrm>
            <a:off x="468360" y="3860640"/>
            <a:ext cx="4535280" cy="2570400"/>
            <a:chOff x="468360" y="3860640"/>
            <a:chExt cx="4535280" cy="2570400"/>
          </a:xfrm>
        </p:grpSpPr>
        <p:pic>
          <p:nvPicPr>
            <p:cNvPr id="264" name="Picture 8" descr=""/>
            <p:cNvPicPr/>
            <p:nvPr/>
          </p:nvPicPr>
          <p:blipFill>
            <a:blip r:embed="rId5"/>
            <a:stretch/>
          </p:blipFill>
          <p:spPr>
            <a:xfrm>
              <a:off x="3132000" y="4868640"/>
              <a:ext cx="1871640" cy="1562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65" name="Picture 9" descr=""/>
            <p:cNvPicPr/>
            <p:nvPr/>
          </p:nvPicPr>
          <p:blipFill>
            <a:blip r:embed="rId6"/>
            <a:stretch/>
          </p:blipFill>
          <p:spPr>
            <a:xfrm>
              <a:off x="612720" y="4868640"/>
              <a:ext cx="2225520" cy="155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66" name="TextBox 17"/>
            <p:cNvSpPr/>
            <p:nvPr/>
          </p:nvSpPr>
          <p:spPr>
            <a:xfrm>
              <a:off x="468360" y="3860640"/>
              <a:ext cx="431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Чтобы сдвинуть автомобили с места требуется приложить силы разной величи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0560" y="691920"/>
            <a:ext cx="86072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мера взаимодействия тел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 результате воздействия силы тела могут изменить скорость или деформироватьс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физическ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ее можно измерить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векторн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на характеризуется направление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68" name="TextBox 3"/>
          <p:cNvGrpSpPr/>
          <p:nvPr/>
        </p:nvGrpSpPr>
        <p:grpSpPr>
          <a:xfrm>
            <a:off x="-55440" y="109440"/>
            <a:ext cx="9254880" cy="682560"/>
            <a:chOff x="-55440" y="109440"/>
            <a:chExt cx="9254880" cy="682560"/>
          </a:xfrm>
        </p:grpSpPr>
        <p:pic>
          <p:nvPicPr>
            <p:cNvPr id="269" name="TextBox 3" descr=""/>
            <p:cNvPicPr/>
            <p:nvPr/>
          </p:nvPicPr>
          <p:blipFill>
            <a:blip r:embed="rId1"/>
            <a:stretch/>
          </p:blipFill>
          <p:spPr>
            <a:xfrm>
              <a:off x="-55440" y="109440"/>
              <a:ext cx="9254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0" y="1890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Что мы должны знать о понятии «сил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Группа 7"/>
          <p:cNvGrpSpPr/>
          <p:nvPr/>
        </p:nvGrpSpPr>
        <p:grpSpPr>
          <a:xfrm>
            <a:off x="0" y="3357720"/>
            <a:ext cx="8893080" cy="1958760"/>
            <a:chOff x="0" y="3357720"/>
            <a:chExt cx="8893080" cy="1958760"/>
          </a:xfrm>
        </p:grpSpPr>
        <p:pic>
          <p:nvPicPr>
            <p:cNvPr id="272" name="Picture 4" descr="Сложение сил_ лебедь-рак-щука"/>
            <p:cNvPicPr/>
            <p:nvPr/>
          </p:nvPicPr>
          <p:blipFill>
            <a:blip r:embed="rId2"/>
            <a:stretch/>
          </p:blipFill>
          <p:spPr>
            <a:xfrm>
              <a:off x="6445440" y="3357720"/>
              <a:ext cx="2447640" cy="1958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3" name="Прямоугольник 6"/>
            <p:cNvSpPr/>
            <p:nvPr/>
          </p:nvSpPr>
          <p:spPr>
            <a:xfrm>
              <a:off x="0" y="3645720"/>
              <a:ext cx="640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buClr>
                  <a:srgbClr val="c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Результат действия силы на тело зависит от ее модуля, направления и точки прило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13"/>
          <p:cNvGrpSpPr/>
          <p:nvPr/>
        </p:nvGrpSpPr>
        <p:grpSpPr>
          <a:xfrm>
            <a:off x="963720" y="4869000"/>
            <a:ext cx="7537320" cy="1736640"/>
            <a:chOff x="963720" y="4869000"/>
            <a:chExt cx="7537320" cy="1736640"/>
          </a:xfrm>
        </p:grpSpPr>
        <p:grpSp>
          <p:nvGrpSpPr>
            <p:cNvPr id="275" name="Группа 11"/>
            <p:cNvGrpSpPr/>
            <p:nvPr/>
          </p:nvGrpSpPr>
          <p:grpSpPr>
            <a:xfrm>
              <a:off x="5224680" y="5517000"/>
              <a:ext cx="3276360" cy="1041480"/>
              <a:chOff x="5224680" y="5517000"/>
              <a:chExt cx="3276360" cy="1041480"/>
            </a:xfrm>
          </p:grpSpPr>
          <p:sp>
            <p:nvSpPr>
              <p:cNvPr id="276" name="TextBox 8"/>
              <p:cNvSpPr/>
              <p:nvPr/>
            </p:nvSpPr>
            <p:spPr>
              <a:xfrm>
                <a:off x="5224680" y="5733000"/>
                <a:ext cx="3043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Обозначение силы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          </a:t>
                </a: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модуля силы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28720" y="5517000"/>
                <a:ext cx="472320" cy="57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8100720" y="6093360"/>
                <a:ext cx="339840" cy="43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9" name="Picture 6" descr=""/>
            <p:cNvPicPr/>
            <p:nvPr/>
          </p:nvPicPr>
          <p:blipFill>
            <a:blip r:embed="rId5"/>
            <a:stretch/>
          </p:blipFill>
          <p:spPr>
            <a:xfrm>
              <a:off x="963720" y="4869000"/>
              <a:ext cx="3680640" cy="173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4392360" cy="83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280" y="765000"/>
            <a:ext cx="5113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Что произойдет, если?.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уронили поклажу из рук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подбросили вверх мяч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бросили в горизонтальном направлении палку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050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TextBox 5"/>
          <p:cNvSpPr/>
          <p:nvPr/>
        </p:nvSpPr>
        <p:spPr>
          <a:xfrm>
            <a:off x="1346040" y="3429000"/>
            <a:ext cx="57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ова будет траектория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1258920" y="3860640"/>
            <a:ext cx="7453440" cy="2737080"/>
            <a:chOff x="1258920" y="3860640"/>
            <a:chExt cx="7453440" cy="2737080"/>
          </a:xfrm>
        </p:grpSpPr>
        <p:pic>
          <p:nvPicPr>
            <p:cNvPr id="285" name="Picture 11" descr=""/>
            <p:cNvPicPr/>
            <p:nvPr/>
          </p:nvPicPr>
          <p:blipFill>
            <a:blip r:embed="rId2"/>
            <a:stretch/>
          </p:blipFill>
          <p:spPr>
            <a:xfrm>
              <a:off x="1258920" y="3860640"/>
              <a:ext cx="1152360" cy="25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2" descr=""/>
            <p:cNvPicPr/>
            <p:nvPr/>
          </p:nvPicPr>
          <p:blipFill>
            <a:blip r:embed="rId3"/>
            <a:stretch/>
          </p:blipFill>
          <p:spPr>
            <a:xfrm>
              <a:off x="2987280" y="4220640"/>
              <a:ext cx="5725080" cy="237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1">
            <a:lum bright="10000"/>
          </a:blip>
          <a:stretch/>
        </p:blipFill>
        <p:spPr>
          <a:xfrm rot="21239400">
            <a:off x="493560" y="3481560"/>
            <a:ext cx="2494080" cy="19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 rot="661800">
            <a:off x="5825880" y="3595680"/>
            <a:ext cx="269244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9" name="Picture 10" descr=""/>
          <p:cNvPicPr/>
          <p:nvPr/>
        </p:nvPicPr>
        <p:blipFill>
          <a:blip r:embed="rId3"/>
          <a:srcRect l="0" t="16049" r="0" b="0"/>
          <a:stretch/>
        </p:blipFill>
        <p:spPr>
          <a:xfrm>
            <a:off x="3851280" y="3068640"/>
            <a:ext cx="1197000" cy="15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90" name="TextBox 6"/>
          <p:cNvGrpSpPr/>
          <p:nvPr/>
        </p:nvGrpSpPr>
        <p:grpSpPr>
          <a:xfrm>
            <a:off x="-128520" y="2352600"/>
            <a:ext cx="9401040" cy="893880"/>
            <a:chOff x="-128520" y="2352600"/>
            <a:chExt cx="9401040" cy="893880"/>
          </a:xfrm>
        </p:grpSpPr>
        <p:pic>
          <p:nvPicPr>
            <p:cNvPr id="291" name="TextBox 6" descr=""/>
            <p:cNvPicPr/>
            <p:nvPr/>
          </p:nvPicPr>
          <p:blipFill>
            <a:blip r:embed="rId4"/>
            <a:stretch/>
          </p:blipFill>
          <p:spPr>
            <a:xfrm>
              <a:off x="-128520" y="2352600"/>
              <a:ext cx="9401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"/>
            <p:cNvSpPr/>
            <p:nvPr/>
          </p:nvSpPr>
          <p:spPr>
            <a:xfrm>
              <a:off x="0" y="2421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Некоторые примеры воздействия силы притяжения к Земл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" descr=""/>
          <p:cNvPicPr/>
          <p:nvPr/>
        </p:nvPicPr>
        <p:blipFill>
          <a:blip r:embed="rId5"/>
          <a:stretch/>
        </p:blipFill>
        <p:spPr>
          <a:xfrm>
            <a:off x="3492360" y="4941720"/>
            <a:ext cx="1833840" cy="16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4" name="Picture 4" descr=""/>
          <p:cNvPicPr/>
          <p:nvPr/>
        </p:nvPicPr>
        <p:blipFill>
          <a:blip r:embed="rId6"/>
          <a:stretch/>
        </p:blipFill>
        <p:spPr>
          <a:xfrm>
            <a:off x="468360" y="189000"/>
            <a:ext cx="3029040" cy="19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7" descr=""/>
          <p:cNvPicPr/>
          <p:nvPr/>
        </p:nvPicPr>
        <p:blipFill>
          <a:blip r:embed="rId7"/>
          <a:stretch/>
        </p:blipFill>
        <p:spPr>
          <a:xfrm>
            <a:off x="4140360" y="260280"/>
            <a:ext cx="1244520" cy="18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6" name="Picture 5" descr=""/>
          <p:cNvPicPr/>
          <p:nvPr/>
        </p:nvPicPr>
        <p:blipFill>
          <a:blip r:embed="rId8"/>
          <a:stretch/>
        </p:blipFill>
        <p:spPr>
          <a:xfrm>
            <a:off x="5867280" y="260280"/>
            <a:ext cx="278136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Группа 19"/>
          <p:cNvGrpSpPr/>
          <p:nvPr/>
        </p:nvGrpSpPr>
        <p:grpSpPr>
          <a:xfrm>
            <a:off x="1763640" y="4437000"/>
            <a:ext cx="6875640" cy="1944720"/>
            <a:chOff x="1763640" y="4437000"/>
            <a:chExt cx="6875640" cy="1944720"/>
          </a:xfrm>
        </p:grpSpPr>
        <p:sp>
          <p:nvSpPr>
            <p:cNvPr id="298" name="Прямоугольник 5"/>
            <p:cNvSpPr/>
            <p:nvPr/>
          </p:nvSpPr>
          <p:spPr>
            <a:xfrm>
              <a:off x="4067640" y="5229360"/>
              <a:ext cx="45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Arial"/>
                </a:rPr>
                <a:t>Все тела притягиваются друг к друг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5" descr="Сила тяжести - это сила тяготения тела к планете. Сила тяжести всегда направлена к центру планеты"/>
            <p:cNvPicPr/>
            <p:nvPr/>
          </p:nvPicPr>
          <p:blipFill>
            <a:blip r:embed="rId1"/>
            <a:stretch/>
          </p:blipFill>
          <p:spPr>
            <a:xfrm>
              <a:off x="1763640" y="4437000"/>
              <a:ext cx="1717560" cy="1944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300" name="TextBox 13"/>
          <p:cNvSpPr/>
          <p:nvPr/>
        </p:nvSpPr>
        <p:spPr>
          <a:xfrm>
            <a:off x="324000" y="2421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ежду плане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ягиваются между собой Земля и Лу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39528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и другие планеты движутся вокруг Солнца, притягиваясь к нему 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8"/>
          <p:cNvGrpSpPr/>
          <p:nvPr/>
        </p:nvGrpSpPr>
        <p:grpSpPr>
          <a:xfrm>
            <a:off x="250920" y="189000"/>
            <a:ext cx="8580240" cy="3024000"/>
            <a:chOff x="250920" y="189000"/>
            <a:chExt cx="8580240" cy="3024000"/>
          </a:xfrm>
        </p:grpSpPr>
        <p:pic>
          <p:nvPicPr>
            <p:cNvPr id="303" name="Picture 9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1722240" cy="14461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304" name="TextBox 11"/>
            <p:cNvSpPr/>
            <p:nvPr/>
          </p:nvSpPr>
          <p:spPr>
            <a:xfrm>
              <a:off x="2266920" y="189000"/>
              <a:ext cx="453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Притяжение существует меж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Землей и телами, находящимися на не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11" descr=""/>
            <p:cNvPicPr/>
            <p:nvPr/>
          </p:nvPicPr>
          <p:blipFill>
            <a:blip r:embed="rId3"/>
            <a:stretch/>
          </p:blipFill>
          <p:spPr>
            <a:xfrm>
              <a:off x="6824880" y="260280"/>
              <a:ext cx="2006280" cy="1512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06" name="Picture 12" descr=""/>
            <p:cNvPicPr/>
            <p:nvPr/>
          </p:nvPicPr>
          <p:blipFill>
            <a:blip r:embed="rId4"/>
            <a:stretch/>
          </p:blipFill>
          <p:spPr>
            <a:xfrm>
              <a:off x="3058920" y="1197000"/>
              <a:ext cx="2825640" cy="2016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307" name="Picture 8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354400" cy="17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08" name="Прямоугольник 17"/>
          <p:cNvGrpSpPr/>
          <p:nvPr/>
        </p:nvGrpSpPr>
        <p:grpSpPr>
          <a:xfrm>
            <a:off x="268200" y="1457280"/>
            <a:ext cx="8753400" cy="3632400"/>
            <a:chOff x="268200" y="1457280"/>
            <a:chExt cx="8753400" cy="3632400"/>
          </a:xfrm>
        </p:grpSpPr>
        <p:pic>
          <p:nvPicPr>
            <p:cNvPr id="309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268200" y="1457280"/>
              <a:ext cx="8753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8"/>
            <p:cNvSpPr/>
            <p:nvPr/>
          </p:nvSpPr>
          <p:spPr>
            <a:xfrm>
              <a:off x="324000" y="1484280"/>
              <a:ext cx="864072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ambria"/>
                </a:rPr>
                <a:t>Притяжение всех тел Вселенной друг к другу называется 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Всемирным тяготени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1640" y="1267920"/>
            <a:ext cx="432108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971640" y="3645000"/>
            <a:ext cx="7416720" cy="22885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Силы притяжения между телами тем больше, чем больше массы эт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d9b"/>
                </a:solidFill>
                <a:latin typeface="Arial"/>
              </a:rPr>
              <a:t>Силы притяжения между телами уменьшаются, если увеличивается расстояние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4820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36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8000" y="1773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означение силы тяжести: </a:t>
            </a: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F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тяж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правление силы тяжести: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вертикально вни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16" name="Группа 6"/>
          <p:cNvGrpSpPr/>
          <p:nvPr/>
        </p:nvGrpSpPr>
        <p:grpSpPr>
          <a:xfrm>
            <a:off x="684360" y="2924280"/>
            <a:ext cx="8172360" cy="3533760"/>
            <a:chOff x="684360" y="2924280"/>
            <a:chExt cx="8172360" cy="3533760"/>
          </a:xfrm>
        </p:grpSpPr>
        <p:sp>
          <p:nvSpPr>
            <p:cNvPr id="317" name="Прямоугольник 3"/>
            <p:cNvSpPr/>
            <p:nvPr/>
          </p:nvSpPr>
          <p:spPr>
            <a:xfrm>
              <a:off x="5220720" y="2996280"/>
              <a:ext cx="36360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</a:rPr>
                <a:t>На Луне сила тяжести примерно в 6 раз слабее, чем на Земле, а на Юпитере - в 2,5 раза сильнее, чем на Земле. В таких условиях 10-ти килограммовая гиря будет казаться нам 25-ти килограммовой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2924280"/>
              <a:ext cx="2139840" cy="2184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19" name="Picture 5" descr=""/>
            <p:cNvPicPr/>
            <p:nvPr/>
          </p:nvPicPr>
          <p:blipFill>
            <a:blip r:embed="rId2"/>
            <a:stretch/>
          </p:blipFill>
          <p:spPr>
            <a:xfrm>
              <a:off x="3132360" y="3932280"/>
              <a:ext cx="1800000" cy="2525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36:44Z</dcterms:created>
  <dc:creator>ЛюдмилкаТ</dc:creator>
  <dc:description/>
  <dc:language>en-US</dc:language>
  <cp:lastModifiedBy>LEGION</cp:lastModifiedBy>
  <dcterms:modified xsi:type="dcterms:W3CDTF">2015-03-30T08:13:38Z</dcterms:modified>
  <cp:revision>40</cp:revision>
  <dc:subject>Сила. Явление тяготения. Сила тяжести.</dc:subject>
  <dc:title>Сила. Явление тяготения. Сила тяжести.</dc:title>
</cp:coreProperties>
</file>