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2.jpeg" ContentType="image/jpeg"/>
  <Override PartName="/ppt/media/image13.png" ContentType="image/png"/>
  <Override PartName="/ppt/media/image48.png" ContentType="image/png"/>
  <Override PartName="/ppt/media/image5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11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3C0-11D0-401E-A1C4-AD3B3E0580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5D93-AF7C-45FF-9285-93B5D729FB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яж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ила тяжести, Н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g– коэффициент силы тяжести, Н/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– масса тела, кг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а тяжести, действующая на тело, прямо пропорциональна массе эт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3B6-130C-4A3E-9216-476C8ABFF8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эффициенты силы тяжести, Н/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Объясните, почему сила тяжести на экваторе меньше силы тяжести на полюсах Зем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Будет ли сила тяжести на вершине горы меньше, чем у её поднож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725B-AE0D-4C3E-BFA1-563D223080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величивается с увеличением массы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зависит от места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измеряется в килограм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Земле везде одинак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уменьшается при удалении от поверхности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на поверхности всех планет одинаков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ила тяжести действует тольк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1405-4CDE-47E9-9A2D-756BE5BFAB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mbria"/>
              </a:rPr>
              <a:t>Принято говор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На тело действует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«К телу приложена с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8B3-F20B-4C28-8850-10F2F7594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2217"/>
                </a:solidFill>
                <a:latin typeface="Cambria"/>
              </a:rPr>
              <a:t>Сила, действующая на тело, может изменить не только 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скорость всего тела, </a:t>
            </a:r>
            <a:r>
              <a:rPr b="1" lang="ru-RU" sz="1200" spc="-1" strike="noStrike">
                <a:solidFill>
                  <a:srgbClr val="4e1610"/>
                </a:solidFill>
                <a:latin typeface="Cambria"/>
              </a:rPr>
              <a:t>но</a:t>
            </a:r>
            <a:r>
              <a:rPr b="1" lang="ru-RU" sz="1200" spc="-1" strike="noStrike">
                <a:solidFill>
                  <a:srgbClr val="0070c0"/>
                </a:solidFill>
                <a:latin typeface="Cambria"/>
              </a:rPr>
              <a:t> и его отдельных ч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9816-750E-4F07-B2A0-A98CBEDBFF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мера взаимодействия те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результате воздействия силы тела могут изменить скорость или деформиров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физическ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е можно изме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ила – векторная велич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а характеризуется на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4928-66AD-4BEE-9F43-A32D91BB15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Что произойдет, если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уронили поклажу из ру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подбросили вверх мя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80d9b"/>
                </a:solidFill>
                <a:latin typeface="Calibri"/>
              </a:rPr>
              <a:t>Мы бросили в горизонтальном направлении палку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068C-CADF-4DF6-A936-16BB848050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Некоторые примеры воздействия силы притяжения к Зем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6A7-7B5E-44F1-B4AC-7E3718326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итяжение существует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Землей и телами, находящимися на 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mbria"/>
              </a:rPr>
              <a:t>Притяжение всех тел Вселенной друг к другу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mbria"/>
              </a:rPr>
              <a:t>Всемирным тягот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Все тела притягиваются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4CBD-3AEC-491B-BA06-A389C5E59E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Силы притяжения между телами тем больше, чем больше массы этих т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ы притяжения между телами уменьшаются, если увеличивается расстояние между ни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E6CD-F11F-41B6-B370-539CBB2FE1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12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означение силы тяжести: </a:t>
            </a: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тя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Calibri"/>
              </a:rPr>
              <a:t>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Направление силы тяжести: </a:t>
            </a:r>
            <a:r>
              <a:rPr b="1" lang="ru-RU" sz="1100" spc="-1" strike="noStrike">
                <a:solidFill>
                  <a:srgbClr val="c00000"/>
                </a:solidFill>
                <a:latin typeface="Calibri"/>
              </a:rPr>
              <a:t>вертикально вниз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24B2-AF29-40E2-B829-764FA7D133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C59-6C24-4438-AD76-2B63FB40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ABA0-0F3D-48ED-B9F0-6B371722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B2A-49BF-4233-AD41-64E5E0FC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4832-227A-493D-BA91-0C5EF5EB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59D0-5E03-4C29-A07F-F9FE6B03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71B3-D94F-40BE-AAF1-96BFA302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E625-3A81-431E-BF52-E62D129B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39C3-584D-4E78-8D7A-30709A20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7A75-27BA-4C83-9EA4-8EB676BD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31BC-F75C-47C9-BD0F-B561138A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F84DE-FB3E-423C-9A24-02903FE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7D3-0314-4196-B561-265DBC5D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B67C-680D-45FD-8691-F228C38D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41AA-4787-4BF2-BEA7-FC9E8712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A113-DBC2-43C2-B08A-E11DE8F5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DBD7-85FE-4C68-87A6-3351433C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6180-2A01-4A92-92EE-B242637C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97999-AD03-47F9-BD7E-6B2136F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4DD4-E610-43D5-AF8B-F773181F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CA4AA-0B31-485D-906A-97C520D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C31F9-3CAD-447F-8F7C-936CE86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5BDFF-33A9-4D8C-A6A3-7695F65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1C25-9CC8-4984-81A7-558011DF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C9307-1829-4BD5-8A55-5379A960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2A783-A489-4050-B230-D52D6ADB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7E5F-96EB-48A3-BDA1-017FD17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1CC07-ABED-4F6A-8E37-2E757B85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76E32-AF4F-42F5-A7F5-F29F8DA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B52F-1CC8-4A8D-9AF3-E72C2CBD2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0294-A599-467D-B946-54DA9DE6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AE880-F7CE-46A7-975B-5E15A6A6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C839-09E0-4422-9A77-B17C5339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2F115-2498-4B20-BB20-082F2130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A9CE-CD68-4CFA-A738-42BFF080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9CB0A-43B9-47C4-85F7-18941A68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402E0-C87A-43D1-800B-2B0CFF62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BA08B-521B-423B-A41F-1EE65727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75DDB-2B1F-4328-8B54-22CAE74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DB981-EF9F-49C9-B2B9-C58601ED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60AB4-1D79-4140-8F9B-CF409724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2473-F99E-4B23-BDA1-450A684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5C0E-93ED-40CE-BBF4-6C30533C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E5E67-6482-4757-A65D-41321D04B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4373-D892-4C84-9E69-0805DE1F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72E8-E425-44EE-8F32-C65FEB41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8AAD5-35D7-4BB0-B7B8-CC62F7BBE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730B-68AE-4160-8089-9274061E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C599C-4AA8-483E-A6A4-6BEA6B23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89298-4CB5-4695-B051-28BB7E53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C8A37-4D90-453D-9CA6-044E0C15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D066C-130F-4D55-B13E-A5E5109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A7450-622C-4762-9CCC-A69EF919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ED69-F4B8-4B13-A86B-2BE82FF0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80D3-60A8-4AF1-AA2D-BDEC0876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2B34C-1603-4FE6-9C1A-8B2F66B5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3B2-E3AE-49B1-B6C8-32F86101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40F3A-3033-47A4-B418-410E7E68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FE75-E70E-4FD2-AC94-3817C43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FD0-D224-4480-A164-C82470A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364-F4E9-48C6-9D15-CCA94B9F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E3C-1944-47F1-8E96-6F5620AE552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662D-E677-4F91-868C-69211A67EF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4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B2D7-DB90-4876-846F-86C1190129D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8C52-2D40-4369-97D9-FEA4C748847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F731-C55D-4199-9725-94E1B9A1E7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jpe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Сила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Явление тяготения. Сила тяжести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4147200" y="5084640"/>
            <a:ext cx="9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1905120" y="5950080"/>
            <a:ext cx="57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 математики и информатики Тивякова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, г.Светлый Калининград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68000" y="206064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яж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– сила тяжести, Н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g– коэффициент силы тяжести, Н/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m– масса тела, кг 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mbria"/>
              </a:rPr>
              <a:t>Сила тяжести, действующая на тело, прямо пропорциональна массе этого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1" name="Овал 3"/>
          <p:cNvGrpSpPr/>
          <p:nvPr/>
        </p:nvGrpSpPr>
        <p:grpSpPr>
          <a:xfrm>
            <a:off x="1347840" y="158760"/>
            <a:ext cx="6375240" cy="1670040"/>
            <a:chOff x="1347840" y="158760"/>
            <a:chExt cx="6375240" cy="1670040"/>
          </a:xfrm>
        </p:grpSpPr>
        <p:pic>
          <p:nvPicPr>
            <p:cNvPr id="322" name="Овал 3" descr=""/>
            <p:cNvPicPr/>
            <p:nvPr/>
          </p:nvPicPr>
          <p:blipFill>
            <a:blip r:embed="rId1"/>
            <a:stretch/>
          </p:blipFill>
          <p:spPr>
            <a:xfrm>
              <a:off x="1347840" y="158760"/>
              <a:ext cx="63752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Text Box 4"/>
            <p:cNvSpPr/>
            <p:nvPr/>
          </p:nvSpPr>
          <p:spPr>
            <a:xfrm>
              <a:off x="2320920" y="417600"/>
              <a:ext cx="44308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F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тяж</a:t>
              </a:r>
              <a:r>
                <a:rPr b="1" lang="en-US" sz="5400" spc="-1" strike="noStrike">
                  <a:solidFill>
                    <a:srgbClr val="c00000"/>
                  </a:solidFill>
                  <a:latin typeface="Perpetua"/>
                </a:rPr>
                <a:t> = gm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Прямоугольник 5"/>
          <p:cNvSpPr/>
          <p:nvPr/>
        </p:nvSpPr>
        <p:spPr>
          <a:xfrm>
            <a:off x="395280" y="4724280"/>
            <a:ext cx="8424720" cy="16182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величится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велич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сколько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 столько же раз уменьшится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тяж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массы тел одинаковы, то одинаковы и действующие на них силы тяже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c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m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, то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1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F</a:t>
            </a:r>
            <a:r>
              <a:rPr b="0" lang="ru-RU" sz="1100" spc="-1" strike="noStrike">
                <a:solidFill>
                  <a:srgbClr val="c00000"/>
                </a:solidFill>
                <a:latin typeface="Arial"/>
              </a:rPr>
              <a:t>тяж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1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mbria"/>
              </a:rPr>
              <a:t>Коэффициенты силы тяжести, Н/кг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6" name="Picture 25" descr=""/>
          <p:cNvPicPr/>
          <p:nvPr/>
        </p:nvPicPr>
        <p:blipFill>
          <a:blip r:embed="rId1"/>
          <a:stretch/>
        </p:blipFill>
        <p:spPr>
          <a:xfrm rot="21151800">
            <a:off x="971640" y="1125000"/>
            <a:ext cx="2790720" cy="22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27" name="TextBox 4"/>
          <p:cNvSpPr/>
          <p:nvPr/>
        </p:nvSpPr>
        <p:spPr>
          <a:xfrm>
            <a:off x="978480" y="134136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Лу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Прямоугольник 5"/>
          <p:cNvGrpSpPr/>
          <p:nvPr/>
        </p:nvGrpSpPr>
        <p:grpSpPr>
          <a:xfrm>
            <a:off x="2846520" y="2425680"/>
            <a:ext cx="903240" cy="609480"/>
            <a:chOff x="2846520" y="2425680"/>
            <a:chExt cx="903240" cy="609480"/>
          </a:xfrm>
        </p:grpSpPr>
        <p:pic>
          <p:nvPicPr>
            <p:cNvPr id="3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846520" y="2425680"/>
              <a:ext cx="9032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3022920" y="249228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1,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26" descr=""/>
          <p:cNvPicPr/>
          <p:nvPr/>
        </p:nvPicPr>
        <p:blipFill>
          <a:blip r:embed="rId3"/>
          <a:stretch/>
        </p:blipFill>
        <p:spPr>
          <a:xfrm rot="618000">
            <a:off x="5281200" y="1196640"/>
            <a:ext cx="3029040" cy="216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2" name="Прямоугольник 7"/>
          <p:cNvSpPr/>
          <p:nvPr/>
        </p:nvSpPr>
        <p:spPr>
          <a:xfrm>
            <a:off x="5518080" y="1197000"/>
            <a:ext cx="10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Ма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Прямоугольник 8"/>
          <p:cNvGrpSpPr/>
          <p:nvPr/>
        </p:nvGrpSpPr>
        <p:grpSpPr>
          <a:xfrm>
            <a:off x="7169040" y="2712960"/>
            <a:ext cx="901800" cy="609840"/>
            <a:chOff x="7169040" y="2712960"/>
            <a:chExt cx="901800" cy="609840"/>
          </a:xfrm>
        </p:grpSpPr>
        <p:pic>
          <p:nvPicPr>
            <p:cNvPr id="33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169040" y="2712960"/>
              <a:ext cx="9018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1"/>
            <p:cNvSpPr/>
            <p:nvPr/>
          </p:nvSpPr>
          <p:spPr>
            <a:xfrm>
              <a:off x="7332120" y="2781360"/>
              <a:ext cx="5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3,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Picture 27" descr=""/>
          <p:cNvPicPr/>
          <p:nvPr/>
        </p:nvPicPr>
        <p:blipFill>
          <a:blip r:embed="rId5"/>
          <a:stretch/>
        </p:blipFill>
        <p:spPr>
          <a:xfrm rot="520800">
            <a:off x="609120" y="3989520"/>
            <a:ext cx="2808360" cy="209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37" name="Прямоугольник 10"/>
          <p:cNvSpPr/>
          <p:nvPr/>
        </p:nvSpPr>
        <p:spPr>
          <a:xfrm>
            <a:off x="837720" y="4076640"/>
            <a:ext cx="15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Юпи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Прямоугольник 11"/>
          <p:cNvGrpSpPr/>
          <p:nvPr/>
        </p:nvGrpSpPr>
        <p:grpSpPr>
          <a:xfrm>
            <a:off x="2408400" y="5450040"/>
            <a:ext cx="828360" cy="609480"/>
            <a:chOff x="2408400" y="5450040"/>
            <a:chExt cx="828360" cy="609480"/>
          </a:xfrm>
        </p:grpSpPr>
        <p:pic>
          <p:nvPicPr>
            <p:cNvPr id="339" name="Прямоугольник 11" descr=""/>
            <p:cNvPicPr/>
            <p:nvPr/>
          </p:nvPicPr>
          <p:blipFill>
            <a:blip r:embed="rId6"/>
            <a:stretch/>
          </p:blipFill>
          <p:spPr>
            <a:xfrm>
              <a:off x="2408400" y="5450040"/>
              <a:ext cx="8283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Text Box 16"/>
            <p:cNvSpPr/>
            <p:nvPr/>
          </p:nvSpPr>
          <p:spPr>
            <a:xfrm>
              <a:off x="2567520" y="551664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Picture 28" descr=""/>
          <p:cNvPicPr/>
          <p:nvPr/>
        </p:nvPicPr>
        <p:blipFill>
          <a:blip r:embed="rId7"/>
          <a:stretch/>
        </p:blipFill>
        <p:spPr>
          <a:xfrm rot="21169200">
            <a:off x="4341600" y="3751200"/>
            <a:ext cx="300816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42" name="Прямоугольник 14"/>
          <p:cNvGrpSpPr/>
          <p:nvPr/>
        </p:nvGrpSpPr>
        <p:grpSpPr>
          <a:xfrm>
            <a:off x="6675480" y="5754600"/>
            <a:ext cx="2035080" cy="835200"/>
            <a:chOff x="6675480" y="5754600"/>
            <a:chExt cx="2035080" cy="835200"/>
          </a:xfrm>
        </p:grpSpPr>
        <p:pic>
          <p:nvPicPr>
            <p:cNvPr id="343" name="Прямоугольник 14" descr=""/>
            <p:cNvPicPr/>
            <p:nvPr/>
          </p:nvPicPr>
          <p:blipFill>
            <a:blip r:embed="rId8"/>
            <a:stretch/>
          </p:blipFill>
          <p:spPr>
            <a:xfrm>
              <a:off x="6675480" y="5754600"/>
              <a:ext cx="203508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0"/>
            <p:cNvSpPr/>
            <p:nvPr/>
          </p:nvSpPr>
          <p:spPr>
            <a:xfrm>
              <a:off x="6732720" y="5805360"/>
              <a:ext cx="1923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полюсах - 9,8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Прямоугольник 15"/>
          <p:cNvGrpSpPr/>
          <p:nvPr/>
        </p:nvGrpSpPr>
        <p:grpSpPr>
          <a:xfrm>
            <a:off x="6924600" y="4529160"/>
            <a:ext cx="2024280" cy="841320"/>
            <a:chOff x="6924600" y="4529160"/>
            <a:chExt cx="2024280" cy="841320"/>
          </a:xfrm>
        </p:grpSpPr>
        <p:pic>
          <p:nvPicPr>
            <p:cNvPr id="346" name="Прямоугольник 15" descr=""/>
            <p:cNvPicPr/>
            <p:nvPr/>
          </p:nvPicPr>
          <p:blipFill>
            <a:blip r:embed="rId9"/>
            <a:stretch/>
          </p:blipFill>
          <p:spPr>
            <a:xfrm>
              <a:off x="6924600" y="4529160"/>
              <a:ext cx="20242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Text Box 23"/>
            <p:cNvSpPr/>
            <p:nvPr/>
          </p:nvSpPr>
          <p:spPr>
            <a:xfrm>
              <a:off x="7020000" y="4581360"/>
              <a:ext cx="18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Cambria"/>
                </a:rPr>
                <a:t>На экваторе - 9,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Прямоугольник 17"/>
          <p:cNvGrpSpPr/>
          <p:nvPr/>
        </p:nvGrpSpPr>
        <p:grpSpPr>
          <a:xfrm>
            <a:off x="-55440" y="1884240"/>
            <a:ext cx="9285120" cy="3065760"/>
            <a:chOff x="-55440" y="1884240"/>
            <a:chExt cx="9285120" cy="3065760"/>
          </a:xfrm>
        </p:grpSpPr>
        <p:pic>
          <p:nvPicPr>
            <p:cNvPr id="349" name="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-55440" y="1884240"/>
              <a:ext cx="9285120" cy="306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26"/>
            <p:cNvSpPr/>
            <p:nvPr/>
          </p:nvSpPr>
          <p:spPr>
            <a:xfrm>
              <a:off x="0" y="1916280"/>
              <a:ext cx="914400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Объясните, почему сила тяжести на экваторе меньше силы тяжести на полюсах Земли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ambria"/>
                </a:rPr>
                <a:t>Будет ли сила тяжести на вершине горы меньше, чем у её поднож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7.40741E-007 L -0.5434 0.10509 E">
                                      <p:cBhvr>
                                        <p:cTn id="14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58560" y="1628280"/>
            <a:ext cx="8785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величивается с увеличением массы тел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зависит от места наблюдени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измеряется в килограмм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Земле везде одинакова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уменьшается при удалении от поверхности Земли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на поверхности всех планет одинаков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01040" indent="-4010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Сила тяжести действует только на Земле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52" name="TextBox 2"/>
          <p:cNvGrpSpPr/>
          <p:nvPr/>
        </p:nvGrpSpPr>
        <p:grpSpPr>
          <a:xfrm>
            <a:off x="-55440" y="536400"/>
            <a:ext cx="9254880" cy="689040"/>
            <a:chOff x="-55440" y="536400"/>
            <a:chExt cx="9254880" cy="689040"/>
          </a:xfrm>
        </p:grpSpPr>
        <p:pic>
          <p:nvPicPr>
            <p:cNvPr id="353" name="TextBox 2" descr=""/>
            <p:cNvPicPr/>
            <p:nvPr/>
          </p:nvPicPr>
          <p:blipFill>
            <a:blip r:embed="rId1"/>
            <a:stretch/>
          </p:blipFill>
          <p:spPr>
            <a:xfrm>
              <a:off x="-55440" y="536400"/>
              <a:ext cx="92548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4"/>
            <p:cNvSpPr/>
            <p:nvPr/>
          </p:nvSpPr>
          <p:spPr>
            <a:xfrm>
              <a:off x="0" y="62064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280d9b"/>
                  </a:solidFill>
                  <a:latin typeface="Cambria"/>
                </a:rPr>
                <a:t>Найди верные утверж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201636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9" name="TextBox 2"/>
          <p:cNvSpPr/>
          <p:nvPr/>
        </p:nvSpPr>
        <p:spPr>
          <a:xfrm>
            <a:off x="484200" y="260280"/>
            <a:ext cx="52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римеры взаимодействия т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2"/>
          <a:stretch/>
        </p:blipFill>
        <p:spPr>
          <a:xfrm>
            <a:off x="6804000" y="907920"/>
            <a:ext cx="214488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1" name="TextBox 5"/>
          <p:cNvSpPr/>
          <p:nvPr/>
        </p:nvSpPr>
        <p:spPr>
          <a:xfrm>
            <a:off x="250920" y="314172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Какие тела взаимодействуют между соб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 направлением движения мяча, при воздействии на него ногой мальчи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Если мяч имел бы меньшую массу, то скорость полета была бы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Что происходит со скоростью тележки, когда ребенок начинает толкать ее сильне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24000" y="5805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корость тела меняется при взаимодействии его с другими те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4500720" y="907920"/>
            <a:ext cx="215892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44" name="Группа 10"/>
          <p:cNvGrpSpPr/>
          <p:nvPr/>
        </p:nvGrpSpPr>
        <p:grpSpPr>
          <a:xfrm>
            <a:off x="250920" y="3068640"/>
            <a:ext cx="8642160" cy="3529080"/>
            <a:chOff x="250920" y="3068640"/>
            <a:chExt cx="8642160" cy="3529080"/>
          </a:xfrm>
        </p:grpSpPr>
        <p:grpSp>
          <p:nvGrpSpPr>
            <p:cNvPr id="245" name="Прямоугольник 8"/>
            <p:cNvGrpSpPr/>
            <p:nvPr/>
          </p:nvGrpSpPr>
          <p:grpSpPr>
            <a:xfrm>
              <a:off x="250920" y="3068640"/>
              <a:ext cx="8642160" cy="3529080"/>
              <a:chOff x="250920" y="3068640"/>
              <a:chExt cx="8642160" cy="3529080"/>
            </a:xfrm>
          </p:grpSpPr>
          <p:pic>
            <p:nvPicPr>
              <p:cNvPr id="246" name="Прямоугольник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0920" y="3068640"/>
                <a:ext cx="8642160" cy="35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Text Box 11"/>
              <p:cNvSpPr/>
              <p:nvPr/>
            </p:nvSpPr>
            <p:spPr>
              <a:xfrm>
                <a:off x="305640" y="3100320"/>
                <a:ext cx="8532360" cy="342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TextBox 9"/>
            <p:cNvGrpSpPr/>
            <p:nvPr/>
          </p:nvGrpSpPr>
          <p:grpSpPr>
            <a:xfrm>
              <a:off x="2230920" y="3801600"/>
              <a:ext cx="4314960" cy="2355480"/>
              <a:chOff x="2230920" y="3801600"/>
              <a:chExt cx="4314960" cy="2355480"/>
            </a:xfrm>
          </p:grpSpPr>
          <p:pic>
            <p:nvPicPr>
              <p:cNvPr id="249" name="TextBox 9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0920" y="3801600"/>
                <a:ext cx="4314960" cy="16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Text Box 14"/>
              <p:cNvSpPr/>
              <p:nvPr/>
            </p:nvSpPr>
            <p:spPr>
              <a:xfrm>
                <a:off x="2367720" y="3868560"/>
                <a:ext cx="412380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mbria"/>
                  </a:rPr>
                  <a:t>Принято говорить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На тело действует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2060"/>
                    </a:solidFill>
                    <a:latin typeface="Cambria"/>
                  </a:rPr>
                  <a:t>ил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c00000"/>
                    </a:solidFill>
                    <a:latin typeface="Cambria"/>
                  </a:rPr>
                  <a:t>«К телу приложена сила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1" name="Picture 5" descr=""/>
          <p:cNvPicPr/>
          <p:nvPr/>
        </p:nvPicPr>
        <p:blipFill>
          <a:blip r:embed="rId6"/>
          <a:stretch/>
        </p:blipFill>
        <p:spPr>
          <a:xfrm>
            <a:off x="2340000" y="907920"/>
            <a:ext cx="2016000" cy="1873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TextBox 2"/>
          <p:cNvGrpSpPr/>
          <p:nvPr/>
        </p:nvGrpSpPr>
        <p:grpSpPr>
          <a:xfrm>
            <a:off x="628560" y="189000"/>
            <a:ext cx="8174160" cy="1353960"/>
            <a:chOff x="628560" y="189000"/>
            <a:chExt cx="8174160" cy="1353960"/>
          </a:xfrm>
        </p:grpSpPr>
        <p:pic>
          <p:nvPicPr>
            <p:cNvPr id="253" name="TextBox 2" descr=""/>
            <p:cNvPicPr/>
            <p:nvPr/>
          </p:nvPicPr>
          <p:blipFill>
            <a:blip r:embed="rId1"/>
            <a:stretch/>
          </p:blipFill>
          <p:spPr>
            <a:xfrm>
              <a:off x="628560" y="189000"/>
              <a:ext cx="817416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3"/>
            <p:cNvSpPr/>
            <p:nvPr/>
          </p:nvSpPr>
          <p:spPr>
            <a:xfrm>
              <a:off x="684360" y="260280"/>
              <a:ext cx="8064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742217"/>
                  </a:solidFill>
                  <a:latin typeface="Cambria"/>
                </a:rPr>
                <a:t>Сила, действующая на тело, может изменить не только 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скорость всего тела, </a:t>
              </a:r>
              <a:r>
                <a:rPr b="1" lang="ru-RU" sz="2400" spc="-1" strike="noStrike">
                  <a:solidFill>
                    <a:srgbClr val="4e1610"/>
                  </a:solidFill>
                  <a:latin typeface="Cambria"/>
                </a:rPr>
                <a:t>но</a:t>
              </a:r>
              <a:r>
                <a:rPr b="1" lang="ru-RU" sz="2400" spc="-1" strike="noStrike">
                  <a:solidFill>
                    <a:srgbClr val="0070c0"/>
                  </a:solidFill>
                  <a:latin typeface="Cambria"/>
                </a:rPr>
                <a:t> и его отдельных час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Группа 9"/>
          <p:cNvGrpSpPr/>
          <p:nvPr/>
        </p:nvGrpSpPr>
        <p:grpSpPr>
          <a:xfrm>
            <a:off x="684360" y="1773360"/>
            <a:ext cx="8621280" cy="1942920"/>
            <a:chOff x="684360" y="1773360"/>
            <a:chExt cx="8621280" cy="1942920"/>
          </a:xfrm>
        </p:grpSpPr>
        <p:pic>
          <p:nvPicPr>
            <p:cNvPr id="256" name="Picture 4" descr=""/>
            <p:cNvPicPr/>
            <p:nvPr/>
          </p:nvPicPr>
          <p:blipFill>
            <a:blip r:embed="rId2"/>
            <a:stretch/>
          </p:blipFill>
          <p:spPr>
            <a:xfrm>
              <a:off x="7596000" y="2349000"/>
              <a:ext cx="1709640" cy="136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Группа 6"/>
            <p:cNvGrpSpPr/>
            <p:nvPr/>
          </p:nvGrpSpPr>
          <p:grpSpPr>
            <a:xfrm>
              <a:off x="684360" y="1773360"/>
              <a:ext cx="8064000" cy="1724040"/>
              <a:chOff x="684360" y="1773360"/>
              <a:chExt cx="8064000" cy="1724040"/>
            </a:xfrm>
          </p:grpSpPr>
          <p:sp>
            <p:nvSpPr>
              <p:cNvPr id="258" name="TextBox 3"/>
              <p:cNvSpPr/>
              <p:nvPr/>
            </p:nvSpPr>
            <p:spPr>
              <a:xfrm>
                <a:off x="3924360" y="1917720"/>
                <a:ext cx="4824000" cy="1191240"/>
              </a:xfrm>
              <a:prstGeom prst="rect">
                <a:avLst/>
              </a:prstGeom>
              <a:noFill/>
              <a:ln w="9360">
                <a:solidFill>
                  <a:srgbClr val="d348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69240c"/>
                    </a:solidFill>
                    <a:latin typeface="Arial"/>
                  </a:rPr>
                  <a:t>Деформация тела – любое изменение формы и размера тел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684360" y="1773360"/>
                <a:ext cx="2730240" cy="1724040"/>
              </a:xfrm>
              <a:prstGeom prst="rect">
                <a:avLst/>
              </a:prstGeom>
              <a:ln w="0">
                <a:noFill/>
              </a:ln>
              <a:effectLst>
                <a:outerShdw dist="139498" dir="2700000" blurRad="0" rotWithShape="0">
                  <a:srgbClr val="333333">
                    <a:alpha val="65000"/>
                  </a:srgbClr>
                </a:outerShdw>
              </a:effectLst>
            </p:spPr>
          </p:pic>
        </p:grpSp>
      </p:grpSp>
      <p:grpSp>
        <p:nvGrpSpPr>
          <p:cNvPr id="260" name="Группа 12"/>
          <p:cNvGrpSpPr/>
          <p:nvPr/>
        </p:nvGrpSpPr>
        <p:grpSpPr>
          <a:xfrm>
            <a:off x="5724360" y="3933720"/>
            <a:ext cx="2965680" cy="2157480"/>
            <a:chOff x="5724360" y="3933720"/>
            <a:chExt cx="2965680" cy="2157480"/>
          </a:xfrm>
        </p:grpSpPr>
        <p:pic>
          <p:nvPicPr>
            <p:cNvPr id="261" name="Picture 6" descr=""/>
            <p:cNvPicPr/>
            <p:nvPr/>
          </p:nvPicPr>
          <p:blipFill>
            <a:blip r:embed="rId4"/>
            <a:stretch/>
          </p:blipFill>
          <p:spPr>
            <a:xfrm>
              <a:off x="7164000" y="3933720"/>
              <a:ext cx="15260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Box 11"/>
            <p:cNvSpPr/>
            <p:nvPr/>
          </p:nvSpPr>
          <p:spPr>
            <a:xfrm>
              <a:off x="5724360" y="4078080"/>
              <a:ext cx="15843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69240c"/>
                  </a:solidFill>
                  <a:latin typeface="Arial"/>
                </a:rPr>
                <a:t>Веревка провисла, когда на ней стал резвиться  котенок</a:t>
              </a:r>
              <a:r>
                <a:rPr b="0" lang="ru-RU" sz="2000" spc="-1" strike="noStrike">
                  <a:solidFill>
                    <a:srgbClr val="69240c"/>
                  </a:solidFill>
                  <a:latin typeface="Wingdings"/>
                  <a:ea typeface="Wingdings"/>
                </a:rPr>
                <a:t>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Группа 18"/>
          <p:cNvGrpSpPr/>
          <p:nvPr/>
        </p:nvGrpSpPr>
        <p:grpSpPr>
          <a:xfrm>
            <a:off x="468360" y="3860640"/>
            <a:ext cx="4535280" cy="2570400"/>
            <a:chOff x="468360" y="3860640"/>
            <a:chExt cx="4535280" cy="2570400"/>
          </a:xfrm>
        </p:grpSpPr>
        <p:pic>
          <p:nvPicPr>
            <p:cNvPr id="264" name="Picture 8" descr=""/>
            <p:cNvPicPr/>
            <p:nvPr/>
          </p:nvPicPr>
          <p:blipFill>
            <a:blip r:embed="rId5"/>
            <a:stretch/>
          </p:blipFill>
          <p:spPr>
            <a:xfrm>
              <a:off x="3132000" y="4868640"/>
              <a:ext cx="1871640" cy="1562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265" name="Picture 9" descr=""/>
            <p:cNvPicPr/>
            <p:nvPr/>
          </p:nvPicPr>
          <p:blipFill>
            <a:blip r:embed="rId6"/>
            <a:stretch/>
          </p:blipFill>
          <p:spPr>
            <a:xfrm>
              <a:off x="612720" y="4868640"/>
              <a:ext cx="2225520" cy="15559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66" name="TextBox 17"/>
            <p:cNvSpPr/>
            <p:nvPr/>
          </p:nvSpPr>
          <p:spPr>
            <a:xfrm>
              <a:off x="468360" y="3860640"/>
              <a:ext cx="4319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Чтобы сдвинуть автомобили с места требуется приложить силы разной величи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0560" y="691920"/>
            <a:ext cx="86072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мера взаимодействия тел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в результате воздействия силы тела могут изменить скорость или деформироваться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физическ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ее можно измерить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030a0"/>
                </a:solidFill>
                <a:latin typeface="Cambria"/>
              </a:rPr>
              <a:t>Сила – векторная величина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она характеризуется направление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68" name="TextBox 3"/>
          <p:cNvGrpSpPr/>
          <p:nvPr/>
        </p:nvGrpSpPr>
        <p:grpSpPr>
          <a:xfrm>
            <a:off x="-55440" y="109440"/>
            <a:ext cx="9254880" cy="682560"/>
            <a:chOff x="-55440" y="109440"/>
            <a:chExt cx="9254880" cy="682560"/>
          </a:xfrm>
        </p:grpSpPr>
        <p:pic>
          <p:nvPicPr>
            <p:cNvPr id="269" name="TextBox 3" descr=""/>
            <p:cNvPicPr/>
            <p:nvPr/>
          </p:nvPicPr>
          <p:blipFill>
            <a:blip r:embed="rId1"/>
            <a:stretch/>
          </p:blipFill>
          <p:spPr>
            <a:xfrm>
              <a:off x="-55440" y="109440"/>
              <a:ext cx="92548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4"/>
            <p:cNvSpPr/>
            <p:nvPr/>
          </p:nvSpPr>
          <p:spPr>
            <a:xfrm>
              <a:off x="0" y="189000"/>
              <a:ext cx="91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Что мы должны знать о понятии «сил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Группа 7"/>
          <p:cNvGrpSpPr/>
          <p:nvPr/>
        </p:nvGrpSpPr>
        <p:grpSpPr>
          <a:xfrm>
            <a:off x="0" y="3357720"/>
            <a:ext cx="8893080" cy="1958760"/>
            <a:chOff x="0" y="3357720"/>
            <a:chExt cx="8893080" cy="1958760"/>
          </a:xfrm>
        </p:grpSpPr>
        <p:pic>
          <p:nvPicPr>
            <p:cNvPr id="272" name="Picture 4" descr="Сложение сил_ лебедь-рак-щука"/>
            <p:cNvPicPr/>
            <p:nvPr/>
          </p:nvPicPr>
          <p:blipFill>
            <a:blip r:embed="rId2"/>
            <a:stretch/>
          </p:blipFill>
          <p:spPr>
            <a:xfrm>
              <a:off x="6445440" y="3357720"/>
              <a:ext cx="2447640" cy="1958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73" name="Прямоугольник 6"/>
            <p:cNvSpPr/>
            <p:nvPr/>
          </p:nvSpPr>
          <p:spPr>
            <a:xfrm>
              <a:off x="0" y="3645720"/>
              <a:ext cx="640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buClr>
                  <a:srgbClr val="c00000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Результат действия силы на тело зависит от ее модуля, направления и точки прилож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Группа 13"/>
          <p:cNvGrpSpPr/>
          <p:nvPr/>
        </p:nvGrpSpPr>
        <p:grpSpPr>
          <a:xfrm>
            <a:off x="963720" y="4869000"/>
            <a:ext cx="7537320" cy="1736640"/>
            <a:chOff x="963720" y="4869000"/>
            <a:chExt cx="7537320" cy="1736640"/>
          </a:xfrm>
        </p:grpSpPr>
        <p:grpSp>
          <p:nvGrpSpPr>
            <p:cNvPr id="275" name="Группа 11"/>
            <p:cNvGrpSpPr/>
            <p:nvPr/>
          </p:nvGrpSpPr>
          <p:grpSpPr>
            <a:xfrm>
              <a:off x="5224680" y="5517000"/>
              <a:ext cx="3276360" cy="1041480"/>
              <a:chOff x="5224680" y="5517000"/>
              <a:chExt cx="3276360" cy="1041480"/>
            </a:xfrm>
          </p:grpSpPr>
          <p:sp>
            <p:nvSpPr>
              <p:cNvPr id="276" name="TextBox 8"/>
              <p:cNvSpPr/>
              <p:nvPr/>
            </p:nvSpPr>
            <p:spPr>
              <a:xfrm>
                <a:off x="5224680" y="5733000"/>
                <a:ext cx="30430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Обозначение силы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          </a:t>
                </a:r>
                <a:r>
                  <a:rPr b="0" i="1" lang="ru-RU" sz="2400" spc="-1" strike="noStrike">
                    <a:solidFill>
                      <a:srgbClr val="c00000"/>
                    </a:solidFill>
                    <a:latin typeface="Arial"/>
                  </a:rPr>
                  <a:t>модуля силы: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7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8028720" y="5517000"/>
                <a:ext cx="472320" cy="57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5" descr=""/>
              <p:cNvPicPr/>
              <p:nvPr/>
            </p:nvPicPr>
            <p:blipFill>
              <a:blip r:embed="rId4"/>
              <a:stretch/>
            </p:blipFill>
            <p:spPr>
              <a:xfrm>
                <a:off x="8100720" y="6093360"/>
                <a:ext cx="339840" cy="4312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6" descr=""/>
            <p:cNvPicPr/>
            <p:nvPr/>
          </p:nvPicPr>
          <p:blipFill>
            <a:blip r:embed="rId5"/>
            <a:stretch/>
          </p:blipFill>
          <p:spPr>
            <a:xfrm>
              <a:off x="963720" y="4869000"/>
              <a:ext cx="3680640" cy="1736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4392360" cy="836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80d9b"/>
                </a:solidFill>
                <a:latin typeface="Calibri"/>
              </a:rPr>
              <a:t>Явление тягот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95280" y="765000"/>
            <a:ext cx="51134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Cambria"/>
              </a:rPr>
              <a:t>Что произойдет, если?.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уронили поклажу из рук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подбросили вверх мяч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0120" indent="-240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80d9b"/>
                </a:solidFill>
                <a:latin typeface="Cambria"/>
              </a:rPr>
              <a:t>Мы бросили в горизонтальном направлении палку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6012000" y="333360"/>
            <a:ext cx="2305080" cy="261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Box 5"/>
          <p:cNvSpPr/>
          <p:nvPr/>
        </p:nvSpPr>
        <p:spPr>
          <a:xfrm>
            <a:off x="1346040" y="3429000"/>
            <a:ext cx="57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кова будет траектория дви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4"/>
          <p:cNvGrpSpPr/>
          <p:nvPr/>
        </p:nvGrpSpPr>
        <p:grpSpPr>
          <a:xfrm>
            <a:off x="1258920" y="3860640"/>
            <a:ext cx="7453440" cy="2737080"/>
            <a:chOff x="1258920" y="3860640"/>
            <a:chExt cx="7453440" cy="2737080"/>
          </a:xfrm>
        </p:grpSpPr>
        <p:pic>
          <p:nvPicPr>
            <p:cNvPr id="285" name="Picture 11" descr=""/>
            <p:cNvPicPr/>
            <p:nvPr/>
          </p:nvPicPr>
          <p:blipFill>
            <a:blip r:embed="rId2"/>
            <a:stretch/>
          </p:blipFill>
          <p:spPr>
            <a:xfrm>
              <a:off x="1258920" y="3860640"/>
              <a:ext cx="1152360" cy="25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2" descr=""/>
            <p:cNvPicPr/>
            <p:nvPr/>
          </p:nvPicPr>
          <p:blipFill>
            <a:blip r:embed="rId3"/>
            <a:stretch/>
          </p:blipFill>
          <p:spPr>
            <a:xfrm>
              <a:off x="2987280" y="4220640"/>
              <a:ext cx="5725080" cy="237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circl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1">
            <a:lum bright="10000"/>
          </a:blip>
          <a:stretch/>
        </p:blipFill>
        <p:spPr>
          <a:xfrm rot="21239400">
            <a:off x="493560" y="3481560"/>
            <a:ext cx="2494080" cy="199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8" name="Picture 9" descr=""/>
          <p:cNvPicPr/>
          <p:nvPr/>
        </p:nvPicPr>
        <p:blipFill>
          <a:blip r:embed="rId2"/>
          <a:stretch/>
        </p:blipFill>
        <p:spPr>
          <a:xfrm rot="661800">
            <a:off x="5825880" y="3595680"/>
            <a:ext cx="2692440" cy="20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9" name="Picture 10" descr=""/>
          <p:cNvPicPr/>
          <p:nvPr/>
        </p:nvPicPr>
        <p:blipFill>
          <a:blip r:embed="rId3"/>
          <a:srcRect l="0" t="16049" r="0" b="0"/>
          <a:stretch/>
        </p:blipFill>
        <p:spPr>
          <a:xfrm>
            <a:off x="3851280" y="3068640"/>
            <a:ext cx="1197000" cy="1506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90" name="TextBox 6"/>
          <p:cNvGrpSpPr/>
          <p:nvPr/>
        </p:nvGrpSpPr>
        <p:grpSpPr>
          <a:xfrm>
            <a:off x="-128520" y="2352600"/>
            <a:ext cx="9401040" cy="893880"/>
            <a:chOff x="-128520" y="2352600"/>
            <a:chExt cx="9401040" cy="893880"/>
          </a:xfrm>
        </p:grpSpPr>
        <p:pic>
          <p:nvPicPr>
            <p:cNvPr id="291" name="TextBox 6" descr=""/>
            <p:cNvPicPr/>
            <p:nvPr/>
          </p:nvPicPr>
          <p:blipFill>
            <a:blip r:embed="rId4"/>
            <a:stretch/>
          </p:blipFill>
          <p:spPr>
            <a:xfrm>
              <a:off x="-128520" y="2352600"/>
              <a:ext cx="940104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6"/>
            <p:cNvSpPr/>
            <p:nvPr/>
          </p:nvSpPr>
          <p:spPr>
            <a:xfrm>
              <a:off x="0" y="2421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Cambria"/>
                </a:rPr>
                <a:t>Некоторые примеры воздействия силы притяжения к Земл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Picture 3" descr=""/>
          <p:cNvPicPr/>
          <p:nvPr/>
        </p:nvPicPr>
        <p:blipFill>
          <a:blip r:embed="rId5"/>
          <a:stretch/>
        </p:blipFill>
        <p:spPr>
          <a:xfrm>
            <a:off x="3492360" y="4941720"/>
            <a:ext cx="1833840" cy="16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4" name="Picture 4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3029040" cy="199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5" name="Picture 7" descr=""/>
          <p:cNvPicPr/>
          <p:nvPr/>
        </p:nvPicPr>
        <p:blipFill>
          <a:blip r:embed="rId7"/>
          <a:stretch/>
        </p:blipFill>
        <p:spPr>
          <a:xfrm>
            <a:off x="4140360" y="260280"/>
            <a:ext cx="1244520" cy="1866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96" name="Picture 5" descr=""/>
          <p:cNvPicPr/>
          <p:nvPr/>
        </p:nvPicPr>
        <p:blipFill>
          <a:blip r:embed="rId8"/>
          <a:stretch/>
        </p:blipFill>
        <p:spPr>
          <a:xfrm>
            <a:off x="5867280" y="260280"/>
            <a:ext cx="2781360" cy="19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Группа 19"/>
          <p:cNvGrpSpPr/>
          <p:nvPr/>
        </p:nvGrpSpPr>
        <p:grpSpPr>
          <a:xfrm>
            <a:off x="1763640" y="4437000"/>
            <a:ext cx="6875640" cy="1944720"/>
            <a:chOff x="1763640" y="4437000"/>
            <a:chExt cx="6875640" cy="1944720"/>
          </a:xfrm>
        </p:grpSpPr>
        <p:sp>
          <p:nvSpPr>
            <p:cNvPr id="298" name="Прямоугольник 5"/>
            <p:cNvSpPr/>
            <p:nvPr/>
          </p:nvSpPr>
          <p:spPr>
            <a:xfrm>
              <a:off x="4067640" y="5229360"/>
              <a:ext cx="457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c00000"/>
                  </a:solidFill>
                  <a:latin typeface="Arial"/>
                </a:rPr>
                <a:t>Все тела притягиваются друг к друг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Picture 5" descr="Сила тяжести - это сила тяготения тела к планете. Сила тяжести всегда направлена к центру планеты"/>
            <p:cNvPicPr/>
            <p:nvPr/>
          </p:nvPicPr>
          <p:blipFill>
            <a:blip r:embed="rId1"/>
            <a:stretch/>
          </p:blipFill>
          <p:spPr>
            <a:xfrm>
              <a:off x="1763640" y="4437000"/>
              <a:ext cx="1717560" cy="1944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300" name="TextBox 13"/>
          <p:cNvSpPr/>
          <p:nvPr/>
        </p:nvSpPr>
        <p:spPr>
          <a:xfrm>
            <a:off x="324000" y="2421000"/>
            <a:ext cx="295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Между планет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тягиваются между собой Земля и Лу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5"/>
          <p:cNvSpPr/>
          <p:nvPr/>
        </p:nvSpPr>
        <p:spPr>
          <a:xfrm>
            <a:off x="395280" y="3429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мля и другие планеты движутся вокруг Солнца, притягиваясь к нему и друг д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Группа 18"/>
          <p:cNvGrpSpPr/>
          <p:nvPr/>
        </p:nvGrpSpPr>
        <p:grpSpPr>
          <a:xfrm>
            <a:off x="250920" y="189000"/>
            <a:ext cx="8580240" cy="3024000"/>
            <a:chOff x="250920" y="189000"/>
            <a:chExt cx="8580240" cy="3024000"/>
          </a:xfrm>
        </p:grpSpPr>
        <p:pic>
          <p:nvPicPr>
            <p:cNvPr id="303" name="Picture 9" descr=""/>
            <p:cNvPicPr/>
            <p:nvPr/>
          </p:nvPicPr>
          <p:blipFill>
            <a:blip r:embed="rId2"/>
            <a:stretch/>
          </p:blipFill>
          <p:spPr>
            <a:xfrm>
              <a:off x="250920" y="189000"/>
              <a:ext cx="1722240" cy="14461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304" name="TextBox 11"/>
            <p:cNvSpPr/>
            <p:nvPr/>
          </p:nvSpPr>
          <p:spPr>
            <a:xfrm>
              <a:off x="2266920" y="189000"/>
              <a:ext cx="453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Притяжение существует меж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Землей и телами, находящимися на ней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1" descr=""/>
            <p:cNvPicPr/>
            <p:nvPr/>
          </p:nvPicPr>
          <p:blipFill>
            <a:blip r:embed="rId3"/>
            <a:stretch/>
          </p:blipFill>
          <p:spPr>
            <a:xfrm>
              <a:off x="6824880" y="260280"/>
              <a:ext cx="2006280" cy="15127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06" name="Picture 12" descr=""/>
            <p:cNvPicPr/>
            <p:nvPr/>
          </p:nvPicPr>
          <p:blipFill>
            <a:blip r:embed="rId4"/>
            <a:stretch/>
          </p:blipFill>
          <p:spPr>
            <a:xfrm>
              <a:off x="3058920" y="1197000"/>
              <a:ext cx="2825640" cy="20160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pic>
        <p:nvPicPr>
          <p:cNvPr id="307" name="Picture 8" descr=""/>
          <p:cNvPicPr/>
          <p:nvPr/>
        </p:nvPicPr>
        <p:blipFill>
          <a:blip r:embed="rId5"/>
          <a:stretch/>
        </p:blipFill>
        <p:spPr>
          <a:xfrm>
            <a:off x="4932360" y="2852640"/>
            <a:ext cx="2354400" cy="1757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308" name="Прямоугольник 17"/>
          <p:cNvGrpSpPr/>
          <p:nvPr/>
        </p:nvGrpSpPr>
        <p:grpSpPr>
          <a:xfrm>
            <a:off x="268200" y="1457280"/>
            <a:ext cx="8753400" cy="3632400"/>
            <a:chOff x="268200" y="1457280"/>
            <a:chExt cx="8753400" cy="3632400"/>
          </a:xfrm>
        </p:grpSpPr>
        <p:pic>
          <p:nvPicPr>
            <p:cNvPr id="309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268200" y="1457280"/>
              <a:ext cx="8753400" cy="36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8"/>
            <p:cNvSpPr/>
            <p:nvPr/>
          </p:nvSpPr>
          <p:spPr>
            <a:xfrm>
              <a:off x="324000" y="1484280"/>
              <a:ext cx="864072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Cambria"/>
                </a:rPr>
                <a:t>Притяжение всех тел Вселенной друг к другу называется </a:t>
              </a:r>
              <a:r>
                <a:rPr b="1" lang="ru-RU" sz="2800" spc="-1" strike="noStrike">
                  <a:solidFill>
                    <a:srgbClr val="c00000"/>
                  </a:solidFill>
                  <a:latin typeface="Cambria"/>
                </a:rPr>
                <a:t>Всемирным тяготени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4571640" y="1267920"/>
            <a:ext cx="43210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нглийский ученый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аак Ньютон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ервым доказал и установил закон всемирного тяготен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971640" y="3645000"/>
            <a:ext cx="7416720" cy="2288520"/>
          </a:xfrm>
          <a:prstGeom prst="rect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e3611"/>
                </a:solidFill>
                <a:latin typeface="Arial"/>
              </a:rPr>
              <a:t>Силы притяжения между телами тем больше, чем больше массы этих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80d9b"/>
                </a:solidFill>
                <a:latin typeface="Arial"/>
              </a:rPr>
              <a:t>Силы притяжения между телами уменьшаются, если увеличивается расстояние между н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04820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circl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497800" cy="1363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Сила, с которой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емля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 притягивает к себе тело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лой тяжести</a:t>
            </a:r>
            <a:r>
              <a:rPr b="1" lang="ru-RU" sz="2800" spc="-1" strike="noStrike">
                <a:solidFill>
                  <a:srgbClr val="280d9b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8000" y="1773000"/>
            <a:ext cx="903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mbr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бозначение силы тяжести: </a:t>
            </a:r>
            <a:r>
              <a:rPr b="1" lang="en-US" sz="3200" spc="-1" strike="noStrike">
                <a:solidFill>
                  <a:srgbClr val="c00000"/>
                </a:solidFill>
                <a:latin typeface="Perpetua"/>
              </a:rPr>
              <a:t>F</a:t>
            </a: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тяж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mbria"/>
              </a:rPr>
              <a:t>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Направление силы тяжести: </a:t>
            </a:r>
            <a:r>
              <a:rPr b="1" lang="ru-RU" sz="2400" spc="-1" strike="noStrike">
                <a:solidFill>
                  <a:srgbClr val="c00000"/>
                </a:solidFill>
                <a:latin typeface="Cambria"/>
              </a:rPr>
              <a:t>вертикально вниз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45520" indent="-2455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6" name="Группа 6"/>
          <p:cNvGrpSpPr/>
          <p:nvPr/>
        </p:nvGrpSpPr>
        <p:grpSpPr>
          <a:xfrm>
            <a:off x="684360" y="2924280"/>
            <a:ext cx="8172360" cy="3533760"/>
            <a:chOff x="684360" y="2924280"/>
            <a:chExt cx="8172360" cy="3533760"/>
          </a:xfrm>
        </p:grpSpPr>
        <p:sp>
          <p:nvSpPr>
            <p:cNvPr id="317" name="Прямоугольник 3"/>
            <p:cNvSpPr/>
            <p:nvPr/>
          </p:nvSpPr>
          <p:spPr>
            <a:xfrm>
              <a:off x="5220720" y="2996280"/>
              <a:ext cx="363600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200" spc="-1" strike="noStrike">
                  <a:solidFill>
                    <a:srgbClr val="000000"/>
                  </a:solidFill>
                  <a:latin typeface="Arial"/>
                </a:rPr>
                <a:t>На Луне сила тяжести примерно в 6 раз слабее, чем на Земле, а на Юпитере - в 2,5 раза сильнее, чем на Земле. В таких условиях 10-ти килограммовая гиря будет казаться нам 25-ти килограммовой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8" name="Picture 4" descr=""/>
            <p:cNvPicPr/>
            <p:nvPr/>
          </p:nvPicPr>
          <p:blipFill>
            <a:blip r:embed="rId1"/>
            <a:stretch/>
          </p:blipFill>
          <p:spPr>
            <a:xfrm>
              <a:off x="684360" y="2924280"/>
              <a:ext cx="2139840" cy="2184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319" name="Picture 5" descr=""/>
            <p:cNvPicPr/>
            <p:nvPr/>
          </p:nvPicPr>
          <p:blipFill>
            <a:blip r:embed="rId2"/>
            <a:stretch/>
          </p:blipFill>
          <p:spPr>
            <a:xfrm>
              <a:off x="3132360" y="3932280"/>
              <a:ext cx="1800000" cy="25257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p:transition spd="med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15:36:44Z</dcterms:created>
  <dc:creator>ЛюдмилкаТ</dc:creator>
  <dc:description/>
  <dc:language>en-US</dc:language>
  <cp:lastModifiedBy>LEGION</cp:lastModifiedBy>
  <dcterms:modified xsi:type="dcterms:W3CDTF">2015-03-30T08:13:38Z</dcterms:modified>
  <cp:revision>40</cp:revision>
  <dc:subject>Сила. Явление тяготения. Сила тяжести.</dc:subject>
  <dc:title>Сила. Явление тяготения. Сила тяжести.</dc:title>
</cp:coreProperties>
</file>