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6.png" ContentType="image/png"/>
  <Override PartName="/ppt/media/image23.jpeg" ContentType="image/jpeg"/>
  <Override PartName="/ppt/media/image49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29.jpeg" ContentType="image/jpe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12.jpeg" ContentType="image/jpeg"/>
  <Override PartName="/ppt/media/image13.png" ContentType="image/png"/>
  <Override PartName="/ppt/media/image48.png" ContentType="image/png"/>
  <Override PartName="/ppt/media/image50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44.jpeg" ContentType="image/jpeg"/>
  <Override PartName="/ppt/media/image45.png" ContentType="image/png"/>
  <Override PartName="/ppt/media/image46.png" ContentType="image/png"/>
  <Override PartName="/ppt/media/image11.jpeg" ContentType="image/jpeg"/>
  <Override PartName="/ppt/media/image38.png" ContentType="image/png"/>
  <Override PartName="/ppt/media/image8.png" ContentType="image/png"/>
  <Override PartName="/ppt/media/image14.jpeg" ContentType="image/jpeg"/>
  <Override PartName="/ppt/media/image34.jpeg" ContentType="image/jpeg"/>
  <Override PartName="/ppt/media/image7.png" ContentType="image/png"/>
  <Override PartName="/ppt/media/image6.png" ContentType="image/png"/>
  <Override PartName="/ppt/media/image36.png" ContentType="image/png"/>
  <Override PartName="/ppt/media/image40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7.jpeg" ContentType="image/jpeg"/>
  <Override PartName="/ppt/media/image30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FCB23-07F8-412D-B934-2D1CFF0C0EE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ила.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Явление тяготения. Сила тяже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F3BA5-4390-4737-9DA5-BF2D47DD775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тяж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сила тяжести, Н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g– коэффициент силы тяжести, Н/кг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– масса тела, кг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Сила тяжести, действующая на тело, прямо пропорциональна массе этого те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A8F50-3612-4BBF-BCED-D9D1B57BA03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Коэффициенты силы тяжести, Н/к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mbria"/>
              </a:rPr>
              <a:t>Объясните, почему сила тяжести на экваторе меньше силы тяжести на полюсах Земл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mbria"/>
              </a:rPr>
              <a:t>Будет ли сила тяжести на вершине горы меньше, чем у её поднож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8E8BC-22C3-440D-ADEA-EA345CCBBB8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c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Сила тяжести увеличивается с увеличением массы те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c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Сила тяжести зависит от места наблю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c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Сила тяжести измеряется в килограмм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c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Сила тяжести на Земле везде одинако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c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Сила тяжести уменьшается при удалении от поверхности Зем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c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Сила тяжести на поверхности всех планет одинаков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c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Сила тяжести действует только на Зем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90CB4-8AC9-443E-8AD8-40B26C1FAB2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Принято говори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mbria"/>
              </a:rPr>
              <a:t>«На тело действует сил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mbria"/>
              </a:rPr>
              <a:t>и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mbria"/>
              </a:rPr>
              <a:t>«К телу приложена сил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F9229-676D-4286-B0AA-7F958C17E43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42217"/>
                </a:solidFill>
                <a:latin typeface="Cambria"/>
              </a:rPr>
              <a:t>Сила, действующая на тело, может изменить не только </a:t>
            </a:r>
            <a:r>
              <a:rPr b="1" lang="ru-RU" sz="1200" spc="-1" strike="noStrike">
                <a:solidFill>
                  <a:srgbClr val="0070c0"/>
                </a:solidFill>
                <a:latin typeface="Cambria"/>
              </a:rPr>
              <a:t>скорость всего тела, </a:t>
            </a:r>
            <a:r>
              <a:rPr b="1" lang="ru-RU" sz="1200" spc="-1" strike="noStrike">
                <a:solidFill>
                  <a:srgbClr val="4e1610"/>
                </a:solidFill>
                <a:latin typeface="Cambria"/>
              </a:rPr>
              <a:t>но</a:t>
            </a:r>
            <a:r>
              <a:rPr b="1" lang="ru-RU" sz="1200" spc="-1" strike="noStrike">
                <a:solidFill>
                  <a:srgbClr val="0070c0"/>
                </a:solidFill>
                <a:latin typeface="Cambria"/>
              </a:rPr>
              <a:t> и его отдельных час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04DA1-E1B2-4FF6-A0EA-5A8A3ED493E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Сила – мера взаимодействия те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результате воздействия силы тела могут изменить скорость или деформировать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Сила – физическая величин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ее можно измери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Сила – векторная величин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на характеризуется направле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976B6-EA40-4663-A667-E1D9FBF58E9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80d9b"/>
                </a:solidFill>
                <a:latin typeface="Calibri"/>
              </a:rPr>
              <a:t>Явление тягот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Что произойдет, если?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80d9b"/>
                </a:solidFill>
                <a:latin typeface="Calibri"/>
              </a:rPr>
              <a:t>Мы уронили поклажу из рук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80d9b"/>
                </a:solidFill>
                <a:latin typeface="Calibri"/>
              </a:rPr>
              <a:t>Мы подбросили вверх мяч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80d9b"/>
                </a:solidFill>
                <a:latin typeface="Calibri"/>
              </a:rPr>
              <a:t>Мы бросили в горизонтальном направлении палку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09AE0-E0F6-4D97-BA46-42487A29315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mbria"/>
              </a:rPr>
              <a:t>Некоторые примеры воздействия силы притяжения к Зем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AFA16-FD19-4C44-BBFA-6036E3D4013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Притяжение существует меж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Землей и телами, находящимися на 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mbria"/>
              </a:rPr>
              <a:t>Притяжение всех тел Вселенной друг к другу называется </a:t>
            </a:r>
            <a:r>
              <a:rPr b="1" lang="ru-RU" sz="1200" spc="-1" strike="noStrike">
                <a:solidFill>
                  <a:srgbClr val="c00000"/>
                </a:solidFill>
                <a:latin typeface="Cambria"/>
              </a:rPr>
              <a:t>Всемирным тяготе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Все тела притягиваются друг к друг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8A3CD-D8B9-4C63-BA0C-4A24EBFCF7C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Английский ученый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саак Ньютон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первым доказал и установил закон всемирного тягот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Силы притяжения между телами тем больше, чем больше массы этих те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80d9b"/>
                </a:solidFill>
                <a:latin typeface="Calibri"/>
              </a:rPr>
              <a:t>Силы притяжения между телами уменьшаются, если увеличивается расстояние между ни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B23E2-B9B6-4096-9D0B-CEDA5C18025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80d9b"/>
                </a:solidFill>
                <a:latin typeface="Calibri"/>
              </a:rPr>
              <a:t>Сила, с которой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Земля</a:t>
            </a:r>
            <a:r>
              <a:rPr b="1" lang="ru-RU" sz="1200" spc="-1" strike="noStrike">
                <a:solidFill>
                  <a:srgbClr val="280d9b"/>
                </a:solidFill>
                <a:latin typeface="Calibri"/>
              </a:rPr>
              <a:t> притягивает к себе тело, называется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силой тяжести</a:t>
            </a:r>
            <a:r>
              <a:rPr b="1" lang="ru-RU" sz="1200" spc="-1" strike="noStrike">
                <a:solidFill>
                  <a:srgbClr val="280d9b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Обозначение силы тяжести: </a:t>
            </a:r>
            <a:r>
              <a:rPr b="1" lang="en-US" sz="1400" spc="-1" strike="noStrike">
                <a:solidFill>
                  <a:srgbClr val="c00000"/>
                </a:solidFill>
                <a:latin typeface="Calibri"/>
              </a:rPr>
              <a:t>F</a:t>
            </a:r>
            <a:r>
              <a:rPr b="1" lang="ru-RU" sz="1000" spc="-1" strike="noStrike">
                <a:solidFill>
                  <a:srgbClr val="c00000"/>
                </a:solidFill>
                <a:latin typeface="Calibri"/>
              </a:rPr>
              <a:t>тяж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Calibri"/>
              </a:rPr>
              <a:t>                      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Направление силы тяжести: </a:t>
            </a:r>
            <a:r>
              <a:rPr b="1" lang="ru-RU" sz="1100" spc="-1" strike="noStrike">
                <a:solidFill>
                  <a:srgbClr val="c00000"/>
                </a:solidFill>
                <a:latin typeface="Calibri"/>
              </a:rPr>
              <a:t>вертикально вниз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05E66-8AE6-4C39-B1A2-8AE7E9988E1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C55B-50C9-4388-B909-4C0B7E8B3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B823-4678-469F-B9B7-3ABAE804D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6CCC-701C-41A5-8F1B-79C1DEF99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3F29-E3A1-4436-908A-3859D51ED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E366D-84E7-4670-B435-43D45B4FC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EDC84-3DFB-4EE5-94AE-84F05605A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21014-347E-4763-8E71-AECEF6564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3E5D5-7E20-47C0-9481-B92487236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BEC50-7BC4-42B2-8733-943A780AF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4AEB4-98FF-4EFC-861C-661D80A0B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E6191-A760-4E7F-88C6-EC7EE94D8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A440-738B-45ED-9639-580235AF7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7E85C-B845-4439-99D3-CA2A33F20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FEBA8-5E80-46B4-87AB-0C7EC45F7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76AB5-5269-43E4-AB4E-005247558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81CD3-95AC-46FD-9F63-9CEB1CE2F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C851D-AD31-4B82-BFF4-87A244E0B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9102B-F58A-4EFE-A39C-C01DA416B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D7418-26F1-4862-B2C5-FC8D4F6A0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EF23D-60C9-401B-92AD-E0ADD1148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0B55F-6869-45FF-AB1A-53F402EC5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593B1-F331-43FA-AF92-071BFE85C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566E-55D3-4169-A014-8DA3C11E1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2EA10-6B72-4211-B407-256973165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DF560-6D55-4677-9A46-5E7C29874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D3D8B-5459-412D-BE4E-DDC5F9A8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B5117-5641-4D8D-850E-160D31BE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69E53-90E7-4C01-B5CC-91D71FC7C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BDAAC-39C8-448C-9CE1-73595CE00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25B72-3D2A-429D-A8B2-EA23308B3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F06F1-00AA-4BFD-B4D7-A4040F042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64FF3-A883-4DE5-A2CE-4520863D2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D711F-82D4-46AA-BA47-1053C75DB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CDCE-2512-4B16-88E2-DD55CBA68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6CDE8-C204-4514-9075-36F6DB3AE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8AE1C-BCF2-41BF-B99C-30D033898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BC333-FE80-40C7-9DBE-6C75CF16A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65C67-571A-4EC3-B569-A3C91721B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12EEA-3CCF-4F3C-97EE-BB1D0F80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0E7A1-9F18-48EA-B0B7-9348FC8F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350CC-3364-47FC-9330-77C0D2B4F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135A0-E5CC-454F-8ECD-E13AFDB96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D7022-F7A2-4C79-AAB6-ADCD110F8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A3C1E-F47E-4956-9D3D-89302BD78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3685-F00F-4FBF-B89F-59A6403F8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9D7466-B356-42A6-A14A-70EFBD092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79C266-3D45-46D5-B448-D10BCBC4D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D2A7D-7FB7-4516-83A0-AD5D0BA54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386B82-9077-44AB-833E-8CD7EEC24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261EFB-DED7-4765-AED5-F48B834AE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D198E-787F-4AA8-8A86-90577F44B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3E9CE-0C69-4580-851B-6EEC87A1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81E563-4D63-4AFA-99C3-32F228DD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C9949-2DDC-4E3D-A079-1A5A16C0E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DBBD38-511E-430C-BF03-FDF2A5D42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E02B-AB5F-4533-AEAD-9A8A0D6D1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765BCC-0E32-4298-A809-5FF947F33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FFE4-FAC8-4CEA-981C-B9388E4AB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CE34-AE8F-4B41-B2CC-C1EC884A1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5B3E-241D-435C-9D43-F9C3ABC8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828EF-EEDB-4400-81B6-601C6E194B51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91506-D487-4496-BE73-FC9C85AAD087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4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4C7BD-D1C6-4F2B-B300-160217AD38B3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97D98-B316-4F3F-85A2-45C6972660F0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799DB-6142-4044-A8DC-CD741BC30C9E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jpe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image" Target="../media/image49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jpe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ила.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Явление тяготения. Сила тяжести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6" name="TextBox 2"/>
          <p:cNvSpPr/>
          <p:nvPr/>
        </p:nvSpPr>
        <p:spPr>
          <a:xfrm>
            <a:off x="4147200" y="5084640"/>
            <a:ext cx="9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3"/>
          <p:cNvSpPr/>
          <p:nvPr/>
        </p:nvSpPr>
        <p:spPr>
          <a:xfrm>
            <a:off x="1905120" y="5950080"/>
            <a:ext cx="578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 математики и информатики Тивякова Л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СОШ №1, г.Светлый Калининградская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468000" y="2060640"/>
            <a:ext cx="849636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тяж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– сила тяжести, Н 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g– коэффициент силы тяжести, Н/кг 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m– масса тела, кг 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mbria"/>
              </a:rPr>
              <a:t>Сила тяжести, действующая на тело, прямо пропорциональна массе этого тела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321" name="Овал 3"/>
          <p:cNvGrpSpPr/>
          <p:nvPr/>
        </p:nvGrpSpPr>
        <p:grpSpPr>
          <a:xfrm>
            <a:off x="1347840" y="158760"/>
            <a:ext cx="6375240" cy="1670040"/>
            <a:chOff x="1347840" y="158760"/>
            <a:chExt cx="6375240" cy="1670040"/>
          </a:xfrm>
        </p:grpSpPr>
        <p:pic>
          <p:nvPicPr>
            <p:cNvPr id="322" name="Овал 3" descr=""/>
            <p:cNvPicPr/>
            <p:nvPr/>
          </p:nvPicPr>
          <p:blipFill>
            <a:blip r:embed="rId1"/>
            <a:stretch/>
          </p:blipFill>
          <p:spPr>
            <a:xfrm>
              <a:off x="1347840" y="158760"/>
              <a:ext cx="6375240" cy="167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Text Box 4"/>
            <p:cNvSpPr/>
            <p:nvPr/>
          </p:nvSpPr>
          <p:spPr>
            <a:xfrm>
              <a:off x="2320920" y="417600"/>
              <a:ext cx="4430880" cy="11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c00000"/>
                  </a:solidFill>
                  <a:latin typeface="Perpetua"/>
                </a:rPr>
                <a:t>F</a:t>
              </a:r>
              <a:r>
                <a:rPr b="1" lang="ru-RU" sz="2800" spc="-1" strike="noStrike">
                  <a:solidFill>
                    <a:srgbClr val="c00000"/>
                  </a:solidFill>
                  <a:latin typeface="Cambria"/>
                </a:rPr>
                <a:t>тяж</a:t>
              </a:r>
              <a:r>
                <a:rPr b="1" lang="en-US" sz="5400" spc="-1" strike="noStrike">
                  <a:solidFill>
                    <a:srgbClr val="c00000"/>
                  </a:solidFill>
                  <a:latin typeface="Perpetua"/>
                </a:rPr>
                <a:t> = gm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Прямоугольник 5"/>
          <p:cNvSpPr/>
          <p:nvPr/>
        </p:nvSpPr>
        <p:spPr>
          <a:xfrm>
            <a:off x="395280" y="4724280"/>
            <a:ext cx="8424720" cy="161820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 сколько раз увеличится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во столько же раз увеличится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F</a:t>
            </a:r>
            <a:r>
              <a:rPr b="0" lang="ru-RU" sz="1600" spc="-1" strike="noStrike">
                <a:solidFill>
                  <a:srgbClr val="c00000"/>
                </a:solidFill>
                <a:latin typeface="Arial"/>
              </a:rPr>
              <a:t>тяж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 сколько раз уменьшится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во столько же раз уменьшится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F</a:t>
            </a: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тяж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массы тел одинаковы, то одинаковы и действующие на них силы тяже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c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m</a:t>
            </a:r>
            <a:r>
              <a:rPr b="0" lang="ru-RU" sz="1100" spc="-1" strike="noStrike">
                <a:solidFill>
                  <a:srgbClr val="c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m</a:t>
            </a:r>
            <a:r>
              <a:rPr b="0" lang="ru-RU" sz="1100" spc="-1" strike="noStrike">
                <a:solidFill>
                  <a:srgbClr val="c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, то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F</a:t>
            </a:r>
            <a:r>
              <a:rPr b="0" lang="ru-RU" sz="1100" spc="-1" strike="noStrike">
                <a:solidFill>
                  <a:srgbClr val="c00000"/>
                </a:solidFill>
                <a:latin typeface="Arial"/>
              </a:rPr>
              <a:t>тяж1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F</a:t>
            </a:r>
            <a:r>
              <a:rPr b="0" lang="ru-RU" sz="1100" spc="-1" strike="noStrike">
                <a:solidFill>
                  <a:srgbClr val="c00000"/>
                </a:solidFill>
                <a:latin typeface="Arial"/>
              </a:rPr>
              <a:t>тяж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10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80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mbria"/>
              </a:rPr>
              <a:t>Коэффициенты силы тяжести, Н/кг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26" name="Picture 25" descr=""/>
          <p:cNvPicPr/>
          <p:nvPr/>
        </p:nvPicPr>
        <p:blipFill>
          <a:blip r:embed="rId1"/>
          <a:stretch/>
        </p:blipFill>
        <p:spPr>
          <a:xfrm rot="21151800">
            <a:off x="971640" y="1125000"/>
            <a:ext cx="2790720" cy="2232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27" name="TextBox 4"/>
          <p:cNvSpPr/>
          <p:nvPr/>
        </p:nvSpPr>
        <p:spPr>
          <a:xfrm>
            <a:off x="978480" y="1341360"/>
            <a:ext cx="104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Лу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Прямоугольник 5"/>
          <p:cNvGrpSpPr/>
          <p:nvPr/>
        </p:nvGrpSpPr>
        <p:grpSpPr>
          <a:xfrm>
            <a:off x="2846520" y="2425680"/>
            <a:ext cx="903240" cy="609480"/>
            <a:chOff x="2846520" y="2425680"/>
            <a:chExt cx="903240" cy="609480"/>
          </a:xfrm>
        </p:grpSpPr>
        <p:pic>
          <p:nvPicPr>
            <p:cNvPr id="329" name="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2846520" y="2425680"/>
              <a:ext cx="9032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Text Box 6"/>
            <p:cNvSpPr/>
            <p:nvPr/>
          </p:nvSpPr>
          <p:spPr>
            <a:xfrm>
              <a:off x="3022920" y="2492280"/>
              <a:ext cx="54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00000"/>
                  </a:solidFill>
                  <a:latin typeface="Cambria"/>
                </a:rPr>
                <a:t>1,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1" name="Picture 26" descr=""/>
          <p:cNvPicPr/>
          <p:nvPr/>
        </p:nvPicPr>
        <p:blipFill>
          <a:blip r:embed="rId3"/>
          <a:stretch/>
        </p:blipFill>
        <p:spPr>
          <a:xfrm rot="618000">
            <a:off x="5281200" y="1196640"/>
            <a:ext cx="3029040" cy="2160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32" name="Прямоугольник 7"/>
          <p:cNvSpPr/>
          <p:nvPr/>
        </p:nvSpPr>
        <p:spPr>
          <a:xfrm>
            <a:off x="5518080" y="119700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Мар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Прямоугольник 8"/>
          <p:cNvGrpSpPr/>
          <p:nvPr/>
        </p:nvGrpSpPr>
        <p:grpSpPr>
          <a:xfrm>
            <a:off x="7169040" y="2712960"/>
            <a:ext cx="901800" cy="609840"/>
            <a:chOff x="7169040" y="2712960"/>
            <a:chExt cx="901800" cy="609840"/>
          </a:xfrm>
        </p:grpSpPr>
        <p:pic>
          <p:nvPicPr>
            <p:cNvPr id="334" name="Прямоугольник 8" descr=""/>
            <p:cNvPicPr/>
            <p:nvPr/>
          </p:nvPicPr>
          <p:blipFill>
            <a:blip r:embed="rId4"/>
            <a:stretch/>
          </p:blipFill>
          <p:spPr>
            <a:xfrm>
              <a:off x="7169040" y="2712960"/>
              <a:ext cx="90180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Text Box 11"/>
            <p:cNvSpPr/>
            <p:nvPr/>
          </p:nvSpPr>
          <p:spPr>
            <a:xfrm>
              <a:off x="7332120" y="2781360"/>
              <a:ext cx="5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00000"/>
                  </a:solidFill>
                  <a:latin typeface="Cambria"/>
                </a:rPr>
                <a:t>3,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Picture 27" descr=""/>
          <p:cNvPicPr/>
          <p:nvPr/>
        </p:nvPicPr>
        <p:blipFill>
          <a:blip r:embed="rId5"/>
          <a:stretch/>
        </p:blipFill>
        <p:spPr>
          <a:xfrm rot="520800">
            <a:off x="609120" y="3989520"/>
            <a:ext cx="2808360" cy="2097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37" name="Прямоугольник 10"/>
          <p:cNvSpPr/>
          <p:nvPr/>
        </p:nvSpPr>
        <p:spPr>
          <a:xfrm>
            <a:off x="837720" y="4076640"/>
            <a:ext cx="15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Юпит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Прямоугольник 11"/>
          <p:cNvGrpSpPr/>
          <p:nvPr/>
        </p:nvGrpSpPr>
        <p:grpSpPr>
          <a:xfrm>
            <a:off x="2408400" y="5450040"/>
            <a:ext cx="828360" cy="609480"/>
            <a:chOff x="2408400" y="5450040"/>
            <a:chExt cx="828360" cy="609480"/>
          </a:xfrm>
        </p:grpSpPr>
        <p:pic>
          <p:nvPicPr>
            <p:cNvPr id="339" name="Прямоугольник 11" descr=""/>
            <p:cNvPicPr/>
            <p:nvPr/>
          </p:nvPicPr>
          <p:blipFill>
            <a:blip r:embed="rId6"/>
            <a:stretch/>
          </p:blipFill>
          <p:spPr>
            <a:xfrm>
              <a:off x="2408400" y="5450040"/>
              <a:ext cx="82836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Text Box 16"/>
            <p:cNvSpPr/>
            <p:nvPr/>
          </p:nvSpPr>
          <p:spPr>
            <a:xfrm>
              <a:off x="2567520" y="5516640"/>
              <a:ext cx="50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00000"/>
                  </a:solidFill>
                  <a:latin typeface="Cambri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1" name="Picture 28" descr=""/>
          <p:cNvPicPr/>
          <p:nvPr/>
        </p:nvPicPr>
        <p:blipFill>
          <a:blip r:embed="rId7"/>
          <a:stretch/>
        </p:blipFill>
        <p:spPr>
          <a:xfrm rot="21169200">
            <a:off x="4341600" y="3751200"/>
            <a:ext cx="3008160" cy="2266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342" name="Прямоугольник 14"/>
          <p:cNvGrpSpPr/>
          <p:nvPr/>
        </p:nvGrpSpPr>
        <p:grpSpPr>
          <a:xfrm>
            <a:off x="6675480" y="5754600"/>
            <a:ext cx="2035080" cy="835200"/>
            <a:chOff x="6675480" y="5754600"/>
            <a:chExt cx="2035080" cy="835200"/>
          </a:xfrm>
        </p:grpSpPr>
        <p:pic>
          <p:nvPicPr>
            <p:cNvPr id="343" name="Прямоугольник 14" descr=""/>
            <p:cNvPicPr/>
            <p:nvPr/>
          </p:nvPicPr>
          <p:blipFill>
            <a:blip r:embed="rId8"/>
            <a:stretch/>
          </p:blipFill>
          <p:spPr>
            <a:xfrm>
              <a:off x="6675480" y="5754600"/>
              <a:ext cx="203508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Text Box 20"/>
            <p:cNvSpPr/>
            <p:nvPr/>
          </p:nvSpPr>
          <p:spPr>
            <a:xfrm>
              <a:off x="6732720" y="5805360"/>
              <a:ext cx="1923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00000"/>
                  </a:solidFill>
                  <a:latin typeface="Cambria"/>
                </a:rPr>
                <a:t>На полюсах - 9,8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Прямоугольник 15"/>
          <p:cNvGrpSpPr/>
          <p:nvPr/>
        </p:nvGrpSpPr>
        <p:grpSpPr>
          <a:xfrm>
            <a:off x="6924600" y="4529160"/>
            <a:ext cx="2024280" cy="841320"/>
            <a:chOff x="6924600" y="4529160"/>
            <a:chExt cx="2024280" cy="841320"/>
          </a:xfrm>
        </p:grpSpPr>
        <p:pic>
          <p:nvPicPr>
            <p:cNvPr id="346" name="Прямоугольник 15" descr=""/>
            <p:cNvPicPr/>
            <p:nvPr/>
          </p:nvPicPr>
          <p:blipFill>
            <a:blip r:embed="rId9"/>
            <a:stretch/>
          </p:blipFill>
          <p:spPr>
            <a:xfrm>
              <a:off x="6924600" y="4529160"/>
              <a:ext cx="202428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Text Box 23"/>
            <p:cNvSpPr/>
            <p:nvPr/>
          </p:nvSpPr>
          <p:spPr>
            <a:xfrm>
              <a:off x="7020000" y="4581360"/>
              <a:ext cx="1836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00000"/>
                  </a:solidFill>
                  <a:latin typeface="Cambria"/>
                </a:rPr>
                <a:t>На экваторе - 9,7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Прямоугольник 17"/>
          <p:cNvGrpSpPr/>
          <p:nvPr/>
        </p:nvGrpSpPr>
        <p:grpSpPr>
          <a:xfrm>
            <a:off x="-55440" y="1884240"/>
            <a:ext cx="9285120" cy="3065760"/>
            <a:chOff x="-55440" y="1884240"/>
            <a:chExt cx="9285120" cy="3065760"/>
          </a:xfrm>
        </p:grpSpPr>
        <p:pic>
          <p:nvPicPr>
            <p:cNvPr id="349" name="Прямоугольник 17" descr=""/>
            <p:cNvPicPr/>
            <p:nvPr/>
          </p:nvPicPr>
          <p:blipFill>
            <a:blip r:embed="rId10"/>
            <a:stretch/>
          </p:blipFill>
          <p:spPr>
            <a:xfrm>
              <a:off x="-55440" y="1884240"/>
              <a:ext cx="9285120" cy="306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Text Box 26"/>
            <p:cNvSpPr/>
            <p:nvPr/>
          </p:nvSpPr>
          <p:spPr>
            <a:xfrm>
              <a:off x="0" y="1916280"/>
              <a:ext cx="9144000" cy="29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2060"/>
                  </a:solidFill>
                  <a:latin typeface="Cambria"/>
                </a:rPr>
                <a:t>Объясните, почему сила тяжести на экваторе меньше силы тяжести на полюсах Земли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2060"/>
                  </a:solidFill>
                  <a:latin typeface="Cambria"/>
                </a:rPr>
                <a:t>Будет ли сила тяжести на вершине горы меньше, чем у её подножия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ircl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7.40741E-007 L -0.5434 0.10509 E">
                                      <p:cBhvr>
                                        <p:cTn id="148" dur="20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358560" y="1628280"/>
            <a:ext cx="878508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01040" indent="-4010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mbria"/>
              </a:rPr>
              <a:t>Сила тяжести увеличивается с увеличением массы тела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401040" indent="-4010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mbria"/>
              </a:rPr>
              <a:t>Сила тяжести зависит от места наблюдения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401040" indent="-4010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mbria"/>
              </a:rPr>
              <a:t>Сила тяжести измеряется в килограммах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401040" indent="-4010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mbria"/>
              </a:rPr>
              <a:t>Сила тяжести на Земле везде одинакова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401040" indent="-4010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mbria"/>
              </a:rPr>
              <a:t>Сила тяжести уменьшается при удалении от поверхности Земли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401040" indent="-4010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mbria"/>
              </a:rPr>
              <a:t>Сила тяжести на поверхности всех планет одинаковая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401040" indent="-4010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mbria"/>
              </a:rPr>
              <a:t>Сила тяжести действует только на Земле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352" name="TextBox 2"/>
          <p:cNvGrpSpPr/>
          <p:nvPr/>
        </p:nvGrpSpPr>
        <p:grpSpPr>
          <a:xfrm>
            <a:off x="-55440" y="536400"/>
            <a:ext cx="9254880" cy="689040"/>
            <a:chOff x="-55440" y="536400"/>
            <a:chExt cx="9254880" cy="689040"/>
          </a:xfrm>
        </p:grpSpPr>
        <p:pic>
          <p:nvPicPr>
            <p:cNvPr id="353" name="TextBox 2" descr=""/>
            <p:cNvPicPr/>
            <p:nvPr/>
          </p:nvPicPr>
          <p:blipFill>
            <a:blip r:embed="rId1"/>
            <a:stretch/>
          </p:blipFill>
          <p:spPr>
            <a:xfrm>
              <a:off x="-55440" y="536400"/>
              <a:ext cx="925488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Text Box 4"/>
            <p:cNvSpPr/>
            <p:nvPr/>
          </p:nvSpPr>
          <p:spPr>
            <a:xfrm>
              <a:off x="0" y="62064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280d9b"/>
                  </a:solidFill>
                  <a:latin typeface="Cambria"/>
                </a:rPr>
                <a:t>Найди верные утвержден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2016360" cy="1873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39" name="TextBox 2"/>
          <p:cNvSpPr/>
          <p:nvPr/>
        </p:nvSpPr>
        <p:spPr>
          <a:xfrm>
            <a:off x="484200" y="260280"/>
            <a:ext cx="520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Примеры взаимодействия т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2"/>
          <a:stretch/>
        </p:blipFill>
        <p:spPr>
          <a:xfrm>
            <a:off x="6804000" y="907920"/>
            <a:ext cx="2144880" cy="1873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41" name="TextBox 5"/>
          <p:cNvSpPr/>
          <p:nvPr/>
        </p:nvSpPr>
        <p:spPr>
          <a:xfrm>
            <a:off x="250920" y="3141720"/>
            <a:ext cx="8642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206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Какие тела взаимодействуют между собо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206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Что происходит с направлением движения мяча, при воздействии на него ногой мальчи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206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Если мяч имел бы меньшую массу, то скорость полета была бы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206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Что происходит со скоростью тележки, когда ребенок начинает толкать ее сильне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6"/>
          <p:cNvSpPr/>
          <p:nvPr/>
        </p:nvSpPr>
        <p:spPr>
          <a:xfrm>
            <a:off x="324000" y="5805360"/>
            <a:ext cx="84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Вывод: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скорость тела меняется при взаимодействии его с другими тел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3" descr=""/>
          <p:cNvPicPr/>
          <p:nvPr/>
        </p:nvPicPr>
        <p:blipFill>
          <a:blip r:embed="rId3"/>
          <a:stretch/>
        </p:blipFill>
        <p:spPr>
          <a:xfrm>
            <a:off x="4500720" y="907920"/>
            <a:ext cx="2158920" cy="1873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244" name="Группа 10"/>
          <p:cNvGrpSpPr/>
          <p:nvPr/>
        </p:nvGrpSpPr>
        <p:grpSpPr>
          <a:xfrm>
            <a:off x="250920" y="3068640"/>
            <a:ext cx="8642160" cy="3529080"/>
            <a:chOff x="250920" y="3068640"/>
            <a:chExt cx="8642160" cy="3529080"/>
          </a:xfrm>
        </p:grpSpPr>
        <p:grpSp>
          <p:nvGrpSpPr>
            <p:cNvPr id="245" name="Прямоугольник 8"/>
            <p:cNvGrpSpPr/>
            <p:nvPr/>
          </p:nvGrpSpPr>
          <p:grpSpPr>
            <a:xfrm>
              <a:off x="250920" y="3068640"/>
              <a:ext cx="8642160" cy="3529080"/>
              <a:chOff x="250920" y="3068640"/>
              <a:chExt cx="8642160" cy="3529080"/>
            </a:xfrm>
          </p:grpSpPr>
          <p:pic>
            <p:nvPicPr>
              <p:cNvPr id="246" name="Прямоугольник 8" descr=""/>
              <p:cNvPicPr/>
              <p:nvPr/>
            </p:nvPicPr>
            <p:blipFill>
              <a:blip r:embed="rId4"/>
              <a:stretch/>
            </p:blipFill>
            <p:spPr>
              <a:xfrm>
                <a:off x="250920" y="3068640"/>
                <a:ext cx="8642160" cy="352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7" name="Text Box 11"/>
              <p:cNvSpPr/>
              <p:nvPr/>
            </p:nvSpPr>
            <p:spPr>
              <a:xfrm>
                <a:off x="305640" y="3100320"/>
                <a:ext cx="8532360" cy="342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TextBox 9"/>
            <p:cNvGrpSpPr/>
            <p:nvPr/>
          </p:nvGrpSpPr>
          <p:grpSpPr>
            <a:xfrm>
              <a:off x="2230920" y="3801600"/>
              <a:ext cx="4314960" cy="2355480"/>
              <a:chOff x="2230920" y="3801600"/>
              <a:chExt cx="4314960" cy="2355480"/>
            </a:xfrm>
          </p:grpSpPr>
          <p:pic>
            <p:nvPicPr>
              <p:cNvPr id="249" name="TextBox 9" descr=""/>
              <p:cNvPicPr/>
              <p:nvPr/>
            </p:nvPicPr>
            <p:blipFill>
              <a:blip r:embed="rId5"/>
              <a:stretch/>
            </p:blipFill>
            <p:spPr>
              <a:xfrm>
                <a:off x="2230920" y="3801600"/>
                <a:ext cx="4314960" cy="166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Text Box 14"/>
              <p:cNvSpPr/>
              <p:nvPr/>
            </p:nvSpPr>
            <p:spPr>
              <a:xfrm>
                <a:off x="2367720" y="3868560"/>
                <a:ext cx="412380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Cambria"/>
                  </a:rPr>
                  <a:t>Принято говорить: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c00000"/>
                    </a:solidFill>
                    <a:latin typeface="Cambria"/>
                  </a:rPr>
                  <a:t>«На тело действует сила»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2060"/>
                    </a:solidFill>
                    <a:latin typeface="Cambria"/>
                  </a:rPr>
                  <a:t>или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c00000"/>
                    </a:solidFill>
                    <a:latin typeface="Cambria"/>
                  </a:rPr>
                  <a:t>«К телу приложена сила»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51" name="Picture 5" descr=""/>
          <p:cNvPicPr/>
          <p:nvPr/>
        </p:nvPicPr>
        <p:blipFill>
          <a:blip r:embed="rId6"/>
          <a:stretch/>
        </p:blipFill>
        <p:spPr>
          <a:xfrm>
            <a:off x="2340000" y="907920"/>
            <a:ext cx="2016000" cy="1873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TextBox 2"/>
          <p:cNvGrpSpPr/>
          <p:nvPr/>
        </p:nvGrpSpPr>
        <p:grpSpPr>
          <a:xfrm>
            <a:off x="628560" y="189000"/>
            <a:ext cx="8174160" cy="1353960"/>
            <a:chOff x="628560" y="189000"/>
            <a:chExt cx="8174160" cy="1353960"/>
          </a:xfrm>
        </p:grpSpPr>
        <p:pic>
          <p:nvPicPr>
            <p:cNvPr id="253" name="TextBox 2" descr=""/>
            <p:cNvPicPr/>
            <p:nvPr/>
          </p:nvPicPr>
          <p:blipFill>
            <a:blip r:embed="rId1"/>
            <a:stretch/>
          </p:blipFill>
          <p:spPr>
            <a:xfrm>
              <a:off x="628560" y="189000"/>
              <a:ext cx="8174160" cy="135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Text Box 3"/>
            <p:cNvSpPr/>
            <p:nvPr/>
          </p:nvSpPr>
          <p:spPr>
            <a:xfrm>
              <a:off x="684360" y="260280"/>
              <a:ext cx="8064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742217"/>
                  </a:solidFill>
                  <a:latin typeface="Cambria"/>
                </a:rPr>
                <a:t>Сила, действующая на тело, может изменить не только </a:t>
              </a:r>
              <a:r>
                <a:rPr b="1" lang="ru-RU" sz="2400" spc="-1" strike="noStrike">
                  <a:solidFill>
                    <a:srgbClr val="0070c0"/>
                  </a:solidFill>
                  <a:latin typeface="Cambria"/>
                </a:rPr>
                <a:t>скорость всего тела, </a:t>
              </a:r>
              <a:r>
                <a:rPr b="1" lang="ru-RU" sz="2400" spc="-1" strike="noStrike">
                  <a:solidFill>
                    <a:srgbClr val="4e1610"/>
                  </a:solidFill>
                  <a:latin typeface="Cambria"/>
                </a:rPr>
                <a:t>но</a:t>
              </a:r>
              <a:r>
                <a:rPr b="1" lang="ru-RU" sz="2400" spc="-1" strike="noStrike">
                  <a:solidFill>
                    <a:srgbClr val="0070c0"/>
                  </a:solidFill>
                  <a:latin typeface="Cambria"/>
                </a:rPr>
                <a:t> и его отдельных часте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Группа 9"/>
          <p:cNvGrpSpPr/>
          <p:nvPr/>
        </p:nvGrpSpPr>
        <p:grpSpPr>
          <a:xfrm>
            <a:off x="684360" y="1773360"/>
            <a:ext cx="8621280" cy="1942920"/>
            <a:chOff x="684360" y="1773360"/>
            <a:chExt cx="8621280" cy="1942920"/>
          </a:xfrm>
        </p:grpSpPr>
        <p:pic>
          <p:nvPicPr>
            <p:cNvPr id="256" name="Picture 4" descr=""/>
            <p:cNvPicPr/>
            <p:nvPr/>
          </p:nvPicPr>
          <p:blipFill>
            <a:blip r:embed="rId2"/>
            <a:stretch/>
          </p:blipFill>
          <p:spPr>
            <a:xfrm>
              <a:off x="7596000" y="2349000"/>
              <a:ext cx="1709640" cy="1367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7" name="Группа 6"/>
            <p:cNvGrpSpPr/>
            <p:nvPr/>
          </p:nvGrpSpPr>
          <p:grpSpPr>
            <a:xfrm>
              <a:off x="684360" y="1773360"/>
              <a:ext cx="8064000" cy="1724040"/>
              <a:chOff x="684360" y="1773360"/>
              <a:chExt cx="8064000" cy="1724040"/>
            </a:xfrm>
          </p:grpSpPr>
          <p:sp>
            <p:nvSpPr>
              <p:cNvPr id="258" name="TextBox 3"/>
              <p:cNvSpPr/>
              <p:nvPr/>
            </p:nvSpPr>
            <p:spPr>
              <a:xfrm>
                <a:off x="3924360" y="1917720"/>
                <a:ext cx="4824000" cy="1191240"/>
              </a:xfrm>
              <a:prstGeom prst="rect">
                <a:avLst/>
              </a:prstGeom>
              <a:noFill/>
              <a:ln w="9360">
                <a:solidFill>
                  <a:srgbClr val="d348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69240c"/>
                    </a:solidFill>
                    <a:latin typeface="Arial"/>
                  </a:rPr>
                  <a:t>Деформация тела – любое изменение формы и размера тел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9" name="Pictur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684360" y="1773360"/>
                <a:ext cx="2730240" cy="172404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</p:grpSp>
      </p:grpSp>
      <p:grpSp>
        <p:nvGrpSpPr>
          <p:cNvPr id="260" name="Группа 12"/>
          <p:cNvGrpSpPr/>
          <p:nvPr/>
        </p:nvGrpSpPr>
        <p:grpSpPr>
          <a:xfrm>
            <a:off x="5724360" y="3933720"/>
            <a:ext cx="2965680" cy="2157480"/>
            <a:chOff x="5724360" y="3933720"/>
            <a:chExt cx="2965680" cy="2157480"/>
          </a:xfrm>
        </p:grpSpPr>
        <p:pic>
          <p:nvPicPr>
            <p:cNvPr id="261" name="Picture 6" descr=""/>
            <p:cNvPicPr/>
            <p:nvPr/>
          </p:nvPicPr>
          <p:blipFill>
            <a:blip r:embed="rId4"/>
            <a:stretch/>
          </p:blipFill>
          <p:spPr>
            <a:xfrm>
              <a:off x="7164000" y="3933720"/>
              <a:ext cx="1526040" cy="21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TextBox 11"/>
            <p:cNvSpPr/>
            <p:nvPr/>
          </p:nvSpPr>
          <p:spPr>
            <a:xfrm>
              <a:off x="5724360" y="4078080"/>
              <a:ext cx="158436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69240c"/>
                  </a:solidFill>
                  <a:latin typeface="Arial"/>
                </a:rPr>
                <a:t>Веревка провисла, когда на ней стал резвиться  котенок</a:t>
              </a:r>
              <a:r>
                <a:rPr b="0" lang="ru-RU" sz="2000" spc="-1" strike="noStrike">
                  <a:solidFill>
                    <a:srgbClr val="69240c"/>
                  </a:solidFill>
                  <a:latin typeface="Wingdings"/>
                  <a:ea typeface="Wingdings"/>
                </a:rPr>
                <a:t>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Группа 18"/>
          <p:cNvGrpSpPr/>
          <p:nvPr/>
        </p:nvGrpSpPr>
        <p:grpSpPr>
          <a:xfrm>
            <a:off x="468360" y="3860640"/>
            <a:ext cx="4535280" cy="2570400"/>
            <a:chOff x="468360" y="3860640"/>
            <a:chExt cx="4535280" cy="2570400"/>
          </a:xfrm>
        </p:grpSpPr>
        <p:pic>
          <p:nvPicPr>
            <p:cNvPr id="264" name="Picture 8" descr=""/>
            <p:cNvPicPr/>
            <p:nvPr/>
          </p:nvPicPr>
          <p:blipFill>
            <a:blip r:embed="rId5"/>
            <a:stretch/>
          </p:blipFill>
          <p:spPr>
            <a:xfrm>
              <a:off x="3132000" y="4868640"/>
              <a:ext cx="1871640" cy="156240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pic>
          <p:nvPicPr>
            <p:cNvPr id="265" name="Picture 9" descr=""/>
            <p:cNvPicPr/>
            <p:nvPr/>
          </p:nvPicPr>
          <p:blipFill>
            <a:blip r:embed="rId6"/>
            <a:stretch/>
          </p:blipFill>
          <p:spPr>
            <a:xfrm>
              <a:off x="612720" y="4868640"/>
              <a:ext cx="2225520" cy="155592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266" name="TextBox 17"/>
            <p:cNvSpPr/>
            <p:nvPr/>
          </p:nvSpPr>
          <p:spPr>
            <a:xfrm>
              <a:off x="468360" y="3860640"/>
              <a:ext cx="43196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c00000"/>
                  </a:solidFill>
                  <a:latin typeface="Arial"/>
                </a:rPr>
                <a:t>Чтобы сдвинуть автомобили с места требуется приложить силы разной величин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ircl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250560" y="691920"/>
            <a:ext cx="86072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030a0"/>
                </a:solidFill>
                <a:latin typeface="Cambria"/>
              </a:rPr>
              <a:t>Сила – мера взаимодействия тел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в результате воздействия силы тела могут изменить скорость или деформироваться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2600" spc="-1" strike="noStrike">
                <a:solidFill>
                  <a:srgbClr val="7030a0"/>
                </a:solidFill>
                <a:latin typeface="Cambria"/>
              </a:rPr>
              <a:t>Сила – физическая величина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ее можно измерить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030a0"/>
                </a:solidFill>
                <a:latin typeface="Cambria"/>
              </a:rPr>
              <a:t>Сила – векторная величина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она характеризуется направлением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268" name="TextBox 3"/>
          <p:cNvGrpSpPr/>
          <p:nvPr/>
        </p:nvGrpSpPr>
        <p:grpSpPr>
          <a:xfrm>
            <a:off x="-55440" y="109440"/>
            <a:ext cx="9254880" cy="682560"/>
            <a:chOff x="-55440" y="109440"/>
            <a:chExt cx="9254880" cy="682560"/>
          </a:xfrm>
        </p:grpSpPr>
        <p:pic>
          <p:nvPicPr>
            <p:cNvPr id="269" name="TextBox 3" descr=""/>
            <p:cNvPicPr/>
            <p:nvPr/>
          </p:nvPicPr>
          <p:blipFill>
            <a:blip r:embed="rId1"/>
            <a:stretch/>
          </p:blipFill>
          <p:spPr>
            <a:xfrm>
              <a:off x="-55440" y="109440"/>
              <a:ext cx="925488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Text Box 4"/>
            <p:cNvSpPr/>
            <p:nvPr/>
          </p:nvSpPr>
          <p:spPr>
            <a:xfrm>
              <a:off x="0" y="18900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ambria"/>
                </a:rPr>
                <a:t>Что мы должны знать о понятии «сила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Группа 7"/>
          <p:cNvGrpSpPr/>
          <p:nvPr/>
        </p:nvGrpSpPr>
        <p:grpSpPr>
          <a:xfrm>
            <a:off x="0" y="3357720"/>
            <a:ext cx="8893080" cy="1958760"/>
            <a:chOff x="0" y="3357720"/>
            <a:chExt cx="8893080" cy="1958760"/>
          </a:xfrm>
        </p:grpSpPr>
        <p:pic>
          <p:nvPicPr>
            <p:cNvPr id="272" name="Picture 4" descr="Сложение сил_ лебедь-рак-щука"/>
            <p:cNvPicPr/>
            <p:nvPr/>
          </p:nvPicPr>
          <p:blipFill>
            <a:blip r:embed="rId2"/>
            <a:stretch/>
          </p:blipFill>
          <p:spPr>
            <a:xfrm>
              <a:off x="6445440" y="3357720"/>
              <a:ext cx="2447640" cy="195876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273" name="Прямоугольник 6"/>
            <p:cNvSpPr/>
            <p:nvPr/>
          </p:nvSpPr>
          <p:spPr>
            <a:xfrm>
              <a:off x="0" y="3645720"/>
              <a:ext cx="6409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609480" indent="-609480">
                <a:buClr>
                  <a:srgbClr val="c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00000"/>
                  </a:solidFill>
                  <a:latin typeface="Arial"/>
                </a:rPr>
                <a:t>Результат действия силы на тело зависит от ее модуля, направления и точки прилож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Группа 13"/>
          <p:cNvGrpSpPr/>
          <p:nvPr/>
        </p:nvGrpSpPr>
        <p:grpSpPr>
          <a:xfrm>
            <a:off x="963720" y="4869000"/>
            <a:ext cx="7537320" cy="1736640"/>
            <a:chOff x="963720" y="4869000"/>
            <a:chExt cx="7537320" cy="1736640"/>
          </a:xfrm>
        </p:grpSpPr>
        <p:grpSp>
          <p:nvGrpSpPr>
            <p:cNvPr id="275" name="Группа 11"/>
            <p:cNvGrpSpPr/>
            <p:nvPr/>
          </p:nvGrpSpPr>
          <p:grpSpPr>
            <a:xfrm>
              <a:off x="5224680" y="5517000"/>
              <a:ext cx="3276360" cy="1041480"/>
              <a:chOff x="5224680" y="5517000"/>
              <a:chExt cx="3276360" cy="1041480"/>
            </a:xfrm>
          </p:grpSpPr>
          <p:sp>
            <p:nvSpPr>
              <p:cNvPr id="276" name="TextBox 8"/>
              <p:cNvSpPr/>
              <p:nvPr/>
            </p:nvSpPr>
            <p:spPr>
              <a:xfrm>
                <a:off x="5224680" y="5733000"/>
                <a:ext cx="30430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400" spc="-1" strike="noStrike">
                    <a:solidFill>
                      <a:srgbClr val="c00000"/>
                    </a:solidFill>
                    <a:latin typeface="Arial"/>
                  </a:rPr>
                  <a:t>Обозначение силы: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400" spc="-1" strike="noStrike">
                    <a:solidFill>
                      <a:srgbClr val="c00000"/>
                    </a:solidFill>
                    <a:latin typeface="Arial"/>
                  </a:rPr>
                  <a:t>          </a:t>
                </a:r>
                <a:r>
                  <a:rPr b="0" i="1" lang="ru-RU" sz="2400" spc="-1" strike="noStrike">
                    <a:solidFill>
                      <a:srgbClr val="c00000"/>
                    </a:solidFill>
                    <a:latin typeface="Arial"/>
                  </a:rPr>
                  <a:t>модуля силы: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7" name="Picture 4" descr=""/>
              <p:cNvPicPr/>
              <p:nvPr/>
            </p:nvPicPr>
            <p:blipFill>
              <a:blip r:embed="rId3"/>
              <a:stretch/>
            </p:blipFill>
            <p:spPr>
              <a:xfrm>
                <a:off x="8028720" y="5517000"/>
                <a:ext cx="472320" cy="577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8" name="Picture 5" descr=""/>
              <p:cNvPicPr/>
              <p:nvPr/>
            </p:nvPicPr>
            <p:blipFill>
              <a:blip r:embed="rId4"/>
              <a:stretch/>
            </p:blipFill>
            <p:spPr>
              <a:xfrm>
                <a:off x="8100720" y="6093360"/>
                <a:ext cx="339840" cy="4312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79" name="Picture 6" descr=""/>
            <p:cNvPicPr/>
            <p:nvPr/>
          </p:nvPicPr>
          <p:blipFill>
            <a:blip r:embed="rId5"/>
            <a:stretch/>
          </p:blipFill>
          <p:spPr>
            <a:xfrm>
              <a:off x="963720" y="4869000"/>
              <a:ext cx="3680640" cy="1736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circl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10920" y="0"/>
            <a:ext cx="4392360" cy="8366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80d9b"/>
                </a:solidFill>
                <a:latin typeface="Calibri"/>
              </a:rPr>
              <a:t>Явление тяготения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95280" y="765000"/>
            <a:ext cx="511344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Cambria"/>
              </a:rPr>
              <a:t>Что произойдет, если?.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40120" indent="-240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80d9b"/>
                </a:solidFill>
                <a:latin typeface="Cambria"/>
              </a:rPr>
              <a:t>Мы уронили поклажу из рук…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40120" indent="-240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80d9b"/>
                </a:solidFill>
                <a:latin typeface="Cambria"/>
              </a:rPr>
              <a:t>Мы подбросили вверх мяч…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40120" indent="-240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80d9b"/>
                </a:solidFill>
                <a:latin typeface="Cambria"/>
              </a:rPr>
              <a:t>Мы бросили в горизонтальном направлении палку…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82" name="Picture 5" descr=""/>
          <p:cNvPicPr/>
          <p:nvPr/>
        </p:nvPicPr>
        <p:blipFill>
          <a:blip r:embed="rId1"/>
          <a:stretch/>
        </p:blipFill>
        <p:spPr>
          <a:xfrm>
            <a:off x="6012000" y="333360"/>
            <a:ext cx="2305080" cy="2617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83" name="TextBox 5"/>
          <p:cNvSpPr/>
          <p:nvPr/>
        </p:nvSpPr>
        <p:spPr>
          <a:xfrm>
            <a:off x="1346040" y="3429000"/>
            <a:ext cx="576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Какова будет траектория движ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Группа 14"/>
          <p:cNvGrpSpPr/>
          <p:nvPr/>
        </p:nvGrpSpPr>
        <p:grpSpPr>
          <a:xfrm>
            <a:off x="1258920" y="3860640"/>
            <a:ext cx="7453440" cy="2737080"/>
            <a:chOff x="1258920" y="3860640"/>
            <a:chExt cx="7453440" cy="2737080"/>
          </a:xfrm>
        </p:grpSpPr>
        <p:pic>
          <p:nvPicPr>
            <p:cNvPr id="285" name="Picture 11" descr=""/>
            <p:cNvPicPr/>
            <p:nvPr/>
          </p:nvPicPr>
          <p:blipFill>
            <a:blip r:embed="rId2"/>
            <a:stretch/>
          </p:blipFill>
          <p:spPr>
            <a:xfrm>
              <a:off x="1258920" y="3860640"/>
              <a:ext cx="1152360" cy="259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12" descr=""/>
            <p:cNvPicPr/>
            <p:nvPr/>
          </p:nvPicPr>
          <p:blipFill>
            <a:blip r:embed="rId3"/>
            <a:stretch/>
          </p:blipFill>
          <p:spPr>
            <a:xfrm>
              <a:off x="2987280" y="4220640"/>
              <a:ext cx="5725080" cy="23770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circl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9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6" descr=""/>
          <p:cNvPicPr/>
          <p:nvPr/>
        </p:nvPicPr>
        <p:blipFill>
          <a:blip r:embed="rId1">
            <a:lum bright="10000"/>
          </a:blip>
          <a:stretch/>
        </p:blipFill>
        <p:spPr>
          <a:xfrm rot="21239400">
            <a:off x="493560" y="3481560"/>
            <a:ext cx="2494080" cy="1996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88" name="Picture 9" descr=""/>
          <p:cNvPicPr/>
          <p:nvPr/>
        </p:nvPicPr>
        <p:blipFill>
          <a:blip r:embed="rId2"/>
          <a:stretch/>
        </p:blipFill>
        <p:spPr>
          <a:xfrm rot="661800">
            <a:off x="5825880" y="3595680"/>
            <a:ext cx="2692440" cy="2081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89" name="Picture 10" descr=""/>
          <p:cNvPicPr/>
          <p:nvPr/>
        </p:nvPicPr>
        <p:blipFill>
          <a:blip r:embed="rId3"/>
          <a:srcRect l="0" t="16049" r="0" b="0"/>
          <a:stretch/>
        </p:blipFill>
        <p:spPr>
          <a:xfrm>
            <a:off x="3851280" y="3068640"/>
            <a:ext cx="1197000" cy="1506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290" name="TextBox 6"/>
          <p:cNvGrpSpPr/>
          <p:nvPr/>
        </p:nvGrpSpPr>
        <p:grpSpPr>
          <a:xfrm>
            <a:off x="-128520" y="2352600"/>
            <a:ext cx="9401040" cy="893880"/>
            <a:chOff x="-128520" y="2352600"/>
            <a:chExt cx="9401040" cy="893880"/>
          </a:xfrm>
        </p:grpSpPr>
        <p:pic>
          <p:nvPicPr>
            <p:cNvPr id="291" name="TextBox 6" descr=""/>
            <p:cNvPicPr/>
            <p:nvPr/>
          </p:nvPicPr>
          <p:blipFill>
            <a:blip r:embed="rId4"/>
            <a:stretch/>
          </p:blipFill>
          <p:spPr>
            <a:xfrm>
              <a:off x="-128520" y="2352600"/>
              <a:ext cx="940104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Text Box 6"/>
            <p:cNvSpPr/>
            <p:nvPr/>
          </p:nvSpPr>
          <p:spPr>
            <a:xfrm>
              <a:off x="0" y="2421000"/>
              <a:ext cx="914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00000"/>
                  </a:solidFill>
                  <a:latin typeface="Cambria"/>
                </a:rPr>
                <a:t>Некоторые примеры воздействия силы притяжения к Земл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3" name="Picture 3" descr=""/>
          <p:cNvPicPr/>
          <p:nvPr/>
        </p:nvPicPr>
        <p:blipFill>
          <a:blip r:embed="rId5"/>
          <a:stretch/>
        </p:blipFill>
        <p:spPr>
          <a:xfrm>
            <a:off x="3492360" y="4941720"/>
            <a:ext cx="1833840" cy="1651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94" name="Picture 4" descr=""/>
          <p:cNvPicPr/>
          <p:nvPr/>
        </p:nvPicPr>
        <p:blipFill>
          <a:blip r:embed="rId6"/>
          <a:stretch/>
        </p:blipFill>
        <p:spPr>
          <a:xfrm>
            <a:off x="468360" y="189000"/>
            <a:ext cx="3029040" cy="1992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95" name="Picture 7" descr=""/>
          <p:cNvPicPr/>
          <p:nvPr/>
        </p:nvPicPr>
        <p:blipFill>
          <a:blip r:embed="rId7"/>
          <a:stretch/>
        </p:blipFill>
        <p:spPr>
          <a:xfrm>
            <a:off x="4140360" y="260280"/>
            <a:ext cx="1244520" cy="1866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96" name="Picture 5" descr=""/>
          <p:cNvPicPr/>
          <p:nvPr/>
        </p:nvPicPr>
        <p:blipFill>
          <a:blip r:embed="rId8"/>
          <a:stretch/>
        </p:blipFill>
        <p:spPr>
          <a:xfrm>
            <a:off x="5867280" y="260280"/>
            <a:ext cx="2781360" cy="1928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Группа 19"/>
          <p:cNvGrpSpPr/>
          <p:nvPr/>
        </p:nvGrpSpPr>
        <p:grpSpPr>
          <a:xfrm>
            <a:off x="1763640" y="4437000"/>
            <a:ext cx="6875640" cy="1944720"/>
            <a:chOff x="1763640" y="4437000"/>
            <a:chExt cx="6875640" cy="1944720"/>
          </a:xfrm>
        </p:grpSpPr>
        <p:sp>
          <p:nvSpPr>
            <p:cNvPr id="298" name="Прямоугольник 5"/>
            <p:cNvSpPr/>
            <p:nvPr/>
          </p:nvSpPr>
          <p:spPr>
            <a:xfrm>
              <a:off x="4067640" y="5229360"/>
              <a:ext cx="4571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c00000"/>
                  </a:solidFill>
                  <a:latin typeface="Arial"/>
                </a:rPr>
                <a:t>Все тела притягиваются друг к другу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9" name="Picture 5" descr="Сила тяжести - это сила тяготения тела к планете. Сила тяжести всегда направлена к центру планеты"/>
            <p:cNvPicPr/>
            <p:nvPr/>
          </p:nvPicPr>
          <p:blipFill>
            <a:blip r:embed="rId1"/>
            <a:stretch/>
          </p:blipFill>
          <p:spPr>
            <a:xfrm>
              <a:off x="1763640" y="4437000"/>
              <a:ext cx="1717560" cy="194472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sp>
        <p:nvSpPr>
          <p:cNvPr id="300" name="TextBox 13"/>
          <p:cNvSpPr/>
          <p:nvPr/>
        </p:nvSpPr>
        <p:spPr>
          <a:xfrm>
            <a:off x="324000" y="2421000"/>
            <a:ext cx="295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Между планета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тягиваются между собой Земля и Лу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оугольник 15"/>
          <p:cNvSpPr/>
          <p:nvPr/>
        </p:nvSpPr>
        <p:spPr>
          <a:xfrm>
            <a:off x="395280" y="34290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емля и другие планеты движутся вокруг Солнца, притягиваясь к нему и друг друг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Группа 18"/>
          <p:cNvGrpSpPr/>
          <p:nvPr/>
        </p:nvGrpSpPr>
        <p:grpSpPr>
          <a:xfrm>
            <a:off x="250920" y="189000"/>
            <a:ext cx="8580240" cy="3024000"/>
            <a:chOff x="250920" y="189000"/>
            <a:chExt cx="8580240" cy="3024000"/>
          </a:xfrm>
        </p:grpSpPr>
        <p:pic>
          <p:nvPicPr>
            <p:cNvPr id="303" name="Picture 9" descr=""/>
            <p:cNvPicPr/>
            <p:nvPr/>
          </p:nvPicPr>
          <p:blipFill>
            <a:blip r:embed="rId2"/>
            <a:stretch/>
          </p:blipFill>
          <p:spPr>
            <a:xfrm>
              <a:off x="250920" y="189000"/>
              <a:ext cx="1722240" cy="144612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304" name="TextBox 11"/>
            <p:cNvSpPr/>
            <p:nvPr/>
          </p:nvSpPr>
          <p:spPr>
            <a:xfrm>
              <a:off x="2266920" y="189000"/>
              <a:ext cx="4536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c00000"/>
                  </a:solidFill>
                  <a:latin typeface="Arial"/>
                </a:rPr>
                <a:t>Притяжение существует межд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c00000"/>
                  </a:solidFill>
                  <a:latin typeface="Arial"/>
                </a:rPr>
                <a:t>Землей и телами, находящимися на ней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5" name="Picture 11" descr=""/>
            <p:cNvPicPr/>
            <p:nvPr/>
          </p:nvPicPr>
          <p:blipFill>
            <a:blip r:embed="rId3"/>
            <a:stretch/>
          </p:blipFill>
          <p:spPr>
            <a:xfrm>
              <a:off x="6824880" y="260280"/>
              <a:ext cx="2006280" cy="151272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pic>
          <p:nvPicPr>
            <p:cNvPr id="306" name="Picture 12" descr=""/>
            <p:cNvPicPr/>
            <p:nvPr/>
          </p:nvPicPr>
          <p:blipFill>
            <a:blip r:embed="rId4"/>
            <a:stretch/>
          </p:blipFill>
          <p:spPr>
            <a:xfrm>
              <a:off x="3058920" y="1197000"/>
              <a:ext cx="2825640" cy="201600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pic>
        <p:nvPicPr>
          <p:cNvPr id="307" name="Picture 8" descr=""/>
          <p:cNvPicPr/>
          <p:nvPr/>
        </p:nvPicPr>
        <p:blipFill>
          <a:blip r:embed="rId5"/>
          <a:stretch/>
        </p:blipFill>
        <p:spPr>
          <a:xfrm>
            <a:off x="4932360" y="2852640"/>
            <a:ext cx="2354400" cy="1757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308" name="Прямоугольник 17"/>
          <p:cNvGrpSpPr/>
          <p:nvPr/>
        </p:nvGrpSpPr>
        <p:grpSpPr>
          <a:xfrm>
            <a:off x="268200" y="1457280"/>
            <a:ext cx="8753400" cy="3632400"/>
            <a:chOff x="268200" y="1457280"/>
            <a:chExt cx="8753400" cy="3632400"/>
          </a:xfrm>
        </p:grpSpPr>
        <p:pic>
          <p:nvPicPr>
            <p:cNvPr id="309" name="Прямоугольник 17" descr=""/>
            <p:cNvPicPr/>
            <p:nvPr/>
          </p:nvPicPr>
          <p:blipFill>
            <a:blip r:embed="rId6"/>
            <a:stretch/>
          </p:blipFill>
          <p:spPr>
            <a:xfrm>
              <a:off x="268200" y="1457280"/>
              <a:ext cx="8753400" cy="363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Text Box 8"/>
            <p:cNvSpPr/>
            <p:nvPr/>
          </p:nvSpPr>
          <p:spPr>
            <a:xfrm>
              <a:off x="324000" y="1484280"/>
              <a:ext cx="8640720" cy="352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2060"/>
                  </a:solidFill>
                  <a:latin typeface="Cambria"/>
                </a:rPr>
                <a:t>Притяжение всех тел Вселенной друг к другу называется </a:t>
              </a:r>
              <a:r>
                <a:rPr b="1" lang="ru-RU" sz="2800" spc="-1" strike="noStrike">
                  <a:solidFill>
                    <a:srgbClr val="c00000"/>
                  </a:solidFill>
                  <a:latin typeface="Cambria"/>
                </a:rPr>
                <a:t>Всемирным тяготение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ircl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8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1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4571640" y="1267920"/>
            <a:ext cx="4321080" cy="11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Английский ученый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Исаак Ньютон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первым доказал и установил закон всемирного тяготения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2" name="Прямоугольник 3"/>
          <p:cNvSpPr/>
          <p:nvPr/>
        </p:nvSpPr>
        <p:spPr>
          <a:xfrm>
            <a:off x="971640" y="3645000"/>
            <a:ext cx="7416720" cy="2288520"/>
          </a:xfrm>
          <a:prstGeom prst="rect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e3611"/>
                </a:solidFill>
                <a:latin typeface="Arial"/>
              </a:rPr>
              <a:t>Силы притяжения между телами тем больше, чем больше массы этих т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80d9b"/>
                </a:solidFill>
                <a:latin typeface="Arial"/>
              </a:rPr>
              <a:t>Силы притяжения между телами уменьшаются, если увеличивается расстояние между н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4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4048200" cy="2664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circl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497800" cy="1363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80d9b"/>
                </a:solidFill>
                <a:latin typeface="Calibri"/>
              </a:rPr>
              <a:t>Сила, с которой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Земля</a:t>
            </a:r>
            <a:r>
              <a:rPr b="1" lang="ru-RU" sz="2800" spc="-1" strike="noStrike">
                <a:solidFill>
                  <a:srgbClr val="280d9b"/>
                </a:solidFill>
                <a:latin typeface="Calibri"/>
              </a:rPr>
              <a:t> притягивает к себе тело, называется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силой тяжести</a:t>
            </a:r>
            <a:r>
              <a:rPr b="1" lang="ru-RU" sz="2800" spc="-1" strike="noStrike">
                <a:solidFill>
                  <a:srgbClr val="280d9b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108000" y="1773000"/>
            <a:ext cx="90360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            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Обозначение силы тяжести: </a:t>
            </a:r>
            <a:r>
              <a:rPr b="1" lang="en-US" sz="3200" spc="-1" strike="noStrike">
                <a:solidFill>
                  <a:srgbClr val="c00000"/>
                </a:solidFill>
                <a:latin typeface="Perpetua"/>
              </a:rPr>
              <a:t>F</a:t>
            </a:r>
            <a:r>
              <a:rPr b="1" lang="ru-RU" sz="2000" spc="-1" strike="noStrike">
                <a:solidFill>
                  <a:srgbClr val="c00000"/>
                </a:solidFill>
                <a:latin typeface="Cambria"/>
              </a:rPr>
              <a:t>тяж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45520" indent="-2455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mbria"/>
              </a:rPr>
              <a:t>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Направление силы тяжести: </a:t>
            </a:r>
            <a:r>
              <a:rPr b="1" lang="ru-RU" sz="2400" spc="-1" strike="noStrike">
                <a:solidFill>
                  <a:srgbClr val="c00000"/>
                </a:solidFill>
                <a:latin typeface="Cambria"/>
              </a:rPr>
              <a:t>вертикально вниз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45520" indent="-2455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45520" indent="-2455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45520" indent="-2455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316" name="Группа 6"/>
          <p:cNvGrpSpPr/>
          <p:nvPr/>
        </p:nvGrpSpPr>
        <p:grpSpPr>
          <a:xfrm>
            <a:off x="684360" y="2924280"/>
            <a:ext cx="8172360" cy="3533760"/>
            <a:chOff x="684360" y="2924280"/>
            <a:chExt cx="8172360" cy="3533760"/>
          </a:xfrm>
        </p:grpSpPr>
        <p:sp>
          <p:nvSpPr>
            <p:cNvPr id="317" name="Прямоугольник 3"/>
            <p:cNvSpPr/>
            <p:nvPr/>
          </p:nvSpPr>
          <p:spPr>
            <a:xfrm>
              <a:off x="5220720" y="2996280"/>
              <a:ext cx="3636000" cy="34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72880" indent="-272880"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200" spc="-1" strike="noStrike">
                  <a:solidFill>
                    <a:srgbClr val="000000"/>
                  </a:solidFill>
                  <a:latin typeface="Arial"/>
                </a:rPr>
                <a:t>На Луне сила тяжести примерно в 6 раз слабее, чем на Земле, а на Юпитере - в 2,5 раза сильнее, чем на Земле. В таких условиях 10-ти килограммовая гиря будет казаться нам 25-ти килограммовой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8" name="Picture 4" descr=""/>
            <p:cNvPicPr/>
            <p:nvPr/>
          </p:nvPicPr>
          <p:blipFill>
            <a:blip r:embed="rId1"/>
            <a:stretch/>
          </p:blipFill>
          <p:spPr>
            <a:xfrm>
              <a:off x="684360" y="2924280"/>
              <a:ext cx="2139840" cy="218448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pic>
          <p:nvPicPr>
            <p:cNvPr id="319" name="Picture 5" descr=""/>
            <p:cNvPicPr/>
            <p:nvPr/>
          </p:nvPicPr>
          <p:blipFill>
            <a:blip r:embed="rId2"/>
            <a:stretch/>
          </p:blipFill>
          <p:spPr>
            <a:xfrm>
              <a:off x="3132360" y="3932280"/>
              <a:ext cx="1800000" cy="252576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</p:spTree>
  </p:cSld>
  <p:transition spd="med">
    <p:circl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9T15:36:44Z</dcterms:created>
  <dc:creator>ЛюдмилкаТ</dc:creator>
  <dc:description/>
  <dc:language>en-US</dc:language>
  <cp:lastModifiedBy>LEGION</cp:lastModifiedBy>
  <dcterms:modified xsi:type="dcterms:W3CDTF">2015-03-30T08:13:38Z</dcterms:modified>
  <cp:revision>40</cp:revision>
  <dc:subject>Сила. Явление тяготения. Сила тяжести.</dc:subject>
  <dc:title>Сила. Явление тяготения. Сила тяжести.</dc:title>
</cp:coreProperties>
</file>